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图片 2" descr=""/>
          <p:cNvPicPr/>
          <p:nvPr/>
        </p:nvPicPr>
        <p:blipFill>
          <a:blip r:embed="rId1"/>
          <a:stretch/>
        </p:blipFill>
        <p:spPr>
          <a:xfrm>
            <a:off x="0" y="0"/>
            <a:ext cx="12192120" cy="6858000"/>
          </a:xfrm>
          <a:prstGeom prst="rect">
            <a:avLst/>
          </a:prstGeom>
          <a:ln w="0">
            <a:noFill/>
          </a:ln>
        </p:spPr>
      </p:pic>
      <p:sp>
        <p:nvSpPr>
          <p:cNvPr id="37" name="矩形 13"/>
          <p:cNvSpPr/>
          <p:nvPr/>
        </p:nvSpPr>
        <p:spPr>
          <a:xfrm>
            <a:off x="1530360" y="1690560"/>
            <a:ext cx="9131400" cy="3476880"/>
          </a:xfrm>
          <a:prstGeom prst="rect">
            <a:avLst/>
          </a:prstGeom>
          <a:solidFill>
            <a:srgbClr val="fffff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文本框 7"/>
          <p:cNvSpPr/>
          <p:nvPr/>
        </p:nvSpPr>
        <p:spPr>
          <a:xfrm>
            <a:off x="3409920" y="1584360"/>
            <a:ext cx="540216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2b3360"/>
                </a:solidFill>
                <a:latin typeface="Times New Roman"/>
              </a:rPr>
              <a:t>Business</a:t>
            </a:r>
            <a:endParaRPr b="0" lang="en-US" sz="11500" spc="-1" strike="noStrike">
              <a:solidFill>
                <a:srgbClr val="000000"/>
              </a:solidFill>
              <a:latin typeface="Arial"/>
            </a:endParaRPr>
          </a:p>
        </p:txBody>
      </p:sp>
      <p:sp>
        <p:nvSpPr>
          <p:cNvPr id="39" name="矩形 8"/>
          <p:cNvSpPr/>
          <p:nvPr/>
        </p:nvSpPr>
        <p:spPr>
          <a:xfrm>
            <a:off x="3812400" y="3092400"/>
            <a:ext cx="4597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1c29"/>
                </a:solidFill>
                <a:latin typeface="Times New Roman"/>
              </a:rPr>
              <a:t>PowerPoint Template</a:t>
            </a:r>
            <a:endParaRPr b="0" lang="en-US" sz="4000" spc="-1" strike="noStrike">
              <a:solidFill>
                <a:srgbClr val="000000"/>
              </a:solidFill>
              <a:latin typeface="Arial"/>
            </a:endParaRPr>
          </a:p>
        </p:txBody>
      </p:sp>
      <p:cxnSp>
        <p:nvCxnSpPr>
          <p:cNvPr id="40" name="直接箭头连接符 9"/>
          <p:cNvCxnSpPr/>
          <p:nvPr/>
        </p:nvCxnSpPr>
        <p:spPr>
          <a:xfrm>
            <a:off x="3267000" y="3800160"/>
            <a:ext cx="5658120" cy="1080"/>
          </a:xfrm>
          <a:prstGeom prst="straightConnector1">
            <a:avLst/>
          </a:prstGeom>
          <a:ln w="9360">
            <a:solidFill>
              <a:srgbClr val="000000"/>
            </a:solidFill>
            <a:bevel/>
            <a:headEnd len="med" type="triangle" w="med"/>
            <a:tailEnd len="med" type="triangle" w="med"/>
          </a:ln>
        </p:spPr>
      </p:cxnSp>
      <p:sp>
        <p:nvSpPr>
          <p:cNvPr id="41" name="文本框 10"/>
          <p:cNvSpPr/>
          <p:nvPr/>
        </p:nvSpPr>
        <p:spPr>
          <a:xfrm>
            <a:off x="3486240" y="3922560"/>
            <a:ext cx="5219640" cy="398880"/>
          </a:xfrm>
          <a:prstGeom prst="rect">
            <a:avLst/>
          </a:prstGeom>
          <a:solidFill>
            <a:srgbClr val="2b336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蓝红绚丽图文搭配实用简洁商务汇报</a:t>
            </a: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模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圆角矩形 6"/>
          <p:cNvSpPr/>
          <p:nvPr/>
        </p:nvSpPr>
        <p:spPr>
          <a:xfrm>
            <a:off x="1681200" y="1155600"/>
            <a:ext cx="8724960" cy="1365480"/>
          </a:xfrm>
          <a:prstGeom prst="roundRect">
            <a:avLst>
              <a:gd name="adj" fmla="val 16667"/>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圆角矩形 25"/>
          <p:cNvSpPr/>
          <p:nvPr/>
        </p:nvSpPr>
        <p:spPr>
          <a:xfrm>
            <a:off x="1681200" y="2746440"/>
            <a:ext cx="8724960" cy="1365120"/>
          </a:xfrm>
          <a:prstGeom prst="roundRect">
            <a:avLst>
              <a:gd name="adj" fmla="val 16667"/>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圆角矩形 26"/>
          <p:cNvSpPr/>
          <p:nvPr/>
        </p:nvSpPr>
        <p:spPr>
          <a:xfrm>
            <a:off x="1681200" y="4336920"/>
            <a:ext cx="8724960" cy="1365480"/>
          </a:xfrm>
          <a:prstGeom prst="roundRect">
            <a:avLst>
              <a:gd name="adj" fmla="val 16667"/>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矩形 27"/>
          <p:cNvSpPr/>
          <p:nvPr/>
        </p:nvSpPr>
        <p:spPr>
          <a:xfrm>
            <a:off x="3181320" y="2746440"/>
            <a:ext cx="6937560" cy="136512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矩形 28"/>
          <p:cNvSpPr/>
          <p:nvPr/>
        </p:nvSpPr>
        <p:spPr>
          <a:xfrm>
            <a:off x="3181320" y="1163520"/>
            <a:ext cx="6937560" cy="13654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矩形 29"/>
          <p:cNvSpPr/>
          <p:nvPr/>
        </p:nvSpPr>
        <p:spPr>
          <a:xfrm>
            <a:off x="3181320" y="4329000"/>
            <a:ext cx="6937560" cy="13654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KSO_Shape"/>
          <p:cNvSpPr/>
          <p:nvPr/>
        </p:nvSpPr>
        <p:spPr>
          <a:xfrm>
            <a:off x="2149560" y="1335240"/>
            <a:ext cx="563400" cy="979200"/>
          </a:xfrm>
          <a:custGeom>
            <a:avLst/>
            <a:gdLst>
              <a:gd name="textAreaLeft" fmla="*/ 0 w 563400"/>
              <a:gd name="textAreaRight" fmla="*/ 563760 w 563400"/>
              <a:gd name="textAreaTop" fmla="*/ 0 h 979200"/>
              <a:gd name="textAreaBottom" fmla="*/ 979560 h 979200"/>
            </a:gdLst>
            <a:ahLst/>
            <a:rect l="textAreaLeft" t="textAreaTop" r="textAreaRight" b="textAreaBottom"/>
            <a:pathLst>
              <a:path w="3238500" h="5638341">
                <a:moveTo>
                  <a:pt x="703180" y="4435548"/>
                </a:moveTo>
                <a:lnTo>
                  <a:pt x="2535317" y="4435548"/>
                </a:lnTo>
                <a:lnTo>
                  <a:pt x="2535317" y="4838393"/>
                </a:lnTo>
                <a:lnTo>
                  <a:pt x="703180" y="4838393"/>
                </a:lnTo>
                <a:lnTo>
                  <a:pt x="703180" y="4435548"/>
                </a:lnTo>
                <a:close/>
                <a:moveTo>
                  <a:pt x="703181" y="3675025"/>
                </a:moveTo>
                <a:lnTo>
                  <a:pt x="2535318" y="3675025"/>
                </a:lnTo>
                <a:lnTo>
                  <a:pt x="2535318" y="4077870"/>
                </a:lnTo>
                <a:lnTo>
                  <a:pt x="703181" y="4077870"/>
                </a:lnTo>
                <a:lnTo>
                  <a:pt x="703181" y="3675025"/>
                </a:lnTo>
                <a:close/>
                <a:moveTo>
                  <a:pt x="703181" y="2914502"/>
                </a:moveTo>
                <a:lnTo>
                  <a:pt x="2535318" y="2914502"/>
                </a:lnTo>
                <a:lnTo>
                  <a:pt x="2535318" y="3317347"/>
                </a:lnTo>
                <a:lnTo>
                  <a:pt x="703181" y="3317347"/>
                </a:lnTo>
                <a:lnTo>
                  <a:pt x="703181" y="2914502"/>
                </a:lnTo>
                <a:close/>
                <a:moveTo>
                  <a:pt x="703181" y="2153979"/>
                </a:moveTo>
                <a:lnTo>
                  <a:pt x="2535318" y="2153979"/>
                </a:lnTo>
                <a:lnTo>
                  <a:pt x="2535318" y="2556824"/>
                </a:lnTo>
                <a:lnTo>
                  <a:pt x="703181" y="2556824"/>
                </a:lnTo>
                <a:lnTo>
                  <a:pt x="703181" y="2153979"/>
                </a:lnTo>
                <a:close/>
                <a:moveTo>
                  <a:pt x="703181" y="1393456"/>
                </a:moveTo>
                <a:lnTo>
                  <a:pt x="2535318" y="1393456"/>
                </a:lnTo>
                <a:lnTo>
                  <a:pt x="2535318" y="1796301"/>
                </a:lnTo>
                <a:lnTo>
                  <a:pt x="703181" y="1796301"/>
                </a:lnTo>
                <a:lnTo>
                  <a:pt x="703181" y="1393456"/>
                </a:lnTo>
                <a:close/>
                <a:moveTo>
                  <a:pt x="545879" y="854765"/>
                </a:moveTo>
                <a:cubicBezTo>
                  <a:pt x="440576" y="854765"/>
                  <a:pt x="355211" y="940130"/>
                  <a:pt x="355211" y="1045433"/>
                </a:cubicBezTo>
                <a:lnTo>
                  <a:pt x="355211" y="5115447"/>
                </a:lnTo>
                <a:cubicBezTo>
                  <a:pt x="355211" y="5220750"/>
                  <a:pt x="440576" y="5306115"/>
                  <a:pt x="545879" y="5306115"/>
                </a:cubicBezTo>
                <a:lnTo>
                  <a:pt x="2692622" y="5306115"/>
                </a:lnTo>
                <a:cubicBezTo>
                  <a:pt x="2797925" y="5306115"/>
                  <a:pt x="2883290" y="5220750"/>
                  <a:pt x="2883290" y="5115447"/>
                </a:cubicBezTo>
                <a:lnTo>
                  <a:pt x="2883290" y="1045433"/>
                </a:lnTo>
                <a:cubicBezTo>
                  <a:pt x="2883290" y="940130"/>
                  <a:pt x="2797925" y="854765"/>
                  <a:pt x="2692622" y="854765"/>
                </a:cubicBezTo>
                <a:lnTo>
                  <a:pt x="545879" y="854765"/>
                </a:lnTo>
                <a:close/>
                <a:moveTo>
                  <a:pt x="1055257" y="0"/>
                </a:moveTo>
                <a:lnTo>
                  <a:pt x="2197532" y="0"/>
                </a:lnTo>
                <a:cubicBezTo>
                  <a:pt x="2271379" y="0"/>
                  <a:pt x="2331244" y="59865"/>
                  <a:pt x="2331244" y="133712"/>
                </a:cubicBezTo>
                <a:lnTo>
                  <a:pt x="2331244" y="522540"/>
                </a:lnTo>
                <a:lnTo>
                  <a:pt x="2718105" y="522540"/>
                </a:lnTo>
                <a:cubicBezTo>
                  <a:pt x="3005511" y="522540"/>
                  <a:pt x="3238500" y="755529"/>
                  <a:pt x="3238500" y="1042935"/>
                </a:cubicBezTo>
                <a:lnTo>
                  <a:pt x="3238500" y="5117946"/>
                </a:lnTo>
                <a:cubicBezTo>
                  <a:pt x="3238500" y="5405352"/>
                  <a:pt x="3005511" y="5638341"/>
                  <a:pt x="2718105" y="5638341"/>
                </a:cubicBezTo>
                <a:lnTo>
                  <a:pt x="520395" y="5638341"/>
                </a:lnTo>
                <a:cubicBezTo>
                  <a:pt x="232989" y="5638341"/>
                  <a:pt x="0" y="5405352"/>
                  <a:pt x="0" y="5117946"/>
                </a:cubicBezTo>
                <a:lnTo>
                  <a:pt x="0" y="1042935"/>
                </a:lnTo>
                <a:cubicBezTo>
                  <a:pt x="0" y="755529"/>
                  <a:pt x="232989" y="522540"/>
                  <a:pt x="520395" y="522540"/>
                </a:cubicBezTo>
                <a:lnTo>
                  <a:pt x="921545" y="522540"/>
                </a:lnTo>
                <a:lnTo>
                  <a:pt x="921545" y="133712"/>
                </a:lnTo>
                <a:cubicBezTo>
                  <a:pt x="921545" y="59865"/>
                  <a:pt x="981410" y="0"/>
                  <a:pt x="1055257"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KSO_Shape"/>
          <p:cNvSpPr/>
          <p:nvPr/>
        </p:nvSpPr>
        <p:spPr>
          <a:xfrm>
            <a:off x="2100240" y="2987640"/>
            <a:ext cx="795240" cy="779400"/>
          </a:xfrm>
          <a:custGeom>
            <a:avLst/>
            <a:gdLst>
              <a:gd name="textAreaLeft" fmla="*/ 0 w 795240"/>
              <a:gd name="textAreaRight" fmla="*/ 795600 w 795240"/>
              <a:gd name="textAreaTop" fmla="*/ 0 h 779400"/>
              <a:gd name="textAreaBottom" fmla="*/ 779760 h 779400"/>
            </a:gdLst>
            <a:ahLst/>
            <a:rect l="textAreaLeft" t="textAreaTop" r="textAreaRight" b="textAreaBottom"/>
            <a:pathLst>
              <a:path w="2787650" h="2727325">
                <a:moveTo>
                  <a:pt x="1725430" y="1438200"/>
                </a:moveTo>
                <a:lnTo>
                  <a:pt x="1723068" y="1448633"/>
                </a:lnTo>
                <a:lnTo>
                  <a:pt x="1718621" y="1464515"/>
                </a:lnTo>
                <a:lnTo>
                  <a:pt x="1712903" y="1480398"/>
                </a:lnTo>
                <a:lnTo>
                  <a:pt x="1706868" y="1495963"/>
                </a:lnTo>
                <a:lnTo>
                  <a:pt x="1700197" y="1510892"/>
                </a:lnTo>
                <a:lnTo>
                  <a:pt x="1692574" y="1525504"/>
                </a:lnTo>
                <a:lnTo>
                  <a:pt x="1684632" y="1539480"/>
                </a:lnTo>
                <a:lnTo>
                  <a:pt x="1675738" y="1553457"/>
                </a:lnTo>
                <a:lnTo>
                  <a:pt x="1666209" y="1566798"/>
                </a:lnTo>
                <a:lnTo>
                  <a:pt x="1656044" y="1579504"/>
                </a:lnTo>
                <a:lnTo>
                  <a:pt x="1645562" y="1591892"/>
                </a:lnTo>
                <a:lnTo>
                  <a:pt x="1634126" y="1603963"/>
                </a:lnTo>
                <a:lnTo>
                  <a:pt x="1622691" y="1614763"/>
                </a:lnTo>
                <a:lnTo>
                  <a:pt x="1610303" y="1625881"/>
                </a:lnTo>
                <a:lnTo>
                  <a:pt x="1597279" y="1636046"/>
                </a:lnTo>
                <a:lnTo>
                  <a:pt x="1583938" y="1645257"/>
                </a:lnTo>
                <a:lnTo>
                  <a:pt x="1570279" y="1654152"/>
                </a:lnTo>
                <a:lnTo>
                  <a:pt x="1555985" y="1662410"/>
                </a:lnTo>
                <a:lnTo>
                  <a:pt x="1541373" y="1669716"/>
                </a:lnTo>
                <a:lnTo>
                  <a:pt x="1526126" y="1676705"/>
                </a:lnTo>
                <a:lnTo>
                  <a:pt x="1510879" y="1682740"/>
                </a:lnTo>
                <a:lnTo>
                  <a:pt x="1494996" y="1687822"/>
                </a:lnTo>
                <a:lnTo>
                  <a:pt x="1478796" y="1692905"/>
                </a:lnTo>
                <a:lnTo>
                  <a:pt x="1468641" y="1695248"/>
                </a:lnTo>
                <a:lnTo>
                  <a:pt x="1521201" y="2237276"/>
                </a:lnTo>
                <a:lnTo>
                  <a:pt x="1539306" y="2234102"/>
                </a:lnTo>
                <a:lnTo>
                  <a:pt x="1557095" y="2231246"/>
                </a:lnTo>
                <a:lnTo>
                  <a:pt x="1574883" y="2227437"/>
                </a:lnTo>
                <a:lnTo>
                  <a:pt x="1592671" y="2223629"/>
                </a:lnTo>
                <a:lnTo>
                  <a:pt x="1610141" y="2219502"/>
                </a:lnTo>
                <a:lnTo>
                  <a:pt x="1627294" y="2215059"/>
                </a:lnTo>
                <a:lnTo>
                  <a:pt x="1644765" y="2209981"/>
                </a:lnTo>
                <a:lnTo>
                  <a:pt x="1661600" y="2204903"/>
                </a:lnTo>
                <a:lnTo>
                  <a:pt x="1678435" y="2199190"/>
                </a:lnTo>
                <a:lnTo>
                  <a:pt x="1695588" y="2193159"/>
                </a:lnTo>
                <a:lnTo>
                  <a:pt x="1712105" y="2187129"/>
                </a:lnTo>
                <a:lnTo>
                  <a:pt x="1728623" y="2180464"/>
                </a:lnTo>
                <a:lnTo>
                  <a:pt x="1744823" y="2173481"/>
                </a:lnTo>
                <a:lnTo>
                  <a:pt x="1761022" y="2166498"/>
                </a:lnTo>
                <a:lnTo>
                  <a:pt x="1776905" y="2158881"/>
                </a:lnTo>
                <a:lnTo>
                  <a:pt x="1792469" y="2150946"/>
                </a:lnTo>
                <a:lnTo>
                  <a:pt x="1808352" y="2142694"/>
                </a:lnTo>
                <a:lnTo>
                  <a:pt x="1823916" y="2134442"/>
                </a:lnTo>
                <a:lnTo>
                  <a:pt x="1838845" y="2125873"/>
                </a:lnTo>
                <a:lnTo>
                  <a:pt x="1854092" y="2116668"/>
                </a:lnTo>
                <a:lnTo>
                  <a:pt x="1869022" y="2107464"/>
                </a:lnTo>
                <a:lnTo>
                  <a:pt x="1883633" y="2097942"/>
                </a:lnTo>
                <a:lnTo>
                  <a:pt x="1897927" y="2088103"/>
                </a:lnTo>
                <a:lnTo>
                  <a:pt x="1912221" y="2077947"/>
                </a:lnTo>
                <a:lnTo>
                  <a:pt x="1926198" y="2067473"/>
                </a:lnTo>
                <a:lnTo>
                  <a:pt x="1940174" y="2056999"/>
                </a:lnTo>
                <a:lnTo>
                  <a:pt x="1953833" y="2046208"/>
                </a:lnTo>
                <a:lnTo>
                  <a:pt x="1966856" y="2034782"/>
                </a:lnTo>
                <a:lnTo>
                  <a:pt x="1980197" y="2023673"/>
                </a:lnTo>
                <a:lnTo>
                  <a:pt x="1993221" y="2011613"/>
                </a:lnTo>
                <a:lnTo>
                  <a:pt x="2005609" y="1999869"/>
                </a:lnTo>
                <a:lnTo>
                  <a:pt x="2017997" y="1987491"/>
                </a:lnTo>
                <a:lnTo>
                  <a:pt x="2030385" y="1975113"/>
                </a:lnTo>
                <a:lnTo>
                  <a:pt x="2042138" y="1962735"/>
                </a:lnTo>
                <a:lnTo>
                  <a:pt x="2054209" y="1949404"/>
                </a:lnTo>
                <a:lnTo>
                  <a:pt x="2065644" y="1936391"/>
                </a:lnTo>
                <a:lnTo>
                  <a:pt x="2076761" y="1923061"/>
                </a:lnTo>
                <a:lnTo>
                  <a:pt x="2087561" y="1909413"/>
                </a:lnTo>
                <a:lnTo>
                  <a:pt x="2098361" y="1895765"/>
                </a:lnTo>
                <a:lnTo>
                  <a:pt x="2108843" y="1881800"/>
                </a:lnTo>
                <a:lnTo>
                  <a:pt x="2119008" y="1867518"/>
                </a:lnTo>
                <a:lnTo>
                  <a:pt x="2128855" y="1852918"/>
                </a:lnTo>
                <a:lnTo>
                  <a:pt x="2138067" y="1838635"/>
                </a:lnTo>
                <a:lnTo>
                  <a:pt x="2147596" y="1823401"/>
                </a:lnTo>
                <a:lnTo>
                  <a:pt x="2156490" y="1808483"/>
                </a:lnTo>
                <a:lnTo>
                  <a:pt x="2165384" y="1793249"/>
                </a:lnTo>
                <a:lnTo>
                  <a:pt x="2173643" y="1778014"/>
                </a:lnTo>
                <a:lnTo>
                  <a:pt x="2181902" y="1762145"/>
                </a:lnTo>
                <a:lnTo>
                  <a:pt x="2189843" y="1746275"/>
                </a:lnTo>
                <a:lnTo>
                  <a:pt x="2197149" y="1730406"/>
                </a:lnTo>
                <a:lnTo>
                  <a:pt x="2204454" y="1714219"/>
                </a:lnTo>
                <a:lnTo>
                  <a:pt x="2211125" y="1698032"/>
                </a:lnTo>
                <a:lnTo>
                  <a:pt x="2217478" y="1681528"/>
                </a:lnTo>
                <a:lnTo>
                  <a:pt x="2223831" y="1665024"/>
                </a:lnTo>
                <a:lnTo>
                  <a:pt x="2229866" y="1648202"/>
                </a:lnTo>
                <a:lnTo>
                  <a:pt x="2235584" y="1631380"/>
                </a:lnTo>
                <a:lnTo>
                  <a:pt x="2240666" y="1614241"/>
                </a:lnTo>
                <a:lnTo>
                  <a:pt x="2245748" y="1597102"/>
                </a:lnTo>
                <a:lnTo>
                  <a:pt x="2250195" y="1579646"/>
                </a:lnTo>
                <a:lnTo>
                  <a:pt x="2254325" y="1561872"/>
                </a:lnTo>
                <a:lnTo>
                  <a:pt x="2258136" y="1544733"/>
                </a:lnTo>
                <a:lnTo>
                  <a:pt x="2261630" y="1526642"/>
                </a:lnTo>
                <a:lnTo>
                  <a:pt x="2265125" y="1508868"/>
                </a:lnTo>
                <a:lnTo>
                  <a:pt x="2267666" y="1490777"/>
                </a:lnTo>
                <a:lnTo>
                  <a:pt x="1725430" y="1438200"/>
                </a:lnTo>
                <a:close/>
                <a:moveTo>
                  <a:pt x="1062655" y="1438185"/>
                </a:moveTo>
                <a:lnTo>
                  <a:pt x="519984" y="1490777"/>
                </a:lnTo>
                <a:lnTo>
                  <a:pt x="522843" y="1508868"/>
                </a:lnTo>
                <a:lnTo>
                  <a:pt x="526019" y="1526642"/>
                </a:lnTo>
                <a:lnTo>
                  <a:pt x="529196" y="1544733"/>
                </a:lnTo>
                <a:lnTo>
                  <a:pt x="533325" y="1561872"/>
                </a:lnTo>
                <a:lnTo>
                  <a:pt x="537455" y="1579646"/>
                </a:lnTo>
                <a:lnTo>
                  <a:pt x="541902" y="1597102"/>
                </a:lnTo>
                <a:lnTo>
                  <a:pt x="546984" y="1614241"/>
                </a:lnTo>
                <a:lnTo>
                  <a:pt x="552066" y="1631380"/>
                </a:lnTo>
                <a:lnTo>
                  <a:pt x="557784" y="1648202"/>
                </a:lnTo>
                <a:lnTo>
                  <a:pt x="563502" y="1665024"/>
                </a:lnTo>
                <a:lnTo>
                  <a:pt x="569854" y="1681528"/>
                </a:lnTo>
                <a:lnTo>
                  <a:pt x="576207" y="1698032"/>
                </a:lnTo>
                <a:lnTo>
                  <a:pt x="583195" y="1714219"/>
                </a:lnTo>
                <a:lnTo>
                  <a:pt x="590501" y="1730406"/>
                </a:lnTo>
                <a:lnTo>
                  <a:pt x="597807" y="1746275"/>
                </a:lnTo>
                <a:lnTo>
                  <a:pt x="605748" y="1762145"/>
                </a:lnTo>
                <a:lnTo>
                  <a:pt x="614007" y="1778014"/>
                </a:lnTo>
                <a:lnTo>
                  <a:pt x="622266" y="1793249"/>
                </a:lnTo>
                <a:lnTo>
                  <a:pt x="630842" y="1808483"/>
                </a:lnTo>
                <a:lnTo>
                  <a:pt x="640054" y="1823401"/>
                </a:lnTo>
                <a:lnTo>
                  <a:pt x="649266" y="1838635"/>
                </a:lnTo>
                <a:lnTo>
                  <a:pt x="658795" y="1852918"/>
                </a:lnTo>
                <a:lnTo>
                  <a:pt x="668642" y="1867518"/>
                </a:lnTo>
                <a:lnTo>
                  <a:pt x="678807" y="1881800"/>
                </a:lnTo>
                <a:lnTo>
                  <a:pt x="689289" y="1895765"/>
                </a:lnTo>
                <a:lnTo>
                  <a:pt x="699771" y="1909413"/>
                </a:lnTo>
                <a:lnTo>
                  <a:pt x="710571" y="1923061"/>
                </a:lnTo>
                <a:lnTo>
                  <a:pt x="722006" y="1936391"/>
                </a:lnTo>
                <a:lnTo>
                  <a:pt x="733441" y="1949404"/>
                </a:lnTo>
                <a:lnTo>
                  <a:pt x="745194" y="1962735"/>
                </a:lnTo>
                <a:lnTo>
                  <a:pt x="756947" y="1975113"/>
                </a:lnTo>
                <a:lnTo>
                  <a:pt x="769335" y="1987491"/>
                </a:lnTo>
                <a:lnTo>
                  <a:pt x="781723" y="1999869"/>
                </a:lnTo>
                <a:lnTo>
                  <a:pt x="794429" y="2011613"/>
                </a:lnTo>
                <a:lnTo>
                  <a:pt x="807453" y="2023673"/>
                </a:lnTo>
                <a:lnTo>
                  <a:pt x="820476" y="2034782"/>
                </a:lnTo>
                <a:lnTo>
                  <a:pt x="833817" y="2046208"/>
                </a:lnTo>
                <a:lnTo>
                  <a:pt x="847476" y="2056999"/>
                </a:lnTo>
                <a:lnTo>
                  <a:pt x="861135" y="2067473"/>
                </a:lnTo>
                <a:lnTo>
                  <a:pt x="875111" y="2077947"/>
                </a:lnTo>
                <a:lnTo>
                  <a:pt x="889405" y="2088103"/>
                </a:lnTo>
                <a:lnTo>
                  <a:pt x="903699" y="2097942"/>
                </a:lnTo>
                <a:lnTo>
                  <a:pt x="918628" y="2107464"/>
                </a:lnTo>
                <a:lnTo>
                  <a:pt x="933558" y="2116668"/>
                </a:lnTo>
                <a:lnTo>
                  <a:pt x="948487" y="2125873"/>
                </a:lnTo>
                <a:lnTo>
                  <a:pt x="963734" y="2134442"/>
                </a:lnTo>
                <a:lnTo>
                  <a:pt x="978981" y="2142694"/>
                </a:lnTo>
                <a:lnTo>
                  <a:pt x="994863" y="2150946"/>
                </a:lnTo>
                <a:lnTo>
                  <a:pt x="1010745" y="2158881"/>
                </a:lnTo>
                <a:lnTo>
                  <a:pt x="1026627" y="2166498"/>
                </a:lnTo>
                <a:lnTo>
                  <a:pt x="1042827" y="2173481"/>
                </a:lnTo>
                <a:lnTo>
                  <a:pt x="1059028" y="2180464"/>
                </a:lnTo>
                <a:lnTo>
                  <a:pt x="1075545" y="2187129"/>
                </a:lnTo>
                <a:lnTo>
                  <a:pt x="1092063" y="2193159"/>
                </a:lnTo>
                <a:lnTo>
                  <a:pt x="1108898" y="2199190"/>
                </a:lnTo>
                <a:lnTo>
                  <a:pt x="1126051" y="2204903"/>
                </a:lnTo>
                <a:lnTo>
                  <a:pt x="1142886" y="2209981"/>
                </a:lnTo>
                <a:lnTo>
                  <a:pt x="1160039" y="2215059"/>
                </a:lnTo>
                <a:lnTo>
                  <a:pt x="1177509" y="2219502"/>
                </a:lnTo>
                <a:lnTo>
                  <a:pt x="1195297" y="2223629"/>
                </a:lnTo>
                <a:lnTo>
                  <a:pt x="1212768" y="2227437"/>
                </a:lnTo>
                <a:lnTo>
                  <a:pt x="1230556" y="2231246"/>
                </a:lnTo>
                <a:lnTo>
                  <a:pt x="1248662" y="2234102"/>
                </a:lnTo>
                <a:lnTo>
                  <a:pt x="1266450" y="2237276"/>
                </a:lnTo>
                <a:lnTo>
                  <a:pt x="1319017" y="1695177"/>
                </a:lnTo>
                <a:lnTo>
                  <a:pt x="1309172" y="1692905"/>
                </a:lnTo>
                <a:lnTo>
                  <a:pt x="1292972" y="1687822"/>
                </a:lnTo>
                <a:lnTo>
                  <a:pt x="1277089" y="1682740"/>
                </a:lnTo>
                <a:lnTo>
                  <a:pt x="1261525" y="1676705"/>
                </a:lnTo>
                <a:lnTo>
                  <a:pt x="1246595" y="1669716"/>
                </a:lnTo>
                <a:lnTo>
                  <a:pt x="1232301" y="1662410"/>
                </a:lnTo>
                <a:lnTo>
                  <a:pt x="1218007" y="1654152"/>
                </a:lnTo>
                <a:lnTo>
                  <a:pt x="1204030" y="1645257"/>
                </a:lnTo>
                <a:lnTo>
                  <a:pt x="1190689" y="1636046"/>
                </a:lnTo>
                <a:lnTo>
                  <a:pt x="1177983" y="1625881"/>
                </a:lnTo>
                <a:lnTo>
                  <a:pt x="1165595" y="1615398"/>
                </a:lnTo>
                <a:lnTo>
                  <a:pt x="1153842" y="1603963"/>
                </a:lnTo>
                <a:lnTo>
                  <a:pt x="1142724" y="1591892"/>
                </a:lnTo>
                <a:lnTo>
                  <a:pt x="1131606" y="1579822"/>
                </a:lnTo>
                <a:lnTo>
                  <a:pt x="1122077" y="1567116"/>
                </a:lnTo>
                <a:lnTo>
                  <a:pt x="1112230" y="1553457"/>
                </a:lnTo>
                <a:lnTo>
                  <a:pt x="1103336" y="1540116"/>
                </a:lnTo>
                <a:lnTo>
                  <a:pt x="1095077" y="1525504"/>
                </a:lnTo>
                <a:lnTo>
                  <a:pt x="1087771" y="1510892"/>
                </a:lnTo>
                <a:lnTo>
                  <a:pt x="1080783" y="1495963"/>
                </a:lnTo>
                <a:lnTo>
                  <a:pt x="1074747" y="1480398"/>
                </a:lnTo>
                <a:lnTo>
                  <a:pt x="1069665" y="1464515"/>
                </a:lnTo>
                <a:lnTo>
                  <a:pt x="1065218" y="1448633"/>
                </a:lnTo>
                <a:lnTo>
                  <a:pt x="1062655" y="1438185"/>
                </a:lnTo>
                <a:close/>
                <a:moveTo>
                  <a:pt x="1383502" y="1159891"/>
                </a:moveTo>
                <a:lnTo>
                  <a:pt x="1373019" y="1160844"/>
                </a:lnTo>
                <a:lnTo>
                  <a:pt x="1362855" y="1162114"/>
                </a:lnTo>
                <a:lnTo>
                  <a:pt x="1353007" y="1164020"/>
                </a:lnTo>
                <a:lnTo>
                  <a:pt x="1342843" y="1166244"/>
                </a:lnTo>
                <a:lnTo>
                  <a:pt x="1333631" y="1168785"/>
                </a:lnTo>
                <a:lnTo>
                  <a:pt x="1324101" y="1172279"/>
                </a:lnTo>
                <a:lnTo>
                  <a:pt x="1314572" y="1175455"/>
                </a:lnTo>
                <a:lnTo>
                  <a:pt x="1305678" y="1179585"/>
                </a:lnTo>
                <a:lnTo>
                  <a:pt x="1297101" y="1184350"/>
                </a:lnTo>
                <a:lnTo>
                  <a:pt x="1288207" y="1189114"/>
                </a:lnTo>
                <a:lnTo>
                  <a:pt x="1279948" y="1194514"/>
                </a:lnTo>
                <a:lnTo>
                  <a:pt x="1272007" y="1199914"/>
                </a:lnTo>
                <a:lnTo>
                  <a:pt x="1264384" y="1206585"/>
                </a:lnTo>
                <a:lnTo>
                  <a:pt x="1257078" y="1212938"/>
                </a:lnTo>
                <a:lnTo>
                  <a:pt x="1249772" y="1219609"/>
                </a:lnTo>
                <a:lnTo>
                  <a:pt x="1243101" y="1226279"/>
                </a:lnTo>
                <a:lnTo>
                  <a:pt x="1236748" y="1233903"/>
                </a:lnTo>
                <a:lnTo>
                  <a:pt x="1230713" y="1241526"/>
                </a:lnTo>
                <a:lnTo>
                  <a:pt x="1224995" y="1249785"/>
                </a:lnTo>
                <a:lnTo>
                  <a:pt x="1219913" y="1258044"/>
                </a:lnTo>
                <a:lnTo>
                  <a:pt x="1214830" y="1266303"/>
                </a:lnTo>
                <a:lnTo>
                  <a:pt x="1210383" y="1275197"/>
                </a:lnTo>
                <a:lnTo>
                  <a:pt x="1206254" y="1284409"/>
                </a:lnTo>
                <a:lnTo>
                  <a:pt x="1202442" y="1293303"/>
                </a:lnTo>
                <a:lnTo>
                  <a:pt x="1199583" y="1302832"/>
                </a:lnTo>
                <a:lnTo>
                  <a:pt x="1196407" y="1312680"/>
                </a:lnTo>
                <a:lnTo>
                  <a:pt x="1194183" y="1322527"/>
                </a:lnTo>
                <a:lnTo>
                  <a:pt x="1192595" y="1332691"/>
                </a:lnTo>
                <a:lnTo>
                  <a:pt x="1191324" y="1342856"/>
                </a:lnTo>
                <a:lnTo>
                  <a:pt x="1190371" y="1353339"/>
                </a:lnTo>
                <a:lnTo>
                  <a:pt x="1190054" y="1363503"/>
                </a:lnTo>
                <a:lnTo>
                  <a:pt x="1190371" y="1373986"/>
                </a:lnTo>
                <a:lnTo>
                  <a:pt x="1191324" y="1384468"/>
                </a:lnTo>
                <a:lnTo>
                  <a:pt x="1192595" y="1394633"/>
                </a:lnTo>
                <a:lnTo>
                  <a:pt x="1194183" y="1404798"/>
                </a:lnTo>
                <a:lnTo>
                  <a:pt x="1196407" y="1414645"/>
                </a:lnTo>
                <a:lnTo>
                  <a:pt x="1199583" y="1424174"/>
                </a:lnTo>
                <a:lnTo>
                  <a:pt x="1202442" y="1433704"/>
                </a:lnTo>
                <a:lnTo>
                  <a:pt x="1206254" y="1442915"/>
                </a:lnTo>
                <a:lnTo>
                  <a:pt x="1210383" y="1451810"/>
                </a:lnTo>
                <a:lnTo>
                  <a:pt x="1214830" y="1460386"/>
                </a:lnTo>
                <a:lnTo>
                  <a:pt x="1219913" y="1469280"/>
                </a:lnTo>
                <a:lnTo>
                  <a:pt x="1224995" y="1477539"/>
                </a:lnTo>
                <a:lnTo>
                  <a:pt x="1230713" y="1485480"/>
                </a:lnTo>
                <a:lnTo>
                  <a:pt x="1236748" y="1493421"/>
                </a:lnTo>
                <a:lnTo>
                  <a:pt x="1243101" y="1500410"/>
                </a:lnTo>
                <a:lnTo>
                  <a:pt x="1249772" y="1507716"/>
                </a:lnTo>
                <a:lnTo>
                  <a:pt x="1257078" y="1514386"/>
                </a:lnTo>
                <a:lnTo>
                  <a:pt x="1264384" y="1520739"/>
                </a:lnTo>
                <a:lnTo>
                  <a:pt x="1272007" y="1526775"/>
                </a:lnTo>
                <a:lnTo>
                  <a:pt x="1279948" y="1532492"/>
                </a:lnTo>
                <a:lnTo>
                  <a:pt x="1288207" y="1537575"/>
                </a:lnTo>
                <a:lnTo>
                  <a:pt x="1297101" y="1542657"/>
                </a:lnTo>
                <a:lnTo>
                  <a:pt x="1305678" y="1547104"/>
                </a:lnTo>
                <a:lnTo>
                  <a:pt x="1314572" y="1551233"/>
                </a:lnTo>
                <a:lnTo>
                  <a:pt x="1323784" y="1555045"/>
                </a:lnTo>
                <a:lnTo>
                  <a:pt x="1333631" y="1557904"/>
                </a:lnTo>
                <a:lnTo>
                  <a:pt x="1342843" y="1561081"/>
                </a:lnTo>
                <a:lnTo>
                  <a:pt x="1352690" y="1563304"/>
                </a:lnTo>
                <a:lnTo>
                  <a:pt x="1362855" y="1564892"/>
                </a:lnTo>
                <a:lnTo>
                  <a:pt x="1373019" y="1566163"/>
                </a:lnTo>
                <a:lnTo>
                  <a:pt x="1383502" y="1567116"/>
                </a:lnTo>
                <a:lnTo>
                  <a:pt x="1393984" y="1567434"/>
                </a:lnTo>
                <a:lnTo>
                  <a:pt x="1404149" y="1567116"/>
                </a:lnTo>
                <a:lnTo>
                  <a:pt x="1414949" y="1566163"/>
                </a:lnTo>
                <a:lnTo>
                  <a:pt x="1425114" y="1564892"/>
                </a:lnTo>
                <a:lnTo>
                  <a:pt x="1435278" y="1563304"/>
                </a:lnTo>
                <a:lnTo>
                  <a:pt x="1444808" y="1561081"/>
                </a:lnTo>
                <a:lnTo>
                  <a:pt x="1454655" y="1557904"/>
                </a:lnTo>
                <a:lnTo>
                  <a:pt x="1464184" y="1555045"/>
                </a:lnTo>
                <a:lnTo>
                  <a:pt x="1473079" y="1551233"/>
                </a:lnTo>
                <a:lnTo>
                  <a:pt x="1482290" y="1547104"/>
                </a:lnTo>
                <a:lnTo>
                  <a:pt x="1491184" y="1542657"/>
                </a:lnTo>
                <a:lnTo>
                  <a:pt x="1499443" y="1537575"/>
                </a:lnTo>
                <a:lnTo>
                  <a:pt x="1507702" y="1532492"/>
                </a:lnTo>
                <a:lnTo>
                  <a:pt x="1515643" y="1526775"/>
                </a:lnTo>
                <a:lnTo>
                  <a:pt x="1523585" y="1520739"/>
                </a:lnTo>
                <a:lnTo>
                  <a:pt x="1531208" y="1514386"/>
                </a:lnTo>
                <a:lnTo>
                  <a:pt x="1537879" y="1507716"/>
                </a:lnTo>
                <a:lnTo>
                  <a:pt x="1544549" y="1500410"/>
                </a:lnTo>
                <a:lnTo>
                  <a:pt x="1551220" y="1493421"/>
                </a:lnTo>
                <a:lnTo>
                  <a:pt x="1557255" y="1485480"/>
                </a:lnTo>
                <a:lnTo>
                  <a:pt x="1562655" y="1477539"/>
                </a:lnTo>
                <a:lnTo>
                  <a:pt x="1568055" y="1469280"/>
                </a:lnTo>
                <a:lnTo>
                  <a:pt x="1572820" y="1460386"/>
                </a:lnTo>
                <a:lnTo>
                  <a:pt x="1577585" y="1451810"/>
                </a:lnTo>
                <a:lnTo>
                  <a:pt x="1581714" y="1442915"/>
                </a:lnTo>
                <a:lnTo>
                  <a:pt x="1585208" y="1433704"/>
                </a:lnTo>
                <a:lnTo>
                  <a:pt x="1588385" y="1424174"/>
                </a:lnTo>
                <a:lnTo>
                  <a:pt x="1591244" y="1414645"/>
                </a:lnTo>
                <a:lnTo>
                  <a:pt x="1593467" y="1404798"/>
                </a:lnTo>
                <a:lnTo>
                  <a:pt x="1595373" y="1394633"/>
                </a:lnTo>
                <a:lnTo>
                  <a:pt x="1596644" y="1384468"/>
                </a:lnTo>
                <a:lnTo>
                  <a:pt x="1597279" y="1373986"/>
                </a:lnTo>
                <a:lnTo>
                  <a:pt x="1597597" y="1363503"/>
                </a:lnTo>
                <a:lnTo>
                  <a:pt x="1597279" y="1353339"/>
                </a:lnTo>
                <a:lnTo>
                  <a:pt x="1596644" y="1342856"/>
                </a:lnTo>
                <a:lnTo>
                  <a:pt x="1595373" y="1332691"/>
                </a:lnTo>
                <a:lnTo>
                  <a:pt x="1593467" y="1322527"/>
                </a:lnTo>
                <a:lnTo>
                  <a:pt x="1591244" y="1312680"/>
                </a:lnTo>
                <a:lnTo>
                  <a:pt x="1588385" y="1302832"/>
                </a:lnTo>
                <a:lnTo>
                  <a:pt x="1585208" y="1293303"/>
                </a:lnTo>
                <a:lnTo>
                  <a:pt x="1581714" y="1284409"/>
                </a:lnTo>
                <a:lnTo>
                  <a:pt x="1577585" y="1275197"/>
                </a:lnTo>
                <a:lnTo>
                  <a:pt x="1572820" y="1266303"/>
                </a:lnTo>
                <a:lnTo>
                  <a:pt x="1568055" y="1258044"/>
                </a:lnTo>
                <a:lnTo>
                  <a:pt x="1562655" y="1249785"/>
                </a:lnTo>
                <a:lnTo>
                  <a:pt x="1557255" y="1241526"/>
                </a:lnTo>
                <a:lnTo>
                  <a:pt x="1551220" y="1233903"/>
                </a:lnTo>
                <a:lnTo>
                  <a:pt x="1544549" y="1226279"/>
                </a:lnTo>
                <a:lnTo>
                  <a:pt x="1537879" y="1219609"/>
                </a:lnTo>
                <a:lnTo>
                  <a:pt x="1531208" y="1212938"/>
                </a:lnTo>
                <a:lnTo>
                  <a:pt x="1523585" y="1206585"/>
                </a:lnTo>
                <a:lnTo>
                  <a:pt x="1515643" y="1199914"/>
                </a:lnTo>
                <a:lnTo>
                  <a:pt x="1507702" y="1194514"/>
                </a:lnTo>
                <a:lnTo>
                  <a:pt x="1499443" y="1189114"/>
                </a:lnTo>
                <a:lnTo>
                  <a:pt x="1491184" y="1184350"/>
                </a:lnTo>
                <a:lnTo>
                  <a:pt x="1482290" y="1179585"/>
                </a:lnTo>
                <a:lnTo>
                  <a:pt x="1473079" y="1175455"/>
                </a:lnTo>
                <a:lnTo>
                  <a:pt x="1464184" y="1172279"/>
                </a:lnTo>
                <a:lnTo>
                  <a:pt x="1454655" y="1168785"/>
                </a:lnTo>
                <a:lnTo>
                  <a:pt x="1444808" y="1166244"/>
                </a:lnTo>
                <a:lnTo>
                  <a:pt x="1435278" y="1164020"/>
                </a:lnTo>
                <a:lnTo>
                  <a:pt x="1425114" y="1162114"/>
                </a:lnTo>
                <a:lnTo>
                  <a:pt x="1414949" y="1160844"/>
                </a:lnTo>
                <a:lnTo>
                  <a:pt x="1404149" y="1159891"/>
                </a:lnTo>
                <a:lnTo>
                  <a:pt x="1393984" y="1159891"/>
                </a:lnTo>
                <a:lnTo>
                  <a:pt x="1383502" y="1159891"/>
                </a:lnTo>
                <a:close/>
                <a:moveTo>
                  <a:pt x="1521201" y="490366"/>
                </a:moveTo>
                <a:lnTo>
                  <a:pt x="1468588" y="1032381"/>
                </a:lnTo>
                <a:lnTo>
                  <a:pt x="1478796" y="1034737"/>
                </a:lnTo>
                <a:lnTo>
                  <a:pt x="1494996" y="1039184"/>
                </a:lnTo>
                <a:lnTo>
                  <a:pt x="1510879" y="1044584"/>
                </a:lnTo>
                <a:lnTo>
                  <a:pt x="1526126" y="1050620"/>
                </a:lnTo>
                <a:lnTo>
                  <a:pt x="1541373" y="1057290"/>
                </a:lnTo>
                <a:lnTo>
                  <a:pt x="1555985" y="1064914"/>
                </a:lnTo>
                <a:lnTo>
                  <a:pt x="1570279" y="1073173"/>
                </a:lnTo>
                <a:lnTo>
                  <a:pt x="1583938" y="1081749"/>
                </a:lnTo>
                <a:lnTo>
                  <a:pt x="1597279" y="1091596"/>
                </a:lnTo>
                <a:lnTo>
                  <a:pt x="1610303" y="1101443"/>
                </a:lnTo>
                <a:lnTo>
                  <a:pt x="1622691" y="1112243"/>
                </a:lnTo>
                <a:lnTo>
                  <a:pt x="1634126" y="1123679"/>
                </a:lnTo>
                <a:lnTo>
                  <a:pt x="1645562" y="1135432"/>
                </a:lnTo>
                <a:lnTo>
                  <a:pt x="1656044" y="1147820"/>
                </a:lnTo>
                <a:lnTo>
                  <a:pt x="1666209" y="1160526"/>
                </a:lnTo>
                <a:lnTo>
                  <a:pt x="1675738" y="1173549"/>
                </a:lnTo>
                <a:lnTo>
                  <a:pt x="1684632" y="1187526"/>
                </a:lnTo>
                <a:lnTo>
                  <a:pt x="1692574" y="1201503"/>
                </a:lnTo>
                <a:lnTo>
                  <a:pt x="1700197" y="1216114"/>
                </a:lnTo>
                <a:lnTo>
                  <a:pt x="1706868" y="1231361"/>
                </a:lnTo>
                <a:lnTo>
                  <a:pt x="1712903" y="1246609"/>
                </a:lnTo>
                <a:lnTo>
                  <a:pt x="1718621" y="1262491"/>
                </a:lnTo>
                <a:lnTo>
                  <a:pt x="1723068" y="1278691"/>
                </a:lnTo>
                <a:lnTo>
                  <a:pt x="1725403" y="1288811"/>
                </a:lnTo>
                <a:lnTo>
                  <a:pt x="2267666" y="1236231"/>
                </a:lnTo>
                <a:lnTo>
                  <a:pt x="2265125" y="1218140"/>
                </a:lnTo>
                <a:lnTo>
                  <a:pt x="2261630" y="1200683"/>
                </a:lnTo>
                <a:lnTo>
                  <a:pt x="2258136" y="1182909"/>
                </a:lnTo>
                <a:lnTo>
                  <a:pt x="2254325" y="1165136"/>
                </a:lnTo>
                <a:lnTo>
                  <a:pt x="2250195" y="1147362"/>
                </a:lnTo>
                <a:lnTo>
                  <a:pt x="2245748" y="1130223"/>
                </a:lnTo>
                <a:lnTo>
                  <a:pt x="2240666" y="1112766"/>
                </a:lnTo>
                <a:lnTo>
                  <a:pt x="2235584" y="1095945"/>
                </a:lnTo>
                <a:lnTo>
                  <a:pt x="2229866" y="1079123"/>
                </a:lnTo>
                <a:lnTo>
                  <a:pt x="2223831" y="1061984"/>
                </a:lnTo>
                <a:lnTo>
                  <a:pt x="2217478" y="1045480"/>
                </a:lnTo>
                <a:lnTo>
                  <a:pt x="2211125" y="1028976"/>
                </a:lnTo>
                <a:lnTo>
                  <a:pt x="2204454" y="1012789"/>
                </a:lnTo>
                <a:lnTo>
                  <a:pt x="2197149" y="996602"/>
                </a:lnTo>
                <a:lnTo>
                  <a:pt x="2189843" y="980732"/>
                </a:lnTo>
                <a:lnTo>
                  <a:pt x="2181902" y="965180"/>
                </a:lnTo>
                <a:lnTo>
                  <a:pt x="2173643" y="949311"/>
                </a:lnTo>
                <a:lnTo>
                  <a:pt x="2165384" y="933759"/>
                </a:lnTo>
                <a:lnTo>
                  <a:pt x="2156490" y="918842"/>
                </a:lnTo>
                <a:lnTo>
                  <a:pt x="2147596" y="903607"/>
                </a:lnTo>
                <a:lnTo>
                  <a:pt x="2138067" y="888690"/>
                </a:lnTo>
                <a:lnTo>
                  <a:pt x="2128855" y="874090"/>
                </a:lnTo>
                <a:lnTo>
                  <a:pt x="2119008" y="859807"/>
                </a:lnTo>
                <a:lnTo>
                  <a:pt x="2108843" y="845525"/>
                </a:lnTo>
                <a:lnTo>
                  <a:pt x="2098361" y="831560"/>
                </a:lnTo>
                <a:lnTo>
                  <a:pt x="2087561" y="817594"/>
                </a:lnTo>
                <a:lnTo>
                  <a:pt x="2076761" y="803947"/>
                </a:lnTo>
                <a:lnTo>
                  <a:pt x="2065644" y="790934"/>
                </a:lnTo>
                <a:lnTo>
                  <a:pt x="2054209" y="777603"/>
                </a:lnTo>
                <a:lnTo>
                  <a:pt x="2042138" y="764591"/>
                </a:lnTo>
                <a:lnTo>
                  <a:pt x="2030385" y="752212"/>
                </a:lnTo>
                <a:lnTo>
                  <a:pt x="2017997" y="739834"/>
                </a:lnTo>
                <a:lnTo>
                  <a:pt x="2005609" y="727456"/>
                </a:lnTo>
                <a:lnTo>
                  <a:pt x="1993221" y="715395"/>
                </a:lnTo>
                <a:lnTo>
                  <a:pt x="1980197" y="703652"/>
                </a:lnTo>
                <a:lnTo>
                  <a:pt x="1966856" y="692226"/>
                </a:lnTo>
                <a:lnTo>
                  <a:pt x="1953833" y="681117"/>
                </a:lnTo>
                <a:lnTo>
                  <a:pt x="1940174" y="670326"/>
                </a:lnTo>
                <a:lnTo>
                  <a:pt x="1926198" y="659535"/>
                </a:lnTo>
                <a:lnTo>
                  <a:pt x="1912221" y="649061"/>
                </a:lnTo>
                <a:lnTo>
                  <a:pt x="1897927" y="638904"/>
                </a:lnTo>
                <a:lnTo>
                  <a:pt x="1883633" y="629065"/>
                </a:lnTo>
                <a:lnTo>
                  <a:pt x="1869022" y="619861"/>
                </a:lnTo>
                <a:lnTo>
                  <a:pt x="1854092" y="610339"/>
                </a:lnTo>
                <a:lnTo>
                  <a:pt x="1838845" y="601452"/>
                </a:lnTo>
                <a:lnTo>
                  <a:pt x="1823916" y="592566"/>
                </a:lnTo>
                <a:lnTo>
                  <a:pt x="1808352" y="584313"/>
                </a:lnTo>
                <a:lnTo>
                  <a:pt x="1792469" y="576061"/>
                </a:lnTo>
                <a:lnTo>
                  <a:pt x="1776905" y="568127"/>
                </a:lnTo>
                <a:lnTo>
                  <a:pt x="1761022" y="560827"/>
                </a:lnTo>
                <a:lnTo>
                  <a:pt x="1744823" y="553527"/>
                </a:lnTo>
                <a:lnTo>
                  <a:pt x="1728623" y="546862"/>
                </a:lnTo>
                <a:lnTo>
                  <a:pt x="1712105" y="540514"/>
                </a:lnTo>
                <a:lnTo>
                  <a:pt x="1695588" y="534166"/>
                </a:lnTo>
                <a:lnTo>
                  <a:pt x="1678435" y="528136"/>
                </a:lnTo>
                <a:lnTo>
                  <a:pt x="1661600" y="522740"/>
                </a:lnTo>
                <a:lnTo>
                  <a:pt x="1644765" y="517344"/>
                </a:lnTo>
                <a:lnTo>
                  <a:pt x="1627294" y="512584"/>
                </a:lnTo>
                <a:lnTo>
                  <a:pt x="1610141" y="507823"/>
                </a:lnTo>
                <a:lnTo>
                  <a:pt x="1592671" y="503697"/>
                </a:lnTo>
                <a:lnTo>
                  <a:pt x="1574883" y="499888"/>
                </a:lnTo>
                <a:lnTo>
                  <a:pt x="1557095" y="496397"/>
                </a:lnTo>
                <a:lnTo>
                  <a:pt x="1539306" y="492905"/>
                </a:lnTo>
                <a:lnTo>
                  <a:pt x="1521201" y="490366"/>
                </a:lnTo>
                <a:close/>
                <a:moveTo>
                  <a:pt x="1266450" y="490366"/>
                </a:moveTo>
                <a:lnTo>
                  <a:pt x="1248344" y="492905"/>
                </a:lnTo>
                <a:lnTo>
                  <a:pt x="1230556" y="496397"/>
                </a:lnTo>
                <a:lnTo>
                  <a:pt x="1212768" y="499888"/>
                </a:lnTo>
                <a:lnTo>
                  <a:pt x="1195297" y="503697"/>
                </a:lnTo>
                <a:lnTo>
                  <a:pt x="1177509" y="507823"/>
                </a:lnTo>
                <a:lnTo>
                  <a:pt x="1160039" y="512584"/>
                </a:lnTo>
                <a:lnTo>
                  <a:pt x="1142886" y="517344"/>
                </a:lnTo>
                <a:lnTo>
                  <a:pt x="1126051" y="522740"/>
                </a:lnTo>
                <a:lnTo>
                  <a:pt x="1108898" y="528136"/>
                </a:lnTo>
                <a:lnTo>
                  <a:pt x="1092063" y="534166"/>
                </a:lnTo>
                <a:lnTo>
                  <a:pt x="1075545" y="540514"/>
                </a:lnTo>
                <a:lnTo>
                  <a:pt x="1059028" y="546862"/>
                </a:lnTo>
                <a:lnTo>
                  <a:pt x="1042827" y="553527"/>
                </a:lnTo>
                <a:lnTo>
                  <a:pt x="1026627" y="560827"/>
                </a:lnTo>
                <a:lnTo>
                  <a:pt x="1010745" y="568127"/>
                </a:lnTo>
                <a:lnTo>
                  <a:pt x="994863" y="576061"/>
                </a:lnTo>
                <a:lnTo>
                  <a:pt x="978981" y="584313"/>
                </a:lnTo>
                <a:lnTo>
                  <a:pt x="963734" y="592566"/>
                </a:lnTo>
                <a:lnTo>
                  <a:pt x="948487" y="601452"/>
                </a:lnTo>
                <a:lnTo>
                  <a:pt x="933558" y="610339"/>
                </a:lnTo>
                <a:lnTo>
                  <a:pt x="918946" y="619861"/>
                </a:lnTo>
                <a:lnTo>
                  <a:pt x="904334" y="629065"/>
                </a:lnTo>
                <a:lnTo>
                  <a:pt x="889405" y="638904"/>
                </a:lnTo>
                <a:lnTo>
                  <a:pt x="875429" y="649061"/>
                </a:lnTo>
                <a:lnTo>
                  <a:pt x="861135" y="659535"/>
                </a:lnTo>
                <a:lnTo>
                  <a:pt x="847794" y="670326"/>
                </a:lnTo>
                <a:lnTo>
                  <a:pt x="833817" y="681117"/>
                </a:lnTo>
                <a:lnTo>
                  <a:pt x="820476" y="692226"/>
                </a:lnTo>
                <a:lnTo>
                  <a:pt x="807453" y="703652"/>
                </a:lnTo>
                <a:lnTo>
                  <a:pt x="794747" y="715395"/>
                </a:lnTo>
                <a:lnTo>
                  <a:pt x="781723" y="727456"/>
                </a:lnTo>
                <a:lnTo>
                  <a:pt x="769335" y="739834"/>
                </a:lnTo>
                <a:lnTo>
                  <a:pt x="757265" y="752212"/>
                </a:lnTo>
                <a:lnTo>
                  <a:pt x="745194" y="764591"/>
                </a:lnTo>
                <a:lnTo>
                  <a:pt x="733759" y="777603"/>
                </a:lnTo>
                <a:lnTo>
                  <a:pt x="722006" y="790934"/>
                </a:lnTo>
                <a:lnTo>
                  <a:pt x="710571" y="803947"/>
                </a:lnTo>
                <a:lnTo>
                  <a:pt x="699771" y="817594"/>
                </a:lnTo>
                <a:lnTo>
                  <a:pt x="689289" y="831560"/>
                </a:lnTo>
                <a:lnTo>
                  <a:pt x="678807" y="845525"/>
                </a:lnTo>
                <a:lnTo>
                  <a:pt x="668960" y="859807"/>
                </a:lnTo>
                <a:lnTo>
                  <a:pt x="658795" y="874090"/>
                </a:lnTo>
                <a:lnTo>
                  <a:pt x="649266" y="888690"/>
                </a:lnTo>
                <a:lnTo>
                  <a:pt x="640054" y="903607"/>
                </a:lnTo>
                <a:lnTo>
                  <a:pt x="630842" y="918842"/>
                </a:lnTo>
                <a:lnTo>
                  <a:pt x="622266" y="933759"/>
                </a:lnTo>
                <a:lnTo>
                  <a:pt x="614007" y="949311"/>
                </a:lnTo>
                <a:lnTo>
                  <a:pt x="605748" y="965180"/>
                </a:lnTo>
                <a:lnTo>
                  <a:pt x="598125" y="980732"/>
                </a:lnTo>
                <a:lnTo>
                  <a:pt x="590501" y="996602"/>
                </a:lnTo>
                <a:lnTo>
                  <a:pt x="583513" y="1012789"/>
                </a:lnTo>
                <a:lnTo>
                  <a:pt x="576207" y="1028976"/>
                </a:lnTo>
                <a:lnTo>
                  <a:pt x="569854" y="1045480"/>
                </a:lnTo>
                <a:lnTo>
                  <a:pt x="563502" y="1061984"/>
                </a:lnTo>
                <a:lnTo>
                  <a:pt x="557784" y="1079123"/>
                </a:lnTo>
                <a:lnTo>
                  <a:pt x="552066" y="1095945"/>
                </a:lnTo>
                <a:lnTo>
                  <a:pt x="546984" y="1112766"/>
                </a:lnTo>
                <a:lnTo>
                  <a:pt x="541902" y="1130223"/>
                </a:lnTo>
                <a:lnTo>
                  <a:pt x="537455" y="1147362"/>
                </a:lnTo>
                <a:lnTo>
                  <a:pt x="533325" y="1165136"/>
                </a:lnTo>
                <a:lnTo>
                  <a:pt x="529196" y="1182909"/>
                </a:lnTo>
                <a:lnTo>
                  <a:pt x="526019" y="1200683"/>
                </a:lnTo>
                <a:lnTo>
                  <a:pt x="522843" y="1218140"/>
                </a:lnTo>
                <a:lnTo>
                  <a:pt x="519984" y="1236231"/>
                </a:lnTo>
                <a:lnTo>
                  <a:pt x="1062444" y="1288803"/>
                </a:lnTo>
                <a:lnTo>
                  <a:pt x="1064583" y="1278691"/>
                </a:lnTo>
                <a:lnTo>
                  <a:pt x="1069347" y="1262491"/>
                </a:lnTo>
                <a:lnTo>
                  <a:pt x="1074747" y="1246609"/>
                </a:lnTo>
                <a:lnTo>
                  <a:pt x="1080783" y="1231361"/>
                </a:lnTo>
                <a:lnTo>
                  <a:pt x="1087771" y="1216114"/>
                </a:lnTo>
                <a:lnTo>
                  <a:pt x="1095077" y="1201503"/>
                </a:lnTo>
                <a:lnTo>
                  <a:pt x="1103336" y="1187526"/>
                </a:lnTo>
                <a:lnTo>
                  <a:pt x="1112230" y="1173549"/>
                </a:lnTo>
                <a:lnTo>
                  <a:pt x="1121442" y="1160526"/>
                </a:lnTo>
                <a:lnTo>
                  <a:pt x="1131606" y="1147185"/>
                </a:lnTo>
                <a:lnTo>
                  <a:pt x="1142407" y="1135432"/>
                </a:lnTo>
                <a:lnTo>
                  <a:pt x="1153524" y="1123361"/>
                </a:lnTo>
                <a:lnTo>
                  <a:pt x="1165595" y="1112243"/>
                </a:lnTo>
                <a:lnTo>
                  <a:pt x="1177665" y="1101443"/>
                </a:lnTo>
                <a:lnTo>
                  <a:pt x="1190689" y="1091279"/>
                </a:lnTo>
                <a:lnTo>
                  <a:pt x="1204030" y="1081749"/>
                </a:lnTo>
                <a:lnTo>
                  <a:pt x="1218007" y="1073173"/>
                </a:lnTo>
                <a:lnTo>
                  <a:pt x="1231983" y="1064914"/>
                </a:lnTo>
                <a:lnTo>
                  <a:pt x="1246595" y="1057290"/>
                </a:lnTo>
                <a:lnTo>
                  <a:pt x="1261525" y="1050620"/>
                </a:lnTo>
                <a:lnTo>
                  <a:pt x="1277089" y="1044584"/>
                </a:lnTo>
                <a:lnTo>
                  <a:pt x="1292972" y="1039184"/>
                </a:lnTo>
                <a:lnTo>
                  <a:pt x="1309172" y="1034737"/>
                </a:lnTo>
                <a:lnTo>
                  <a:pt x="1319052" y="1032267"/>
                </a:lnTo>
                <a:lnTo>
                  <a:pt x="1266450" y="490366"/>
                </a:lnTo>
                <a:close/>
                <a:moveTo>
                  <a:pt x="1094286" y="0"/>
                </a:moveTo>
                <a:lnTo>
                  <a:pt x="1100957" y="0"/>
                </a:lnTo>
                <a:lnTo>
                  <a:pt x="1107627" y="952"/>
                </a:lnTo>
                <a:lnTo>
                  <a:pt x="1113980" y="2539"/>
                </a:lnTo>
                <a:lnTo>
                  <a:pt x="1120333" y="4761"/>
                </a:lnTo>
                <a:lnTo>
                  <a:pt x="1126368" y="7300"/>
                </a:lnTo>
                <a:lnTo>
                  <a:pt x="1132086" y="10791"/>
                </a:lnTo>
                <a:lnTo>
                  <a:pt x="1137168" y="14600"/>
                </a:lnTo>
                <a:lnTo>
                  <a:pt x="1142568" y="18726"/>
                </a:lnTo>
                <a:lnTo>
                  <a:pt x="1147015" y="23487"/>
                </a:lnTo>
                <a:lnTo>
                  <a:pt x="1151145" y="28882"/>
                </a:lnTo>
                <a:lnTo>
                  <a:pt x="1154956" y="34595"/>
                </a:lnTo>
                <a:lnTo>
                  <a:pt x="1157815" y="40943"/>
                </a:lnTo>
                <a:lnTo>
                  <a:pt x="1160674" y="47291"/>
                </a:lnTo>
                <a:lnTo>
                  <a:pt x="1231191" y="266290"/>
                </a:lnTo>
                <a:lnTo>
                  <a:pt x="1251203" y="263433"/>
                </a:lnTo>
                <a:lnTo>
                  <a:pt x="1271532" y="261211"/>
                </a:lnTo>
                <a:lnTo>
                  <a:pt x="1291544" y="258990"/>
                </a:lnTo>
                <a:lnTo>
                  <a:pt x="1311873" y="257403"/>
                </a:lnTo>
                <a:lnTo>
                  <a:pt x="1332202" y="256133"/>
                </a:lnTo>
                <a:lnTo>
                  <a:pt x="1352531" y="255181"/>
                </a:lnTo>
                <a:lnTo>
                  <a:pt x="1373178" y="254546"/>
                </a:lnTo>
                <a:lnTo>
                  <a:pt x="1393825" y="254546"/>
                </a:lnTo>
                <a:lnTo>
                  <a:pt x="1414154" y="254546"/>
                </a:lnTo>
                <a:lnTo>
                  <a:pt x="1435119" y="255181"/>
                </a:lnTo>
                <a:lnTo>
                  <a:pt x="1455448" y="256133"/>
                </a:lnTo>
                <a:lnTo>
                  <a:pt x="1475778" y="257403"/>
                </a:lnTo>
                <a:lnTo>
                  <a:pt x="1496107" y="258990"/>
                </a:lnTo>
                <a:lnTo>
                  <a:pt x="1515801" y="261211"/>
                </a:lnTo>
                <a:lnTo>
                  <a:pt x="1536130" y="263433"/>
                </a:lnTo>
                <a:lnTo>
                  <a:pt x="1556142" y="266290"/>
                </a:lnTo>
                <a:lnTo>
                  <a:pt x="1627294" y="47291"/>
                </a:lnTo>
                <a:lnTo>
                  <a:pt x="1629835" y="40626"/>
                </a:lnTo>
                <a:lnTo>
                  <a:pt x="1633012" y="34595"/>
                </a:lnTo>
                <a:lnTo>
                  <a:pt x="1636823" y="28882"/>
                </a:lnTo>
                <a:lnTo>
                  <a:pt x="1640953" y="23487"/>
                </a:lnTo>
                <a:lnTo>
                  <a:pt x="1645400" y="18726"/>
                </a:lnTo>
                <a:lnTo>
                  <a:pt x="1650164" y="14600"/>
                </a:lnTo>
                <a:lnTo>
                  <a:pt x="1655882" y="10474"/>
                </a:lnTo>
                <a:lnTo>
                  <a:pt x="1661600" y="7300"/>
                </a:lnTo>
                <a:lnTo>
                  <a:pt x="1667635" y="4761"/>
                </a:lnTo>
                <a:lnTo>
                  <a:pt x="1673670" y="2539"/>
                </a:lnTo>
                <a:lnTo>
                  <a:pt x="1680023" y="952"/>
                </a:lnTo>
                <a:lnTo>
                  <a:pt x="1686694" y="0"/>
                </a:lnTo>
                <a:lnTo>
                  <a:pt x="1693682" y="0"/>
                </a:lnTo>
                <a:lnTo>
                  <a:pt x="1700352" y="317"/>
                </a:lnTo>
                <a:lnTo>
                  <a:pt x="1707023" y="1270"/>
                </a:lnTo>
                <a:lnTo>
                  <a:pt x="1714011" y="2857"/>
                </a:lnTo>
                <a:lnTo>
                  <a:pt x="1934774" y="75221"/>
                </a:lnTo>
                <a:lnTo>
                  <a:pt x="1941762" y="77443"/>
                </a:lnTo>
                <a:lnTo>
                  <a:pt x="1947798" y="80617"/>
                </a:lnTo>
                <a:lnTo>
                  <a:pt x="1953833" y="84108"/>
                </a:lnTo>
                <a:lnTo>
                  <a:pt x="1958915" y="88234"/>
                </a:lnTo>
                <a:lnTo>
                  <a:pt x="1963997" y="93312"/>
                </a:lnTo>
                <a:lnTo>
                  <a:pt x="1968127" y="98073"/>
                </a:lnTo>
                <a:lnTo>
                  <a:pt x="1971621" y="103469"/>
                </a:lnTo>
                <a:lnTo>
                  <a:pt x="1975115" y="108864"/>
                </a:lnTo>
                <a:lnTo>
                  <a:pt x="1977656" y="114895"/>
                </a:lnTo>
                <a:lnTo>
                  <a:pt x="1980197" y="121243"/>
                </a:lnTo>
                <a:lnTo>
                  <a:pt x="1981468" y="127908"/>
                </a:lnTo>
                <a:lnTo>
                  <a:pt x="1982421" y="134573"/>
                </a:lnTo>
                <a:lnTo>
                  <a:pt x="1982738" y="141238"/>
                </a:lnTo>
                <a:lnTo>
                  <a:pt x="1981786" y="148221"/>
                </a:lnTo>
                <a:lnTo>
                  <a:pt x="1980833" y="154886"/>
                </a:lnTo>
                <a:lnTo>
                  <a:pt x="1979244" y="161551"/>
                </a:lnTo>
                <a:lnTo>
                  <a:pt x="1907774" y="380550"/>
                </a:lnTo>
                <a:lnTo>
                  <a:pt x="1925880" y="390389"/>
                </a:lnTo>
                <a:lnTo>
                  <a:pt x="1943986" y="400228"/>
                </a:lnTo>
                <a:lnTo>
                  <a:pt x="1961456" y="410702"/>
                </a:lnTo>
                <a:lnTo>
                  <a:pt x="1978927" y="421175"/>
                </a:lnTo>
                <a:lnTo>
                  <a:pt x="1996397" y="431967"/>
                </a:lnTo>
                <a:lnTo>
                  <a:pt x="2013232" y="443393"/>
                </a:lnTo>
                <a:lnTo>
                  <a:pt x="2029750" y="454501"/>
                </a:lnTo>
                <a:lnTo>
                  <a:pt x="2046585" y="466562"/>
                </a:lnTo>
                <a:lnTo>
                  <a:pt x="2062785" y="478623"/>
                </a:lnTo>
                <a:lnTo>
                  <a:pt x="2078985" y="491001"/>
                </a:lnTo>
                <a:lnTo>
                  <a:pt x="2094867" y="503697"/>
                </a:lnTo>
                <a:lnTo>
                  <a:pt x="2110432" y="516709"/>
                </a:lnTo>
                <a:lnTo>
                  <a:pt x="2125679" y="529723"/>
                </a:lnTo>
                <a:lnTo>
                  <a:pt x="2140925" y="543370"/>
                </a:lnTo>
                <a:lnTo>
                  <a:pt x="2155855" y="557335"/>
                </a:lnTo>
                <a:lnTo>
                  <a:pt x="2170466" y="571301"/>
                </a:lnTo>
                <a:lnTo>
                  <a:pt x="2357242" y="435775"/>
                </a:lnTo>
                <a:lnTo>
                  <a:pt x="2362959" y="431967"/>
                </a:lnTo>
                <a:lnTo>
                  <a:pt x="2369312" y="428793"/>
                </a:lnTo>
                <a:lnTo>
                  <a:pt x="2375347" y="426571"/>
                </a:lnTo>
                <a:lnTo>
                  <a:pt x="2382018" y="424667"/>
                </a:lnTo>
                <a:lnTo>
                  <a:pt x="2388371" y="423397"/>
                </a:lnTo>
                <a:lnTo>
                  <a:pt x="2395041" y="422762"/>
                </a:lnTo>
                <a:lnTo>
                  <a:pt x="2401712" y="422762"/>
                </a:lnTo>
                <a:lnTo>
                  <a:pt x="2408065" y="423397"/>
                </a:lnTo>
                <a:lnTo>
                  <a:pt x="2414418" y="424984"/>
                </a:lnTo>
                <a:lnTo>
                  <a:pt x="2420770" y="426888"/>
                </a:lnTo>
                <a:lnTo>
                  <a:pt x="2426806" y="429428"/>
                </a:lnTo>
                <a:lnTo>
                  <a:pt x="2432841" y="432601"/>
                </a:lnTo>
                <a:lnTo>
                  <a:pt x="2438559" y="436093"/>
                </a:lnTo>
                <a:lnTo>
                  <a:pt x="2443959" y="440854"/>
                </a:lnTo>
                <a:lnTo>
                  <a:pt x="2448406" y="445614"/>
                </a:lnTo>
                <a:lnTo>
                  <a:pt x="2452853" y="451327"/>
                </a:lnTo>
                <a:lnTo>
                  <a:pt x="2589757" y="638904"/>
                </a:lnTo>
                <a:lnTo>
                  <a:pt x="2593569" y="644935"/>
                </a:lnTo>
                <a:lnTo>
                  <a:pt x="2596746" y="650965"/>
                </a:lnTo>
                <a:lnTo>
                  <a:pt x="2599287" y="657313"/>
                </a:lnTo>
                <a:lnTo>
                  <a:pt x="2601193" y="663661"/>
                </a:lnTo>
                <a:lnTo>
                  <a:pt x="2602463" y="670326"/>
                </a:lnTo>
                <a:lnTo>
                  <a:pt x="2602781" y="676991"/>
                </a:lnTo>
                <a:lnTo>
                  <a:pt x="2602781" y="683656"/>
                </a:lnTo>
                <a:lnTo>
                  <a:pt x="2601828" y="690004"/>
                </a:lnTo>
                <a:lnTo>
                  <a:pt x="2600557" y="696352"/>
                </a:lnTo>
                <a:lnTo>
                  <a:pt x="2598652" y="703017"/>
                </a:lnTo>
                <a:lnTo>
                  <a:pt x="2596428" y="709047"/>
                </a:lnTo>
                <a:lnTo>
                  <a:pt x="2592934" y="715078"/>
                </a:lnTo>
                <a:lnTo>
                  <a:pt x="2589122" y="720473"/>
                </a:lnTo>
                <a:lnTo>
                  <a:pt x="2584993" y="725869"/>
                </a:lnTo>
                <a:lnTo>
                  <a:pt x="2580228" y="730630"/>
                </a:lnTo>
                <a:lnTo>
                  <a:pt x="2574828" y="734756"/>
                </a:lnTo>
                <a:lnTo>
                  <a:pt x="2388053" y="870281"/>
                </a:lnTo>
                <a:lnTo>
                  <a:pt x="2396629" y="888372"/>
                </a:lnTo>
                <a:lnTo>
                  <a:pt x="2405524" y="906781"/>
                </a:lnTo>
                <a:lnTo>
                  <a:pt x="2413465" y="925189"/>
                </a:lnTo>
                <a:lnTo>
                  <a:pt x="2421088" y="943598"/>
                </a:lnTo>
                <a:lnTo>
                  <a:pt x="2428712" y="962324"/>
                </a:lnTo>
                <a:lnTo>
                  <a:pt x="2436017" y="981367"/>
                </a:lnTo>
                <a:lnTo>
                  <a:pt x="2442688" y="1000411"/>
                </a:lnTo>
                <a:lnTo>
                  <a:pt x="2449041" y="1019454"/>
                </a:lnTo>
                <a:lnTo>
                  <a:pt x="2455394" y="1039132"/>
                </a:lnTo>
                <a:lnTo>
                  <a:pt x="2461111" y="1058810"/>
                </a:lnTo>
                <a:lnTo>
                  <a:pt x="2466829" y="1078171"/>
                </a:lnTo>
                <a:lnTo>
                  <a:pt x="2471594" y="1098167"/>
                </a:lnTo>
                <a:lnTo>
                  <a:pt x="2476676" y="1118162"/>
                </a:lnTo>
                <a:lnTo>
                  <a:pt x="2480805" y="1138158"/>
                </a:lnTo>
                <a:lnTo>
                  <a:pt x="2484935" y="1158470"/>
                </a:lnTo>
                <a:lnTo>
                  <a:pt x="2488746" y="1178783"/>
                </a:lnTo>
                <a:lnTo>
                  <a:pt x="2718721" y="1178783"/>
                </a:lnTo>
                <a:lnTo>
                  <a:pt x="2725709" y="1179101"/>
                </a:lnTo>
                <a:lnTo>
                  <a:pt x="2732698" y="1180370"/>
                </a:lnTo>
                <a:lnTo>
                  <a:pt x="2739368" y="1181640"/>
                </a:lnTo>
                <a:lnTo>
                  <a:pt x="2745403" y="1184496"/>
                </a:lnTo>
                <a:lnTo>
                  <a:pt x="2751439" y="1187035"/>
                </a:lnTo>
                <a:lnTo>
                  <a:pt x="2757156" y="1190527"/>
                </a:lnTo>
                <a:lnTo>
                  <a:pt x="2762239" y="1194653"/>
                </a:lnTo>
                <a:lnTo>
                  <a:pt x="2767321" y="1199096"/>
                </a:lnTo>
                <a:lnTo>
                  <a:pt x="2771768" y="1203857"/>
                </a:lnTo>
                <a:lnTo>
                  <a:pt x="2775897" y="1209253"/>
                </a:lnTo>
                <a:lnTo>
                  <a:pt x="2779391" y="1214966"/>
                </a:lnTo>
                <a:lnTo>
                  <a:pt x="2782250" y="1220361"/>
                </a:lnTo>
                <a:lnTo>
                  <a:pt x="2784474" y="1226709"/>
                </a:lnTo>
                <a:lnTo>
                  <a:pt x="2786062" y="1233692"/>
                </a:lnTo>
                <a:lnTo>
                  <a:pt x="2787015" y="1240357"/>
                </a:lnTo>
                <a:lnTo>
                  <a:pt x="2787650" y="1247022"/>
                </a:lnTo>
                <a:lnTo>
                  <a:pt x="2787650" y="1479986"/>
                </a:lnTo>
                <a:lnTo>
                  <a:pt x="2787015" y="1486651"/>
                </a:lnTo>
                <a:lnTo>
                  <a:pt x="2786380" y="1493951"/>
                </a:lnTo>
                <a:lnTo>
                  <a:pt x="2784474" y="1500299"/>
                </a:lnTo>
                <a:lnTo>
                  <a:pt x="2782250" y="1506646"/>
                </a:lnTo>
                <a:lnTo>
                  <a:pt x="2779391" y="1512677"/>
                </a:lnTo>
                <a:lnTo>
                  <a:pt x="2775897" y="1518390"/>
                </a:lnTo>
                <a:lnTo>
                  <a:pt x="2771768" y="1523785"/>
                </a:lnTo>
                <a:lnTo>
                  <a:pt x="2767639" y="1528546"/>
                </a:lnTo>
                <a:lnTo>
                  <a:pt x="2762556" y="1532672"/>
                </a:lnTo>
                <a:lnTo>
                  <a:pt x="2757156" y="1536798"/>
                </a:lnTo>
                <a:lnTo>
                  <a:pt x="2751439" y="1540290"/>
                </a:lnTo>
                <a:lnTo>
                  <a:pt x="2745403" y="1543146"/>
                </a:lnTo>
                <a:lnTo>
                  <a:pt x="2739368" y="1545368"/>
                </a:lnTo>
                <a:lnTo>
                  <a:pt x="2732698" y="1546955"/>
                </a:lnTo>
                <a:lnTo>
                  <a:pt x="2725709" y="1548224"/>
                </a:lnTo>
                <a:lnTo>
                  <a:pt x="2719039" y="1548542"/>
                </a:lnTo>
                <a:lnTo>
                  <a:pt x="2488746" y="1548542"/>
                </a:lnTo>
                <a:lnTo>
                  <a:pt x="2484935" y="1568855"/>
                </a:lnTo>
                <a:lnTo>
                  <a:pt x="2480805" y="1589168"/>
                </a:lnTo>
                <a:lnTo>
                  <a:pt x="2476676" y="1609163"/>
                </a:lnTo>
                <a:lnTo>
                  <a:pt x="2471594" y="1629476"/>
                </a:lnTo>
                <a:lnTo>
                  <a:pt x="2466829" y="1648837"/>
                </a:lnTo>
                <a:lnTo>
                  <a:pt x="2461111" y="1668832"/>
                </a:lnTo>
                <a:lnTo>
                  <a:pt x="2455394" y="1688510"/>
                </a:lnTo>
                <a:lnTo>
                  <a:pt x="2449041" y="1707554"/>
                </a:lnTo>
                <a:lnTo>
                  <a:pt x="2442688" y="1726914"/>
                </a:lnTo>
                <a:lnTo>
                  <a:pt x="2436017" y="1745958"/>
                </a:lnTo>
                <a:lnTo>
                  <a:pt x="2428712" y="1764684"/>
                </a:lnTo>
                <a:lnTo>
                  <a:pt x="2421088" y="1783410"/>
                </a:lnTo>
                <a:lnTo>
                  <a:pt x="2413465" y="1802453"/>
                </a:lnTo>
                <a:lnTo>
                  <a:pt x="2405524" y="1820862"/>
                </a:lnTo>
                <a:lnTo>
                  <a:pt x="2396629" y="1838953"/>
                </a:lnTo>
                <a:lnTo>
                  <a:pt x="2388053" y="1857044"/>
                </a:lnTo>
                <a:lnTo>
                  <a:pt x="2574828" y="1992252"/>
                </a:lnTo>
                <a:lnTo>
                  <a:pt x="2580228" y="1996378"/>
                </a:lnTo>
                <a:lnTo>
                  <a:pt x="2584993" y="2001456"/>
                </a:lnTo>
                <a:lnTo>
                  <a:pt x="2589122" y="2006534"/>
                </a:lnTo>
                <a:lnTo>
                  <a:pt x="2592934" y="2012247"/>
                </a:lnTo>
                <a:lnTo>
                  <a:pt x="2596428" y="2018278"/>
                </a:lnTo>
                <a:lnTo>
                  <a:pt x="2598652" y="2024308"/>
                </a:lnTo>
                <a:lnTo>
                  <a:pt x="2600557" y="2030656"/>
                </a:lnTo>
                <a:lnTo>
                  <a:pt x="2601828" y="2037004"/>
                </a:lnTo>
                <a:lnTo>
                  <a:pt x="2602781" y="2043352"/>
                </a:lnTo>
                <a:lnTo>
                  <a:pt x="2602781" y="2050334"/>
                </a:lnTo>
                <a:lnTo>
                  <a:pt x="2602463" y="2056682"/>
                </a:lnTo>
                <a:lnTo>
                  <a:pt x="2601193" y="2063347"/>
                </a:lnTo>
                <a:lnTo>
                  <a:pt x="2599287" y="2069695"/>
                </a:lnTo>
                <a:lnTo>
                  <a:pt x="2596746" y="2076360"/>
                </a:lnTo>
                <a:lnTo>
                  <a:pt x="2593569" y="2082073"/>
                </a:lnTo>
                <a:lnTo>
                  <a:pt x="2589757" y="2087786"/>
                </a:lnTo>
                <a:lnTo>
                  <a:pt x="2452853" y="2276315"/>
                </a:lnTo>
                <a:lnTo>
                  <a:pt x="2448406" y="2281711"/>
                </a:lnTo>
                <a:lnTo>
                  <a:pt x="2443959" y="2286472"/>
                </a:lnTo>
                <a:lnTo>
                  <a:pt x="2438559" y="2290915"/>
                </a:lnTo>
                <a:lnTo>
                  <a:pt x="2432841" y="2294406"/>
                </a:lnTo>
                <a:lnTo>
                  <a:pt x="2426806" y="2297898"/>
                </a:lnTo>
                <a:lnTo>
                  <a:pt x="2420770" y="2300437"/>
                </a:lnTo>
                <a:lnTo>
                  <a:pt x="2414418" y="2302341"/>
                </a:lnTo>
                <a:lnTo>
                  <a:pt x="2408065" y="2303293"/>
                </a:lnTo>
                <a:lnTo>
                  <a:pt x="2401712" y="2304245"/>
                </a:lnTo>
                <a:lnTo>
                  <a:pt x="2395041" y="2304563"/>
                </a:lnTo>
                <a:lnTo>
                  <a:pt x="2388371" y="2303611"/>
                </a:lnTo>
                <a:lnTo>
                  <a:pt x="2381700" y="2302658"/>
                </a:lnTo>
                <a:lnTo>
                  <a:pt x="2375347" y="2300754"/>
                </a:lnTo>
                <a:lnTo>
                  <a:pt x="2368994" y="2298532"/>
                </a:lnTo>
                <a:lnTo>
                  <a:pt x="2362959" y="2295041"/>
                </a:lnTo>
                <a:lnTo>
                  <a:pt x="2357242" y="2291232"/>
                </a:lnTo>
                <a:lnTo>
                  <a:pt x="2170466" y="2156025"/>
                </a:lnTo>
                <a:lnTo>
                  <a:pt x="2155855" y="2170307"/>
                </a:lnTo>
                <a:lnTo>
                  <a:pt x="2140925" y="2183638"/>
                </a:lnTo>
                <a:lnTo>
                  <a:pt x="2125679" y="2197285"/>
                </a:lnTo>
                <a:lnTo>
                  <a:pt x="2110432" y="2210616"/>
                </a:lnTo>
                <a:lnTo>
                  <a:pt x="2094867" y="2223629"/>
                </a:lnTo>
                <a:lnTo>
                  <a:pt x="2078985" y="2236007"/>
                </a:lnTo>
                <a:lnTo>
                  <a:pt x="2062785" y="2248385"/>
                </a:lnTo>
                <a:lnTo>
                  <a:pt x="2046585" y="2260446"/>
                </a:lnTo>
                <a:lnTo>
                  <a:pt x="2030068" y="2272506"/>
                </a:lnTo>
                <a:lnTo>
                  <a:pt x="2013232" y="2283932"/>
                </a:lnTo>
                <a:lnTo>
                  <a:pt x="1996397" y="2295041"/>
                </a:lnTo>
                <a:lnTo>
                  <a:pt x="1978927" y="2306150"/>
                </a:lnTo>
                <a:lnTo>
                  <a:pt x="1961456" y="2316624"/>
                </a:lnTo>
                <a:lnTo>
                  <a:pt x="1943986" y="2327097"/>
                </a:lnTo>
                <a:lnTo>
                  <a:pt x="1925880" y="2336936"/>
                </a:lnTo>
                <a:lnTo>
                  <a:pt x="1907774" y="2346776"/>
                </a:lnTo>
                <a:lnTo>
                  <a:pt x="1979244" y="2565457"/>
                </a:lnTo>
                <a:lnTo>
                  <a:pt x="1980833" y="2572439"/>
                </a:lnTo>
                <a:lnTo>
                  <a:pt x="1981786" y="2579422"/>
                </a:lnTo>
                <a:lnTo>
                  <a:pt x="1982738" y="2586404"/>
                </a:lnTo>
                <a:lnTo>
                  <a:pt x="1982421" y="2592752"/>
                </a:lnTo>
                <a:lnTo>
                  <a:pt x="1981468" y="2599417"/>
                </a:lnTo>
                <a:lnTo>
                  <a:pt x="1980197" y="2605765"/>
                </a:lnTo>
                <a:lnTo>
                  <a:pt x="1977656" y="2612113"/>
                </a:lnTo>
                <a:lnTo>
                  <a:pt x="1975115" y="2618143"/>
                </a:lnTo>
                <a:lnTo>
                  <a:pt x="1971621" y="2623856"/>
                </a:lnTo>
                <a:lnTo>
                  <a:pt x="1968127" y="2629252"/>
                </a:lnTo>
                <a:lnTo>
                  <a:pt x="1963997" y="2634013"/>
                </a:lnTo>
                <a:lnTo>
                  <a:pt x="1958915" y="2638774"/>
                </a:lnTo>
                <a:lnTo>
                  <a:pt x="1953833" y="2642900"/>
                </a:lnTo>
                <a:lnTo>
                  <a:pt x="1948115" y="2646391"/>
                </a:lnTo>
                <a:lnTo>
                  <a:pt x="1941762" y="2649565"/>
                </a:lnTo>
                <a:lnTo>
                  <a:pt x="1935409" y="2652104"/>
                </a:lnTo>
                <a:lnTo>
                  <a:pt x="1714011" y="2724151"/>
                </a:lnTo>
                <a:lnTo>
                  <a:pt x="1707023" y="2725738"/>
                </a:lnTo>
                <a:lnTo>
                  <a:pt x="1700352" y="2727008"/>
                </a:lnTo>
                <a:lnTo>
                  <a:pt x="1693682" y="2727325"/>
                </a:lnTo>
                <a:lnTo>
                  <a:pt x="1686694" y="2727325"/>
                </a:lnTo>
                <a:lnTo>
                  <a:pt x="1680023" y="2726056"/>
                </a:lnTo>
                <a:lnTo>
                  <a:pt x="1673670" y="2724786"/>
                </a:lnTo>
                <a:lnTo>
                  <a:pt x="1667635" y="2722564"/>
                </a:lnTo>
                <a:lnTo>
                  <a:pt x="1661600" y="2719708"/>
                </a:lnTo>
                <a:lnTo>
                  <a:pt x="1655564" y="2716851"/>
                </a:lnTo>
                <a:lnTo>
                  <a:pt x="1650164" y="2712725"/>
                </a:lnTo>
                <a:lnTo>
                  <a:pt x="1645400" y="2708599"/>
                </a:lnTo>
                <a:lnTo>
                  <a:pt x="1640953" y="2703521"/>
                </a:lnTo>
                <a:lnTo>
                  <a:pt x="1636823" y="2698443"/>
                </a:lnTo>
                <a:lnTo>
                  <a:pt x="1633012" y="2692730"/>
                </a:lnTo>
                <a:lnTo>
                  <a:pt x="1629835" y="2686382"/>
                </a:lnTo>
                <a:lnTo>
                  <a:pt x="1627294" y="2680034"/>
                </a:lnTo>
                <a:lnTo>
                  <a:pt x="1556142" y="2460718"/>
                </a:lnTo>
                <a:lnTo>
                  <a:pt x="1536130" y="2463575"/>
                </a:lnTo>
                <a:lnTo>
                  <a:pt x="1516436" y="2465796"/>
                </a:lnTo>
                <a:lnTo>
                  <a:pt x="1496107" y="2467701"/>
                </a:lnTo>
                <a:lnTo>
                  <a:pt x="1475778" y="2469605"/>
                </a:lnTo>
                <a:lnTo>
                  <a:pt x="1455448" y="2470875"/>
                </a:lnTo>
                <a:lnTo>
                  <a:pt x="1435119" y="2471827"/>
                </a:lnTo>
                <a:lnTo>
                  <a:pt x="1414154" y="2472144"/>
                </a:lnTo>
                <a:lnTo>
                  <a:pt x="1393825" y="2472779"/>
                </a:lnTo>
                <a:lnTo>
                  <a:pt x="1373178" y="2472144"/>
                </a:lnTo>
                <a:lnTo>
                  <a:pt x="1352531" y="2471827"/>
                </a:lnTo>
                <a:lnTo>
                  <a:pt x="1332202" y="2470875"/>
                </a:lnTo>
                <a:lnTo>
                  <a:pt x="1311873" y="2469605"/>
                </a:lnTo>
                <a:lnTo>
                  <a:pt x="1291544" y="2467701"/>
                </a:lnTo>
                <a:lnTo>
                  <a:pt x="1271532" y="2465796"/>
                </a:lnTo>
                <a:lnTo>
                  <a:pt x="1251203" y="2463575"/>
                </a:lnTo>
                <a:lnTo>
                  <a:pt x="1231191" y="2460718"/>
                </a:lnTo>
                <a:lnTo>
                  <a:pt x="1160674" y="2680034"/>
                </a:lnTo>
                <a:lnTo>
                  <a:pt x="1157815" y="2686699"/>
                </a:lnTo>
                <a:lnTo>
                  <a:pt x="1154956" y="2692730"/>
                </a:lnTo>
                <a:lnTo>
                  <a:pt x="1151145" y="2698443"/>
                </a:lnTo>
                <a:lnTo>
                  <a:pt x="1147015" y="2703521"/>
                </a:lnTo>
                <a:lnTo>
                  <a:pt x="1142568" y="2708599"/>
                </a:lnTo>
                <a:lnTo>
                  <a:pt x="1137168" y="2712725"/>
                </a:lnTo>
                <a:lnTo>
                  <a:pt x="1132086" y="2716851"/>
                </a:lnTo>
                <a:lnTo>
                  <a:pt x="1126368" y="2719708"/>
                </a:lnTo>
                <a:lnTo>
                  <a:pt x="1120333" y="2722564"/>
                </a:lnTo>
                <a:lnTo>
                  <a:pt x="1113980" y="2724786"/>
                </a:lnTo>
                <a:lnTo>
                  <a:pt x="1107627" y="2726056"/>
                </a:lnTo>
                <a:lnTo>
                  <a:pt x="1100639" y="2727325"/>
                </a:lnTo>
                <a:lnTo>
                  <a:pt x="1094286" y="2727325"/>
                </a:lnTo>
                <a:lnTo>
                  <a:pt x="1087616" y="2727008"/>
                </a:lnTo>
                <a:lnTo>
                  <a:pt x="1080628" y="2725738"/>
                </a:lnTo>
                <a:lnTo>
                  <a:pt x="1073639" y="2723834"/>
                </a:lnTo>
                <a:lnTo>
                  <a:pt x="852558" y="2652104"/>
                </a:lnTo>
                <a:lnTo>
                  <a:pt x="845888" y="2649565"/>
                </a:lnTo>
                <a:lnTo>
                  <a:pt x="839852" y="2646391"/>
                </a:lnTo>
                <a:lnTo>
                  <a:pt x="834135" y="2642900"/>
                </a:lnTo>
                <a:lnTo>
                  <a:pt x="829052" y="2638774"/>
                </a:lnTo>
                <a:lnTo>
                  <a:pt x="823970" y="2634013"/>
                </a:lnTo>
                <a:lnTo>
                  <a:pt x="819523" y="2629252"/>
                </a:lnTo>
                <a:lnTo>
                  <a:pt x="815711" y="2623856"/>
                </a:lnTo>
                <a:lnTo>
                  <a:pt x="812853" y="2618143"/>
                </a:lnTo>
                <a:lnTo>
                  <a:pt x="809676" y="2612113"/>
                </a:lnTo>
                <a:lnTo>
                  <a:pt x="807770" y="2605765"/>
                </a:lnTo>
                <a:lnTo>
                  <a:pt x="806182" y="2599417"/>
                </a:lnTo>
                <a:lnTo>
                  <a:pt x="805229" y="2592752"/>
                </a:lnTo>
                <a:lnTo>
                  <a:pt x="805229" y="2586404"/>
                </a:lnTo>
                <a:lnTo>
                  <a:pt x="805547" y="2579422"/>
                </a:lnTo>
                <a:lnTo>
                  <a:pt x="806817" y="2572439"/>
                </a:lnTo>
                <a:lnTo>
                  <a:pt x="808088" y="2565457"/>
                </a:lnTo>
                <a:lnTo>
                  <a:pt x="879876" y="2346776"/>
                </a:lnTo>
                <a:lnTo>
                  <a:pt x="861770" y="2336936"/>
                </a:lnTo>
                <a:lnTo>
                  <a:pt x="843982" y="2327097"/>
                </a:lnTo>
                <a:lnTo>
                  <a:pt x="826194" y="2316624"/>
                </a:lnTo>
                <a:lnTo>
                  <a:pt x="808723" y="2306150"/>
                </a:lnTo>
                <a:lnTo>
                  <a:pt x="791570" y="2295041"/>
                </a:lnTo>
                <a:lnTo>
                  <a:pt x="774418" y="2283932"/>
                </a:lnTo>
                <a:lnTo>
                  <a:pt x="757900" y="2272506"/>
                </a:lnTo>
                <a:lnTo>
                  <a:pt x="741065" y="2260446"/>
                </a:lnTo>
                <a:lnTo>
                  <a:pt x="724547" y="2248385"/>
                </a:lnTo>
                <a:lnTo>
                  <a:pt x="708665" y="2236007"/>
                </a:lnTo>
                <a:lnTo>
                  <a:pt x="692783" y="2223311"/>
                </a:lnTo>
                <a:lnTo>
                  <a:pt x="677218" y="2210616"/>
                </a:lnTo>
                <a:lnTo>
                  <a:pt x="661654" y="2197285"/>
                </a:lnTo>
                <a:lnTo>
                  <a:pt x="646724" y="2183638"/>
                </a:lnTo>
                <a:lnTo>
                  <a:pt x="631795" y="2169990"/>
                </a:lnTo>
                <a:lnTo>
                  <a:pt x="616866" y="2155707"/>
                </a:lnTo>
                <a:lnTo>
                  <a:pt x="430726" y="2291232"/>
                </a:lnTo>
                <a:lnTo>
                  <a:pt x="424691" y="2295041"/>
                </a:lnTo>
                <a:lnTo>
                  <a:pt x="418655" y="2298532"/>
                </a:lnTo>
                <a:lnTo>
                  <a:pt x="412303" y="2300754"/>
                </a:lnTo>
                <a:lnTo>
                  <a:pt x="405632" y="2302658"/>
                </a:lnTo>
                <a:lnTo>
                  <a:pt x="399279" y="2303611"/>
                </a:lnTo>
                <a:lnTo>
                  <a:pt x="392609" y="2304563"/>
                </a:lnTo>
                <a:lnTo>
                  <a:pt x="385938" y="2304563"/>
                </a:lnTo>
                <a:lnTo>
                  <a:pt x="379585" y="2303611"/>
                </a:lnTo>
                <a:lnTo>
                  <a:pt x="372915" y="2302341"/>
                </a:lnTo>
                <a:lnTo>
                  <a:pt x="366562" y="2300437"/>
                </a:lnTo>
                <a:lnTo>
                  <a:pt x="360527" y="2297898"/>
                </a:lnTo>
                <a:lnTo>
                  <a:pt x="354491" y="2294724"/>
                </a:lnTo>
                <a:lnTo>
                  <a:pt x="349409" y="2290915"/>
                </a:lnTo>
                <a:lnTo>
                  <a:pt x="344009" y="2286472"/>
                </a:lnTo>
                <a:lnTo>
                  <a:pt x="339244" y="2281711"/>
                </a:lnTo>
                <a:lnTo>
                  <a:pt x="334797" y="2276315"/>
                </a:lnTo>
                <a:lnTo>
                  <a:pt x="197575" y="2087786"/>
                </a:lnTo>
                <a:lnTo>
                  <a:pt x="193763" y="2082073"/>
                </a:lnTo>
                <a:lnTo>
                  <a:pt x="190904" y="2076360"/>
                </a:lnTo>
                <a:lnTo>
                  <a:pt x="188363" y="2069695"/>
                </a:lnTo>
                <a:lnTo>
                  <a:pt x="186457" y="2063347"/>
                </a:lnTo>
                <a:lnTo>
                  <a:pt x="185187" y="2056682"/>
                </a:lnTo>
                <a:lnTo>
                  <a:pt x="184869" y="2050334"/>
                </a:lnTo>
                <a:lnTo>
                  <a:pt x="184869" y="2043352"/>
                </a:lnTo>
                <a:lnTo>
                  <a:pt x="185504" y="2037004"/>
                </a:lnTo>
                <a:lnTo>
                  <a:pt x="187092" y="2030656"/>
                </a:lnTo>
                <a:lnTo>
                  <a:pt x="188998" y="2024308"/>
                </a:lnTo>
                <a:lnTo>
                  <a:pt x="191540" y="2018278"/>
                </a:lnTo>
                <a:lnTo>
                  <a:pt x="194716" y="2012247"/>
                </a:lnTo>
                <a:lnTo>
                  <a:pt x="198528" y="2006534"/>
                </a:lnTo>
                <a:lnTo>
                  <a:pt x="202657" y="2001456"/>
                </a:lnTo>
                <a:lnTo>
                  <a:pt x="207422" y="1996695"/>
                </a:lnTo>
                <a:lnTo>
                  <a:pt x="213139" y="1992252"/>
                </a:lnTo>
                <a:lnTo>
                  <a:pt x="399279" y="1857044"/>
                </a:lnTo>
                <a:lnTo>
                  <a:pt x="390703" y="1838953"/>
                </a:lnTo>
                <a:lnTo>
                  <a:pt x="382444" y="1820544"/>
                </a:lnTo>
                <a:lnTo>
                  <a:pt x="374185" y="1802453"/>
                </a:lnTo>
                <a:lnTo>
                  <a:pt x="366244" y="1783410"/>
                </a:lnTo>
                <a:lnTo>
                  <a:pt x="358621" y="1764684"/>
                </a:lnTo>
                <a:lnTo>
                  <a:pt x="351632" y="1745958"/>
                </a:lnTo>
                <a:lnTo>
                  <a:pt x="344962" y="1726914"/>
                </a:lnTo>
                <a:lnTo>
                  <a:pt x="338291" y="1707554"/>
                </a:lnTo>
                <a:lnTo>
                  <a:pt x="332256" y="1688510"/>
                </a:lnTo>
                <a:lnTo>
                  <a:pt x="326221" y="1668832"/>
                </a:lnTo>
                <a:lnTo>
                  <a:pt x="321139" y="1648837"/>
                </a:lnTo>
                <a:lnTo>
                  <a:pt x="315739" y="1629476"/>
                </a:lnTo>
                <a:lnTo>
                  <a:pt x="311292" y="1609163"/>
                </a:lnTo>
                <a:lnTo>
                  <a:pt x="306845" y="1589168"/>
                </a:lnTo>
                <a:lnTo>
                  <a:pt x="303033" y="1568855"/>
                </a:lnTo>
                <a:lnTo>
                  <a:pt x="299221" y="1548542"/>
                </a:lnTo>
                <a:lnTo>
                  <a:pt x="68929" y="1548542"/>
                </a:lnTo>
                <a:lnTo>
                  <a:pt x="61623" y="1548224"/>
                </a:lnTo>
                <a:lnTo>
                  <a:pt x="54952" y="1546955"/>
                </a:lnTo>
                <a:lnTo>
                  <a:pt x="48282" y="1545368"/>
                </a:lnTo>
                <a:lnTo>
                  <a:pt x="41929" y="1543146"/>
                </a:lnTo>
                <a:lnTo>
                  <a:pt x="36211" y="1540290"/>
                </a:lnTo>
                <a:lnTo>
                  <a:pt x="30494" y="1536798"/>
                </a:lnTo>
                <a:lnTo>
                  <a:pt x="24776" y="1532672"/>
                </a:lnTo>
                <a:lnTo>
                  <a:pt x="20329" y="1528546"/>
                </a:lnTo>
                <a:lnTo>
                  <a:pt x="15882" y="1523785"/>
                </a:lnTo>
                <a:lnTo>
                  <a:pt x="11753" y="1518390"/>
                </a:lnTo>
                <a:lnTo>
                  <a:pt x="8259" y="1512677"/>
                </a:lnTo>
                <a:lnTo>
                  <a:pt x="5400" y="1506646"/>
                </a:lnTo>
                <a:lnTo>
                  <a:pt x="2859" y="1500299"/>
                </a:lnTo>
                <a:lnTo>
                  <a:pt x="1588" y="1493951"/>
                </a:lnTo>
                <a:lnTo>
                  <a:pt x="317" y="1486651"/>
                </a:lnTo>
                <a:lnTo>
                  <a:pt x="0" y="1479986"/>
                </a:lnTo>
                <a:lnTo>
                  <a:pt x="0" y="1247022"/>
                </a:lnTo>
                <a:lnTo>
                  <a:pt x="317" y="1240357"/>
                </a:lnTo>
                <a:lnTo>
                  <a:pt x="1588" y="1233692"/>
                </a:lnTo>
                <a:lnTo>
                  <a:pt x="2859" y="1226709"/>
                </a:lnTo>
                <a:lnTo>
                  <a:pt x="5400" y="1220361"/>
                </a:lnTo>
                <a:lnTo>
                  <a:pt x="8259" y="1214966"/>
                </a:lnTo>
                <a:lnTo>
                  <a:pt x="11753" y="1209253"/>
                </a:lnTo>
                <a:lnTo>
                  <a:pt x="15882" y="1203857"/>
                </a:lnTo>
                <a:lnTo>
                  <a:pt x="20329" y="1199096"/>
                </a:lnTo>
                <a:lnTo>
                  <a:pt x="24776" y="1194653"/>
                </a:lnTo>
                <a:lnTo>
                  <a:pt x="30494" y="1190527"/>
                </a:lnTo>
                <a:lnTo>
                  <a:pt x="36211" y="1187035"/>
                </a:lnTo>
                <a:lnTo>
                  <a:pt x="41929" y="1184496"/>
                </a:lnTo>
                <a:lnTo>
                  <a:pt x="48282" y="1181640"/>
                </a:lnTo>
                <a:lnTo>
                  <a:pt x="54952" y="1180370"/>
                </a:lnTo>
                <a:lnTo>
                  <a:pt x="61623" y="1179101"/>
                </a:lnTo>
                <a:lnTo>
                  <a:pt x="68929" y="1178783"/>
                </a:lnTo>
                <a:lnTo>
                  <a:pt x="299221" y="1178783"/>
                </a:lnTo>
                <a:lnTo>
                  <a:pt x="303033" y="1158470"/>
                </a:lnTo>
                <a:lnTo>
                  <a:pt x="306845" y="1138158"/>
                </a:lnTo>
                <a:lnTo>
                  <a:pt x="311292" y="1118162"/>
                </a:lnTo>
                <a:lnTo>
                  <a:pt x="315739" y="1098167"/>
                </a:lnTo>
                <a:lnTo>
                  <a:pt x="321139" y="1078171"/>
                </a:lnTo>
                <a:lnTo>
                  <a:pt x="326221" y="1058493"/>
                </a:lnTo>
                <a:lnTo>
                  <a:pt x="332256" y="1038815"/>
                </a:lnTo>
                <a:lnTo>
                  <a:pt x="338291" y="1019454"/>
                </a:lnTo>
                <a:lnTo>
                  <a:pt x="344962" y="1000411"/>
                </a:lnTo>
                <a:lnTo>
                  <a:pt x="351632" y="981367"/>
                </a:lnTo>
                <a:lnTo>
                  <a:pt x="358621" y="962324"/>
                </a:lnTo>
                <a:lnTo>
                  <a:pt x="366244" y="943598"/>
                </a:lnTo>
                <a:lnTo>
                  <a:pt x="374185" y="924872"/>
                </a:lnTo>
                <a:lnTo>
                  <a:pt x="382444" y="906463"/>
                </a:lnTo>
                <a:lnTo>
                  <a:pt x="390703" y="888372"/>
                </a:lnTo>
                <a:lnTo>
                  <a:pt x="399279" y="870281"/>
                </a:lnTo>
                <a:lnTo>
                  <a:pt x="213139" y="734756"/>
                </a:lnTo>
                <a:lnTo>
                  <a:pt x="207422" y="730312"/>
                </a:lnTo>
                <a:lnTo>
                  <a:pt x="202657" y="725552"/>
                </a:lnTo>
                <a:lnTo>
                  <a:pt x="198528" y="720473"/>
                </a:lnTo>
                <a:lnTo>
                  <a:pt x="194716" y="715078"/>
                </a:lnTo>
                <a:lnTo>
                  <a:pt x="191540" y="709047"/>
                </a:lnTo>
                <a:lnTo>
                  <a:pt x="188998" y="703017"/>
                </a:lnTo>
                <a:lnTo>
                  <a:pt x="187092" y="696352"/>
                </a:lnTo>
                <a:lnTo>
                  <a:pt x="185504" y="690004"/>
                </a:lnTo>
                <a:lnTo>
                  <a:pt x="184869" y="683656"/>
                </a:lnTo>
                <a:lnTo>
                  <a:pt x="184869" y="676991"/>
                </a:lnTo>
                <a:lnTo>
                  <a:pt x="185187" y="670326"/>
                </a:lnTo>
                <a:lnTo>
                  <a:pt x="186457" y="663661"/>
                </a:lnTo>
                <a:lnTo>
                  <a:pt x="188363" y="657313"/>
                </a:lnTo>
                <a:lnTo>
                  <a:pt x="190904" y="650965"/>
                </a:lnTo>
                <a:lnTo>
                  <a:pt x="193763" y="644935"/>
                </a:lnTo>
                <a:lnTo>
                  <a:pt x="197575" y="638904"/>
                </a:lnTo>
                <a:lnTo>
                  <a:pt x="334797" y="451327"/>
                </a:lnTo>
                <a:lnTo>
                  <a:pt x="339244" y="445614"/>
                </a:lnTo>
                <a:lnTo>
                  <a:pt x="344009" y="440854"/>
                </a:lnTo>
                <a:lnTo>
                  <a:pt x="349409" y="436093"/>
                </a:lnTo>
                <a:lnTo>
                  <a:pt x="354491" y="432601"/>
                </a:lnTo>
                <a:lnTo>
                  <a:pt x="360527" y="429428"/>
                </a:lnTo>
                <a:lnTo>
                  <a:pt x="366562" y="426888"/>
                </a:lnTo>
                <a:lnTo>
                  <a:pt x="372915" y="424984"/>
                </a:lnTo>
                <a:lnTo>
                  <a:pt x="379585" y="423397"/>
                </a:lnTo>
                <a:lnTo>
                  <a:pt x="385938" y="422762"/>
                </a:lnTo>
                <a:lnTo>
                  <a:pt x="392609" y="422762"/>
                </a:lnTo>
                <a:lnTo>
                  <a:pt x="399279" y="423397"/>
                </a:lnTo>
                <a:lnTo>
                  <a:pt x="405632" y="424667"/>
                </a:lnTo>
                <a:lnTo>
                  <a:pt x="412303" y="426571"/>
                </a:lnTo>
                <a:lnTo>
                  <a:pt x="418655" y="428793"/>
                </a:lnTo>
                <a:lnTo>
                  <a:pt x="424691" y="431967"/>
                </a:lnTo>
                <a:lnTo>
                  <a:pt x="430726" y="435775"/>
                </a:lnTo>
                <a:lnTo>
                  <a:pt x="616866" y="571301"/>
                </a:lnTo>
                <a:lnTo>
                  <a:pt x="631795" y="557335"/>
                </a:lnTo>
                <a:lnTo>
                  <a:pt x="646724" y="543370"/>
                </a:lnTo>
                <a:lnTo>
                  <a:pt x="661654" y="529723"/>
                </a:lnTo>
                <a:lnTo>
                  <a:pt x="677218" y="516709"/>
                </a:lnTo>
                <a:lnTo>
                  <a:pt x="693101" y="503697"/>
                </a:lnTo>
                <a:lnTo>
                  <a:pt x="708665" y="491001"/>
                </a:lnTo>
                <a:lnTo>
                  <a:pt x="724547" y="478623"/>
                </a:lnTo>
                <a:lnTo>
                  <a:pt x="741065" y="466562"/>
                </a:lnTo>
                <a:lnTo>
                  <a:pt x="757900" y="454501"/>
                </a:lnTo>
                <a:lnTo>
                  <a:pt x="774418" y="443393"/>
                </a:lnTo>
                <a:lnTo>
                  <a:pt x="791570" y="431967"/>
                </a:lnTo>
                <a:lnTo>
                  <a:pt x="808723" y="421175"/>
                </a:lnTo>
                <a:lnTo>
                  <a:pt x="826194" y="410702"/>
                </a:lnTo>
                <a:lnTo>
                  <a:pt x="843982" y="400228"/>
                </a:lnTo>
                <a:lnTo>
                  <a:pt x="861770" y="390389"/>
                </a:lnTo>
                <a:lnTo>
                  <a:pt x="879876" y="380550"/>
                </a:lnTo>
                <a:lnTo>
                  <a:pt x="808088" y="161551"/>
                </a:lnTo>
                <a:lnTo>
                  <a:pt x="806182" y="154886"/>
                </a:lnTo>
                <a:lnTo>
                  <a:pt x="805547" y="147586"/>
                </a:lnTo>
                <a:lnTo>
                  <a:pt x="804911" y="140921"/>
                </a:lnTo>
                <a:lnTo>
                  <a:pt x="805229" y="134573"/>
                </a:lnTo>
                <a:lnTo>
                  <a:pt x="805864" y="127908"/>
                </a:lnTo>
                <a:lnTo>
                  <a:pt x="807770" y="121243"/>
                </a:lnTo>
                <a:lnTo>
                  <a:pt x="809676" y="114895"/>
                </a:lnTo>
                <a:lnTo>
                  <a:pt x="812217" y="109499"/>
                </a:lnTo>
                <a:lnTo>
                  <a:pt x="815711" y="103469"/>
                </a:lnTo>
                <a:lnTo>
                  <a:pt x="819523" y="98073"/>
                </a:lnTo>
                <a:lnTo>
                  <a:pt x="823970" y="93312"/>
                </a:lnTo>
                <a:lnTo>
                  <a:pt x="829052" y="88552"/>
                </a:lnTo>
                <a:lnTo>
                  <a:pt x="834135" y="84426"/>
                </a:lnTo>
                <a:lnTo>
                  <a:pt x="839852" y="80617"/>
                </a:lnTo>
                <a:lnTo>
                  <a:pt x="845888" y="77760"/>
                </a:lnTo>
                <a:lnTo>
                  <a:pt x="852558" y="75221"/>
                </a:lnTo>
                <a:lnTo>
                  <a:pt x="1073957" y="2857"/>
                </a:lnTo>
                <a:lnTo>
                  <a:pt x="1080628" y="1270"/>
                </a:lnTo>
                <a:lnTo>
                  <a:pt x="1087616" y="317"/>
                </a:lnTo>
                <a:lnTo>
                  <a:pt x="109428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KSO_Shape"/>
          <p:cNvSpPr/>
          <p:nvPr/>
        </p:nvSpPr>
        <p:spPr>
          <a:xfrm>
            <a:off x="2100240" y="4505400"/>
            <a:ext cx="816120" cy="1030320"/>
          </a:xfrm>
          <a:custGeom>
            <a:avLst/>
            <a:gdLst>
              <a:gd name="textAreaLeft" fmla="*/ 0 w 816120"/>
              <a:gd name="textAreaRight" fmla="*/ 816480 w 816120"/>
              <a:gd name="textAreaTop" fmla="*/ 0 h 1030320"/>
              <a:gd name="textAreaBottom" fmla="*/ 1030680 h 1030320"/>
            </a:gdLst>
            <a:ahLst/>
            <a:rect l="textAreaLeft" t="textAreaTop" r="textAreaRight" b="textAreaBottom"/>
            <a:pathLst>
              <a:path w="3132350" h="3959240">
                <a:moveTo>
                  <a:pt x="1005872" y="679617"/>
                </a:moveTo>
                <a:lnTo>
                  <a:pt x="1142879" y="679617"/>
                </a:lnTo>
                <a:lnTo>
                  <a:pt x="1142879" y="1011617"/>
                </a:lnTo>
                <a:lnTo>
                  <a:pt x="1474879" y="1011617"/>
                </a:lnTo>
                <a:lnTo>
                  <a:pt x="1474879" y="1148624"/>
                </a:lnTo>
                <a:lnTo>
                  <a:pt x="1142879" y="1148624"/>
                </a:lnTo>
                <a:lnTo>
                  <a:pt x="1142879" y="1480624"/>
                </a:lnTo>
                <a:lnTo>
                  <a:pt x="1005872" y="1480624"/>
                </a:lnTo>
                <a:lnTo>
                  <a:pt x="1005872" y="1148624"/>
                </a:lnTo>
                <a:lnTo>
                  <a:pt x="673872" y="1148624"/>
                </a:lnTo>
                <a:lnTo>
                  <a:pt x="673872" y="1011617"/>
                </a:lnTo>
                <a:lnTo>
                  <a:pt x="1005872" y="1011617"/>
                </a:lnTo>
                <a:lnTo>
                  <a:pt x="1005872" y="679617"/>
                </a:lnTo>
                <a:close/>
                <a:moveTo>
                  <a:pt x="1080120" y="151325"/>
                </a:moveTo>
                <a:cubicBezTo>
                  <a:pt x="567161" y="151325"/>
                  <a:pt x="151325" y="567161"/>
                  <a:pt x="151325" y="1080120"/>
                </a:cubicBezTo>
                <a:cubicBezTo>
                  <a:pt x="151325" y="1593079"/>
                  <a:pt x="567161" y="2008915"/>
                  <a:pt x="1080120" y="2008915"/>
                </a:cubicBezTo>
                <a:cubicBezTo>
                  <a:pt x="1593079" y="2008915"/>
                  <a:pt x="2008915" y="1593079"/>
                  <a:pt x="2008915" y="1080120"/>
                </a:cubicBezTo>
                <a:cubicBezTo>
                  <a:pt x="2008915" y="567161"/>
                  <a:pt x="1593079" y="151325"/>
                  <a:pt x="1080120" y="151325"/>
                </a:cubicBezTo>
                <a:close/>
                <a:moveTo>
                  <a:pt x="1080120" y="0"/>
                </a:moveTo>
                <a:cubicBezTo>
                  <a:pt x="1676654" y="0"/>
                  <a:pt x="2160240" y="483586"/>
                  <a:pt x="2160240" y="1080120"/>
                </a:cubicBezTo>
                <a:cubicBezTo>
                  <a:pt x="2160240" y="1427165"/>
                  <a:pt x="1996568" y="1735982"/>
                  <a:pt x="1741553" y="1932755"/>
                </a:cubicBezTo>
                <a:lnTo>
                  <a:pt x="1967917" y="2284217"/>
                </a:lnTo>
                <a:lnTo>
                  <a:pt x="2037145" y="2234618"/>
                </a:lnTo>
                <a:cubicBezTo>
                  <a:pt x="2913254" y="2995439"/>
                  <a:pt x="3181132" y="3578954"/>
                  <a:pt x="3125302" y="3789029"/>
                </a:cubicBezTo>
                <a:cubicBezTo>
                  <a:pt x="3106500" y="3931371"/>
                  <a:pt x="2976322" y="3969409"/>
                  <a:pt x="2895645" y="3957062"/>
                </a:cubicBezTo>
                <a:cubicBezTo>
                  <a:pt x="2363446" y="3830214"/>
                  <a:pt x="1961795" y="2830323"/>
                  <a:pt x="1784689" y="2415489"/>
                </a:cubicBezTo>
                <a:lnTo>
                  <a:pt x="1850702" y="2368194"/>
                </a:lnTo>
                <a:lnTo>
                  <a:pt x="1622163" y="2013355"/>
                </a:lnTo>
                <a:cubicBezTo>
                  <a:pt x="1463260" y="2107083"/>
                  <a:pt x="1277898" y="2160240"/>
                  <a:pt x="1080120" y="2160240"/>
                </a:cubicBezTo>
                <a:cubicBezTo>
                  <a:pt x="483586" y="2160240"/>
                  <a:pt x="0" y="1676654"/>
                  <a:pt x="0" y="1080120"/>
                </a:cubicBezTo>
                <a:cubicBezTo>
                  <a:pt x="0" y="483586"/>
                  <a:pt x="483586" y="0"/>
                  <a:pt x="10801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矩形 33"/>
          <p:cNvSpPr/>
          <p:nvPr/>
        </p:nvSpPr>
        <p:spPr>
          <a:xfrm>
            <a:off x="4491000" y="1665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02" name="TextBox 4"/>
          <p:cNvSpPr/>
          <p:nvPr/>
        </p:nvSpPr>
        <p:spPr>
          <a:xfrm>
            <a:off x="4429080" y="115560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ea typeface="微软雅黑"/>
              </a:rPr>
              <a:t>点击添加标题</a:t>
            </a:r>
            <a:endParaRPr b="0" lang="en-US" sz="1800" spc="-1" strike="noStrike">
              <a:solidFill>
                <a:srgbClr val="000000"/>
              </a:solidFill>
              <a:latin typeface="Arial"/>
            </a:endParaRPr>
          </a:p>
        </p:txBody>
      </p:sp>
      <p:sp>
        <p:nvSpPr>
          <p:cNvPr id="203" name="矩形 35"/>
          <p:cNvSpPr/>
          <p:nvPr/>
        </p:nvSpPr>
        <p:spPr>
          <a:xfrm>
            <a:off x="4491000" y="32432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04" name="TextBox 4"/>
          <p:cNvSpPr/>
          <p:nvPr/>
        </p:nvSpPr>
        <p:spPr>
          <a:xfrm>
            <a:off x="4429080" y="2733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ea typeface="微软雅黑"/>
              </a:rPr>
              <a:t>点击添加标题</a:t>
            </a:r>
            <a:endParaRPr b="0" lang="en-US" sz="1800" spc="-1" strike="noStrike">
              <a:solidFill>
                <a:srgbClr val="000000"/>
              </a:solidFill>
              <a:latin typeface="Arial"/>
            </a:endParaRPr>
          </a:p>
        </p:txBody>
      </p:sp>
      <p:sp>
        <p:nvSpPr>
          <p:cNvPr id="205" name="矩形 37"/>
          <p:cNvSpPr/>
          <p:nvPr/>
        </p:nvSpPr>
        <p:spPr>
          <a:xfrm>
            <a:off x="4552920" y="4829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06" name="TextBox 4"/>
          <p:cNvSpPr/>
          <p:nvPr/>
        </p:nvSpPr>
        <p:spPr>
          <a:xfrm>
            <a:off x="4491000" y="4319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ea typeface="微软雅黑"/>
              </a:rPr>
              <a:t>点击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2"/>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8" name="组合 53"/>
          <p:cNvGrpSpPr/>
          <p:nvPr/>
        </p:nvGrpSpPr>
        <p:grpSpPr>
          <a:xfrm>
            <a:off x="6205680" y="2332080"/>
            <a:ext cx="777600" cy="776160"/>
            <a:chOff x="6205680" y="2332080"/>
            <a:chExt cx="777600" cy="776160"/>
          </a:xfrm>
        </p:grpSpPr>
        <p:sp>
          <p:nvSpPr>
            <p:cNvPr id="209" name="矩形 15"/>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直接连接符 16"/>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直接连接符 17"/>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2" name="组合 57"/>
          <p:cNvGrpSpPr/>
          <p:nvPr/>
        </p:nvGrpSpPr>
        <p:grpSpPr>
          <a:xfrm>
            <a:off x="7129440" y="2332080"/>
            <a:ext cx="776160" cy="776160"/>
            <a:chOff x="7129440" y="2332080"/>
            <a:chExt cx="776160" cy="776160"/>
          </a:xfrm>
        </p:grpSpPr>
        <p:sp>
          <p:nvSpPr>
            <p:cNvPr id="213" name="矩形 19"/>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直接连接符 20"/>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直接连接符 21"/>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组合 61"/>
          <p:cNvGrpSpPr/>
          <p:nvPr/>
        </p:nvGrpSpPr>
        <p:grpSpPr>
          <a:xfrm>
            <a:off x="8053560" y="2332080"/>
            <a:ext cx="776160" cy="776160"/>
            <a:chOff x="8053560" y="2332080"/>
            <a:chExt cx="776160" cy="776160"/>
          </a:xfrm>
        </p:grpSpPr>
        <p:sp>
          <p:nvSpPr>
            <p:cNvPr id="217" name="矩形 23"/>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直接连接符 24"/>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直接连接符 25"/>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0" name="组合 65"/>
          <p:cNvGrpSpPr/>
          <p:nvPr/>
        </p:nvGrpSpPr>
        <p:grpSpPr>
          <a:xfrm>
            <a:off x="8975880" y="2332080"/>
            <a:ext cx="777600" cy="776160"/>
            <a:chOff x="8975880" y="2332080"/>
            <a:chExt cx="777600" cy="776160"/>
          </a:xfrm>
        </p:grpSpPr>
        <p:sp>
          <p:nvSpPr>
            <p:cNvPr id="221" name="矩形 27"/>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直接连接符 28"/>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直接连接符 29"/>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4" name="文本框 30"/>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225" name="文本框 31"/>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三</a:t>
            </a:r>
            <a:endParaRPr b="0" lang="en-US" sz="4800" spc="-1" strike="noStrike">
              <a:solidFill>
                <a:srgbClr val="000000"/>
              </a:solidFill>
              <a:latin typeface="Arial"/>
            </a:endParaRPr>
          </a:p>
        </p:txBody>
      </p:sp>
      <p:sp>
        <p:nvSpPr>
          <p:cNvPr id="226" name="文本框 32"/>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227" name="文本框 33"/>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228" name="文本框 34"/>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229" name="文本框 35"/>
          <p:cNvSpPr/>
          <p:nvPr/>
        </p:nvSpPr>
        <p:spPr>
          <a:xfrm>
            <a:off x="722628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san</a:t>
            </a:r>
            <a:endParaRPr b="0" lang="en-US" sz="2000" spc="-1" strike="noStrike">
              <a:solidFill>
                <a:srgbClr val="000000"/>
              </a:solidFill>
              <a:latin typeface="Arial"/>
            </a:endParaRPr>
          </a:p>
        </p:txBody>
      </p:sp>
      <p:sp>
        <p:nvSpPr>
          <p:cNvPr id="230" name="文本框 36"/>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231" name="文本框 37"/>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232" name="文本框 38"/>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等腰三角形 7"/>
          <p:cNvSpPr/>
          <p:nvPr/>
        </p:nvSpPr>
        <p:spPr>
          <a:xfrm flipH="1" rot="5400000">
            <a:off x="1859040" y="2622960"/>
            <a:ext cx="327240" cy="268200"/>
          </a:xfrm>
          <a:custGeom>
            <a:avLst/>
            <a:gdLst>
              <a:gd name="textAreaLeft" fmla="*/ -360 w 327240"/>
              <a:gd name="textAreaRight" fmla="*/ 327240 w 327240"/>
              <a:gd name="textAreaTop" fmla="*/ 0 h 268200"/>
              <a:gd name="textAreaBottom" fmla="*/ 268560 h 26820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36" name="图片 10" descr=""/>
          <p:cNvPicPr/>
          <p:nvPr/>
        </p:nvPicPr>
        <p:blipFill>
          <a:blip r:embed="rId1">
            <a:biLevel thresh="50000"/>
          </a:blip>
          <a:srcRect l="88038" t="22716" r="2960" b="25212"/>
          <a:stretch/>
        </p:blipFill>
        <p:spPr>
          <a:xfrm>
            <a:off x="1892160" y="1816200"/>
            <a:ext cx="104760" cy="3898800"/>
          </a:xfrm>
          <a:prstGeom prst="rect">
            <a:avLst/>
          </a:prstGeom>
          <a:ln w="0">
            <a:noFill/>
          </a:ln>
        </p:spPr>
      </p:pic>
      <p:sp>
        <p:nvSpPr>
          <p:cNvPr id="237" name="直角三角形 6"/>
          <p:cNvSpPr/>
          <p:nvPr/>
        </p:nvSpPr>
        <p:spPr>
          <a:xfrm flipH="1">
            <a:off x="1655640" y="2736720"/>
            <a:ext cx="503280" cy="324000"/>
          </a:xfrm>
          <a:prstGeom prst="rtTriangle">
            <a:avLst/>
          </a:prstGeom>
          <a:solidFill>
            <a:srgbClr val="1d22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平行四边形 15"/>
          <p:cNvSpPr/>
          <p:nvPr/>
        </p:nvSpPr>
        <p:spPr>
          <a:xfrm>
            <a:off x="1655640" y="3060720"/>
            <a:ext cx="1727280" cy="1165320"/>
          </a:xfrm>
          <a:custGeom>
            <a:avLst/>
            <a:gdLst>
              <a:gd name="textAreaLeft" fmla="*/ 0 w 1727280"/>
              <a:gd name="textAreaRight" fmla="*/ 1727640 w 1727280"/>
              <a:gd name="textAreaTop" fmla="*/ 0 h 1165320"/>
              <a:gd name="textAreaBottom" fmla="*/ 1165680 h 1165320"/>
            </a:gdLst>
            <a:ahLst/>
            <a:rect l="textAreaLeft" t="textAreaTop" r="textAreaRight" b="textAreaBottom"/>
            <a:pathLst>
              <a:path w="1872208" h="2088232">
                <a:moveTo>
                  <a:pt x="0" y="0"/>
                </a:moveTo>
                <a:lnTo>
                  <a:pt x="1872208" y="0"/>
                </a:lnTo>
                <a:lnTo>
                  <a:pt x="1350150" y="2088232"/>
                </a:lnTo>
                <a:lnTo>
                  <a:pt x="0" y="2088232"/>
                </a:lnTo>
                <a:lnTo>
                  <a:pt x="0" y="0"/>
                </a:lnTo>
                <a:close/>
              </a:path>
            </a:pathLst>
          </a:custGeom>
          <a:solidFill>
            <a:srgbClr val="2b3360"/>
          </a:solidFill>
          <a:ln w="0">
            <a:noFill/>
          </a:ln>
        </p:spPr>
        <p:style>
          <a:lnRef idx="0"/>
          <a:fillRef idx="0"/>
          <a:effectRef idx="0"/>
          <a:fontRef idx="minor"/>
        </p:style>
        <p:txBody>
          <a:bodyPr lIns="0" rIns="324000" tIns="0" bIns="0" anchor="ctr">
            <a:noAutofit/>
          </a:bodyPr>
          <a:p>
            <a:endParaRPr b="0" lang="en-US" sz="2400" spc="-1" strike="noStrike">
              <a:solidFill>
                <a:srgbClr val="000000"/>
              </a:solidFill>
              <a:latin typeface="Arial"/>
            </a:endParaRPr>
          </a:p>
        </p:txBody>
      </p:sp>
      <p:sp>
        <p:nvSpPr>
          <p:cNvPr id="239" name="等腰三角形 7"/>
          <p:cNvSpPr/>
          <p:nvPr/>
        </p:nvSpPr>
        <p:spPr>
          <a:xfrm flipH="1" rot="5400000">
            <a:off x="5172120" y="2622960"/>
            <a:ext cx="327240" cy="268200"/>
          </a:xfrm>
          <a:custGeom>
            <a:avLst/>
            <a:gdLst>
              <a:gd name="textAreaLeft" fmla="*/ -360 w 327240"/>
              <a:gd name="textAreaRight" fmla="*/ 327240 w 327240"/>
              <a:gd name="textAreaTop" fmla="*/ 0 h 268200"/>
              <a:gd name="textAreaBottom" fmla="*/ 268560 h 26820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510b1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0" name="图片 34" descr=""/>
          <p:cNvPicPr/>
          <p:nvPr/>
        </p:nvPicPr>
        <p:blipFill>
          <a:blip r:embed="rId2">
            <a:biLevel thresh="50000"/>
          </a:blip>
          <a:srcRect l="88038" t="22716" r="2960" b="25212"/>
          <a:stretch/>
        </p:blipFill>
        <p:spPr>
          <a:xfrm>
            <a:off x="5205240" y="1816200"/>
            <a:ext cx="103320" cy="3898800"/>
          </a:xfrm>
          <a:prstGeom prst="rect">
            <a:avLst/>
          </a:prstGeom>
          <a:ln w="0">
            <a:noFill/>
          </a:ln>
        </p:spPr>
      </p:pic>
      <p:sp>
        <p:nvSpPr>
          <p:cNvPr id="241" name="直角三角形 35"/>
          <p:cNvSpPr/>
          <p:nvPr/>
        </p:nvSpPr>
        <p:spPr>
          <a:xfrm flipH="1">
            <a:off x="4968000" y="2736720"/>
            <a:ext cx="505080" cy="324000"/>
          </a:xfrm>
          <a:prstGeom prst="rtTriangle">
            <a:avLst/>
          </a:prstGeom>
          <a:solidFill>
            <a:srgbClr val="9a1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平行四边形 15"/>
          <p:cNvSpPr/>
          <p:nvPr/>
        </p:nvSpPr>
        <p:spPr>
          <a:xfrm>
            <a:off x="4968720" y="3060720"/>
            <a:ext cx="1727280" cy="1165320"/>
          </a:xfrm>
          <a:custGeom>
            <a:avLst/>
            <a:gdLst>
              <a:gd name="textAreaLeft" fmla="*/ 0 w 1727280"/>
              <a:gd name="textAreaRight" fmla="*/ 1727640 w 1727280"/>
              <a:gd name="textAreaTop" fmla="*/ 0 h 1165320"/>
              <a:gd name="textAreaBottom" fmla="*/ 1165680 h 1165320"/>
            </a:gdLst>
            <a:ahLst/>
            <a:rect l="textAreaLeft" t="textAreaTop" r="textAreaRight" b="textAreaBottom"/>
            <a:pathLst>
              <a:path w="1872208" h="2088232">
                <a:moveTo>
                  <a:pt x="0" y="0"/>
                </a:moveTo>
                <a:lnTo>
                  <a:pt x="1872208" y="0"/>
                </a:lnTo>
                <a:lnTo>
                  <a:pt x="1350150" y="2088232"/>
                </a:lnTo>
                <a:lnTo>
                  <a:pt x="0" y="2088232"/>
                </a:lnTo>
                <a:lnTo>
                  <a:pt x="0" y="0"/>
                </a:lnTo>
                <a:close/>
              </a:path>
            </a:pathLst>
          </a:custGeom>
          <a:solidFill>
            <a:srgbClr val="c51c29"/>
          </a:solidFill>
          <a:ln w="0">
            <a:noFill/>
          </a:ln>
        </p:spPr>
        <p:style>
          <a:lnRef idx="0"/>
          <a:fillRef idx="0"/>
          <a:effectRef idx="0"/>
          <a:fontRef idx="minor"/>
        </p:style>
        <p:txBody>
          <a:bodyPr lIns="0" rIns="324000" tIns="0" bIns="0" anchor="ctr">
            <a:noAutofit/>
          </a:bodyPr>
          <a:p>
            <a:endParaRPr b="0" lang="en-US" sz="2400" spc="-1" strike="noStrike">
              <a:solidFill>
                <a:srgbClr val="000000"/>
              </a:solidFill>
              <a:latin typeface="Arial"/>
            </a:endParaRPr>
          </a:p>
        </p:txBody>
      </p:sp>
      <p:sp>
        <p:nvSpPr>
          <p:cNvPr id="243" name="矩形 12"/>
          <p:cNvSpPr/>
          <p:nvPr/>
        </p:nvSpPr>
        <p:spPr>
          <a:xfrm>
            <a:off x="2033640" y="448452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244" name="矩形 13"/>
          <p:cNvSpPr/>
          <p:nvPr/>
        </p:nvSpPr>
        <p:spPr>
          <a:xfrm>
            <a:off x="5283360" y="4446720"/>
            <a:ext cx="19285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p:txBody>
      </p:sp>
      <p:sp>
        <p:nvSpPr>
          <p:cNvPr id="245" name="等腰三角形 7"/>
          <p:cNvSpPr/>
          <p:nvPr/>
        </p:nvSpPr>
        <p:spPr>
          <a:xfrm flipH="1" rot="5400000">
            <a:off x="8601120" y="2622960"/>
            <a:ext cx="327240" cy="268200"/>
          </a:xfrm>
          <a:custGeom>
            <a:avLst/>
            <a:gdLst>
              <a:gd name="textAreaLeft" fmla="*/ -360 w 327240"/>
              <a:gd name="textAreaRight" fmla="*/ 327240 w 327240"/>
              <a:gd name="textAreaTop" fmla="*/ 0 h 268200"/>
              <a:gd name="textAreaBottom" fmla="*/ 268560 h 26820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0806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6" name="图片 34" descr=""/>
          <p:cNvPicPr/>
          <p:nvPr/>
        </p:nvPicPr>
        <p:blipFill>
          <a:blip r:embed="rId3">
            <a:biLevel thresh="50000"/>
          </a:blip>
          <a:srcRect l="88038" t="22716" r="2960" b="25212"/>
          <a:stretch/>
        </p:blipFill>
        <p:spPr>
          <a:xfrm>
            <a:off x="8634240" y="1816200"/>
            <a:ext cx="103320" cy="3898800"/>
          </a:xfrm>
          <a:prstGeom prst="rect">
            <a:avLst/>
          </a:prstGeom>
          <a:ln w="0">
            <a:noFill/>
          </a:ln>
        </p:spPr>
      </p:pic>
      <p:sp>
        <p:nvSpPr>
          <p:cNvPr id="247" name="直角三角形 16"/>
          <p:cNvSpPr/>
          <p:nvPr/>
        </p:nvSpPr>
        <p:spPr>
          <a:xfrm flipH="1">
            <a:off x="8397720" y="2736720"/>
            <a:ext cx="503280" cy="324000"/>
          </a:xfrm>
          <a:prstGeom prst="rtTriangle">
            <a:avLst/>
          </a:prstGeom>
          <a:solidFill>
            <a:srgbClr val="1d22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平行四边形 15"/>
          <p:cNvSpPr/>
          <p:nvPr/>
        </p:nvSpPr>
        <p:spPr>
          <a:xfrm>
            <a:off x="8397720" y="3060720"/>
            <a:ext cx="1727280" cy="1165320"/>
          </a:xfrm>
          <a:custGeom>
            <a:avLst/>
            <a:gdLst>
              <a:gd name="textAreaLeft" fmla="*/ 0 w 1727280"/>
              <a:gd name="textAreaRight" fmla="*/ 1727640 w 1727280"/>
              <a:gd name="textAreaTop" fmla="*/ 0 h 1165320"/>
              <a:gd name="textAreaBottom" fmla="*/ 1165680 h 1165320"/>
            </a:gdLst>
            <a:ahLst/>
            <a:rect l="textAreaLeft" t="textAreaTop" r="textAreaRight" b="textAreaBottom"/>
            <a:pathLst>
              <a:path w="1872208" h="2088232">
                <a:moveTo>
                  <a:pt x="0" y="0"/>
                </a:moveTo>
                <a:lnTo>
                  <a:pt x="1872208" y="0"/>
                </a:lnTo>
                <a:lnTo>
                  <a:pt x="1350150" y="2088232"/>
                </a:lnTo>
                <a:lnTo>
                  <a:pt x="0" y="2088232"/>
                </a:lnTo>
                <a:lnTo>
                  <a:pt x="0" y="0"/>
                </a:lnTo>
                <a:close/>
              </a:path>
            </a:pathLst>
          </a:custGeom>
          <a:solidFill>
            <a:srgbClr val="2b3360"/>
          </a:solidFill>
          <a:ln w="0">
            <a:noFill/>
          </a:ln>
        </p:spPr>
        <p:style>
          <a:lnRef idx="0"/>
          <a:fillRef idx="0"/>
          <a:effectRef idx="0"/>
          <a:fontRef idx="minor"/>
        </p:style>
        <p:txBody>
          <a:bodyPr lIns="0" rIns="324000" tIns="0" bIns="0" anchor="ctr">
            <a:noAutofit/>
          </a:bodyPr>
          <a:p>
            <a:endParaRPr b="0" lang="en-US" sz="2400" spc="-1" strike="noStrike">
              <a:solidFill>
                <a:srgbClr val="000000"/>
              </a:solidFill>
              <a:latin typeface="Arial"/>
            </a:endParaRPr>
          </a:p>
        </p:txBody>
      </p:sp>
      <p:sp>
        <p:nvSpPr>
          <p:cNvPr id="249" name="矩形 18"/>
          <p:cNvSpPr/>
          <p:nvPr/>
        </p:nvSpPr>
        <p:spPr>
          <a:xfrm>
            <a:off x="8712360" y="4446720"/>
            <a:ext cx="19285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250" name="TextBox 4"/>
          <p:cNvSpPr/>
          <p:nvPr/>
        </p:nvSpPr>
        <p:spPr>
          <a:xfrm>
            <a:off x="1644480" y="3241800"/>
            <a:ext cx="1479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sp>
        <p:nvSpPr>
          <p:cNvPr id="251" name="TextBox 4"/>
          <p:cNvSpPr/>
          <p:nvPr/>
        </p:nvSpPr>
        <p:spPr>
          <a:xfrm>
            <a:off x="4968720" y="3241800"/>
            <a:ext cx="1481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sp>
        <p:nvSpPr>
          <p:cNvPr id="252" name="TextBox 4"/>
          <p:cNvSpPr/>
          <p:nvPr/>
        </p:nvSpPr>
        <p:spPr>
          <a:xfrm>
            <a:off x="8397720" y="3241800"/>
            <a:ext cx="1479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grpSp>
        <p:nvGrpSpPr>
          <p:cNvPr id="253" name="组合 22"/>
          <p:cNvGrpSpPr/>
          <p:nvPr/>
        </p:nvGrpSpPr>
        <p:grpSpPr>
          <a:xfrm>
            <a:off x="1550880" y="1157400"/>
            <a:ext cx="658800" cy="658800"/>
            <a:chOff x="1550880" y="1157400"/>
            <a:chExt cx="658800" cy="658800"/>
          </a:xfrm>
        </p:grpSpPr>
        <p:sp>
          <p:nvSpPr>
            <p:cNvPr id="254" name="椭圆 23"/>
            <p:cNvSpPr/>
            <p:nvPr/>
          </p:nvSpPr>
          <p:spPr>
            <a:xfrm>
              <a:off x="1550880" y="1157400"/>
              <a:ext cx="658800" cy="65880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矩形 24"/>
            <p:cNvSpPr/>
            <p:nvPr/>
          </p:nvSpPr>
          <p:spPr>
            <a:xfrm>
              <a:off x="1557000" y="12189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01</a:t>
              </a:r>
              <a:endParaRPr b="0" lang="en-US" sz="3200" spc="-1" strike="noStrike">
                <a:solidFill>
                  <a:srgbClr val="000000"/>
                </a:solidFill>
                <a:latin typeface="Arial"/>
              </a:endParaRPr>
            </a:p>
          </p:txBody>
        </p:sp>
      </p:grpSp>
      <p:grpSp>
        <p:nvGrpSpPr>
          <p:cNvPr id="256" name="组合 25"/>
          <p:cNvGrpSpPr/>
          <p:nvPr/>
        </p:nvGrpSpPr>
        <p:grpSpPr>
          <a:xfrm>
            <a:off x="4890960" y="1157400"/>
            <a:ext cx="658800" cy="658800"/>
            <a:chOff x="4890960" y="1157400"/>
            <a:chExt cx="658800" cy="658800"/>
          </a:xfrm>
        </p:grpSpPr>
        <p:sp>
          <p:nvSpPr>
            <p:cNvPr id="257" name="椭圆 26"/>
            <p:cNvSpPr/>
            <p:nvPr/>
          </p:nvSpPr>
          <p:spPr>
            <a:xfrm>
              <a:off x="4890960" y="1157400"/>
              <a:ext cx="658800" cy="65880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矩形 27"/>
            <p:cNvSpPr/>
            <p:nvPr/>
          </p:nvSpPr>
          <p:spPr>
            <a:xfrm>
              <a:off x="4897440" y="12189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02</a:t>
              </a:r>
              <a:endParaRPr b="0" lang="en-US" sz="3200" spc="-1" strike="noStrike">
                <a:solidFill>
                  <a:srgbClr val="000000"/>
                </a:solidFill>
                <a:latin typeface="Arial"/>
              </a:endParaRPr>
            </a:p>
          </p:txBody>
        </p:sp>
      </p:grpSp>
      <p:grpSp>
        <p:nvGrpSpPr>
          <p:cNvPr id="259" name="组合 28"/>
          <p:cNvGrpSpPr/>
          <p:nvPr/>
        </p:nvGrpSpPr>
        <p:grpSpPr>
          <a:xfrm>
            <a:off x="8341920" y="1141560"/>
            <a:ext cx="659160" cy="658800"/>
            <a:chOff x="8341920" y="1141560"/>
            <a:chExt cx="659160" cy="658800"/>
          </a:xfrm>
        </p:grpSpPr>
        <p:sp>
          <p:nvSpPr>
            <p:cNvPr id="260" name="椭圆 29"/>
            <p:cNvSpPr/>
            <p:nvPr/>
          </p:nvSpPr>
          <p:spPr>
            <a:xfrm>
              <a:off x="8342280" y="1141560"/>
              <a:ext cx="658800" cy="65880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矩形 30"/>
            <p:cNvSpPr/>
            <p:nvPr/>
          </p:nvSpPr>
          <p:spPr>
            <a:xfrm>
              <a:off x="8341920" y="118188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03</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椭圆 2"/>
          <p:cNvSpPr/>
          <p:nvPr/>
        </p:nvSpPr>
        <p:spPr>
          <a:xfrm>
            <a:off x="1012680" y="3013200"/>
            <a:ext cx="760680" cy="76032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椭圆 3"/>
          <p:cNvSpPr/>
          <p:nvPr/>
        </p:nvSpPr>
        <p:spPr>
          <a:xfrm>
            <a:off x="1012680" y="4392720"/>
            <a:ext cx="760680" cy="75888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椭圆 4"/>
          <p:cNvSpPr/>
          <p:nvPr/>
        </p:nvSpPr>
        <p:spPr>
          <a:xfrm>
            <a:off x="1012680" y="1581120"/>
            <a:ext cx="760680" cy="75888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KSO_Shape"/>
          <p:cNvSpPr/>
          <p:nvPr/>
        </p:nvSpPr>
        <p:spPr>
          <a:xfrm>
            <a:off x="1081080" y="1673280"/>
            <a:ext cx="581040" cy="581040"/>
          </a:xfrm>
          <a:custGeom>
            <a:avLst/>
            <a:gdLst>
              <a:gd name="textAreaLeft" fmla="*/ 0 w 581040"/>
              <a:gd name="textAreaRight" fmla="*/ 581400 w 581040"/>
              <a:gd name="textAreaTop" fmla="*/ 0 h 581040"/>
              <a:gd name="textAreaBottom" fmla="*/ 581400 h 581040"/>
            </a:gdLst>
            <a:ahLst/>
            <a:rect l="textAreaLeft" t="textAreaTop" r="textAreaRight" b="textAreaBottom"/>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KSO_Shape"/>
          <p:cNvSpPr/>
          <p:nvPr/>
        </p:nvSpPr>
        <p:spPr>
          <a:xfrm>
            <a:off x="1098720" y="3117960"/>
            <a:ext cx="545760" cy="557280"/>
          </a:xfrm>
          <a:custGeom>
            <a:avLst/>
            <a:gdLst>
              <a:gd name="textAreaLeft" fmla="*/ 0 w 545760"/>
              <a:gd name="textAreaRight" fmla="*/ 546120 w 545760"/>
              <a:gd name="textAreaTop" fmla="*/ 0 h 557280"/>
              <a:gd name="textAreaBottom" fmla="*/ 557640 h 557280"/>
            </a:gdLst>
            <a:ahLst/>
            <a:rect l="textAreaLeft" t="textAreaTop" r="textAreaRight" b="textAreaBottom"/>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KSO_Shape"/>
          <p:cNvSpPr/>
          <p:nvPr/>
        </p:nvSpPr>
        <p:spPr>
          <a:xfrm>
            <a:off x="1189080" y="4473720"/>
            <a:ext cx="363600" cy="604800"/>
          </a:xfrm>
          <a:custGeom>
            <a:avLst/>
            <a:gdLst>
              <a:gd name="textAreaLeft" fmla="*/ 0 w 363600"/>
              <a:gd name="textAreaRight" fmla="*/ 363600 w 363600"/>
              <a:gd name="textAreaTop" fmla="*/ 0 h 604800"/>
              <a:gd name="textAreaBottom" fmla="*/ 605160 h 604800"/>
            </a:gdLst>
            <a:ahLst/>
            <a:rect l="textAreaLeft" t="textAreaTop" r="textAreaRight" b="textAreaBottom"/>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186840" bIns="558360" anchor="ctr">
            <a:noAutofit/>
          </a:bodyPr>
          <a:p>
            <a:endParaRPr b="0" lang="en-US" sz="2400" spc="-1" strike="noStrike">
              <a:solidFill>
                <a:srgbClr val="000000"/>
              </a:solidFill>
              <a:latin typeface="Arial"/>
            </a:endParaRPr>
          </a:p>
        </p:txBody>
      </p:sp>
      <p:sp>
        <p:nvSpPr>
          <p:cNvPr id="270" name="矩形 9"/>
          <p:cNvSpPr/>
          <p:nvPr/>
        </p:nvSpPr>
        <p:spPr>
          <a:xfrm>
            <a:off x="2235240" y="1943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71" name="TextBox 4"/>
          <p:cNvSpPr/>
          <p:nvPr/>
        </p:nvSpPr>
        <p:spPr>
          <a:xfrm>
            <a:off x="2173320" y="14349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272" name="矩形 11"/>
          <p:cNvSpPr/>
          <p:nvPr/>
        </p:nvSpPr>
        <p:spPr>
          <a:xfrm>
            <a:off x="2235240" y="339732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73" name="TextBox 4"/>
          <p:cNvSpPr/>
          <p:nvPr/>
        </p:nvSpPr>
        <p:spPr>
          <a:xfrm>
            <a:off x="2173320" y="28861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51c29"/>
                </a:solidFill>
                <a:latin typeface="Franklin Gothic Book"/>
                <a:ea typeface="微软雅黑"/>
              </a:rPr>
              <a:t>点击添加标题</a:t>
            </a:r>
            <a:endParaRPr b="0" lang="en-US" sz="1800" spc="-1" strike="noStrike">
              <a:solidFill>
                <a:srgbClr val="000000"/>
              </a:solidFill>
              <a:latin typeface="Arial"/>
            </a:endParaRPr>
          </a:p>
        </p:txBody>
      </p:sp>
      <p:sp>
        <p:nvSpPr>
          <p:cNvPr id="274" name="矩形 13"/>
          <p:cNvSpPr/>
          <p:nvPr/>
        </p:nvSpPr>
        <p:spPr>
          <a:xfrm>
            <a:off x="2235240" y="482616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75" name="TextBox 4"/>
          <p:cNvSpPr/>
          <p:nvPr/>
        </p:nvSpPr>
        <p:spPr>
          <a:xfrm>
            <a:off x="2173320" y="4317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pic>
        <p:nvPicPr>
          <p:cNvPr id="276" name="图片 15" descr=""/>
          <p:cNvPicPr/>
          <p:nvPr/>
        </p:nvPicPr>
        <p:blipFill>
          <a:blip r:embed="rId1"/>
          <a:srcRect l="0" t="0" r="798" b="4873"/>
          <a:stretch/>
        </p:blipFill>
        <p:spPr>
          <a:xfrm>
            <a:off x="7383600" y="2212920"/>
            <a:ext cx="3930480" cy="247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任意多边形 31"/>
          <p:cNvSpPr/>
          <p:nvPr/>
        </p:nvSpPr>
        <p:spPr>
          <a:xfrm flipH="1">
            <a:off x="850320" y="2422440"/>
            <a:ext cx="10356840" cy="44640"/>
          </a:xfrm>
          <a:custGeom>
            <a:avLst/>
            <a:gdLst>
              <a:gd name="textAreaLeft" fmla="*/ -360 w 10356840"/>
              <a:gd name="textAreaRight" fmla="*/ 10356840 w 10356840"/>
              <a:gd name="textAreaTop" fmla="*/ 0 h 44640"/>
              <a:gd name="textAreaBottom" fmla="*/ 45000 h 44640"/>
            </a:gdLst>
            <a:ahLst/>
            <a:rect l="textAreaLeft" t="textAreaTop" r="textAreaRight" b="textAreaBottom"/>
            <a:pathLst>
              <a:path w="7977051" h="31619">
                <a:moveTo>
                  <a:pt x="7977051" y="0"/>
                </a:moveTo>
                <a:lnTo>
                  <a:pt x="0" y="0"/>
                </a:lnTo>
                <a:lnTo>
                  <a:pt x="0" y="31619"/>
                </a:lnTo>
                <a:lnTo>
                  <a:pt x="7977051" y="31619"/>
                </a:lnTo>
                <a:lnTo>
                  <a:pt x="7977051" y="15810"/>
                </a:lnTo>
                <a:lnTo>
                  <a:pt x="7977051" y="0"/>
                </a:lnTo>
                <a:close/>
              </a:path>
            </a:pathLst>
          </a:custGeom>
          <a:solidFill>
            <a:srgbClr val="a5a5a5"/>
          </a:solidFill>
          <a:ln w="12600">
            <a:solidFill>
              <a:srgbClr val="ffffff"/>
            </a:solidFill>
            <a:bevel/>
          </a:ln>
        </p:spPr>
        <p:style>
          <a:lnRef idx="0"/>
          <a:fillRef idx="0"/>
          <a:effectRef idx="0"/>
          <a:fontRef idx="minor"/>
        </p:style>
        <p:txBody>
          <a:bodyPr lIns="90000" rIns="90000" tIns="-1800" bIns="-1800" anchor="ctr">
            <a:noAutofit/>
          </a:bodyPr>
          <a:p>
            <a:endParaRPr b="0" lang="en-US" sz="2400" spc="-1" strike="noStrike">
              <a:solidFill>
                <a:srgbClr val="000000"/>
              </a:solidFill>
              <a:latin typeface="Arial"/>
            </a:endParaRPr>
          </a:p>
        </p:txBody>
      </p:sp>
      <p:sp>
        <p:nvSpPr>
          <p:cNvPr id="280" name="Straight Connector 32"/>
          <p:cNvSpPr/>
          <p:nvPr/>
        </p:nvSpPr>
        <p:spPr>
          <a:xfrm flipV="1">
            <a:off x="2647800" y="2436480"/>
            <a:ext cx="1800" cy="601560"/>
          </a:xfrm>
          <a:prstGeom prst="line">
            <a:avLst/>
          </a:prstGeom>
          <a:ln w="19080">
            <a:solidFill>
              <a:srgbClr val="c51c29"/>
            </a:solidFill>
            <a:bevel/>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32"/>
          <p:cNvSpPr/>
          <p:nvPr/>
        </p:nvSpPr>
        <p:spPr>
          <a:xfrm flipV="1">
            <a:off x="4937040" y="2436480"/>
            <a:ext cx="1800" cy="601560"/>
          </a:xfrm>
          <a:prstGeom prst="line">
            <a:avLst/>
          </a:prstGeom>
          <a:ln w="19080">
            <a:solidFill>
              <a:srgbClr val="2b3360"/>
            </a:solidFill>
            <a:bevel/>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32"/>
          <p:cNvSpPr/>
          <p:nvPr/>
        </p:nvSpPr>
        <p:spPr>
          <a:xfrm flipV="1">
            <a:off x="7257960" y="2436480"/>
            <a:ext cx="0" cy="601560"/>
          </a:xfrm>
          <a:prstGeom prst="line">
            <a:avLst/>
          </a:prstGeom>
          <a:ln w="19080">
            <a:solidFill>
              <a:srgbClr val="c51c29"/>
            </a:solidFill>
            <a:bevel/>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圆角矩形 10"/>
          <p:cNvSpPr/>
          <p:nvPr/>
        </p:nvSpPr>
        <p:spPr>
          <a:xfrm>
            <a:off x="1838160" y="3144960"/>
            <a:ext cx="1613160" cy="344520"/>
          </a:xfrm>
          <a:prstGeom prst="roundRect">
            <a:avLst>
              <a:gd name="adj" fmla="val 16667"/>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标题</a:t>
            </a:r>
            <a:endParaRPr b="0" lang="en-US" sz="2000" spc="-1" strike="noStrike">
              <a:solidFill>
                <a:srgbClr val="000000"/>
              </a:solidFill>
              <a:latin typeface="Arial"/>
            </a:endParaRPr>
          </a:p>
        </p:txBody>
      </p:sp>
      <p:sp>
        <p:nvSpPr>
          <p:cNvPr id="284" name="圆角矩形 11"/>
          <p:cNvSpPr/>
          <p:nvPr/>
        </p:nvSpPr>
        <p:spPr>
          <a:xfrm>
            <a:off x="4130640" y="3144960"/>
            <a:ext cx="1612800" cy="344520"/>
          </a:xfrm>
          <a:prstGeom prst="roundRect">
            <a:avLst>
              <a:gd name="adj" fmla="val 16667"/>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标题</a:t>
            </a:r>
            <a:endParaRPr b="0" lang="en-US" sz="2000" spc="-1" strike="noStrike">
              <a:solidFill>
                <a:srgbClr val="000000"/>
              </a:solidFill>
              <a:latin typeface="Arial"/>
            </a:endParaRPr>
          </a:p>
        </p:txBody>
      </p:sp>
      <p:sp>
        <p:nvSpPr>
          <p:cNvPr id="285" name="圆角矩形 12"/>
          <p:cNvSpPr/>
          <p:nvPr/>
        </p:nvSpPr>
        <p:spPr>
          <a:xfrm>
            <a:off x="6426360" y="3144960"/>
            <a:ext cx="1612800" cy="344520"/>
          </a:xfrm>
          <a:prstGeom prst="roundRect">
            <a:avLst>
              <a:gd name="adj" fmla="val 16667"/>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标题</a:t>
            </a:r>
            <a:endParaRPr b="0" lang="en-US" sz="2000" spc="-1" strike="noStrike">
              <a:solidFill>
                <a:srgbClr val="000000"/>
              </a:solidFill>
              <a:latin typeface="Arial"/>
            </a:endParaRPr>
          </a:p>
        </p:txBody>
      </p:sp>
      <p:sp>
        <p:nvSpPr>
          <p:cNvPr id="286" name="Sev01"/>
          <p:cNvSpPr/>
          <p:nvPr/>
        </p:nvSpPr>
        <p:spPr>
          <a:xfrm>
            <a:off x="6972480" y="1701720"/>
            <a:ext cx="520560" cy="52092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Freeform 105"/>
          <p:cNvSpPr/>
          <p:nvPr/>
        </p:nvSpPr>
        <p:spPr>
          <a:xfrm>
            <a:off x="7086600" y="1819440"/>
            <a:ext cx="291960" cy="285480"/>
          </a:xfrm>
          <a:custGeom>
            <a:avLst/>
            <a:gdLst>
              <a:gd name="textAreaLeft" fmla="*/ 0 w 291960"/>
              <a:gd name="textAreaRight" fmla="*/ 292320 w 291960"/>
              <a:gd name="textAreaTop" fmla="*/ 0 h 285480"/>
              <a:gd name="textAreaBottom" fmla="*/ 285840 h 285480"/>
            </a:gdLst>
            <a:ahLst/>
            <a:rect l="textAreaLeft" t="textAreaTop" r="textAreaRight" b="textAreaBottom"/>
            <a:pathLst>
              <a:path w="64" h="63">
                <a:moveTo>
                  <a:pt x="59" y="63"/>
                </a:moveTo>
                <a:cubicBezTo>
                  <a:pt x="57" y="63"/>
                  <a:pt x="56" y="62"/>
                  <a:pt x="55" y="61"/>
                </a:cubicBezTo>
                <a:cubicBezTo>
                  <a:pt x="42" y="48"/>
                  <a:pt x="42" y="48"/>
                  <a:pt x="42" y="48"/>
                </a:cubicBezTo>
                <a:cubicBezTo>
                  <a:pt x="38" y="51"/>
                  <a:pt x="33" y="53"/>
                  <a:pt x="27" y="53"/>
                </a:cubicBezTo>
                <a:cubicBezTo>
                  <a:pt x="12" y="53"/>
                  <a:pt x="0" y="41"/>
                  <a:pt x="0" y="26"/>
                </a:cubicBezTo>
                <a:cubicBezTo>
                  <a:pt x="0" y="12"/>
                  <a:pt x="12" y="0"/>
                  <a:pt x="27" y="0"/>
                </a:cubicBezTo>
                <a:cubicBezTo>
                  <a:pt x="42" y="0"/>
                  <a:pt x="54" y="12"/>
                  <a:pt x="54" y="26"/>
                </a:cubicBezTo>
                <a:cubicBezTo>
                  <a:pt x="54" y="32"/>
                  <a:pt x="52" y="37"/>
                  <a:pt x="49" y="41"/>
                </a:cubicBezTo>
                <a:cubicBezTo>
                  <a:pt x="62" y="54"/>
                  <a:pt x="62" y="54"/>
                  <a:pt x="62" y="54"/>
                </a:cubicBezTo>
                <a:cubicBezTo>
                  <a:pt x="63" y="55"/>
                  <a:pt x="64" y="57"/>
                  <a:pt x="64" y="58"/>
                </a:cubicBezTo>
                <a:cubicBezTo>
                  <a:pt x="64" y="61"/>
                  <a:pt x="61" y="63"/>
                  <a:pt x="59" y="63"/>
                </a:cubicBezTo>
                <a:close/>
                <a:moveTo>
                  <a:pt x="27" y="9"/>
                </a:moveTo>
                <a:cubicBezTo>
                  <a:pt x="18" y="9"/>
                  <a:pt x="10" y="17"/>
                  <a:pt x="10" y="26"/>
                </a:cubicBezTo>
                <a:cubicBezTo>
                  <a:pt x="10" y="36"/>
                  <a:pt x="18" y="43"/>
                  <a:pt x="27" y="43"/>
                </a:cubicBezTo>
                <a:cubicBezTo>
                  <a:pt x="37" y="43"/>
                  <a:pt x="44" y="36"/>
                  <a:pt x="44" y="26"/>
                </a:cubicBezTo>
                <a:cubicBezTo>
                  <a:pt x="44" y="17"/>
                  <a:pt x="37" y="9"/>
                  <a:pt x="27"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Sev01"/>
          <p:cNvSpPr/>
          <p:nvPr/>
        </p:nvSpPr>
        <p:spPr>
          <a:xfrm>
            <a:off x="2387520" y="1701720"/>
            <a:ext cx="520920" cy="52092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Freeform 62"/>
          <p:cNvSpPr/>
          <p:nvPr/>
        </p:nvSpPr>
        <p:spPr>
          <a:xfrm>
            <a:off x="2502000" y="1814400"/>
            <a:ext cx="291960" cy="295560"/>
          </a:xfrm>
          <a:custGeom>
            <a:avLst/>
            <a:gdLst>
              <a:gd name="textAreaLeft" fmla="*/ 0 w 291960"/>
              <a:gd name="textAreaRight" fmla="*/ 292320 w 291960"/>
              <a:gd name="textAreaTop" fmla="*/ 0 h 295560"/>
              <a:gd name="textAreaBottom" fmla="*/ 295920 h 295560"/>
            </a:gdLst>
            <a:ahLst/>
            <a:rect l="textAreaLeft" t="textAreaTop" r="textAreaRight" b="textAreaBottom"/>
            <a:pathLst>
              <a:path w="58" h="58">
                <a:moveTo>
                  <a:pt x="58" y="33"/>
                </a:moveTo>
                <a:cubicBezTo>
                  <a:pt x="58" y="34"/>
                  <a:pt x="58" y="34"/>
                  <a:pt x="57" y="34"/>
                </a:cubicBezTo>
                <a:cubicBezTo>
                  <a:pt x="50" y="35"/>
                  <a:pt x="50" y="35"/>
                  <a:pt x="50" y="35"/>
                </a:cubicBezTo>
                <a:cubicBezTo>
                  <a:pt x="50" y="37"/>
                  <a:pt x="49" y="38"/>
                  <a:pt x="49" y="39"/>
                </a:cubicBezTo>
                <a:cubicBezTo>
                  <a:pt x="50" y="41"/>
                  <a:pt x="51" y="42"/>
                  <a:pt x="53" y="44"/>
                </a:cubicBezTo>
                <a:cubicBezTo>
                  <a:pt x="53" y="44"/>
                  <a:pt x="53" y="45"/>
                  <a:pt x="53" y="45"/>
                </a:cubicBezTo>
                <a:cubicBezTo>
                  <a:pt x="53" y="45"/>
                  <a:pt x="53" y="46"/>
                  <a:pt x="53" y="46"/>
                </a:cubicBezTo>
                <a:cubicBezTo>
                  <a:pt x="52" y="47"/>
                  <a:pt x="47" y="53"/>
                  <a:pt x="45" y="53"/>
                </a:cubicBezTo>
                <a:cubicBezTo>
                  <a:pt x="45" y="53"/>
                  <a:pt x="45" y="53"/>
                  <a:pt x="44" y="52"/>
                </a:cubicBezTo>
                <a:cubicBezTo>
                  <a:pt x="39" y="48"/>
                  <a:pt x="39" y="48"/>
                  <a:pt x="39" y="48"/>
                </a:cubicBezTo>
                <a:cubicBezTo>
                  <a:pt x="38" y="49"/>
                  <a:pt x="37" y="49"/>
                  <a:pt x="36" y="50"/>
                </a:cubicBezTo>
                <a:cubicBezTo>
                  <a:pt x="35" y="52"/>
                  <a:pt x="35" y="55"/>
                  <a:pt x="34" y="57"/>
                </a:cubicBezTo>
                <a:cubicBezTo>
                  <a:pt x="34" y="57"/>
                  <a:pt x="34" y="58"/>
                  <a:pt x="33" y="58"/>
                </a:cubicBezTo>
                <a:cubicBezTo>
                  <a:pt x="25" y="58"/>
                  <a:pt x="25" y="58"/>
                  <a:pt x="25" y="58"/>
                </a:cubicBezTo>
                <a:cubicBezTo>
                  <a:pt x="24" y="58"/>
                  <a:pt x="23" y="57"/>
                  <a:pt x="23" y="57"/>
                </a:cubicBezTo>
                <a:cubicBezTo>
                  <a:pt x="22" y="50"/>
                  <a:pt x="22" y="50"/>
                  <a:pt x="22" y="50"/>
                </a:cubicBezTo>
                <a:cubicBezTo>
                  <a:pt x="21" y="49"/>
                  <a:pt x="20" y="49"/>
                  <a:pt x="19" y="48"/>
                </a:cubicBezTo>
                <a:cubicBezTo>
                  <a:pt x="14" y="52"/>
                  <a:pt x="14" y="52"/>
                  <a:pt x="14" y="52"/>
                </a:cubicBezTo>
                <a:cubicBezTo>
                  <a:pt x="13" y="53"/>
                  <a:pt x="13" y="53"/>
                  <a:pt x="13" y="53"/>
                </a:cubicBezTo>
                <a:cubicBezTo>
                  <a:pt x="12" y="53"/>
                  <a:pt x="12" y="53"/>
                  <a:pt x="12" y="52"/>
                </a:cubicBezTo>
                <a:cubicBezTo>
                  <a:pt x="10" y="50"/>
                  <a:pt x="7" y="48"/>
                  <a:pt x="5" y="46"/>
                </a:cubicBezTo>
                <a:cubicBezTo>
                  <a:pt x="5" y="46"/>
                  <a:pt x="5" y="45"/>
                  <a:pt x="5" y="45"/>
                </a:cubicBezTo>
                <a:cubicBezTo>
                  <a:pt x="5" y="45"/>
                  <a:pt x="5" y="44"/>
                  <a:pt x="5" y="44"/>
                </a:cubicBezTo>
                <a:cubicBezTo>
                  <a:pt x="7" y="42"/>
                  <a:pt x="8" y="41"/>
                  <a:pt x="9" y="39"/>
                </a:cubicBezTo>
                <a:cubicBezTo>
                  <a:pt x="9" y="38"/>
                  <a:pt x="8" y="37"/>
                  <a:pt x="8" y="35"/>
                </a:cubicBezTo>
                <a:cubicBezTo>
                  <a:pt x="1" y="34"/>
                  <a:pt x="1" y="34"/>
                  <a:pt x="1" y="34"/>
                </a:cubicBezTo>
                <a:cubicBezTo>
                  <a:pt x="0" y="34"/>
                  <a:pt x="0" y="33"/>
                  <a:pt x="0" y="33"/>
                </a:cubicBezTo>
                <a:cubicBezTo>
                  <a:pt x="0" y="24"/>
                  <a:pt x="0" y="24"/>
                  <a:pt x="0" y="24"/>
                </a:cubicBezTo>
                <a:cubicBezTo>
                  <a:pt x="0" y="24"/>
                  <a:pt x="0" y="23"/>
                  <a:pt x="1" y="23"/>
                </a:cubicBezTo>
                <a:cubicBezTo>
                  <a:pt x="8" y="22"/>
                  <a:pt x="8" y="22"/>
                  <a:pt x="8" y="22"/>
                </a:cubicBezTo>
                <a:cubicBezTo>
                  <a:pt x="8" y="21"/>
                  <a:pt x="9" y="20"/>
                  <a:pt x="9" y="18"/>
                </a:cubicBezTo>
                <a:cubicBezTo>
                  <a:pt x="8" y="17"/>
                  <a:pt x="7" y="15"/>
                  <a:pt x="5" y="13"/>
                </a:cubicBezTo>
                <a:cubicBezTo>
                  <a:pt x="5" y="13"/>
                  <a:pt x="5" y="13"/>
                  <a:pt x="5" y="12"/>
                </a:cubicBezTo>
                <a:cubicBezTo>
                  <a:pt x="5" y="12"/>
                  <a:pt x="5" y="12"/>
                  <a:pt x="5" y="11"/>
                </a:cubicBezTo>
                <a:cubicBezTo>
                  <a:pt x="6" y="10"/>
                  <a:pt x="11" y="5"/>
                  <a:pt x="13" y="5"/>
                </a:cubicBezTo>
                <a:cubicBezTo>
                  <a:pt x="13" y="5"/>
                  <a:pt x="13" y="5"/>
                  <a:pt x="14" y="5"/>
                </a:cubicBezTo>
                <a:cubicBezTo>
                  <a:pt x="19" y="9"/>
                  <a:pt x="19" y="9"/>
                  <a:pt x="19" y="9"/>
                </a:cubicBezTo>
                <a:cubicBezTo>
                  <a:pt x="20" y="9"/>
                  <a:pt x="21" y="8"/>
                  <a:pt x="22" y="8"/>
                </a:cubicBezTo>
                <a:cubicBezTo>
                  <a:pt x="22" y="5"/>
                  <a:pt x="23" y="3"/>
                  <a:pt x="23" y="1"/>
                </a:cubicBezTo>
                <a:cubicBezTo>
                  <a:pt x="23" y="0"/>
                  <a:pt x="24" y="0"/>
                  <a:pt x="25" y="0"/>
                </a:cubicBezTo>
                <a:cubicBezTo>
                  <a:pt x="33" y="0"/>
                  <a:pt x="33" y="0"/>
                  <a:pt x="33" y="0"/>
                </a:cubicBezTo>
                <a:cubicBezTo>
                  <a:pt x="34" y="0"/>
                  <a:pt x="34" y="0"/>
                  <a:pt x="34" y="1"/>
                </a:cubicBezTo>
                <a:cubicBezTo>
                  <a:pt x="36" y="8"/>
                  <a:pt x="36" y="8"/>
                  <a:pt x="36" y="8"/>
                </a:cubicBezTo>
                <a:cubicBezTo>
                  <a:pt x="37" y="8"/>
                  <a:pt x="38" y="9"/>
                  <a:pt x="39" y="9"/>
                </a:cubicBezTo>
                <a:cubicBezTo>
                  <a:pt x="44" y="5"/>
                  <a:pt x="44" y="5"/>
                  <a:pt x="44" y="5"/>
                </a:cubicBezTo>
                <a:cubicBezTo>
                  <a:pt x="45" y="5"/>
                  <a:pt x="45" y="5"/>
                  <a:pt x="45" y="5"/>
                </a:cubicBezTo>
                <a:cubicBezTo>
                  <a:pt x="46" y="5"/>
                  <a:pt x="46" y="5"/>
                  <a:pt x="46" y="5"/>
                </a:cubicBezTo>
                <a:cubicBezTo>
                  <a:pt x="48" y="7"/>
                  <a:pt x="51" y="9"/>
                  <a:pt x="52" y="12"/>
                </a:cubicBezTo>
                <a:cubicBezTo>
                  <a:pt x="53" y="12"/>
                  <a:pt x="53" y="12"/>
                  <a:pt x="53" y="12"/>
                </a:cubicBezTo>
                <a:cubicBezTo>
                  <a:pt x="53" y="13"/>
                  <a:pt x="53" y="13"/>
                  <a:pt x="52" y="13"/>
                </a:cubicBezTo>
                <a:cubicBezTo>
                  <a:pt x="51" y="15"/>
                  <a:pt x="50" y="17"/>
                  <a:pt x="48" y="18"/>
                </a:cubicBezTo>
                <a:cubicBezTo>
                  <a:pt x="49" y="20"/>
                  <a:pt x="50" y="21"/>
                  <a:pt x="50" y="22"/>
                </a:cubicBezTo>
                <a:cubicBezTo>
                  <a:pt x="57" y="23"/>
                  <a:pt x="57" y="23"/>
                  <a:pt x="57" y="23"/>
                </a:cubicBezTo>
                <a:cubicBezTo>
                  <a:pt x="58" y="23"/>
                  <a:pt x="58" y="24"/>
                  <a:pt x="58" y="25"/>
                </a:cubicBezTo>
                <a:lnTo>
                  <a:pt x="58" y="33"/>
                </a:lnTo>
                <a:close/>
                <a:moveTo>
                  <a:pt x="29" y="19"/>
                </a:moveTo>
                <a:cubicBezTo>
                  <a:pt x="24" y="19"/>
                  <a:pt x="19" y="23"/>
                  <a:pt x="19" y="29"/>
                </a:cubicBezTo>
                <a:cubicBezTo>
                  <a:pt x="19" y="34"/>
                  <a:pt x="24" y="38"/>
                  <a:pt x="29" y="38"/>
                </a:cubicBezTo>
                <a:cubicBezTo>
                  <a:pt x="34" y="38"/>
                  <a:pt x="39" y="34"/>
                  <a:pt x="39" y="29"/>
                </a:cubicBezTo>
                <a:cubicBezTo>
                  <a:pt x="39" y="23"/>
                  <a:pt x="34" y="19"/>
                  <a:pt x="29"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Sev01"/>
          <p:cNvSpPr/>
          <p:nvPr/>
        </p:nvSpPr>
        <p:spPr>
          <a:xfrm>
            <a:off x="4680000" y="1701720"/>
            <a:ext cx="520560" cy="52092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Freeform 135"/>
          <p:cNvSpPr/>
          <p:nvPr/>
        </p:nvSpPr>
        <p:spPr>
          <a:xfrm>
            <a:off x="4784760" y="1816200"/>
            <a:ext cx="311040" cy="291960"/>
          </a:xfrm>
          <a:custGeom>
            <a:avLst/>
            <a:gdLst>
              <a:gd name="textAreaLeft" fmla="*/ 0 w 311040"/>
              <a:gd name="textAreaRight" fmla="*/ 311400 w 311040"/>
              <a:gd name="textAreaTop" fmla="*/ 0 h 291960"/>
              <a:gd name="textAreaBottom" fmla="*/ 292320 h 291960"/>
            </a:gdLst>
            <a:ahLst/>
            <a:rect l="textAreaLeft" t="textAreaTop" r="textAreaRight" b="textAreaBottom"/>
            <a:pathLst>
              <a:path w="73" h="68">
                <a:moveTo>
                  <a:pt x="13" y="39"/>
                </a:moveTo>
                <a:cubicBezTo>
                  <a:pt x="8" y="39"/>
                  <a:pt x="8" y="39"/>
                  <a:pt x="8" y="39"/>
                </a:cubicBezTo>
                <a:cubicBezTo>
                  <a:pt x="4" y="39"/>
                  <a:pt x="0" y="37"/>
                  <a:pt x="0" y="33"/>
                </a:cubicBezTo>
                <a:cubicBezTo>
                  <a:pt x="0" y="29"/>
                  <a:pt x="0" y="19"/>
                  <a:pt x="5" y="19"/>
                </a:cubicBezTo>
                <a:cubicBezTo>
                  <a:pt x="6" y="19"/>
                  <a:pt x="10" y="22"/>
                  <a:pt x="15" y="22"/>
                </a:cubicBezTo>
                <a:cubicBezTo>
                  <a:pt x="17" y="22"/>
                  <a:pt x="18" y="22"/>
                  <a:pt x="20" y="21"/>
                </a:cubicBezTo>
                <a:cubicBezTo>
                  <a:pt x="20" y="22"/>
                  <a:pt x="20" y="23"/>
                  <a:pt x="20" y="24"/>
                </a:cubicBezTo>
                <a:cubicBezTo>
                  <a:pt x="20" y="27"/>
                  <a:pt x="21" y="31"/>
                  <a:pt x="23" y="34"/>
                </a:cubicBezTo>
                <a:cubicBezTo>
                  <a:pt x="19" y="34"/>
                  <a:pt x="15" y="36"/>
                  <a:pt x="13" y="39"/>
                </a:cubicBezTo>
                <a:close/>
                <a:moveTo>
                  <a:pt x="15" y="19"/>
                </a:moveTo>
                <a:cubicBezTo>
                  <a:pt x="10" y="19"/>
                  <a:pt x="5" y="15"/>
                  <a:pt x="5" y="9"/>
                </a:cubicBezTo>
                <a:cubicBezTo>
                  <a:pt x="5" y="4"/>
                  <a:pt x="10" y="0"/>
                  <a:pt x="15" y="0"/>
                </a:cubicBezTo>
                <a:cubicBezTo>
                  <a:pt x="20" y="0"/>
                  <a:pt x="25" y="4"/>
                  <a:pt x="25" y="9"/>
                </a:cubicBezTo>
                <a:cubicBezTo>
                  <a:pt x="25" y="15"/>
                  <a:pt x="20" y="19"/>
                  <a:pt x="15" y="19"/>
                </a:cubicBezTo>
                <a:close/>
                <a:moveTo>
                  <a:pt x="53" y="68"/>
                </a:moveTo>
                <a:cubicBezTo>
                  <a:pt x="20" y="68"/>
                  <a:pt x="20" y="68"/>
                  <a:pt x="20" y="68"/>
                </a:cubicBezTo>
                <a:cubicBezTo>
                  <a:pt x="14" y="68"/>
                  <a:pt x="10" y="64"/>
                  <a:pt x="10" y="58"/>
                </a:cubicBezTo>
                <a:cubicBezTo>
                  <a:pt x="10" y="49"/>
                  <a:pt x="12" y="36"/>
                  <a:pt x="23" y="36"/>
                </a:cubicBezTo>
                <a:cubicBezTo>
                  <a:pt x="25" y="36"/>
                  <a:pt x="29" y="41"/>
                  <a:pt x="37" y="41"/>
                </a:cubicBezTo>
                <a:cubicBezTo>
                  <a:pt x="44" y="41"/>
                  <a:pt x="49" y="36"/>
                  <a:pt x="50" y="36"/>
                </a:cubicBezTo>
                <a:cubicBezTo>
                  <a:pt x="62" y="36"/>
                  <a:pt x="64" y="49"/>
                  <a:pt x="64" y="58"/>
                </a:cubicBezTo>
                <a:cubicBezTo>
                  <a:pt x="64" y="64"/>
                  <a:pt x="60" y="68"/>
                  <a:pt x="53" y="68"/>
                </a:cubicBezTo>
                <a:close/>
                <a:moveTo>
                  <a:pt x="37" y="39"/>
                </a:moveTo>
                <a:cubicBezTo>
                  <a:pt x="29" y="39"/>
                  <a:pt x="22" y="32"/>
                  <a:pt x="22" y="24"/>
                </a:cubicBezTo>
                <a:cubicBezTo>
                  <a:pt x="22" y="16"/>
                  <a:pt x="29" y="9"/>
                  <a:pt x="37" y="9"/>
                </a:cubicBezTo>
                <a:cubicBezTo>
                  <a:pt x="45" y="9"/>
                  <a:pt x="51" y="16"/>
                  <a:pt x="51" y="24"/>
                </a:cubicBezTo>
                <a:cubicBezTo>
                  <a:pt x="51" y="32"/>
                  <a:pt x="45" y="39"/>
                  <a:pt x="37" y="39"/>
                </a:cubicBezTo>
                <a:close/>
                <a:moveTo>
                  <a:pt x="59" y="19"/>
                </a:moveTo>
                <a:cubicBezTo>
                  <a:pt x="53" y="19"/>
                  <a:pt x="49" y="15"/>
                  <a:pt x="49" y="9"/>
                </a:cubicBezTo>
                <a:cubicBezTo>
                  <a:pt x="49" y="4"/>
                  <a:pt x="53" y="0"/>
                  <a:pt x="59" y="0"/>
                </a:cubicBezTo>
                <a:cubicBezTo>
                  <a:pt x="64" y="0"/>
                  <a:pt x="68" y="4"/>
                  <a:pt x="68" y="9"/>
                </a:cubicBezTo>
                <a:cubicBezTo>
                  <a:pt x="68" y="15"/>
                  <a:pt x="64" y="19"/>
                  <a:pt x="59" y="19"/>
                </a:cubicBezTo>
                <a:close/>
                <a:moveTo>
                  <a:pt x="66" y="39"/>
                </a:moveTo>
                <a:cubicBezTo>
                  <a:pt x="61" y="39"/>
                  <a:pt x="61" y="39"/>
                  <a:pt x="61" y="39"/>
                </a:cubicBezTo>
                <a:cubicBezTo>
                  <a:pt x="58" y="36"/>
                  <a:pt x="55" y="34"/>
                  <a:pt x="51" y="34"/>
                </a:cubicBezTo>
                <a:cubicBezTo>
                  <a:pt x="53" y="31"/>
                  <a:pt x="54" y="27"/>
                  <a:pt x="54" y="24"/>
                </a:cubicBezTo>
                <a:cubicBezTo>
                  <a:pt x="54" y="23"/>
                  <a:pt x="54" y="22"/>
                  <a:pt x="54" y="21"/>
                </a:cubicBezTo>
                <a:cubicBezTo>
                  <a:pt x="55" y="22"/>
                  <a:pt x="57" y="22"/>
                  <a:pt x="59" y="22"/>
                </a:cubicBezTo>
                <a:cubicBezTo>
                  <a:pt x="64" y="22"/>
                  <a:pt x="68" y="19"/>
                  <a:pt x="69" y="19"/>
                </a:cubicBezTo>
                <a:cubicBezTo>
                  <a:pt x="73" y="19"/>
                  <a:pt x="73" y="29"/>
                  <a:pt x="73" y="33"/>
                </a:cubicBezTo>
                <a:cubicBezTo>
                  <a:pt x="73" y="37"/>
                  <a:pt x="70" y="39"/>
                  <a:pt x="66" y="3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Straight Connector 32"/>
          <p:cNvSpPr/>
          <p:nvPr/>
        </p:nvSpPr>
        <p:spPr>
          <a:xfrm flipV="1">
            <a:off x="9601200" y="2436480"/>
            <a:ext cx="1440" cy="601560"/>
          </a:xfrm>
          <a:prstGeom prst="line">
            <a:avLst/>
          </a:prstGeom>
          <a:ln w="19080">
            <a:solidFill>
              <a:srgbClr val="2b3360"/>
            </a:solidFill>
            <a:bevel/>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圆角矩形 25"/>
          <p:cNvSpPr/>
          <p:nvPr/>
        </p:nvSpPr>
        <p:spPr>
          <a:xfrm>
            <a:off x="8769240" y="3144960"/>
            <a:ext cx="1613160" cy="344520"/>
          </a:xfrm>
          <a:prstGeom prst="roundRect">
            <a:avLst>
              <a:gd name="adj" fmla="val 16667"/>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标题</a:t>
            </a:r>
            <a:endParaRPr b="0" lang="en-US" sz="2000" spc="-1" strike="noStrike">
              <a:solidFill>
                <a:srgbClr val="000000"/>
              </a:solidFill>
              <a:latin typeface="Arial"/>
            </a:endParaRPr>
          </a:p>
        </p:txBody>
      </p:sp>
      <p:sp>
        <p:nvSpPr>
          <p:cNvPr id="294" name="Sev01"/>
          <p:cNvSpPr/>
          <p:nvPr/>
        </p:nvSpPr>
        <p:spPr>
          <a:xfrm>
            <a:off x="9315360" y="1701720"/>
            <a:ext cx="520920" cy="52092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Box 15"/>
          <p:cNvSpPr/>
          <p:nvPr/>
        </p:nvSpPr>
        <p:spPr>
          <a:xfrm>
            <a:off x="148104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p:txBody>
      </p:sp>
      <p:sp>
        <p:nvSpPr>
          <p:cNvPr id="296" name="TextBox 15"/>
          <p:cNvSpPr/>
          <p:nvPr/>
        </p:nvSpPr>
        <p:spPr>
          <a:xfrm>
            <a:off x="602928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的文字概述</a:t>
            </a:r>
            <a:endParaRPr b="0" lang="en-US" sz="1400" spc="-1" strike="noStrike">
              <a:solidFill>
                <a:srgbClr val="000000"/>
              </a:solidFill>
              <a:latin typeface="Arial"/>
            </a:endParaRPr>
          </a:p>
        </p:txBody>
      </p:sp>
      <p:sp>
        <p:nvSpPr>
          <p:cNvPr id="297" name="TextBox 15"/>
          <p:cNvSpPr/>
          <p:nvPr/>
        </p:nvSpPr>
        <p:spPr>
          <a:xfrm>
            <a:off x="375588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298" name="TextBox 15"/>
          <p:cNvSpPr/>
          <p:nvPr/>
        </p:nvSpPr>
        <p:spPr>
          <a:xfrm>
            <a:off x="837396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299" name="流程图: 联系 13"/>
          <p:cNvSpPr/>
          <p:nvPr/>
        </p:nvSpPr>
        <p:spPr>
          <a:xfrm>
            <a:off x="9495000" y="2320920"/>
            <a:ext cx="234720" cy="235080"/>
          </a:xfrm>
          <a:prstGeom prst="flowChartConnector">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流程图: 联系 35"/>
          <p:cNvSpPr/>
          <p:nvPr/>
        </p:nvSpPr>
        <p:spPr>
          <a:xfrm>
            <a:off x="7137360" y="2320920"/>
            <a:ext cx="235080" cy="235080"/>
          </a:xfrm>
          <a:prstGeom prst="flowChartConnector">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流程图: 联系 36"/>
          <p:cNvSpPr/>
          <p:nvPr/>
        </p:nvSpPr>
        <p:spPr>
          <a:xfrm>
            <a:off x="4832280" y="2320920"/>
            <a:ext cx="235080" cy="235080"/>
          </a:xfrm>
          <a:prstGeom prst="flowChartConnector">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流程图: 联系 37"/>
          <p:cNvSpPr/>
          <p:nvPr/>
        </p:nvSpPr>
        <p:spPr>
          <a:xfrm>
            <a:off x="2548080" y="2336760"/>
            <a:ext cx="234720" cy="235080"/>
          </a:xfrm>
          <a:prstGeom prst="flowChartConnector">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KSO_Shape"/>
          <p:cNvSpPr/>
          <p:nvPr/>
        </p:nvSpPr>
        <p:spPr>
          <a:xfrm>
            <a:off x="9447120" y="1790640"/>
            <a:ext cx="258840" cy="352440"/>
          </a:xfrm>
          <a:custGeom>
            <a:avLst/>
            <a:gdLst>
              <a:gd name="textAreaLeft" fmla="*/ 0 w 258840"/>
              <a:gd name="textAreaRight" fmla="*/ 259200 w 258840"/>
              <a:gd name="textAreaTop" fmla="*/ 0 h 352440"/>
              <a:gd name="textAreaBottom" fmla="*/ 352440 h 352440"/>
            </a:gdLst>
            <a:ahLst/>
            <a:rect l="textAreaLeft" t="textAreaTop" r="textAreaRight" b="textAreaBottom"/>
            <a:pathLst>
              <a:path w="4423" h="6016">
                <a:moveTo>
                  <a:pt x="2211" y="0"/>
                </a:moveTo>
                <a:lnTo>
                  <a:pt x="2211" y="0"/>
                </a:lnTo>
                <a:lnTo>
                  <a:pt x="2268" y="1"/>
                </a:lnTo>
                <a:lnTo>
                  <a:pt x="2325" y="4"/>
                </a:lnTo>
                <a:lnTo>
                  <a:pt x="2382" y="7"/>
                </a:lnTo>
                <a:lnTo>
                  <a:pt x="2437" y="12"/>
                </a:lnTo>
                <a:lnTo>
                  <a:pt x="2492" y="18"/>
                </a:lnTo>
                <a:lnTo>
                  <a:pt x="2548" y="26"/>
                </a:lnTo>
                <a:lnTo>
                  <a:pt x="2603" y="34"/>
                </a:lnTo>
                <a:lnTo>
                  <a:pt x="2657" y="45"/>
                </a:lnTo>
                <a:lnTo>
                  <a:pt x="2710" y="57"/>
                </a:lnTo>
                <a:lnTo>
                  <a:pt x="2764" y="70"/>
                </a:lnTo>
                <a:lnTo>
                  <a:pt x="2817" y="84"/>
                </a:lnTo>
                <a:lnTo>
                  <a:pt x="2869" y="99"/>
                </a:lnTo>
                <a:lnTo>
                  <a:pt x="2920" y="116"/>
                </a:lnTo>
                <a:lnTo>
                  <a:pt x="2971" y="134"/>
                </a:lnTo>
                <a:lnTo>
                  <a:pt x="3022" y="154"/>
                </a:lnTo>
                <a:lnTo>
                  <a:pt x="3072" y="174"/>
                </a:lnTo>
                <a:lnTo>
                  <a:pt x="3121" y="195"/>
                </a:lnTo>
                <a:lnTo>
                  <a:pt x="3170" y="219"/>
                </a:lnTo>
                <a:lnTo>
                  <a:pt x="3218" y="242"/>
                </a:lnTo>
                <a:lnTo>
                  <a:pt x="3265" y="267"/>
                </a:lnTo>
                <a:lnTo>
                  <a:pt x="3312" y="293"/>
                </a:lnTo>
                <a:lnTo>
                  <a:pt x="3357" y="321"/>
                </a:lnTo>
                <a:lnTo>
                  <a:pt x="3403" y="348"/>
                </a:lnTo>
                <a:lnTo>
                  <a:pt x="3448" y="378"/>
                </a:lnTo>
                <a:lnTo>
                  <a:pt x="3492" y="408"/>
                </a:lnTo>
                <a:lnTo>
                  <a:pt x="3534" y="440"/>
                </a:lnTo>
                <a:lnTo>
                  <a:pt x="3577" y="472"/>
                </a:lnTo>
                <a:lnTo>
                  <a:pt x="3618" y="505"/>
                </a:lnTo>
                <a:lnTo>
                  <a:pt x="3659" y="540"/>
                </a:lnTo>
                <a:lnTo>
                  <a:pt x="3698" y="575"/>
                </a:lnTo>
                <a:lnTo>
                  <a:pt x="3736" y="611"/>
                </a:lnTo>
                <a:lnTo>
                  <a:pt x="3775" y="649"/>
                </a:lnTo>
                <a:lnTo>
                  <a:pt x="3812" y="686"/>
                </a:lnTo>
                <a:lnTo>
                  <a:pt x="3848" y="725"/>
                </a:lnTo>
                <a:lnTo>
                  <a:pt x="3883" y="765"/>
                </a:lnTo>
                <a:lnTo>
                  <a:pt x="3917" y="805"/>
                </a:lnTo>
                <a:lnTo>
                  <a:pt x="3951" y="846"/>
                </a:lnTo>
                <a:lnTo>
                  <a:pt x="3983" y="889"/>
                </a:lnTo>
                <a:lnTo>
                  <a:pt x="4014" y="932"/>
                </a:lnTo>
                <a:lnTo>
                  <a:pt x="4045" y="975"/>
                </a:lnTo>
                <a:lnTo>
                  <a:pt x="4074" y="1020"/>
                </a:lnTo>
                <a:lnTo>
                  <a:pt x="4102" y="1065"/>
                </a:lnTo>
                <a:lnTo>
                  <a:pt x="4130" y="1111"/>
                </a:lnTo>
                <a:lnTo>
                  <a:pt x="4156" y="1157"/>
                </a:lnTo>
                <a:lnTo>
                  <a:pt x="4181" y="1205"/>
                </a:lnTo>
                <a:lnTo>
                  <a:pt x="4205" y="1253"/>
                </a:lnTo>
                <a:lnTo>
                  <a:pt x="4227" y="1302"/>
                </a:lnTo>
                <a:lnTo>
                  <a:pt x="4249" y="1351"/>
                </a:lnTo>
                <a:lnTo>
                  <a:pt x="4270" y="1401"/>
                </a:lnTo>
                <a:lnTo>
                  <a:pt x="4289" y="1451"/>
                </a:lnTo>
                <a:lnTo>
                  <a:pt x="4307" y="1502"/>
                </a:lnTo>
                <a:lnTo>
                  <a:pt x="4323" y="1554"/>
                </a:lnTo>
                <a:lnTo>
                  <a:pt x="4339" y="1606"/>
                </a:lnTo>
                <a:lnTo>
                  <a:pt x="4353" y="1660"/>
                </a:lnTo>
                <a:lnTo>
                  <a:pt x="4366" y="1713"/>
                </a:lnTo>
                <a:lnTo>
                  <a:pt x="4378" y="1766"/>
                </a:lnTo>
                <a:lnTo>
                  <a:pt x="4388" y="1820"/>
                </a:lnTo>
                <a:lnTo>
                  <a:pt x="4397" y="1875"/>
                </a:lnTo>
                <a:lnTo>
                  <a:pt x="4405" y="1930"/>
                </a:lnTo>
                <a:lnTo>
                  <a:pt x="4411" y="1985"/>
                </a:lnTo>
                <a:lnTo>
                  <a:pt x="4416" y="2042"/>
                </a:lnTo>
                <a:lnTo>
                  <a:pt x="4420" y="2098"/>
                </a:lnTo>
                <a:lnTo>
                  <a:pt x="4422" y="2155"/>
                </a:lnTo>
                <a:lnTo>
                  <a:pt x="4423" y="2212"/>
                </a:lnTo>
                <a:lnTo>
                  <a:pt x="4422" y="2270"/>
                </a:lnTo>
                <a:lnTo>
                  <a:pt x="4420" y="2326"/>
                </a:lnTo>
                <a:lnTo>
                  <a:pt x="4416" y="2382"/>
                </a:lnTo>
                <a:lnTo>
                  <a:pt x="4411" y="2438"/>
                </a:lnTo>
                <a:lnTo>
                  <a:pt x="4405" y="2494"/>
                </a:lnTo>
                <a:lnTo>
                  <a:pt x="4397" y="2548"/>
                </a:lnTo>
                <a:lnTo>
                  <a:pt x="4388" y="2604"/>
                </a:lnTo>
                <a:lnTo>
                  <a:pt x="4378" y="2658"/>
                </a:lnTo>
                <a:lnTo>
                  <a:pt x="4366" y="2711"/>
                </a:lnTo>
                <a:lnTo>
                  <a:pt x="4353" y="2764"/>
                </a:lnTo>
                <a:lnTo>
                  <a:pt x="4339" y="2818"/>
                </a:lnTo>
                <a:lnTo>
                  <a:pt x="4323" y="2870"/>
                </a:lnTo>
                <a:lnTo>
                  <a:pt x="4307" y="2921"/>
                </a:lnTo>
                <a:lnTo>
                  <a:pt x="4289" y="2972"/>
                </a:lnTo>
                <a:lnTo>
                  <a:pt x="4270" y="3023"/>
                </a:lnTo>
                <a:lnTo>
                  <a:pt x="4249" y="3073"/>
                </a:lnTo>
                <a:lnTo>
                  <a:pt x="4227" y="3122"/>
                </a:lnTo>
                <a:lnTo>
                  <a:pt x="4205" y="3171"/>
                </a:lnTo>
                <a:lnTo>
                  <a:pt x="4181" y="3219"/>
                </a:lnTo>
                <a:lnTo>
                  <a:pt x="4156" y="3267"/>
                </a:lnTo>
                <a:lnTo>
                  <a:pt x="4130" y="3313"/>
                </a:lnTo>
                <a:lnTo>
                  <a:pt x="4102" y="3359"/>
                </a:lnTo>
                <a:lnTo>
                  <a:pt x="4074" y="3404"/>
                </a:lnTo>
                <a:lnTo>
                  <a:pt x="4045" y="3449"/>
                </a:lnTo>
                <a:lnTo>
                  <a:pt x="4014" y="3492"/>
                </a:lnTo>
                <a:lnTo>
                  <a:pt x="3983" y="3535"/>
                </a:lnTo>
                <a:lnTo>
                  <a:pt x="3951" y="3578"/>
                </a:lnTo>
                <a:lnTo>
                  <a:pt x="3917" y="3619"/>
                </a:lnTo>
                <a:lnTo>
                  <a:pt x="3883" y="3660"/>
                </a:lnTo>
                <a:lnTo>
                  <a:pt x="3848" y="3699"/>
                </a:lnTo>
                <a:lnTo>
                  <a:pt x="3812" y="3738"/>
                </a:lnTo>
                <a:lnTo>
                  <a:pt x="3775" y="3776"/>
                </a:lnTo>
                <a:lnTo>
                  <a:pt x="3736" y="3813"/>
                </a:lnTo>
                <a:lnTo>
                  <a:pt x="3698" y="3849"/>
                </a:lnTo>
                <a:lnTo>
                  <a:pt x="3659" y="3884"/>
                </a:lnTo>
                <a:lnTo>
                  <a:pt x="3618" y="3919"/>
                </a:lnTo>
                <a:lnTo>
                  <a:pt x="3577" y="3952"/>
                </a:lnTo>
                <a:lnTo>
                  <a:pt x="3534" y="3984"/>
                </a:lnTo>
                <a:lnTo>
                  <a:pt x="3492" y="4016"/>
                </a:lnTo>
                <a:lnTo>
                  <a:pt x="3448" y="4046"/>
                </a:lnTo>
                <a:lnTo>
                  <a:pt x="3403" y="4076"/>
                </a:lnTo>
                <a:lnTo>
                  <a:pt x="3357" y="4103"/>
                </a:lnTo>
                <a:lnTo>
                  <a:pt x="3312" y="4131"/>
                </a:lnTo>
                <a:lnTo>
                  <a:pt x="3265" y="4157"/>
                </a:lnTo>
                <a:lnTo>
                  <a:pt x="3218" y="4182"/>
                </a:lnTo>
                <a:lnTo>
                  <a:pt x="3170" y="4206"/>
                </a:lnTo>
                <a:lnTo>
                  <a:pt x="3121" y="4229"/>
                </a:lnTo>
                <a:lnTo>
                  <a:pt x="3072" y="4250"/>
                </a:lnTo>
                <a:lnTo>
                  <a:pt x="3022" y="4270"/>
                </a:lnTo>
                <a:lnTo>
                  <a:pt x="2971" y="4290"/>
                </a:lnTo>
                <a:lnTo>
                  <a:pt x="2920" y="4308"/>
                </a:lnTo>
                <a:lnTo>
                  <a:pt x="2869" y="4325"/>
                </a:lnTo>
                <a:lnTo>
                  <a:pt x="2817" y="4340"/>
                </a:lnTo>
                <a:lnTo>
                  <a:pt x="2764" y="4355"/>
                </a:lnTo>
                <a:lnTo>
                  <a:pt x="2710" y="4367"/>
                </a:lnTo>
                <a:lnTo>
                  <a:pt x="2657" y="4379"/>
                </a:lnTo>
                <a:lnTo>
                  <a:pt x="2603" y="4390"/>
                </a:lnTo>
                <a:lnTo>
                  <a:pt x="2548" y="4398"/>
                </a:lnTo>
                <a:lnTo>
                  <a:pt x="2492" y="4406"/>
                </a:lnTo>
                <a:lnTo>
                  <a:pt x="2437" y="4412"/>
                </a:lnTo>
                <a:lnTo>
                  <a:pt x="2382" y="4417"/>
                </a:lnTo>
                <a:lnTo>
                  <a:pt x="2325" y="4421"/>
                </a:lnTo>
                <a:lnTo>
                  <a:pt x="2268" y="4423"/>
                </a:lnTo>
                <a:lnTo>
                  <a:pt x="2211" y="4424"/>
                </a:lnTo>
                <a:lnTo>
                  <a:pt x="2154" y="4423"/>
                </a:lnTo>
                <a:lnTo>
                  <a:pt x="2097" y="4421"/>
                </a:lnTo>
                <a:lnTo>
                  <a:pt x="2041" y="4417"/>
                </a:lnTo>
                <a:lnTo>
                  <a:pt x="1985" y="4412"/>
                </a:lnTo>
                <a:lnTo>
                  <a:pt x="1929" y="4406"/>
                </a:lnTo>
                <a:lnTo>
                  <a:pt x="1874" y="4398"/>
                </a:lnTo>
                <a:lnTo>
                  <a:pt x="1820" y="4390"/>
                </a:lnTo>
                <a:lnTo>
                  <a:pt x="1765" y="4379"/>
                </a:lnTo>
                <a:lnTo>
                  <a:pt x="1711" y="4367"/>
                </a:lnTo>
                <a:lnTo>
                  <a:pt x="1658" y="4355"/>
                </a:lnTo>
                <a:lnTo>
                  <a:pt x="1606" y="4340"/>
                </a:lnTo>
                <a:lnTo>
                  <a:pt x="1554" y="4325"/>
                </a:lnTo>
                <a:lnTo>
                  <a:pt x="1501" y="4308"/>
                </a:lnTo>
                <a:lnTo>
                  <a:pt x="1450" y="4290"/>
                </a:lnTo>
                <a:lnTo>
                  <a:pt x="1400" y="4270"/>
                </a:lnTo>
                <a:lnTo>
                  <a:pt x="1350" y="4250"/>
                </a:lnTo>
                <a:lnTo>
                  <a:pt x="1301" y="4229"/>
                </a:lnTo>
                <a:lnTo>
                  <a:pt x="1252" y="4206"/>
                </a:lnTo>
                <a:lnTo>
                  <a:pt x="1204" y="4182"/>
                </a:lnTo>
                <a:lnTo>
                  <a:pt x="1157" y="4157"/>
                </a:lnTo>
                <a:lnTo>
                  <a:pt x="1110" y="4131"/>
                </a:lnTo>
                <a:lnTo>
                  <a:pt x="1064" y="4103"/>
                </a:lnTo>
                <a:lnTo>
                  <a:pt x="1019" y="4076"/>
                </a:lnTo>
                <a:lnTo>
                  <a:pt x="975" y="4046"/>
                </a:lnTo>
                <a:lnTo>
                  <a:pt x="931" y="4016"/>
                </a:lnTo>
                <a:lnTo>
                  <a:pt x="887" y="3984"/>
                </a:lnTo>
                <a:lnTo>
                  <a:pt x="846" y="3952"/>
                </a:lnTo>
                <a:lnTo>
                  <a:pt x="804" y="3919"/>
                </a:lnTo>
                <a:lnTo>
                  <a:pt x="764" y="3884"/>
                </a:lnTo>
                <a:lnTo>
                  <a:pt x="725" y="3849"/>
                </a:lnTo>
                <a:lnTo>
                  <a:pt x="685" y="3813"/>
                </a:lnTo>
                <a:lnTo>
                  <a:pt x="647" y="3776"/>
                </a:lnTo>
                <a:lnTo>
                  <a:pt x="611" y="3738"/>
                </a:lnTo>
                <a:lnTo>
                  <a:pt x="574" y="3699"/>
                </a:lnTo>
                <a:lnTo>
                  <a:pt x="538" y="3660"/>
                </a:lnTo>
                <a:lnTo>
                  <a:pt x="504" y="3619"/>
                </a:lnTo>
                <a:lnTo>
                  <a:pt x="471" y="3578"/>
                </a:lnTo>
                <a:lnTo>
                  <a:pt x="439" y="3535"/>
                </a:lnTo>
                <a:lnTo>
                  <a:pt x="407" y="3492"/>
                </a:lnTo>
                <a:lnTo>
                  <a:pt x="378" y="3449"/>
                </a:lnTo>
                <a:lnTo>
                  <a:pt x="348" y="3404"/>
                </a:lnTo>
                <a:lnTo>
                  <a:pt x="320" y="3359"/>
                </a:lnTo>
                <a:lnTo>
                  <a:pt x="292" y="3313"/>
                </a:lnTo>
                <a:lnTo>
                  <a:pt x="267" y="3267"/>
                </a:lnTo>
                <a:lnTo>
                  <a:pt x="241" y="3219"/>
                </a:lnTo>
                <a:lnTo>
                  <a:pt x="218" y="3171"/>
                </a:lnTo>
                <a:lnTo>
                  <a:pt x="195" y="3122"/>
                </a:lnTo>
                <a:lnTo>
                  <a:pt x="173" y="3073"/>
                </a:lnTo>
                <a:lnTo>
                  <a:pt x="153" y="3023"/>
                </a:lnTo>
                <a:lnTo>
                  <a:pt x="134" y="2972"/>
                </a:lnTo>
                <a:lnTo>
                  <a:pt x="116" y="2921"/>
                </a:lnTo>
                <a:lnTo>
                  <a:pt x="99" y="2870"/>
                </a:lnTo>
                <a:lnTo>
                  <a:pt x="84" y="2818"/>
                </a:lnTo>
                <a:lnTo>
                  <a:pt x="69" y="2764"/>
                </a:lnTo>
                <a:lnTo>
                  <a:pt x="56" y="2711"/>
                </a:lnTo>
                <a:lnTo>
                  <a:pt x="44" y="2658"/>
                </a:lnTo>
                <a:lnTo>
                  <a:pt x="34" y="2604"/>
                </a:lnTo>
                <a:lnTo>
                  <a:pt x="25" y="2548"/>
                </a:lnTo>
                <a:lnTo>
                  <a:pt x="17" y="2494"/>
                </a:lnTo>
                <a:lnTo>
                  <a:pt x="10" y="2438"/>
                </a:lnTo>
                <a:lnTo>
                  <a:pt x="6" y="2382"/>
                </a:lnTo>
                <a:lnTo>
                  <a:pt x="2" y="2326"/>
                </a:lnTo>
                <a:lnTo>
                  <a:pt x="0" y="2270"/>
                </a:lnTo>
                <a:lnTo>
                  <a:pt x="0" y="2212"/>
                </a:lnTo>
                <a:lnTo>
                  <a:pt x="0" y="2155"/>
                </a:lnTo>
                <a:lnTo>
                  <a:pt x="2" y="2098"/>
                </a:lnTo>
                <a:lnTo>
                  <a:pt x="6" y="2042"/>
                </a:lnTo>
                <a:lnTo>
                  <a:pt x="10" y="1985"/>
                </a:lnTo>
                <a:lnTo>
                  <a:pt x="17" y="1930"/>
                </a:lnTo>
                <a:lnTo>
                  <a:pt x="25" y="1875"/>
                </a:lnTo>
                <a:lnTo>
                  <a:pt x="34" y="1820"/>
                </a:lnTo>
                <a:lnTo>
                  <a:pt x="44" y="1766"/>
                </a:lnTo>
                <a:lnTo>
                  <a:pt x="56" y="1713"/>
                </a:lnTo>
                <a:lnTo>
                  <a:pt x="69" y="1660"/>
                </a:lnTo>
                <a:lnTo>
                  <a:pt x="84" y="1606"/>
                </a:lnTo>
                <a:lnTo>
                  <a:pt x="99" y="1554"/>
                </a:lnTo>
                <a:lnTo>
                  <a:pt x="116" y="1502"/>
                </a:lnTo>
                <a:lnTo>
                  <a:pt x="134" y="1451"/>
                </a:lnTo>
                <a:lnTo>
                  <a:pt x="153" y="1401"/>
                </a:lnTo>
                <a:lnTo>
                  <a:pt x="173" y="1351"/>
                </a:lnTo>
                <a:lnTo>
                  <a:pt x="195" y="1302"/>
                </a:lnTo>
                <a:lnTo>
                  <a:pt x="218" y="1253"/>
                </a:lnTo>
                <a:lnTo>
                  <a:pt x="241" y="1205"/>
                </a:lnTo>
                <a:lnTo>
                  <a:pt x="267" y="1157"/>
                </a:lnTo>
                <a:lnTo>
                  <a:pt x="292" y="1111"/>
                </a:lnTo>
                <a:lnTo>
                  <a:pt x="320" y="1065"/>
                </a:lnTo>
                <a:lnTo>
                  <a:pt x="348" y="1020"/>
                </a:lnTo>
                <a:lnTo>
                  <a:pt x="378" y="975"/>
                </a:lnTo>
                <a:lnTo>
                  <a:pt x="407" y="932"/>
                </a:lnTo>
                <a:lnTo>
                  <a:pt x="439" y="889"/>
                </a:lnTo>
                <a:lnTo>
                  <a:pt x="471" y="846"/>
                </a:lnTo>
                <a:lnTo>
                  <a:pt x="504" y="805"/>
                </a:lnTo>
                <a:lnTo>
                  <a:pt x="538" y="765"/>
                </a:lnTo>
                <a:lnTo>
                  <a:pt x="574" y="725"/>
                </a:lnTo>
                <a:lnTo>
                  <a:pt x="611" y="686"/>
                </a:lnTo>
                <a:lnTo>
                  <a:pt x="647" y="649"/>
                </a:lnTo>
                <a:lnTo>
                  <a:pt x="685" y="611"/>
                </a:lnTo>
                <a:lnTo>
                  <a:pt x="725" y="575"/>
                </a:lnTo>
                <a:lnTo>
                  <a:pt x="764" y="540"/>
                </a:lnTo>
                <a:lnTo>
                  <a:pt x="804" y="505"/>
                </a:lnTo>
                <a:lnTo>
                  <a:pt x="846" y="472"/>
                </a:lnTo>
                <a:lnTo>
                  <a:pt x="887" y="440"/>
                </a:lnTo>
                <a:lnTo>
                  <a:pt x="931" y="408"/>
                </a:lnTo>
                <a:lnTo>
                  <a:pt x="975" y="378"/>
                </a:lnTo>
                <a:lnTo>
                  <a:pt x="1019" y="348"/>
                </a:lnTo>
                <a:lnTo>
                  <a:pt x="1064" y="321"/>
                </a:lnTo>
                <a:lnTo>
                  <a:pt x="1110" y="293"/>
                </a:lnTo>
                <a:lnTo>
                  <a:pt x="1157" y="267"/>
                </a:lnTo>
                <a:lnTo>
                  <a:pt x="1204" y="242"/>
                </a:lnTo>
                <a:lnTo>
                  <a:pt x="1252" y="219"/>
                </a:lnTo>
                <a:lnTo>
                  <a:pt x="1301" y="195"/>
                </a:lnTo>
                <a:lnTo>
                  <a:pt x="1350" y="174"/>
                </a:lnTo>
                <a:lnTo>
                  <a:pt x="1400" y="154"/>
                </a:lnTo>
                <a:lnTo>
                  <a:pt x="1450" y="134"/>
                </a:lnTo>
                <a:lnTo>
                  <a:pt x="1501" y="116"/>
                </a:lnTo>
                <a:lnTo>
                  <a:pt x="1554" y="99"/>
                </a:lnTo>
                <a:lnTo>
                  <a:pt x="1606" y="84"/>
                </a:lnTo>
                <a:lnTo>
                  <a:pt x="1658" y="70"/>
                </a:lnTo>
                <a:lnTo>
                  <a:pt x="1711" y="57"/>
                </a:lnTo>
                <a:lnTo>
                  <a:pt x="1765" y="45"/>
                </a:lnTo>
                <a:lnTo>
                  <a:pt x="1820" y="34"/>
                </a:lnTo>
                <a:lnTo>
                  <a:pt x="1874" y="26"/>
                </a:lnTo>
                <a:lnTo>
                  <a:pt x="1929" y="18"/>
                </a:lnTo>
                <a:lnTo>
                  <a:pt x="1985" y="12"/>
                </a:lnTo>
                <a:lnTo>
                  <a:pt x="2041" y="7"/>
                </a:lnTo>
                <a:lnTo>
                  <a:pt x="2097" y="4"/>
                </a:lnTo>
                <a:lnTo>
                  <a:pt x="2154" y="1"/>
                </a:lnTo>
                <a:lnTo>
                  <a:pt x="2211" y="0"/>
                </a:lnTo>
                <a:close/>
                <a:moveTo>
                  <a:pt x="1730" y="2519"/>
                </a:moveTo>
                <a:lnTo>
                  <a:pt x="1730" y="2519"/>
                </a:lnTo>
                <a:lnTo>
                  <a:pt x="1753" y="2453"/>
                </a:lnTo>
                <a:lnTo>
                  <a:pt x="1776" y="2389"/>
                </a:lnTo>
                <a:lnTo>
                  <a:pt x="1802" y="2327"/>
                </a:lnTo>
                <a:lnTo>
                  <a:pt x="1814" y="2297"/>
                </a:lnTo>
                <a:lnTo>
                  <a:pt x="1828" y="2267"/>
                </a:lnTo>
                <a:lnTo>
                  <a:pt x="1843" y="2238"/>
                </a:lnTo>
                <a:lnTo>
                  <a:pt x="1858" y="2210"/>
                </a:lnTo>
                <a:lnTo>
                  <a:pt x="1874" y="2181"/>
                </a:lnTo>
                <a:lnTo>
                  <a:pt x="1890" y="2153"/>
                </a:lnTo>
                <a:lnTo>
                  <a:pt x="1907" y="2126"/>
                </a:lnTo>
                <a:lnTo>
                  <a:pt x="1924" y="2099"/>
                </a:lnTo>
                <a:lnTo>
                  <a:pt x="1942" y="2073"/>
                </a:lnTo>
                <a:lnTo>
                  <a:pt x="1961" y="2047"/>
                </a:lnTo>
                <a:lnTo>
                  <a:pt x="1981" y="2022"/>
                </a:lnTo>
                <a:lnTo>
                  <a:pt x="2002" y="1996"/>
                </a:lnTo>
                <a:lnTo>
                  <a:pt x="2023" y="1971"/>
                </a:lnTo>
                <a:lnTo>
                  <a:pt x="2045" y="1947"/>
                </a:lnTo>
                <a:lnTo>
                  <a:pt x="2069" y="1923"/>
                </a:lnTo>
                <a:lnTo>
                  <a:pt x="2093" y="1899"/>
                </a:lnTo>
                <a:lnTo>
                  <a:pt x="2118" y="1875"/>
                </a:lnTo>
                <a:lnTo>
                  <a:pt x="2144" y="1852"/>
                </a:lnTo>
                <a:lnTo>
                  <a:pt x="2171" y="1829"/>
                </a:lnTo>
                <a:lnTo>
                  <a:pt x="2198" y="1807"/>
                </a:lnTo>
                <a:lnTo>
                  <a:pt x="2228" y="1784"/>
                </a:lnTo>
                <a:lnTo>
                  <a:pt x="2258" y="1762"/>
                </a:lnTo>
                <a:lnTo>
                  <a:pt x="2290" y="1739"/>
                </a:lnTo>
                <a:lnTo>
                  <a:pt x="2322" y="1718"/>
                </a:lnTo>
                <a:lnTo>
                  <a:pt x="2356" y="1696"/>
                </a:lnTo>
                <a:lnTo>
                  <a:pt x="2391" y="1675"/>
                </a:lnTo>
                <a:lnTo>
                  <a:pt x="2372" y="1669"/>
                </a:lnTo>
                <a:lnTo>
                  <a:pt x="2353" y="1665"/>
                </a:lnTo>
                <a:lnTo>
                  <a:pt x="2334" y="1662"/>
                </a:lnTo>
                <a:lnTo>
                  <a:pt x="2314" y="1660"/>
                </a:lnTo>
                <a:lnTo>
                  <a:pt x="2295" y="1658"/>
                </a:lnTo>
                <a:lnTo>
                  <a:pt x="2276" y="1656"/>
                </a:lnTo>
                <a:lnTo>
                  <a:pt x="2256" y="1655"/>
                </a:lnTo>
                <a:lnTo>
                  <a:pt x="2237" y="1656"/>
                </a:lnTo>
                <a:lnTo>
                  <a:pt x="2218" y="1658"/>
                </a:lnTo>
                <a:lnTo>
                  <a:pt x="2198" y="1659"/>
                </a:lnTo>
                <a:lnTo>
                  <a:pt x="2180" y="1662"/>
                </a:lnTo>
                <a:lnTo>
                  <a:pt x="2161" y="1665"/>
                </a:lnTo>
                <a:lnTo>
                  <a:pt x="2142" y="1669"/>
                </a:lnTo>
                <a:lnTo>
                  <a:pt x="2124" y="1673"/>
                </a:lnTo>
                <a:lnTo>
                  <a:pt x="2105" y="1679"/>
                </a:lnTo>
                <a:lnTo>
                  <a:pt x="2087" y="1684"/>
                </a:lnTo>
                <a:lnTo>
                  <a:pt x="2069" y="1692"/>
                </a:lnTo>
                <a:lnTo>
                  <a:pt x="2051" y="1698"/>
                </a:lnTo>
                <a:lnTo>
                  <a:pt x="2032" y="1706"/>
                </a:lnTo>
                <a:lnTo>
                  <a:pt x="2015" y="1715"/>
                </a:lnTo>
                <a:lnTo>
                  <a:pt x="1997" y="1723"/>
                </a:lnTo>
                <a:lnTo>
                  <a:pt x="1980" y="1733"/>
                </a:lnTo>
                <a:lnTo>
                  <a:pt x="1947" y="1754"/>
                </a:lnTo>
                <a:lnTo>
                  <a:pt x="1915" y="1778"/>
                </a:lnTo>
                <a:lnTo>
                  <a:pt x="1885" y="1802"/>
                </a:lnTo>
                <a:lnTo>
                  <a:pt x="1856" y="1830"/>
                </a:lnTo>
                <a:lnTo>
                  <a:pt x="1842" y="1845"/>
                </a:lnTo>
                <a:lnTo>
                  <a:pt x="1828" y="1860"/>
                </a:lnTo>
                <a:lnTo>
                  <a:pt x="1815" y="1875"/>
                </a:lnTo>
                <a:lnTo>
                  <a:pt x="1803" y="1891"/>
                </a:lnTo>
                <a:lnTo>
                  <a:pt x="1791" y="1907"/>
                </a:lnTo>
                <a:lnTo>
                  <a:pt x="1779" y="1924"/>
                </a:lnTo>
                <a:lnTo>
                  <a:pt x="1769" y="1941"/>
                </a:lnTo>
                <a:lnTo>
                  <a:pt x="1758" y="1958"/>
                </a:lnTo>
                <a:lnTo>
                  <a:pt x="1748" y="1976"/>
                </a:lnTo>
                <a:lnTo>
                  <a:pt x="1739" y="1994"/>
                </a:lnTo>
                <a:lnTo>
                  <a:pt x="1730" y="2013"/>
                </a:lnTo>
                <a:lnTo>
                  <a:pt x="1722" y="2032"/>
                </a:lnTo>
                <a:lnTo>
                  <a:pt x="1714" y="2051"/>
                </a:lnTo>
                <a:lnTo>
                  <a:pt x="1708" y="2070"/>
                </a:lnTo>
                <a:lnTo>
                  <a:pt x="1701" y="2091"/>
                </a:lnTo>
                <a:lnTo>
                  <a:pt x="1695" y="2111"/>
                </a:lnTo>
                <a:lnTo>
                  <a:pt x="1691" y="2132"/>
                </a:lnTo>
                <a:lnTo>
                  <a:pt x="1687" y="2152"/>
                </a:lnTo>
                <a:lnTo>
                  <a:pt x="1683" y="2174"/>
                </a:lnTo>
                <a:lnTo>
                  <a:pt x="1680" y="2195"/>
                </a:lnTo>
                <a:lnTo>
                  <a:pt x="1678" y="2217"/>
                </a:lnTo>
                <a:lnTo>
                  <a:pt x="1677" y="2240"/>
                </a:lnTo>
                <a:lnTo>
                  <a:pt x="1677" y="2261"/>
                </a:lnTo>
                <a:lnTo>
                  <a:pt x="1677" y="2284"/>
                </a:lnTo>
                <a:lnTo>
                  <a:pt x="1679" y="2307"/>
                </a:lnTo>
                <a:lnTo>
                  <a:pt x="1680" y="2329"/>
                </a:lnTo>
                <a:lnTo>
                  <a:pt x="1683" y="2353"/>
                </a:lnTo>
                <a:lnTo>
                  <a:pt x="1688" y="2376"/>
                </a:lnTo>
                <a:lnTo>
                  <a:pt x="1692" y="2399"/>
                </a:lnTo>
                <a:lnTo>
                  <a:pt x="1698" y="2423"/>
                </a:lnTo>
                <a:lnTo>
                  <a:pt x="1705" y="2446"/>
                </a:lnTo>
                <a:lnTo>
                  <a:pt x="1712" y="2471"/>
                </a:lnTo>
                <a:lnTo>
                  <a:pt x="1721" y="2494"/>
                </a:lnTo>
                <a:lnTo>
                  <a:pt x="1730" y="2519"/>
                </a:lnTo>
                <a:close/>
                <a:moveTo>
                  <a:pt x="2609" y="4676"/>
                </a:moveTo>
                <a:lnTo>
                  <a:pt x="2609" y="5036"/>
                </a:lnTo>
                <a:lnTo>
                  <a:pt x="3991" y="5281"/>
                </a:lnTo>
                <a:lnTo>
                  <a:pt x="3991" y="6016"/>
                </a:lnTo>
                <a:lnTo>
                  <a:pt x="501" y="6016"/>
                </a:lnTo>
                <a:lnTo>
                  <a:pt x="501" y="5281"/>
                </a:lnTo>
                <a:lnTo>
                  <a:pt x="1813" y="5036"/>
                </a:lnTo>
                <a:lnTo>
                  <a:pt x="1813" y="4676"/>
                </a:lnTo>
                <a:lnTo>
                  <a:pt x="1861" y="4686"/>
                </a:lnTo>
                <a:lnTo>
                  <a:pt x="1910" y="4695"/>
                </a:lnTo>
                <a:lnTo>
                  <a:pt x="1959" y="4703"/>
                </a:lnTo>
                <a:lnTo>
                  <a:pt x="2009" y="4709"/>
                </a:lnTo>
                <a:lnTo>
                  <a:pt x="2059" y="4713"/>
                </a:lnTo>
                <a:lnTo>
                  <a:pt x="2109" y="4717"/>
                </a:lnTo>
                <a:lnTo>
                  <a:pt x="2160" y="4720"/>
                </a:lnTo>
                <a:lnTo>
                  <a:pt x="2211" y="4720"/>
                </a:lnTo>
                <a:lnTo>
                  <a:pt x="2262" y="4720"/>
                </a:lnTo>
                <a:lnTo>
                  <a:pt x="2312" y="4717"/>
                </a:lnTo>
                <a:lnTo>
                  <a:pt x="2363" y="4713"/>
                </a:lnTo>
                <a:lnTo>
                  <a:pt x="2413" y="4709"/>
                </a:lnTo>
                <a:lnTo>
                  <a:pt x="2462" y="4703"/>
                </a:lnTo>
                <a:lnTo>
                  <a:pt x="2511" y="4695"/>
                </a:lnTo>
                <a:lnTo>
                  <a:pt x="2560" y="4686"/>
                </a:lnTo>
                <a:lnTo>
                  <a:pt x="2609" y="4676"/>
                </a:lnTo>
                <a:close/>
                <a:moveTo>
                  <a:pt x="2211" y="1201"/>
                </a:moveTo>
                <a:lnTo>
                  <a:pt x="2211" y="1201"/>
                </a:lnTo>
                <a:lnTo>
                  <a:pt x="2185" y="1201"/>
                </a:lnTo>
                <a:lnTo>
                  <a:pt x="2159" y="1202"/>
                </a:lnTo>
                <a:lnTo>
                  <a:pt x="2134" y="1204"/>
                </a:lnTo>
                <a:lnTo>
                  <a:pt x="2108" y="1206"/>
                </a:lnTo>
                <a:lnTo>
                  <a:pt x="2082" y="1209"/>
                </a:lnTo>
                <a:lnTo>
                  <a:pt x="2057" y="1213"/>
                </a:lnTo>
                <a:lnTo>
                  <a:pt x="2007" y="1221"/>
                </a:lnTo>
                <a:lnTo>
                  <a:pt x="1958" y="1233"/>
                </a:lnTo>
                <a:lnTo>
                  <a:pt x="1910" y="1247"/>
                </a:lnTo>
                <a:lnTo>
                  <a:pt x="1863" y="1263"/>
                </a:lnTo>
                <a:lnTo>
                  <a:pt x="1817" y="1281"/>
                </a:lnTo>
                <a:lnTo>
                  <a:pt x="1773" y="1301"/>
                </a:lnTo>
                <a:lnTo>
                  <a:pt x="1729" y="1323"/>
                </a:lnTo>
                <a:lnTo>
                  <a:pt x="1687" y="1347"/>
                </a:lnTo>
                <a:lnTo>
                  <a:pt x="1646" y="1373"/>
                </a:lnTo>
                <a:lnTo>
                  <a:pt x="1606" y="1402"/>
                </a:lnTo>
                <a:lnTo>
                  <a:pt x="1567" y="1432"/>
                </a:lnTo>
                <a:lnTo>
                  <a:pt x="1531" y="1464"/>
                </a:lnTo>
                <a:lnTo>
                  <a:pt x="1496" y="1497"/>
                </a:lnTo>
                <a:lnTo>
                  <a:pt x="1463" y="1532"/>
                </a:lnTo>
                <a:lnTo>
                  <a:pt x="1431" y="1569"/>
                </a:lnTo>
                <a:lnTo>
                  <a:pt x="1400" y="1607"/>
                </a:lnTo>
                <a:lnTo>
                  <a:pt x="1373" y="1647"/>
                </a:lnTo>
                <a:lnTo>
                  <a:pt x="1346" y="1687"/>
                </a:lnTo>
                <a:lnTo>
                  <a:pt x="1322" y="1730"/>
                </a:lnTo>
                <a:lnTo>
                  <a:pt x="1299" y="1774"/>
                </a:lnTo>
                <a:lnTo>
                  <a:pt x="1279" y="1818"/>
                </a:lnTo>
                <a:lnTo>
                  <a:pt x="1261" y="1864"/>
                </a:lnTo>
                <a:lnTo>
                  <a:pt x="1245" y="1911"/>
                </a:lnTo>
                <a:lnTo>
                  <a:pt x="1232" y="1960"/>
                </a:lnTo>
                <a:lnTo>
                  <a:pt x="1220" y="2009"/>
                </a:lnTo>
                <a:lnTo>
                  <a:pt x="1212" y="2058"/>
                </a:lnTo>
                <a:lnTo>
                  <a:pt x="1208" y="2083"/>
                </a:lnTo>
                <a:lnTo>
                  <a:pt x="1206" y="2109"/>
                </a:lnTo>
                <a:lnTo>
                  <a:pt x="1202" y="2134"/>
                </a:lnTo>
                <a:lnTo>
                  <a:pt x="1201" y="2160"/>
                </a:lnTo>
                <a:lnTo>
                  <a:pt x="1200" y="2185"/>
                </a:lnTo>
                <a:lnTo>
                  <a:pt x="1200" y="2212"/>
                </a:lnTo>
                <a:lnTo>
                  <a:pt x="1200" y="2238"/>
                </a:lnTo>
                <a:lnTo>
                  <a:pt x="1201" y="2264"/>
                </a:lnTo>
                <a:lnTo>
                  <a:pt x="1202" y="2290"/>
                </a:lnTo>
                <a:lnTo>
                  <a:pt x="1206" y="2315"/>
                </a:lnTo>
                <a:lnTo>
                  <a:pt x="1208" y="2341"/>
                </a:lnTo>
                <a:lnTo>
                  <a:pt x="1212" y="2366"/>
                </a:lnTo>
                <a:lnTo>
                  <a:pt x="1220" y="2415"/>
                </a:lnTo>
                <a:lnTo>
                  <a:pt x="1232" y="2464"/>
                </a:lnTo>
                <a:lnTo>
                  <a:pt x="1245" y="2512"/>
                </a:lnTo>
                <a:lnTo>
                  <a:pt x="1261" y="2560"/>
                </a:lnTo>
                <a:lnTo>
                  <a:pt x="1279" y="2606"/>
                </a:lnTo>
                <a:lnTo>
                  <a:pt x="1299" y="2651"/>
                </a:lnTo>
                <a:lnTo>
                  <a:pt x="1322" y="2694"/>
                </a:lnTo>
                <a:lnTo>
                  <a:pt x="1346" y="2737"/>
                </a:lnTo>
                <a:lnTo>
                  <a:pt x="1373" y="2777"/>
                </a:lnTo>
                <a:lnTo>
                  <a:pt x="1400" y="2817"/>
                </a:lnTo>
                <a:lnTo>
                  <a:pt x="1431" y="2855"/>
                </a:lnTo>
                <a:lnTo>
                  <a:pt x="1463" y="2892"/>
                </a:lnTo>
                <a:lnTo>
                  <a:pt x="1496" y="2927"/>
                </a:lnTo>
                <a:lnTo>
                  <a:pt x="1531" y="2960"/>
                </a:lnTo>
                <a:lnTo>
                  <a:pt x="1567" y="2992"/>
                </a:lnTo>
                <a:lnTo>
                  <a:pt x="1606" y="3022"/>
                </a:lnTo>
                <a:lnTo>
                  <a:pt x="1646" y="3051"/>
                </a:lnTo>
                <a:lnTo>
                  <a:pt x="1687" y="3077"/>
                </a:lnTo>
                <a:lnTo>
                  <a:pt x="1729" y="3101"/>
                </a:lnTo>
                <a:lnTo>
                  <a:pt x="1773" y="3123"/>
                </a:lnTo>
                <a:lnTo>
                  <a:pt x="1817" y="3143"/>
                </a:lnTo>
                <a:lnTo>
                  <a:pt x="1863" y="3161"/>
                </a:lnTo>
                <a:lnTo>
                  <a:pt x="1910" y="3177"/>
                </a:lnTo>
                <a:lnTo>
                  <a:pt x="1958" y="3191"/>
                </a:lnTo>
                <a:lnTo>
                  <a:pt x="2007" y="3203"/>
                </a:lnTo>
                <a:lnTo>
                  <a:pt x="2057" y="3211"/>
                </a:lnTo>
                <a:lnTo>
                  <a:pt x="2082" y="3215"/>
                </a:lnTo>
                <a:lnTo>
                  <a:pt x="2108" y="3218"/>
                </a:lnTo>
                <a:lnTo>
                  <a:pt x="2134" y="3220"/>
                </a:lnTo>
                <a:lnTo>
                  <a:pt x="2159" y="3222"/>
                </a:lnTo>
                <a:lnTo>
                  <a:pt x="2185" y="3223"/>
                </a:lnTo>
                <a:lnTo>
                  <a:pt x="2211" y="3223"/>
                </a:lnTo>
                <a:lnTo>
                  <a:pt x="2237" y="3223"/>
                </a:lnTo>
                <a:lnTo>
                  <a:pt x="2263" y="3222"/>
                </a:lnTo>
                <a:lnTo>
                  <a:pt x="2289" y="3220"/>
                </a:lnTo>
                <a:lnTo>
                  <a:pt x="2314" y="3218"/>
                </a:lnTo>
                <a:lnTo>
                  <a:pt x="2340" y="3215"/>
                </a:lnTo>
                <a:lnTo>
                  <a:pt x="2365" y="3211"/>
                </a:lnTo>
                <a:lnTo>
                  <a:pt x="2415" y="3203"/>
                </a:lnTo>
                <a:lnTo>
                  <a:pt x="2463" y="3191"/>
                </a:lnTo>
                <a:lnTo>
                  <a:pt x="2511" y="3177"/>
                </a:lnTo>
                <a:lnTo>
                  <a:pt x="2558" y="3161"/>
                </a:lnTo>
                <a:lnTo>
                  <a:pt x="2605" y="3143"/>
                </a:lnTo>
                <a:lnTo>
                  <a:pt x="2650" y="3123"/>
                </a:lnTo>
                <a:lnTo>
                  <a:pt x="2693" y="3101"/>
                </a:lnTo>
                <a:lnTo>
                  <a:pt x="2735" y="3077"/>
                </a:lnTo>
                <a:lnTo>
                  <a:pt x="2776" y="3051"/>
                </a:lnTo>
                <a:lnTo>
                  <a:pt x="2816" y="3022"/>
                </a:lnTo>
                <a:lnTo>
                  <a:pt x="2854" y="2992"/>
                </a:lnTo>
                <a:lnTo>
                  <a:pt x="2891" y="2960"/>
                </a:lnTo>
                <a:lnTo>
                  <a:pt x="2926" y="2927"/>
                </a:lnTo>
                <a:lnTo>
                  <a:pt x="2959" y="2892"/>
                </a:lnTo>
                <a:lnTo>
                  <a:pt x="2991" y="2855"/>
                </a:lnTo>
                <a:lnTo>
                  <a:pt x="3021" y="2817"/>
                </a:lnTo>
                <a:lnTo>
                  <a:pt x="3050" y="2777"/>
                </a:lnTo>
                <a:lnTo>
                  <a:pt x="3075" y="2737"/>
                </a:lnTo>
                <a:lnTo>
                  <a:pt x="3100" y="2694"/>
                </a:lnTo>
                <a:lnTo>
                  <a:pt x="3122" y="2651"/>
                </a:lnTo>
                <a:lnTo>
                  <a:pt x="3142" y="2606"/>
                </a:lnTo>
                <a:lnTo>
                  <a:pt x="3161" y="2560"/>
                </a:lnTo>
                <a:lnTo>
                  <a:pt x="3177" y="2512"/>
                </a:lnTo>
                <a:lnTo>
                  <a:pt x="3190" y="2464"/>
                </a:lnTo>
                <a:lnTo>
                  <a:pt x="3202" y="2415"/>
                </a:lnTo>
                <a:lnTo>
                  <a:pt x="3211" y="2366"/>
                </a:lnTo>
                <a:lnTo>
                  <a:pt x="3214" y="2341"/>
                </a:lnTo>
                <a:lnTo>
                  <a:pt x="3217" y="2315"/>
                </a:lnTo>
                <a:lnTo>
                  <a:pt x="3219" y="2290"/>
                </a:lnTo>
                <a:lnTo>
                  <a:pt x="3221" y="2264"/>
                </a:lnTo>
                <a:lnTo>
                  <a:pt x="3221" y="2238"/>
                </a:lnTo>
                <a:lnTo>
                  <a:pt x="3222" y="2212"/>
                </a:lnTo>
                <a:lnTo>
                  <a:pt x="3221" y="2185"/>
                </a:lnTo>
                <a:lnTo>
                  <a:pt x="3221" y="2160"/>
                </a:lnTo>
                <a:lnTo>
                  <a:pt x="3219" y="2134"/>
                </a:lnTo>
                <a:lnTo>
                  <a:pt x="3217" y="2109"/>
                </a:lnTo>
                <a:lnTo>
                  <a:pt x="3214" y="2083"/>
                </a:lnTo>
                <a:lnTo>
                  <a:pt x="3211" y="2058"/>
                </a:lnTo>
                <a:lnTo>
                  <a:pt x="3202" y="2009"/>
                </a:lnTo>
                <a:lnTo>
                  <a:pt x="3190" y="1960"/>
                </a:lnTo>
                <a:lnTo>
                  <a:pt x="3177" y="1911"/>
                </a:lnTo>
                <a:lnTo>
                  <a:pt x="3161" y="1864"/>
                </a:lnTo>
                <a:lnTo>
                  <a:pt x="3142" y="1818"/>
                </a:lnTo>
                <a:lnTo>
                  <a:pt x="3122" y="1774"/>
                </a:lnTo>
                <a:lnTo>
                  <a:pt x="3100" y="1730"/>
                </a:lnTo>
                <a:lnTo>
                  <a:pt x="3075" y="1687"/>
                </a:lnTo>
                <a:lnTo>
                  <a:pt x="3050" y="1647"/>
                </a:lnTo>
                <a:lnTo>
                  <a:pt x="3021" y="1607"/>
                </a:lnTo>
                <a:lnTo>
                  <a:pt x="2991" y="1569"/>
                </a:lnTo>
                <a:lnTo>
                  <a:pt x="2959" y="1532"/>
                </a:lnTo>
                <a:lnTo>
                  <a:pt x="2926" y="1497"/>
                </a:lnTo>
                <a:lnTo>
                  <a:pt x="2891" y="1464"/>
                </a:lnTo>
                <a:lnTo>
                  <a:pt x="2854" y="1432"/>
                </a:lnTo>
                <a:lnTo>
                  <a:pt x="2816" y="1402"/>
                </a:lnTo>
                <a:lnTo>
                  <a:pt x="2776" y="1373"/>
                </a:lnTo>
                <a:lnTo>
                  <a:pt x="2735" y="1347"/>
                </a:lnTo>
                <a:lnTo>
                  <a:pt x="2693" y="1323"/>
                </a:lnTo>
                <a:lnTo>
                  <a:pt x="2650" y="1301"/>
                </a:lnTo>
                <a:lnTo>
                  <a:pt x="2605" y="1281"/>
                </a:lnTo>
                <a:lnTo>
                  <a:pt x="2558" y="1263"/>
                </a:lnTo>
                <a:lnTo>
                  <a:pt x="2511" y="1247"/>
                </a:lnTo>
                <a:lnTo>
                  <a:pt x="2463" y="1233"/>
                </a:lnTo>
                <a:lnTo>
                  <a:pt x="2415" y="1221"/>
                </a:lnTo>
                <a:lnTo>
                  <a:pt x="2365" y="1213"/>
                </a:lnTo>
                <a:lnTo>
                  <a:pt x="2340" y="1209"/>
                </a:lnTo>
                <a:lnTo>
                  <a:pt x="2314" y="1206"/>
                </a:lnTo>
                <a:lnTo>
                  <a:pt x="2289" y="1204"/>
                </a:lnTo>
                <a:lnTo>
                  <a:pt x="2263" y="1202"/>
                </a:lnTo>
                <a:lnTo>
                  <a:pt x="2237" y="1201"/>
                </a:lnTo>
                <a:lnTo>
                  <a:pt x="2211" y="1201"/>
                </a:lnTo>
                <a:close/>
                <a:moveTo>
                  <a:pt x="2706" y="1717"/>
                </a:moveTo>
                <a:lnTo>
                  <a:pt x="2706" y="1717"/>
                </a:lnTo>
                <a:lnTo>
                  <a:pt x="2682" y="1694"/>
                </a:lnTo>
                <a:lnTo>
                  <a:pt x="2656" y="1672"/>
                </a:lnTo>
                <a:lnTo>
                  <a:pt x="2630" y="1651"/>
                </a:lnTo>
                <a:lnTo>
                  <a:pt x="2602" y="1632"/>
                </a:lnTo>
                <a:lnTo>
                  <a:pt x="2574" y="1614"/>
                </a:lnTo>
                <a:lnTo>
                  <a:pt x="2544" y="1597"/>
                </a:lnTo>
                <a:lnTo>
                  <a:pt x="2515" y="1581"/>
                </a:lnTo>
                <a:lnTo>
                  <a:pt x="2484" y="1567"/>
                </a:lnTo>
                <a:lnTo>
                  <a:pt x="2452" y="1554"/>
                </a:lnTo>
                <a:lnTo>
                  <a:pt x="2419" y="1544"/>
                </a:lnTo>
                <a:lnTo>
                  <a:pt x="2386" y="1534"/>
                </a:lnTo>
                <a:lnTo>
                  <a:pt x="2352" y="1527"/>
                </a:lnTo>
                <a:lnTo>
                  <a:pt x="2318" y="1520"/>
                </a:lnTo>
                <a:lnTo>
                  <a:pt x="2283" y="1516"/>
                </a:lnTo>
                <a:lnTo>
                  <a:pt x="2247" y="1513"/>
                </a:lnTo>
                <a:lnTo>
                  <a:pt x="2211" y="1513"/>
                </a:lnTo>
                <a:lnTo>
                  <a:pt x="2175" y="1513"/>
                </a:lnTo>
                <a:lnTo>
                  <a:pt x="2140" y="1516"/>
                </a:lnTo>
                <a:lnTo>
                  <a:pt x="2105" y="1520"/>
                </a:lnTo>
                <a:lnTo>
                  <a:pt x="2070" y="1527"/>
                </a:lnTo>
                <a:lnTo>
                  <a:pt x="2036" y="1534"/>
                </a:lnTo>
                <a:lnTo>
                  <a:pt x="2003" y="1544"/>
                </a:lnTo>
                <a:lnTo>
                  <a:pt x="1971" y="1554"/>
                </a:lnTo>
                <a:lnTo>
                  <a:pt x="1939" y="1567"/>
                </a:lnTo>
                <a:lnTo>
                  <a:pt x="1908" y="1581"/>
                </a:lnTo>
                <a:lnTo>
                  <a:pt x="1877" y="1597"/>
                </a:lnTo>
                <a:lnTo>
                  <a:pt x="1848" y="1614"/>
                </a:lnTo>
                <a:lnTo>
                  <a:pt x="1820" y="1632"/>
                </a:lnTo>
                <a:lnTo>
                  <a:pt x="1792" y="1651"/>
                </a:lnTo>
                <a:lnTo>
                  <a:pt x="1766" y="1672"/>
                </a:lnTo>
                <a:lnTo>
                  <a:pt x="1741" y="1694"/>
                </a:lnTo>
                <a:lnTo>
                  <a:pt x="1716" y="1717"/>
                </a:lnTo>
                <a:lnTo>
                  <a:pt x="1693" y="1742"/>
                </a:lnTo>
                <a:lnTo>
                  <a:pt x="1671" y="1767"/>
                </a:lnTo>
                <a:lnTo>
                  <a:pt x="1650" y="1794"/>
                </a:lnTo>
                <a:lnTo>
                  <a:pt x="1631" y="1820"/>
                </a:lnTo>
                <a:lnTo>
                  <a:pt x="1613" y="1849"/>
                </a:lnTo>
                <a:lnTo>
                  <a:pt x="1596" y="1879"/>
                </a:lnTo>
                <a:lnTo>
                  <a:pt x="1580" y="1909"/>
                </a:lnTo>
                <a:lnTo>
                  <a:pt x="1566" y="1940"/>
                </a:lnTo>
                <a:lnTo>
                  <a:pt x="1554" y="1971"/>
                </a:lnTo>
                <a:lnTo>
                  <a:pt x="1543" y="2003"/>
                </a:lnTo>
                <a:lnTo>
                  <a:pt x="1533" y="2037"/>
                </a:lnTo>
                <a:lnTo>
                  <a:pt x="1526" y="2070"/>
                </a:lnTo>
                <a:lnTo>
                  <a:pt x="1520" y="2106"/>
                </a:lnTo>
                <a:lnTo>
                  <a:pt x="1515" y="2141"/>
                </a:lnTo>
                <a:lnTo>
                  <a:pt x="1512" y="2176"/>
                </a:lnTo>
                <a:lnTo>
                  <a:pt x="1511" y="2212"/>
                </a:lnTo>
                <a:lnTo>
                  <a:pt x="1512" y="2248"/>
                </a:lnTo>
                <a:lnTo>
                  <a:pt x="1515" y="2283"/>
                </a:lnTo>
                <a:lnTo>
                  <a:pt x="1520" y="2318"/>
                </a:lnTo>
                <a:lnTo>
                  <a:pt x="1526" y="2353"/>
                </a:lnTo>
                <a:lnTo>
                  <a:pt x="1533" y="2387"/>
                </a:lnTo>
                <a:lnTo>
                  <a:pt x="1543" y="2420"/>
                </a:lnTo>
                <a:lnTo>
                  <a:pt x="1554" y="2453"/>
                </a:lnTo>
                <a:lnTo>
                  <a:pt x="1566" y="2485"/>
                </a:lnTo>
                <a:lnTo>
                  <a:pt x="1580" y="2515"/>
                </a:lnTo>
                <a:lnTo>
                  <a:pt x="1596" y="2545"/>
                </a:lnTo>
                <a:lnTo>
                  <a:pt x="1613" y="2575"/>
                </a:lnTo>
                <a:lnTo>
                  <a:pt x="1631" y="2604"/>
                </a:lnTo>
                <a:lnTo>
                  <a:pt x="1650" y="2630"/>
                </a:lnTo>
                <a:lnTo>
                  <a:pt x="1671" y="2657"/>
                </a:lnTo>
                <a:lnTo>
                  <a:pt x="1693" y="2682"/>
                </a:lnTo>
                <a:lnTo>
                  <a:pt x="1716" y="2707"/>
                </a:lnTo>
                <a:lnTo>
                  <a:pt x="1741" y="2730"/>
                </a:lnTo>
                <a:lnTo>
                  <a:pt x="1766" y="2752"/>
                </a:lnTo>
                <a:lnTo>
                  <a:pt x="1792" y="2773"/>
                </a:lnTo>
                <a:lnTo>
                  <a:pt x="1820" y="2792"/>
                </a:lnTo>
                <a:lnTo>
                  <a:pt x="1848" y="2810"/>
                </a:lnTo>
                <a:lnTo>
                  <a:pt x="1877" y="2827"/>
                </a:lnTo>
                <a:lnTo>
                  <a:pt x="1908" y="2843"/>
                </a:lnTo>
                <a:lnTo>
                  <a:pt x="1939" y="2857"/>
                </a:lnTo>
                <a:lnTo>
                  <a:pt x="1971" y="2870"/>
                </a:lnTo>
                <a:lnTo>
                  <a:pt x="2003" y="2880"/>
                </a:lnTo>
                <a:lnTo>
                  <a:pt x="2036" y="2890"/>
                </a:lnTo>
                <a:lnTo>
                  <a:pt x="2070" y="2897"/>
                </a:lnTo>
                <a:lnTo>
                  <a:pt x="2105" y="2904"/>
                </a:lnTo>
                <a:lnTo>
                  <a:pt x="2140" y="2908"/>
                </a:lnTo>
                <a:lnTo>
                  <a:pt x="2175" y="2911"/>
                </a:lnTo>
                <a:lnTo>
                  <a:pt x="2211" y="2911"/>
                </a:lnTo>
                <a:lnTo>
                  <a:pt x="2247" y="2911"/>
                </a:lnTo>
                <a:lnTo>
                  <a:pt x="2283" y="2908"/>
                </a:lnTo>
                <a:lnTo>
                  <a:pt x="2318" y="2904"/>
                </a:lnTo>
                <a:lnTo>
                  <a:pt x="2352" y="2897"/>
                </a:lnTo>
                <a:lnTo>
                  <a:pt x="2386" y="2890"/>
                </a:lnTo>
                <a:lnTo>
                  <a:pt x="2419" y="2880"/>
                </a:lnTo>
                <a:lnTo>
                  <a:pt x="2452" y="2870"/>
                </a:lnTo>
                <a:lnTo>
                  <a:pt x="2484" y="2857"/>
                </a:lnTo>
                <a:lnTo>
                  <a:pt x="2515" y="2843"/>
                </a:lnTo>
                <a:lnTo>
                  <a:pt x="2544" y="2827"/>
                </a:lnTo>
                <a:lnTo>
                  <a:pt x="2574" y="2810"/>
                </a:lnTo>
                <a:lnTo>
                  <a:pt x="2602" y="2792"/>
                </a:lnTo>
                <a:lnTo>
                  <a:pt x="2630" y="2773"/>
                </a:lnTo>
                <a:lnTo>
                  <a:pt x="2656" y="2752"/>
                </a:lnTo>
                <a:lnTo>
                  <a:pt x="2682" y="2730"/>
                </a:lnTo>
                <a:lnTo>
                  <a:pt x="2706" y="2707"/>
                </a:lnTo>
                <a:lnTo>
                  <a:pt x="2728" y="2682"/>
                </a:lnTo>
                <a:lnTo>
                  <a:pt x="2751" y="2657"/>
                </a:lnTo>
                <a:lnTo>
                  <a:pt x="2772" y="2630"/>
                </a:lnTo>
                <a:lnTo>
                  <a:pt x="2791" y="2604"/>
                </a:lnTo>
                <a:lnTo>
                  <a:pt x="2809" y="2575"/>
                </a:lnTo>
                <a:lnTo>
                  <a:pt x="2826" y="2545"/>
                </a:lnTo>
                <a:lnTo>
                  <a:pt x="2841" y="2515"/>
                </a:lnTo>
                <a:lnTo>
                  <a:pt x="2856" y="2485"/>
                </a:lnTo>
                <a:lnTo>
                  <a:pt x="2868" y="2453"/>
                </a:lnTo>
                <a:lnTo>
                  <a:pt x="2880" y="2420"/>
                </a:lnTo>
                <a:lnTo>
                  <a:pt x="2888" y="2387"/>
                </a:lnTo>
                <a:lnTo>
                  <a:pt x="2897" y="2353"/>
                </a:lnTo>
                <a:lnTo>
                  <a:pt x="2903" y="2318"/>
                </a:lnTo>
                <a:lnTo>
                  <a:pt x="2907" y="2283"/>
                </a:lnTo>
                <a:lnTo>
                  <a:pt x="2909" y="2248"/>
                </a:lnTo>
                <a:lnTo>
                  <a:pt x="2910" y="2212"/>
                </a:lnTo>
                <a:lnTo>
                  <a:pt x="2909" y="2176"/>
                </a:lnTo>
                <a:lnTo>
                  <a:pt x="2907" y="2141"/>
                </a:lnTo>
                <a:lnTo>
                  <a:pt x="2903" y="2106"/>
                </a:lnTo>
                <a:lnTo>
                  <a:pt x="2897" y="2070"/>
                </a:lnTo>
                <a:lnTo>
                  <a:pt x="2888" y="2037"/>
                </a:lnTo>
                <a:lnTo>
                  <a:pt x="2880" y="2003"/>
                </a:lnTo>
                <a:lnTo>
                  <a:pt x="2868" y="1971"/>
                </a:lnTo>
                <a:lnTo>
                  <a:pt x="2856" y="1940"/>
                </a:lnTo>
                <a:lnTo>
                  <a:pt x="2841" y="1909"/>
                </a:lnTo>
                <a:lnTo>
                  <a:pt x="2826" y="1879"/>
                </a:lnTo>
                <a:lnTo>
                  <a:pt x="2809" y="1849"/>
                </a:lnTo>
                <a:lnTo>
                  <a:pt x="2791" y="1820"/>
                </a:lnTo>
                <a:lnTo>
                  <a:pt x="2772" y="1794"/>
                </a:lnTo>
                <a:lnTo>
                  <a:pt x="2751" y="1767"/>
                </a:lnTo>
                <a:lnTo>
                  <a:pt x="2728" y="1742"/>
                </a:lnTo>
                <a:lnTo>
                  <a:pt x="2706" y="1717"/>
                </a:lnTo>
                <a:close/>
                <a:moveTo>
                  <a:pt x="3187" y="1235"/>
                </a:moveTo>
                <a:lnTo>
                  <a:pt x="3187" y="1235"/>
                </a:lnTo>
                <a:lnTo>
                  <a:pt x="3164" y="1213"/>
                </a:lnTo>
                <a:lnTo>
                  <a:pt x="3139" y="1189"/>
                </a:lnTo>
                <a:lnTo>
                  <a:pt x="3115" y="1168"/>
                </a:lnTo>
                <a:lnTo>
                  <a:pt x="3089" y="1147"/>
                </a:lnTo>
                <a:lnTo>
                  <a:pt x="3064" y="1125"/>
                </a:lnTo>
                <a:lnTo>
                  <a:pt x="3037" y="1105"/>
                </a:lnTo>
                <a:lnTo>
                  <a:pt x="3011" y="1086"/>
                </a:lnTo>
                <a:lnTo>
                  <a:pt x="2983" y="1067"/>
                </a:lnTo>
                <a:lnTo>
                  <a:pt x="2955" y="1049"/>
                </a:lnTo>
                <a:lnTo>
                  <a:pt x="2927" y="1031"/>
                </a:lnTo>
                <a:lnTo>
                  <a:pt x="2899" y="1014"/>
                </a:lnTo>
                <a:lnTo>
                  <a:pt x="2869" y="998"/>
                </a:lnTo>
                <a:lnTo>
                  <a:pt x="2840" y="982"/>
                </a:lnTo>
                <a:lnTo>
                  <a:pt x="2809" y="967"/>
                </a:lnTo>
                <a:lnTo>
                  <a:pt x="2780" y="953"/>
                </a:lnTo>
                <a:lnTo>
                  <a:pt x="2749" y="939"/>
                </a:lnTo>
                <a:lnTo>
                  <a:pt x="2718" y="926"/>
                </a:lnTo>
                <a:lnTo>
                  <a:pt x="2686" y="915"/>
                </a:lnTo>
                <a:lnTo>
                  <a:pt x="2654" y="904"/>
                </a:lnTo>
                <a:lnTo>
                  <a:pt x="2622" y="893"/>
                </a:lnTo>
                <a:lnTo>
                  <a:pt x="2589" y="884"/>
                </a:lnTo>
                <a:lnTo>
                  <a:pt x="2556" y="874"/>
                </a:lnTo>
                <a:lnTo>
                  <a:pt x="2523" y="867"/>
                </a:lnTo>
                <a:lnTo>
                  <a:pt x="2489" y="859"/>
                </a:lnTo>
                <a:lnTo>
                  <a:pt x="2455" y="853"/>
                </a:lnTo>
                <a:lnTo>
                  <a:pt x="2421" y="846"/>
                </a:lnTo>
                <a:lnTo>
                  <a:pt x="2387" y="842"/>
                </a:lnTo>
                <a:lnTo>
                  <a:pt x="2352" y="838"/>
                </a:lnTo>
                <a:lnTo>
                  <a:pt x="2318" y="835"/>
                </a:lnTo>
                <a:lnTo>
                  <a:pt x="2283" y="833"/>
                </a:lnTo>
                <a:lnTo>
                  <a:pt x="2246" y="832"/>
                </a:lnTo>
                <a:lnTo>
                  <a:pt x="2211" y="831"/>
                </a:lnTo>
                <a:lnTo>
                  <a:pt x="2175" y="832"/>
                </a:lnTo>
                <a:lnTo>
                  <a:pt x="2140" y="833"/>
                </a:lnTo>
                <a:lnTo>
                  <a:pt x="2105" y="835"/>
                </a:lnTo>
                <a:lnTo>
                  <a:pt x="2070" y="838"/>
                </a:lnTo>
                <a:lnTo>
                  <a:pt x="2035" y="842"/>
                </a:lnTo>
                <a:lnTo>
                  <a:pt x="2001" y="846"/>
                </a:lnTo>
                <a:lnTo>
                  <a:pt x="1966" y="853"/>
                </a:lnTo>
                <a:lnTo>
                  <a:pt x="1932" y="859"/>
                </a:lnTo>
                <a:lnTo>
                  <a:pt x="1899" y="867"/>
                </a:lnTo>
                <a:lnTo>
                  <a:pt x="1865" y="874"/>
                </a:lnTo>
                <a:lnTo>
                  <a:pt x="1832" y="884"/>
                </a:lnTo>
                <a:lnTo>
                  <a:pt x="1800" y="893"/>
                </a:lnTo>
                <a:lnTo>
                  <a:pt x="1769" y="904"/>
                </a:lnTo>
                <a:lnTo>
                  <a:pt x="1737" y="915"/>
                </a:lnTo>
                <a:lnTo>
                  <a:pt x="1705" y="926"/>
                </a:lnTo>
                <a:lnTo>
                  <a:pt x="1674" y="939"/>
                </a:lnTo>
                <a:lnTo>
                  <a:pt x="1643" y="953"/>
                </a:lnTo>
                <a:lnTo>
                  <a:pt x="1612" y="967"/>
                </a:lnTo>
                <a:lnTo>
                  <a:pt x="1582" y="982"/>
                </a:lnTo>
                <a:lnTo>
                  <a:pt x="1552" y="998"/>
                </a:lnTo>
                <a:lnTo>
                  <a:pt x="1524" y="1014"/>
                </a:lnTo>
                <a:lnTo>
                  <a:pt x="1495" y="1031"/>
                </a:lnTo>
                <a:lnTo>
                  <a:pt x="1466" y="1049"/>
                </a:lnTo>
                <a:lnTo>
                  <a:pt x="1439" y="1067"/>
                </a:lnTo>
                <a:lnTo>
                  <a:pt x="1411" y="1086"/>
                </a:lnTo>
                <a:lnTo>
                  <a:pt x="1384" y="1105"/>
                </a:lnTo>
                <a:lnTo>
                  <a:pt x="1359" y="1125"/>
                </a:lnTo>
                <a:lnTo>
                  <a:pt x="1332" y="1147"/>
                </a:lnTo>
                <a:lnTo>
                  <a:pt x="1307" y="1168"/>
                </a:lnTo>
                <a:lnTo>
                  <a:pt x="1282" y="1189"/>
                </a:lnTo>
                <a:lnTo>
                  <a:pt x="1258" y="1213"/>
                </a:lnTo>
                <a:lnTo>
                  <a:pt x="1234" y="1235"/>
                </a:lnTo>
                <a:lnTo>
                  <a:pt x="1211" y="1259"/>
                </a:lnTo>
                <a:lnTo>
                  <a:pt x="1189" y="1283"/>
                </a:lnTo>
                <a:lnTo>
                  <a:pt x="1167" y="1308"/>
                </a:lnTo>
                <a:lnTo>
                  <a:pt x="1145" y="1334"/>
                </a:lnTo>
                <a:lnTo>
                  <a:pt x="1125" y="1359"/>
                </a:lnTo>
                <a:lnTo>
                  <a:pt x="1104" y="1386"/>
                </a:lnTo>
                <a:lnTo>
                  <a:pt x="1084" y="1413"/>
                </a:lnTo>
                <a:lnTo>
                  <a:pt x="1066" y="1439"/>
                </a:lnTo>
                <a:lnTo>
                  <a:pt x="1048" y="1468"/>
                </a:lnTo>
                <a:lnTo>
                  <a:pt x="1030" y="1496"/>
                </a:lnTo>
                <a:lnTo>
                  <a:pt x="1013" y="1524"/>
                </a:lnTo>
                <a:lnTo>
                  <a:pt x="997" y="1553"/>
                </a:lnTo>
                <a:lnTo>
                  <a:pt x="981" y="1583"/>
                </a:lnTo>
                <a:lnTo>
                  <a:pt x="966" y="1613"/>
                </a:lnTo>
                <a:lnTo>
                  <a:pt x="952" y="1644"/>
                </a:lnTo>
                <a:lnTo>
                  <a:pt x="938" y="1675"/>
                </a:lnTo>
                <a:lnTo>
                  <a:pt x="926" y="1705"/>
                </a:lnTo>
                <a:lnTo>
                  <a:pt x="914" y="1737"/>
                </a:lnTo>
                <a:lnTo>
                  <a:pt x="902" y="1769"/>
                </a:lnTo>
                <a:lnTo>
                  <a:pt x="892" y="1801"/>
                </a:lnTo>
                <a:lnTo>
                  <a:pt x="882" y="1834"/>
                </a:lnTo>
                <a:lnTo>
                  <a:pt x="874" y="1867"/>
                </a:lnTo>
                <a:lnTo>
                  <a:pt x="865" y="1900"/>
                </a:lnTo>
                <a:lnTo>
                  <a:pt x="859" y="1933"/>
                </a:lnTo>
                <a:lnTo>
                  <a:pt x="851" y="1967"/>
                </a:lnTo>
                <a:lnTo>
                  <a:pt x="846" y="2001"/>
                </a:lnTo>
                <a:lnTo>
                  <a:pt x="842" y="2036"/>
                </a:lnTo>
                <a:lnTo>
                  <a:pt x="837" y="2070"/>
                </a:lnTo>
                <a:lnTo>
                  <a:pt x="834" y="2106"/>
                </a:lnTo>
                <a:lnTo>
                  <a:pt x="832" y="2141"/>
                </a:lnTo>
                <a:lnTo>
                  <a:pt x="831" y="2176"/>
                </a:lnTo>
                <a:lnTo>
                  <a:pt x="830" y="2212"/>
                </a:lnTo>
                <a:lnTo>
                  <a:pt x="831" y="2247"/>
                </a:lnTo>
                <a:lnTo>
                  <a:pt x="832" y="2283"/>
                </a:lnTo>
                <a:lnTo>
                  <a:pt x="834" y="2318"/>
                </a:lnTo>
                <a:lnTo>
                  <a:pt x="837" y="2354"/>
                </a:lnTo>
                <a:lnTo>
                  <a:pt x="842" y="2388"/>
                </a:lnTo>
                <a:lnTo>
                  <a:pt x="846" y="2423"/>
                </a:lnTo>
                <a:lnTo>
                  <a:pt x="851" y="2457"/>
                </a:lnTo>
                <a:lnTo>
                  <a:pt x="859" y="2491"/>
                </a:lnTo>
                <a:lnTo>
                  <a:pt x="865" y="2524"/>
                </a:lnTo>
                <a:lnTo>
                  <a:pt x="874" y="2557"/>
                </a:lnTo>
                <a:lnTo>
                  <a:pt x="882" y="2590"/>
                </a:lnTo>
                <a:lnTo>
                  <a:pt x="892" y="2623"/>
                </a:lnTo>
                <a:lnTo>
                  <a:pt x="902" y="2655"/>
                </a:lnTo>
                <a:lnTo>
                  <a:pt x="914" y="2687"/>
                </a:lnTo>
                <a:lnTo>
                  <a:pt x="926" y="2719"/>
                </a:lnTo>
                <a:lnTo>
                  <a:pt x="938" y="2750"/>
                </a:lnTo>
                <a:lnTo>
                  <a:pt x="952" y="2780"/>
                </a:lnTo>
                <a:lnTo>
                  <a:pt x="966" y="2811"/>
                </a:lnTo>
                <a:lnTo>
                  <a:pt x="981" y="2841"/>
                </a:lnTo>
                <a:lnTo>
                  <a:pt x="997" y="2871"/>
                </a:lnTo>
                <a:lnTo>
                  <a:pt x="1013" y="2900"/>
                </a:lnTo>
                <a:lnTo>
                  <a:pt x="1030" y="2928"/>
                </a:lnTo>
                <a:lnTo>
                  <a:pt x="1048" y="2956"/>
                </a:lnTo>
                <a:lnTo>
                  <a:pt x="1066" y="2985"/>
                </a:lnTo>
                <a:lnTo>
                  <a:pt x="1084" y="3011"/>
                </a:lnTo>
                <a:lnTo>
                  <a:pt x="1104" y="3038"/>
                </a:lnTo>
                <a:lnTo>
                  <a:pt x="1125" y="3065"/>
                </a:lnTo>
                <a:lnTo>
                  <a:pt x="1145" y="3090"/>
                </a:lnTo>
                <a:lnTo>
                  <a:pt x="1167" y="3116"/>
                </a:lnTo>
                <a:lnTo>
                  <a:pt x="1189" y="3141"/>
                </a:lnTo>
                <a:lnTo>
                  <a:pt x="1211" y="3165"/>
                </a:lnTo>
                <a:lnTo>
                  <a:pt x="1234" y="3189"/>
                </a:lnTo>
                <a:lnTo>
                  <a:pt x="1258" y="3211"/>
                </a:lnTo>
                <a:lnTo>
                  <a:pt x="1282" y="3235"/>
                </a:lnTo>
                <a:lnTo>
                  <a:pt x="1307" y="3256"/>
                </a:lnTo>
                <a:lnTo>
                  <a:pt x="1332" y="3277"/>
                </a:lnTo>
                <a:lnTo>
                  <a:pt x="1359" y="3299"/>
                </a:lnTo>
                <a:lnTo>
                  <a:pt x="1384" y="3319"/>
                </a:lnTo>
                <a:lnTo>
                  <a:pt x="1411" y="3338"/>
                </a:lnTo>
                <a:lnTo>
                  <a:pt x="1439" y="3357"/>
                </a:lnTo>
                <a:lnTo>
                  <a:pt x="1466" y="3375"/>
                </a:lnTo>
                <a:lnTo>
                  <a:pt x="1495" y="3393"/>
                </a:lnTo>
                <a:lnTo>
                  <a:pt x="1524" y="3410"/>
                </a:lnTo>
                <a:lnTo>
                  <a:pt x="1552" y="3426"/>
                </a:lnTo>
                <a:lnTo>
                  <a:pt x="1582" y="3442"/>
                </a:lnTo>
                <a:lnTo>
                  <a:pt x="1612" y="3457"/>
                </a:lnTo>
                <a:lnTo>
                  <a:pt x="1643" y="3471"/>
                </a:lnTo>
                <a:lnTo>
                  <a:pt x="1674" y="3485"/>
                </a:lnTo>
                <a:lnTo>
                  <a:pt x="1705" y="3498"/>
                </a:lnTo>
                <a:lnTo>
                  <a:pt x="1737" y="3509"/>
                </a:lnTo>
                <a:lnTo>
                  <a:pt x="1769" y="3520"/>
                </a:lnTo>
                <a:lnTo>
                  <a:pt x="1800" y="3531"/>
                </a:lnTo>
                <a:lnTo>
                  <a:pt x="1832" y="3540"/>
                </a:lnTo>
                <a:lnTo>
                  <a:pt x="1865" y="3550"/>
                </a:lnTo>
                <a:lnTo>
                  <a:pt x="1899" y="3557"/>
                </a:lnTo>
                <a:lnTo>
                  <a:pt x="1932" y="3565"/>
                </a:lnTo>
                <a:lnTo>
                  <a:pt x="1966" y="3571"/>
                </a:lnTo>
                <a:lnTo>
                  <a:pt x="2001" y="3578"/>
                </a:lnTo>
                <a:lnTo>
                  <a:pt x="2035" y="3582"/>
                </a:lnTo>
                <a:lnTo>
                  <a:pt x="2070" y="3586"/>
                </a:lnTo>
                <a:lnTo>
                  <a:pt x="2105" y="3589"/>
                </a:lnTo>
                <a:lnTo>
                  <a:pt x="2140" y="3591"/>
                </a:lnTo>
                <a:lnTo>
                  <a:pt x="2175" y="3592"/>
                </a:lnTo>
                <a:lnTo>
                  <a:pt x="2211" y="3594"/>
                </a:lnTo>
                <a:lnTo>
                  <a:pt x="2246" y="3592"/>
                </a:lnTo>
                <a:lnTo>
                  <a:pt x="2283" y="3591"/>
                </a:lnTo>
                <a:lnTo>
                  <a:pt x="2318" y="3589"/>
                </a:lnTo>
                <a:lnTo>
                  <a:pt x="2352" y="3586"/>
                </a:lnTo>
                <a:lnTo>
                  <a:pt x="2387" y="3582"/>
                </a:lnTo>
                <a:lnTo>
                  <a:pt x="2421" y="3578"/>
                </a:lnTo>
                <a:lnTo>
                  <a:pt x="2455" y="3571"/>
                </a:lnTo>
                <a:lnTo>
                  <a:pt x="2489" y="3565"/>
                </a:lnTo>
                <a:lnTo>
                  <a:pt x="2523" y="3557"/>
                </a:lnTo>
                <a:lnTo>
                  <a:pt x="2556" y="3550"/>
                </a:lnTo>
                <a:lnTo>
                  <a:pt x="2589" y="3540"/>
                </a:lnTo>
                <a:lnTo>
                  <a:pt x="2622" y="3531"/>
                </a:lnTo>
                <a:lnTo>
                  <a:pt x="2654" y="3520"/>
                </a:lnTo>
                <a:lnTo>
                  <a:pt x="2686" y="3509"/>
                </a:lnTo>
                <a:lnTo>
                  <a:pt x="2718" y="3498"/>
                </a:lnTo>
                <a:lnTo>
                  <a:pt x="2749" y="3485"/>
                </a:lnTo>
                <a:lnTo>
                  <a:pt x="2780" y="3471"/>
                </a:lnTo>
                <a:lnTo>
                  <a:pt x="2809" y="3457"/>
                </a:lnTo>
                <a:lnTo>
                  <a:pt x="2840" y="3442"/>
                </a:lnTo>
                <a:lnTo>
                  <a:pt x="2869" y="3426"/>
                </a:lnTo>
                <a:lnTo>
                  <a:pt x="2899" y="3410"/>
                </a:lnTo>
                <a:lnTo>
                  <a:pt x="2927" y="3393"/>
                </a:lnTo>
                <a:lnTo>
                  <a:pt x="2955" y="3375"/>
                </a:lnTo>
                <a:lnTo>
                  <a:pt x="2983" y="3357"/>
                </a:lnTo>
                <a:lnTo>
                  <a:pt x="3011" y="3338"/>
                </a:lnTo>
                <a:lnTo>
                  <a:pt x="3037" y="3319"/>
                </a:lnTo>
                <a:lnTo>
                  <a:pt x="3064" y="3299"/>
                </a:lnTo>
                <a:lnTo>
                  <a:pt x="3089" y="3277"/>
                </a:lnTo>
                <a:lnTo>
                  <a:pt x="3115" y="3256"/>
                </a:lnTo>
                <a:lnTo>
                  <a:pt x="3139" y="3235"/>
                </a:lnTo>
                <a:lnTo>
                  <a:pt x="3164" y="3211"/>
                </a:lnTo>
                <a:lnTo>
                  <a:pt x="3187" y="3189"/>
                </a:lnTo>
                <a:lnTo>
                  <a:pt x="3211" y="3165"/>
                </a:lnTo>
                <a:lnTo>
                  <a:pt x="3233" y="3141"/>
                </a:lnTo>
                <a:lnTo>
                  <a:pt x="3255" y="3116"/>
                </a:lnTo>
                <a:lnTo>
                  <a:pt x="3277" y="3090"/>
                </a:lnTo>
                <a:lnTo>
                  <a:pt x="3298" y="3065"/>
                </a:lnTo>
                <a:lnTo>
                  <a:pt x="3318" y="3038"/>
                </a:lnTo>
                <a:lnTo>
                  <a:pt x="3337" y="3011"/>
                </a:lnTo>
                <a:lnTo>
                  <a:pt x="3356" y="2985"/>
                </a:lnTo>
                <a:lnTo>
                  <a:pt x="3374" y="2956"/>
                </a:lnTo>
                <a:lnTo>
                  <a:pt x="3393" y="2928"/>
                </a:lnTo>
                <a:lnTo>
                  <a:pt x="3409" y="2900"/>
                </a:lnTo>
                <a:lnTo>
                  <a:pt x="3426" y="2871"/>
                </a:lnTo>
                <a:lnTo>
                  <a:pt x="3440" y="2841"/>
                </a:lnTo>
                <a:lnTo>
                  <a:pt x="3455" y="2811"/>
                </a:lnTo>
                <a:lnTo>
                  <a:pt x="3470" y="2780"/>
                </a:lnTo>
                <a:lnTo>
                  <a:pt x="3483" y="2750"/>
                </a:lnTo>
                <a:lnTo>
                  <a:pt x="3496" y="2719"/>
                </a:lnTo>
                <a:lnTo>
                  <a:pt x="3509" y="2687"/>
                </a:lnTo>
                <a:lnTo>
                  <a:pt x="3519" y="2655"/>
                </a:lnTo>
                <a:lnTo>
                  <a:pt x="3530" y="2623"/>
                </a:lnTo>
                <a:lnTo>
                  <a:pt x="3539" y="2590"/>
                </a:lnTo>
                <a:lnTo>
                  <a:pt x="3549" y="2557"/>
                </a:lnTo>
                <a:lnTo>
                  <a:pt x="3556" y="2524"/>
                </a:lnTo>
                <a:lnTo>
                  <a:pt x="3564" y="2491"/>
                </a:lnTo>
                <a:lnTo>
                  <a:pt x="3570" y="2457"/>
                </a:lnTo>
                <a:lnTo>
                  <a:pt x="3576" y="2423"/>
                </a:lnTo>
                <a:lnTo>
                  <a:pt x="3581" y="2388"/>
                </a:lnTo>
                <a:lnTo>
                  <a:pt x="3585" y="2354"/>
                </a:lnTo>
                <a:lnTo>
                  <a:pt x="3588" y="2318"/>
                </a:lnTo>
                <a:lnTo>
                  <a:pt x="3591" y="2283"/>
                </a:lnTo>
                <a:lnTo>
                  <a:pt x="3592" y="2247"/>
                </a:lnTo>
                <a:lnTo>
                  <a:pt x="3592" y="2212"/>
                </a:lnTo>
                <a:lnTo>
                  <a:pt x="3592" y="2176"/>
                </a:lnTo>
                <a:lnTo>
                  <a:pt x="3591" y="2141"/>
                </a:lnTo>
                <a:lnTo>
                  <a:pt x="3588" y="2106"/>
                </a:lnTo>
                <a:lnTo>
                  <a:pt x="3585" y="2070"/>
                </a:lnTo>
                <a:lnTo>
                  <a:pt x="3581" y="2036"/>
                </a:lnTo>
                <a:lnTo>
                  <a:pt x="3576" y="2001"/>
                </a:lnTo>
                <a:lnTo>
                  <a:pt x="3570" y="1967"/>
                </a:lnTo>
                <a:lnTo>
                  <a:pt x="3564" y="1933"/>
                </a:lnTo>
                <a:lnTo>
                  <a:pt x="3556" y="1900"/>
                </a:lnTo>
                <a:lnTo>
                  <a:pt x="3549" y="1867"/>
                </a:lnTo>
                <a:lnTo>
                  <a:pt x="3539" y="1834"/>
                </a:lnTo>
                <a:lnTo>
                  <a:pt x="3530" y="1801"/>
                </a:lnTo>
                <a:lnTo>
                  <a:pt x="3519" y="1769"/>
                </a:lnTo>
                <a:lnTo>
                  <a:pt x="3509" y="1737"/>
                </a:lnTo>
                <a:lnTo>
                  <a:pt x="3496" y="1705"/>
                </a:lnTo>
                <a:lnTo>
                  <a:pt x="3483" y="1675"/>
                </a:lnTo>
                <a:lnTo>
                  <a:pt x="3470" y="1644"/>
                </a:lnTo>
                <a:lnTo>
                  <a:pt x="3455" y="1613"/>
                </a:lnTo>
                <a:lnTo>
                  <a:pt x="3440" y="1583"/>
                </a:lnTo>
                <a:lnTo>
                  <a:pt x="3426" y="1553"/>
                </a:lnTo>
                <a:lnTo>
                  <a:pt x="3409" y="1524"/>
                </a:lnTo>
                <a:lnTo>
                  <a:pt x="3393" y="1496"/>
                </a:lnTo>
                <a:lnTo>
                  <a:pt x="3374" y="1468"/>
                </a:lnTo>
                <a:lnTo>
                  <a:pt x="3356" y="1439"/>
                </a:lnTo>
                <a:lnTo>
                  <a:pt x="3337" y="1413"/>
                </a:lnTo>
                <a:lnTo>
                  <a:pt x="3318" y="1386"/>
                </a:lnTo>
                <a:lnTo>
                  <a:pt x="3298" y="1359"/>
                </a:lnTo>
                <a:lnTo>
                  <a:pt x="3277" y="1334"/>
                </a:lnTo>
                <a:lnTo>
                  <a:pt x="3255" y="1308"/>
                </a:lnTo>
                <a:lnTo>
                  <a:pt x="3233" y="1283"/>
                </a:lnTo>
                <a:lnTo>
                  <a:pt x="3211" y="1259"/>
                </a:lnTo>
                <a:lnTo>
                  <a:pt x="3187" y="123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5" name="组合 53"/>
          <p:cNvGrpSpPr/>
          <p:nvPr/>
        </p:nvGrpSpPr>
        <p:grpSpPr>
          <a:xfrm>
            <a:off x="6205680" y="2332080"/>
            <a:ext cx="777600" cy="776160"/>
            <a:chOff x="6205680" y="2332080"/>
            <a:chExt cx="777600" cy="776160"/>
          </a:xfrm>
        </p:grpSpPr>
        <p:sp>
          <p:nvSpPr>
            <p:cNvPr id="306" name="矩形 15"/>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直接连接符 16"/>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直接连接符 17"/>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9" name="组合 57"/>
          <p:cNvGrpSpPr/>
          <p:nvPr/>
        </p:nvGrpSpPr>
        <p:grpSpPr>
          <a:xfrm>
            <a:off x="7129440" y="2332080"/>
            <a:ext cx="776160" cy="776160"/>
            <a:chOff x="7129440" y="2332080"/>
            <a:chExt cx="776160" cy="776160"/>
          </a:xfrm>
        </p:grpSpPr>
        <p:sp>
          <p:nvSpPr>
            <p:cNvPr id="310" name="矩形 19"/>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直接连接符 20"/>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直接连接符 21"/>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3" name="组合 61"/>
          <p:cNvGrpSpPr/>
          <p:nvPr/>
        </p:nvGrpSpPr>
        <p:grpSpPr>
          <a:xfrm>
            <a:off x="8053560" y="2332080"/>
            <a:ext cx="776160" cy="776160"/>
            <a:chOff x="8053560" y="2332080"/>
            <a:chExt cx="776160" cy="776160"/>
          </a:xfrm>
        </p:grpSpPr>
        <p:sp>
          <p:nvSpPr>
            <p:cNvPr id="314" name="矩形 23"/>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直接连接符 24"/>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直接连接符 25"/>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 name="组合 65"/>
          <p:cNvGrpSpPr/>
          <p:nvPr/>
        </p:nvGrpSpPr>
        <p:grpSpPr>
          <a:xfrm>
            <a:off x="8975880" y="2332080"/>
            <a:ext cx="777600" cy="776160"/>
            <a:chOff x="8975880" y="2332080"/>
            <a:chExt cx="777600" cy="776160"/>
          </a:xfrm>
        </p:grpSpPr>
        <p:sp>
          <p:nvSpPr>
            <p:cNvPr id="318" name="矩形 27"/>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直接连接符 28"/>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直接连接符 29"/>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1" name="文本框 30"/>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322" name="文本框 31"/>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四</a:t>
            </a:r>
            <a:endParaRPr b="0" lang="en-US" sz="4800" spc="-1" strike="noStrike">
              <a:solidFill>
                <a:srgbClr val="000000"/>
              </a:solidFill>
              <a:latin typeface="Arial"/>
            </a:endParaRPr>
          </a:p>
        </p:txBody>
      </p:sp>
      <p:sp>
        <p:nvSpPr>
          <p:cNvPr id="323" name="文本框 32"/>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324" name="文本框 33"/>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325" name="文本框 34"/>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326" name="文本框 35"/>
          <p:cNvSpPr/>
          <p:nvPr/>
        </p:nvSpPr>
        <p:spPr>
          <a:xfrm>
            <a:off x="7267680" y="1941480"/>
            <a:ext cx="5000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si</a:t>
            </a:r>
            <a:endParaRPr b="0" lang="en-US" sz="2000" spc="-1" strike="noStrike">
              <a:solidFill>
                <a:srgbClr val="000000"/>
              </a:solidFill>
              <a:latin typeface="Arial"/>
            </a:endParaRPr>
          </a:p>
        </p:txBody>
      </p:sp>
      <p:sp>
        <p:nvSpPr>
          <p:cNvPr id="327" name="文本框 36"/>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328" name="文本框 37"/>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329" name="文本框 38"/>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2" name="图表 16" descr=""/>
          <p:cNvPicPr/>
          <p:nvPr/>
        </p:nvPicPr>
        <p:blipFill>
          <a:blip r:embed="rId1"/>
          <a:stretch/>
        </p:blipFill>
        <p:spPr>
          <a:xfrm>
            <a:off x="1071720" y="981000"/>
            <a:ext cx="2881080" cy="3030480"/>
          </a:xfrm>
          <a:prstGeom prst="rect">
            <a:avLst/>
          </a:prstGeom>
          <a:ln w="0">
            <a:noFill/>
          </a:ln>
        </p:spPr>
      </p:pic>
      <p:pic>
        <p:nvPicPr>
          <p:cNvPr id="333" name="图表 17" descr=""/>
          <p:cNvPicPr/>
          <p:nvPr/>
        </p:nvPicPr>
        <p:blipFill>
          <a:blip r:embed="rId2"/>
          <a:stretch/>
        </p:blipFill>
        <p:spPr>
          <a:xfrm>
            <a:off x="4749840" y="925560"/>
            <a:ext cx="2881440" cy="3030480"/>
          </a:xfrm>
          <a:prstGeom prst="rect">
            <a:avLst/>
          </a:prstGeom>
          <a:ln w="0">
            <a:noFill/>
          </a:ln>
        </p:spPr>
      </p:pic>
      <p:pic>
        <p:nvPicPr>
          <p:cNvPr id="334" name="图表 18" descr=""/>
          <p:cNvPicPr/>
          <p:nvPr/>
        </p:nvPicPr>
        <p:blipFill>
          <a:blip r:embed="rId3"/>
          <a:stretch/>
        </p:blipFill>
        <p:spPr>
          <a:xfrm>
            <a:off x="8429760" y="870120"/>
            <a:ext cx="2881080" cy="3030480"/>
          </a:xfrm>
          <a:prstGeom prst="rect">
            <a:avLst/>
          </a:prstGeom>
          <a:ln w="0">
            <a:noFill/>
          </a:ln>
        </p:spPr>
      </p:pic>
      <p:sp>
        <p:nvSpPr>
          <p:cNvPr id="335" name="TextBox 15"/>
          <p:cNvSpPr/>
          <p:nvPr/>
        </p:nvSpPr>
        <p:spPr>
          <a:xfrm>
            <a:off x="2117880" y="49467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336" name="矩形 20"/>
          <p:cNvSpPr/>
          <p:nvPr/>
        </p:nvSpPr>
        <p:spPr>
          <a:xfrm>
            <a:off x="4672440" y="42829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51c29"/>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矩形 42"/>
          <p:cNvSpPr/>
          <p:nvPr/>
        </p:nvSpPr>
        <p:spPr>
          <a:xfrm>
            <a:off x="593640" y="4657680"/>
            <a:ext cx="4533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340" name="TextBox 4"/>
          <p:cNvSpPr/>
          <p:nvPr/>
        </p:nvSpPr>
        <p:spPr>
          <a:xfrm>
            <a:off x="593640" y="144288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51c29"/>
                </a:solidFill>
                <a:latin typeface="Franklin Gothic Book"/>
                <a:ea typeface="微软雅黑"/>
              </a:rPr>
              <a:t>点击添加标题</a:t>
            </a:r>
            <a:endParaRPr b="0" lang="en-US" sz="1800" spc="-1" strike="noStrike">
              <a:solidFill>
                <a:srgbClr val="000000"/>
              </a:solidFill>
              <a:latin typeface="Arial"/>
            </a:endParaRPr>
          </a:p>
        </p:txBody>
      </p:sp>
      <p:grpSp>
        <p:nvGrpSpPr>
          <p:cNvPr id="341" name="组合 7"/>
          <p:cNvGrpSpPr/>
          <p:nvPr/>
        </p:nvGrpSpPr>
        <p:grpSpPr>
          <a:xfrm>
            <a:off x="5781600" y="2095560"/>
            <a:ext cx="5594400" cy="542880"/>
            <a:chOff x="5781600" y="2095560"/>
            <a:chExt cx="5594400" cy="542880"/>
          </a:xfrm>
        </p:grpSpPr>
        <p:sp>
          <p:nvSpPr>
            <p:cNvPr id="342" name="矩形 3"/>
            <p:cNvSpPr/>
            <p:nvPr/>
          </p:nvSpPr>
          <p:spPr>
            <a:xfrm>
              <a:off x="5781600" y="2095560"/>
              <a:ext cx="5594400" cy="542880"/>
            </a:xfrm>
            <a:prstGeom prst="rect">
              <a:avLst/>
            </a:prstGeom>
            <a:solidFill>
              <a:srgbClr val="2b336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矩形 4"/>
            <p:cNvSpPr/>
            <p:nvPr/>
          </p:nvSpPr>
          <p:spPr>
            <a:xfrm>
              <a:off x="5781600" y="2095560"/>
              <a:ext cx="3006360" cy="54288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4" name="组合 6"/>
          <p:cNvGrpSpPr/>
          <p:nvPr/>
        </p:nvGrpSpPr>
        <p:grpSpPr>
          <a:xfrm>
            <a:off x="5781600" y="3367080"/>
            <a:ext cx="5594400" cy="542880"/>
            <a:chOff x="5781600" y="3367080"/>
            <a:chExt cx="5594400" cy="542880"/>
          </a:xfrm>
        </p:grpSpPr>
        <p:sp>
          <p:nvSpPr>
            <p:cNvPr id="345" name="矩形 40"/>
            <p:cNvSpPr/>
            <p:nvPr/>
          </p:nvSpPr>
          <p:spPr>
            <a:xfrm>
              <a:off x="5781600" y="3367080"/>
              <a:ext cx="5594400" cy="542880"/>
            </a:xfrm>
            <a:prstGeom prst="rect">
              <a:avLst/>
            </a:prstGeom>
            <a:solidFill>
              <a:srgbClr val="c51c2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矩形 44"/>
            <p:cNvSpPr/>
            <p:nvPr/>
          </p:nvSpPr>
          <p:spPr>
            <a:xfrm>
              <a:off x="5781600" y="3367080"/>
              <a:ext cx="3967200" cy="54288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7" name="组合 5"/>
          <p:cNvGrpSpPr/>
          <p:nvPr/>
        </p:nvGrpSpPr>
        <p:grpSpPr>
          <a:xfrm>
            <a:off x="5840280" y="4708440"/>
            <a:ext cx="5594400" cy="541440"/>
            <a:chOff x="5840280" y="4708440"/>
            <a:chExt cx="5594400" cy="541440"/>
          </a:xfrm>
        </p:grpSpPr>
        <p:sp>
          <p:nvSpPr>
            <p:cNvPr id="348" name="矩形 34"/>
            <p:cNvSpPr/>
            <p:nvPr/>
          </p:nvSpPr>
          <p:spPr>
            <a:xfrm>
              <a:off x="5840280" y="4708440"/>
              <a:ext cx="5594400" cy="541440"/>
            </a:xfrm>
            <a:prstGeom prst="rect">
              <a:avLst/>
            </a:prstGeom>
            <a:solidFill>
              <a:srgbClr val="a5a5a5">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矩形 45"/>
            <p:cNvSpPr/>
            <p:nvPr/>
          </p:nvSpPr>
          <p:spPr>
            <a:xfrm>
              <a:off x="5840280" y="4708440"/>
              <a:ext cx="1952640" cy="5414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50" name="TextBox 4"/>
          <p:cNvSpPr/>
          <p:nvPr/>
        </p:nvSpPr>
        <p:spPr>
          <a:xfrm>
            <a:off x="5613480" y="1587600"/>
            <a:ext cx="171756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351" name="TextBox 4"/>
          <p:cNvSpPr/>
          <p:nvPr/>
        </p:nvSpPr>
        <p:spPr>
          <a:xfrm>
            <a:off x="5638680" y="2841480"/>
            <a:ext cx="1717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51c29"/>
                </a:solidFill>
                <a:latin typeface="Franklin Gothic Book"/>
                <a:ea typeface="微软雅黑"/>
              </a:rPr>
              <a:t>点击添加标题</a:t>
            </a:r>
            <a:endParaRPr b="0" lang="en-US" sz="1800" spc="-1" strike="noStrike">
              <a:solidFill>
                <a:srgbClr val="000000"/>
              </a:solidFill>
              <a:latin typeface="Arial"/>
            </a:endParaRPr>
          </a:p>
        </p:txBody>
      </p:sp>
      <p:sp>
        <p:nvSpPr>
          <p:cNvPr id="352" name="TextBox 4"/>
          <p:cNvSpPr/>
          <p:nvPr/>
        </p:nvSpPr>
        <p:spPr>
          <a:xfrm>
            <a:off x="5654520" y="4130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Franklin Gothic Book"/>
                <a:ea typeface="微软雅黑"/>
              </a:rPr>
              <a:t>点击添加标题</a:t>
            </a:r>
            <a:endParaRPr b="0" lang="en-US" sz="1800" spc="-1" strike="noStrike">
              <a:solidFill>
                <a:srgbClr val="000000"/>
              </a:solidFill>
              <a:latin typeface="Arial"/>
            </a:endParaRPr>
          </a:p>
        </p:txBody>
      </p:sp>
      <p:sp>
        <p:nvSpPr>
          <p:cNvPr id="353" name="TextBox 4"/>
          <p:cNvSpPr/>
          <p:nvPr/>
        </p:nvSpPr>
        <p:spPr>
          <a:xfrm>
            <a:off x="10530000" y="1384200"/>
            <a:ext cx="84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3360"/>
                </a:solidFill>
                <a:latin typeface="Franklin Gothic Book"/>
                <a:ea typeface="微软雅黑"/>
              </a:rPr>
              <a:t>47%</a:t>
            </a:r>
            <a:endParaRPr b="0" lang="en-US" sz="2800" spc="-1" strike="noStrike">
              <a:solidFill>
                <a:srgbClr val="000000"/>
              </a:solidFill>
              <a:latin typeface="Arial"/>
            </a:endParaRPr>
          </a:p>
        </p:txBody>
      </p:sp>
      <p:sp>
        <p:nvSpPr>
          <p:cNvPr id="354" name="TextBox 4"/>
          <p:cNvSpPr/>
          <p:nvPr/>
        </p:nvSpPr>
        <p:spPr>
          <a:xfrm>
            <a:off x="10588680" y="2684520"/>
            <a:ext cx="84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51c29"/>
                </a:solidFill>
                <a:latin typeface="Franklin Gothic Book"/>
                <a:ea typeface="微软雅黑"/>
              </a:rPr>
              <a:t>87%</a:t>
            </a:r>
            <a:endParaRPr b="0" lang="en-US" sz="2800" spc="-1" strike="noStrike">
              <a:solidFill>
                <a:srgbClr val="000000"/>
              </a:solidFill>
              <a:latin typeface="Arial"/>
            </a:endParaRPr>
          </a:p>
        </p:txBody>
      </p:sp>
      <p:sp>
        <p:nvSpPr>
          <p:cNvPr id="355" name="TextBox 4"/>
          <p:cNvSpPr/>
          <p:nvPr/>
        </p:nvSpPr>
        <p:spPr>
          <a:xfrm>
            <a:off x="10530000" y="3919680"/>
            <a:ext cx="91260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Franklin Gothic Book"/>
                <a:ea typeface="微软雅黑"/>
              </a:rPr>
              <a:t>23%</a:t>
            </a:r>
            <a:endParaRPr b="0" lang="en-US" sz="2800" spc="-1" strike="noStrike">
              <a:solidFill>
                <a:srgbClr val="000000"/>
              </a:solidFill>
              <a:latin typeface="Arial"/>
            </a:endParaRPr>
          </a:p>
        </p:txBody>
      </p:sp>
      <p:pic>
        <p:nvPicPr>
          <p:cNvPr id="356" name="图片 53" descr=""/>
          <p:cNvPicPr/>
          <p:nvPr/>
        </p:nvPicPr>
        <p:blipFill>
          <a:blip r:embed="rId1"/>
          <a:srcRect l="0" t="0" r="798" b="4873"/>
          <a:stretch/>
        </p:blipFill>
        <p:spPr>
          <a:xfrm>
            <a:off x="636480" y="2089080"/>
            <a:ext cx="385452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KSO_Shape"/>
          <p:cNvSpPr/>
          <p:nvPr/>
        </p:nvSpPr>
        <p:spPr>
          <a:xfrm>
            <a:off x="4910040" y="1285920"/>
            <a:ext cx="2371680" cy="4286160"/>
          </a:xfrm>
          <a:custGeom>
            <a:avLst/>
            <a:gdLst>
              <a:gd name="textAreaLeft" fmla="*/ 0 w 2371680"/>
              <a:gd name="textAreaRight" fmla="*/ 2372040 w 2371680"/>
              <a:gd name="textAreaTop" fmla="*/ 0 h 4286160"/>
              <a:gd name="textAreaBottom" fmla="*/ 4286520 h 4286160"/>
            </a:gdLst>
            <a:ahLst/>
            <a:rect l="textAreaLeft" t="textAreaTop" r="textAreaRight" b="textAreaBottom"/>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a5a5a5"/>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TextBox 15"/>
          <p:cNvSpPr/>
          <p:nvPr/>
        </p:nvSpPr>
        <p:spPr>
          <a:xfrm>
            <a:off x="5153040" y="1859040"/>
            <a:ext cx="188424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200" spc="-1" strike="noStrike">
              <a:solidFill>
                <a:srgbClr val="000000"/>
              </a:solidFill>
              <a:latin typeface="Arial"/>
            </a:endParaRPr>
          </a:p>
        </p:txBody>
      </p:sp>
      <p:sp>
        <p:nvSpPr>
          <p:cNvPr id="361" name="燕尾形 1"/>
          <p:cNvSpPr/>
          <p:nvPr/>
        </p:nvSpPr>
        <p:spPr>
          <a:xfrm>
            <a:off x="7815240" y="1616040"/>
            <a:ext cx="2949480" cy="485640"/>
          </a:xfrm>
          <a:custGeom>
            <a:avLst/>
            <a:gdLst>
              <a:gd name="textAreaLeft" fmla="*/ 0 w 2949480"/>
              <a:gd name="textAreaRight" fmla="*/ 2949840 w 2949480"/>
              <a:gd name="textAreaTop" fmla="*/ 0 h 485640"/>
              <a:gd name="textAreaBottom" fmla="*/ 486000 h 48564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燕尾形 50"/>
          <p:cNvSpPr/>
          <p:nvPr/>
        </p:nvSpPr>
        <p:spPr>
          <a:xfrm flipH="1">
            <a:off x="1425600" y="1616040"/>
            <a:ext cx="2951280" cy="485640"/>
          </a:xfrm>
          <a:custGeom>
            <a:avLst/>
            <a:gdLst>
              <a:gd name="textAreaLeft" fmla="*/ 360 w 2951280"/>
              <a:gd name="textAreaRight" fmla="*/ 2952000 w 2951280"/>
              <a:gd name="textAreaTop" fmla="*/ 0 h 485640"/>
              <a:gd name="textAreaBottom" fmla="*/ 486000 h 48564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矩形 51"/>
          <p:cNvSpPr/>
          <p:nvPr/>
        </p:nvSpPr>
        <p:spPr>
          <a:xfrm>
            <a:off x="2262960" y="169056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概述</a:t>
            </a:r>
            <a:endParaRPr b="0" lang="en-US" sz="1600" spc="-1" strike="noStrike">
              <a:solidFill>
                <a:srgbClr val="000000"/>
              </a:solidFill>
              <a:latin typeface="Arial"/>
            </a:endParaRPr>
          </a:p>
        </p:txBody>
      </p:sp>
      <p:sp>
        <p:nvSpPr>
          <p:cNvPr id="364" name="矩形 52"/>
          <p:cNvSpPr/>
          <p:nvPr/>
        </p:nvSpPr>
        <p:spPr>
          <a:xfrm>
            <a:off x="8650800" y="169056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概述</a:t>
            </a:r>
            <a:endParaRPr b="0" lang="en-US" sz="1600" spc="-1" strike="noStrike">
              <a:solidFill>
                <a:srgbClr val="000000"/>
              </a:solidFill>
              <a:latin typeface="Arial"/>
            </a:endParaRPr>
          </a:p>
        </p:txBody>
      </p:sp>
      <p:sp>
        <p:nvSpPr>
          <p:cNvPr id="365" name="TextBox 15"/>
          <p:cNvSpPr/>
          <p:nvPr/>
        </p:nvSpPr>
        <p:spPr>
          <a:xfrm>
            <a:off x="1849320" y="317664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366" name="TextBox 15"/>
          <p:cNvSpPr/>
          <p:nvPr/>
        </p:nvSpPr>
        <p:spPr>
          <a:xfrm>
            <a:off x="8237520" y="317664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367" name="TextBox 4"/>
          <p:cNvSpPr/>
          <p:nvPr/>
        </p:nvSpPr>
        <p:spPr>
          <a:xfrm>
            <a:off x="1936800" y="2382840"/>
            <a:ext cx="17175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51c29"/>
                </a:solidFill>
                <a:latin typeface="Franklin Gothic Book"/>
                <a:ea typeface="微软雅黑"/>
              </a:rPr>
              <a:t>点击添加标题</a:t>
            </a:r>
            <a:endParaRPr b="0" lang="en-US" sz="2000" spc="-1" strike="noStrike">
              <a:solidFill>
                <a:srgbClr val="000000"/>
              </a:solidFill>
              <a:latin typeface="Arial"/>
            </a:endParaRPr>
          </a:p>
        </p:txBody>
      </p:sp>
      <p:sp>
        <p:nvSpPr>
          <p:cNvPr id="368" name="TextBox 4"/>
          <p:cNvSpPr/>
          <p:nvPr/>
        </p:nvSpPr>
        <p:spPr>
          <a:xfrm>
            <a:off x="8326440" y="238284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51c29"/>
                </a:solidFill>
                <a:latin typeface="Franklin Gothic Book"/>
                <a:ea typeface="微软雅黑"/>
              </a:rPr>
              <a:t>点击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Freeform 5"/>
          <p:cNvSpPr/>
          <p:nvPr/>
        </p:nvSpPr>
        <p:spPr>
          <a:xfrm>
            <a:off x="2030400" y="3251160"/>
            <a:ext cx="8131320" cy="987480"/>
          </a:xfrm>
          <a:custGeom>
            <a:avLst/>
            <a:gdLst>
              <a:gd name="textAreaLeft" fmla="*/ 0 w 8131320"/>
              <a:gd name="textAreaRight" fmla="*/ 8131680 w 8131320"/>
              <a:gd name="textAreaTop" fmla="*/ 0 h 987480"/>
              <a:gd name="textAreaBottom" fmla="*/ 987840 h 987480"/>
            </a:gdLst>
            <a:ahLst/>
            <a:rect l="textAreaLeft" t="textAreaTop" r="textAreaRight" b="textAreaBottom"/>
            <a:pathLst>
              <a:path w="5760" h="700">
                <a:moveTo>
                  <a:pt x="0" y="0"/>
                </a:moveTo>
                <a:lnTo>
                  <a:pt x="0" y="0"/>
                </a:lnTo>
                <a:lnTo>
                  <a:pt x="32" y="17"/>
                </a:lnTo>
                <a:lnTo>
                  <a:pt x="72" y="38"/>
                </a:lnTo>
                <a:lnTo>
                  <a:pt x="128" y="64"/>
                </a:lnTo>
                <a:lnTo>
                  <a:pt x="197" y="96"/>
                </a:lnTo>
                <a:lnTo>
                  <a:pt x="281" y="134"/>
                </a:lnTo>
                <a:lnTo>
                  <a:pt x="378" y="175"/>
                </a:lnTo>
                <a:lnTo>
                  <a:pt x="490" y="219"/>
                </a:lnTo>
                <a:lnTo>
                  <a:pt x="613" y="266"/>
                </a:lnTo>
                <a:lnTo>
                  <a:pt x="679" y="290"/>
                </a:lnTo>
                <a:lnTo>
                  <a:pt x="748" y="314"/>
                </a:lnTo>
                <a:lnTo>
                  <a:pt x="820" y="339"/>
                </a:lnTo>
                <a:lnTo>
                  <a:pt x="895" y="363"/>
                </a:lnTo>
                <a:lnTo>
                  <a:pt x="973" y="387"/>
                </a:lnTo>
                <a:lnTo>
                  <a:pt x="1053" y="412"/>
                </a:lnTo>
                <a:lnTo>
                  <a:pt x="1136" y="436"/>
                </a:lnTo>
                <a:lnTo>
                  <a:pt x="1221" y="458"/>
                </a:lnTo>
                <a:lnTo>
                  <a:pt x="1310" y="482"/>
                </a:lnTo>
                <a:lnTo>
                  <a:pt x="1400" y="504"/>
                </a:lnTo>
                <a:lnTo>
                  <a:pt x="1494" y="526"/>
                </a:lnTo>
                <a:lnTo>
                  <a:pt x="1588" y="547"/>
                </a:lnTo>
                <a:lnTo>
                  <a:pt x="1686" y="568"/>
                </a:lnTo>
                <a:lnTo>
                  <a:pt x="1786" y="586"/>
                </a:lnTo>
                <a:lnTo>
                  <a:pt x="1888" y="604"/>
                </a:lnTo>
                <a:lnTo>
                  <a:pt x="1991" y="621"/>
                </a:lnTo>
                <a:lnTo>
                  <a:pt x="2097" y="636"/>
                </a:lnTo>
                <a:lnTo>
                  <a:pt x="2206" y="651"/>
                </a:lnTo>
                <a:lnTo>
                  <a:pt x="2315" y="664"/>
                </a:lnTo>
                <a:lnTo>
                  <a:pt x="2427" y="674"/>
                </a:lnTo>
                <a:lnTo>
                  <a:pt x="2541" y="683"/>
                </a:lnTo>
                <a:lnTo>
                  <a:pt x="2656" y="691"/>
                </a:lnTo>
                <a:lnTo>
                  <a:pt x="2772" y="695"/>
                </a:lnTo>
                <a:lnTo>
                  <a:pt x="2890" y="699"/>
                </a:lnTo>
                <a:lnTo>
                  <a:pt x="3010" y="700"/>
                </a:lnTo>
                <a:lnTo>
                  <a:pt x="3132" y="699"/>
                </a:lnTo>
                <a:lnTo>
                  <a:pt x="3254" y="695"/>
                </a:lnTo>
                <a:lnTo>
                  <a:pt x="3378" y="690"/>
                </a:lnTo>
                <a:lnTo>
                  <a:pt x="3503" y="681"/>
                </a:lnTo>
                <a:lnTo>
                  <a:pt x="3630" y="670"/>
                </a:lnTo>
                <a:lnTo>
                  <a:pt x="3756" y="656"/>
                </a:lnTo>
                <a:lnTo>
                  <a:pt x="3821" y="648"/>
                </a:lnTo>
                <a:lnTo>
                  <a:pt x="3885" y="638"/>
                </a:lnTo>
                <a:lnTo>
                  <a:pt x="3950" y="629"/>
                </a:lnTo>
                <a:lnTo>
                  <a:pt x="4015" y="619"/>
                </a:lnTo>
                <a:lnTo>
                  <a:pt x="4080" y="608"/>
                </a:lnTo>
                <a:lnTo>
                  <a:pt x="4145" y="596"/>
                </a:lnTo>
                <a:lnTo>
                  <a:pt x="4211" y="583"/>
                </a:lnTo>
                <a:lnTo>
                  <a:pt x="4277" y="569"/>
                </a:lnTo>
                <a:lnTo>
                  <a:pt x="4343" y="555"/>
                </a:lnTo>
                <a:lnTo>
                  <a:pt x="4409" y="539"/>
                </a:lnTo>
                <a:lnTo>
                  <a:pt x="4475" y="523"/>
                </a:lnTo>
                <a:lnTo>
                  <a:pt x="4541" y="506"/>
                </a:lnTo>
                <a:lnTo>
                  <a:pt x="4608" y="489"/>
                </a:lnTo>
                <a:lnTo>
                  <a:pt x="4674" y="470"/>
                </a:lnTo>
                <a:lnTo>
                  <a:pt x="4742" y="450"/>
                </a:lnTo>
                <a:lnTo>
                  <a:pt x="4809" y="430"/>
                </a:lnTo>
                <a:lnTo>
                  <a:pt x="4876" y="408"/>
                </a:lnTo>
                <a:lnTo>
                  <a:pt x="4943" y="386"/>
                </a:lnTo>
                <a:lnTo>
                  <a:pt x="5012" y="363"/>
                </a:lnTo>
                <a:lnTo>
                  <a:pt x="5079" y="338"/>
                </a:lnTo>
                <a:lnTo>
                  <a:pt x="5146" y="313"/>
                </a:lnTo>
                <a:lnTo>
                  <a:pt x="5214" y="286"/>
                </a:lnTo>
                <a:lnTo>
                  <a:pt x="5283" y="259"/>
                </a:lnTo>
                <a:lnTo>
                  <a:pt x="5350" y="231"/>
                </a:lnTo>
                <a:lnTo>
                  <a:pt x="5418" y="201"/>
                </a:lnTo>
                <a:lnTo>
                  <a:pt x="5487" y="170"/>
                </a:lnTo>
                <a:lnTo>
                  <a:pt x="5555" y="138"/>
                </a:lnTo>
                <a:lnTo>
                  <a:pt x="5623" y="106"/>
                </a:lnTo>
                <a:lnTo>
                  <a:pt x="5692" y="72"/>
                </a:lnTo>
                <a:lnTo>
                  <a:pt x="5760" y="37"/>
                </a:lnTo>
                <a:lnTo>
                  <a:pt x="5725" y="44"/>
                </a:lnTo>
                <a:lnTo>
                  <a:pt x="5623" y="63"/>
                </a:lnTo>
                <a:lnTo>
                  <a:pt x="5549" y="77"/>
                </a:lnTo>
                <a:lnTo>
                  <a:pt x="5460" y="92"/>
                </a:lnTo>
                <a:lnTo>
                  <a:pt x="5358" y="109"/>
                </a:lnTo>
                <a:lnTo>
                  <a:pt x="5242" y="127"/>
                </a:lnTo>
                <a:lnTo>
                  <a:pt x="5112" y="145"/>
                </a:lnTo>
                <a:lnTo>
                  <a:pt x="4971" y="164"/>
                </a:lnTo>
                <a:lnTo>
                  <a:pt x="4818" y="184"/>
                </a:lnTo>
                <a:lnTo>
                  <a:pt x="4653" y="203"/>
                </a:lnTo>
                <a:lnTo>
                  <a:pt x="4478" y="223"/>
                </a:lnTo>
                <a:lnTo>
                  <a:pt x="4294" y="241"/>
                </a:lnTo>
                <a:lnTo>
                  <a:pt x="4100" y="257"/>
                </a:lnTo>
                <a:lnTo>
                  <a:pt x="3898" y="272"/>
                </a:lnTo>
                <a:lnTo>
                  <a:pt x="3688" y="285"/>
                </a:lnTo>
                <a:lnTo>
                  <a:pt x="3579" y="291"/>
                </a:lnTo>
                <a:lnTo>
                  <a:pt x="3470" y="296"/>
                </a:lnTo>
                <a:lnTo>
                  <a:pt x="3358" y="300"/>
                </a:lnTo>
                <a:lnTo>
                  <a:pt x="3246" y="303"/>
                </a:lnTo>
                <a:lnTo>
                  <a:pt x="3132" y="307"/>
                </a:lnTo>
                <a:lnTo>
                  <a:pt x="3016" y="309"/>
                </a:lnTo>
                <a:lnTo>
                  <a:pt x="2898" y="310"/>
                </a:lnTo>
                <a:lnTo>
                  <a:pt x="2780" y="310"/>
                </a:lnTo>
                <a:lnTo>
                  <a:pt x="2660" y="309"/>
                </a:lnTo>
                <a:lnTo>
                  <a:pt x="2539" y="308"/>
                </a:lnTo>
                <a:lnTo>
                  <a:pt x="2417" y="306"/>
                </a:lnTo>
                <a:lnTo>
                  <a:pt x="2294" y="302"/>
                </a:lnTo>
                <a:lnTo>
                  <a:pt x="2170" y="297"/>
                </a:lnTo>
                <a:lnTo>
                  <a:pt x="2045" y="291"/>
                </a:lnTo>
                <a:lnTo>
                  <a:pt x="1920" y="284"/>
                </a:lnTo>
                <a:lnTo>
                  <a:pt x="1793" y="275"/>
                </a:lnTo>
                <a:lnTo>
                  <a:pt x="1667" y="266"/>
                </a:lnTo>
                <a:lnTo>
                  <a:pt x="1539" y="254"/>
                </a:lnTo>
                <a:lnTo>
                  <a:pt x="1412" y="242"/>
                </a:lnTo>
                <a:lnTo>
                  <a:pt x="1284" y="228"/>
                </a:lnTo>
                <a:lnTo>
                  <a:pt x="1155" y="212"/>
                </a:lnTo>
                <a:lnTo>
                  <a:pt x="1026" y="196"/>
                </a:lnTo>
                <a:lnTo>
                  <a:pt x="898" y="177"/>
                </a:lnTo>
                <a:lnTo>
                  <a:pt x="769" y="158"/>
                </a:lnTo>
                <a:lnTo>
                  <a:pt x="640" y="136"/>
                </a:lnTo>
                <a:lnTo>
                  <a:pt x="512" y="112"/>
                </a:lnTo>
                <a:lnTo>
                  <a:pt x="383" y="87"/>
                </a:lnTo>
                <a:lnTo>
                  <a:pt x="255" y="60"/>
                </a:lnTo>
                <a:lnTo>
                  <a:pt x="128" y="31"/>
                </a:ln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Freeform 11"/>
          <p:cNvSpPr/>
          <p:nvPr/>
        </p:nvSpPr>
        <p:spPr>
          <a:xfrm>
            <a:off x="3232080" y="2682720"/>
            <a:ext cx="1019160" cy="1020960"/>
          </a:xfrm>
          <a:prstGeom prst="pie">
            <a:avLst/>
          </a:prstGeom>
          <a:solidFill>
            <a:srgbClr val="2b336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373" name="Freeform 10"/>
          <p:cNvSpPr/>
          <p:nvPr/>
        </p:nvSpPr>
        <p:spPr>
          <a:xfrm>
            <a:off x="4802040" y="2854440"/>
            <a:ext cx="1019160" cy="1020600"/>
          </a:xfrm>
          <a:prstGeom prst="pie">
            <a:avLst/>
          </a:prstGeom>
          <a:solidFill>
            <a:srgbClr val="c51c2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374" name="Freeform 8"/>
          <p:cNvSpPr/>
          <p:nvPr/>
        </p:nvSpPr>
        <p:spPr>
          <a:xfrm>
            <a:off x="7939080" y="2682720"/>
            <a:ext cx="1020600" cy="1020960"/>
          </a:xfrm>
          <a:prstGeom prst="pie">
            <a:avLst/>
          </a:prstGeom>
          <a:solidFill>
            <a:srgbClr val="c51c2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375" name="Freeform 9"/>
          <p:cNvSpPr/>
          <p:nvPr/>
        </p:nvSpPr>
        <p:spPr>
          <a:xfrm>
            <a:off x="6367320" y="2844720"/>
            <a:ext cx="1020960" cy="1020960"/>
          </a:xfrm>
          <a:prstGeom prst="pie">
            <a:avLst/>
          </a:prstGeom>
          <a:solidFill>
            <a:srgbClr val="2b336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376" name="TextBox 15"/>
          <p:cNvSpPr/>
          <p:nvPr/>
        </p:nvSpPr>
        <p:spPr>
          <a:xfrm>
            <a:off x="3114720" y="1001880"/>
            <a:ext cx="12542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p:txBody>
      </p:sp>
      <p:sp>
        <p:nvSpPr>
          <p:cNvPr id="377" name="TextBox 15"/>
          <p:cNvSpPr/>
          <p:nvPr/>
        </p:nvSpPr>
        <p:spPr>
          <a:xfrm>
            <a:off x="468144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p:txBody>
      </p:sp>
      <p:sp>
        <p:nvSpPr>
          <p:cNvPr id="378" name="TextBox 15"/>
          <p:cNvSpPr/>
          <p:nvPr/>
        </p:nvSpPr>
        <p:spPr>
          <a:xfrm>
            <a:off x="624996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输入简单的文字</a:t>
            </a:r>
            <a:endParaRPr b="0" lang="en-US" sz="1200" spc="-1" strike="noStrike">
              <a:solidFill>
                <a:srgbClr val="000000"/>
              </a:solidFill>
              <a:latin typeface="Arial"/>
            </a:endParaRPr>
          </a:p>
        </p:txBody>
      </p:sp>
      <p:sp>
        <p:nvSpPr>
          <p:cNvPr id="379" name="TextBox 15"/>
          <p:cNvSpPr/>
          <p:nvPr/>
        </p:nvSpPr>
        <p:spPr>
          <a:xfrm>
            <a:off x="7821720" y="100188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输入简单的文字</a:t>
            </a:r>
            <a:endParaRPr b="0" lang="en-US" sz="1200" spc="-1" strike="noStrike">
              <a:solidFill>
                <a:srgbClr val="000000"/>
              </a:solidFill>
              <a:latin typeface="Arial"/>
            </a:endParaRPr>
          </a:p>
        </p:txBody>
      </p:sp>
      <p:sp>
        <p:nvSpPr>
          <p:cNvPr id="380" name="TextBox 15"/>
          <p:cNvSpPr/>
          <p:nvPr/>
        </p:nvSpPr>
        <p:spPr>
          <a:xfrm>
            <a:off x="2346480" y="480708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图片 1" descr=""/>
          <p:cNvPicPr/>
          <p:nvPr/>
        </p:nvPicPr>
        <p:blipFill>
          <a:blip r:embed="rId1"/>
          <a:stretch/>
        </p:blipFill>
        <p:spPr>
          <a:xfrm>
            <a:off x="0" y="0"/>
            <a:ext cx="12192120" cy="6858000"/>
          </a:xfrm>
          <a:prstGeom prst="rect">
            <a:avLst/>
          </a:prstGeom>
          <a:ln w="0">
            <a:noFill/>
          </a:ln>
        </p:spPr>
      </p:pic>
      <p:sp>
        <p:nvSpPr>
          <p:cNvPr id="43" name="矩形 2"/>
          <p:cNvSpPr/>
          <p:nvPr/>
        </p:nvSpPr>
        <p:spPr>
          <a:xfrm>
            <a:off x="0" y="0"/>
            <a:ext cx="12192120" cy="6858000"/>
          </a:xfrm>
          <a:prstGeom prst="rect">
            <a:avLst/>
          </a:prstGeom>
          <a:solidFill>
            <a:srgbClr val="fffff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MH_Others_2"/>
          <p:cNvSpPr/>
          <p:nvPr/>
        </p:nvSpPr>
        <p:spPr>
          <a:xfrm rot="18856200">
            <a:off x="-886680" y="697320"/>
            <a:ext cx="3903840" cy="822240"/>
          </a:xfrm>
          <a:prstGeom prst="pie">
            <a:avLst/>
          </a:prstGeom>
          <a:solidFill>
            <a:srgbClr val="2b3360"/>
          </a:solidFill>
          <a:ln w="0">
            <a:noFill/>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目 录</a:t>
            </a:r>
            <a:endParaRPr b="0" lang="en-US" sz="4800" spc="-1" strike="noStrike">
              <a:solidFill>
                <a:srgbClr val="000000"/>
              </a:solidFill>
              <a:latin typeface="Arial"/>
            </a:endParaRPr>
          </a:p>
        </p:txBody>
      </p:sp>
      <p:sp>
        <p:nvSpPr>
          <p:cNvPr id="45" name="MH_Others_1"/>
          <p:cNvSpPr/>
          <p:nvPr/>
        </p:nvSpPr>
        <p:spPr>
          <a:xfrm rot="8056200">
            <a:off x="10794960" y="6149880"/>
            <a:ext cx="1801800" cy="379440"/>
          </a:xfrm>
          <a:custGeom>
            <a:avLst/>
            <a:gdLst>
              <a:gd name="textAreaLeft" fmla="*/ 0 w 1801800"/>
              <a:gd name="textAreaRight" fmla="*/ 1802160 w 1801800"/>
              <a:gd name="textAreaTop" fmla="*/ 0 h 379440"/>
              <a:gd name="textAreaBottom" fmla="*/ 379800 h 379440"/>
            </a:gdLst>
            <a:ahLst/>
            <a:rect l="textAreaLeft" t="textAreaTop" r="textAreaRight" b="textAreaBottom"/>
            <a:pathLst>
              <a:path w="2784501" h="586015">
                <a:moveTo>
                  <a:pt x="2784501" y="585096"/>
                </a:moveTo>
                <a:lnTo>
                  <a:pt x="0" y="586015"/>
                </a:lnTo>
                <a:lnTo>
                  <a:pt x="600556" y="533"/>
                </a:lnTo>
                <a:lnTo>
                  <a:pt x="2214090" y="0"/>
                </a:lnTo>
                <a:lnTo>
                  <a:pt x="2784501" y="585096"/>
                </a:lnTo>
                <a:close/>
              </a:path>
            </a:pathLst>
          </a:custGeom>
          <a:solidFill>
            <a:srgbClr val="1e4e79"/>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 name="MH_Number_2"/>
          <p:cNvSpPr/>
          <p:nvPr/>
        </p:nvSpPr>
        <p:spPr>
          <a:xfrm>
            <a:off x="5626080" y="1820880"/>
            <a:ext cx="601560" cy="577800"/>
          </a:xfrm>
          <a:prstGeom prst="pie">
            <a:avLst/>
          </a:prstGeom>
          <a:solidFill>
            <a:srgbClr val="c51c29"/>
          </a:solidFill>
          <a:ln w="0">
            <a:noFill/>
          </a:ln>
        </p:spPr>
        <p:style>
          <a:lnRef idx="0"/>
          <a:fillRef idx="0"/>
          <a:effectRef idx="0"/>
          <a:fontRef idx="minor"/>
        </p:style>
        <p:txBody>
          <a:bodyPr lIns="0" rIns="144000" tIns="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幼圆"/>
              </a:rPr>
              <a:t>2</a:t>
            </a:r>
            <a:endParaRPr b="0" lang="en-US" sz="3600" spc="-1" strike="noStrike">
              <a:solidFill>
                <a:srgbClr val="000000"/>
              </a:solidFill>
              <a:latin typeface="Arial"/>
            </a:endParaRPr>
          </a:p>
        </p:txBody>
      </p:sp>
      <p:sp>
        <p:nvSpPr>
          <p:cNvPr id="47" name="MH_Number_1"/>
          <p:cNvSpPr/>
          <p:nvPr/>
        </p:nvSpPr>
        <p:spPr>
          <a:xfrm flipH="1">
            <a:off x="6062040" y="819000"/>
            <a:ext cx="603000" cy="578160"/>
          </a:xfrm>
          <a:prstGeom prst="pie">
            <a:avLst/>
          </a:prstGeom>
          <a:solidFill>
            <a:srgbClr val="2b3360"/>
          </a:solidFill>
          <a:ln w="0">
            <a:noFill/>
          </a:ln>
        </p:spPr>
        <p:style>
          <a:lnRef idx="0"/>
          <a:fillRef idx="0"/>
          <a:effectRef idx="0"/>
          <a:fontRef idx="minor"/>
        </p:style>
        <p:txBody>
          <a:bodyPr lIns="144000" rIns="0" tIns="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幼圆"/>
              </a:rPr>
              <a:t>1</a:t>
            </a:r>
            <a:endParaRPr b="0" lang="en-US" sz="3200" spc="-1" strike="noStrike">
              <a:solidFill>
                <a:srgbClr val="000000"/>
              </a:solidFill>
              <a:latin typeface="Arial"/>
            </a:endParaRPr>
          </a:p>
        </p:txBody>
      </p:sp>
      <p:sp>
        <p:nvSpPr>
          <p:cNvPr id="48" name="MH_Number_2"/>
          <p:cNvSpPr/>
          <p:nvPr/>
        </p:nvSpPr>
        <p:spPr>
          <a:xfrm>
            <a:off x="5692680" y="3835440"/>
            <a:ext cx="603360" cy="577800"/>
          </a:xfrm>
          <a:prstGeom prst="pie">
            <a:avLst/>
          </a:prstGeom>
          <a:solidFill>
            <a:srgbClr val="c51c29"/>
          </a:solidFill>
          <a:ln w="0">
            <a:noFill/>
          </a:ln>
        </p:spPr>
        <p:style>
          <a:lnRef idx="0"/>
          <a:fillRef idx="0"/>
          <a:effectRef idx="0"/>
          <a:fontRef idx="minor"/>
        </p:style>
        <p:txBody>
          <a:bodyPr lIns="0" rIns="144000" tIns="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幼圆"/>
              </a:rPr>
              <a:t>4</a:t>
            </a:r>
            <a:endParaRPr b="0" lang="en-US" sz="3600" spc="-1" strike="noStrike">
              <a:solidFill>
                <a:srgbClr val="000000"/>
              </a:solidFill>
              <a:latin typeface="Arial"/>
            </a:endParaRPr>
          </a:p>
        </p:txBody>
      </p:sp>
      <p:sp>
        <p:nvSpPr>
          <p:cNvPr id="49" name="MH_Number_1"/>
          <p:cNvSpPr/>
          <p:nvPr/>
        </p:nvSpPr>
        <p:spPr>
          <a:xfrm flipH="1">
            <a:off x="6129360" y="2846520"/>
            <a:ext cx="603360" cy="577800"/>
          </a:xfrm>
          <a:prstGeom prst="pie">
            <a:avLst/>
          </a:prstGeom>
          <a:solidFill>
            <a:srgbClr val="2b3360"/>
          </a:solidFill>
          <a:ln w="0">
            <a:noFill/>
          </a:ln>
        </p:spPr>
        <p:style>
          <a:lnRef idx="0"/>
          <a:fillRef idx="0"/>
          <a:effectRef idx="0"/>
          <a:fontRef idx="minor"/>
        </p:style>
        <p:txBody>
          <a:bodyPr lIns="144000" rIns="0" tIns="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幼圆"/>
              </a:rPr>
              <a:t>3</a:t>
            </a:r>
            <a:endParaRPr b="0" lang="en-US" sz="3600" spc="-1" strike="noStrike">
              <a:solidFill>
                <a:srgbClr val="000000"/>
              </a:solidFill>
              <a:latin typeface="Arial"/>
            </a:endParaRPr>
          </a:p>
        </p:txBody>
      </p:sp>
      <p:sp>
        <p:nvSpPr>
          <p:cNvPr id="50" name="MH_Number_2"/>
          <p:cNvSpPr/>
          <p:nvPr/>
        </p:nvSpPr>
        <p:spPr>
          <a:xfrm>
            <a:off x="5748480" y="5877000"/>
            <a:ext cx="603000" cy="577800"/>
          </a:xfrm>
          <a:prstGeom prst="pie">
            <a:avLst/>
          </a:prstGeom>
          <a:solidFill>
            <a:srgbClr val="c51c29"/>
          </a:solidFill>
          <a:ln w="0">
            <a:noFill/>
          </a:ln>
        </p:spPr>
        <p:style>
          <a:lnRef idx="0"/>
          <a:fillRef idx="0"/>
          <a:effectRef idx="0"/>
          <a:fontRef idx="minor"/>
        </p:style>
        <p:txBody>
          <a:bodyPr lIns="0" rIns="144000" tIns="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幼圆"/>
              </a:rPr>
              <a:t>6</a:t>
            </a:r>
            <a:endParaRPr b="0" lang="en-US" sz="3600" spc="-1" strike="noStrike">
              <a:solidFill>
                <a:srgbClr val="000000"/>
              </a:solidFill>
              <a:latin typeface="Arial"/>
            </a:endParaRPr>
          </a:p>
        </p:txBody>
      </p:sp>
      <p:sp>
        <p:nvSpPr>
          <p:cNvPr id="51" name="MH_Number_1"/>
          <p:cNvSpPr/>
          <p:nvPr/>
        </p:nvSpPr>
        <p:spPr>
          <a:xfrm flipH="1">
            <a:off x="6185880" y="4873680"/>
            <a:ext cx="601560" cy="577800"/>
          </a:xfrm>
          <a:prstGeom prst="pie">
            <a:avLst/>
          </a:prstGeom>
          <a:solidFill>
            <a:srgbClr val="2b3360"/>
          </a:solidFill>
          <a:ln w="0">
            <a:noFill/>
          </a:ln>
        </p:spPr>
        <p:style>
          <a:lnRef idx="0"/>
          <a:fillRef idx="0"/>
          <a:effectRef idx="0"/>
          <a:fontRef idx="minor"/>
        </p:style>
        <p:txBody>
          <a:bodyPr lIns="144000" rIns="0" tIns="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幼圆"/>
              </a:rPr>
              <a:t>5</a:t>
            </a:r>
            <a:endParaRPr b="0" lang="en-US" sz="3600" spc="-1" strike="noStrike">
              <a:solidFill>
                <a:srgbClr val="000000"/>
              </a:solidFill>
              <a:latin typeface="Arial"/>
            </a:endParaRPr>
          </a:p>
        </p:txBody>
      </p:sp>
      <p:sp>
        <p:nvSpPr>
          <p:cNvPr id="52" name="矩形 1"/>
          <p:cNvSpPr/>
          <p:nvPr/>
        </p:nvSpPr>
        <p:spPr>
          <a:xfrm>
            <a:off x="6546960" y="398160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53" name="TextBox 4"/>
          <p:cNvSpPr/>
          <p:nvPr/>
        </p:nvSpPr>
        <p:spPr>
          <a:xfrm>
            <a:off x="6464160" y="354348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54" name="矩形 34"/>
          <p:cNvSpPr/>
          <p:nvPr/>
        </p:nvSpPr>
        <p:spPr>
          <a:xfrm>
            <a:off x="6546960" y="189864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55" name="TextBox 4"/>
          <p:cNvSpPr/>
          <p:nvPr/>
        </p:nvSpPr>
        <p:spPr>
          <a:xfrm>
            <a:off x="6464160" y="14619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56" name="矩形 36"/>
          <p:cNvSpPr/>
          <p:nvPr/>
        </p:nvSpPr>
        <p:spPr>
          <a:xfrm>
            <a:off x="6546960" y="597852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57" name="TextBox 4"/>
          <p:cNvSpPr/>
          <p:nvPr/>
        </p:nvSpPr>
        <p:spPr>
          <a:xfrm>
            <a:off x="6464160" y="554040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58" name="矩形 38"/>
          <p:cNvSpPr/>
          <p:nvPr/>
        </p:nvSpPr>
        <p:spPr>
          <a:xfrm>
            <a:off x="3362400" y="81900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59" name="TextBox 4"/>
          <p:cNvSpPr/>
          <p:nvPr/>
        </p:nvSpPr>
        <p:spPr>
          <a:xfrm>
            <a:off x="3840120" y="3603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60" name="矩形 40"/>
          <p:cNvSpPr/>
          <p:nvPr/>
        </p:nvSpPr>
        <p:spPr>
          <a:xfrm>
            <a:off x="3362400" y="284652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61" name="TextBox 4"/>
          <p:cNvSpPr/>
          <p:nvPr/>
        </p:nvSpPr>
        <p:spPr>
          <a:xfrm>
            <a:off x="3840120" y="23875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62" name="矩形 42"/>
          <p:cNvSpPr/>
          <p:nvPr/>
        </p:nvSpPr>
        <p:spPr>
          <a:xfrm>
            <a:off x="3435480" y="4930920"/>
            <a:ext cx="214308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63" name="TextBox 4"/>
          <p:cNvSpPr/>
          <p:nvPr/>
        </p:nvSpPr>
        <p:spPr>
          <a:xfrm>
            <a:off x="3913200" y="44737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64" name="矩形 2"/>
          <p:cNvSpPr/>
          <p:nvPr/>
        </p:nvSpPr>
        <p:spPr>
          <a:xfrm rot="18875400">
            <a:off x="11103480" y="6147000"/>
            <a:ext cx="109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con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矩形 2"/>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2" name="组合 53"/>
          <p:cNvGrpSpPr/>
          <p:nvPr/>
        </p:nvGrpSpPr>
        <p:grpSpPr>
          <a:xfrm>
            <a:off x="6205680" y="2332080"/>
            <a:ext cx="777600" cy="776160"/>
            <a:chOff x="6205680" y="2332080"/>
            <a:chExt cx="777600" cy="776160"/>
          </a:xfrm>
        </p:grpSpPr>
        <p:sp>
          <p:nvSpPr>
            <p:cNvPr id="383" name="矩形 15"/>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直接连接符 16"/>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直接连接符 17"/>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6" name="组合 57"/>
          <p:cNvGrpSpPr/>
          <p:nvPr/>
        </p:nvGrpSpPr>
        <p:grpSpPr>
          <a:xfrm>
            <a:off x="7129440" y="2332080"/>
            <a:ext cx="776160" cy="776160"/>
            <a:chOff x="7129440" y="2332080"/>
            <a:chExt cx="776160" cy="776160"/>
          </a:xfrm>
        </p:grpSpPr>
        <p:sp>
          <p:nvSpPr>
            <p:cNvPr id="387" name="矩形 19"/>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直接连接符 20"/>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直接连接符 21"/>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0" name="组合 61"/>
          <p:cNvGrpSpPr/>
          <p:nvPr/>
        </p:nvGrpSpPr>
        <p:grpSpPr>
          <a:xfrm>
            <a:off x="8053560" y="2332080"/>
            <a:ext cx="776160" cy="776160"/>
            <a:chOff x="8053560" y="2332080"/>
            <a:chExt cx="776160" cy="776160"/>
          </a:xfrm>
        </p:grpSpPr>
        <p:sp>
          <p:nvSpPr>
            <p:cNvPr id="391" name="矩形 23"/>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直接连接符 24"/>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直接连接符 25"/>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4" name="组合 65"/>
          <p:cNvGrpSpPr/>
          <p:nvPr/>
        </p:nvGrpSpPr>
        <p:grpSpPr>
          <a:xfrm>
            <a:off x="8975880" y="2332080"/>
            <a:ext cx="777600" cy="776160"/>
            <a:chOff x="8975880" y="2332080"/>
            <a:chExt cx="777600" cy="776160"/>
          </a:xfrm>
        </p:grpSpPr>
        <p:sp>
          <p:nvSpPr>
            <p:cNvPr id="395" name="矩形 27"/>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直接连接符 28"/>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直接连接符 29"/>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98" name="文本框 30"/>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399" name="文本框 31"/>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五</a:t>
            </a:r>
            <a:endParaRPr b="0" lang="en-US" sz="4800" spc="-1" strike="noStrike">
              <a:solidFill>
                <a:srgbClr val="000000"/>
              </a:solidFill>
              <a:latin typeface="Arial"/>
            </a:endParaRPr>
          </a:p>
        </p:txBody>
      </p:sp>
      <p:sp>
        <p:nvSpPr>
          <p:cNvPr id="400" name="文本框 32"/>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401" name="文本框 33"/>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402" name="文本框 34"/>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403" name="文本框 35"/>
          <p:cNvSpPr/>
          <p:nvPr/>
        </p:nvSpPr>
        <p:spPr>
          <a:xfrm>
            <a:off x="722628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wu</a:t>
            </a:r>
            <a:endParaRPr b="0" lang="en-US" sz="2000" spc="-1" strike="noStrike">
              <a:solidFill>
                <a:srgbClr val="000000"/>
              </a:solidFill>
              <a:latin typeface="Arial"/>
            </a:endParaRPr>
          </a:p>
        </p:txBody>
      </p:sp>
      <p:sp>
        <p:nvSpPr>
          <p:cNvPr id="404" name="文本框 36"/>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405" name="文本框 37"/>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406" name="文本框 38"/>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9" name="图片 49" descr=""/>
          <p:cNvPicPr/>
          <p:nvPr/>
        </p:nvPicPr>
        <p:blipFill>
          <a:blip r:embed="rId1"/>
          <a:srcRect l="0" t="0" r="798" b="4873"/>
          <a:stretch/>
        </p:blipFill>
        <p:spPr>
          <a:xfrm>
            <a:off x="2289240" y="717480"/>
            <a:ext cx="2552760" cy="1609920"/>
          </a:xfrm>
          <a:prstGeom prst="rect">
            <a:avLst/>
          </a:prstGeom>
          <a:ln w="0">
            <a:noFill/>
          </a:ln>
        </p:spPr>
      </p:pic>
      <p:pic>
        <p:nvPicPr>
          <p:cNvPr id="410" name="图片 50" descr=""/>
          <p:cNvPicPr/>
          <p:nvPr/>
        </p:nvPicPr>
        <p:blipFill>
          <a:blip r:embed="rId2"/>
          <a:srcRect l="0" t="0" r="728" b="4534"/>
          <a:stretch/>
        </p:blipFill>
        <p:spPr>
          <a:xfrm>
            <a:off x="7607160" y="717480"/>
            <a:ext cx="2552760" cy="1609920"/>
          </a:xfrm>
          <a:prstGeom prst="rect">
            <a:avLst/>
          </a:prstGeom>
          <a:ln w="0">
            <a:noFill/>
          </a:ln>
        </p:spPr>
      </p:pic>
      <p:pic>
        <p:nvPicPr>
          <p:cNvPr id="411" name="图片 51" descr=""/>
          <p:cNvPicPr/>
          <p:nvPr/>
        </p:nvPicPr>
        <p:blipFill>
          <a:blip r:embed="rId3"/>
          <a:srcRect l="0" t="0" r="649" b="5506"/>
          <a:stretch/>
        </p:blipFill>
        <p:spPr>
          <a:xfrm>
            <a:off x="3565440" y="2438280"/>
            <a:ext cx="2536920" cy="1608120"/>
          </a:xfrm>
          <a:prstGeom prst="rect">
            <a:avLst/>
          </a:prstGeom>
          <a:ln w="0">
            <a:noFill/>
          </a:ln>
        </p:spPr>
      </p:pic>
      <p:pic>
        <p:nvPicPr>
          <p:cNvPr id="412" name="图片 1" descr=""/>
          <p:cNvPicPr/>
          <p:nvPr/>
        </p:nvPicPr>
        <p:blipFill>
          <a:blip r:embed="rId4"/>
          <a:srcRect l="0" t="0" r="2096" b="7586"/>
          <a:stretch/>
        </p:blipFill>
        <p:spPr>
          <a:xfrm>
            <a:off x="4946760" y="717480"/>
            <a:ext cx="2555640" cy="1609920"/>
          </a:xfrm>
          <a:prstGeom prst="rect">
            <a:avLst/>
          </a:prstGeom>
          <a:ln w="0">
            <a:noFill/>
          </a:ln>
        </p:spPr>
      </p:pic>
      <p:pic>
        <p:nvPicPr>
          <p:cNvPr id="413" name="图片 3" descr=""/>
          <p:cNvPicPr/>
          <p:nvPr/>
        </p:nvPicPr>
        <p:blipFill>
          <a:blip r:embed="rId5"/>
          <a:srcRect l="0" t="0" r="575" b="4568"/>
          <a:stretch/>
        </p:blipFill>
        <p:spPr>
          <a:xfrm>
            <a:off x="6458040" y="2438280"/>
            <a:ext cx="2554200" cy="1600200"/>
          </a:xfrm>
          <a:prstGeom prst="rect">
            <a:avLst/>
          </a:prstGeom>
          <a:ln w="0">
            <a:noFill/>
          </a:ln>
        </p:spPr>
      </p:pic>
      <p:sp>
        <p:nvSpPr>
          <p:cNvPr id="414" name="TextBox 15"/>
          <p:cNvSpPr/>
          <p:nvPr/>
        </p:nvSpPr>
        <p:spPr>
          <a:xfrm>
            <a:off x="2117880" y="51195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415" name="矩形 53"/>
          <p:cNvSpPr/>
          <p:nvPr/>
        </p:nvSpPr>
        <p:spPr>
          <a:xfrm>
            <a:off x="4672440" y="44560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51c29"/>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8" name="图表 8" descr=""/>
          <p:cNvPicPr/>
          <p:nvPr/>
        </p:nvPicPr>
        <p:blipFill>
          <a:blip r:embed="rId1"/>
          <a:stretch/>
        </p:blipFill>
        <p:spPr>
          <a:xfrm>
            <a:off x="1581120" y="409680"/>
            <a:ext cx="9112320" cy="3805200"/>
          </a:xfrm>
          <a:prstGeom prst="rect">
            <a:avLst/>
          </a:prstGeom>
          <a:ln w="0">
            <a:noFill/>
          </a:ln>
        </p:spPr>
      </p:pic>
      <p:sp>
        <p:nvSpPr>
          <p:cNvPr id="419"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420" name="矩形 66"/>
          <p:cNvSpPr/>
          <p:nvPr/>
        </p:nvSpPr>
        <p:spPr>
          <a:xfrm>
            <a:off x="4832280" y="45496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51c29"/>
                </a:solidFill>
                <a:latin typeface="微软雅黑"/>
                <a:ea typeface="微软雅黑"/>
              </a:rPr>
              <a:t>这里输入简单的文字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任意多边形 1"/>
          <p:cNvSpPr/>
          <p:nvPr/>
        </p:nvSpPr>
        <p:spPr>
          <a:xfrm rot="9256800">
            <a:off x="5945040" y="4555800"/>
            <a:ext cx="1797120" cy="509400"/>
          </a:xfrm>
          <a:custGeom>
            <a:avLst/>
            <a:gdLst>
              <a:gd name="textAreaLeft" fmla="*/ 0 w 1797120"/>
              <a:gd name="textAreaRight" fmla="*/ 1797480 w 1797120"/>
              <a:gd name="textAreaTop" fmla="*/ 0 h 509400"/>
              <a:gd name="textAreaBottom" fmla="*/ 509760 h 509400"/>
            </a:gdLst>
            <a:ahLst/>
            <a:rect l="textAreaLeft" t="textAreaTop" r="textAreaRight" b="textAreaBottom"/>
            <a:pathLst>
              <a:path w="2085975" h="590550">
                <a:moveTo>
                  <a:pt x="0" y="0"/>
                </a:moveTo>
                <a:lnTo>
                  <a:pt x="2085975" y="0"/>
                </a:lnTo>
                <a:lnTo>
                  <a:pt x="1042988" y="590550"/>
                </a:lnTo>
                <a:lnTo>
                  <a:pt x="0" y="0"/>
                </a:lnTo>
                <a:close/>
              </a:path>
            </a:pathLst>
          </a:custGeom>
          <a:solidFill>
            <a:srgbClr val="c51c2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任意多边形 2"/>
          <p:cNvSpPr/>
          <p:nvPr/>
        </p:nvSpPr>
        <p:spPr>
          <a:xfrm rot="12342600">
            <a:off x="4549680" y="4555800"/>
            <a:ext cx="1797120" cy="509400"/>
          </a:xfrm>
          <a:custGeom>
            <a:avLst/>
            <a:gdLst>
              <a:gd name="textAreaLeft" fmla="*/ 0 w 1797120"/>
              <a:gd name="textAreaRight" fmla="*/ 1797480 w 1797120"/>
              <a:gd name="textAreaTop" fmla="*/ 0 h 509400"/>
              <a:gd name="textAreaBottom" fmla="*/ 509760 h 509400"/>
            </a:gdLst>
            <a:ahLst/>
            <a:rect l="textAreaLeft" t="textAreaTop" r="textAreaRight" b="textAreaBottom"/>
            <a:pathLst>
              <a:path w="2085975" h="590550">
                <a:moveTo>
                  <a:pt x="0" y="0"/>
                </a:moveTo>
                <a:lnTo>
                  <a:pt x="2085975" y="0"/>
                </a:lnTo>
                <a:lnTo>
                  <a:pt x="1042988" y="590550"/>
                </a:lnTo>
                <a:lnTo>
                  <a:pt x="0" y="0"/>
                </a:lnTo>
                <a:close/>
              </a:path>
            </a:pathLst>
          </a:custGeom>
          <a:solidFill>
            <a:srgbClr val="c51c2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任意多边形 3"/>
          <p:cNvSpPr/>
          <p:nvPr/>
        </p:nvSpPr>
        <p:spPr>
          <a:xfrm rot="15428400">
            <a:off x="3679560" y="3465360"/>
            <a:ext cx="1797120" cy="507960"/>
          </a:xfrm>
          <a:custGeom>
            <a:avLst/>
            <a:gdLst>
              <a:gd name="textAreaLeft" fmla="*/ 0 w 1797120"/>
              <a:gd name="textAreaRight" fmla="*/ 1797480 w 1797120"/>
              <a:gd name="textAreaTop" fmla="*/ 0 h 507960"/>
              <a:gd name="textAreaBottom" fmla="*/ 508320 h 507960"/>
            </a:gdLst>
            <a:ahLst/>
            <a:rect l="textAreaLeft" t="textAreaTop" r="textAreaRight" b="textAreaBottom"/>
            <a:pathLst>
              <a:path w="2085975" h="590550">
                <a:moveTo>
                  <a:pt x="0" y="0"/>
                </a:moveTo>
                <a:lnTo>
                  <a:pt x="2085975" y="0"/>
                </a:lnTo>
                <a:lnTo>
                  <a:pt x="1042988" y="590550"/>
                </a:lnTo>
                <a:lnTo>
                  <a:pt x="0" y="0"/>
                </a:lnTo>
                <a:close/>
              </a:path>
            </a:pathLst>
          </a:custGeom>
          <a:solidFill>
            <a:srgbClr val="2b336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任意多边形 4"/>
          <p:cNvSpPr/>
          <p:nvPr/>
        </p:nvSpPr>
        <p:spPr>
          <a:xfrm rot="18514200">
            <a:off x="3989880" y="2103840"/>
            <a:ext cx="1795320" cy="507960"/>
          </a:xfrm>
          <a:custGeom>
            <a:avLst/>
            <a:gdLst>
              <a:gd name="textAreaLeft" fmla="*/ 0 w 1795320"/>
              <a:gd name="textAreaRight" fmla="*/ 1795680 w 1795320"/>
              <a:gd name="textAreaTop" fmla="*/ 0 h 507960"/>
              <a:gd name="textAreaBottom" fmla="*/ 508320 h 507960"/>
            </a:gdLst>
            <a:ahLst/>
            <a:rect l="textAreaLeft" t="textAreaTop" r="textAreaRight" b="textAreaBottom"/>
            <a:pathLst>
              <a:path w="2085975" h="590550">
                <a:moveTo>
                  <a:pt x="0" y="0"/>
                </a:moveTo>
                <a:lnTo>
                  <a:pt x="2085975" y="0"/>
                </a:lnTo>
                <a:lnTo>
                  <a:pt x="1042988" y="590550"/>
                </a:lnTo>
                <a:lnTo>
                  <a:pt x="0" y="0"/>
                </a:lnTo>
                <a:close/>
              </a:path>
            </a:pathLst>
          </a:custGeom>
          <a:solidFill>
            <a:srgbClr val="c51c2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任意多边形 5"/>
          <p:cNvSpPr/>
          <p:nvPr/>
        </p:nvSpPr>
        <p:spPr>
          <a:xfrm>
            <a:off x="5248440" y="1500120"/>
            <a:ext cx="1795320" cy="507960"/>
          </a:xfrm>
          <a:custGeom>
            <a:avLst/>
            <a:gdLst>
              <a:gd name="textAreaLeft" fmla="*/ 0 w 1795320"/>
              <a:gd name="textAreaRight" fmla="*/ 1795680 w 1795320"/>
              <a:gd name="textAreaTop" fmla="*/ 0 h 507960"/>
              <a:gd name="textAreaBottom" fmla="*/ 508320 h 507960"/>
            </a:gdLst>
            <a:ahLst/>
            <a:rect l="textAreaLeft" t="textAreaTop" r="textAreaRight" b="textAreaBottom"/>
            <a:pathLst>
              <a:path w="2085975" h="590550">
                <a:moveTo>
                  <a:pt x="0" y="0"/>
                </a:moveTo>
                <a:lnTo>
                  <a:pt x="2085975" y="0"/>
                </a:lnTo>
                <a:lnTo>
                  <a:pt x="1042988" y="590550"/>
                </a:lnTo>
                <a:lnTo>
                  <a:pt x="0" y="0"/>
                </a:lnTo>
                <a:close/>
              </a:path>
            </a:pathLst>
          </a:custGeom>
          <a:solidFill>
            <a:srgbClr val="2b336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任意多边形 6"/>
          <p:cNvSpPr/>
          <p:nvPr/>
        </p:nvSpPr>
        <p:spPr>
          <a:xfrm rot="3085200">
            <a:off x="6505560" y="2103120"/>
            <a:ext cx="1795320" cy="509760"/>
          </a:xfrm>
          <a:custGeom>
            <a:avLst/>
            <a:gdLst>
              <a:gd name="textAreaLeft" fmla="*/ 0 w 1795320"/>
              <a:gd name="textAreaRight" fmla="*/ 1795680 w 1795320"/>
              <a:gd name="textAreaTop" fmla="*/ 0 h 509760"/>
              <a:gd name="textAreaBottom" fmla="*/ 510120 h 509760"/>
            </a:gdLst>
            <a:ahLst/>
            <a:rect l="textAreaLeft" t="textAreaTop" r="textAreaRight" b="textAreaBottom"/>
            <a:pathLst>
              <a:path w="2085975" h="590550">
                <a:moveTo>
                  <a:pt x="0" y="0"/>
                </a:moveTo>
                <a:lnTo>
                  <a:pt x="2085975" y="0"/>
                </a:lnTo>
                <a:lnTo>
                  <a:pt x="1042988" y="590550"/>
                </a:lnTo>
                <a:lnTo>
                  <a:pt x="0" y="0"/>
                </a:lnTo>
                <a:close/>
              </a:path>
            </a:pathLst>
          </a:custGeom>
          <a:solidFill>
            <a:srgbClr val="c51c2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任意多边形 7"/>
          <p:cNvSpPr/>
          <p:nvPr/>
        </p:nvSpPr>
        <p:spPr>
          <a:xfrm rot="6171600">
            <a:off x="6813720" y="3464640"/>
            <a:ext cx="1797120" cy="509400"/>
          </a:xfrm>
          <a:custGeom>
            <a:avLst/>
            <a:gdLst>
              <a:gd name="textAreaLeft" fmla="*/ 0 w 1797120"/>
              <a:gd name="textAreaRight" fmla="*/ 1797480 w 1797120"/>
              <a:gd name="textAreaTop" fmla="*/ 0 h 509400"/>
              <a:gd name="textAreaBottom" fmla="*/ 509760 h 509400"/>
            </a:gdLst>
            <a:ahLst/>
            <a:rect l="textAreaLeft" t="textAreaTop" r="textAreaRight" b="textAreaBottom"/>
            <a:pathLst>
              <a:path w="2085975" h="590550">
                <a:moveTo>
                  <a:pt x="0" y="0"/>
                </a:moveTo>
                <a:lnTo>
                  <a:pt x="2085975" y="0"/>
                </a:lnTo>
                <a:lnTo>
                  <a:pt x="1042988" y="590550"/>
                </a:lnTo>
                <a:lnTo>
                  <a:pt x="0" y="0"/>
                </a:lnTo>
                <a:close/>
              </a:path>
            </a:pathLst>
          </a:custGeom>
          <a:solidFill>
            <a:srgbClr val="2b336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0" name="矩形 3"/>
          <p:cNvSpPr/>
          <p:nvPr/>
        </p:nvSpPr>
        <p:spPr>
          <a:xfrm>
            <a:off x="5164200" y="2997360"/>
            <a:ext cx="201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3360"/>
                </a:solidFill>
                <a:latin typeface="微软雅黑"/>
                <a:ea typeface="微软雅黑"/>
              </a:rPr>
              <a:t>添加标题</a:t>
            </a:r>
            <a:endParaRPr b="0" lang="en-US" sz="3200" spc="-1" strike="noStrike">
              <a:solidFill>
                <a:srgbClr val="000000"/>
              </a:solidFill>
              <a:latin typeface="Arial"/>
            </a:endParaRPr>
          </a:p>
        </p:txBody>
      </p:sp>
      <p:sp>
        <p:nvSpPr>
          <p:cNvPr id="431" name="矩形 9"/>
          <p:cNvSpPr/>
          <p:nvPr/>
        </p:nvSpPr>
        <p:spPr>
          <a:xfrm>
            <a:off x="5690520" y="768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点击添加文本</a:t>
            </a:r>
            <a:endParaRPr b="0" lang="en-US" sz="1600" spc="-1" strike="noStrike">
              <a:solidFill>
                <a:srgbClr val="000000"/>
              </a:solidFill>
              <a:latin typeface="Arial"/>
            </a:endParaRPr>
          </a:p>
        </p:txBody>
      </p:sp>
      <p:sp>
        <p:nvSpPr>
          <p:cNvPr id="432" name="矩形 10"/>
          <p:cNvSpPr/>
          <p:nvPr/>
        </p:nvSpPr>
        <p:spPr>
          <a:xfrm>
            <a:off x="8481240" y="1776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点击添加文本</a:t>
            </a:r>
            <a:endParaRPr b="0" lang="en-US" sz="1600" spc="-1" strike="noStrike">
              <a:solidFill>
                <a:srgbClr val="000000"/>
              </a:solidFill>
              <a:latin typeface="Arial"/>
            </a:endParaRPr>
          </a:p>
        </p:txBody>
      </p:sp>
      <p:sp>
        <p:nvSpPr>
          <p:cNvPr id="433" name="矩形 11"/>
          <p:cNvSpPr/>
          <p:nvPr/>
        </p:nvSpPr>
        <p:spPr>
          <a:xfrm>
            <a:off x="8841600" y="36432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点击添加文本</a:t>
            </a:r>
            <a:endParaRPr b="0" lang="en-US" sz="1600" spc="-1" strike="noStrike">
              <a:solidFill>
                <a:srgbClr val="000000"/>
              </a:solidFill>
              <a:latin typeface="Arial"/>
            </a:endParaRPr>
          </a:p>
        </p:txBody>
      </p:sp>
      <p:sp>
        <p:nvSpPr>
          <p:cNvPr id="434" name="矩形 12"/>
          <p:cNvSpPr/>
          <p:nvPr/>
        </p:nvSpPr>
        <p:spPr>
          <a:xfrm>
            <a:off x="7778160" y="50576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点击添加文本</a:t>
            </a:r>
            <a:endParaRPr b="0" lang="en-US" sz="1600" spc="-1" strike="noStrike">
              <a:solidFill>
                <a:srgbClr val="000000"/>
              </a:solidFill>
              <a:latin typeface="Arial"/>
            </a:endParaRPr>
          </a:p>
        </p:txBody>
      </p:sp>
      <p:sp>
        <p:nvSpPr>
          <p:cNvPr id="435" name="矩形 13"/>
          <p:cNvSpPr/>
          <p:nvPr/>
        </p:nvSpPr>
        <p:spPr>
          <a:xfrm>
            <a:off x="3517200" y="50576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点击添加文本</a:t>
            </a:r>
            <a:endParaRPr b="0" lang="en-US" sz="1600" spc="-1" strike="noStrike">
              <a:solidFill>
                <a:srgbClr val="000000"/>
              </a:solidFill>
              <a:latin typeface="Arial"/>
            </a:endParaRPr>
          </a:p>
        </p:txBody>
      </p:sp>
      <p:sp>
        <p:nvSpPr>
          <p:cNvPr id="436" name="矩形 14"/>
          <p:cNvSpPr/>
          <p:nvPr/>
        </p:nvSpPr>
        <p:spPr>
          <a:xfrm>
            <a:off x="2528280" y="36432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点击添加文本</a:t>
            </a:r>
            <a:endParaRPr b="0" lang="en-US" sz="1600" spc="-1" strike="noStrike">
              <a:solidFill>
                <a:srgbClr val="000000"/>
              </a:solidFill>
              <a:latin typeface="Arial"/>
            </a:endParaRPr>
          </a:p>
        </p:txBody>
      </p:sp>
      <p:sp>
        <p:nvSpPr>
          <p:cNvPr id="437" name="矩形 15"/>
          <p:cNvSpPr/>
          <p:nvPr/>
        </p:nvSpPr>
        <p:spPr>
          <a:xfrm>
            <a:off x="2877480" y="1776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点击添加文本</a:t>
            </a:r>
            <a:endParaRPr b="0" lang="en-US" sz="1600" spc="-1" strike="noStrike">
              <a:solidFill>
                <a:srgbClr val="000000"/>
              </a:solidFill>
              <a:latin typeface="Arial"/>
            </a:endParaRPr>
          </a:p>
        </p:txBody>
      </p:sp>
      <p:sp>
        <p:nvSpPr>
          <p:cNvPr id="438" name="矩形 16"/>
          <p:cNvSpPr/>
          <p:nvPr/>
        </p:nvSpPr>
        <p:spPr>
          <a:xfrm>
            <a:off x="2831040" y="21099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字概述</a:t>
            </a:r>
            <a:endParaRPr b="0" lang="en-US" sz="1200" spc="-1" strike="noStrike">
              <a:solidFill>
                <a:srgbClr val="000000"/>
              </a:solidFill>
              <a:latin typeface="Arial"/>
            </a:endParaRPr>
          </a:p>
        </p:txBody>
      </p:sp>
      <p:sp>
        <p:nvSpPr>
          <p:cNvPr id="439" name="矩形 17"/>
          <p:cNvSpPr/>
          <p:nvPr/>
        </p:nvSpPr>
        <p:spPr>
          <a:xfrm>
            <a:off x="8434800" y="210492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字概述</a:t>
            </a:r>
            <a:endParaRPr b="0" lang="en-US" sz="1200" spc="-1" strike="noStrike">
              <a:solidFill>
                <a:srgbClr val="000000"/>
              </a:solidFill>
              <a:latin typeface="Arial"/>
            </a:endParaRPr>
          </a:p>
        </p:txBody>
      </p:sp>
      <p:sp>
        <p:nvSpPr>
          <p:cNvPr id="440" name="矩形 18"/>
          <p:cNvSpPr/>
          <p:nvPr/>
        </p:nvSpPr>
        <p:spPr>
          <a:xfrm>
            <a:off x="2483280" y="39704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字概述</a:t>
            </a:r>
            <a:endParaRPr b="0" lang="en-US" sz="1200" spc="-1" strike="noStrike">
              <a:solidFill>
                <a:srgbClr val="000000"/>
              </a:solidFill>
              <a:latin typeface="Arial"/>
            </a:endParaRPr>
          </a:p>
        </p:txBody>
      </p:sp>
      <p:sp>
        <p:nvSpPr>
          <p:cNvPr id="441" name="矩形 19"/>
          <p:cNvSpPr/>
          <p:nvPr/>
        </p:nvSpPr>
        <p:spPr>
          <a:xfrm>
            <a:off x="8863560" y="39686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字概述</a:t>
            </a:r>
            <a:endParaRPr b="0" lang="en-US" sz="1200" spc="-1" strike="noStrike">
              <a:solidFill>
                <a:srgbClr val="000000"/>
              </a:solidFill>
              <a:latin typeface="Arial"/>
            </a:endParaRPr>
          </a:p>
        </p:txBody>
      </p:sp>
      <p:sp>
        <p:nvSpPr>
          <p:cNvPr id="442" name="矩形 20"/>
          <p:cNvSpPr/>
          <p:nvPr/>
        </p:nvSpPr>
        <p:spPr>
          <a:xfrm>
            <a:off x="3515040" y="53481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字概述</a:t>
            </a:r>
            <a:endParaRPr b="0" lang="en-US" sz="1200" spc="-1" strike="noStrike">
              <a:solidFill>
                <a:srgbClr val="000000"/>
              </a:solidFill>
              <a:latin typeface="Arial"/>
            </a:endParaRPr>
          </a:p>
        </p:txBody>
      </p:sp>
      <p:sp>
        <p:nvSpPr>
          <p:cNvPr id="443" name="矩形 21"/>
          <p:cNvSpPr/>
          <p:nvPr/>
        </p:nvSpPr>
        <p:spPr>
          <a:xfrm>
            <a:off x="7737120" y="539100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字概述</a:t>
            </a:r>
            <a:endParaRPr b="0" lang="en-US" sz="1200" spc="-1" strike="noStrike">
              <a:solidFill>
                <a:srgbClr val="000000"/>
              </a:solidFill>
              <a:latin typeface="Arial"/>
            </a:endParaRPr>
          </a:p>
        </p:txBody>
      </p:sp>
      <p:sp>
        <p:nvSpPr>
          <p:cNvPr id="444" name="矩形 23"/>
          <p:cNvSpPr/>
          <p:nvPr/>
        </p:nvSpPr>
        <p:spPr>
          <a:xfrm>
            <a:off x="5644080" y="11066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文本框 4"/>
          <p:cNvSpPr/>
          <p:nvPr/>
        </p:nvSpPr>
        <p:spPr>
          <a:xfrm>
            <a:off x="7431120" y="2217600"/>
            <a:ext cx="3868560" cy="79380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448" name="文本框 4"/>
          <p:cNvSpPr/>
          <p:nvPr/>
        </p:nvSpPr>
        <p:spPr>
          <a:xfrm>
            <a:off x="7245360" y="2676600"/>
            <a:ext cx="3868560" cy="6159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椭圆 11"/>
          <p:cNvSpPr/>
          <p:nvPr/>
        </p:nvSpPr>
        <p:spPr>
          <a:xfrm>
            <a:off x="6458040" y="3232080"/>
            <a:ext cx="787320" cy="78912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椭圆 13"/>
          <p:cNvSpPr/>
          <p:nvPr/>
        </p:nvSpPr>
        <p:spPr>
          <a:xfrm>
            <a:off x="6458040" y="2255760"/>
            <a:ext cx="787320" cy="78588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椭圆 15"/>
          <p:cNvSpPr/>
          <p:nvPr/>
        </p:nvSpPr>
        <p:spPr>
          <a:xfrm>
            <a:off x="6458040" y="4210200"/>
            <a:ext cx="787320" cy="78876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椭圆 17"/>
          <p:cNvSpPr/>
          <p:nvPr/>
        </p:nvSpPr>
        <p:spPr>
          <a:xfrm>
            <a:off x="6458040" y="5187960"/>
            <a:ext cx="787320" cy="78732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TextBox 15"/>
          <p:cNvSpPr/>
          <p:nvPr/>
        </p:nvSpPr>
        <p:spPr>
          <a:xfrm>
            <a:off x="1144440" y="903240"/>
            <a:ext cx="98726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454" name="图片 20" descr=""/>
          <p:cNvPicPr/>
          <p:nvPr/>
        </p:nvPicPr>
        <p:blipFill>
          <a:blip r:embed="rId1"/>
          <a:srcRect l="0" t="0" r="635" b="10455"/>
          <a:stretch/>
        </p:blipFill>
        <p:spPr>
          <a:xfrm>
            <a:off x="1144440" y="2590920"/>
            <a:ext cx="4961160" cy="3238560"/>
          </a:xfrm>
          <a:prstGeom prst="rect">
            <a:avLst/>
          </a:prstGeom>
          <a:ln w="0">
            <a:noFill/>
          </a:ln>
        </p:spPr>
      </p:pic>
      <p:sp>
        <p:nvSpPr>
          <p:cNvPr id="455" name="文本框 4"/>
          <p:cNvSpPr/>
          <p:nvPr/>
        </p:nvSpPr>
        <p:spPr>
          <a:xfrm>
            <a:off x="7431120" y="3259080"/>
            <a:ext cx="3868560" cy="7952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456" name="文本框 4"/>
          <p:cNvSpPr/>
          <p:nvPr/>
        </p:nvSpPr>
        <p:spPr>
          <a:xfrm>
            <a:off x="7431120" y="4210200"/>
            <a:ext cx="3868560" cy="793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457" name="文本框 4"/>
          <p:cNvSpPr/>
          <p:nvPr/>
        </p:nvSpPr>
        <p:spPr>
          <a:xfrm>
            <a:off x="7431120" y="5187960"/>
            <a:ext cx="3868560" cy="7952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3360"/>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458" name="矩形 1"/>
          <p:cNvSpPr/>
          <p:nvPr/>
        </p:nvSpPr>
        <p:spPr>
          <a:xfrm>
            <a:off x="6557760" y="23842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1</a:t>
            </a:r>
            <a:endParaRPr b="0" lang="en-US" sz="2800" spc="-1" strike="noStrike">
              <a:solidFill>
                <a:srgbClr val="000000"/>
              </a:solidFill>
              <a:latin typeface="Arial"/>
            </a:endParaRPr>
          </a:p>
        </p:txBody>
      </p:sp>
      <p:sp>
        <p:nvSpPr>
          <p:cNvPr id="459" name="矩形 14"/>
          <p:cNvSpPr/>
          <p:nvPr/>
        </p:nvSpPr>
        <p:spPr>
          <a:xfrm>
            <a:off x="6557760" y="336564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2</a:t>
            </a:r>
            <a:endParaRPr b="0" lang="en-US" sz="2800" spc="-1" strike="noStrike">
              <a:solidFill>
                <a:srgbClr val="000000"/>
              </a:solidFill>
              <a:latin typeface="Arial"/>
            </a:endParaRPr>
          </a:p>
        </p:txBody>
      </p:sp>
      <p:sp>
        <p:nvSpPr>
          <p:cNvPr id="460" name="矩形 16"/>
          <p:cNvSpPr/>
          <p:nvPr/>
        </p:nvSpPr>
        <p:spPr>
          <a:xfrm>
            <a:off x="6553080" y="43434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3</a:t>
            </a:r>
            <a:endParaRPr b="0" lang="en-US" sz="2800" spc="-1" strike="noStrike">
              <a:solidFill>
                <a:srgbClr val="000000"/>
              </a:solidFill>
              <a:latin typeface="Arial"/>
            </a:endParaRPr>
          </a:p>
        </p:txBody>
      </p:sp>
      <p:sp>
        <p:nvSpPr>
          <p:cNvPr id="461" name="矩形 18"/>
          <p:cNvSpPr/>
          <p:nvPr/>
        </p:nvSpPr>
        <p:spPr>
          <a:xfrm>
            <a:off x="6557760" y="53323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3" name="组合 53"/>
          <p:cNvGrpSpPr/>
          <p:nvPr/>
        </p:nvGrpSpPr>
        <p:grpSpPr>
          <a:xfrm>
            <a:off x="6205680" y="2332080"/>
            <a:ext cx="777600" cy="776160"/>
            <a:chOff x="6205680" y="2332080"/>
            <a:chExt cx="777600" cy="776160"/>
          </a:xfrm>
        </p:grpSpPr>
        <p:sp>
          <p:nvSpPr>
            <p:cNvPr id="464" name="矩形 10"/>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直接连接符 11"/>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直接连接符 12"/>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7" name="组合 57"/>
          <p:cNvGrpSpPr/>
          <p:nvPr/>
        </p:nvGrpSpPr>
        <p:grpSpPr>
          <a:xfrm>
            <a:off x="7129440" y="2332080"/>
            <a:ext cx="776160" cy="776160"/>
            <a:chOff x="7129440" y="2332080"/>
            <a:chExt cx="776160" cy="776160"/>
          </a:xfrm>
        </p:grpSpPr>
        <p:sp>
          <p:nvSpPr>
            <p:cNvPr id="468" name="矩形 14"/>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直接连接符 20"/>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直接连接符 21"/>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1" name="组合 61"/>
          <p:cNvGrpSpPr/>
          <p:nvPr/>
        </p:nvGrpSpPr>
        <p:grpSpPr>
          <a:xfrm>
            <a:off x="8053560" y="2332080"/>
            <a:ext cx="776160" cy="776160"/>
            <a:chOff x="8053560" y="2332080"/>
            <a:chExt cx="776160" cy="776160"/>
          </a:xfrm>
        </p:grpSpPr>
        <p:sp>
          <p:nvSpPr>
            <p:cNvPr id="472" name="矩形 23"/>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直接连接符 24"/>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直接连接符 25"/>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5" name="组合 65"/>
          <p:cNvGrpSpPr/>
          <p:nvPr/>
        </p:nvGrpSpPr>
        <p:grpSpPr>
          <a:xfrm>
            <a:off x="8975880" y="2332080"/>
            <a:ext cx="777600" cy="776160"/>
            <a:chOff x="8975880" y="2332080"/>
            <a:chExt cx="777600" cy="776160"/>
          </a:xfrm>
        </p:grpSpPr>
        <p:sp>
          <p:nvSpPr>
            <p:cNvPr id="476" name="矩形 27"/>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直接连接符 28"/>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直接连接符 29"/>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79" name="文本框 30"/>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480" name="文本框 31"/>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六</a:t>
            </a:r>
            <a:endParaRPr b="0" lang="en-US" sz="4800" spc="-1" strike="noStrike">
              <a:solidFill>
                <a:srgbClr val="000000"/>
              </a:solidFill>
              <a:latin typeface="Arial"/>
            </a:endParaRPr>
          </a:p>
        </p:txBody>
      </p:sp>
      <p:sp>
        <p:nvSpPr>
          <p:cNvPr id="481" name="文本框 32"/>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482" name="文本框 33"/>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483" name="文本框 34"/>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484" name="文本框 35"/>
          <p:cNvSpPr/>
          <p:nvPr/>
        </p:nvSpPr>
        <p:spPr>
          <a:xfrm>
            <a:off x="7240680" y="1941480"/>
            <a:ext cx="5000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liu</a:t>
            </a:r>
            <a:endParaRPr b="0" lang="en-US" sz="2000" spc="-1" strike="noStrike">
              <a:solidFill>
                <a:srgbClr val="000000"/>
              </a:solidFill>
              <a:latin typeface="Arial"/>
            </a:endParaRPr>
          </a:p>
        </p:txBody>
      </p:sp>
      <p:sp>
        <p:nvSpPr>
          <p:cNvPr id="485" name="文本框 36"/>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486" name="文本框 37"/>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487" name="文本框 38"/>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0" name="组合 30"/>
          <p:cNvGrpSpPr/>
          <p:nvPr/>
        </p:nvGrpSpPr>
        <p:grpSpPr>
          <a:xfrm>
            <a:off x="2269800" y="1795320"/>
            <a:ext cx="7553520" cy="1443240"/>
            <a:chOff x="2269800" y="1795320"/>
            <a:chExt cx="7553520" cy="1443240"/>
          </a:xfrm>
        </p:grpSpPr>
        <p:sp>
          <p:nvSpPr>
            <p:cNvPr id="491" name="直接连接符 31"/>
            <p:cNvSpPr/>
            <p:nvPr/>
          </p:nvSpPr>
          <p:spPr>
            <a:xfrm>
              <a:off x="2270160" y="2426760"/>
              <a:ext cx="7553160" cy="0"/>
            </a:xfrm>
            <a:prstGeom prst="line">
              <a:avLst/>
            </a:prstGeom>
            <a:ln w="6480">
              <a:solidFill>
                <a:srgbClr val="a5a5a5"/>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92" name="直接箭头连接符 32"/>
            <p:cNvCxnSpPr/>
            <p:nvPr/>
          </p:nvCxnSpPr>
          <p:spPr>
            <a:xfrm>
              <a:off x="2269800" y="2426400"/>
              <a:ext cx="1080" cy="812520"/>
            </a:xfrm>
            <a:prstGeom prst="straightConnector1">
              <a:avLst/>
            </a:prstGeom>
            <a:ln w="6480">
              <a:solidFill>
                <a:srgbClr val="a5a5a5"/>
              </a:solidFill>
              <a:bevel/>
              <a:tailEnd len="med" type="arrow" w="med"/>
            </a:ln>
          </p:spPr>
        </p:cxnSp>
        <p:cxnSp>
          <p:nvCxnSpPr>
            <p:cNvPr id="493" name="直接箭头连接符 33"/>
            <p:cNvCxnSpPr/>
            <p:nvPr/>
          </p:nvCxnSpPr>
          <p:spPr>
            <a:xfrm>
              <a:off x="4813200" y="2426400"/>
              <a:ext cx="1080" cy="812520"/>
            </a:xfrm>
            <a:prstGeom prst="straightConnector1">
              <a:avLst/>
            </a:prstGeom>
            <a:ln w="6480">
              <a:solidFill>
                <a:srgbClr val="a5a5a5"/>
              </a:solidFill>
              <a:bevel/>
              <a:tailEnd len="med" type="arrow" w="med"/>
            </a:ln>
          </p:spPr>
        </p:cxnSp>
        <p:cxnSp>
          <p:nvCxnSpPr>
            <p:cNvPr id="494" name="直接箭头连接符 34"/>
            <p:cNvCxnSpPr/>
            <p:nvPr/>
          </p:nvCxnSpPr>
          <p:spPr>
            <a:xfrm>
              <a:off x="7458840" y="2426400"/>
              <a:ext cx="1080" cy="812520"/>
            </a:xfrm>
            <a:prstGeom prst="straightConnector1">
              <a:avLst/>
            </a:prstGeom>
            <a:ln w="6480">
              <a:solidFill>
                <a:srgbClr val="a5a5a5"/>
              </a:solidFill>
              <a:bevel/>
              <a:tailEnd len="med" type="arrow" w="med"/>
            </a:ln>
          </p:spPr>
        </p:cxnSp>
        <p:cxnSp>
          <p:nvCxnSpPr>
            <p:cNvPr id="495" name="直接箭头连接符 35"/>
            <p:cNvCxnSpPr/>
            <p:nvPr/>
          </p:nvCxnSpPr>
          <p:spPr>
            <a:xfrm>
              <a:off x="9820800" y="2426400"/>
              <a:ext cx="1080" cy="812520"/>
            </a:xfrm>
            <a:prstGeom prst="straightConnector1">
              <a:avLst/>
            </a:prstGeom>
            <a:ln w="6480">
              <a:solidFill>
                <a:srgbClr val="a5a5a5"/>
              </a:solidFill>
              <a:bevel/>
              <a:tailEnd len="med" type="arrow" w="med"/>
            </a:ln>
          </p:spPr>
        </p:cxnSp>
        <p:sp>
          <p:nvSpPr>
            <p:cNvPr id="496" name="直接连接符 36"/>
            <p:cNvSpPr/>
            <p:nvPr/>
          </p:nvSpPr>
          <p:spPr>
            <a:xfrm>
              <a:off x="6126840" y="1795320"/>
              <a:ext cx="0" cy="631440"/>
            </a:xfrm>
            <a:prstGeom prst="line">
              <a:avLst/>
            </a:prstGeom>
            <a:ln w="6480">
              <a:solidFill>
                <a:srgbClr val="a5a5a5"/>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97" name="TextBox 29"/>
          <p:cNvSpPr/>
          <p:nvPr/>
        </p:nvSpPr>
        <p:spPr>
          <a:xfrm>
            <a:off x="927000" y="403560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点击添加文字说明</a:t>
            </a:r>
            <a:endParaRPr b="0" lang="en-US" sz="1400" spc="-1" strike="noStrike">
              <a:solidFill>
                <a:srgbClr val="000000"/>
              </a:solidFill>
              <a:latin typeface="Arial"/>
            </a:endParaRPr>
          </a:p>
        </p:txBody>
      </p:sp>
      <p:sp>
        <p:nvSpPr>
          <p:cNvPr id="498" name="TextBox 30"/>
          <p:cNvSpPr/>
          <p:nvPr/>
        </p:nvSpPr>
        <p:spPr>
          <a:xfrm>
            <a:off x="3451320" y="403560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点击添加文字说明</a:t>
            </a:r>
            <a:endParaRPr b="0" lang="en-US" sz="1400" spc="-1" strike="noStrike">
              <a:solidFill>
                <a:srgbClr val="000000"/>
              </a:solidFill>
              <a:latin typeface="Arial"/>
            </a:endParaRPr>
          </a:p>
        </p:txBody>
      </p:sp>
      <p:sp>
        <p:nvSpPr>
          <p:cNvPr id="499" name="TextBox 31"/>
          <p:cNvSpPr/>
          <p:nvPr/>
        </p:nvSpPr>
        <p:spPr>
          <a:xfrm>
            <a:off x="6066000" y="4035600"/>
            <a:ext cx="2525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点击添加文字说明</a:t>
            </a:r>
            <a:endParaRPr b="0" lang="en-US" sz="1400" spc="-1" strike="noStrike">
              <a:solidFill>
                <a:srgbClr val="000000"/>
              </a:solidFill>
              <a:latin typeface="Arial"/>
            </a:endParaRPr>
          </a:p>
        </p:txBody>
      </p:sp>
      <p:sp>
        <p:nvSpPr>
          <p:cNvPr id="500" name="TextBox 32"/>
          <p:cNvSpPr/>
          <p:nvPr/>
        </p:nvSpPr>
        <p:spPr>
          <a:xfrm>
            <a:off x="8771040" y="403560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点击添加文字说明</a:t>
            </a:r>
            <a:endParaRPr b="0" lang="en-US" sz="1400" spc="-1" strike="noStrike">
              <a:solidFill>
                <a:srgbClr val="000000"/>
              </a:solidFill>
              <a:latin typeface="Arial"/>
            </a:endParaRPr>
          </a:p>
        </p:txBody>
      </p:sp>
      <p:sp>
        <p:nvSpPr>
          <p:cNvPr id="501" name="等腰三角形 41"/>
          <p:cNvSpPr/>
          <p:nvPr/>
        </p:nvSpPr>
        <p:spPr>
          <a:xfrm rot="5400000">
            <a:off x="3565440" y="5413320"/>
            <a:ext cx="361800" cy="31104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2" name="组合 43"/>
          <p:cNvGrpSpPr/>
          <p:nvPr/>
        </p:nvGrpSpPr>
        <p:grpSpPr>
          <a:xfrm>
            <a:off x="4657680" y="1074600"/>
            <a:ext cx="2906640" cy="720720"/>
            <a:chOff x="4657680" y="1074600"/>
            <a:chExt cx="2906640" cy="720720"/>
          </a:xfrm>
        </p:grpSpPr>
        <p:sp>
          <p:nvSpPr>
            <p:cNvPr id="503" name="矩形 44"/>
            <p:cNvSpPr/>
            <p:nvPr/>
          </p:nvSpPr>
          <p:spPr>
            <a:xfrm>
              <a:off x="4657680" y="1074600"/>
              <a:ext cx="2906640" cy="7207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TextBox 35"/>
            <p:cNvSpPr/>
            <p:nvPr/>
          </p:nvSpPr>
          <p:spPr>
            <a:xfrm>
              <a:off x="5550840" y="1235160"/>
              <a:ext cx="1095120" cy="398880"/>
            </a:xfrm>
            <a:prstGeom prst="rect">
              <a:avLst/>
            </a:prstGeom>
            <a:solidFill>
              <a:srgbClr val="a5a5a5"/>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505" name="组合 46"/>
          <p:cNvGrpSpPr/>
          <p:nvPr/>
        </p:nvGrpSpPr>
        <p:grpSpPr>
          <a:xfrm>
            <a:off x="1015920" y="3238560"/>
            <a:ext cx="2384640" cy="720720"/>
            <a:chOff x="1015920" y="3238560"/>
            <a:chExt cx="2384640" cy="720720"/>
          </a:xfrm>
        </p:grpSpPr>
        <p:sp>
          <p:nvSpPr>
            <p:cNvPr id="506" name="矩形 47"/>
            <p:cNvSpPr/>
            <p:nvPr/>
          </p:nvSpPr>
          <p:spPr>
            <a:xfrm>
              <a:off x="1015920" y="3238560"/>
              <a:ext cx="2384640" cy="72072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TextBox 36"/>
            <p:cNvSpPr/>
            <p:nvPr/>
          </p:nvSpPr>
          <p:spPr>
            <a:xfrm>
              <a:off x="1706040" y="3414240"/>
              <a:ext cx="1003680" cy="368280"/>
            </a:xfrm>
            <a:prstGeom prst="rect">
              <a:avLst/>
            </a:prstGeom>
            <a:solidFill>
              <a:srgbClr val="c51c2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508" name="组合 49"/>
          <p:cNvGrpSpPr/>
          <p:nvPr/>
        </p:nvGrpSpPr>
        <p:grpSpPr>
          <a:xfrm>
            <a:off x="3591000" y="3238560"/>
            <a:ext cx="2384280" cy="720720"/>
            <a:chOff x="3591000" y="3238560"/>
            <a:chExt cx="2384280" cy="720720"/>
          </a:xfrm>
        </p:grpSpPr>
        <p:sp>
          <p:nvSpPr>
            <p:cNvPr id="509" name="矩形 50"/>
            <p:cNvSpPr/>
            <p:nvPr/>
          </p:nvSpPr>
          <p:spPr>
            <a:xfrm>
              <a:off x="3591000" y="3238560"/>
              <a:ext cx="2384280" cy="72072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TextBox 37"/>
            <p:cNvSpPr/>
            <p:nvPr/>
          </p:nvSpPr>
          <p:spPr>
            <a:xfrm>
              <a:off x="4281120" y="3414240"/>
              <a:ext cx="1003680" cy="368280"/>
            </a:xfrm>
            <a:prstGeom prst="rect">
              <a:avLst/>
            </a:prstGeom>
            <a:solidFill>
              <a:srgbClr val="2b33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511" name="组合 52"/>
          <p:cNvGrpSpPr/>
          <p:nvPr/>
        </p:nvGrpSpPr>
        <p:grpSpPr>
          <a:xfrm>
            <a:off x="6207120" y="3238560"/>
            <a:ext cx="2384280" cy="720720"/>
            <a:chOff x="6207120" y="3238560"/>
            <a:chExt cx="2384280" cy="720720"/>
          </a:xfrm>
        </p:grpSpPr>
        <p:sp>
          <p:nvSpPr>
            <p:cNvPr id="512" name="矩形 53"/>
            <p:cNvSpPr/>
            <p:nvPr/>
          </p:nvSpPr>
          <p:spPr>
            <a:xfrm>
              <a:off x="6207120" y="3238560"/>
              <a:ext cx="2384280" cy="72072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TextBox 38"/>
            <p:cNvSpPr/>
            <p:nvPr/>
          </p:nvSpPr>
          <p:spPr>
            <a:xfrm>
              <a:off x="6897240" y="3414240"/>
              <a:ext cx="1003680" cy="368280"/>
            </a:xfrm>
            <a:prstGeom prst="rect">
              <a:avLst/>
            </a:prstGeom>
            <a:solidFill>
              <a:srgbClr val="c51c2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514" name="组合 55"/>
          <p:cNvGrpSpPr/>
          <p:nvPr/>
        </p:nvGrpSpPr>
        <p:grpSpPr>
          <a:xfrm>
            <a:off x="8821800" y="3238560"/>
            <a:ext cx="2384280" cy="720720"/>
            <a:chOff x="8821800" y="3238560"/>
            <a:chExt cx="2384280" cy="720720"/>
          </a:xfrm>
        </p:grpSpPr>
        <p:sp>
          <p:nvSpPr>
            <p:cNvPr id="515" name="矩形 56"/>
            <p:cNvSpPr/>
            <p:nvPr/>
          </p:nvSpPr>
          <p:spPr>
            <a:xfrm>
              <a:off x="8821800" y="3238560"/>
              <a:ext cx="2384280" cy="72072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TextBox 39"/>
            <p:cNvSpPr/>
            <p:nvPr/>
          </p:nvSpPr>
          <p:spPr>
            <a:xfrm>
              <a:off x="9511920" y="3414240"/>
              <a:ext cx="1003680" cy="368280"/>
            </a:xfrm>
            <a:prstGeom prst="rect">
              <a:avLst/>
            </a:prstGeom>
            <a:solidFill>
              <a:srgbClr val="2b336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
        <p:nvSpPr>
          <p:cNvPr id="517" name="矩形 29"/>
          <p:cNvSpPr/>
          <p:nvPr/>
        </p:nvSpPr>
        <p:spPr>
          <a:xfrm>
            <a:off x="4119480" y="530712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简单的文字概述简单的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等腰三角形 6"/>
          <p:cNvSpPr/>
          <p:nvPr/>
        </p:nvSpPr>
        <p:spPr>
          <a:xfrm>
            <a:off x="1863720" y="514440"/>
            <a:ext cx="1730520" cy="3394080"/>
          </a:xfrm>
          <a:custGeom>
            <a:avLst/>
            <a:gdLst>
              <a:gd name="textAreaLeft" fmla="*/ 0 w 1730520"/>
              <a:gd name="textAreaRight" fmla="*/ 1730880 w 1730520"/>
              <a:gd name="textAreaTop" fmla="*/ 0 h 3394080"/>
              <a:gd name="textAreaBottom" fmla="*/ 3394440 h 339408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c51c2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等腰三角形 6"/>
          <p:cNvSpPr/>
          <p:nvPr/>
        </p:nvSpPr>
        <p:spPr>
          <a:xfrm>
            <a:off x="5294160" y="1079640"/>
            <a:ext cx="1719360" cy="2828880"/>
          </a:xfrm>
          <a:custGeom>
            <a:avLst/>
            <a:gdLst>
              <a:gd name="textAreaLeft" fmla="*/ 0 w 1719360"/>
              <a:gd name="textAreaRight" fmla="*/ 1719720 w 1719360"/>
              <a:gd name="textAreaTop" fmla="*/ 0 h 2828880"/>
              <a:gd name="textAreaBottom" fmla="*/ 2829240 h 282888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c51c2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等腰三角形 6"/>
          <p:cNvSpPr/>
          <p:nvPr/>
        </p:nvSpPr>
        <p:spPr>
          <a:xfrm>
            <a:off x="3584520" y="1666800"/>
            <a:ext cx="1720800" cy="2241720"/>
          </a:xfrm>
          <a:custGeom>
            <a:avLst/>
            <a:gdLst>
              <a:gd name="textAreaLeft" fmla="*/ 0 w 1720800"/>
              <a:gd name="textAreaRight" fmla="*/ 1721160 w 1720800"/>
              <a:gd name="textAreaTop" fmla="*/ 0 h 2241720"/>
              <a:gd name="textAreaBottom" fmla="*/ 2242080 h 224172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c51c2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等腰三角形 6"/>
          <p:cNvSpPr/>
          <p:nvPr/>
        </p:nvSpPr>
        <p:spPr>
          <a:xfrm>
            <a:off x="7020000" y="1353960"/>
            <a:ext cx="1709640" cy="2554560"/>
          </a:xfrm>
          <a:custGeom>
            <a:avLst/>
            <a:gdLst>
              <a:gd name="textAreaLeft" fmla="*/ 0 w 1709640"/>
              <a:gd name="textAreaRight" fmla="*/ 1710000 w 1709640"/>
              <a:gd name="textAreaTop" fmla="*/ 0 h 2554560"/>
              <a:gd name="textAreaBottom" fmla="*/ 2554920 h 255456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c51c2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等腰三角形 6"/>
          <p:cNvSpPr/>
          <p:nvPr/>
        </p:nvSpPr>
        <p:spPr>
          <a:xfrm>
            <a:off x="8729640" y="514440"/>
            <a:ext cx="1704960" cy="3394080"/>
          </a:xfrm>
          <a:custGeom>
            <a:avLst/>
            <a:gdLst>
              <a:gd name="textAreaLeft" fmla="*/ 0 w 1704960"/>
              <a:gd name="textAreaRight" fmla="*/ 1705320 w 1704960"/>
              <a:gd name="textAreaTop" fmla="*/ 0 h 3394080"/>
              <a:gd name="textAreaBottom" fmla="*/ 3394440 h 339408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c51c2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文本框 20"/>
          <p:cNvSpPr/>
          <p:nvPr/>
        </p:nvSpPr>
        <p:spPr>
          <a:xfrm>
            <a:off x="4070520" y="3332160"/>
            <a:ext cx="10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6%</a:t>
            </a:r>
            <a:endParaRPr b="0" lang="en-US" sz="2400" spc="-1" strike="noStrike">
              <a:solidFill>
                <a:srgbClr val="000000"/>
              </a:solidFill>
              <a:latin typeface="Arial"/>
            </a:endParaRPr>
          </a:p>
        </p:txBody>
      </p:sp>
      <p:sp>
        <p:nvSpPr>
          <p:cNvPr id="526" name="文本框 22"/>
          <p:cNvSpPr/>
          <p:nvPr/>
        </p:nvSpPr>
        <p:spPr>
          <a:xfrm>
            <a:off x="7510320" y="3332160"/>
            <a:ext cx="10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1%</a:t>
            </a:r>
            <a:endParaRPr b="0" lang="en-US" sz="2400" spc="-1" strike="noStrike">
              <a:solidFill>
                <a:srgbClr val="000000"/>
              </a:solidFill>
              <a:latin typeface="Arial"/>
            </a:endParaRPr>
          </a:p>
        </p:txBody>
      </p:sp>
      <p:sp>
        <p:nvSpPr>
          <p:cNvPr id="527" name="文本框 24"/>
          <p:cNvSpPr/>
          <p:nvPr/>
        </p:nvSpPr>
        <p:spPr>
          <a:xfrm>
            <a:off x="5770440" y="330660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3%</a:t>
            </a:r>
            <a:endParaRPr b="0" lang="en-US" sz="2400" spc="-1" strike="noStrike">
              <a:solidFill>
                <a:srgbClr val="000000"/>
              </a:solidFill>
              <a:latin typeface="Arial"/>
            </a:endParaRPr>
          </a:p>
        </p:txBody>
      </p:sp>
      <p:sp>
        <p:nvSpPr>
          <p:cNvPr id="528" name="文本框 26"/>
          <p:cNvSpPr/>
          <p:nvPr/>
        </p:nvSpPr>
        <p:spPr>
          <a:xfrm>
            <a:off x="9205920" y="330660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51%</a:t>
            </a:r>
            <a:endParaRPr b="0" lang="en-US" sz="2400" spc="-1" strike="noStrike">
              <a:solidFill>
                <a:srgbClr val="000000"/>
              </a:solidFill>
              <a:latin typeface="Arial"/>
            </a:endParaRPr>
          </a:p>
        </p:txBody>
      </p:sp>
      <p:sp>
        <p:nvSpPr>
          <p:cNvPr id="529" name="文本框 27"/>
          <p:cNvSpPr/>
          <p:nvPr/>
        </p:nvSpPr>
        <p:spPr>
          <a:xfrm>
            <a:off x="2363760" y="333216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2%</a:t>
            </a:r>
            <a:endParaRPr b="0" lang="en-US" sz="2400" spc="-1" strike="noStrike">
              <a:solidFill>
                <a:srgbClr val="000000"/>
              </a:solidFill>
              <a:latin typeface="Arial"/>
            </a:endParaRPr>
          </a:p>
        </p:txBody>
      </p:sp>
      <p:sp>
        <p:nvSpPr>
          <p:cNvPr id="530" name="文本框 28"/>
          <p:cNvSpPr/>
          <p:nvPr/>
        </p:nvSpPr>
        <p:spPr>
          <a:xfrm>
            <a:off x="2133720" y="3954600"/>
            <a:ext cx="1149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p:txBody>
      </p:sp>
      <p:sp>
        <p:nvSpPr>
          <p:cNvPr id="531" name="文本框 29"/>
          <p:cNvSpPr/>
          <p:nvPr/>
        </p:nvSpPr>
        <p:spPr>
          <a:xfrm>
            <a:off x="385920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p:txBody>
      </p:sp>
      <p:sp>
        <p:nvSpPr>
          <p:cNvPr id="532" name="文本框 30"/>
          <p:cNvSpPr/>
          <p:nvPr/>
        </p:nvSpPr>
        <p:spPr>
          <a:xfrm>
            <a:off x="562752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p:txBody>
      </p:sp>
      <p:sp>
        <p:nvSpPr>
          <p:cNvPr id="533" name="文本框 31"/>
          <p:cNvSpPr/>
          <p:nvPr/>
        </p:nvSpPr>
        <p:spPr>
          <a:xfrm>
            <a:off x="735156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p:txBody>
      </p:sp>
      <p:sp>
        <p:nvSpPr>
          <p:cNvPr id="534" name="文本框 32"/>
          <p:cNvSpPr/>
          <p:nvPr/>
        </p:nvSpPr>
        <p:spPr>
          <a:xfrm>
            <a:off x="9077400" y="3938760"/>
            <a:ext cx="1149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51c29"/>
                </a:solidFill>
                <a:latin typeface="微软雅黑"/>
                <a:ea typeface="微软雅黑"/>
              </a:rPr>
              <a:t>添加标题</a:t>
            </a:r>
            <a:endParaRPr b="0" lang="en-US" sz="1600" spc="-1" strike="noStrike">
              <a:solidFill>
                <a:srgbClr val="000000"/>
              </a:solidFill>
              <a:latin typeface="Arial"/>
            </a:endParaRPr>
          </a:p>
        </p:txBody>
      </p:sp>
      <p:sp>
        <p:nvSpPr>
          <p:cNvPr id="535"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536" name="矩形 23"/>
          <p:cNvSpPr/>
          <p:nvPr/>
        </p:nvSpPr>
        <p:spPr>
          <a:xfrm>
            <a:off x="4704120" y="45496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3360"/>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任意多边形 27"/>
          <p:cNvSpPr/>
          <p:nvPr/>
        </p:nvSpPr>
        <p:spPr>
          <a:xfrm>
            <a:off x="422280" y="4451400"/>
            <a:ext cx="11342520" cy="1517760"/>
          </a:xfrm>
          <a:custGeom>
            <a:avLst/>
            <a:gdLst>
              <a:gd name="textAreaLeft" fmla="*/ 0 w 11342520"/>
              <a:gd name="textAreaRight" fmla="*/ 11342880 w 113425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a5a5a5">
              <a:alpha val="20000"/>
            </a:srgbClr>
          </a:solidFill>
          <a:ln w="0">
            <a:noFill/>
          </a:ln>
        </p:spPr>
        <p:style>
          <a:lnRef idx="0"/>
          <a:fillRef idx="0"/>
          <a:effectRef idx="0"/>
          <a:fontRef idx="minor"/>
        </p:style>
        <p:txBody>
          <a:bodyPr lIns="369720" rIns="8310240" tIns="369720" bIns="369720" anchor="ctr">
            <a:noAutofit/>
          </a:bodyPr>
          <a:p>
            <a:endParaRPr b="0" lang="en-US" sz="2400" spc="-1" strike="noStrike">
              <a:solidFill>
                <a:srgbClr val="000000"/>
              </a:solidFill>
              <a:latin typeface="Arial"/>
            </a:endParaRPr>
          </a:p>
        </p:txBody>
      </p:sp>
      <p:sp>
        <p:nvSpPr>
          <p:cNvPr id="540" name="任意多边形 31"/>
          <p:cNvSpPr/>
          <p:nvPr/>
        </p:nvSpPr>
        <p:spPr>
          <a:xfrm>
            <a:off x="422280" y="2679840"/>
            <a:ext cx="11342520" cy="1517400"/>
          </a:xfrm>
          <a:custGeom>
            <a:avLst/>
            <a:gdLst>
              <a:gd name="textAreaLeft" fmla="*/ 0 w 11342520"/>
              <a:gd name="textAreaRight" fmla="*/ 11342880 w 113425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a5a5a5">
              <a:alpha val="20000"/>
            </a:srgbClr>
          </a:solidFill>
          <a:ln w="0">
            <a:noFill/>
          </a:ln>
        </p:spPr>
        <p:style>
          <a:lnRef idx="0"/>
          <a:fillRef idx="0"/>
          <a:effectRef idx="0"/>
          <a:fontRef idx="minor"/>
        </p:style>
        <p:txBody>
          <a:bodyPr lIns="369720" rIns="8310240" tIns="369720" bIns="369720" anchor="ctr">
            <a:noAutofit/>
          </a:bodyPr>
          <a:p>
            <a:endParaRPr b="0" lang="en-US" sz="2400" spc="-1" strike="noStrike">
              <a:solidFill>
                <a:srgbClr val="000000"/>
              </a:solidFill>
              <a:latin typeface="Arial"/>
            </a:endParaRPr>
          </a:p>
        </p:txBody>
      </p:sp>
      <p:sp>
        <p:nvSpPr>
          <p:cNvPr id="541" name="任意多边形 34"/>
          <p:cNvSpPr/>
          <p:nvPr/>
        </p:nvSpPr>
        <p:spPr>
          <a:xfrm>
            <a:off x="422280" y="907920"/>
            <a:ext cx="11342520" cy="1517760"/>
          </a:xfrm>
          <a:custGeom>
            <a:avLst/>
            <a:gdLst>
              <a:gd name="textAreaLeft" fmla="*/ 0 w 11342520"/>
              <a:gd name="textAreaRight" fmla="*/ 11342880 w 113425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a5a5a5">
              <a:alpha val="20000"/>
            </a:srgbClr>
          </a:solidFill>
          <a:ln w="0">
            <a:noFill/>
          </a:ln>
        </p:spPr>
        <p:style>
          <a:lnRef idx="0"/>
          <a:fillRef idx="0"/>
          <a:effectRef idx="0"/>
          <a:fontRef idx="minor"/>
        </p:style>
        <p:txBody>
          <a:bodyPr lIns="369720" rIns="8310240" tIns="369720" bIns="369720" anchor="ctr">
            <a:noAutofit/>
          </a:bodyPr>
          <a:p>
            <a:endParaRPr b="0" lang="en-US" sz="2400" spc="-1" strike="noStrike">
              <a:solidFill>
                <a:srgbClr val="000000"/>
              </a:solidFill>
              <a:latin typeface="Arial"/>
            </a:endParaRPr>
          </a:p>
        </p:txBody>
      </p:sp>
      <p:sp>
        <p:nvSpPr>
          <p:cNvPr id="542" name="任意多边形 35"/>
          <p:cNvSpPr/>
          <p:nvPr/>
        </p:nvSpPr>
        <p:spPr>
          <a:xfrm>
            <a:off x="7508880" y="1035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c51c29"/>
          </a:solidFill>
          <a:ln w="0">
            <a:noFill/>
          </a:ln>
        </p:spPr>
        <p:style>
          <a:lnRef idx="0"/>
          <a:fillRef idx="0"/>
          <a:effectRef idx="0"/>
          <a:fontRef idx="minor"/>
        </p:style>
        <p:txBody>
          <a:bodyPr lIns="223920" rIns="223920" tIns="223920" bIns="223920" anchor="ctr">
            <a:noAutofit/>
          </a:bodyPr>
          <a:p>
            <a:endParaRPr b="0" lang="en-US" sz="2400" spc="-1" strike="noStrike">
              <a:solidFill>
                <a:srgbClr val="000000"/>
              </a:solidFill>
              <a:latin typeface="Arial"/>
            </a:endParaRPr>
          </a:p>
        </p:txBody>
      </p:sp>
      <p:sp>
        <p:nvSpPr>
          <p:cNvPr id="543" name="任意多边形 36"/>
          <p:cNvSpPr/>
          <p:nvPr/>
        </p:nvSpPr>
        <p:spPr>
          <a:xfrm>
            <a:off x="6602400" y="2306520"/>
            <a:ext cx="1860480" cy="509760"/>
          </a:xfrm>
          <a:custGeom>
            <a:avLst/>
            <a:gdLst>
              <a:gd name="textAreaLeft" fmla="*/ 0 w 1860480"/>
              <a:gd name="textAreaRight" fmla="*/ 1860840 w 1860480"/>
              <a:gd name="textAreaTop" fmla="*/ 0 h 509760"/>
              <a:gd name="textAreaBottom" fmla="*/ 510120 h 5097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a5a5a5"/>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任意多边形 37"/>
          <p:cNvSpPr/>
          <p:nvPr/>
        </p:nvSpPr>
        <p:spPr>
          <a:xfrm>
            <a:off x="5648400" y="2816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c51c29"/>
          </a:solidFill>
          <a:ln w="0">
            <a:noFill/>
          </a:ln>
        </p:spPr>
        <p:style>
          <a:lnRef idx="0"/>
          <a:fillRef idx="0"/>
          <a:effectRef idx="0"/>
          <a:fontRef idx="minor"/>
        </p:style>
        <p:txBody>
          <a:bodyPr lIns="223920" rIns="223920" tIns="223920" bIns="223920" anchor="ctr">
            <a:noAutofit/>
          </a:bodyPr>
          <a:p>
            <a:endParaRPr b="0" lang="en-US" sz="2400" spc="-1" strike="noStrike">
              <a:solidFill>
                <a:srgbClr val="000000"/>
              </a:solidFill>
              <a:latin typeface="Arial"/>
            </a:endParaRPr>
          </a:p>
        </p:txBody>
      </p:sp>
      <p:sp>
        <p:nvSpPr>
          <p:cNvPr id="545" name="任意多边形 38"/>
          <p:cNvSpPr/>
          <p:nvPr/>
        </p:nvSpPr>
        <p:spPr>
          <a:xfrm>
            <a:off x="5362560" y="4087800"/>
            <a:ext cx="1239840" cy="509760"/>
          </a:xfrm>
          <a:custGeom>
            <a:avLst/>
            <a:gdLst>
              <a:gd name="textAreaLeft" fmla="*/ 0 w 1239840"/>
              <a:gd name="textAreaRight" fmla="*/ 1240200 w 1239840"/>
              <a:gd name="textAreaTop" fmla="*/ 0 h 509760"/>
              <a:gd name="textAreaBottom" fmla="*/ 510120 h 5097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a5a5a5"/>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任意多边形 39"/>
          <p:cNvSpPr/>
          <p:nvPr/>
        </p:nvSpPr>
        <p:spPr>
          <a:xfrm>
            <a:off x="4406760" y="4597560"/>
            <a:ext cx="1908360" cy="1271520"/>
          </a:xfrm>
          <a:prstGeom prst="pie">
            <a:avLst/>
          </a:prstGeom>
          <a:solidFill>
            <a:srgbClr val="2b3360"/>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eyword</a:t>
            </a:r>
            <a:endParaRPr b="0" lang="en-US" sz="2400" spc="-1" strike="noStrike">
              <a:solidFill>
                <a:srgbClr val="000000"/>
              </a:solidFill>
              <a:latin typeface="Arial"/>
            </a:endParaRPr>
          </a:p>
        </p:txBody>
      </p:sp>
      <p:sp>
        <p:nvSpPr>
          <p:cNvPr id="547" name="任意多边形 40"/>
          <p:cNvSpPr/>
          <p:nvPr/>
        </p:nvSpPr>
        <p:spPr>
          <a:xfrm>
            <a:off x="6602400" y="4087800"/>
            <a:ext cx="1239840" cy="509760"/>
          </a:xfrm>
          <a:custGeom>
            <a:avLst/>
            <a:gdLst>
              <a:gd name="textAreaLeft" fmla="*/ 0 w 1239840"/>
              <a:gd name="textAreaRight" fmla="*/ 1240200 w 1239840"/>
              <a:gd name="textAreaTop" fmla="*/ 0 h 509760"/>
              <a:gd name="textAreaBottom" fmla="*/ 510120 h 5097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a5a5a5"/>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任意多边形 41"/>
          <p:cNvSpPr/>
          <p:nvPr/>
        </p:nvSpPr>
        <p:spPr>
          <a:xfrm>
            <a:off x="6888240" y="4597560"/>
            <a:ext cx="1908000" cy="1271520"/>
          </a:xfrm>
          <a:prstGeom prst="pie">
            <a:avLst/>
          </a:prstGeom>
          <a:solidFill>
            <a:srgbClr val="2b3360"/>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eyword</a:t>
            </a:r>
            <a:endParaRPr b="0" lang="en-US" sz="2400" spc="-1" strike="noStrike">
              <a:solidFill>
                <a:srgbClr val="000000"/>
              </a:solidFill>
              <a:latin typeface="Arial"/>
            </a:endParaRPr>
          </a:p>
        </p:txBody>
      </p:sp>
      <p:sp>
        <p:nvSpPr>
          <p:cNvPr id="549" name="任意多边形 42"/>
          <p:cNvSpPr/>
          <p:nvPr/>
        </p:nvSpPr>
        <p:spPr>
          <a:xfrm>
            <a:off x="8462880" y="2306520"/>
            <a:ext cx="1860480" cy="509760"/>
          </a:xfrm>
          <a:custGeom>
            <a:avLst/>
            <a:gdLst>
              <a:gd name="textAreaLeft" fmla="*/ 0 w 1860480"/>
              <a:gd name="textAreaRight" fmla="*/ 1860840 w 1860480"/>
              <a:gd name="textAreaTop" fmla="*/ 0 h 509760"/>
              <a:gd name="textAreaBottom" fmla="*/ 510120 h 5097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a5a5a5"/>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任意多边形 43"/>
          <p:cNvSpPr/>
          <p:nvPr/>
        </p:nvSpPr>
        <p:spPr>
          <a:xfrm>
            <a:off x="9369360" y="2816280"/>
            <a:ext cx="1908360" cy="1271520"/>
          </a:xfrm>
          <a:custGeom>
            <a:avLst/>
            <a:gdLst>
              <a:gd name="textAreaLeft" fmla="*/ 0 w 1908360"/>
              <a:gd name="textAreaRight" fmla="*/ 1908720 w 190836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c51c29"/>
          </a:solidFill>
          <a:ln w="0">
            <a:noFill/>
          </a:ln>
        </p:spPr>
        <p:style>
          <a:lnRef idx="0"/>
          <a:fillRef idx="0"/>
          <a:effectRef idx="0"/>
          <a:fontRef idx="minor"/>
        </p:style>
        <p:txBody>
          <a:bodyPr lIns="223920" rIns="223920" tIns="223920" bIns="223920" anchor="ctr">
            <a:noAutofit/>
          </a:bodyPr>
          <a:p>
            <a:endParaRPr b="0" lang="en-US" sz="2400" spc="-1" strike="noStrike">
              <a:solidFill>
                <a:srgbClr val="000000"/>
              </a:solidFill>
              <a:latin typeface="Arial"/>
            </a:endParaRPr>
          </a:p>
        </p:txBody>
      </p:sp>
      <p:sp>
        <p:nvSpPr>
          <p:cNvPr id="551" name="任意多边形 44"/>
          <p:cNvSpPr/>
          <p:nvPr/>
        </p:nvSpPr>
        <p:spPr>
          <a:xfrm>
            <a:off x="10277640" y="4087800"/>
            <a:ext cx="90360" cy="509760"/>
          </a:xfrm>
          <a:custGeom>
            <a:avLst/>
            <a:gdLst>
              <a:gd name="textAreaLeft" fmla="*/ 0 w 90360"/>
              <a:gd name="textAreaRight" fmla="*/ 90720 w 90360"/>
              <a:gd name="textAreaTop" fmla="*/ 0 h 509760"/>
              <a:gd name="textAreaBottom" fmla="*/ 510120 h 509760"/>
            </a:gdLst>
            <a:ahLst/>
            <a:rect l="textAreaLeft" t="textAreaTop" r="textAreaRight" b="textAreaBottom"/>
            <a:pathLst>
              <a:path w="91440" h="508635">
                <a:moveTo>
                  <a:pt x="45720" y="0"/>
                </a:moveTo>
                <a:lnTo>
                  <a:pt x="45720" y="508831"/>
                </a:lnTo>
              </a:path>
            </a:pathLst>
          </a:custGeom>
          <a:noFill/>
          <a:ln w="28440">
            <a:solidFill>
              <a:srgbClr val="a5a5a5"/>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任意多边形 45"/>
          <p:cNvSpPr/>
          <p:nvPr/>
        </p:nvSpPr>
        <p:spPr>
          <a:xfrm>
            <a:off x="9369360" y="4597560"/>
            <a:ext cx="1908360" cy="1271520"/>
          </a:xfrm>
          <a:prstGeom prst="pie">
            <a:avLst/>
          </a:prstGeom>
          <a:solidFill>
            <a:srgbClr val="2b3360"/>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eyword</a:t>
            </a:r>
            <a:endParaRPr b="0" lang="en-US" sz="2400" spc="-1" strike="noStrike">
              <a:solidFill>
                <a:srgbClr val="000000"/>
              </a:solidFill>
              <a:latin typeface="Arial"/>
            </a:endParaRPr>
          </a:p>
        </p:txBody>
      </p:sp>
      <p:sp>
        <p:nvSpPr>
          <p:cNvPr id="553" name="KSO_Shape"/>
          <p:cNvSpPr/>
          <p:nvPr/>
        </p:nvSpPr>
        <p:spPr>
          <a:xfrm>
            <a:off x="720720" y="1338120"/>
            <a:ext cx="552600" cy="551160"/>
          </a:xfrm>
          <a:custGeom>
            <a:avLst/>
            <a:gdLst>
              <a:gd name="textAreaLeft" fmla="*/ 0 w 552600"/>
              <a:gd name="textAreaRight" fmla="*/ 552960 w 5526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c51c2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KSO_Shape"/>
          <p:cNvSpPr/>
          <p:nvPr/>
        </p:nvSpPr>
        <p:spPr>
          <a:xfrm>
            <a:off x="720720" y="3147840"/>
            <a:ext cx="552600" cy="551160"/>
          </a:xfrm>
          <a:custGeom>
            <a:avLst/>
            <a:gdLst>
              <a:gd name="textAreaLeft" fmla="*/ 0 w 552600"/>
              <a:gd name="textAreaRight" fmla="*/ 552960 w 5526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c51c2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KSO_Shape"/>
          <p:cNvSpPr/>
          <p:nvPr/>
        </p:nvSpPr>
        <p:spPr>
          <a:xfrm>
            <a:off x="720720" y="4956120"/>
            <a:ext cx="552600" cy="552600"/>
          </a:xfrm>
          <a:custGeom>
            <a:avLst/>
            <a:gdLst>
              <a:gd name="textAreaLeft" fmla="*/ 0 w 552600"/>
              <a:gd name="textAreaRight" fmla="*/ 552960 w 5526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2b336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KSO_Shape"/>
          <p:cNvSpPr/>
          <p:nvPr/>
        </p:nvSpPr>
        <p:spPr>
          <a:xfrm>
            <a:off x="7999560" y="1231920"/>
            <a:ext cx="796680" cy="851040"/>
          </a:xfrm>
          <a:custGeom>
            <a:avLst/>
            <a:gdLst>
              <a:gd name="textAreaLeft" fmla="*/ 0 w 796680"/>
              <a:gd name="textAreaRight" fmla="*/ 797040 w 796680"/>
              <a:gd name="textAreaTop" fmla="*/ 0 h 851040"/>
              <a:gd name="textAreaBottom" fmla="*/ 851400 h 85104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KSO_Shape"/>
          <p:cNvSpPr/>
          <p:nvPr/>
        </p:nvSpPr>
        <p:spPr>
          <a:xfrm>
            <a:off x="6191280" y="3102120"/>
            <a:ext cx="820800" cy="699840"/>
          </a:xfrm>
          <a:custGeom>
            <a:avLst/>
            <a:gdLst>
              <a:gd name="textAreaLeft" fmla="*/ 0 w 820800"/>
              <a:gd name="textAreaRight" fmla="*/ 821160 w 820800"/>
              <a:gd name="textAreaTop" fmla="*/ 0 h 699840"/>
              <a:gd name="textAreaBottom" fmla="*/ 700200 h 69984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KSO_Shape"/>
          <p:cNvSpPr/>
          <p:nvPr/>
        </p:nvSpPr>
        <p:spPr>
          <a:xfrm>
            <a:off x="9896400" y="3057480"/>
            <a:ext cx="852480" cy="787320"/>
          </a:xfrm>
          <a:custGeom>
            <a:avLst/>
            <a:gdLst>
              <a:gd name="textAreaLeft" fmla="*/ 0 w 852480"/>
              <a:gd name="textAreaRight" fmla="*/ 852840 w 852480"/>
              <a:gd name="textAreaTop" fmla="*/ 0 h 787320"/>
              <a:gd name="textAreaBottom" fmla="*/ 787680 h 78732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TextBox 15"/>
          <p:cNvSpPr/>
          <p:nvPr/>
        </p:nvSpPr>
        <p:spPr>
          <a:xfrm>
            <a:off x="1330200" y="1173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560" name="TextBox 15"/>
          <p:cNvSpPr/>
          <p:nvPr/>
        </p:nvSpPr>
        <p:spPr>
          <a:xfrm>
            <a:off x="1330200" y="2982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561" name="TextBox 15"/>
          <p:cNvSpPr/>
          <p:nvPr/>
        </p:nvSpPr>
        <p:spPr>
          <a:xfrm>
            <a:off x="1330200" y="4792680"/>
            <a:ext cx="2916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KSO_Shape"/>
          <p:cNvSpPr/>
          <p:nvPr/>
        </p:nvSpPr>
        <p:spPr>
          <a:xfrm>
            <a:off x="380880" y="1600200"/>
            <a:ext cx="4532400" cy="3392640"/>
          </a:xfrm>
          <a:custGeom>
            <a:avLst/>
            <a:gdLst>
              <a:gd name="textAreaLeft" fmla="*/ 0 w 4532400"/>
              <a:gd name="textAreaRight" fmla="*/ 4532760 w 4532400"/>
              <a:gd name="textAreaTop" fmla="*/ 0 h 3392640"/>
              <a:gd name="textAreaBottom" fmla="*/ 3393000 h 3392640"/>
            </a:gdLst>
            <a:ahLst/>
            <a:rect l="textAreaLeft" t="textAreaTop" r="textAreaRight" b="textAreaBottom"/>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a5a5a5"/>
          </a:solidFill>
          <a:ln w="0">
            <a:noFill/>
          </a:ln>
        </p:spPr>
        <p:style>
          <a:lnRef idx="0"/>
          <a:fillRef idx="0"/>
          <a:effectRef idx="0"/>
          <a:fontRef idx="minor"/>
        </p:style>
        <p:txBody>
          <a:bodyPr lIns="90000" rIns="90000" tIns="46800" bIns="360000" anchor="ctr">
            <a:noAutofit/>
          </a:bodyPr>
          <a:p>
            <a:endParaRPr b="0" lang="en-US" sz="2400" spc="-1" strike="noStrike">
              <a:solidFill>
                <a:srgbClr val="000000"/>
              </a:solidFill>
              <a:latin typeface="Arial"/>
            </a:endParaRPr>
          </a:p>
        </p:txBody>
      </p:sp>
      <p:sp>
        <p:nvSpPr>
          <p:cNvPr id="565" name="TextBox 15"/>
          <p:cNvSpPr/>
          <p:nvPr/>
        </p:nvSpPr>
        <p:spPr>
          <a:xfrm>
            <a:off x="1560600" y="2548080"/>
            <a:ext cx="22431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a:t>
            </a:r>
            <a:endParaRPr b="0" lang="en-US" sz="1400" spc="-1" strike="noStrike">
              <a:solidFill>
                <a:srgbClr val="000000"/>
              </a:solidFill>
              <a:latin typeface="Arial"/>
            </a:endParaRPr>
          </a:p>
        </p:txBody>
      </p:sp>
      <p:sp>
        <p:nvSpPr>
          <p:cNvPr id="566" name="TextBox 4"/>
          <p:cNvSpPr/>
          <p:nvPr/>
        </p:nvSpPr>
        <p:spPr>
          <a:xfrm>
            <a:off x="1849320" y="203976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51c29"/>
                </a:solidFill>
                <a:latin typeface="Franklin Gothic Book"/>
                <a:ea typeface="微软雅黑"/>
              </a:rPr>
              <a:t>点击添加标题</a:t>
            </a:r>
            <a:endParaRPr b="0" lang="en-US" sz="2000" spc="-1" strike="noStrike">
              <a:solidFill>
                <a:srgbClr val="000000"/>
              </a:solidFill>
              <a:latin typeface="Arial"/>
            </a:endParaRPr>
          </a:p>
        </p:txBody>
      </p:sp>
      <p:sp>
        <p:nvSpPr>
          <p:cNvPr id="567" name="椭圆 2"/>
          <p:cNvSpPr/>
          <p:nvPr/>
        </p:nvSpPr>
        <p:spPr>
          <a:xfrm>
            <a:off x="6135840" y="1538280"/>
            <a:ext cx="738000" cy="73836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椭圆 25"/>
          <p:cNvSpPr/>
          <p:nvPr/>
        </p:nvSpPr>
        <p:spPr>
          <a:xfrm>
            <a:off x="6135840" y="4394160"/>
            <a:ext cx="738000" cy="738360"/>
          </a:xfrm>
          <a:prstGeom prst="ellipse">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椭圆 26"/>
          <p:cNvSpPr/>
          <p:nvPr/>
        </p:nvSpPr>
        <p:spPr>
          <a:xfrm>
            <a:off x="6135840" y="2965320"/>
            <a:ext cx="738000" cy="738360"/>
          </a:xfrm>
          <a:prstGeom prst="ellipse">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矩形 27"/>
          <p:cNvSpPr/>
          <p:nvPr/>
        </p:nvSpPr>
        <p:spPr>
          <a:xfrm>
            <a:off x="7319880" y="1886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571" name="TextBox 4"/>
          <p:cNvSpPr/>
          <p:nvPr/>
        </p:nvSpPr>
        <p:spPr>
          <a:xfrm>
            <a:off x="7256520" y="137628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51c29"/>
                </a:solidFill>
                <a:latin typeface="Franklin Gothic Book"/>
                <a:ea typeface="微软雅黑"/>
              </a:rPr>
              <a:t>点击添加标题</a:t>
            </a:r>
            <a:endParaRPr b="0" lang="en-US" sz="1800" spc="-1" strike="noStrike">
              <a:solidFill>
                <a:srgbClr val="000000"/>
              </a:solidFill>
              <a:latin typeface="Arial"/>
            </a:endParaRPr>
          </a:p>
        </p:txBody>
      </p:sp>
      <p:sp>
        <p:nvSpPr>
          <p:cNvPr id="572" name="矩形 29"/>
          <p:cNvSpPr/>
          <p:nvPr/>
        </p:nvSpPr>
        <p:spPr>
          <a:xfrm>
            <a:off x="7351560" y="330192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573" name="TextBox 4"/>
          <p:cNvSpPr/>
          <p:nvPr/>
        </p:nvSpPr>
        <p:spPr>
          <a:xfrm>
            <a:off x="7288200" y="27925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3360"/>
                </a:solidFill>
                <a:latin typeface="Franklin Gothic Book"/>
                <a:ea typeface="微软雅黑"/>
              </a:rPr>
              <a:t>点击添加标题</a:t>
            </a:r>
            <a:endParaRPr b="0" lang="en-US" sz="1800" spc="-1" strike="noStrike">
              <a:solidFill>
                <a:srgbClr val="000000"/>
              </a:solidFill>
              <a:latin typeface="Arial"/>
            </a:endParaRPr>
          </a:p>
        </p:txBody>
      </p:sp>
      <p:sp>
        <p:nvSpPr>
          <p:cNvPr id="574" name="矩形 31"/>
          <p:cNvSpPr/>
          <p:nvPr/>
        </p:nvSpPr>
        <p:spPr>
          <a:xfrm>
            <a:off x="7288200" y="4716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51c29"/>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575" name="TextBox 4"/>
          <p:cNvSpPr/>
          <p:nvPr/>
        </p:nvSpPr>
        <p:spPr>
          <a:xfrm>
            <a:off x="7226280" y="42069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51c29"/>
                </a:solidFill>
                <a:latin typeface="Franklin Gothic Book"/>
                <a:ea typeface="微软雅黑"/>
              </a:rPr>
              <a:t>点击添加标题</a:t>
            </a:r>
            <a:endParaRPr b="0" lang="en-US" sz="1800" spc="-1" strike="noStrike">
              <a:solidFill>
                <a:srgbClr val="000000"/>
              </a:solidFill>
              <a:latin typeface="Arial"/>
            </a:endParaRPr>
          </a:p>
        </p:txBody>
      </p:sp>
      <p:sp>
        <p:nvSpPr>
          <p:cNvPr id="576" name="KSO_Shape"/>
          <p:cNvSpPr/>
          <p:nvPr/>
        </p:nvSpPr>
        <p:spPr>
          <a:xfrm>
            <a:off x="6294600" y="1644480"/>
            <a:ext cx="420480" cy="481320"/>
          </a:xfrm>
          <a:custGeom>
            <a:avLst/>
            <a:gdLst>
              <a:gd name="textAreaLeft" fmla="*/ 0 w 420480"/>
              <a:gd name="textAreaRight" fmla="*/ 420840 w 420480"/>
              <a:gd name="textAreaTop" fmla="*/ 0 h 481320"/>
              <a:gd name="textAreaBottom" fmla="*/ 481680 h 481320"/>
            </a:gdLst>
            <a:ahLst/>
            <a:rect l="textAreaLeft" t="textAreaTop" r="textAreaRight" b="textAreaBottom"/>
            <a:pathLst>
              <a:path w="4250" h="4850">
                <a:moveTo>
                  <a:pt x="3651" y="3701"/>
                </a:moveTo>
                <a:lnTo>
                  <a:pt x="3651" y="4850"/>
                </a:lnTo>
                <a:lnTo>
                  <a:pt x="3101" y="4850"/>
                </a:lnTo>
                <a:lnTo>
                  <a:pt x="2202" y="3953"/>
                </a:lnTo>
                <a:lnTo>
                  <a:pt x="2047" y="3953"/>
                </a:lnTo>
                <a:lnTo>
                  <a:pt x="1149" y="4850"/>
                </a:lnTo>
                <a:lnTo>
                  <a:pt x="598" y="4850"/>
                </a:lnTo>
                <a:lnTo>
                  <a:pt x="598" y="3701"/>
                </a:lnTo>
                <a:lnTo>
                  <a:pt x="1903" y="2396"/>
                </a:lnTo>
                <a:lnTo>
                  <a:pt x="2346" y="2396"/>
                </a:lnTo>
                <a:lnTo>
                  <a:pt x="3651" y="3701"/>
                </a:lnTo>
                <a:close/>
                <a:moveTo>
                  <a:pt x="2047" y="2755"/>
                </a:moveTo>
                <a:lnTo>
                  <a:pt x="957" y="3845"/>
                </a:lnTo>
                <a:lnTo>
                  <a:pt x="957" y="4491"/>
                </a:lnTo>
                <a:lnTo>
                  <a:pt x="1005" y="4491"/>
                </a:lnTo>
                <a:lnTo>
                  <a:pt x="1903" y="3593"/>
                </a:lnTo>
                <a:lnTo>
                  <a:pt x="2346" y="3593"/>
                </a:lnTo>
                <a:lnTo>
                  <a:pt x="3244" y="4491"/>
                </a:lnTo>
                <a:lnTo>
                  <a:pt x="3292" y="4491"/>
                </a:lnTo>
                <a:lnTo>
                  <a:pt x="3292" y="3845"/>
                </a:lnTo>
                <a:lnTo>
                  <a:pt x="2202" y="2755"/>
                </a:lnTo>
                <a:lnTo>
                  <a:pt x="2047" y="2755"/>
                </a:lnTo>
                <a:close/>
                <a:moveTo>
                  <a:pt x="4250" y="1905"/>
                </a:moveTo>
                <a:lnTo>
                  <a:pt x="4250" y="3055"/>
                </a:lnTo>
                <a:lnTo>
                  <a:pt x="3699" y="3055"/>
                </a:lnTo>
                <a:lnTo>
                  <a:pt x="2202" y="1558"/>
                </a:lnTo>
                <a:lnTo>
                  <a:pt x="2047" y="1558"/>
                </a:lnTo>
                <a:lnTo>
                  <a:pt x="550" y="3055"/>
                </a:lnTo>
                <a:lnTo>
                  <a:pt x="0" y="3055"/>
                </a:lnTo>
                <a:lnTo>
                  <a:pt x="0" y="1905"/>
                </a:lnTo>
                <a:lnTo>
                  <a:pt x="1903" y="0"/>
                </a:lnTo>
                <a:lnTo>
                  <a:pt x="2346" y="0"/>
                </a:lnTo>
                <a:lnTo>
                  <a:pt x="4250" y="1905"/>
                </a:lnTo>
                <a:close/>
                <a:moveTo>
                  <a:pt x="2047" y="360"/>
                </a:moveTo>
                <a:lnTo>
                  <a:pt x="359" y="2048"/>
                </a:lnTo>
                <a:lnTo>
                  <a:pt x="359" y="2696"/>
                </a:lnTo>
                <a:lnTo>
                  <a:pt x="406" y="2696"/>
                </a:lnTo>
                <a:lnTo>
                  <a:pt x="1903" y="1198"/>
                </a:lnTo>
                <a:lnTo>
                  <a:pt x="2346" y="1198"/>
                </a:lnTo>
                <a:lnTo>
                  <a:pt x="3843" y="2696"/>
                </a:lnTo>
                <a:lnTo>
                  <a:pt x="3891" y="2696"/>
                </a:lnTo>
                <a:lnTo>
                  <a:pt x="3891" y="2048"/>
                </a:lnTo>
                <a:lnTo>
                  <a:pt x="2202" y="360"/>
                </a:lnTo>
                <a:lnTo>
                  <a:pt x="2047" y="36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7" name="KSO_Shape"/>
          <p:cNvSpPr/>
          <p:nvPr/>
        </p:nvSpPr>
        <p:spPr>
          <a:xfrm>
            <a:off x="6299280" y="3078000"/>
            <a:ext cx="422280" cy="481320"/>
          </a:xfrm>
          <a:custGeom>
            <a:avLst/>
            <a:gdLst>
              <a:gd name="textAreaLeft" fmla="*/ 0 w 422280"/>
              <a:gd name="textAreaRight" fmla="*/ 422640 w 422280"/>
              <a:gd name="textAreaTop" fmla="*/ 0 h 481320"/>
              <a:gd name="textAreaBottom" fmla="*/ 481680 h 481320"/>
            </a:gdLst>
            <a:ahLst/>
            <a:rect l="textAreaLeft" t="textAreaTop" r="textAreaRight" b="textAreaBottom"/>
            <a:pathLst>
              <a:path w="4250" h="4850">
                <a:moveTo>
                  <a:pt x="3651" y="3701"/>
                </a:moveTo>
                <a:lnTo>
                  <a:pt x="3651" y="4850"/>
                </a:lnTo>
                <a:lnTo>
                  <a:pt x="3101" y="4850"/>
                </a:lnTo>
                <a:lnTo>
                  <a:pt x="2202" y="3953"/>
                </a:lnTo>
                <a:lnTo>
                  <a:pt x="2047" y="3953"/>
                </a:lnTo>
                <a:lnTo>
                  <a:pt x="1149" y="4850"/>
                </a:lnTo>
                <a:lnTo>
                  <a:pt x="598" y="4850"/>
                </a:lnTo>
                <a:lnTo>
                  <a:pt x="598" y="3701"/>
                </a:lnTo>
                <a:lnTo>
                  <a:pt x="1903" y="2396"/>
                </a:lnTo>
                <a:lnTo>
                  <a:pt x="2346" y="2396"/>
                </a:lnTo>
                <a:lnTo>
                  <a:pt x="3651" y="3701"/>
                </a:lnTo>
                <a:close/>
                <a:moveTo>
                  <a:pt x="2047" y="2755"/>
                </a:moveTo>
                <a:lnTo>
                  <a:pt x="957" y="3845"/>
                </a:lnTo>
                <a:lnTo>
                  <a:pt x="957" y="4491"/>
                </a:lnTo>
                <a:lnTo>
                  <a:pt x="1005" y="4491"/>
                </a:lnTo>
                <a:lnTo>
                  <a:pt x="1903" y="3593"/>
                </a:lnTo>
                <a:lnTo>
                  <a:pt x="2346" y="3593"/>
                </a:lnTo>
                <a:lnTo>
                  <a:pt x="3244" y="4491"/>
                </a:lnTo>
                <a:lnTo>
                  <a:pt x="3292" y="4491"/>
                </a:lnTo>
                <a:lnTo>
                  <a:pt x="3292" y="3845"/>
                </a:lnTo>
                <a:lnTo>
                  <a:pt x="2202" y="2755"/>
                </a:lnTo>
                <a:lnTo>
                  <a:pt x="2047" y="2755"/>
                </a:lnTo>
                <a:close/>
                <a:moveTo>
                  <a:pt x="4250" y="1905"/>
                </a:moveTo>
                <a:lnTo>
                  <a:pt x="4250" y="3055"/>
                </a:lnTo>
                <a:lnTo>
                  <a:pt x="3699" y="3055"/>
                </a:lnTo>
                <a:lnTo>
                  <a:pt x="2202" y="1558"/>
                </a:lnTo>
                <a:lnTo>
                  <a:pt x="2047" y="1558"/>
                </a:lnTo>
                <a:lnTo>
                  <a:pt x="550" y="3055"/>
                </a:lnTo>
                <a:lnTo>
                  <a:pt x="0" y="3055"/>
                </a:lnTo>
                <a:lnTo>
                  <a:pt x="0" y="1905"/>
                </a:lnTo>
                <a:lnTo>
                  <a:pt x="1903" y="0"/>
                </a:lnTo>
                <a:lnTo>
                  <a:pt x="2346" y="0"/>
                </a:lnTo>
                <a:lnTo>
                  <a:pt x="4250" y="1905"/>
                </a:lnTo>
                <a:close/>
                <a:moveTo>
                  <a:pt x="2047" y="360"/>
                </a:moveTo>
                <a:lnTo>
                  <a:pt x="359" y="2048"/>
                </a:lnTo>
                <a:lnTo>
                  <a:pt x="359" y="2696"/>
                </a:lnTo>
                <a:lnTo>
                  <a:pt x="406" y="2696"/>
                </a:lnTo>
                <a:lnTo>
                  <a:pt x="1903" y="1198"/>
                </a:lnTo>
                <a:lnTo>
                  <a:pt x="2346" y="1198"/>
                </a:lnTo>
                <a:lnTo>
                  <a:pt x="3843" y="2696"/>
                </a:lnTo>
                <a:lnTo>
                  <a:pt x="3891" y="2696"/>
                </a:lnTo>
                <a:lnTo>
                  <a:pt x="3891" y="2048"/>
                </a:lnTo>
                <a:lnTo>
                  <a:pt x="2202" y="360"/>
                </a:lnTo>
                <a:lnTo>
                  <a:pt x="2047" y="36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8" name="KSO_Shape"/>
          <p:cNvSpPr/>
          <p:nvPr/>
        </p:nvSpPr>
        <p:spPr>
          <a:xfrm>
            <a:off x="6294600" y="4495680"/>
            <a:ext cx="420480" cy="480960"/>
          </a:xfrm>
          <a:custGeom>
            <a:avLst/>
            <a:gdLst>
              <a:gd name="textAreaLeft" fmla="*/ 0 w 420480"/>
              <a:gd name="textAreaRight" fmla="*/ 420840 w 420480"/>
              <a:gd name="textAreaTop" fmla="*/ 0 h 480960"/>
              <a:gd name="textAreaBottom" fmla="*/ 481320 h 480960"/>
            </a:gdLst>
            <a:ahLst/>
            <a:rect l="textAreaLeft" t="textAreaTop" r="textAreaRight" b="textAreaBottom"/>
            <a:pathLst>
              <a:path w="4250" h="4850">
                <a:moveTo>
                  <a:pt x="3651" y="3701"/>
                </a:moveTo>
                <a:lnTo>
                  <a:pt x="3651" y="4850"/>
                </a:lnTo>
                <a:lnTo>
                  <a:pt x="3101" y="4850"/>
                </a:lnTo>
                <a:lnTo>
                  <a:pt x="2202" y="3953"/>
                </a:lnTo>
                <a:lnTo>
                  <a:pt x="2047" y="3953"/>
                </a:lnTo>
                <a:lnTo>
                  <a:pt x="1149" y="4850"/>
                </a:lnTo>
                <a:lnTo>
                  <a:pt x="598" y="4850"/>
                </a:lnTo>
                <a:lnTo>
                  <a:pt x="598" y="3701"/>
                </a:lnTo>
                <a:lnTo>
                  <a:pt x="1903" y="2396"/>
                </a:lnTo>
                <a:lnTo>
                  <a:pt x="2346" y="2396"/>
                </a:lnTo>
                <a:lnTo>
                  <a:pt x="3651" y="3701"/>
                </a:lnTo>
                <a:close/>
                <a:moveTo>
                  <a:pt x="2047" y="2755"/>
                </a:moveTo>
                <a:lnTo>
                  <a:pt x="957" y="3845"/>
                </a:lnTo>
                <a:lnTo>
                  <a:pt x="957" y="4491"/>
                </a:lnTo>
                <a:lnTo>
                  <a:pt x="1005" y="4491"/>
                </a:lnTo>
                <a:lnTo>
                  <a:pt x="1903" y="3593"/>
                </a:lnTo>
                <a:lnTo>
                  <a:pt x="2346" y="3593"/>
                </a:lnTo>
                <a:lnTo>
                  <a:pt x="3244" y="4491"/>
                </a:lnTo>
                <a:lnTo>
                  <a:pt x="3292" y="4491"/>
                </a:lnTo>
                <a:lnTo>
                  <a:pt x="3292" y="3845"/>
                </a:lnTo>
                <a:lnTo>
                  <a:pt x="2202" y="2755"/>
                </a:lnTo>
                <a:lnTo>
                  <a:pt x="2047" y="2755"/>
                </a:lnTo>
                <a:close/>
                <a:moveTo>
                  <a:pt x="4250" y="1905"/>
                </a:moveTo>
                <a:lnTo>
                  <a:pt x="4250" y="3055"/>
                </a:lnTo>
                <a:lnTo>
                  <a:pt x="3699" y="3055"/>
                </a:lnTo>
                <a:lnTo>
                  <a:pt x="2202" y="1558"/>
                </a:lnTo>
                <a:lnTo>
                  <a:pt x="2047" y="1558"/>
                </a:lnTo>
                <a:lnTo>
                  <a:pt x="550" y="3055"/>
                </a:lnTo>
                <a:lnTo>
                  <a:pt x="0" y="3055"/>
                </a:lnTo>
                <a:lnTo>
                  <a:pt x="0" y="1905"/>
                </a:lnTo>
                <a:lnTo>
                  <a:pt x="1903" y="0"/>
                </a:lnTo>
                <a:lnTo>
                  <a:pt x="2346" y="0"/>
                </a:lnTo>
                <a:lnTo>
                  <a:pt x="4250" y="1905"/>
                </a:lnTo>
                <a:close/>
                <a:moveTo>
                  <a:pt x="2047" y="360"/>
                </a:moveTo>
                <a:lnTo>
                  <a:pt x="359" y="2048"/>
                </a:lnTo>
                <a:lnTo>
                  <a:pt x="359" y="2696"/>
                </a:lnTo>
                <a:lnTo>
                  <a:pt x="406" y="2696"/>
                </a:lnTo>
                <a:lnTo>
                  <a:pt x="1903" y="1198"/>
                </a:lnTo>
                <a:lnTo>
                  <a:pt x="2346" y="1198"/>
                </a:lnTo>
                <a:lnTo>
                  <a:pt x="3843" y="2696"/>
                </a:lnTo>
                <a:lnTo>
                  <a:pt x="3891" y="2696"/>
                </a:lnTo>
                <a:lnTo>
                  <a:pt x="3891" y="2048"/>
                </a:lnTo>
                <a:lnTo>
                  <a:pt x="2202" y="360"/>
                </a:lnTo>
                <a:lnTo>
                  <a:pt x="2047" y="36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2"/>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6" name="组合 53"/>
          <p:cNvGrpSpPr/>
          <p:nvPr/>
        </p:nvGrpSpPr>
        <p:grpSpPr>
          <a:xfrm>
            <a:off x="6205680" y="2332080"/>
            <a:ext cx="777600" cy="776160"/>
            <a:chOff x="6205680" y="2332080"/>
            <a:chExt cx="777600" cy="776160"/>
          </a:xfrm>
        </p:grpSpPr>
        <p:sp>
          <p:nvSpPr>
            <p:cNvPr id="67" name="矩形 54"/>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直接连接符 55"/>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直接连接符 56"/>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0" name="组合 57"/>
          <p:cNvGrpSpPr/>
          <p:nvPr/>
        </p:nvGrpSpPr>
        <p:grpSpPr>
          <a:xfrm>
            <a:off x="7129440" y="2332080"/>
            <a:ext cx="776160" cy="776160"/>
            <a:chOff x="7129440" y="2332080"/>
            <a:chExt cx="776160" cy="776160"/>
          </a:xfrm>
        </p:grpSpPr>
        <p:sp>
          <p:nvSpPr>
            <p:cNvPr id="71" name="矩形 58"/>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直接连接符 59"/>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直接连接符 60"/>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4" name="组合 61"/>
          <p:cNvGrpSpPr/>
          <p:nvPr/>
        </p:nvGrpSpPr>
        <p:grpSpPr>
          <a:xfrm>
            <a:off x="8053560" y="2332080"/>
            <a:ext cx="776160" cy="776160"/>
            <a:chOff x="8053560" y="2332080"/>
            <a:chExt cx="776160" cy="776160"/>
          </a:xfrm>
        </p:grpSpPr>
        <p:sp>
          <p:nvSpPr>
            <p:cNvPr id="75" name="矩形 62"/>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直接连接符 63"/>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直接连接符 64"/>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8" name="组合 65"/>
          <p:cNvGrpSpPr/>
          <p:nvPr/>
        </p:nvGrpSpPr>
        <p:grpSpPr>
          <a:xfrm>
            <a:off x="8975880" y="2332080"/>
            <a:ext cx="777600" cy="776160"/>
            <a:chOff x="8975880" y="2332080"/>
            <a:chExt cx="777600" cy="776160"/>
          </a:xfrm>
        </p:grpSpPr>
        <p:sp>
          <p:nvSpPr>
            <p:cNvPr id="79" name="矩形 66"/>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直接连接符 67"/>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直接连接符 68"/>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2" name="文本框 69"/>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83" name="文本框 70"/>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一</a:t>
            </a:r>
            <a:endParaRPr b="0" lang="en-US" sz="4800" spc="-1" strike="noStrike">
              <a:solidFill>
                <a:srgbClr val="000000"/>
              </a:solidFill>
              <a:latin typeface="Arial"/>
            </a:endParaRPr>
          </a:p>
        </p:txBody>
      </p:sp>
      <p:sp>
        <p:nvSpPr>
          <p:cNvPr id="84" name="文本框 71"/>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85" name="文本框 72"/>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86" name="文本框 73"/>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87" name="文本框 74"/>
          <p:cNvSpPr/>
          <p:nvPr/>
        </p:nvSpPr>
        <p:spPr>
          <a:xfrm>
            <a:off x="7267680" y="1941480"/>
            <a:ext cx="5000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yi</a:t>
            </a:r>
            <a:endParaRPr b="0" lang="en-US" sz="2000" spc="-1" strike="noStrike">
              <a:solidFill>
                <a:srgbClr val="000000"/>
              </a:solidFill>
              <a:latin typeface="Arial"/>
            </a:endParaRPr>
          </a:p>
        </p:txBody>
      </p:sp>
      <p:sp>
        <p:nvSpPr>
          <p:cNvPr id="88" name="文本框 75"/>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89" name="文本框 76"/>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90" name="文本框 77"/>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图片 2" descr=""/>
          <p:cNvPicPr/>
          <p:nvPr/>
        </p:nvPicPr>
        <p:blipFill>
          <a:blip r:embed="rId1"/>
          <a:stretch/>
        </p:blipFill>
        <p:spPr>
          <a:xfrm>
            <a:off x="0" y="0"/>
            <a:ext cx="12192120" cy="6858000"/>
          </a:xfrm>
          <a:prstGeom prst="rect">
            <a:avLst/>
          </a:prstGeom>
          <a:ln w="0">
            <a:noFill/>
          </a:ln>
        </p:spPr>
      </p:pic>
      <p:sp>
        <p:nvSpPr>
          <p:cNvPr id="580" name="矩形 12"/>
          <p:cNvSpPr/>
          <p:nvPr/>
        </p:nvSpPr>
        <p:spPr>
          <a:xfrm>
            <a:off x="1530360" y="1690560"/>
            <a:ext cx="9131400" cy="3476880"/>
          </a:xfrm>
          <a:prstGeom prst="rect">
            <a:avLst/>
          </a:prstGeom>
          <a:solidFill>
            <a:srgbClr val="fffff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文本框 13"/>
          <p:cNvSpPr/>
          <p:nvPr/>
        </p:nvSpPr>
        <p:spPr>
          <a:xfrm>
            <a:off x="3409920" y="1584360"/>
            <a:ext cx="540216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2b3360"/>
                </a:solidFill>
                <a:latin typeface="Times New Roman"/>
              </a:rPr>
              <a:t>Business</a:t>
            </a:r>
            <a:endParaRPr b="0" lang="en-US" sz="11500" spc="-1" strike="noStrike">
              <a:solidFill>
                <a:srgbClr val="000000"/>
              </a:solidFill>
              <a:latin typeface="Arial"/>
            </a:endParaRPr>
          </a:p>
        </p:txBody>
      </p:sp>
      <p:sp>
        <p:nvSpPr>
          <p:cNvPr id="582" name="矩形 14"/>
          <p:cNvSpPr/>
          <p:nvPr/>
        </p:nvSpPr>
        <p:spPr>
          <a:xfrm>
            <a:off x="3812400" y="3092400"/>
            <a:ext cx="4597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1c29"/>
                </a:solidFill>
                <a:latin typeface="Times New Roman"/>
              </a:rPr>
              <a:t>PowerPoint Template</a:t>
            </a:r>
            <a:endParaRPr b="0" lang="en-US" sz="4000" spc="-1" strike="noStrike">
              <a:solidFill>
                <a:srgbClr val="000000"/>
              </a:solidFill>
              <a:latin typeface="Arial"/>
            </a:endParaRPr>
          </a:p>
        </p:txBody>
      </p:sp>
      <p:cxnSp>
        <p:nvCxnSpPr>
          <p:cNvPr id="583" name="直接箭头连接符 15"/>
          <p:cNvCxnSpPr/>
          <p:nvPr/>
        </p:nvCxnSpPr>
        <p:spPr>
          <a:xfrm>
            <a:off x="3267000" y="3800160"/>
            <a:ext cx="5658120" cy="1080"/>
          </a:xfrm>
          <a:prstGeom prst="straightConnector1">
            <a:avLst/>
          </a:prstGeom>
          <a:ln w="9360">
            <a:solidFill>
              <a:srgbClr val="000000"/>
            </a:solidFill>
            <a:bevel/>
            <a:headEnd len="med" type="triangle" w="med"/>
            <a:tailEnd len="med" type="triangle" w="med"/>
          </a:ln>
        </p:spPr>
      </p:cxnSp>
      <p:sp>
        <p:nvSpPr>
          <p:cNvPr id="584" name="文本框 16"/>
          <p:cNvSpPr/>
          <p:nvPr/>
        </p:nvSpPr>
        <p:spPr>
          <a:xfrm>
            <a:off x="3486240" y="3922560"/>
            <a:ext cx="5219640" cy="398880"/>
          </a:xfrm>
          <a:prstGeom prst="rect">
            <a:avLst/>
          </a:prstGeom>
          <a:solidFill>
            <a:srgbClr val="2b336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蓝红绚丽图文搭配实用简洁商务汇报</a:t>
            </a: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模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TextBox 15"/>
          <p:cNvSpPr/>
          <p:nvPr/>
        </p:nvSpPr>
        <p:spPr>
          <a:xfrm>
            <a:off x="5033880" y="168768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94" name="TextBox 15"/>
          <p:cNvSpPr/>
          <p:nvPr/>
        </p:nvSpPr>
        <p:spPr>
          <a:xfrm>
            <a:off x="1954080" y="450540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95" name="矩形 33"/>
          <p:cNvSpPr/>
          <p:nvPr/>
        </p:nvSpPr>
        <p:spPr>
          <a:xfrm>
            <a:off x="5951880" y="11383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51c29"/>
                </a:solidFill>
                <a:latin typeface="微软雅黑"/>
                <a:ea typeface="微软雅黑"/>
              </a:rPr>
              <a:t>这里输入简单的文字概述</a:t>
            </a:r>
            <a:endParaRPr b="0" lang="en-US" sz="3200" spc="-1" strike="noStrike">
              <a:solidFill>
                <a:srgbClr val="000000"/>
              </a:solidFill>
              <a:latin typeface="Arial"/>
            </a:endParaRPr>
          </a:p>
        </p:txBody>
      </p:sp>
      <p:sp>
        <p:nvSpPr>
          <p:cNvPr id="96" name="矩形 34"/>
          <p:cNvSpPr/>
          <p:nvPr/>
        </p:nvSpPr>
        <p:spPr>
          <a:xfrm>
            <a:off x="3416040" y="3984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51c29"/>
                </a:solidFill>
                <a:latin typeface="微软雅黑"/>
                <a:ea typeface="微软雅黑"/>
              </a:rPr>
              <a:t>这里输入简单的文字概述</a:t>
            </a:r>
            <a:endParaRPr b="0" lang="en-US" sz="2400" spc="-1" strike="noStrike">
              <a:solidFill>
                <a:srgbClr val="000000"/>
              </a:solidFill>
              <a:latin typeface="Arial"/>
            </a:endParaRPr>
          </a:p>
        </p:txBody>
      </p:sp>
      <p:pic>
        <p:nvPicPr>
          <p:cNvPr id="97" name="图片 13" descr=""/>
          <p:cNvPicPr/>
          <p:nvPr/>
        </p:nvPicPr>
        <p:blipFill>
          <a:blip r:embed="rId1"/>
          <a:srcRect l="0" t="0" r="798" b="4873"/>
          <a:stretch/>
        </p:blipFill>
        <p:spPr>
          <a:xfrm>
            <a:off x="790560" y="905040"/>
            <a:ext cx="3505320" cy="2209680"/>
          </a:xfrm>
          <a:prstGeom prst="rect">
            <a:avLst/>
          </a:prstGeom>
          <a:ln w="0">
            <a:noFill/>
          </a:ln>
        </p:spPr>
      </p:pic>
      <p:pic>
        <p:nvPicPr>
          <p:cNvPr id="98" name="图片 14" descr=""/>
          <p:cNvPicPr/>
          <p:nvPr/>
        </p:nvPicPr>
        <p:blipFill>
          <a:blip r:embed="rId2"/>
          <a:srcRect l="0" t="0" r="575" b="4567"/>
          <a:stretch/>
        </p:blipFill>
        <p:spPr>
          <a:xfrm>
            <a:off x="7050240" y="3622680"/>
            <a:ext cx="3573360" cy="224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椭圆 1135"/>
          <p:cNvSpPr/>
          <p:nvPr/>
        </p:nvSpPr>
        <p:spPr>
          <a:xfrm>
            <a:off x="1305000" y="1415880"/>
            <a:ext cx="1473120" cy="1474920"/>
          </a:xfrm>
          <a:prstGeom prst="ellipse">
            <a:avLst/>
          </a:prstGeom>
          <a:solidFill>
            <a:srgbClr val="ffffff"/>
          </a:solidFill>
          <a:ln w="9360">
            <a:solidFill>
              <a:srgbClr val="2b336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椭圆 1137"/>
          <p:cNvSpPr/>
          <p:nvPr/>
        </p:nvSpPr>
        <p:spPr>
          <a:xfrm>
            <a:off x="1479600" y="1592280"/>
            <a:ext cx="1123920" cy="1122480"/>
          </a:xfrm>
          <a:prstGeom prst="ellipse">
            <a:avLst/>
          </a:prstGeom>
          <a:solidFill>
            <a:srgbClr val="ffffff"/>
          </a:solidFill>
          <a:ln w="9360">
            <a:solidFill>
              <a:srgbClr val="2b3360"/>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3360"/>
                </a:solidFill>
                <a:latin typeface="Impact"/>
              </a:rPr>
              <a:t>55 </a:t>
            </a:r>
            <a:r>
              <a:rPr b="0" lang="en-US" sz="2000" spc="-1" strike="noStrike">
                <a:solidFill>
                  <a:srgbClr val="2b3360"/>
                </a:solidFill>
                <a:latin typeface="Impact"/>
              </a:rPr>
              <a:t>%</a:t>
            </a:r>
            <a:endParaRPr b="0" lang="en-US" sz="2000" spc="-1" strike="noStrike">
              <a:solidFill>
                <a:srgbClr val="000000"/>
              </a:solidFill>
              <a:latin typeface="Arial"/>
            </a:endParaRPr>
          </a:p>
        </p:txBody>
      </p:sp>
      <p:sp>
        <p:nvSpPr>
          <p:cNvPr id="103" name="椭圆 1138"/>
          <p:cNvSpPr/>
          <p:nvPr/>
        </p:nvSpPr>
        <p:spPr>
          <a:xfrm>
            <a:off x="3957480" y="1415880"/>
            <a:ext cx="1474920" cy="1474920"/>
          </a:xfrm>
          <a:prstGeom prst="ellipse">
            <a:avLst/>
          </a:prstGeom>
          <a:solidFill>
            <a:srgbClr val="ffffff"/>
          </a:solidFill>
          <a:ln w="9360">
            <a:solidFill>
              <a:srgbClr val="c51c2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椭圆 1141"/>
          <p:cNvSpPr/>
          <p:nvPr/>
        </p:nvSpPr>
        <p:spPr>
          <a:xfrm>
            <a:off x="6611760" y="1415880"/>
            <a:ext cx="1474920" cy="1474920"/>
          </a:xfrm>
          <a:prstGeom prst="ellipse">
            <a:avLst/>
          </a:prstGeom>
          <a:solidFill>
            <a:srgbClr val="ffffff"/>
          </a:solidFill>
          <a:ln w="9360">
            <a:solidFill>
              <a:srgbClr val="2b336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文本框 1144"/>
          <p:cNvSpPr/>
          <p:nvPr/>
        </p:nvSpPr>
        <p:spPr>
          <a:xfrm>
            <a:off x="1305000" y="3173400"/>
            <a:ext cx="14731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b3360"/>
                </a:solidFill>
                <a:latin typeface="微软雅黑"/>
                <a:ea typeface="微软雅黑"/>
              </a:rPr>
              <a:t>添加文字</a:t>
            </a:r>
            <a:endParaRPr b="0" lang="en-US" sz="1600" spc="-1" strike="noStrike">
              <a:solidFill>
                <a:srgbClr val="000000"/>
              </a:solidFill>
              <a:latin typeface="Arial"/>
            </a:endParaRPr>
          </a:p>
        </p:txBody>
      </p:sp>
      <p:sp>
        <p:nvSpPr>
          <p:cNvPr id="106" name="文本框 1146"/>
          <p:cNvSpPr/>
          <p:nvPr/>
        </p:nvSpPr>
        <p:spPr>
          <a:xfrm>
            <a:off x="3957480" y="3173400"/>
            <a:ext cx="14749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51c29"/>
                </a:solidFill>
                <a:latin typeface="微软雅黑"/>
                <a:ea typeface="微软雅黑"/>
              </a:rPr>
              <a:t>添加文字</a:t>
            </a:r>
            <a:endParaRPr b="0" lang="en-US" sz="1600" spc="-1" strike="noStrike">
              <a:solidFill>
                <a:srgbClr val="000000"/>
              </a:solidFill>
              <a:latin typeface="Arial"/>
            </a:endParaRPr>
          </a:p>
        </p:txBody>
      </p:sp>
      <p:sp>
        <p:nvSpPr>
          <p:cNvPr id="107" name="文本框 1147"/>
          <p:cNvSpPr/>
          <p:nvPr/>
        </p:nvSpPr>
        <p:spPr>
          <a:xfrm>
            <a:off x="6611760" y="3173400"/>
            <a:ext cx="14749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b3360"/>
                </a:solidFill>
                <a:latin typeface="微软雅黑"/>
                <a:ea typeface="微软雅黑"/>
              </a:rPr>
              <a:t>添加文字</a:t>
            </a:r>
            <a:endParaRPr b="0" lang="en-US" sz="1600" spc="-1" strike="noStrike">
              <a:solidFill>
                <a:srgbClr val="000000"/>
              </a:solidFill>
              <a:latin typeface="Arial"/>
            </a:endParaRPr>
          </a:p>
        </p:txBody>
      </p:sp>
      <p:sp>
        <p:nvSpPr>
          <p:cNvPr id="108" name="椭圆 1148"/>
          <p:cNvSpPr/>
          <p:nvPr/>
        </p:nvSpPr>
        <p:spPr>
          <a:xfrm>
            <a:off x="9266400" y="1415880"/>
            <a:ext cx="1474560" cy="1474920"/>
          </a:xfrm>
          <a:prstGeom prst="ellipse">
            <a:avLst/>
          </a:prstGeom>
          <a:solidFill>
            <a:srgbClr val="ffffff"/>
          </a:solidFill>
          <a:ln w="9360">
            <a:solidFill>
              <a:srgbClr val="c51c2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文本框 1151"/>
          <p:cNvSpPr/>
          <p:nvPr/>
        </p:nvSpPr>
        <p:spPr>
          <a:xfrm>
            <a:off x="9266400" y="3173400"/>
            <a:ext cx="147456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51c29"/>
                </a:solidFill>
                <a:latin typeface="微软雅黑"/>
                <a:ea typeface="微软雅黑"/>
              </a:rPr>
              <a:t>添加文字</a:t>
            </a:r>
            <a:endParaRPr b="0" lang="en-US" sz="1600" spc="-1" strike="noStrike">
              <a:solidFill>
                <a:srgbClr val="000000"/>
              </a:solidFill>
              <a:latin typeface="Arial"/>
            </a:endParaRPr>
          </a:p>
        </p:txBody>
      </p:sp>
      <p:sp>
        <p:nvSpPr>
          <p:cNvPr id="110" name="TextBox 15"/>
          <p:cNvSpPr/>
          <p:nvPr/>
        </p:nvSpPr>
        <p:spPr>
          <a:xfrm>
            <a:off x="2041560" y="4753080"/>
            <a:ext cx="80424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200" spc="-1" strike="noStrike">
              <a:solidFill>
                <a:srgbClr val="000000"/>
              </a:solidFill>
              <a:latin typeface="Arial"/>
            </a:endParaRPr>
          </a:p>
        </p:txBody>
      </p:sp>
      <p:sp>
        <p:nvSpPr>
          <p:cNvPr id="111" name="矩形 1154"/>
          <p:cNvSpPr/>
          <p:nvPr/>
        </p:nvSpPr>
        <p:spPr>
          <a:xfrm>
            <a:off x="4967280" y="42181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51c29"/>
                </a:solidFill>
                <a:latin typeface="微软雅黑"/>
                <a:ea typeface="微软雅黑"/>
              </a:rPr>
              <a:t>这里输入简单的文字概述</a:t>
            </a:r>
            <a:endParaRPr b="0" lang="en-US" sz="2400" spc="-1" strike="noStrike">
              <a:solidFill>
                <a:srgbClr val="000000"/>
              </a:solidFill>
              <a:latin typeface="Arial"/>
            </a:endParaRPr>
          </a:p>
        </p:txBody>
      </p:sp>
      <p:sp>
        <p:nvSpPr>
          <p:cNvPr id="112" name="椭圆 22"/>
          <p:cNvSpPr/>
          <p:nvPr/>
        </p:nvSpPr>
        <p:spPr>
          <a:xfrm>
            <a:off x="4133880" y="1592280"/>
            <a:ext cx="1123920" cy="1122480"/>
          </a:xfrm>
          <a:prstGeom prst="ellipse">
            <a:avLst/>
          </a:prstGeom>
          <a:solidFill>
            <a:srgbClr val="ffffff"/>
          </a:solidFill>
          <a:ln w="9360">
            <a:solidFill>
              <a:srgbClr val="c51c29"/>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51c29"/>
                </a:solidFill>
                <a:latin typeface="Impact"/>
              </a:rPr>
              <a:t>38 </a:t>
            </a:r>
            <a:r>
              <a:rPr b="0" lang="en-US" sz="2000" spc="-1" strike="noStrike">
                <a:solidFill>
                  <a:srgbClr val="c51c29"/>
                </a:solidFill>
                <a:latin typeface="Impact"/>
              </a:rPr>
              <a:t>%</a:t>
            </a:r>
            <a:endParaRPr b="0" lang="en-US" sz="2000" spc="-1" strike="noStrike">
              <a:solidFill>
                <a:srgbClr val="000000"/>
              </a:solidFill>
              <a:latin typeface="Arial"/>
            </a:endParaRPr>
          </a:p>
        </p:txBody>
      </p:sp>
      <p:sp>
        <p:nvSpPr>
          <p:cNvPr id="113" name="椭圆 23"/>
          <p:cNvSpPr/>
          <p:nvPr/>
        </p:nvSpPr>
        <p:spPr>
          <a:xfrm>
            <a:off x="6788160" y="1592280"/>
            <a:ext cx="1123920" cy="1122480"/>
          </a:xfrm>
          <a:prstGeom prst="ellipse">
            <a:avLst/>
          </a:prstGeom>
          <a:solidFill>
            <a:srgbClr val="ffffff"/>
          </a:solidFill>
          <a:ln w="9360">
            <a:solidFill>
              <a:srgbClr val="2b3360"/>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3360"/>
                </a:solidFill>
                <a:latin typeface="Impact"/>
              </a:rPr>
              <a:t>16 </a:t>
            </a:r>
            <a:r>
              <a:rPr b="0" lang="en-US" sz="2000" spc="-1" strike="noStrike">
                <a:solidFill>
                  <a:srgbClr val="2b3360"/>
                </a:solidFill>
                <a:latin typeface="Impact"/>
              </a:rPr>
              <a:t>%</a:t>
            </a:r>
            <a:endParaRPr b="0" lang="en-US" sz="2000" spc="-1" strike="noStrike">
              <a:solidFill>
                <a:srgbClr val="000000"/>
              </a:solidFill>
              <a:latin typeface="Arial"/>
            </a:endParaRPr>
          </a:p>
        </p:txBody>
      </p:sp>
      <p:sp>
        <p:nvSpPr>
          <p:cNvPr id="114" name="椭圆 24"/>
          <p:cNvSpPr/>
          <p:nvPr/>
        </p:nvSpPr>
        <p:spPr>
          <a:xfrm>
            <a:off x="9442440" y="1592280"/>
            <a:ext cx="1122480" cy="1122480"/>
          </a:xfrm>
          <a:prstGeom prst="ellipse">
            <a:avLst/>
          </a:prstGeom>
          <a:solidFill>
            <a:srgbClr val="ffffff"/>
          </a:solidFill>
          <a:ln w="9360">
            <a:solidFill>
              <a:srgbClr val="c51c29"/>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51c29"/>
                </a:solidFill>
                <a:latin typeface="Impact"/>
              </a:rPr>
              <a:t>6 </a:t>
            </a:r>
            <a:r>
              <a:rPr b="0" lang="en-US" sz="2000" spc="-1" strike="noStrike">
                <a:solidFill>
                  <a:srgbClr val="c51c29"/>
                </a:solidFill>
                <a:latin typeface="Impact"/>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0" y="0"/>
            <a:ext cx="12192120" cy="685800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矩形 24"/>
          <p:cNvSpPr/>
          <p:nvPr/>
        </p:nvSpPr>
        <p:spPr>
          <a:xfrm flipV="1">
            <a:off x="2075040" y="3344400"/>
            <a:ext cx="799452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任意多边形 26"/>
          <p:cNvSpPr/>
          <p:nvPr/>
        </p:nvSpPr>
        <p:spPr>
          <a:xfrm>
            <a:off x="3238560" y="2362320"/>
            <a:ext cx="904680" cy="968400"/>
          </a:xfrm>
          <a:prstGeom prst="pie">
            <a:avLst/>
          </a:prstGeom>
          <a:solidFill>
            <a:srgbClr val="c51c2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19" name="任意多边形 28"/>
          <p:cNvSpPr/>
          <p:nvPr/>
        </p:nvSpPr>
        <p:spPr>
          <a:xfrm>
            <a:off x="5630760" y="2362320"/>
            <a:ext cx="906480" cy="968400"/>
          </a:xfrm>
          <a:prstGeom prst="pie">
            <a:avLst/>
          </a:prstGeom>
          <a:solidFill>
            <a:srgbClr val="c51c2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20" name="任意多边形 40"/>
          <p:cNvSpPr/>
          <p:nvPr/>
        </p:nvSpPr>
        <p:spPr>
          <a:xfrm>
            <a:off x="8023320" y="2362320"/>
            <a:ext cx="904680" cy="968400"/>
          </a:xfrm>
          <a:prstGeom prst="pie">
            <a:avLst/>
          </a:prstGeom>
          <a:solidFill>
            <a:srgbClr val="c51c2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21" name="任意多边形 42"/>
          <p:cNvSpPr/>
          <p:nvPr/>
        </p:nvSpPr>
        <p:spPr>
          <a:xfrm>
            <a:off x="4435560" y="3394080"/>
            <a:ext cx="904680" cy="968400"/>
          </a:xfrm>
          <a:prstGeom prst="pie">
            <a:avLst/>
          </a:prstGeom>
          <a:solidFill>
            <a:srgbClr val="2b336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22" name="任意多边形 45"/>
          <p:cNvSpPr/>
          <p:nvPr/>
        </p:nvSpPr>
        <p:spPr>
          <a:xfrm>
            <a:off x="6827760" y="3394080"/>
            <a:ext cx="905040" cy="968400"/>
          </a:xfrm>
          <a:prstGeom prst="pie">
            <a:avLst/>
          </a:prstGeom>
          <a:solidFill>
            <a:srgbClr val="2b336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23" name="矩形 2"/>
          <p:cNvSpPr/>
          <p:nvPr/>
        </p:nvSpPr>
        <p:spPr>
          <a:xfrm>
            <a:off x="2727360" y="116208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p:txBody>
      </p:sp>
      <p:sp>
        <p:nvSpPr>
          <p:cNvPr id="124" name="矩形 15"/>
          <p:cNvSpPr/>
          <p:nvPr/>
        </p:nvSpPr>
        <p:spPr>
          <a:xfrm>
            <a:off x="3922560" y="457056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125" name="矩形 16"/>
          <p:cNvSpPr/>
          <p:nvPr/>
        </p:nvSpPr>
        <p:spPr>
          <a:xfrm>
            <a:off x="5118120" y="1162080"/>
            <a:ext cx="19303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p:txBody>
      </p:sp>
      <p:sp>
        <p:nvSpPr>
          <p:cNvPr id="126" name="矩形 17"/>
          <p:cNvSpPr/>
          <p:nvPr/>
        </p:nvSpPr>
        <p:spPr>
          <a:xfrm>
            <a:off x="6315120" y="455940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127" name="矩形 18"/>
          <p:cNvSpPr/>
          <p:nvPr/>
        </p:nvSpPr>
        <p:spPr>
          <a:xfrm>
            <a:off x="7512120" y="116208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 name="组合 53"/>
          <p:cNvGrpSpPr/>
          <p:nvPr/>
        </p:nvGrpSpPr>
        <p:grpSpPr>
          <a:xfrm>
            <a:off x="6205680" y="2332080"/>
            <a:ext cx="777600" cy="776160"/>
            <a:chOff x="6205680" y="2332080"/>
            <a:chExt cx="777600" cy="776160"/>
          </a:xfrm>
        </p:grpSpPr>
        <p:sp>
          <p:nvSpPr>
            <p:cNvPr id="130" name="矩形 9"/>
            <p:cNvSpPr/>
            <p:nvPr/>
          </p:nvSpPr>
          <p:spPr>
            <a:xfrm>
              <a:off x="62056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直接连接符 10"/>
            <p:cNvSpPr/>
            <p:nvPr/>
          </p:nvSpPr>
          <p:spPr>
            <a:xfrm>
              <a:off x="62056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直接连接符 11"/>
            <p:cNvSpPr/>
            <p:nvPr/>
          </p:nvSpPr>
          <p:spPr>
            <a:xfrm>
              <a:off x="65944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3" name="组合 57"/>
          <p:cNvGrpSpPr/>
          <p:nvPr/>
        </p:nvGrpSpPr>
        <p:grpSpPr>
          <a:xfrm>
            <a:off x="7129440" y="2332080"/>
            <a:ext cx="776160" cy="776160"/>
            <a:chOff x="7129440" y="2332080"/>
            <a:chExt cx="776160" cy="776160"/>
          </a:xfrm>
        </p:grpSpPr>
        <p:sp>
          <p:nvSpPr>
            <p:cNvPr id="134" name="矩形 16"/>
            <p:cNvSpPr/>
            <p:nvPr/>
          </p:nvSpPr>
          <p:spPr>
            <a:xfrm>
              <a:off x="712944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直接连接符 17"/>
            <p:cNvSpPr/>
            <p:nvPr/>
          </p:nvSpPr>
          <p:spPr>
            <a:xfrm>
              <a:off x="712944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直接连接符 18"/>
            <p:cNvSpPr/>
            <p:nvPr/>
          </p:nvSpPr>
          <p:spPr>
            <a:xfrm>
              <a:off x="751824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7" name="组合 61"/>
          <p:cNvGrpSpPr/>
          <p:nvPr/>
        </p:nvGrpSpPr>
        <p:grpSpPr>
          <a:xfrm>
            <a:off x="8053560" y="2332080"/>
            <a:ext cx="776160" cy="776160"/>
            <a:chOff x="8053560" y="2332080"/>
            <a:chExt cx="776160" cy="776160"/>
          </a:xfrm>
        </p:grpSpPr>
        <p:sp>
          <p:nvSpPr>
            <p:cNvPr id="138" name="矩形 20"/>
            <p:cNvSpPr/>
            <p:nvPr/>
          </p:nvSpPr>
          <p:spPr>
            <a:xfrm>
              <a:off x="8053560" y="2332080"/>
              <a:ext cx="77616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直接连接符 21"/>
            <p:cNvSpPr/>
            <p:nvPr/>
          </p:nvSpPr>
          <p:spPr>
            <a:xfrm>
              <a:off x="8053560" y="2720880"/>
              <a:ext cx="77616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直接连接符 26"/>
            <p:cNvSpPr/>
            <p:nvPr/>
          </p:nvSpPr>
          <p:spPr>
            <a:xfrm>
              <a:off x="844236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组合 65"/>
          <p:cNvGrpSpPr/>
          <p:nvPr/>
        </p:nvGrpSpPr>
        <p:grpSpPr>
          <a:xfrm>
            <a:off x="8975880" y="2332080"/>
            <a:ext cx="777600" cy="776160"/>
            <a:chOff x="8975880" y="2332080"/>
            <a:chExt cx="777600" cy="776160"/>
          </a:xfrm>
        </p:grpSpPr>
        <p:sp>
          <p:nvSpPr>
            <p:cNvPr id="142" name="矩形 28"/>
            <p:cNvSpPr/>
            <p:nvPr/>
          </p:nvSpPr>
          <p:spPr>
            <a:xfrm>
              <a:off x="8975880" y="2332080"/>
              <a:ext cx="777600" cy="776160"/>
            </a:xfrm>
            <a:prstGeom prst="rect">
              <a:avLst/>
            </a:prstGeom>
            <a:noFill/>
            <a:ln w="19080">
              <a:solidFill>
                <a:srgbClr val="bbd6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直接连接符 29"/>
            <p:cNvSpPr/>
            <p:nvPr/>
          </p:nvSpPr>
          <p:spPr>
            <a:xfrm>
              <a:off x="8975880" y="2720880"/>
              <a:ext cx="777600" cy="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直接连接符 30"/>
            <p:cNvSpPr/>
            <p:nvPr/>
          </p:nvSpPr>
          <p:spPr>
            <a:xfrm>
              <a:off x="9364680" y="2332080"/>
              <a:ext cx="0" cy="776160"/>
            </a:xfrm>
            <a:prstGeom prst="line">
              <a:avLst/>
            </a:prstGeom>
            <a:ln w="12600">
              <a:solidFill>
                <a:srgbClr val="bbd6ee"/>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5" name="文本框 31"/>
          <p:cNvSpPr/>
          <p:nvPr/>
        </p:nvSpPr>
        <p:spPr>
          <a:xfrm>
            <a:off x="61959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a:t>
            </a:r>
            <a:endParaRPr b="0" lang="en-US" sz="4800" spc="-1" strike="noStrike">
              <a:solidFill>
                <a:srgbClr val="000000"/>
              </a:solidFill>
              <a:latin typeface="Arial"/>
            </a:endParaRPr>
          </a:p>
        </p:txBody>
      </p:sp>
      <p:sp>
        <p:nvSpPr>
          <p:cNvPr id="146" name="文本框 32"/>
          <p:cNvSpPr/>
          <p:nvPr/>
        </p:nvSpPr>
        <p:spPr>
          <a:xfrm>
            <a:off x="711828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二</a:t>
            </a:r>
            <a:endParaRPr b="0" lang="en-US" sz="4800" spc="-1" strike="noStrike">
              <a:solidFill>
                <a:srgbClr val="000000"/>
              </a:solidFill>
              <a:latin typeface="Arial"/>
            </a:endParaRPr>
          </a:p>
        </p:txBody>
      </p:sp>
      <p:sp>
        <p:nvSpPr>
          <p:cNvPr id="147" name="文本框 33"/>
          <p:cNvSpPr/>
          <p:nvPr/>
        </p:nvSpPr>
        <p:spPr>
          <a:xfrm>
            <a:off x="8042400" y="2305080"/>
            <a:ext cx="85248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章</a:t>
            </a:r>
            <a:endParaRPr b="0" lang="en-US" sz="4800" spc="-1" strike="noStrike">
              <a:solidFill>
                <a:srgbClr val="000000"/>
              </a:solidFill>
              <a:latin typeface="Arial"/>
            </a:endParaRPr>
          </a:p>
        </p:txBody>
      </p:sp>
      <p:sp>
        <p:nvSpPr>
          <p:cNvPr id="148" name="文本框 34"/>
          <p:cNvSpPr/>
          <p:nvPr/>
        </p:nvSpPr>
        <p:spPr>
          <a:xfrm>
            <a:off x="8966160" y="2305080"/>
            <a:ext cx="8510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节</a:t>
            </a:r>
            <a:endParaRPr b="0" lang="en-US" sz="4800" spc="-1" strike="noStrike">
              <a:solidFill>
                <a:srgbClr val="000000"/>
              </a:solidFill>
              <a:latin typeface="Arial"/>
            </a:endParaRPr>
          </a:p>
        </p:txBody>
      </p:sp>
      <p:sp>
        <p:nvSpPr>
          <p:cNvPr id="149" name="文本框 35"/>
          <p:cNvSpPr/>
          <p:nvPr/>
        </p:nvSpPr>
        <p:spPr>
          <a:xfrm>
            <a:off x="6343560" y="1941480"/>
            <a:ext cx="5018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di</a:t>
            </a:r>
            <a:endParaRPr b="0" lang="en-US" sz="2000" spc="-1" strike="noStrike">
              <a:solidFill>
                <a:srgbClr val="000000"/>
              </a:solidFill>
              <a:latin typeface="Arial"/>
            </a:endParaRPr>
          </a:p>
        </p:txBody>
      </p:sp>
      <p:sp>
        <p:nvSpPr>
          <p:cNvPr id="150" name="文本框 36"/>
          <p:cNvSpPr/>
          <p:nvPr/>
        </p:nvSpPr>
        <p:spPr>
          <a:xfrm>
            <a:off x="7267680" y="1941480"/>
            <a:ext cx="50004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er</a:t>
            </a:r>
            <a:endParaRPr b="0" lang="en-US" sz="2000" spc="-1" strike="noStrike">
              <a:solidFill>
                <a:srgbClr val="000000"/>
              </a:solidFill>
              <a:latin typeface="Arial"/>
            </a:endParaRPr>
          </a:p>
        </p:txBody>
      </p:sp>
      <p:sp>
        <p:nvSpPr>
          <p:cNvPr id="151" name="文本框 37"/>
          <p:cNvSpPr/>
          <p:nvPr/>
        </p:nvSpPr>
        <p:spPr>
          <a:xfrm>
            <a:off x="7905600" y="1941480"/>
            <a:ext cx="109872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a:t>
            </a:r>
            <a:endParaRPr b="0" lang="en-US" sz="2000" spc="-1" strike="noStrike">
              <a:solidFill>
                <a:srgbClr val="000000"/>
              </a:solidFill>
              <a:latin typeface="Arial"/>
            </a:endParaRPr>
          </a:p>
        </p:txBody>
      </p:sp>
      <p:sp>
        <p:nvSpPr>
          <p:cNvPr id="152" name="文本框 38"/>
          <p:cNvSpPr/>
          <p:nvPr/>
        </p:nvSpPr>
        <p:spPr>
          <a:xfrm>
            <a:off x="9115560" y="1941480"/>
            <a:ext cx="595080" cy="3999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jie</a:t>
            </a:r>
            <a:endParaRPr b="0" lang="en-US" sz="2000" spc="-1" strike="noStrike">
              <a:solidFill>
                <a:srgbClr val="000000"/>
              </a:solidFill>
              <a:latin typeface="Arial"/>
            </a:endParaRPr>
          </a:p>
        </p:txBody>
      </p:sp>
      <p:sp>
        <p:nvSpPr>
          <p:cNvPr id="153" name="文本框 39"/>
          <p:cNvSpPr/>
          <p:nvPr/>
        </p:nvSpPr>
        <p:spPr>
          <a:xfrm>
            <a:off x="5318280" y="3432240"/>
            <a:ext cx="4498920" cy="7380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请写在这里您的内容请写在里您的内容请写在这里您的内容您的内容请写在这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图片 1" descr=""/>
          <p:cNvPicPr/>
          <p:nvPr/>
        </p:nvPicPr>
        <p:blipFill>
          <a:blip r:embed="rId1"/>
          <a:srcRect l="0" t="0" r="798" b="4873"/>
          <a:stretch/>
        </p:blipFill>
        <p:spPr>
          <a:xfrm>
            <a:off x="2160720" y="1600200"/>
            <a:ext cx="2552400" cy="1609560"/>
          </a:xfrm>
          <a:prstGeom prst="rect">
            <a:avLst/>
          </a:prstGeom>
          <a:ln w="0">
            <a:noFill/>
          </a:ln>
        </p:spPr>
      </p:pic>
      <p:pic>
        <p:nvPicPr>
          <p:cNvPr id="157" name="图片 2" descr=""/>
          <p:cNvPicPr/>
          <p:nvPr/>
        </p:nvPicPr>
        <p:blipFill>
          <a:blip r:embed="rId2"/>
          <a:srcRect l="0" t="0" r="728" b="4534"/>
          <a:stretch/>
        </p:blipFill>
        <p:spPr>
          <a:xfrm>
            <a:off x="7478640" y="1600200"/>
            <a:ext cx="2552760" cy="1609560"/>
          </a:xfrm>
          <a:prstGeom prst="rect">
            <a:avLst/>
          </a:prstGeom>
          <a:ln w="0">
            <a:noFill/>
          </a:ln>
        </p:spPr>
      </p:pic>
      <p:pic>
        <p:nvPicPr>
          <p:cNvPr id="158" name="图片 3" descr=""/>
          <p:cNvPicPr/>
          <p:nvPr/>
        </p:nvPicPr>
        <p:blipFill>
          <a:blip r:embed="rId3"/>
          <a:srcRect l="0" t="0" r="649" b="5501"/>
          <a:stretch/>
        </p:blipFill>
        <p:spPr>
          <a:xfrm>
            <a:off x="4827600" y="1600200"/>
            <a:ext cx="2536920" cy="1609560"/>
          </a:xfrm>
          <a:prstGeom prst="rect">
            <a:avLst/>
          </a:prstGeom>
          <a:ln w="0">
            <a:noFill/>
          </a:ln>
        </p:spPr>
      </p:pic>
      <p:sp>
        <p:nvSpPr>
          <p:cNvPr id="159" name="矩形 4"/>
          <p:cNvSpPr/>
          <p:nvPr/>
        </p:nvSpPr>
        <p:spPr>
          <a:xfrm>
            <a:off x="2160720" y="3209760"/>
            <a:ext cx="2552400" cy="29376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矩形 6"/>
          <p:cNvSpPr/>
          <p:nvPr/>
        </p:nvSpPr>
        <p:spPr>
          <a:xfrm>
            <a:off x="4827600" y="3209760"/>
            <a:ext cx="2536920" cy="29376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矩形 7"/>
          <p:cNvSpPr/>
          <p:nvPr/>
        </p:nvSpPr>
        <p:spPr>
          <a:xfrm>
            <a:off x="7478640" y="3209760"/>
            <a:ext cx="2552760" cy="293760"/>
          </a:xfrm>
          <a:prstGeom prst="rect">
            <a:avLst/>
          </a:prstGeom>
          <a:solidFill>
            <a:srgbClr val="2b33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Box 15"/>
          <p:cNvSpPr/>
          <p:nvPr/>
        </p:nvSpPr>
        <p:spPr>
          <a:xfrm>
            <a:off x="24750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
        <p:nvSpPr>
          <p:cNvPr id="163" name="矩形 9"/>
          <p:cNvSpPr/>
          <p:nvPr/>
        </p:nvSpPr>
        <p:spPr>
          <a:xfrm>
            <a:off x="2919600" y="31734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164" name="矩形 14"/>
          <p:cNvSpPr/>
          <p:nvPr/>
        </p:nvSpPr>
        <p:spPr>
          <a:xfrm>
            <a:off x="5586840" y="31827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165" name="矩形 15"/>
          <p:cNvSpPr/>
          <p:nvPr/>
        </p:nvSpPr>
        <p:spPr>
          <a:xfrm>
            <a:off x="8240040" y="31878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166" name="TextBox 15"/>
          <p:cNvSpPr/>
          <p:nvPr/>
        </p:nvSpPr>
        <p:spPr>
          <a:xfrm>
            <a:off x="51498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51c29"/>
                </a:solidFill>
                <a:latin typeface="微软雅黑"/>
                <a:ea typeface="微软雅黑"/>
              </a:rPr>
              <a:t>这里输入简单的文字概述</a:t>
            </a:r>
            <a:endParaRPr b="0" lang="en-US" sz="1200" spc="-1" strike="noStrike">
              <a:solidFill>
                <a:srgbClr val="000000"/>
              </a:solidFill>
              <a:latin typeface="Arial"/>
            </a:endParaRPr>
          </a:p>
        </p:txBody>
      </p:sp>
      <p:sp>
        <p:nvSpPr>
          <p:cNvPr id="167" name="TextBox 15"/>
          <p:cNvSpPr/>
          <p:nvPr/>
        </p:nvSpPr>
        <p:spPr>
          <a:xfrm>
            <a:off x="782496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3360"/>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1"/>
          <p:cNvSpPr/>
          <p:nvPr/>
        </p:nvSpPr>
        <p:spPr>
          <a:xfrm>
            <a:off x="0" y="0"/>
            <a:ext cx="12192120" cy="6858000"/>
          </a:xfrm>
          <a:prstGeom prst="rect">
            <a:avLst/>
          </a:prstGeom>
          <a:solidFill>
            <a:srgbClr val="c51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矩形 2"/>
          <p:cNvSpPr/>
          <p:nvPr/>
        </p:nvSpPr>
        <p:spPr>
          <a:xfrm>
            <a:off x="231840" y="192240"/>
            <a:ext cx="11726640" cy="647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椭圆 16"/>
          <p:cNvSpPr/>
          <p:nvPr/>
        </p:nvSpPr>
        <p:spPr>
          <a:xfrm>
            <a:off x="1101600" y="5429160"/>
            <a:ext cx="9540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椭圆 17"/>
          <p:cNvSpPr/>
          <p:nvPr/>
        </p:nvSpPr>
        <p:spPr>
          <a:xfrm>
            <a:off x="1095480" y="112536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椭圆 1"/>
          <p:cNvSpPr/>
          <p:nvPr/>
        </p:nvSpPr>
        <p:spPr>
          <a:xfrm>
            <a:off x="4219560" y="5454720"/>
            <a:ext cx="968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椭圆 2"/>
          <p:cNvSpPr/>
          <p:nvPr/>
        </p:nvSpPr>
        <p:spPr>
          <a:xfrm>
            <a:off x="4210200" y="1144440"/>
            <a:ext cx="968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椭圆 3"/>
          <p:cNvSpPr/>
          <p:nvPr/>
        </p:nvSpPr>
        <p:spPr>
          <a:xfrm>
            <a:off x="2308320" y="112860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椭圆 4"/>
          <p:cNvSpPr/>
          <p:nvPr/>
        </p:nvSpPr>
        <p:spPr>
          <a:xfrm>
            <a:off x="1698480" y="1128600"/>
            <a:ext cx="9540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椭圆 5"/>
          <p:cNvSpPr/>
          <p:nvPr/>
        </p:nvSpPr>
        <p:spPr>
          <a:xfrm>
            <a:off x="2930400" y="5446800"/>
            <a:ext cx="96840" cy="2300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椭圆 6"/>
          <p:cNvSpPr/>
          <p:nvPr/>
        </p:nvSpPr>
        <p:spPr>
          <a:xfrm>
            <a:off x="3575160" y="5454720"/>
            <a:ext cx="950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椭圆 7"/>
          <p:cNvSpPr/>
          <p:nvPr/>
        </p:nvSpPr>
        <p:spPr>
          <a:xfrm>
            <a:off x="2311560" y="543888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椭圆 8"/>
          <p:cNvSpPr/>
          <p:nvPr/>
        </p:nvSpPr>
        <p:spPr>
          <a:xfrm>
            <a:off x="1701720" y="543240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椭圆 9"/>
          <p:cNvSpPr/>
          <p:nvPr/>
        </p:nvSpPr>
        <p:spPr>
          <a:xfrm>
            <a:off x="2927520" y="1149480"/>
            <a:ext cx="95040" cy="2314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椭圆 10"/>
          <p:cNvSpPr/>
          <p:nvPr/>
        </p:nvSpPr>
        <p:spPr>
          <a:xfrm>
            <a:off x="3571920" y="1144440"/>
            <a:ext cx="950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矩形 11"/>
          <p:cNvSpPr/>
          <p:nvPr/>
        </p:nvSpPr>
        <p:spPr>
          <a:xfrm>
            <a:off x="793800" y="1290600"/>
            <a:ext cx="10540800" cy="4237200"/>
          </a:xfrm>
          <a:prstGeom prst="rect">
            <a:avLst/>
          </a:prstGeom>
          <a:solidFill>
            <a:srgbClr val="bfbfbf">
              <a:alpha val="30000"/>
            </a:srgbClr>
          </a:solidFill>
          <a:ln w="0">
            <a:noFill/>
          </a:ln>
        </p:spPr>
        <p:style>
          <a:lnRef idx="0"/>
          <a:fillRef idx="0"/>
          <a:effectRef idx="0"/>
          <a:fontRef idx="minor"/>
        </p:style>
        <p:txBody>
          <a:bodyPr lIns="4248000" rIns="252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圆角矩形 15"/>
          <p:cNvSpPr/>
          <p:nvPr/>
        </p:nvSpPr>
        <p:spPr>
          <a:xfrm>
            <a:off x="1727280" y="1123920"/>
            <a:ext cx="492120" cy="4545000"/>
          </a:xfrm>
          <a:prstGeom prst="pie">
            <a:avLst/>
          </a:prstGeom>
          <a:solidFill>
            <a:srgbClr val="2b3360"/>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84" name="圆角矩形 15"/>
          <p:cNvSpPr/>
          <p:nvPr/>
        </p:nvSpPr>
        <p:spPr>
          <a:xfrm>
            <a:off x="2336760" y="1128600"/>
            <a:ext cx="493920" cy="4542120"/>
          </a:xfrm>
          <a:prstGeom prst="pie">
            <a:avLst/>
          </a:prstGeom>
          <a:solidFill>
            <a:srgbClr val="c51c29"/>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85" name="圆角矩形 15"/>
          <p:cNvSpPr/>
          <p:nvPr/>
        </p:nvSpPr>
        <p:spPr>
          <a:xfrm>
            <a:off x="2955960" y="1133640"/>
            <a:ext cx="492120" cy="4545000"/>
          </a:xfrm>
          <a:prstGeom prst="pie">
            <a:avLst/>
          </a:prstGeom>
          <a:solidFill>
            <a:srgbClr val="2b3360"/>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86" name="圆角矩形 15"/>
          <p:cNvSpPr/>
          <p:nvPr/>
        </p:nvSpPr>
        <p:spPr>
          <a:xfrm>
            <a:off x="1127160" y="1120680"/>
            <a:ext cx="492120" cy="4543560"/>
          </a:xfrm>
          <a:prstGeom prst="pie">
            <a:avLst/>
          </a:prstGeom>
          <a:solidFill>
            <a:srgbClr val="c51c29"/>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87" name="圆角矩形 15"/>
          <p:cNvSpPr/>
          <p:nvPr/>
        </p:nvSpPr>
        <p:spPr>
          <a:xfrm>
            <a:off x="3600360" y="1144440"/>
            <a:ext cx="492120" cy="4543560"/>
          </a:xfrm>
          <a:prstGeom prst="pie">
            <a:avLst/>
          </a:prstGeom>
          <a:solidFill>
            <a:srgbClr val="c51c29"/>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88" name="圆角矩形 15"/>
          <p:cNvSpPr/>
          <p:nvPr/>
        </p:nvSpPr>
        <p:spPr>
          <a:xfrm>
            <a:off x="4245120" y="1144440"/>
            <a:ext cx="493560" cy="4543560"/>
          </a:xfrm>
          <a:prstGeom prst="pie">
            <a:avLst/>
          </a:prstGeom>
          <a:solidFill>
            <a:srgbClr val="2b3360"/>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概述</a:t>
            </a:r>
            <a:endParaRPr b="0" lang="en-US" sz="1800" spc="-1" strike="noStrike">
              <a:solidFill>
                <a:srgbClr val="000000"/>
              </a:solidFill>
              <a:latin typeface="Arial"/>
            </a:endParaRPr>
          </a:p>
        </p:txBody>
      </p:sp>
      <p:sp>
        <p:nvSpPr>
          <p:cNvPr id="189" name="TextBox 15"/>
          <p:cNvSpPr/>
          <p:nvPr/>
        </p:nvSpPr>
        <p:spPr>
          <a:xfrm>
            <a:off x="5424480" y="2235240"/>
            <a:ext cx="54928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这里输入简单的文字概述这里输入简单字概述这里输入这里输入简单的文字概述这里输入简单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8T07:27:00Z</dcterms:created>
  <dc:creator>123</dc:creator>
  <dc:description/>
  <cp:keywords/>
  <dc:language>en-US</dc:language>
  <cp:lastModifiedBy>123 123</cp:lastModifiedBy>
  <dcterms:modified xsi:type="dcterms:W3CDTF">2015-11-23T01:57:04Z</dcterms:modified>
  <cp:revision>14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