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DDD-761D-481B-8660-D6957872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D9A-1612-40F0-BCE8-88195C15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3F7-4550-4567-979F-95A26957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70C-3775-461A-A551-730F0184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104-3A62-485C-A670-A8F7E0D1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F0F-A3A9-4A9B-B85F-80D4C6E1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168-CB44-4A6D-9C09-6FED3A69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63E-006D-45BA-83C0-79C5B2DD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E26-436C-49B5-9F5D-67E7A541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7A0-91AB-451F-B5AA-D6D8AA56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5EA-FEB6-4ECA-88E4-1EA4F4D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D32-B947-479F-8C14-E35A47E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77DA-8220-4518-921F-DBF8F91804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DB0-DB4E-45A8-9B3A-42A42BDBB5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slide-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slide-1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slide-1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slide-1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slide-1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slide-1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slide-1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slide-1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slide-1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slide-1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slide-1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slide-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slide-2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slide-2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slide-2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slide-2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slide-2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slide-2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slide-2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slide-2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slide-2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slide-2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slide-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slide-3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slide-3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slide-3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slide-3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slide-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slide-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slide-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slide-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slide-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slide-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16:10:00Z</dcterms:created>
  <dc:creator>陈魁</dc:creator>
  <dc:description/>
  <dc:language>en-US</dc:language>
  <cp:lastModifiedBy>for_yang@qq.com</cp:lastModifiedBy>
  <dcterms:modified xsi:type="dcterms:W3CDTF">2014-07-19T08:04:5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