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EDB-CA9F-401F-ABBA-8D9999F7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8D9-A3DF-43B6-8530-1EC87D20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C47-A732-4363-A8A0-DD777527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D81-8C94-4AB5-9DED-09BA34EA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68F-FABA-43BD-8875-51C345C5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B17-B838-4F27-8C56-16E19E63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2EE-91B4-4E6F-AFCF-559283D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33C-52A9-4CFE-8A0A-33D99E0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AF0-2167-4947-A1D4-9B565370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8C6-01C7-4B56-AEF7-0716A984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521-BCA1-4655-8A08-EF64C67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D58-DAB1-473B-A630-1C01BFD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82BF-7CC2-43BE-944D-72072CCD5F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C376-8D06-480A-8736-C25CAE60F4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slide-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slide-1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slide-1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slide-1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slide-1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slide-1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slide-1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slide-1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slide-1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slide-1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slide-1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slide-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slide-2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slide-2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slide-2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slide-2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slide-2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slide-2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slide-2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slide-2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slide-2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slide-2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slide-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slide-30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slide-31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slide-32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slide-33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slide-4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slide-5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slide-6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slide-7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slide-8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slide-9-1024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6:10:00Z</dcterms:created>
  <dc:creator>陈魁</dc:creator>
  <dc:description/>
  <dc:language>en-US</dc:language>
  <cp:lastModifiedBy>for_yang@qq.com</cp:lastModifiedBy>
  <dcterms:modified xsi:type="dcterms:W3CDTF">2014-07-19T08:04:5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