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B7266-10FF-482B-BC4E-E5AE13E85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6CD0-0604-484D-92B6-EA7F15724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C062B-A1F8-473E-A845-7C3E0B882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F0DB-A191-4DCE-A1BD-250DA488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6E94-54FF-4425-BFCC-847E087B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3DD95-398A-44E1-A5F2-D06E18C81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778F-8A98-4B9E-9619-091B75F0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21F2-DD18-46D9-AB53-6F81725C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2D43D-A55F-4447-ADB9-AB7DD785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824CE-484F-4C8F-9ED1-395EEC69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F8E9-F511-4754-94A4-6DD52CDA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5E20-AA22-4805-B0E0-76C23BFE2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95DBE94-7C77-4E94-8D1C-91CCC74F35E1}" type="datetime">
              <a:rPr b="0" lang="zh-CN" sz="1200" spc="-1" strike="noStrike">
                <a:solidFill>
                  <a:srgbClr val="898989"/>
                </a:solidFill>
                <a:latin typeface="Calibri"/>
                <a:ea typeface="微软雅黑"/>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F7A20BC-5299-4F4C-A3B7-179708DE0A4D}"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