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42B-919C-44B0-9A8E-1142D2C4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F53-E609-40B7-B605-11F3CC5F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B2B-91DD-43C2-BE84-AEE33CA1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B14-5A0B-432B-A648-16771C23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647-E8F3-43C4-8969-0A372870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406-A4F4-4B91-957D-D2133CE5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BFD-795E-472F-8386-17743589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D05-9800-4F6C-A48B-DA53EE95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AEA-8CAE-4E81-A582-E2A9072E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EE7-20E9-40DF-839A-210CC20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784-004F-4BD9-A0A9-F2C1402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23E-561A-482A-A764-7A97D7F5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46B2-01CD-4140-AF55-EACD037BC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2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76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6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" descr="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99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3" dur="99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7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4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9" dur="99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dc:language>en-US</dc:language>
  <cp:lastModifiedBy/>
  <dcterms:modified xsi:type="dcterms:W3CDTF">2014-04-24T11:51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