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582-899D-42E3-A14A-A948B12F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ED5-2907-49C8-9AF4-C6E34616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0B0-4224-426C-912A-0CA67AFD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96F-2EEC-4A2F-AEF3-C7156E8F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95F-0D9D-4AB6-ABB6-BE19C419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F94-C5CB-423F-AA68-18AA31F7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1EE-4E7A-4030-8B52-4EC1C7E9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E0C-8EC6-440D-A9A6-BE97F149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8BF3-5BA9-434A-A5F3-A3150747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FEC-9506-46A3-93FA-7C66A014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4E9-D14D-4F34-9C91-4D7171CB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27C-C0B1-4BB7-804D-DBC47578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5FA1-C909-47C6-A7DF-FDFD23A8CC93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214B-035C-425A-A829-2DB44ED349C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488160"/>
            <a:chOff x="2916360" y="1522440"/>
            <a:chExt cx="1206360" cy="48816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77948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清风素材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" name="[][好歌推荐]首首令你惊艳的极品音乐精选_自定义转码_纯音频输出.WMA" descr=""/>
          <p:cNvPicPr/>
          <p:nvPr/>
        </p:nvPicPr>
        <p:blipFill>
          <a:blip r:embed="rId1"/>
          <a:stretch/>
        </p:blipFill>
        <p:spPr>
          <a:xfrm>
            <a:off x="-584280" y="1359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4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5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5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8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1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4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6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2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2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5" dur="21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8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9" dur="250" autoRev="1" fill="hold"/>
                                        <p:tgtEl>
                                          <p:spTgt spid="4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3" dur="250" autoRev="1" fill="hold"/>
                                        <p:tgtEl>
                                          <p:spTgt spid="4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7" dur="250" autoRev="1" fill="hold"/>
                                        <p:tgtEl>
                                          <p:spTgt spid="4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4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8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9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3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7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8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80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2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3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4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8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1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9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0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6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2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2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72" dur="21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8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6" dur="250" autoRev="1" fill="hold"/>
                                        <p:tgtEl>
                                          <p:spTgt spid="5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0" dur="250" autoRev="1" fill="hold"/>
                                        <p:tgtEl>
                                          <p:spTgt spid="5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9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4" dur="250" autoRev="1" fill="hold"/>
                                        <p:tgtEl>
                                          <p:spTgt spid="5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8" dur="250" autoRev="1" fill="hold"/>
                                        <p:tgtEl>
                                          <p:spTgt spid="5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1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2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4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7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8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0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4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0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5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6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8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9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1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2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nodeType="clickEffect" fill="hold">
                      <p:stCondLst>
                        <p:cond delay="0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5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nodeType="clickEffect" fill="hold">
                      <p:stCondLst>
                        <p:cond delay="0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0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6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2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8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8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1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4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7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2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2" dur="21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8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9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3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7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0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1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nodeType="clickEffect" fill="hold">
                      <p:stCondLst>
                        <p:cond delay="0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0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3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4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7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8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0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2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7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2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nodeType="clickEffect" fill="hold">
                      <p:stCondLst>
                        <p:cond delay="0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1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1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1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1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7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8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9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00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2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3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4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7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9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20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3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6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7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9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30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3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6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7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9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40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3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6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nodeType="clickEffect" fill="hold">
                      <p:stCondLst>
                        <p:cond delay="0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6" dur="250" autoRev="1" fill="hold"/>
                                        <p:tgtEl>
                                          <p:spTgt spid="9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0" dur="250" autoRev="1" fill="hold"/>
                                        <p:tgtEl>
                                          <p:spTgt spid="9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4" dur="250" autoRev="1" fill="hold"/>
                                        <p:tgtEl>
                                          <p:spTgt spid="9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8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9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8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9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1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2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4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5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7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8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nodeType="clickEffect" fill="hold">
                      <p:stCondLst>
                        <p:cond delay="0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6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6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2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2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1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5" dur="2100" fill="hold"/>
                                        <p:tgtEl>
                                          <p:spTgt spid="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18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9" dur="250" autoRev="1" fill="hold"/>
                                        <p:tgtEl>
                                          <p:spTgt spid="9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3" dur="250" autoRev="1" fill="hold"/>
                                        <p:tgtEl>
                                          <p:spTgt spid="9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7" dur="250" autoRev="1" fill="hold"/>
                                        <p:tgtEl>
                                          <p:spTgt spid="9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1" dur="250" autoRev="1" fill="hold"/>
                                        <p:tgtEl>
                                          <p:spTgt spid="9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2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9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1000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nodeType="clickEffect" fill="hold">
                      <p:stCondLst>
                        <p:cond delay="0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1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4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5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6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9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2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4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5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6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8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nodeType="clickEffect" fill="hold">
                      <p:stCondLst>
                        <p:cond delay="0"/>
                      </p:stCondLst>
                      <p:childTnLst>
                        <p:par>
                          <p:cTn id="1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4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5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7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8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0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1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3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4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6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7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9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2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3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5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6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8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9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1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nodeType="clickEffect" fill="hold">
                      <p:stCondLst>
                        <p:cond delay="0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7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8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9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00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3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4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6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6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7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8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0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1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3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4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5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6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8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9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40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1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4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5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8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9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50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3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4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7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nodeType="clickEffect" fill="hold">
                      <p:stCondLst>
                        <p:cond delay="0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0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3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1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3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4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5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7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8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9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2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3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6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nodeType="clickEffect" fill="hold">
                      <p:stCondLst>
                        <p:cond delay="0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2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3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9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10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6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7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8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5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6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3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9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30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2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3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5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6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8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nodeType="clickEffect" fill="hold">
                      <p:stCondLst>
                        <p:cond delay="0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0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6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3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nodeType="clickEffect" fill="hold">
                      <p:stCondLst>
                        <p:cond delay="0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4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8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3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4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6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7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8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9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2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3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6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7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0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1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4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nodeType="clickEffect" fill="hold">
                      <p:stCondLst>
                        <p:cond delay="0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8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9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凡商务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1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2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3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nodeType="clickEffect" fill="hold">
                      <p:stCondLst>
                        <p:cond delay="0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12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2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2" dur="6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6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8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801" dur="2100" fill="hold"/>
                                        <p:tgtEl>
                                          <p:spTgt spid="1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4" dur="18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8" dur="12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7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9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9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8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9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4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60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1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5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6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9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2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3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6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1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0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1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4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7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30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2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4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清风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3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dc:language>en-US</dc:language>
  <cp:lastModifiedBy>admin</cp:lastModifiedBy>
  <dcterms:modified xsi:type="dcterms:W3CDTF">2016-05-09T00:43:50Z</dcterms:modified>
  <cp:revision>8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