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2D5-208D-4D2A-9B32-7DA6CAE4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1F3-94F2-40C3-AEBF-839D2F9D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FB1-D7D1-47F4-B947-BDD34577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A4C-DC37-4297-9111-BA6FB1F6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E56-D87F-472E-A547-5FEC4DC5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A59-1B98-4E2F-AE4B-F28BC00C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924-2F16-4F4C-8405-A88DBEB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A52-9B29-44C3-B32E-B20E5FD6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695-FF27-4D84-B52B-5151D984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F06-1178-40C1-80B0-F450518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97C-4D83-4E55-8427-380AD68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605-1895-479E-A010-9A3AE021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4673-F778-4444-8556-983A65F4AD99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34B4-3A52-422F-808F-F28315711A9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风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[][好歌推荐]首首令你惊艳的极品音乐精选_自定义转码_纯音频输出.WMA" descr=""/>
          <p:cNvPicPr/>
          <p:nvPr/>
        </p:nvPicPr>
        <p:blipFill>
          <a:blip r:embed="rId1"/>
          <a:stretch/>
        </p:blipFill>
        <p:spPr>
          <a:xfrm>
            <a:off x="-584280" y="1359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4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5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5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8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1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4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6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5" dur="21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4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25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7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8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9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8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8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1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9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0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6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72" dur="21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5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0" dur="250" autoRev="1" fill="hold"/>
                                        <p:tgtEl>
                                          <p:spTgt spid="5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9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250" autoRev="1" fill="hold"/>
                                        <p:tgtEl>
                                          <p:spTgt spid="5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250" autoRev="1" fill="hold"/>
                                        <p:tgtEl>
                                          <p:spTgt spid="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1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2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7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6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9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2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5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2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8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8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1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4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7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2" dur="21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8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9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3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7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1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0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0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3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4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7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8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0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7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1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1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1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0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7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9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20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3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6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7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9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30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3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7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40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6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0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6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0" dur="250" autoRev="1" fill="hold"/>
                                        <p:tgtEl>
                                          <p:spTgt spid="9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4" dur="250" autoRev="1" fill="hold"/>
                                        <p:tgtEl>
                                          <p:spTgt spid="9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0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6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2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2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5" dur="21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8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9" dur="250" autoRev="1" fill="hold"/>
                                        <p:tgtEl>
                                          <p:spTgt spid="9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3" dur="250" autoRev="1" fill="hold"/>
                                        <p:tgtEl>
                                          <p:spTgt spid="9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7" dur="250" autoRev="1" fill="hold"/>
                                        <p:tgtEl>
                                          <p:spTgt spid="9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1" dur="250" autoRev="1" fill="hold"/>
                                        <p:tgtEl>
                                          <p:spTgt spid="9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2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1000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0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4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5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6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9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2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6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4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5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8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1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4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7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2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3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5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6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8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9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1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nodeType="clickEffect" fill="hold">
                      <p:stCondLst>
                        <p:cond delay="0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0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6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7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8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0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1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3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4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5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6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9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40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1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5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8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9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50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4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7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1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3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4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5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7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8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9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2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3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6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nodeType="clickEffect" fill="hold">
                      <p:stCondLst>
                        <p:cond delay="0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2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3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9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10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6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7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8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5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6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3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9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30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2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3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5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6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8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nodeType="clickEffect" fill="hold">
                      <p:stCondLst>
                        <p:cond delay="0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nodeType="clickEffect" fill="hold">
                      <p:stCondLst>
                        <p:cond delay="0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8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3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4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6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7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8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9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2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3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6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7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0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1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4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nodeType="clickEffect" fill="hold">
                      <p:stCondLst>
                        <p:cond delay="0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9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2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3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nodeType="clickEffect" fill="hold">
                      <p:stCondLst>
                        <p:cond delay="0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6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6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8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801" dur="2100" fill="hold"/>
                                        <p:tgtEl>
                                          <p:spTgt spid="1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18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8" dur="12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7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9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9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8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9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4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60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1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5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6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9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2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3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6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1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0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1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4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7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30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4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dc:language>en-US</dc:language>
  <cp:lastModifiedBy>admin</cp:lastModifiedBy>
  <dcterms:modified xsi:type="dcterms:W3CDTF">2016-05-09T00:43:50Z</dcterms:modified>
  <cp:revision>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