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2.jpeg" ContentType="image/jpeg"/>
  <Override PartName="/ppt/media/image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6D13-E700-491C-AC29-C85CD99BC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BEC-7D77-43CE-BBBB-B03DB41A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898BE7-223E-4265-8FEF-337FFE9C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F0BFC-ED17-425E-9FE6-340B1EA6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41DFA-773C-4912-8E20-592BFECF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9DCE8-E8DA-4EF9-8D03-8972C6F2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F50D2E-787E-4970-BF59-D755A690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65241B-7D9A-4142-8CB1-CAB1E535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ED8FA-FCAE-4402-AA2C-3E43C2A0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C9586-46B0-4747-B8B5-3BED97FC8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693570-8807-40B2-A52B-5D71A4F55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04F04F-8812-458A-9E0F-6E142F157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5CDA-71EF-427F-BCD1-83170ECED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33B4C0-DF78-456F-86E5-11CB7CD4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894CC-A649-4726-8A73-1680288C6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E310F-3992-4F54-B151-570A0B22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EF2B9-05D2-4A58-ADEE-B3382860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9C1C5-8FC4-4B49-94CC-934BDABF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431F8-B37F-4AA4-A37D-BFD00ADB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5FC797-D80A-42AA-AEAE-47CF5639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99A1E7-160F-4CF8-90A3-7BA79730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4BCC58-88F5-4603-BF26-E4D09216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C4BBA-346E-433F-8495-75AB9E646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5351-C276-4F4F-A614-7670B901A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BE1BB6-C01F-49E8-9E35-69B59A75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ED637-37D6-472A-8A33-EB847C084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8C315A-E583-4BB3-BF72-0ED9DD38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3FB6F0-4CA0-437C-8F55-86F0E9A4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5E1F11-FF5B-4032-8FB4-0046B397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FD98C-5436-452E-B3A2-CEFBDB761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D2E9C1-E3CA-4932-83CA-EBB2C167B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8AC0A5-002D-4608-8624-8F7468CB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7A8C4-F1E9-4998-8B3C-5B56B1980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71AF9-4718-4729-A034-A58AB6230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AF89-7CFB-4195-9E0C-2B43392F5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DFC5DF-4655-4ECD-93CB-184829996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48FE6C-C53C-48E9-96DB-1E69F0C78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5CE8C-CF0D-4CF1-AA73-1F79F15B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36A45-01A6-4D51-B497-4C12F26F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77C4F8-B591-4FBA-B748-92AA7A83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F4AC1C-1DDC-4B34-91B1-0FE18F2A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B5DA8-0A25-47BD-A3D9-C0243DC9E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6E6C9-E030-416A-A845-126780198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03EAB-CB02-4159-85BA-10E3D0E55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3BE37D-91B1-493E-8FA3-E7FDF966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31F9-B1F5-4574-8934-8465DB19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92BFB7-63B7-4112-A1E1-D4C7EC09F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13477F-D36B-466B-A2AE-5E6B44CE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8C1D6-A1E4-42BF-9699-1F4E076A5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808078-9E2A-4612-ADCD-AA489DB7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D10719-6DA8-4989-94C3-4A51638D7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F8049B-02FA-406D-BD8D-ABF4BF9D9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369691-E876-4C35-8ABA-DB3C6D5A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C02BE8-8C60-4A35-86CF-1B06A866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1D06BC-552B-4FA5-85BA-FFBC1E8F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63E2F5-D71A-49C6-8913-A2193D2C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DB57-B13D-47AF-9604-401E3BC1D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F12804-6B6E-4DC8-84B5-6197F817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1E0064-830C-4132-B710-8EF8D52D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5F33B-2E6D-4D07-81BD-9F58D749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3C2FA-3FB7-47AA-951D-3E3AD493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E18F82-56CD-431A-8145-4DA5E530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380523-6F71-49D5-85C8-FC55CC124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5E6196-A480-4116-9A8C-D9141C364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D89B-2C25-42BD-A77A-B9FBE17B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232C5-CE61-46E4-BCA4-D55FF8E1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FEFCD-8C5B-4E4F-A105-93B6BD82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D327-8535-41D4-A2B1-FCCEFF91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2089-6622-444D-BBCC-E7742AD0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F25FD-FB57-4638-A8A1-19458D9D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F613-C649-48CB-A48D-011DB3310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1C9D8-BB98-4BD5-9F0A-932A22FC8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EF928-CCF6-45B8-886B-4E16B47DC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5E910-6B15-46D1-BD5B-2F40AD55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4C058-BA9F-4BF3-84B1-B6D2F81AC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57814-E720-4645-B2B9-3189BA70D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FD3F4-CF4B-41E5-8F3F-F919B3FC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664A-A483-42BB-AF42-FBFB34E6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05C11-CBD6-40F0-B1E5-80A64C8C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ACE1-7ECA-4071-82AD-FEFE14E5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503B7-C63F-47E5-A164-3306BAF4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1859-11FF-4F79-8FF8-BD83B90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02189-0272-4A2B-A0BD-1B2568F9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4255F-B098-46F5-80FE-F0DE304C7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0B519F-C6E6-463C-A638-AC17D003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147A77-8DE2-49F6-A92C-B6F097A0A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8089-AE34-4BF1-B86B-466E547E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B47C5-8495-4F82-B23D-14FE6813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4FB81-0720-4F3E-819A-CA5394D72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D3CA36-A932-45FE-8A10-F86E48EC7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C9D4-D791-4686-8331-7FEBABA1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5B14F-87AC-4486-A161-512414B9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57B9CB-8958-444D-8A1E-10D2F49ED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B550D-43CC-4B79-8923-30B8BFA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1B015-193C-481B-A043-08386D8B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96F50-277A-4CBE-B67C-3DF12A1B1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20303-1C5D-4D3A-AB42-845062C3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18E56-062E-418B-A292-D2009733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24EA3-2F02-4D03-B176-8332ADEB6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6031A-4F3A-4FCF-843B-B50400677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DE6B5-96DB-49AB-84A9-884EEA7A9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6314-C080-4F63-85AE-3A696C020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3389A1-8ADF-40CC-B314-AB041BEC6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9EA08-713B-4980-A645-4EBA288E4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E1891-1052-44C6-842C-92EF45FF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D5A7-9A72-4D9C-808D-D58FEDFC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4B4CA-C52C-4957-99C2-33D14E4D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42584-86D7-4ECB-B7E0-FB79BD7D4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A56BF-076B-4386-A9F5-474A4CFBD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E7236-3CCB-41E7-AF0C-0A887B41A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84E34-87CB-4EEE-A3F4-E4D52EE5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A183CD-BE89-47B2-9700-2F5C155D6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6F7-D612-49E7-8337-601603DC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FFACF-FA3E-43DA-A45F-685320AA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D1473-7AC5-4077-A842-5305B528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175CC1-1D17-49DA-A216-57838D125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54A2D-EAA3-406D-8560-61F00E11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83331-A1EC-449E-B9FF-571C23E56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02799-042D-4BDF-B258-E2E765C1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7ADC8E-1D88-44C4-86F7-8B728D3F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89562-12A6-4388-A10F-6EED94593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56855-88EE-42D0-88E7-A137C8C6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B902BB-BF2E-4B15-B231-102457B4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EEC4-D460-42EB-902F-16F317F6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3F9A3-FE2F-4DCE-A533-AA0810828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8829B-E68F-4364-922A-47744B28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E444C3-0EA0-4F50-AFD1-383350C16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BB9E4-5C5C-42CB-AFDB-865C151D7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6252E-9910-4A87-AAA1-3047EFE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A2EF2-4AA6-411A-BBA9-E211BF6E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A8787-99CB-412A-9327-94179602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39A9C4-4B1D-4BCD-AFF9-ABEE13B4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A3AB7-A773-44C9-9E1F-E23B1A77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3224E6-B986-4704-9126-75F17669E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DADF-ABC2-4DDB-8C0B-59B8EF55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E471CF-D250-4C79-8435-A85AABE60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A72DF9-CAB9-4384-9AA4-2D79F51B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3BAEA-7D3D-4EC4-AE01-9BADCA7B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EC15F-B005-4170-A9E5-C4DA11F88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E64E6-509F-46F2-B8FD-F50DE32C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8EABFE-E083-48A7-BFBE-F36458A2D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79FFF3-821C-44BC-8A71-ABB9C7CFC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933D2C-FB5C-4429-BDD1-A5E6A2A03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FEF278-4B87-488C-AAB9-AD2A349D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E8623-1E09-4E95-AF04-834E6515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6814-FA5E-4ED4-8A96-65BC5BF2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4C93C9-ED06-48E5-916E-27FD8C1DB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6039FC-9D28-4763-87D5-7A98CA0B7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8D9BB-86FC-44C7-8A3A-6E6C082C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57864-19C2-406C-977E-A54942D3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B52176-4A83-43F1-B819-FEC1D205C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49863D-BB12-4C13-8B50-86B4324A8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FFC49-A598-4812-8558-7979140EF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7D3A1-95D3-49E9-827E-73916D6CD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C2DBF0-A93E-4EE9-A599-CDE69F08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DD1A1C-91E4-492B-A59F-D478955F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D1769-2642-4161-937C-3A1389D7914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2CFA-C64F-4E34-8DA0-4C24DFCA87A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35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37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38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39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0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B5325-D3EE-4D23-A77A-32DF24AAB89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55FE-0736-4FE0-95A2-65AED9C96BD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4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486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487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488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9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dt" idx="3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2831-632D-40B8-A73D-D2B9AB3EAE3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ftr" idx="3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sldNum" idx="3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CAE0-0614-41DB-BEF2-226E98F159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33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35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36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37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8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221F-37CD-431F-B3F7-41DBF657E5F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F32EB-ED9B-49C7-AF3D-FFDC1B3A46B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58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8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8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8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3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44C8-01D7-499C-AC12-2D192F09A90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3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3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ED22-BF05-4970-84C5-F5718E71324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FAC1-22E8-42D2-BFAF-2F88EED3082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982-C727-4D61-B4C7-D9F4AAD595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4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5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5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92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94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95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96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1A2D3-F20C-4F5D-AD23-51C23C66615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A0BE-D974-420E-B91A-F9CD6AFFB9B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41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43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44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45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85BC-9638-4BC0-8F0D-EC93CA859CF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C5F3-21BC-4201-B958-00C22F9469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190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193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194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5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6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72977-1DD8-4232-811D-3BBA5B3F83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10DC-1D8F-4E16-8FAE-5CB2F822AD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39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42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43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5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CC9-0187-4908-B414-CB16446E8C9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BC0C-133B-4398-BB09-BF3CD98CB24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288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290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291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292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3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E6E-C8FD-47F2-B851-AD3FF5B958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7ADC-56E8-414F-90E3-61D91DD513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37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39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40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41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8BCC-E81F-40BF-9192-34C6D72337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 type="sldNum" idx="2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A92F5-D0DA-4860-A6CD-8353E4F453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图片 6" descr=""/>
          <p:cNvPicPr/>
          <p:nvPr/>
        </p:nvPicPr>
        <p:blipFill>
          <a:blip r:embed="rId2"/>
          <a:stretch/>
        </p:blipFill>
        <p:spPr>
          <a:xfrm>
            <a:off x="625320" y="237960"/>
            <a:ext cx="8194680" cy="3597480"/>
          </a:xfrm>
          <a:prstGeom prst="rect">
            <a:avLst/>
          </a:prstGeom>
          <a:ln w="0">
            <a:noFill/>
          </a:ln>
        </p:spPr>
      </p:pic>
      <p:sp>
        <p:nvSpPr>
          <p:cNvPr id="386" name="直接连接符 7"/>
          <p:cNvSpPr/>
          <p:nvPr/>
        </p:nvSpPr>
        <p:spPr>
          <a:xfrm>
            <a:off x="0" y="3867120"/>
            <a:ext cx="9144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"/>
          <p:cNvPicPr/>
          <p:nvPr/>
        </p:nvPicPr>
        <p:blipFill>
          <a:blip r:embed="rId3"/>
          <a:stretch/>
        </p:blipFill>
        <p:spPr>
          <a:xfrm>
            <a:off x="2730600" y="3998880"/>
            <a:ext cx="3773520" cy="582480"/>
          </a:xfrm>
          <a:prstGeom prst="rect">
            <a:avLst/>
          </a:prstGeom>
          <a:ln w="0">
            <a:noFill/>
          </a:ln>
        </p:spPr>
      </p:pic>
      <p:grpSp>
        <p:nvGrpSpPr>
          <p:cNvPr id="388" name="组合 9"/>
          <p:cNvGrpSpPr/>
          <p:nvPr/>
        </p:nvGrpSpPr>
        <p:grpSpPr>
          <a:xfrm>
            <a:off x="2987640" y="4562640"/>
            <a:ext cx="2952720" cy="212400"/>
            <a:chOff x="2987640" y="4562640"/>
            <a:chExt cx="2952720" cy="212400"/>
          </a:xfrm>
        </p:grpSpPr>
        <p:grpSp>
          <p:nvGrpSpPr>
            <p:cNvPr id="389" name="圆角矩形 10"/>
            <p:cNvGrpSpPr/>
            <p:nvPr/>
          </p:nvGrpSpPr>
          <p:grpSpPr>
            <a:xfrm>
              <a:off x="2987640" y="4562640"/>
              <a:ext cx="2073960" cy="212400"/>
              <a:chOff x="2987640" y="4562640"/>
              <a:chExt cx="2073960" cy="212400"/>
            </a:xfrm>
          </p:grpSpPr>
          <p:pic>
            <p:nvPicPr>
              <p:cNvPr id="390" name="圆角矩形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2987640" y="4562640"/>
                <a:ext cx="2073960" cy="21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"/>
              <p:cNvSpPr/>
              <p:nvPr/>
            </p:nvSpPr>
            <p:spPr>
              <a:xfrm>
                <a:off x="2994120" y="4570560"/>
                <a:ext cx="2062440" cy="20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200" spc="-1" strike="noStrike">
                    <a:solidFill>
                      <a:srgbClr val="595959"/>
                    </a:solidFill>
                    <a:latin typeface="微软雅黑"/>
                    <a:ea typeface="微软雅黑"/>
                  </a:rPr>
                  <a:t>教程网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矩形 11"/>
            <p:cNvSpPr/>
            <p:nvPr/>
          </p:nvSpPr>
          <p:spPr>
            <a:xfrm>
              <a:off x="5173920" y="4570560"/>
              <a:ext cx="766440" cy="200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12600">
              <a:solidFill>
                <a:srgbClr val="a6a6a6"/>
              </a:solidFill>
              <a:miter/>
            </a:ln>
            <a:effectLst>
              <a:outerShdw dist="12600" dir="5400000" blurRad="0" rotWithShape="0">
                <a:srgbClr val="000000">
                  <a:alpha val="1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404040"/>
                  </a:solidFill>
                  <a:latin typeface="微软雅黑"/>
                  <a:ea typeface="微软雅黑"/>
                </a:rPr>
                <a:t>百度一下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BB09-B1DC-43FC-A525-47B958310AB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0E4E2-541C-469F-9F68-2E4EEC8967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image" Target="../media/image6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media1.mp3" descr=""/>
          <p:cNvPicPr/>
          <p:nvPr/>
        </p:nvPicPr>
        <p:blipFill>
          <a:blip r:embed="rId1"/>
          <a:stretch/>
        </p:blipFill>
        <p:spPr>
          <a:xfrm>
            <a:off x="9683640" y="28440"/>
            <a:ext cx="609840" cy="609840"/>
          </a:xfrm>
          <a:prstGeom prst="rect">
            <a:avLst/>
          </a:prstGeom>
          <a:ln w="0">
            <a:noFill/>
          </a:ln>
        </p:spPr>
      </p:pic>
      <p:grpSp>
        <p:nvGrpSpPr>
          <p:cNvPr id="631" name="Group 3"/>
          <p:cNvGrpSpPr/>
          <p:nvPr/>
        </p:nvGrpSpPr>
        <p:grpSpPr>
          <a:xfrm>
            <a:off x="2837160" y="1225440"/>
            <a:ext cx="3469680" cy="2636640"/>
            <a:chOff x="2837160" y="1225440"/>
            <a:chExt cx="3469680" cy="2636640"/>
          </a:xfrm>
        </p:grpSpPr>
        <p:sp>
          <p:nvSpPr>
            <p:cNvPr id="632" name="矩形 9"/>
            <p:cNvSpPr/>
            <p:nvPr/>
          </p:nvSpPr>
          <p:spPr>
            <a:xfrm>
              <a:off x="2908800" y="1225440"/>
              <a:ext cx="332640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600" spc="-1" strike="noStrike">
                  <a:solidFill>
                    <a:srgbClr val="000000"/>
                  </a:solidFill>
                  <a:latin typeface="Calibri"/>
                </a:rPr>
                <a:t>A PROFIL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矩形 10"/>
            <p:cNvSpPr/>
            <p:nvPr/>
          </p:nvSpPr>
          <p:spPr>
            <a:xfrm>
              <a:off x="2837160" y="1722960"/>
              <a:ext cx="346968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c00000"/>
                  </a:solidFill>
                  <a:latin typeface="Calibri"/>
                </a:rPr>
                <a:t>INSER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矩形 11"/>
            <p:cNvSpPr/>
            <p:nvPr/>
          </p:nvSpPr>
          <p:spPr>
            <a:xfrm>
              <a:off x="2877480" y="2626560"/>
              <a:ext cx="33886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e36c09"/>
                  </a:solidFill>
                  <a:latin typeface="Calibri"/>
                </a:rPr>
                <a:t>YOUR NAM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矩形 12"/>
            <p:cNvSpPr/>
            <p:nvPr/>
          </p:nvSpPr>
          <p:spPr>
            <a:xfrm>
              <a:off x="2869200" y="3097800"/>
              <a:ext cx="34056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000000"/>
                  </a:solidFill>
                  <a:latin typeface="Calibri"/>
                </a:rPr>
                <a:t>FOR EXEMPL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6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3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17" dur="2200" fill="hold"/>
                                        <p:tgtEl>
                                          <p:spTgt spid="6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2" name="Group 2"/>
          <p:cNvGrpSpPr/>
          <p:nvPr/>
        </p:nvGrpSpPr>
        <p:grpSpPr>
          <a:xfrm>
            <a:off x="2340000" y="482760"/>
            <a:ext cx="144360" cy="3384360"/>
            <a:chOff x="2340000" y="482760"/>
            <a:chExt cx="144360" cy="3384360"/>
          </a:xfrm>
        </p:grpSpPr>
        <p:sp>
          <p:nvSpPr>
            <p:cNvPr id="813" name="矩形 3"/>
            <p:cNvSpPr/>
            <p:nvPr/>
          </p:nvSpPr>
          <p:spPr>
            <a:xfrm>
              <a:off x="2340000" y="482760"/>
              <a:ext cx="46440" cy="3384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矩形 4"/>
            <p:cNvSpPr/>
            <p:nvPr/>
          </p:nvSpPr>
          <p:spPr>
            <a:xfrm>
              <a:off x="2340720" y="48276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矩形 5"/>
            <p:cNvSpPr/>
            <p:nvPr/>
          </p:nvSpPr>
          <p:spPr>
            <a:xfrm>
              <a:off x="2340720" y="214128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矩形 6"/>
            <p:cNvSpPr/>
            <p:nvPr/>
          </p:nvSpPr>
          <p:spPr>
            <a:xfrm>
              <a:off x="2340720" y="3795120"/>
              <a:ext cx="143640" cy="7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7" name="矩形 8"/>
          <p:cNvSpPr/>
          <p:nvPr/>
        </p:nvSpPr>
        <p:spPr>
          <a:xfrm>
            <a:off x="2581560" y="3795840"/>
            <a:ext cx="400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CREASE YOUR S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10"/>
          <p:cNvSpPr/>
          <p:nvPr/>
        </p:nvSpPr>
        <p:spPr>
          <a:xfrm>
            <a:off x="2728800" y="-73656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20"/>
          <p:cNvSpPr/>
          <p:nvPr/>
        </p:nvSpPr>
        <p:spPr>
          <a:xfrm>
            <a:off x="3351240" y="-12445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30"/>
          <p:cNvSpPr/>
          <p:nvPr/>
        </p:nvSpPr>
        <p:spPr>
          <a:xfrm>
            <a:off x="4007880" y="-1528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40"/>
          <p:cNvSpPr/>
          <p:nvPr/>
        </p:nvSpPr>
        <p:spPr>
          <a:xfrm>
            <a:off x="4647600" y="-188604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50"/>
          <p:cNvSpPr/>
          <p:nvPr/>
        </p:nvSpPr>
        <p:spPr>
          <a:xfrm>
            <a:off x="5295960" y="-234792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60"/>
          <p:cNvSpPr/>
          <p:nvPr/>
        </p:nvSpPr>
        <p:spPr>
          <a:xfrm>
            <a:off x="5933520" y="-2681280"/>
            <a:ext cx="4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1"/>
          <p:cNvSpPr/>
          <p:nvPr/>
        </p:nvSpPr>
        <p:spPr>
          <a:xfrm>
            <a:off x="2725560" y="3363840"/>
            <a:ext cx="503280" cy="4683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2"/>
          <p:cNvSpPr/>
          <p:nvPr/>
        </p:nvSpPr>
        <p:spPr>
          <a:xfrm>
            <a:off x="3348000" y="2860560"/>
            <a:ext cx="503280" cy="9716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3"/>
          <p:cNvSpPr/>
          <p:nvPr/>
        </p:nvSpPr>
        <p:spPr>
          <a:xfrm>
            <a:off x="3995640" y="2571840"/>
            <a:ext cx="505080" cy="12603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4"/>
          <p:cNvSpPr/>
          <p:nvPr/>
        </p:nvSpPr>
        <p:spPr>
          <a:xfrm>
            <a:off x="4643280" y="2214720"/>
            <a:ext cx="505080" cy="16174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5"/>
          <p:cNvSpPr/>
          <p:nvPr/>
        </p:nvSpPr>
        <p:spPr>
          <a:xfrm>
            <a:off x="5292720" y="1779480"/>
            <a:ext cx="503280" cy="205272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6"/>
          <p:cNvSpPr/>
          <p:nvPr/>
        </p:nvSpPr>
        <p:spPr>
          <a:xfrm>
            <a:off x="5940360" y="1419120"/>
            <a:ext cx="504720" cy="24130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2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2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5" dur="2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2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2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2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4" dur="2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2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61111E-006 0.70802 L 0.00052 0.79506 E">
                                      <p:cBhvr>
                                        <p:cTn id="939" dur="100" fill="hold"/>
                                        <p:tgtEl>
                                          <p:spTgt spid="8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1" dur="200" fill="hold"/>
                                        <p:tgtEl>
                                          <p:spTgt spid="818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43" dur="100" fill="hold"/>
                                        <p:tgtEl>
                                          <p:spTgt spid="818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44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8.33333E-007 0.70802 L 0.00052 0.79506 E">
                                      <p:cBhvr>
                                        <p:cTn id="945" dur="100" fill="hold"/>
                                        <p:tgtEl>
                                          <p:spTgt spid="8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46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47" dur="200" fill="hold"/>
                                        <p:tgtEl>
                                          <p:spTgt spid="819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4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49" dur="100" fill="hold"/>
                                        <p:tgtEl>
                                          <p:spTgt spid="81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0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5.55556E-007 0.70803 L 0.00052 0.79507 E">
                                      <p:cBhvr>
                                        <p:cTn id="951" dur="100" fill="hold"/>
                                        <p:tgtEl>
                                          <p:spTgt spid="8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953" dur="200" fill="hold"/>
                                        <p:tgtEl>
                                          <p:spTgt spid="82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5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55" dur="100" fill="hold"/>
                                        <p:tgtEl>
                                          <p:spTgt spid="820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56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16667E-006 0.70802 L 0.00052 0.79506 E">
                                      <p:cBhvr>
                                        <p:cTn id="957" dur="100" fill="hold"/>
                                        <p:tgtEl>
                                          <p:spTgt spid="8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8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59" dur="200" fill="hold"/>
                                        <p:tgtEl>
                                          <p:spTgt spid="821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61" dur="100" fill="hold"/>
                                        <p:tgtEl>
                                          <p:spTgt spid="82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2.77778E-006 0.70803 L 0.00052 0.79507 E">
                                      <p:cBhvr>
                                        <p:cTn id="963" dur="100" fill="hold"/>
                                        <p:tgtEl>
                                          <p:spTgt spid="8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4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965" dur="200" fill="hold"/>
                                        <p:tgtEl>
                                          <p:spTgt spid="82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66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967" dur="100" fill="hold"/>
                                        <p:tgtEl>
                                          <p:spTgt spid="822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68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8.33333E-007 0.70802 L 0.00052 0.79506 E">
                                      <p:cBhvr>
                                        <p:cTn id="969" dur="100" fill="hold"/>
                                        <p:tgtEl>
                                          <p:spTgt spid="8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0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71" dur="200" fill="hold"/>
                                        <p:tgtEl>
                                          <p:spTgt spid="82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972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973" dur="100" fill="hold"/>
                                        <p:tgtEl>
                                          <p:spTgt spid="823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8" dur="1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980" dur="3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981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982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983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984" dur="200" fill="hold"/>
                                        <p:tgtEl>
                                          <p:spTgt spid="8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985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986" dur="100" fill="hold"/>
                                        <p:tgtEl>
                                          <p:spTgt spid="8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9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矩形 1"/>
          <p:cNvSpPr/>
          <p:nvPr/>
        </p:nvSpPr>
        <p:spPr>
          <a:xfrm>
            <a:off x="495360" y="1509840"/>
            <a:ext cx="8143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NEED TO KNOW MOR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ABOUT ME 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  <p:timing>
    <p:tnLst>
      <p:par>
        <p:cTn id="990" dur="indefinite" restart="never" nodeType="tmRoot">
          <p:childTnLst>
            <p:seq>
              <p:cTn id="991" dur="indefinite" nodeType="mainSeq">
                <p:childTnLst>
                  <p:par>
                    <p:cTn id="992" nodeType="clickEffect" fill="hold">
                      <p:stCondLst>
                        <p:cond delay="0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8" dur="1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1000" dur="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01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1002" dur="1200" fill="hold"/>
                                        <p:tgtEl>
                                          <p:spTgt spid="83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矩形 1"/>
          <p:cNvSpPr/>
          <p:nvPr/>
        </p:nvSpPr>
        <p:spPr>
          <a:xfrm>
            <a:off x="1752840" y="2017800"/>
            <a:ext cx="5638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alibri"/>
              </a:rPr>
              <a:t>CONTACT ME 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nodeType="clickEffect" fill="hold">
                      <p:stCondLst>
                        <p:cond delay="0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1" dur="1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1013" dur="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014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1015" dur="1200" fill="hold"/>
                                        <p:tgtEl>
                                          <p:spTgt spid="83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矩形 1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nodeType="clickEffect" fill="hold">
                      <p:stCondLst>
                        <p:cond delay="0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path" presetID="64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27" dur="300" fill="hold"/>
                                        <p:tgtEl>
                                          <p:spTgt spid="8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矩形 2"/>
          <p:cNvSpPr/>
          <p:nvPr/>
        </p:nvSpPr>
        <p:spPr>
          <a:xfrm>
            <a:off x="1022760" y="2109960"/>
            <a:ext cx="709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wangpengsos@126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同心圆 3"/>
          <p:cNvSpPr/>
          <p:nvPr/>
        </p:nvSpPr>
        <p:spPr>
          <a:xfrm>
            <a:off x="5435640" y="1060560"/>
            <a:ext cx="1103400" cy="1101600"/>
          </a:xfrm>
          <a:custGeom>
            <a:avLst/>
            <a:gdLst>
              <a:gd name="textAreaLeft" fmla="*/ 161280 w 1103400"/>
              <a:gd name="textAreaRight" fmla="*/ 942120 w 1103400"/>
              <a:gd name="textAreaTop" fmla="*/ 161280 h 1101600"/>
              <a:gd name="textAreaBottom" fmla="*/ 940320 h 1101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同心圆 4"/>
          <p:cNvSpPr/>
          <p:nvPr/>
        </p:nvSpPr>
        <p:spPr>
          <a:xfrm>
            <a:off x="3635280" y="1611360"/>
            <a:ext cx="1513080" cy="1511280"/>
          </a:xfrm>
          <a:custGeom>
            <a:avLst/>
            <a:gdLst>
              <a:gd name="textAreaLeft" fmla="*/ 221400 w 1513080"/>
              <a:gd name="textAreaRight" fmla="*/ 1291680 w 1513080"/>
              <a:gd name="textAreaTop" fmla="*/ 221040 h 1511280"/>
              <a:gd name="textAreaBottom" fmla="*/ 12902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同心圆 5"/>
          <p:cNvSpPr/>
          <p:nvPr/>
        </p:nvSpPr>
        <p:spPr>
          <a:xfrm>
            <a:off x="1581120" y="2109960"/>
            <a:ext cx="1109520" cy="1109520"/>
          </a:xfrm>
          <a:custGeom>
            <a:avLst/>
            <a:gdLst>
              <a:gd name="textAreaLeft" fmla="*/ 162360 w 1109520"/>
              <a:gd name="textAreaRight" fmla="*/ 947160 w 1109520"/>
              <a:gd name="textAreaTop" fmla="*/ 162360 h 1109520"/>
              <a:gd name="textAreaBottom" fmla="*/ 947160 h 1109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同心圆 6"/>
          <p:cNvSpPr/>
          <p:nvPr/>
        </p:nvSpPr>
        <p:spPr>
          <a:xfrm>
            <a:off x="990720" y="2874960"/>
            <a:ext cx="1512720" cy="1512720"/>
          </a:xfrm>
          <a:custGeom>
            <a:avLst/>
            <a:gdLst>
              <a:gd name="textAreaLeft" fmla="*/ 221400 w 1512720"/>
              <a:gd name="textAreaRight" fmla="*/ 1291320 w 151272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同心圆 7"/>
          <p:cNvSpPr/>
          <p:nvPr/>
        </p:nvSpPr>
        <p:spPr>
          <a:xfrm>
            <a:off x="2411280" y="2181240"/>
            <a:ext cx="1908360" cy="1908000"/>
          </a:xfrm>
          <a:custGeom>
            <a:avLst/>
            <a:gdLst>
              <a:gd name="textAreaLeft" fmla="*/ 279360 w 1908360"/>
              <a:gd name="textAreaRight" fmla="*/ 1629000 w 1908360"/>
              <a:gd name="textAreaTop" fmla="*/ 279360 h 1908000"/>
              <a:gd name="textAreaBottom" fmla="*/ 1628640 h 1908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同心圆 8"/>
          <p:cNvSpPr/>
          <p:nvPr/>
        </p:nvSpPr>
        <p:spPr>
          <a:xfrm>
            <a:off x="6108840" y="1060560"/>
            <a:ext cx="1325520" cy="1323720"/>
          </a:xfrm>
          <a:custGeom>
            <a:avLst/>
            <a:gdLst>
              <a:gd name="textAreaLeft" fmla="*/ 194040 w 1325520"/>
              <a:gd name="textAreaRight" fmla="*/ 1131480 w 1325520"/>
              <a:gd name="textAreaTop" fmla="*/ 193680 h 1323720"/>
              <a:gd name="textAreaBottom" fmla="*/ 1130040 h 1323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同心圆 9"/>
          <p:cNvSpPr/>
          <p:nvPr/>
        </p:nvSpPr>
        <p:spPr>
          <a:xfrm>
            <a:off x="4861080" y="1541520"/>
            <a:ext cx="1677960" cy="1677960"/>
          </a:xfrm>
          <a:custGeom>
            <a:avLst/>
            <a:gdLst>
              <a:gd name="textAreaLeft" fmla="*/ 245520 w 1677960"/>
              <a:gd name="textAreaRight" fmla="*/ 1432440 w 1677960"/>
              <a:gd name="textAreaTop" fmla="*/ 245520 h 1677960"/>
              <a:gd name="textAreaBottom" fmla="*/ 1432440 h 1677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同心圆 10"/>
          <p:cNvSpPr/>
          <p:nvPr/>
        </p:nvSpPr>
        <p:spPr>
          <a:xfrm>
            <a:off x="623880" y="125100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同心圆 11"/>
          <p:cNvSpPr/>
          <p:nvPr/>
        </p:nvSpPr>
        <p:spPr>
          <a:xfrm>
            <a:off x="6099120" y="2006640"/>
            <a:ext cx="1511280" cy="1512720"/>
          </a:xfrm>
          <a:custGeom>
            <a:avLst/>
            <a:gdLst>
              <a:gd name="textAreaLeft" fmla="*/ 221040 w 1511280"/>
              <a:gd name="textAreaRight" fmla="*/ 1290240 w 1511280"/>
              <a:gd name="textAreaTop" fmla="*/ 221400 h 1512720"/>
              <a:gd name="textAreaBottom" fmla="*/ 129132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039" y="10800"/>
                </a:moveTo>
                <a:cubicBezTo>
                  <a:pt x="1039" y="16191"/>
                  <a:pt x="5409" y="20561"/>
                  <a:pt x="10800" y="20561"/>
                </a:cubicBezTo>
                <a:cubicBezTo>
                  <a:pt x="16191" y="20561"/>
                  <a:pt x="20561" y="16191"/>
                  <a:pt x="20561" y="10800"/>
                </a:cubicBezTo>
                <a:cubicBezTo>
                  <a:pt x="20561" y="5409"/>
                  <a:pt x="16191" y="1039"/>
                  <a:pt x="10800" y="1039"/>
                </a:cubicBezTo>
                <a:cubicBezTo>
                  <a:pt x="5409" y="1039"/>
                  <a:pt x="1039" y="5409"/>
                  <a:pt x="1039" y="10800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28" dur="indefinite" restart="never" nodeType="tmRoot">
          <p:childTnLst>
            <p:seq>
              <p:cTn id="1029" dur="indefinite" nodeType="mainSeq">
                <p:childTnLst>
                  <p:par>
                    <p:cTn id="1030" nodeType="clickEffect" fill="hold">
                      <p:stCondLst>
                        <p:cond delay="0"/>
                      </p:stCondLst>
                      <p:childTnLst>
                        <p:par>
                          <p:cTn id="1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8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9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300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4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045" dur="300" fill="hold"/>
                                        <p:tgtEl>
                                          <p:spTgt spid="8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6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047" dur="300" fill="hold"/>
                                        <p:tgtEl>
                                          <p:spTgt spid="8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4" dur="2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2" dur="2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0" dur="2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6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78" dur="2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0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6" dur="2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4" dur="2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0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02" dur="2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xit" presetID="10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0" dur="2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16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xit" presetID="10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18" dur="2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"/>
          <p:cNvSpPr/>
          <p:nvPr/>
        </p:nvSpPr>
        <p:spPr>
          <a:xfrm>
            <a:off x="2369160" y="2109960"/>
            <a:ext cx="44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 3634396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2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nodeType="clickEffect" fill="hold">
                      <p:stCondLst>
                        <p:cond delay="0"/>
                      </p:stCondLst>
                      <p:childTnLst>
                        <p:par>
                          <p:cTn id="1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25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3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31" dur="3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39" dur="300" fill="hold"/>
                                        <p:tgtEl>
                                          <p:spTgt spid="8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1851840" y="2109960"/>
            <a:ext cx="543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本视频由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PT2010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2"/>
          <p:cNvSpPr/>
          <p:nvPr/>
        </p:nvSpPr>
        <p:spPr>
          <a:xfrm>
            <a:off x="2405880" y="2109960"/>
            <a:ext cx="433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欢迎</a:t>
            </a: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QQ</a:t>
            </a:r>
            <a:r>
              <a:rPr b="1" lang="zh-CN" sz="5400" spc="-1" strike="noStrike">
                <a:solidFill>
                  <a:srgbClr val="000000"/>
                </a:solidFill>
                <a:latin typeface="Calibri"/>
              </a:rPr>
              <a:t>，邮件骚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Group 4"/>
          <p:cNvGrpSpPr/>
          <p:nvPr/>
        </p:nvGrpSpPr>
        <p:grpSpPr>
          <a:xfrm>
            <a:off x="1471680" y="2017800"/>
            <a:ext cx="5158440" cy="1099440"/>
            <a:chOff x="1471680" y="2017800"/>
            <a:chExt cx="5158440" cy="1099440"/>
          </a:xfrm>
        </p:grpSpPr>
        <p:pic>
          <p:nvPicPr>
            <p:cNvPr id="849" name="图片 5" descr=""/>
            <p:cNvPicPr/>
            <p:nvPr/>
          </p:nvPicPr>
          <p:blipFill>
            <a:blip r:embed="rId1"/>
            <a:srcRect l="0" t="10745" r="0" b="10745"/>
            <a:stretch/>
          </p:blipFill>
          <p:spPr>
            <a:xfrm>
              <a:off x="1471680" y="2111760"/>
              <a:ext cx="919800" cy="92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0" name="矩形 6"/>
            <p:cNvSpPr/>
            <p:nvPr/>
          </p:nvSpPr>
          <p:spPr>
            <a:xfrm>
              <a:off x="3431880" y="2017800"/>
              <a:ext cx="31982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000000"/>
                  </a:solidFill>
                  <a:latin typeface="Calibri"/>
                </a:rPr>
                <a:t>毛主席说我帅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0" dur="indefinite" restart="never" nodeType="tmRoot">
          <p:childTnLst>
            <p:seq>
              <p:cTn id="1141" dur="indefinite" nodeType="mainSeq">
                <p:childTnLst>
                  <p:par>
                    <p:cTn id="1142" nodeType="clickEffect" fill="hold">
                      <p:stCondLst>
                        <p:cond delay="0"/>
                      </p:stCondLst>
                      <p:childTnLst>
                        <p:par>
                          <p:cTn id="1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withEffect" fill="hold" presetClass="exit" presetID="17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45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300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69 0.00093 L -0.0007 0.02902 E">
                                      <p:cBhvr>
                                        <p:cTn id="1151" dur="3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entr" presetID="17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4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8" nodeType="withEffect" fill="hold" presetClass="path" presetID="64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0.00018 -0.01296 L 0.00087 0.00093 E">
                                      <p:cBhvr>
                                        <p:cTn id="1159" dur="300" fill="hold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exit" presetID="2" presetSubtype="4">
                                  <p:stCondLst>
                                    <p:cond delay="1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1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300"/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8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6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68" dur="1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1170" dur="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117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1172" dur="1200" fill="hold"/>
                                        <p:tgtEl>
                                          <p:spTgt spid="84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42840"/>
            <a:ext cx="8937360" cy="50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6" name="Group 2"/>
          <p:cNvGrpSpPr/>
          <p:nvPr/>
        </p:nvGrpSpPr>
        <p:grpSpPr>
          <a:xfrm>
            <a:off x="3008880" y="1758960"/>
            <a:ext cx="3126600" cy="1641240"/>
            <a:chOff x="3008880" y="1758960"/>
            <a:chExt cx="3126600" cy="1641240"/>
          </a:xfrm>
        </p:grpSpPr>
        <p:sp>
          <p:nvSpPr>
            <p:cNvPr id="637" name="矩形 4"/>
            <p:cNvSpPr/>
            <p:nvPr/>
          </p:nvSpPr>
          <p:spPr>
            <a:xfrm>
              <a:off x="3008880" y="1758960"/>
              <a:ext cx="3126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000000"/>
                  </a:solidFill>
                  <a:latin typeface="Calibri"/>
                </a:rPr>
                <a:t>WHAT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矩形 6"/>
            <p:cNvSpPr/>
            <p:nvPr/>
          </p:nvSpPr>
          <p:spPr>
            <a:xfrm>
              <a:off x="3274200" y="2757600"/>
              <a:ext cx="259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36c09"/>
                  </a:solidFill>
                  <a:latin typeface="Calibri"/>
                </a:rPr>
                <a:t>ABOUT ME 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9" name="同心圆 5"/>
          <p:cNvSpPr/>
          <p:nvPr/>
        </p:nvSpPr>
        <p:spPr>
          <a:xfrm>
            <a:off x="3713040" y="1722600"/>
            <a:ext cx="1702080" cy="1701720"/>
          </a:xfrm>
          <a:custGeom>
            <a:avLst/>
            <a:gdLst>
              <a:gd name="textAreaLeft" fmla="*/ 249120 w 1702080"/>
              <a:gd name="textAreaRight" fmla="*/ 1452960 w 1702080"/>
              <a:gd name="textAreaTop" fmla="*/ 249120 h 1701720"/>
              <a:gd name="textAreaBottom" fmla="*/ 1452600 h 1701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823" y="10800"/>
                </a:moveTo>
                <a:cubicBezTo>
                  <a:pt x="1823" y="15758"/>
                  <a:pt x="5842" y="19777"/>
                  <a:pt x="10800" y="19777"/>
                </a:cubicBezTo>
                <a:cubicBezTo>
                  <a:pt x="15758" y="19777"/>
                  <a:pt x="19777" y="15758"/>
                  <a:pt x="19777" y="10800"/>
                </a:cubicBezTo>
                <a:cubicBezTo>
                  <a:pt x="19777" y="5842"/>
                  <a:pt x="15758" y="1823"/>
                  <a:pt x="10800" y="1823"/>
                </a:cubicBezTo>
                <a:cubicBezTo>
                  <a:pt x="5842" y="1823"/>
                  <a:pt x="1823" y="5842"/>
                  <a:pt x="1823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同心圆 9"/>
          <p:cNvSpPr/>
          <p:nvPr/>
        </p:nvSpPr>
        <p:spPr>
          <a:xfrm>
            <a:off x="3635280" y="1644480"/>
            <a:ext cx="1855800" cy="1854360"/>
          </a:xfrm>
          <a:custGeom>
            <a:avLst/>
            <a:gdLst>
              <a:gd name="textAreaLeft" fmla="*/ 271800 w 1855800"/>
              <a:gd name="textAreaRight" fmla="*/ 1584000 w 1855800"/>
              <a:gd name="textAreaTop" fmla="*/ 271440 h 1854360"/>
              <a:gd name="textAreaBottom" fmla="*/ 1582920 h 1854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2" y="10800"/>
                </a:moveTo>
                <a:cubicBezTo>
                  <a:pt x="82" y="16719"/>
                  <a:pt x="4881" y="21518"/>
                  <a:pt x="10800" y="21518"/>
                </a:cubicBezTo>
                <a:cubicBezTo>
                  <a:pt x="16719" y="21518"/>
                  <a:pt x="21518" y="16719"/>
                  <a:pt x="21518" y="10800"/>
                </a:cubicBezTo>
                <a:cubicBezTo>
                  <a:pt x="21518" y="4881"/>
                  <a:pt x="16719" y="82"/>
                  <a:pt x="10800" y="82"/>
                </a:cubicBezTo>
                <a:cubicBezTo>
                  <a:pt x="4881" y="82"/>
                  <a:pt x="82" y="4881"/>
                  <a:pt x="82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图片 11" descr=""/>
          <p:cNvPicPr/>
          <p:nvPr/>
        </p:nvPicPr>
        <p:blipFill>
          <a:blip r:embed="rId1"/>
          <a:stretch/>
        </p:blipFill>
        <p:spPr>
          <a:xfrm>
            <a:off x="3708360" y="1652760"/>
            <a:ext cx="1806480" cy="22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" dur="2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28" dur="200" fill="hold"/>
                                        <p:tgtEl>
                                          <p:spTgt spid="63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1300" fill="hold"/>
                                        <p:tgtEl>
                                          <p:spTgt spid="63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" dur="1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xit" presetID="10">
                                  <p:stCondLst>
                                    <p:cond delay="1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1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" dur="1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47" dur="200" fill="hold"/>
                                        <p:tgtEl>
                                          <p:spTgt spid="641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8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49" dur="100" fill="hold"/>
                                        <p:tgtEl>
                                          <p:spTgt spid="641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" dur="3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6" dur="2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3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3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0">
                                  <p:stCondLst>
                                    <p:cond delay="24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2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2" name="Group 2"/>
          <p:cNvGrpSpPr/>
          <p:nvPr/>
        </p:nvGrpSpPr>
        <p:grpSpPr>
          <a:xfrm>
            <a:off x="4930200" y="-1282680"/>
            <a:ext cx="1659600" cy="1163880"/>
            <a:chOff x="4930200" y="-1282680"/>
            <a:chExt cx="1659600" cy="1163880"/>
          </a:xfrm>
        </p:grpSpPr>
        <p:grpSp>
          <p:nvGrpSpPr>
            <p:cNvPr id="643" name="Group 3"/>
            <p:cNvGrpSpPr/>
            <p:nvPr/>
          </p:nvGrpSpPr>
          <p:grpSpPr>
            <a:xfrm>
              <a:off x="5068080" y="-1282680"/>
              <a:ext cx="1338480" cy="1163880"/>
              <a:chOff x="5068080" y="-1282680"/>
              <a:chExt cx="1338480" cy="1163880"/>
            </a:xfrm>
          </p:grpSpPr>
          <p:sp>
            <p:nvSpPr>
              <p:cNvPr id="644" name="等腰三角形 4"/>
              <p:cNvSpPr/>
              <p:nvPr/>
            </p:nvSpPr>
            <p:spPr>
              <a:xfrm rot="14711400">
                <a:off x="5458320" y="-7948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圆角矩形 3"/>
              <p:cNvSpPr/>
              <p:nvPr/>
            </p:nvSpPr>
            <p:spPr>
              <a:xfrm rot="1297800">
                <a:off x="5159880" y="-10951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6" name="矩形 21"/>
            <p:cNvSpPr/>
            <p:nvPr/>
          </p:nvSpPr>
          <p:spPr>
            <a:xfrm rot="1297800">
              <a:off x="4946040" y="-934920"/>
              <a:ext cx="162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O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7"/>
          <p:cNvGrpSpPr/>
          <p:nvPr/>
        </p:nvGrpSpPr>
        <p:grpSpPr>
          <a:xfrm>
            <a:off x="5226480" y="-1382760"/>
            <a:ext cx="1180800" cy="1298160"/>
            <a:chOff x="5226480" y="-1382760"/>
            <a:chExt cx="1180800" cy="1298160"/>
          </a:xfrm>
        </p:grpSpPr>
        <p:grpSp>
          <p:nvGrpSpPr>
            <p:cNvPr id="648" name="Group 8"/>
            <p:cNvGrpSpPr/>
            <p:nvPr/>
          </p:nvGrpSpPr>
          <p:grpSpPr>
            <a:xfrm>
              <a:off x="5226480" y="-1382760"/>
              <a:ext cx="1180800" cy="1281240"/>
              <a:chOff x="5226480" y="-1382760"/>
              <a:chExt cx="1180800" cy="1281240"/>
            </a:xfrm>
          </p:grpSpPr>
          <p:sp>
            <p:nvSpPr>
              <p:cNvPr id="649" name="等腰三角形 7"/>
              <p:cNvSpPr/>
              <p:nvPr/>
            </p:nvSpPr>
            <p:spPr>
              <a:xfrm rot="18075600">
                <a:off x="5447160" y="-101592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圆角矩形 8"/>
              <p:cNvSpPr/>
              <p:nvPr/>
            </p:nvSpPr>
            <p:spPr>
              <a:xfrm rot="4662000">
                <a:off x="5354640" y="-110232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1" name="矩形 22"/>
            <p:cNvSpPr/>
            <p:nvPr/>
          </p:nvSpPr>
          <p:spPr>
            <a:xfrm rot="4662000">
              <a:off x="5220360" y="-1061280"/>
              <a:ext cx="112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w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Group 12"/>
          <p:cNvGrpSpPr/>
          <p:nvPr/>
        </p:nvGrpSpPr>
        <p:grpSpPr>
          <a:xfrm>
            <a:off x="4004640" y="6329160"/>
            <a:ext cx="1422720" cy="1189080"/>
            <a:chOff x="4004640" y="6329160"/>
            <a:chExt cx="1422720" cy="1189080"/>
          </a:xfrm>
        </p:grpSpPr>
        <p:grpSp>
          <p:nvGrpSpPr>
            <p:cNvPr id="653" name="Group 13"/>
            <p:cNvGrpSpPr/>
            <p:nvPr/>
          </p:nvGrpSpPr>
          <p:grpSpPr>
            <a:xfrm>
              <a:off x="4123800" y="6329160"/>
              <a:ext cx="1292400" cy="1189080"/>
              <a:chOff x="4123800" y="6329160"/>
              <a:chExt cx="1292400" cy="1189080"/>
            </a:xfrm>
          </p:grpSpPr>
          <p:sp>
            <p:nvSpPr>
              <p:cNvPr id="654" name="等腰三角形 10"/>
              <p:cNvSpPr/>
              <p:nvPr/>
            </p:nvSpPr>
            <p:spPr>
              <a:xfrm rot="1785600">
                <a:off x="4494960" y="63716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圆角矩形 11"/>
              <p:cNvSpPr/>
              <p:nvPr/>
            </p:nvSpPr>
            <p:spPr>
              <a:xfrm rot="9972000">
                <a:off x="4192920" y="6671160"/>
                <a:ext cx="115380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6" name="矩形 23"/>
            <p:cNvSpPr/>
            <p:nvPr/>
          </p:nvSpPr>
          <p:spPr>
            <a:xfrm rot="9972000">
              <a:off x="4069800" y="6545160"/>
              <a:ext cx="1292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Thre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7" name="Group 17"/>
          <p:cNvGrpSpPr/>
          <p:nvPr/>
        </p:nvGrpSpPr>
        <p:grpSpPr>
          <a:xfrm>
            <a:off x="2734920" y="5931360"/>
            <a:ext cx="1411560" cy="1321200"/>
            <a:chOff x="2734920" y="5931360"/>
            <a:chExt cx="1411560" cy="1321200"/>
          </a:xfrm>
        </p:grpSpPr>
        <p:grpSp>
          <p:nvGrpSpPr>
            <p:cNvPr id="658" name="Group 18"/>
            <p:cNvGrpSpPr/>
            <p:nvPr/>
          </p:nvGrpSpPr>
          <p:grpSpPr>
            <a:xfrm>
              <a:off x="2734920" y="6068880"/>
              <a:ext cx="1357920" cy="1183680"/>
              <a:chOff x="2734920" y="6068880"/>
              <a:chExt cx="1357920" cy="1183680"/>
            </a:xfrm>
          </p:grpSpPr>
          <p:sp>
            <p:nvSpPr>
              <p:cNvPr id="659" name="等腰三角形 13"/>
              <p:cNvSpPr/>
              <p:nvPr/>
            </p:nvSpPr>
            <p:spPr>
              <a:xfrm rot="4326600">
                <a:off x="3364560" y="6015960"/>
                <a:ext cx="362520" cy="71964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圆角矩形 14"/>
              <p:cNvSpPr/>
              <p:nvPr/>
            </p:nvSpPr>
            <p:spPr>
              <a:xfrm rot="12512400">
                <a:off x="2836440" y="6300720"/>
                <a:ext cx="1154520" cy="71964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1" name="矩形 24"/>
            <p:cNvSpPr/>
            <p:nvPr/>
          </p:nvSpPr>
          <p:spPr>
            <a:xfrm rot="12512400">
              <a:off x="2887560" y="6165720"/>
              <a:ext cx="1161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ou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2" name="Group 22"/>
          <p:cNvGrpSpPr/>
          <p:nvPr/>
        </p:nvGrpSpPr>
        <p:grpSpPr>
          <a:xfrm>
            <a:off x="2714760" y="-1454760"/>
            <a:ext cx="1344960" cy="1403280"/>
            <a:chOff x="2714760" y="-1454760"/>
            <a:chExt cx="1344960" cy="1403280"/>
          </a:xfrm>
        </p:grpSpPr>
        <p:grpSp>
          <p:nvGrpSpPr>
            <p:cNvPr id="663" name="Group 23"/>
            <p:cNvGrpSpPr/>
            <p:nvPr/>
          </p:nvGrpSpPr>
          <p:grpSpPr>
            <a:xfrm>
              <a:off x="2714760" y="-1454760"/>
              <a:ext cx="1216080" cy="1360440"/>
              <a:chOff x="2714760" y="-1454760"/>
              <a:chExt cx="1216080" cy="1360440"/>
            </a:xfrm>
          </p:grpSpPr>
          <p:sp>
            <p:nvSpPr>
              <p:cNvPr id="664" name="等腰三角形 16"/>
              <p:cNvSpPr/>
              <p:nvPr/>
            </p:nvSpPr>
            <p:spPr>
              <a:xfrm rot="9899400">
                <a:off x="3419640" y="-987840"/>
                <a:ext cx="362520" cy="72000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圆角矩形 17"/>
              <p:cNvSpPr/>
              <p:nvPr/>
            </p:nvSpPr>
            <p:spPr>
              <a:xfrm rot="18085800">
                <a:off x="2745720" y="-1134360"/>
                <a:ext cx="1154160" cy="72000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6" name="矩形 25"/>
            <p:cNvSpPr/>
            <p:nvPr/>
          </p:nvSpPr>
          <p:spPr>
            <a:xfrm rot="18085800">
              <a:off x="2916000" y="-1059480"/>
              <a:ext cx="1108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Fi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Group 27"/>
          <p:cNvGrpSpPr/>
          <p:nvPr/>
        </p:nvGrpSpPr>
        <p:grpSpPr>
          <a:xfrm>
            <a:off x="3716280" y="-1170000"/>
            <a:ext cx="1279440" cy="1179000"/>
            <a:chOff x="3716280" y="-1170000"/>
            <a:chExt cx="1279440" cy="1179000"/>
          </a:xfrm>
        </p:grpSpPr>
        <p:grpSp>
          <p:nvGrpSpPr>
            <p:cNvPr id="668" name="Group 28"/>
            <p:cNvGrpSpPr/>
            <p:nvPr/>
          </p:nvGrpSpPr>
          <p:grpSpPr>
            <a:xfrm>
              <a:off x="3716280" y="-1170000"/>
              <a:ext cx="1279440" cy="1179000"/>
              <a:chOff x="3716280" y="-1170000"/>
              <a:chExt cx="1279440" cy="1179000"/>
            </a:xfrm>
          </p:grpSpPr>
          <p:sp>
            <p:nvSpPr>
              <p:cNvPr id="669" name="等腰三角形 19"/>
              <p:cNvSpPr/>
              <p:nvPr/>
            </p:nvSpPr>
            <p:spPr>
              <a:xfrm rot="12688800">
                <a:off x="4259880" y="-753480"/>
                <a:ext cx="362520" cy="721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圆角矩形 20"/>
              <p:cNvSpPr/>
              <p:nvPr/>
            </p:nvSpPr>
            <p:spPr>
              <a:xfrm rot="20875200">
                <a:off x="3778920" y="-1056960"/>
                <a:ext cx="1154160" cy="72108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3f3f3f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矩形 26"/>
            <p:cNvSpPr/>
            <p:nvPr/>
          </p:nvSpPr>
          <p:spPr>
            <a:xfrm rot="20875200">
              <a:off x="3896280" y="-899640"/>
              <a:ext cx="982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Si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2" name="椭圆 33"/>
          <p:cNvSpPr/>
          <p:nvPr/>
        </p:nvSpPr>
        <p:spPr>
          <a:xfrm>
            <a:off x="3780000" y="1781280"/>
            <a:ext cx="1584000" cy="1582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图片 2" descr=""/>
          <p:cNvPicPr/>
          <p:nvPr/>
        </p:nvPicPr>
        <p:blipFill>
          <a:blip r:embed="rId1"/>
          <a:srcRect l="12510" t="12150" r="17060" b="32196"/>
          <a:stretch/>
        </p:blipFill>
        <p:spPr>
          <a:xfrm>
            <a:off x="3933720" y="1930320"/>
            <a:ext cx="1273320" cy="127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1" dur="200" fill="hold"/>
                                        <p:tgtEl>
                                          <p:spTgt spid="673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72" nodeType="withEffect" fill="hold" presetClass="path" presetID="13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2.5E-006 2.71605E-006 L -0.02326 -0.01729 L 0.00903 -0.04013 L -2.5E-006 2.71605E-006 Z">
                                      <p:cBhvr>
                                        <p:cTn id="73" dur="4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42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017 0.73673 L -0.13211 0.63889 E">
                                      <p:cBhvr>
                                        <p:cTn id="75" dur="2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42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0.00035 -0.58943 L -0.01545 -0.83905 E">
                                      <p:cBhvr>
                                        <p:cTn id="77" dur="200" fill="hold"/>
                                        <p:tgtEl>
                                          <p:spTgt spid="6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path" presetID="42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0.00035 0.47778 L -0.12326 0.61358 E">
                                      <p:cBhvr>
                                        <p:cTn id="79" dur="200" fill="hold"/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42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35 -0.62284 L 0.11945 -0.76698 E">
                                      <p:cBhvr>
                                        <p:cTn id="81" dur="200" fill="hold"/>
                                        <p:tgtEl>
                                          <p:spTgt spid="6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0.00035 0.55895 L 0.12188 0.6358 E">
                                      <p:cBhvr>
                                        <p:cTn id="83" dur="2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path" presetID="42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35 0.36049 L 0.01997 0.60617 E">
                                      <p:cBhvr>
                                        <p:cTn id="85" dur="2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"/>
          <p:cNvSpPr/>
          <p:nvPr/>
        </p:nvSpPr>
        <p:spPr>
          <a:xfrm rot="20626800">
            <a:off x="4187880" y="-12031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Y"/>
          <p:cNvSpPr/>
          <p:nvPr/>
        </p:nvSpPr>
        <p:spPr>
          <a:xfrm rot="18677400">
            <a:off x="3781080" y="-93312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N"/>
          <p:cNvSpPr/>
          <p:nvPr/>
        </p:nvSpPr>
        <p:spPr>
          <a:xfrm rot="1252800">
            <a:off x="4694400" y="-118872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"/>
          <p:cNvSpPr/>
          <p:nvPr/>
        </p:nvSpPr>
        <p:spPr>
          <a:xfrm rot="1890000">
            <a:off x="4860360" y="-1098360"/>
            <a:ext cx="33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M"/>
          <p:cNvSpPr/>
          <p:nvPr/>
        </p:nvSpPr>
        <p:spPr>
          <a:xfrm rot="2767200">
            <a:off x="4983480" y="-9622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E"/>
          <p:cNvSpPr/>
          <p:nvPr/>
        </p:nvSpPr>
        <p:spPr>
          <a:xfrm rot="3528000">
            <a:off x="5142600" y="-83196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O"/>
          <p:cNvSpPr/>
          <p:nvPr/>
        </p:nvSpPr>
        <p:spPr>
          <a:xfrm rot="19320600">
            <a:off x="3867480" y="-1045800"/>
            <a:ext cx="35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U"/>
          <p:cNvSpPr/>
          <p:nvPr/>
        </p:nvSpPr>
        <p:spPr>
          <a:xfrm rot="19938600">
            <a:off x="4019040" y="-11430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图片 2" descr=""/>
          <p:cNvPicPr/>
          <p:nvPr/>
        </p:nvPicPr>
        <p:blipFill>
          <a:blip r:embed="rId1"/>
          <a:stretch/>
        </p:blipFill>
        <p:spPr>
          <a:xfrm>
            <a:off x="2544840" y="558720"/>
            <a:ext cx="4054320" cy="4025880"/>
          </a:xfrm>
          <a:prstGeom prst="rect">
            <a:avLst/>
          </a:prstGeom>
          <a:ln w="0">
            <a:noFill/>
          </a:ln>
        </p:spPr>
      </p:pic>
      <p:pic>
        <p:nvPicPr>
          <p:cNvPr id="683" name="遮挡" descr=""/>
          <p:cNvPicPr/>
          <p:nvPr/>
        </p:nvPicPr>
        <p:blipFill>
          <a:blip r:embed="rId2"/>
          <a:srcRect l="46921" t="39035" r="47011" b="39349"/>
          <a:stretch/>
        </p:blipFill>
        <p:spPr>
          <a:xfrm>
            <a:off x="4311720" y="2009880"/>
            <a:ext cx="557280" cy="1112760"/>
          </a:xfrm>
          <a:prstGeom prst="rect">
            <a:avLst/>
          </a:prstGeom>
          <a:ln w="0">
            <a:noFill/>
          </a:ln>
        </p:spPr>
      </p:pic>
      <p:pic>
        <p:nvPicPr>
          <p:cNvPr id="684" name="图片 1" descr=""/>
          <p:cNvPicPr/>
          <p:nvPr/>
        </p:nvPicPr>
        <p:blipFill>
          <a:blip r:embed="rId3"/>
          <a:srcRect l="12510" t="12150" r="17060" b="32196"/>
          <a:stretch/>
        </p:blipFill>
        <p:spPr>
          <a:xfrm>
            <a:off x="3755880" y="1774800"/>
            <a:ext cx="1594080" cy="1593720"/>
          </a:xfrm>
          <a:prstGeom prst="rect">
            <a:avLst/>
          </a:prstGeom>
          <a:ln w="0">
            <a:noFill/>
          </a:ln>
        </p:spPr>
      </p:pic>
      <p:pic>
        <p:nvPicPr>
          <p:cNvPr id="685" name="ren" descr=""/>
          <p:cNvPicPr/>
          <p:nvPr/>
        </p:nvPicPr>
        <p:blipFill>
          <a:blip r:embed="rId4"/>
          <a:srcRect l="14259" t="16041" r="18144" b="24448"/>
          <a:stretch/>
        </p:blipFill>
        <p:spPr>
          <a:xfrm>
            <a:off x="3728880" y="1720800"/>
            <a:ext cx="1690920" cy="1690560"/>
          </a:xfrm>
          <a:prstGeom prst="rect">
            <a:avLst/>
          </a:prstGeom>
          <a:ln w="0">
            <a:noFill/>
          </a:ln>
        </p:spPr>
      </p:pic>
      <p:sp>
        <p:nvSpPr>
          <p:cNvPr id="686" name="内圆"/>
          <p:cNvSpPr/>
          <p:nvPr/>
        </p:nvSpPr>
        <p:spPr>
          <a:xfrm>
            <a:off x="3610080" y="1601640"/>
            <a:ext cx="1927080" cy="1927440"/>
          </a:xfrm>
          <a:custGeom>
            <a:avLst/>
            <a:gdLst>
              <a:gd name="textAreaLeft" fmla="*/ 282240 w 1927080"/>
              <a:gd name="textAreaRight" fmla="*/ 1644840 w 1927080"/>
              <a:gd name="textAreaTop" fmla="*/ 282240 h 1927440"/>
              <a:gd name="textAreaBottom" fmla="*/ 1645200 h 1927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86" y="10800"/>
                </a:moveTo>
                <a:cubicBezTo>
                  <a:pt x="286" y="16607"/>
                  <a:pt x="4993" y="21314"/>
                  <a:pt x="10800" y="21314"/>
                </a:cubicBezTo>
                <a:cubicBezTo>
                  <a:pt x="16607" y="21314"/>
                  <a:pt x="21314" y="16607"/>
                  <a:pt x="21314" y="10800"/>
                </a:cubicBezTo>
                <a:cubicBezTo>
                  <a:pt x="21314" y="4993"/>
                  <a:pt x="16607" y="286"/>
                  <a:pt x="10800" y="286"/>
                </a:cubicBezTo>
                <a:cubicBezTo>
                  <a:pt x="4993" y="286"/>
                  <a:pt x="286" y="4993"/>
                  <a:pt x="28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外圆"/>
          <p:cNvSpPr/>
          <p:nvPr/>
        </p:nvSpPr>
        <p:spPr>
          <a:xfrm>
            <a:off x="3419640" y="1413000"/>
            <a:ext cx="2304720" cy="2305080"/>
          </a:xfrm>
          <a:custGeom>
            <a:avLst/>
            <a:gdLst>
              <a:gd name="textAreaLeft" fmla="*/ 337320 w 2304720"/>
              <a:gd name="textAreaRight" fmla="*/ 1967400 w 2304720"/>
              <a:gd name="textAreaTop" fmla="*/ 337320 h 2305080"/>
              <a:gd name="textAreaBottom" fmla="*/ 1967760 h 2305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256" y="10800"/>
                </a:moveTo>
                <a:cubicBezTo>
                  <a:pt x="1256" y="16071"/>
                  <a:pt x="5529" y="20344"/>
                  <a:pt x="10800" y="20344"/>
                </a:cubicBezTo>
                <a:cubicBezTo>
                  <a:pt x="16071" y="20344"/>
                  <a:pt x="20344" y="16071"/>
                  <a:pt x="20344" y="10800"/>
                </a:cubicBezTo>
                <a:cubicBezTo>
                  <a:pt x="20344" y="5529"/>
                  <a:pt x="16071" y="1256"/>
                  <a:pt x="10800" y="1256"/>
                </a:cubicBezTo>
                <a:cubicBezTo>
                  <a:pt x="5529" y="1256"/>
                  <a:pt x="1256" y="5529"/>
                  <a:pt x="1256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mption"/>
          <p:cNvSpPr/>
          <p:nvPr/>
        </p:nvSpPr>
        <p:spPr>
          <a:xfrm>
            <a:off x="3546720" y="320976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OTION DESI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同心圆 4"/>
          <p:cNvSpPr/>
          <p:nvPr/>
        </p:nvSpPr>
        <p:spPr>
          <a:xfrm>
            <a:off x="3705120" y="1698480"/>
            <a:ext cx="1737000" cy="1735200"/>
          </a:xfrm>
          <a:custGeom>
            <a:avLst/>
            <a:gdLst>
              <a:gd name="textAreaLeft" fmla="*/ 254160 w 1737000"/>
              <a:gd name="textAreaRight" fmla="*/ 1482840 w 1737000"/>
              <a:gd name="textAreaTop" fmla="*/ 253800 h 1735200"/>
              <a:gd name="textAreaBottom" fmla="*/ 1481400 h 1735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91" y="10800"/>
                </a:moveTo>
                <a:cubicBezTo>
                  <a:pt x="1391" y="15996"/>
                  <a:pt x="5604" y="20209"/>
                  <a:pt x="10800" y="20209"/>
                </a:cubicBezTo>
                <a:cubicBezTo>
                  <a:pt x="15996" y="20209"/>
                  <a:pt x="20209" y="15996"/>
                  <a:pt x="20209" y="10800"/>
                </a:cubicBezTo>
                <a:cubicBezTo>
                  <a:pt x="20209" y="5604"/>
                  <a:pt x="15996" y="1391"/>
                  <a:pt x="10800" y="1391"/>
                </a:cubicBezTo>
                <a:cubicBezTo>
                  <a:pt x="5604" y="1391"/>
                  <a:pt x="1391" y="5604"/>
                  <a:pt x="1391" y="10800"/>
                </a:cubicBezTo>
                <a:close/>
              </a:path>
            </a:pathLst>
          </a:custGeom>
          <a:solidFill>
            <a:srgbClr val="00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Picture 2" descr=""/>
          <p:cNvPicPr/>
          <p:nvPr/>
        </p:nvPicPr>
        <p:blipFill>
          <a:blip r:embed="rId5"/>
          <a:stretch/>
        </p:blipFill>
        <p:spPr>
          <a:xfrm>
            <a:off x="3589200" y="1596960"/>
            <a:ext cx="1951200" cy="1949400"/>
          </a:xfrm>
          <a:prstGeom prst="rect">
            <a:avLst/>
          </a:prstGeom>
          <a:ln w="0">
            <a:noFill/>
          </a:ln>
        </p:spPr>
      </p:pic>
      <p:grpSp>
        <p:nvGrpSpPr>
          <p:cNvPr id="691" name="Group 19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692" name="椭圆 5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矩形 6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4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11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3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0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6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8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0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" dur="6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599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103" dur="600" fill="hold"/>
                                        <p:tgtEl>
                                          <p:spTgt spid="68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45">
                                  <p:stCondLst>
                                    <p:cond delay="1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5" dur="8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" dur="1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400" fill="hold"/>
                                        <p:tgtEl>
                                          <p:spTgt spid="6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8" dur="4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6" presetSubtype="32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" dur="3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2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136" dur="200" fill="hold"/>
                                        <p:tgtEl>
                                          <p:spTgt spid="685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137" nodeType="withEffect" fill="hold" presetClass="path" presetID="42">
                                  <p:stCondLst>
                                    <p:cond delay="2100"/>
                                  </p:stCondLst>
                                  <p:childTnLst>
                                    <p:animMotion origin="layout" path="M 8.33333E-007 0.54167 L 0.06927 0.64445 E">
                                      <p:cBhvr>
                                        <p:cTn id="138" dur="1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9" nodeType="withEffect" fill="hold" presetClass="path" presetID="42">
                                  <p:stCondLst>
                                    <p:cond delay="2200"/>
                                  </p:stCondLst>
                                  <p:childTnLst>
                                    <p:animMotion origin="layout" path="M 2.5E-006 0.54166 L 0.05781 0.66605 E">
                                      <p:cBhvr>
                                        <p:cTn id="140" dur="1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1" nodeType="withEffect" fill="hold" presetClass="path" presetID="42">
                                  <p:stCondLst>
                                    <p:cond delay="2300"/>
                                  </p:stCondLst>
                                  <p:childTnLst>
                                    <p:animMotion origin="layout" path="M 3.05556E-006 0.54167 L 0.04149 0.68488 E">
                                      <p:cBhvr>
                                        <p:cTn id="142" dur="100" fill="hold"/>
                                        <p:tgtEl>
                                          <p:spTgt spid="6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42">
                                  <p:stCondLst>
                                    <p:cond delay="2400"/>
                                  </p:stCondLst>
                                  <p:childTnLst>
                                    <p:animMotion origin="layout" path="M 1.94444E-006 0.54167 L 0.02413 0.69661 E">
                                      <p:cBhvr>
                                        <p:cTn id="144" dur="100" fill="hold"/>
                                        <p:tgtEl>
                                          <p:spTgt spid="6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4.72222E-006 0.54167 L -0.03247 0.69383 E">
                                      <p:cBhvr>
                                        <p:cTn id="146" dur="1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3.61111E-006 0.54167 L -0.04983 0.67624 E">
                                      <p:cBhvr>
                                        <p:cTn id="148" dur="1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9" nodeType="withEffect" fill="hold" presetClass="path" presetID="42">
                                  <p:stCondLst>
                                    <p:cond delay="2700"/>
                                  </p:stCondLst>
                                  <p:childTnLst>
                                    <p:animMotion origin="layout" path="M -2.77778E-007 0.54166 L -0.06684 0.65031 E">
                                      <p:cBhvr>
                                        <p:cTn id="150" dur="1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nodeType="withEffect" fill="hold" presetClass="path" presetID="42">
                                  <p:stCondLst>
                                    <p:cond delay="2800"/>
                                  </p:stCondLst>
                                  <p:childTnLst>
                                    <p:animMotion origin="layout" path="M -3.05556E-006 0.54167 L -0.07899 0.6247 E">
                                      <p:cBhvr>
                                        <p:cTn id="152" dur="100" fill="hold"/>
                                        <p:tgtEl>
                                          <p:spTgt spid="6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42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3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0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9" dur="1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2" dur="1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5" dur="1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22" presetSubtype="8">
                                  <p:stCondLst>
                                    <p:cond delay="3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68" dur="1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1" dur="1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" dur="1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7" dur="1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0" dur="1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xit" presetID="45">
                                  <p:stCondLst>
                                    <p:cond delay="3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3" dur="1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0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499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1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3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3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xit" presetID="10">
                                  <p:stCondLst>
                                    <p:cond delay="3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0" dur="2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" nodeType="withEffect" fill="hold" presetClass="exit" presetID="10">
                                  <p:stCondLst>
                                    <p:cond delay="3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" dur="2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9" dur="3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11" dur="200" fill="hold"/>
                                        <p:tgtEl>
                                          <p:spTgt spid="6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212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13" dur="300" fill="hold"/>
                                        <p:tgtEl>
                                          <p:spTgt spid="6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3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8" dur="3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20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21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22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23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24" dur="200" fill="hold"/>
                                        <p:tgtEl>
                                          <p:spTgt spid="6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26" dur="300" fill="hold"/>
                                        <p:tgtEl>
                                          <p:spTgt spid="69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1" dur="3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33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34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35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36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237" dur="200" fill="hold"/>
                                        <p:tgtEl>
                                          <p:spTgt spid="6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8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239" dur="300" fill="hold"/>
                                        <p:tgtEl>
                                          <p:spTgt spid="69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4" dur="3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46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48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49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50" dur="200" fill="hold"/>
                                        <p:tgtEl>
                                          <p:spTgt spid="6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52" dur="300" fill="hold"/>
                                        <p:tgtEl>
                                          <p:spTgt spid="69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3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7" dur="3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59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60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61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62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63" dur="200" fill="hold"/>
                                        <p:tgtEl>
                                          <p:spTgt spid="7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64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65" dur="300" fill="hold"/>
                                        <p:tgtEl>
                                          <p:spTgt spid="70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3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0" dur="3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mph" presetID="6">
                                  <p:stCondLst>
                                    <p:cond delay="3500"/>
                                  </p:stCondLst>
                                  <p:childTnLst>
                                    <p:animScale>
                                      <p:cBhvr>
                                        <p:cTn id="272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15000" y="115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6">
                                  <p:stCondLst>
                                    <p:cond delay="3700"/>
                                  </p:stCondLst>
                                  <p:childTnLst>
                                    <p:animScale>
                                      <p:cBhvr>
                                        <p:cTn id="274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85000" y="85000"/>
                                    </p:animScale>
                                  </p:childTnLst>
                                </p:cTn>
                              </p:par>
                              <p:par>
                                <p:cTn id="275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76" dur="200" fill="hold"/>
                                        <p:tgtEl>
                                          <p:spTgt spid="6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7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78" dur="300" fill="hold"/>
                                        <p:tgtEl>
                                          <p:spTgt spid="696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3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3" dur="3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85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86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287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288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289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0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291" dur="200" fill="hold"/>
                                        <p:tgtEl>
                                          <p:spTgt spid="69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3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6" dur="3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298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00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01" nodeType="withEffect" fill="hold" presetClass="emph" presetID="6">
                                  <p:stCondLst>
                                    <p:cond delay="4100"/>
                                  </p:stCondLst>
                                  <p:childTnLst>
                                    <p:animScale>
                                      <p:cBhvr>
                                        <p:cTn id="302" dur="200" fill="hold"/>
                                        <p:tgtEl>
                                          <p:spTgt spid="6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>
                                  <p:stCondLst>
                                    <p:cond delay="4300"/>
                                  </p:stCondLst>
                                  <p:childTnLst>
                                    <p:animScale>
                                      <p:cBhvr>
                                        <p:cTn id="304" dur="300" fill="hold"/>
                                        <p:tgtEl>
                                          <p:spTgt spid="69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9" dur="3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mph" presetID="6">
                                  <p:stCondLst>
                                    <p:cond delay="3600"/>
                                  </p:stCondLst>
                                  <p:childTnLst>
                                    <p:animScale>
                                      <p:cBhvr>
                                        <p:cTn id="311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>
                                  <p:stCondLst>
                                    <p:cond delay="3800"/>
                                  </p:stCondLst>
                                  <p:childTnLst>
                                    <p:animScale>
                                      <p:cBhvr>
                                        <p:cTn id="313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6">
                                  <p:stCondLst>
                                    <p:cond delay="4000"/>
                                  </p:stCondLst>
                                  <p:childTnLst>
                                    <p:animScale>
                                      <p:cBhvr>
                                        <p:cTn id="315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6" nodeType="withEffect" fill="hold" presetClass="emph" presetID="6">
                                  <p:stCondLst>
                                    <p:cond delay="4200"/>
                                  </p:stCondLst>
                                  <p:childTnLst>
                                    <p:animScale>
                                      <p:cBhvr>
                                        <p:cTn id="317" dur="200" fill="hold"/>
                                        <p:tgtEl>
                                          <p:spTgt spid="70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flash"/>
          <p:cNvSpPr/>
          <p:nvPr/>
        </p:nvSpPr>
        <p:spPr>
          <a:xfrm>
            <a:off x="2678040" y="179280"/>
            <a:ext cx="13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L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s"/>
          <p:cNvSpPr/>
          <p:nvPr/>
        </p:nvSpPr>
        <p:spPr>
          <a:xfrm>
            <a:off x="4862160" y="565200"/>
            <a:ext cx="20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PHOTO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ae"/>
          <p:cNvSpPr/>
          <p:nvPr/>
        </p:nvSpPr>
        <p:spPr>
          <a:xfrm>
            <a:off x="495000" y="1349280"/>
            <a:ext cx="271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TFER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3D"/>
          <p:cNvSpPr/>
          <p:nvPr/>
        </p:nvSpPr>
        <p:spPr>
          <a:xfrm>
            <a:off x="6066720" y="237492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3D AN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I"/>
          <p:cNvSpPr/>
          <p:nvPr/>
        </p:nvSpPr>
        <p:spPr>
          <a:xfrm>
            <a:off x="673200" y="3197160"/>
            <a:ext cx="218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LLUSTR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COOK"/>
          <p:cNvSpPr/>
          <p:nvPr/>
        </p:nvSpPr>
        <p:spPr>
          <a:xfrm>
            <a:off x="2503440" y="4032360"/>
            <a:ext cx="109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O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WEB"/>
          <p:cNvSpPr/>
          <p:nvPr/>
        </p:nvSpPr>
        <p:spPr>
          <a:xfrm>
            <a:off x="5798160" y="35701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EB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JAVA"/>
          <p:cNvSpPr/>
          <p:nvPr/>
        </p:nvSpPr>
        <p:spPr>
          <a:xfrm>
            <a:off x="4376160" y="4516560"/>
            <a:ext cx="170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10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11" name="椭圆 15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矩形 16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3"/>
          <p:cNvGrpSpPr/>
          <p:nvPr/>
        </p:nvGrpSpPr>
        <p:grpSpPr>
          <a:xfrm>
            <a:off x="3928680" y="1935000"/>
            <a:ext cx="1262520" cy="1262160"/>
            <a:chOff x="3928680" y="1935000"/>
            <a:chExt cx="1262520" cy="1262160"/>
          </a:xfrm>
        </p:grpSpPr>
        <p:sp>
          <p:nvSpPr>
            <p:cNvPr id="714" name="椭圆 10"/>
            <p:cNvSpPr/>
            <p:nvPr/>
          </p:nvSpPr>
          <p:spPr>
            <a:xfrm>
              <a:off x="3928680" y="1935000"/>
              <a:ext cx="126252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矩形 11"/>
            <p:cNvSpPr/>
            <p:nvPr/>
          </p:nvSpPr>
          <p:spPr>
            <a:xfrm>
              <a:off x="3987360" y="2374920"/>
              <a:ext cx="114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MY SKI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6" name="8"/>
          <p:cNvSpPr/>
          <p:nvPr/>
        </p:nvSpPr>
        <p:spPr>
          <a:xfrm>
            <a:off x="6631200" y="23749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4"/>
          <p:cNvSpPr/>
          <p:nvPr/>
        </p:nvSpPr>
        <p:spPr>
          <a:xfrm>
            <a:off x="6190560" y="357012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1"/>
          <p:cNvSpPr/>
          <p:nvPr/>
        </p:nvSpPr>
        <p:spPr>
          <a:xfrm>
            <a:off x="1200600" y="1349280"/>
            <a:ext cx="130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2"/>
          <p:cNvSpPr/>
          <p:nvPr/>
        </p:nvSpPr>
        <p:spPr>
          <a:xfrm>
            <a:off x="2638800" y="179280"/>
            <a:ext cx="14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5"/>
          <p:cNvSpPr/>
          <p:nvPr/>
        </p:nvSpPr>
        <p:spPr>
          <a:xfrm>
            <a:off x="5317920" y="56520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7"/>
          <p:cNvSpPr/>
          <p:nvPr/>
        </p:nvSpPr>
        <p:spPr>
          <a:xfrm>
            <a:off x="1271520" y="3197160"/>
            <a:ext cx="11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6"/>
          <p:cNvSpPr/>
          <p:nvPr/>
        </p:nvSpPr>
        <p:spPr>
          <a:xfrm>
            <a:off x="2643480" y="4032360"/>
            <a:ext cx="81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矩形 22"/>
          <p:cNvSpPr/>
          <p:nvPr/>
        </p:nvSpPr>
        <p:spPr>
          <a:xfrm>
            <a:off x="4715640" y="451656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3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5" dur="1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8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0" dur="1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2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3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5" dur="1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10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38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0" dur="1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3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5" dur="1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8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0" dur="1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10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3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1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8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0" dur="1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6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368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6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370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71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372" dur="200" fill="hold"/>
                                        <p:tgtEl>
                                          <p:spTgt spid="7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374" dur="300" fill="hold"/>
                                        <p:tgtEl>
                                          <p:spTgt spid="716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79" dur="1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381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383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38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385" dur="200" fill="hold"/>
                                        <p:tgtEl>
                                          <p:spTgt spid="7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86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387" dur="300" fill="hold"/>
                                        <p:tgtEl>
                                          <p:spTgt spid="717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10">
                                  <p:stCondLst>
                                    <p:cond delay="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2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4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4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399" dur="200" fill="hold"/>
                                        <p:tgtEl>
                                          <p:spTgt spid="710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40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01" dur="300" fill="hold"/>
                                        <p:tgtEl>
                                          <p:spTgt spid="710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6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08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09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10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11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12" dur="200" fill="hold"/>
                                        <p:tgtEl>
                                          <p:spTgt spid="7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14" dur="300" fill="hold"/>
                                        <p:tgtEl>
                                          <p:spTgt spid="71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9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21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22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23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>
                                  <p:stCondLst>
                                    <p:cond delay="1600"/>
                                  </p:stCondLst>
                                  <p:childTnLst>
                                    <p:animScale>
                                      <p:cBhvr>
                                        <p:cTn id="425" dur="200" fill="hold"/>
                                        <p:tgtEl>
                                          <p:spTgt spid="7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427" dur="300" fill="hold"/>
                                        <p:tgtEl>
                                          <p:spTgt spid="71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2" dur="1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34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436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3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38" dur="200" fill="hold"/>
                                        <p:tgtEl>
                                          <p:spTgt spid="7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6">
                                  <p:stCondLst>
                                    <p:cond delay="1400"/>
                                  </p:stCondLst>
                                  <p:childTnLst>
                                    <p:animScale>
                                      <p:cBhvr>
                                        <p:cTn id="440" dur="300" fill="hold"/>
                                        <p:tgtEl>
                                          <p:spTgt spid="720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5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mph" presetID="6">
                                  <p:stCondLst>
                                    <p:cond delay="500"/>
                                  </p:stCondLst>
                                  <p:childTnLst>
                                    <p:animScale>
                                      <p:cBhvr>
                                        <p:cTn id="447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449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50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51" dur="200" fill="hold"/>
                                        <p:tgtEl>
                                          <p:spTgt spid="7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453" dur="300" fill="hold"/>
                                        <p:tgtEl>
                                          <p:spTgt spid="72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6">
                                  <p:stCondLst>
                                    <p:cond delay="600"/>
                                  </p:stCondLst>
                                  <p:childTnLst>
                                    <p:animScale>
                                      <p:cBhvr>
                                        <p:cTn id="460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62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63" nodeType="withEffect" fill="hold" presetClass="emph" presetID="6">
                                  <p:stCondLst>
                                    <p:cond delay="1100"/>
                                  </p:stCondLst>
                                  <p:childTnLst>
                                    <p:animScale>
                                      <p:cBhvr>
                                        <p:cTn id="464" dur="200" fill="hold"/>
                                        <p:tgtEl>
                                          <p:spTgt spid="7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66" dur="300" fill="hold"/>
                                        <p:tgtEl>
                                          <p:spTgt spid="72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1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2" nodeType="withEffect" fill="hold" presetClass="emph" presetID="6">
                                  <p:stCondLst>
                                    <p:cond delay="800"/>
                                  </p:stCondLst>
                                  <p:childTnLst>
                                    <p:animScale>
                                      <p:cBhvr>
                                        <p:cTn id="473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8000" y="108000"/>
                                    </p:animScale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75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2000" y="92000"/>
                                    </p:animScale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6">
                                  <p:stCondLst>
                                    <p:cond delay="1300"/>
                                  </p:stCondLst>
                                  <p:childTnLst>
                                    <p:animScale>
                                      <p:cBhvr>
                                        <p:cTn id="477" dur="200" fill="hold"/>
                                        <p:tgtEl>
                                          <p:spTgt spid="7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>
                                  <p:stCondLst>
                                    <p:cond delay="1500"/>
                                  </p:stCondLst>
                                  <p:childTnLst>
                                    <p:animScale>
                                      <p:cBhvr>
                                        <p:cTn id="479" dur="300" fill="hold"/>
                                        <p:tgtEl>
                                          <p:spTgt spid="723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xit" presetID="10">
                                  <p:stCondLst>
                                    <p:cond delay="2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1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1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200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8" dur="2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xit" presetID="10">
                                  <p:stCondLst>
                                    <p:cond delay="2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1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3" dur="1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0">
                                  <p:stCondLst>
                                    <p:cond delay="29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6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98" dur="1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1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200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3" dur="2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xit" presetID="10">
                                  <p:stCondLst>
                                    <p:cond delay="3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8" dur="1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0" nodeType="withEffect" fill="hold" presetClass="exit" presetID="10">
                                  <p:stCondLst>
                                    <p:cond delay="3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1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1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33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6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8" dur="1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2"/>
          <p:cNvGrpSpPr/>
          <p:nvPr/>
        </p:nvGrpSpPr>
        <p:grpSpPr>
          <a:xfrm>
            <a:off x="3930480" y="1928880"/>
            <a:ext cx="1262160" cy="1262160"/>
            <a:chOff x="3930480" y="1928880"/>
            <a:chExt cx="1262160" cy="1262160"/>
          </a:xfrm>
        </p:grpSpPr>
        <p:sp>
          <p:nvSpPr>
            <p:cNvPr id="725" name="椭圆 8"/>
            <p:cNvSpPr/>
            <p:nvPr/>
          </p:nvSpPr>
          <p:spPr>
            <a:xfrm>
              <a:off x="3930480" y="1928880"/>
              <a:ext cx="1262160" cy="1262160"/>
            </a:xfrm>
            <a:prstGeom prst="ellipse">
              <a:avLst/>
            </a:prstGeom>
            <a:gradFill rotWithShape="0">
              <a:gsLst>
                <a:gs pos="0">
                  <a:srgbClr val="3f3f3f"/>
                </a:gs>
                <a:gs pos="100000">
                  <a:srgbClr val="0c0c0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矩形 9"/>
            <p:cNvSpPr/>
            <p:nvPr/>
          </p:nvSpPr>
          <p:spPr>
            <a:xfrm>
              <a:off x="4218120" y="2368800"/>
              <a:ext cx="68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8f8f8"/>
                  </a:solidFill>
                  <a:latin typeface="Calibri"/>
                </a:rPr>
                <a:t>I LI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7" name="0"/>
          <p:cNvSpPr/>
          <p:nvPr/>
        </p:nvSpPr>
        <p:spPr>
          <a:xfrm>
            <a:off x="1836720" y="1847880"/>
            <a:ext cx="547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Calibri"/>
              </a:rPr>
              <a:t>WHAT ELS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矩形 1"/>
          <p:cNvSpPr/>
          <p:nvPr/>
        </p:nvSpPr>
        <p:spPr>
          <a:xfrm>
            <a:off x="1564920" y="1787400"/>
            <a:ext cx="599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Calibri"/>
              </a:rPr>
              <a:t>PORTFOLIO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7"/>
          <p:cNvGrpSpPr/>
          <p:nvPr/>
        </p:nvGrpSpPr>
        <p:grpSpPr>
          <a:xfrm>
            <a:off x="395280" y="3098880"/>
            <a:ext cx="2521080" cy="1554120"/>
            <a:chOff x="395280" y="3098880"/>
            <a:chExt cx="2521080" cy="1554120"/>
          </a:xfrm>
        </p:grpSpPr>
        <p:sp>
          <p:nvSpPr>
            <p:cNvPr id="730" name="矩形 15"/>
            <p:cNvSpPr/>
            <p:nvPr/>
          </p:nvSpPr>
          <p:spPr>
            <a:xfrm>
              <a:off x="395280" y="309888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矩形 3"/>
            <p:cNvSpPr/>
            <p:nvPr/>
          </p:nvSpPr>
          <p:spPr>
            <a:xfrm>
              <a:off x="725760" y="35460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2" name="Group 10"/>
          <p:cNvGrpSpPr/>
          <p:nvPr/>
        </p:nvGrpSpPr>
        <p:grpSpPr>
          <a:xfrm>
            <a:off x="395280" y="434880"/>
            <a:ext cx="2521080" cy="1555920"/>
            <a:chOff x="395280" y="434880"/>
            <a:chExt cx="2521080" cy="1555920"/>
          </a:xfrm>
        </p:grpSpPr>
        <p:sp>
          <p:nvSpPr>
            <p:cNvPr id="733" name="矩形 11"/>
            <p:cNvSpPr/>
            <p:nvPr/>
          </p:nvSpPr>
          <p:spPr>
            <a:xfrm>
              <a:off x="39528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矩形 16"/>
            <p:cNvSpPr/>
            <p:nvPr/>
          </p:nvSpPr>
          <p:spPr>
            <a:xfrm>
              <a:off x="72576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5" name="Group 13"/>
          <p:cNvGrpSpPr/>
          <p:nvPr/>
        </p:nvGrpSpPr>
        <p:grpSpPr>
          <a:xfrm>
            <a:off x="3311640" y="434880"/>
            <a:ext cx="2520720" cy="1555920"/>
            <a:chOff x="3311640" y="434880"/>
            <a:chExt cx="2520720" cy="1555920"/>
          </a:xfrm>
        </p:grpSpPr>
        <p:sp>
          <p:nvSpPr>
            <p:cNvPr id="736" name="矩形 2"/>
            <p:cNvSpPr/>
            <p:nvPr/>
          </p:nvSpPr>
          <p:spPr>
            <a:xfrm>
              <a:off x="3311640" y="434880"/>
              <a:ext cx="252072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矩形 17"/>
            <p:cNvSpPr/>
            <p:nvPr/>
          </p:nvSpPr>
          <p:spPr>
            <a:xfrm>
              <a:off x="36313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Group 16"/>
          <p:cNvGrpSpPr/>
          <p:nvPr/>
        </p:nvGrpSpPr>
        <p:grpSpPr>
          <a:xfrm>
            <a:off x="6227640" y="434880"/>
            <a:ext cx="2521080" cy="1555920"/>
            <a:chOff x="6227640" y="434880"/>
            <a:chExt cx="2521080" cy="1555920"/>
          </a:xfrm>
        </p:grpSpPr>
        <p:sp>
          <p:nvSpPr>
            <p:cNvPr id="739" name="矩形 12"/>
            <p:cNvSpPr/>
            <p:nvPr/>
          </p:nvSpPr>
          <p:spPr>
            <a:xfrm>
              <a:off x="6227640" y="43488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矩形 18"/>
            <p:cNvSpPr/>
            <p:nvPr/>
          </p:nvSpPr>
          <p:spPr>
            <a:xfrm>
              <a:off x="6558120" y="85860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1" name="Group 19"/>
          <p:cNvGrpSpPr/>
          <p:nvPr/>
        </p:nvGrpSpPr>
        <p:grpSpPr>
          <a:xfrm>
            <a:off x="6227640" y="3122640"/>
            <a:ext cx="2521080" cy="1554120"/>
            <a:chOff x="6227640" y="3122640"/>
            <a:chExt cx="2521080" cy="1554120"/>
          </a:xfrm>
        </p:grpSpPr>
        <p:sp>
          <p:nvSpPr>
            <p:cNvPr id="742" name="矩形 14"/>
            <p:cNvSpPr/>
            <p:nvPr/>
          </p:nvSpPr>
          <p:spPr>
            <a:xfrm>
              <a:off x="6227640" y="3122640"/>
              <a:ext cx="252108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矩形 19"/>
            <p:cNvSpPr/>
            <p:nvPr/>
          </p:nvSpPr>
          <p:spPr>
            <a:xfrm>
              <a:off x="655812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4" name="Group 22"/>
          <p:cNvGrpSpPr/>
          <p:nvPr/>
        </p:nvGrpSpPr>
        <p:grpSpPr>
          <a:xfrm>
            <a:off x="3300480" y="3122640"/>
            <a:ext cx="2520720" cy="1554120"/>
            <a:chOff x="3300480" y="3122640"/>
            <a:chExt cx="2520720" cy="1554120"/>
          </a:xfrm>
        </p:grpSpPr>
        <p:sp>
          <p:nvSpPr>
            <p:cNvPr id="745" name="矩形 13"/>
            <p:cNvSpPr/>
            <p:nvPr/>
          </p:nvSpPr>
          <p:spPr>
            <a:xfrm>
              <a:off x="3300480" y="3122640"/>
              <a:ext cx="2520720" cy="15541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矩形 20"/>
            <p:cNvSpPr/>
            <p:nvPr/>
          </p:nvSpPr>
          <p:spPr>
            <a:xfrm>
              <a:off x="3641760" y="352188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7" name="Group 25"/>
          <p:cNvGrpSpPr/>
          <p:nvPr/>
        </p:nvGrpSpPr>
        <p:grpSpPr>
          <a:xfrm>
            <a:off x="395280" y="6051600"/>
            <a:ext cx="2521080" cy="1555560"/>
            <a:chOff x="395280" y="6051600"/>
            <a:chExt cx="2521080" cy="1555560"/>
          </a:xfrm>
        </p:grpSpPr>
        <p:sp>
          <p:nvSpPr>
            <p:cNvPr id="748" name="矩形 28"/>
            <p:cNvSpPr/>
            <p:nvPr/>
          </p:nvSpPr>
          <p:spPr>
            <a:xfrm>
              <a:off x="395280" y="605160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9"/>
            <p:cNvSpPr/>
            <p:nvPr/>
          </p:nvSpPr>
          <p:spPr>
            <a:xfrm>
              <a:off x="7257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Group 28"/>
          <p:cNvGrpSpPr/>
          <p:nvPr/>
        </p:nvGrpSpPr>
        <p:grpSpPr>
          <a:xfrm>
            <a:off x="3300480" y="6051600"/>
            <a:ext cx="2520720" cy="1555560"/>
            <a:chOff x="3300480" y="6051600"/>
            <a:chExt cx="2520720" cy="1555560"/>
          </a:xfrm>
        </p:grpSpPr>
        <p:sp>
          <p:nvSpPr>
            <p:cNvPr id="751" name="矩形 31"/>
            <p:cNvSpPr/>
            <p:nvPr/>
          </p:nvSpPr>
          <p:spPr>
            <a:xfrm>
              <a:off x="3300480" y="6051600"/>
              <a:ext cx="252072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32"/>
            <p:cNvSpPr/>
            <p:nvPr/>
          </p:nvSpPr>
          <p:spPr>
            <a:xfrm>
              <a:off x="3630960" y="64753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Group 31"/>
          <p:cNvGrpSpPr/>
          <p:nvPr/>
        </p:nvGrpSpPr>
        <p:grpSpPr>
          <a:xfrm>
            <a:off x="6227640" y="6027840"/>
            <a:ext cx="2521080" cy="1555560"/>
            <a:chOff x="6227640" y="6027840"/>
            <a:chExt cx="2521080" cy="1555560"/>
          </a:xfrm>
        </p:grpSpPr>
        <p:sp>
          <p:nvSpPr>
            <p:cNvPr id="754" name="矩形 34"/>
            <p:cNvSpPr/>
            <p:nvPr/>
          </p:nvSpPr>
          <p:spPr>
            <a:xfrm>
              <a:off x="6227640" y="6027840"/>
              <a:ext cx="25210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35"/>
            <p:cNvSpPr/>
            <p:nvPr/>
          </p:nvSpPr>
          <p:spPr>
            <a:xfrm>
              <a:off x="6558120" y="645156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Group 34"/>
          <p:cNvGrpSpPr/>
          <p:nvPr/>
        </p:nvGrpSpPr>
        <p:grpSpPr>
          <a:xfrm>
            <a:off x="6245280" y="8836200"/>
            <a:ext cx="2519280" cy="1555560"/>
            <a:chOff x="6245280" y="8836200"/>
            <a:chExt cx="2519280" cy="1555560"/>
          </a:xfrm>
        </p:grpSpPr>
        <p:sp>
          <p:nvSpPr>
            <p:cNvPr id="757" name="矩形 37"/>
            <p:cNvSpPr/>
            <p:nvPr/>
          </p:nvSpPr>
          <p:spPr>
            <a:xfrm>
              <a:off x="6245280" y="8836200"/>
              <a:ext cx="2519280" cy="155556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矩形 38"/>
            <p:cNvSpPr/>
            <p:nvPr/>
          </p:nvSpPr>
          <p:spPr>
            <a:xfrm>
              <a:off x="6575040" y="92599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Group 37"/>
          <p:cNvGrpSpPr/>
          <p:nvPr/>
        </p:nvGrpSpPr>
        <p:grpSpPr>
          <a:xfrm>
            <a:off x="3313080" y="8834400"/>
            <a:ext cx="2519280" cy="1555920"/>
            <a:chOff x="3313080" y="8834400"/>
            <a:chExt cx="2519280" cy="1555920"/>
          </a:xfrm>
        </p:grpSpPr>
        <p:sp>
          <p:nvSpPr>
            <p:cNvPr id="760" name="矩形 40"/>
            <p:cNvSpPr/>
            <p:nvPr/>
          </p:nvSpPr>
          <p:spPr>
            <a:xfrm>
              <a:off x="3313080" y="8834400"/>
              <a:ext cx="25192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矩形 41"/>
            <p:cNvSpPr/>
            <p:nvPr/>
          </p:nvSpPr>
          <p:spPr>
            <a:xfrm>
              <a:off x="364284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Group 40"/>
          <p:cNvGrpSpPr/>
          <p:nvPr/>
        </p:nvGrpSpPr>
        <p:grpSpPr>
          <a:xfrm>
            <a:off x="395280" y="8834400"/>
            <a:ext cx="2521080" cy="1555920"/>
            <a:chOff x="395280" y="8834400"/>
            <a:chExt cx="2521080" cy="1555920"/>
          </a:xfrm>
        </p:grpSpPr>
        <p:sp>
          <p:nvSpPr>
            <p:cNvPr id="763" name="矩形 43"/>
            <p:cNvSpPr/>
            <p:nvPr/>
          </p:nvSpPr>
          <p:spPr>
            <a:xfrm>
              <a:off x="395280" y="8834400"/>
              <a:ext cx="2521080" cy="1555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44"/>
            <p:cNvSpPr/>
            <p:nvPr/>
          </p:nvSpPr>
          <p:spPr>
            <a:xfrm>
              <a:off x="725760" y="9258120"/>
              <a:ext cx="1859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MEDIA 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0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0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0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xit" presetID="45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4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2400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23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xit" presetID="45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7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xit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190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xit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45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9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2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553" dur="100" fill="hold"/>
                                        <p:tgtEl>
                                          <p:spTgt spid="728"/>
                                        </p:tgtEl>
                                      </p:cBhvr>
                                      <p:to x="30000" y="30000"/>
                                    </p:animScale>
                                  </p:childTnLst>
                                </p:cTn>
                              </p:par>
                              <p:par>
                                <p:cTn id="554" nodeType="withEffect" fill="hold" presetClass="path" presetID="42">
                                  <p:stCondLst>
                                    <p:cond delay="2600"/>
                                  </p:stCondLst>
                                  <p:childTnLst>
                                    <p:animMotion origin="layout" path="M 0.00122 0 L 0.00122 -0.02809 E">
                                      <p:cBhvr>
                                        <p:cTn id="555" dur="100" fill="hold"/>
                                        <p:tgtEl>
                                          <p:spTgt spid="7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0" dur="1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62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64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66" dur="100" fill="hold"/>
                                        <p:tgtEl>
                                          <p:spTgt spid="7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6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68" dur="200" fill="hold"/>
                                        <p:tgtEl>
                                          <p:spTgt spid="732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3" dur="1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6">
                                  <p:stCondLst>
                                    <p:cond delay="2700"/>
                                  </p:stCondLst>
                                  <p:childTnLst>
                                    <p:animScale>
                                      <p:cBhvr>
                                        <p:cTn id="575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77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579" dur="100" fill="hold"/>
                                        <p:tgtEl>
                                          <p:spTgt spid="7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80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81" dur="200" fill="hold"/>
                                        <p:tgtEl>
                                          <p:spTgt spid="729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86" dur="1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588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589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590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591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592" dur="100" fill="hold"/>
                                        <p:tgtEl>
                                          <p:spTgt spid="7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594" dur="200" fill="hold"/>
                                        <p:tgtEl>
                                          <p:spTgt spid="738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9" dur="1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01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02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03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04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05" dur="100" fill="hold"/>
                                        <p:tgtEl>
                                          <p:spTgt spid="7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07" dur="200" fill="hold"/>
                                        <p:tgtEl>
                                          <p:spTgt spid="735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12" dur="1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mph" presetID="6">
                                  <p:stCondLst>
                                    <p:cond delay="2800"/>
                                  </p:stCondLst>
                                  <p:childTnLst>
                                    <p:animScale>
                                      <p:cBhvr>
                                        <p:cTn id="614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6">
                                  <p:stCondLst>
                                    <p:cond delay="2900"/>
                                  </p:stCondLst>
                                  <p:childTnLst>
                                    <p:animScale>
                                      <p:cBhvr>
                                        <p:cTn id="616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18" dur="100" fill="hold"/>
                                        <p:tgtEl>
                                          <p:spTgt spid="7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6">
                                  <p:stCondLst>
                                    <p:cond delay="3200"/>
                                  </p:stCondLst>
                                  <p:childTnLst>
                                    <p:animScale>
                                      <p:cBhvr>
                                        <p:cTn id="620" dur="200" fill="hold"/>
                                        <p:tgtEl>
                                          <p:spTgt spid="744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29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5" dur="1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>
                                  <p:stCondLst>
                                    <p:cond delay="3000"/>
                                  </p:stCondLst>
                                  <p:childTnLst>
                                    <p:animScale>
                                      <p:cBhvr>
                                        <p:cTn id="627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6">
                                  <p:stCondLst>
                                    <p:cond delay="3100"/>
                                  </p:stCondLst>
                                  <p:childTnLst>
                                    <p:animScale>
                                      <p:cBhvr>
                                        <p:cTn id="629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630" nodeType="withEffect" fill="hold" presetClass="emph" presetID="6">
                                  <p:stCondLst>
                                    <p:cond delay="3300"/>
                                  </p:stCondLst>
                                  <p:childTnLst>
                                    <p:animScale>
                                      <p:cBhvr>
                                        <p:cTn id="631" dur="100" fill="hold"/>
                                        <p:tgtEl>
                                          <p:spTgt spid="7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633" dur="200" fill="hold"/>
                                        <p:tgtEl>
                                          <p:spTgt spid="741"/>
                                        </p:tgtEl>
                                      </p:cBhvr>
                                      <p:to x="95000" y="95000"/>
                                    </p:animScale>
                                  </p:childTnLst>
                                </p:cTn>
                              </p:par>
                              <p:par>
                                <p:cTn id="63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5" dur="30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3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82716E-006 L -0.004 1.09044 E">
                                      <p:cBhvr>
                                        <p:cTn id="637" dur="500" fill="hold"/>
                                        <p:tgtEl>
                                          <p:spTgt spid="7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39" dur="3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0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3.61111E-006 -3.29626E-006 L 3.61111E-006 1.11956 E">
                                      <p:cBhvr>
                                        <p:cTn id="641" dur="500" fill="hold"/>
                                        <p:tgtEl>
                                          <p:spTgt spid="7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3" dur="3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4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-2.07909E-006 L -3.61111E-006 1.09144 E">
                                      <p:cBhvr>
                                        <p:cTn id="645" dur="500" fill="hold"/>
                                        <p:tgtEl>
                                          <p:spTgt spid="7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6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47" dur="3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8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3.61111E-006 2.78344E-006 L -3.61111E-006 1.11492 E">
                                      <p:cBhvr>
                                        <p:cTn id="649" dur="500" fill="hold"/>
                                        <p:tgtEl>
                                          <p:spTgt spid="7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0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5400000">
                                      <p:cBhvr>
                                        <p:cTn id="651" dur="3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2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0 -2.07909E-006 L 0 1.07754 E">
                                      <p:cBhvr>
                                        <p:cTn id="653" dur="500" fill="hold"/>
                                        <p:tgtEl>
                                          <p:spTgt spid="7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4" nodeType="withEffect" fill="hold" presetClass="emph" presetID="8">
                                  <p:stCondLst>
                                    <p:cond delay="4500"/>
                                  </p:stCondLst>
                                  <p:childTnLst>
                                    <p:animRot by="-5399940">
                                      <p:cBhvr>
                                        <p:cTn id="655" dur="3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56" nodeType="withEffect" fill="hold" presetClass="path" presetID="42">
                                  <p:stCondLst>
                                    <p:cond delay="4500"/>
                                  </p:stCondLst>
                                  <p:childTnLst>
                                    <p:animMotion origin="layout" path="M -4.72222E-006 2.78344E-006 L 0.00122 1.11492 E">
                                      <p:cBhvr>
                                        <p:cTn id="657" dur="5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8" nodeType="withEffect" fill="hold" presetClass="path" presetID="64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59" dur="5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0" nodeType="withEffect" fill="hold" presetClass="path" presetID="42">
                                  <p:stCondLst>
                                    <p:cond delay="5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1" dur="3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2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3" dur="400" fill="hold"/>
                                        <p:tgtEl>
                                          <p:spTgt spid="7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4" nodeType="withEffect" fill="hold" presetClass="path" presetID="64">
                                  <p:stCondLst>
                                    <p:cond delay="57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65" dur="5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6" nodeType="withEffect" fill="hold" presetClass="path" presetID="42">
                                  <p:stCondLst>
                                    <p:cond delay="62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67" dur="3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8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69" dur="400" fill="hold"/>
                                        <p:tgtEl>
                                          <p:spTgt spid="7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0" nodeType="withEffect" fill="hold" presetClass="path" presetID="64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1" dur="5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2" nodeType="withEffect" fill="hold" presetClass="path" presetID="42">
                                  <p:stCondLst>
                                    <p:cond delay="70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3" dur="3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4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75" dur="400" fill="hold"/>
                                        <p:tgtEl>
                                          <p:spTgt spid="7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6" nodeType="withEffect" fill="hold" presetClass="path" presetID="64">
                                  <p:stCondLst>
                                    <p:cond delay="73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77" dur="5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8" nodeType="withEffect" fill="hold" presetClass="path" presetID="42">
                                  <p:stCondLst>
                                    <p:cond delay="78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79" dur="3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81" dur="400" fill="hold"/>
                                        <p:tgtEl>
                                          <p:spTgt spid="7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5">
                                  <p:stCondLst>
                                    <p:cond delay="8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3" dur="2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2000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path" presetID="64">
                                  <p:stCondLst>
                                    <p:cond delay="81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88" dur="5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42">
                                  <p:stCondLst>
                                    <p:cond delay="86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0" dur="3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2" dur="400" fill="hold"/>
                                        <p:tgtEl>
                                          <p:spTgt spid="7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64">
                                  <p:stCondLst>
                                    <p:cond delay="8900"/>
                                  </p:stCondLst>
                                  <p:childTnLst>
                                    <p:animMotion origin="layout" path="M -3.33333E-006 4.07407E-006 L 0.00018 -1.12007 E">
                                      <p:cBhvr>
                                        <p:cTn id="694" dur="5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42">
                                  <p:stCondLst>
                                    <p:cond delay="9400"/>
                                  </p:stCondLst>
                                  <p:childTnLst>
                                    <p:animMotion origin="layout" path="M 0.00017 -1.12007 L 3.61111E-006 -1.09198 E">
                                      <p:cBhvr>
                                        <p:cTn id="696" dur="3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42">
                                  <p:stCondLst>
                                    <p:cond delay="9900"/>
                                  </p:stCondLst>
                                  <p:childTnLst>
                                    <p:animMotion origin="layout" path="M -3.33333E-006 4.07407E-006 L -3.33333E-006 -1.09198 E">
                                      <p:cBhvr>
                                        <p:cTn id="698" dur="4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2"/>
          <p:cNvGrpSpPr/>
          <p:nvPr/>
        </p:nvGrpSpPr>
        <p:grpSpPr>
          <a:xfrm>
            <a:off x="842040" y="1708200"/>
            <a:ext cx="7473240" cy="1727280"/>
            <a:chOff x="842040" y="1708200"/>
            <a:chExt cx="7473240" cy="1727280"/>
          </a:xfrm>
        </p:grpSpPr>
        <p:sp>
          <p:nvSpPr>
            <p:cNvPr id="766" name="矩形 1"/>
            <p:cNvSpPr/>
            <p:nvPr/>
          </p:nvSpPr>
          <p:spPr>
            <a:xfrm>
              <a:off x="842040" y="2310480"/>
              <a:ext cx="4039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An illustration goes here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梯形 3"/>
            <p:cNvSpPr/>
            <p:nvPr/>
          </p:nvSpPr>
          <p:spPr>
            <a:xfrm flipV="1" rot="16200000">
              <a:off x="6119640" y="1239840"/>
              <a:ext cx="1727280" cy="2664000"/>
            </a:xfrm>
            <a:custGeom>
              <a:avLst/>
              <a:gdLst>
                <a:gd name="textAreaLeft" fmla="*/ 207360 w 1727280"/>
                <a:gd name="textAreaRight" fmla="*/ 1519920 w 1727280"/>
                <a:gd name="textAreaTop" fmla="*/ 320040 h 2664000"/>
                <a:gd name="textAreaBottom" fmla="*/ 2343960 h 266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4"/>
            <p:cNvSpPr/>
            <p:nvPr/>
          </p:nvSpPr>
          <p:spPr>
            <a:xfrm>
              <a:off x="5887080" y="215640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9" name="Group 6"/>
          <p:cNvGrpSpPr/>
          <p:nvPr/>
        </p:nvGrpSpPr>
        <p:grpSpPr>
          <a:xfrm>
            <a:off x="6561000" y="-2176560"/>
            <a:ext cx="2665440" cy="1728720"/>
            <a:chOff x="6561000" y="-2176560"/>
            <a:chExt cx="2665440" cy="1728720"/>
          </a:xfrm>
        </p:grpSpPr>
        <p:sp>
          <p:nvSpPr>
            <p:cNvPr id="770" name="梯形 6"/>
            <p:cNvSpPr/>
            <p:nvPr/>
          </p:nvSpPr>
          <p:spPr>
            <a:xfrm flipV="1" rot="5400000">
              <a:off x="7029360" y="-2644920"/>
              <a:ext cx="1728720" cy="2665440"/>
            </a:xfrm>
            <a:custGeom>
              <a:avLst/>
              <a:gdLst>
                <a:gd name="textAreaLeft" fmla="*/ 207720 w 1728720"/>
                <a:gd name="textAreaRight" fmla="*/ 1521000 w 1728720"/>
                <a:gd name="textAreaTop" fmla="*/ 320040 h 2665440"/>
                <a:gd name="textAreaBottom" fmla="*/ 2345400 h 2665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590" y="21600"/>
                  </a:lnTo>
                  <a:lnTo>
                    <a:pt x="2001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矩形 7"/>
            <p:cNvSpPr/>
            <p:nvPr/>
          </p:nvSpPr>
          <p:spPr>
            <a:xfrm>
              <a:off x="6797520" y="-1721880"/>
              <a:ext cx="2192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LLYSTRATION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IMAGE</a:t>
              </a:r>
              <a:r>
                <a:rPr b="1" lang="zh-CN" sz="2400" spc="-1" strike="noStrike">
                  <a:solidFill>
                    <a:srgbClr val="000000"/>
                  </a:solidFill>
                  <a:latin typeface="Calibri"/>
                </a:rPr>
                <a:t>｜</a:t>
              </a: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VIDE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矩形 2"/>
          <p:cNvSpPr/>
          <p:nvPr/>
        </p:nvSpPr>
        <p:spPr>
          <a:xfrm>
            <a:off x="9243000" y="230976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nother one 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0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2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7" nodeType="withEffect" fill="hold" presetClass="emph" presetID="6">
                                  <p:stCondLst>
                                    <p:cond delay="1200"/>
                                  </p:stCondLst>
                                  <p:childTnLst>
                                    <p:animScale>
                                      <p:cBhvr>
                                        <p:cTn id="708" dur="1300" fill="hold"/>
                                        <p:tgtEl>
                                          <p:spTgt spid="765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09" nodeType="withEffect" fill="hold" presetClass="exit" presetID="2" presetSubtype="8">
                                  <p:stCondLst>
                                    <p:cond delay="2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42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0.06997 0.05591 L -0.60729 0.75656 E">
                                      <p:cBhvr>
                                        <p:cTn id="714" dur="900" fill="hold"/>
                                        <p:tgtEl>
                                          <p:spTgt spid="7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-4.44444E-006 -3.39203E-006 L -0.48993 -3.39203E-006 E">
                                      <p:cBhvr>
                                        <p:cTn id="716" dur="900" fill="hold"/>
                                        <p:tgtEl>
                                          <p:spTgt spid="7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7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18" dur="1300" fill="hold"/>
                                        <p:tgtEl>
                                          <p:spTgt spid="769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  <p:par>
                                <p:cTn id="719" nodeType="withEffect" fill="hold" presetClass="emph" presetID="6">
                                  <p:stCondLst>
                                    <p:cond delay="3400"/>
                                  </p:stCondLst>
                                  <p:childTnLst>
                                    <p:animScale>
                                      <p:cBhvr>
                                        <p:cTn id="720" dur="1300" fill="hold"/>
                                        <p:tgtEl>
                                          <p:spTgt spid="772"/>
                                        </p:tgtEl>
                                      </p:cBhvr>
                                      <p:to x="97000" y="9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3" name="Group 2"/>
          <p:cNvGrpSpPr/>
          <p:nvPr/>
        </p:nvGrpSpPr>
        <p:grpSpPr>
          <a:xfrm>
            <a:off x="1986120" y="5388120"/>
            <a:ext cx="5173200" cy="2643840"/>
            <a:chOff x="1986120" y="5388120"/>
            <a:chExt cx="5173200" cy="2643840"/>
          </a:xfrm>
        </p:grpSpPr>
        <p:sp>
          <p:nvSpPr>
            <p:cNvPr id="774" name="矩形 4"/>
            <p:cNvSpPr/>
            <p:nvPr/>
          </p:nvSpPr>
          <p:spPr>
            <a:xfrm>
              <a:off x="2058480" y="5480280"/>
              <a:ext cx="502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6600"/>
                  </a:solidFill>
                  <a:latin typeface="Calibri"/>
                </a:rPr>
                <a:t>THIS PROJECT WAS MADE WITH THE VERS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矩形 5"/>
            <p:cNvSpPr/>
            <p:nvPr/>
          </p:nvSpPr>
          <p:spPr>
            <a:xfrm>
              <a:off x="1992960" y="5388120"/>
              <a:ext cx="2384280" cy="18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500" spc="-1" strike="noStrike">
                  <a:solidFill>
                    <a:srgbClr val="000000"/>
                  </a:solidFill>
                  <a:latin typeface="Calibri"/>
                </a:rPr>
                <a:t>CS4</a:t>
              </a:r>
              <a:endParaRPr b="0" lang="en-US" sz="1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矩形 6"/>
            <p:cNvSpPr/>
            <p:nvPr/>
          </p:nvSpPr>
          <p:spPr>
            <a:xfrm>
              <a:off x="4201560" y="5866920"/>
              <a:ext cx="287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OF AFTER EFFEC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矩形 7"/>
            <p:cNvSpPr/>
            <p:nvPr/>
          </p:nvSpPr>
          <p:spPr>
            <a:xfrm>
              <a:off x="4318920" y="6360120"/>
              <a:ext cx="262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7f7f"/>
                  </a:solidFill>
                  <a:latin typeface="Calibri"/>
                </a:rPr>
                <a:t>IN HD RESOLU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矩形 8"/>
            <p:cNvSpPr/>
            <p:nvPr/>
          </p:nvSpPr>
          <p:spPr>
            <a:xfrm>
              <a:off x="1986120" y="6474960"/>
              <a:ext cx="5173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d00000"/>
                  </a:solidFill>
                  <a:latin typeface="Calibri"/>
                </a:rPr>
                <a:t>1280X720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9" name="Group 8"/>
          <p:cNvGrpSpPr/>
          <p:nvPr/>
        </p:nvGrpSpPr>
        <p:grpSpPr>
          <a:xfrm>
            <a:off x="1206360" y="2120760"/>
            <a:ext cx="6730920" cy="880200"/>
            <a:chOff x="1206360" y="2120760"/>
            <a:chExt cx="6730920" cy="880200"/>
          </a:xfrm>
        </p:grpSpPr>
        <p:sp>
          <p:nvSpPr>
            <p:cNvPr id="780" name="矩形 1"/>
            <p:cNvSpPr/>
            <p:nvPr/>
          </p:nvSpPr>
          <p:spPr>
            <a:xfrm>
              <a:off x="1206360" y="2120760"/>
              <a:ext cx="67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HERE YOU CAN PLACE YOUR OWN MESSAG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矩形 2"/>
            <p:cNvSpPr/>
            <p:nvPr/>
          </p:nvSpPr>
          <p:spPr>
            <a:xfrm>
              <a:off x="2378520" y="2480400"/>
              <a:ext cx="4386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Calibri"/>
                </a:rPr>
                <a:t>OR INSERT ANOTHER MEDI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2" name="t"/>
          <p:cNvSpPr/>
          <p:nvPr/>
        </p:nvSpPr>
        <p:spPr>
          <a:xfrm>
            <a:off x="2057760" y="1276200"/>
            <a:ext cx="502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Calibri"/>
              </a:rPr>
              <a:t>THIS PROJECT WAS MADE WITH THE 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c"/>
          <p:cNvSpPr/>
          <p:nvPr/>
        </p:nvSpPr>
        <p:spPr>
          <a:xfrm>
            <a:off x="1992240" y="1203480"/>
            <a:ext cx="2384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Calibri"/>
              </a:rPr>
              <a:t>CS4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o"/>
          <p:cNvSpPr/>
          <p:nvPr/>
        </p:nvSpPr>
        <p:spPr>
          <a:xfrm>
            <a:off x="4201200" y="1635120"/>
            <a:ext cx="28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F AFTER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i"/>
          <p:cNvSpPr/>
          <p:nvPr/>
        </p:nvSpPr>
        <p:spPr>
          <a:xfrm>
            <a:off x="4318200" y="2139840"/>
            <a:ext cx="26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Calibri"/>
              </a:rPr>
              <a:t>IN HD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1"/>
          <p:cNvSpPr/>
          <p:nvPr/>
        </p:nvSpPr>
        <p:spPr>
          <a:xfrm>
            <a:off x="1986120" y="2298600"/>
            <a:ext cx="517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d00000"/>
                </a:solidFill>
                <a:latin typeface="Calibri"/>
              </a:rPr>
              <a:t>1280X72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7" name="Picture 2" descr=""/>
          <p:cNvPicPr/>
          <p:nvPr/>
        </p:nvPicPr>
        <p:blipFill>
          <a:blip r:embed="rId1"/>
          <a:stretch/>
        </p:blipFill>
        <p:spPr>
          <a:xfrm>
            <a:off x="1192320" y="777960"/>
            <a:ext cx="6602400" cy="3730680"/>
          </a:xfrm>
          <a:prstGeom prst="rect">
            <a:avLst/>
          </a:prstGeom>
          <a:ln w="0">
            <a:noFill/>
          </a:ln>
        </p:spPr>
      </p:pic>
      <p:grpSp>
        <p:nvGrpSpPr>
          <p:cNvPr id="788" name="Group 17"/>
          <p:cNvGrpSpPr/>
          <p:nvPr/>
        </p:nvGrpSpPr>
        <p:grpSpPr>
          <a:xfrm>
            <a:off x="1137240" y="1874880"/>
            <a:ext cx="6870960" cy="1335960"/>
            <a:chOff x="1137240" y="1874880"/>
            <a:chExt cx="6870960" cy="1335960"/>
          </a:xfrm>
        </p:grpSpPr>
        <p:sp>
          <p:nvSpPr>
            <p:cNvPr id="789" name="矩形 9"/>
            <p:cNvSpPr/>
            <p:nvPr/>
          </p:nvSpPr>
          <p:spPr>
            <a:xfrm>
              <a:off x="1137240" y="1874880"/>
              <a:ext cx="687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9933"/>
                  </a:solidFill>
                  <a:latin typeface="Calibri"/>
                </a:rPr>
                <a:t>THIS IS ANOTHER P LACE FOR YOU TEXT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矩形 11"/>
            <p:cNvSpPr/>
            <p:nvPr/>
          </p:nvSpPr>
          <p:spPr>
            <a:xfrm>
              <a:off x="2908800" y="2019600"/>
              <a:ext cx="3308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-1" strike="noStrike">
                  <a:solidFill>
                    <a:srgbClr val="000000"/>
                  </a:solidFill>
                  <a:latin typeface="Calibri"/>
                </a:rPr>
                <a:t>EDIT IT !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0">
    <p:fade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nodeType="clickEffect" fill="hold">
                      <p:stCondLst>
                        <p:cond delay="0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withEffect" fill="hold" presetClass="entr" presetID="17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path" presetID="42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E">
                                      <p:cBhvr>
                                        <p:cTn id="732" dur="300" fill="hold"/>
                                        <p:tgtEl>
                                          <p:spTgt spid="7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45">
                                  <p:stCondLst>
                                    <p:cond delay="1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3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2000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path" presetID="42">
                                  <p:stCondLst>
                                    <p:cond delay="1700"/>
                                  </p:stCondLst>
                                  <p:childTnLst>
                                    <p:animMotion origin="layout" path="M 0 -0.82593 L 0 -0.81945 E">
                                      <p:cBhvr>
                                        <p:cTn id="743" dur="1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45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6" dur="20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20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xit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9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2" dur="200" fill="hold"/>
                                        <p:tgtEl>
                                          <p:spTgt spid="783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4" dur="100" fill="hold"/>
                                        <p:tgtEl>
                                          <p:spTgt spid="783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2100"/>
                                  </p:stCondLst>
                                  <p:childTnLst>
                                    <p:animScale>
                                      <p:cBhvr>
                                        <p:cTn id="766" dur="200" fill="hold"/>
                                        <p:tgtEl>
                                          <p:spTgt spid="782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67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68" dur="100" fill="hold"/>
                                        <p:tgtEl>
                                          <p:spTgt spid="782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6">
                                  <p:stCondLst>
                                    <p:cond delay="2300"/>
                                  </p:stCondLst>
                                  <p:childTnLst>
                                    <p:animScale>
                                      <p:cBhvr>
                                        <p:cTn id="770" dur="200" fill="hold"/>
                                        <p:tgtEl>
                                          <p:spTgt spid="784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1" nodeType="withEffect" fill="hold" presetClass="emph" presetID="6">
                                  <p:stCondLst>
                                    <p:cond delay="2500"/>
                                  </p:stCondLst>
                                  <p:childTnLst>
                                    <p:animScale>
                                      <p:cBhvr>
                                        <p:cTn id="772" dur="100" fill="hold"/>
                                        <p:tgtEl>
                                          <p:spTgt spid="784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3" nodeType="withEffect" fill="hold" presetClass="emph" presetID="6">
                                  <p:stCondLst>
                                    <p:cond delay="2200"/>
                                  </p:stCondLst>
                                  <p:childTnLst>
                                    <p:animScale>
                                      <p:cBhvr>
                                        <p:cTn id="774" dur="200" fill="hold"/>
                                        <p:tgtEl>
                                          <p:spTgt spid="785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6" dur="100" fill="hold"/>
                                        <p:tgtEl>
                                          <p:spTgt spid="785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77" nodeType="withEffect" fill="hold" presetClass="emph" presetID="6">
                                  <p:stCondLst>
                                    <p:cond delay="2400"/>
                                  </p:stCondLst>
                                  <p:childTnLst>
                                    <p:animScale>
                                      <p:cBhvr>
                                        <p:cTn id="778" dur="200" fill="hold"/>
                                        <p:tgtEl>
                                          <p:spTgt spid="786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779" nodeType="withEffect" fill="hold" presetClass="emph" presetID="6">
                                  <p:stCondLst>
                                    <p:cond delay="2600"/>
                                  </p:stCondLst>
                                  <p:childTnLst>
                                    <p:animScale>
                                      <p:cBhvr>
                                        <p:cTn id="780" dur="100" fill="hold"/>
                                        <p:tgtEl>
                                          <p:spTgt spid="786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781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3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xit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xit" presetID="45">
                                  <p:stCondLst>
                                    <p:cond delay="2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94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1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1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20000">
                                          <p:val>
                                            <p:fltVal val="0"/>
                                          </p:val>
                                        </p:tav>
                                        <p:tav tm="2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3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3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40000">
                                          <p:val>
                                            <p:strVal val="-#ppt_w"/>
                                          </p:val>
                                        </p:tav>
                                        <p:tav tm="45000">
                                          <p:val>
                                            <p:strVal val="-0.92*#ppt_w"/>
                                          </p:val>
                                        </p:tav>
                                        <p:tav tm="50000">
                                          <p:val>
                                            <p:strVal val="-0.71*#ppt_w"/>
                                          </p:val>
                                        </p:tav>
                                        <p:tav tm="55000">
                                          <p:val>
                                            <p:strVal val="-0.38*#ppt_w"/>
                                          </p:val>
                                        </p:tav>
                                        <p:tav tm="60000">
                                          <p:val>
                                            <p:fltVal val="0"/>
                                          </p:val>
                                        </p:tav>
                                        <p:tav tm="6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7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7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80000">
                                          <p:val>
                                            <p:strVal val="#ppt_w"/>
                                          </p:val>
                                        </p:tav>
                                        <p:tav tm="85000">
                                          <p:val>
                                            <p:strVal val="0.92*#ppt_w"/>
                                          </p:val>
                                        </p:tav>
                                        <p:tav tm="90000">
                                          <p:val>
                                            <p:strVal val="0.71*#ppt_w"/>
                                          </p:val>
                                        </p:tav>
                                        <p:tav tm="95000">
                                          <p:val>
                                            <p:strVal val="0.38*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1">
                                  <p:stCondLst>
                                    <p:cond delay="32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45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7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2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Group 2"/>
          <p:cNvGrpSpPr/>
          <p:nvPr/>
        </p:nvGrpSpPr>
        <p:grpSpPr>
          <a:xfrm>
            <a:off x="3995640" y="1995480"/>
            <a:ext cx="1152720" cy="1152360"/>
            <a:chOff x="3995640" y="1995480"/>
            <a:chExt cx="1152720" cy="1152360"/>
          </a:xfrm>
        </p:grpSpPr>
        <p:sp>
          <p:nvSpPr>
            <p:cNvPr id="792" name="椭圆 1"/>
            <p:cNvSpPr/>
            <p:nvPr/>
          </p:nvSpPr>
          <p:spPr>
            <a:xfrm>
              <a:off x="3995640" y="1995480"/>
              <a:ext cx="1152720" cy="11523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矩形 2"/>
            <p:cNvSpPr/>
            <p:nvPr/>
          </p:nvSpPr>
          <p:spPr>
            <a:xfrm>
              <a:off x="4030560" y="2217600"/>
              <a:ext cx="1089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FOLLO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alibri"/>
                </a:rPr>
                <a:t>ME 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Group 5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5" name="矩形 11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矩形 12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7" name="Group 8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798" name="矩形 17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矩形 18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0" name="Group 11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1" name="矩形 20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矩形 21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3" name="Group 14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4" name="矩形 23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矩形 24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Group 17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07" name="矩形 26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矩形 27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" name="Group 20"/>
          <p:cNvGrpSpPr/>
          <p:nvPr/>
        </p:nvGrpSpPr>
        <p:grpSpPr>
          <a:xfrm>
            <a:off x="2463840" y="2217600"/>
            <a:ext cx="4216320" cy="703440"/>
            <a:chOff x="2463840" y="2217600"/>
            <a:chExt cx="4216320" cy="703440"/>
          </a:xfrm>
        </p:grpSpPr>
        <p:sp>
          <p:nvSpPr>
            <p:cNvPr id="810" name="矩形 29"/>
            <p:cNvSpPr/>
            <p:nvPr/>
          </p:nvSpPr>
          <p:spPr>
            <a:xfrm>
              <a:off x="514800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Calibri"/>
                </a:rPr>
                <a:t>LINK 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矩形 30"/>
            <p:cNvSpPr/>
            <p:nvPr/>
          </p:nvSpPr>
          <p:spPr>
            <a:xfrm>
              <a:off x="2463840" y="2217600"/>
              <a:ext cx="15321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Calibri"/>
                </a:rPr>
                <a:t>LINK 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nodeType="clickEffect" fill="hold">
                      <p:stCondLst>
                        <p:cond delay="0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2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0" dur="2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mph" presetID="6">
                                  <p:stCondLst>
                                    <p:cond delay="700"/>
                                  </p:stCondLst>
                                  <p:childTnLst>
                                    <p:animScale>
                                      <p:cBhvr>
                                        <p:cTn id="822" dur="200" fill="hold"/>
                                        <p:tgtEl>
                                          <p:spTgt spid="791"/>
                                        </p:tgtEl>
                                      </p:cBhvr>
                                      <p:to x="110000" y="110000"/>
                                    </p:animScale>
                                  </p:childTnLst>
                                </p:cTn>
                              </p:par>
                              <p:par>
                                <p:cTn id="823" nodeType="withEffect" fill="hold" presetClass="emph" presetID="6">
                                  <p:stCondLst>
                                    <p:cond delay="900"/>
                                  </p:stCondLst>
                                  <p:childTnLst>
                                    <p:animScale>
                                      <p:cBhvr>
                                        <p:cTn id="824" dur="100" fill="hold"/>
                                        <p:tgtEl>
                                          <p:spTgt spid="791"/>
                                        </p:tgtEl>
                                      </p:cBhvr>
                                      <p:to x="90000" y="90000"/>
                                    </p:animScale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mph" presetID="8">
                                  <p:stCondLst>
                                    <p:cond delay="1400"/>
                                  </p:stCondLst>
                                  <p:childTnLst>
                                    <p:animRot by="2700000">
                                      <p:cBhvr>
                                        <p:cTn id="828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30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32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34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36" dur="1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mph" presetID="8">
                                  <p:stCondLst>
                                    <p:cond delay="1700"/>
                                  </p:stCondLst>
                                  <p:childTnLst>
                                    <p:animRot by="2700000">
                                      <p:cBhvr>
                                        <p:cTn id="840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1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42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44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5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46" dur="1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8">
                                  <p:stCondLst>
                                    <p:cond delay="2000"/>
                                  </p:stCondLst>
                                  <p:childTnLst>
                                    <p:animRot by="2700000">
                                      <p:cBhvr>
                                        <p:cTn id="850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1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2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54" dur="1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1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7" nodeType="withEffect" fill="hold" presetClass="emph" presetID="8">
                                  <p:stCondLst>
                                    <p:cond delay="2300"/>
                                  </p:stCondLst>
                                  <p:childTnLst>
                                    <p:animRot by="2700000">
                                      <p:cBhvr>
                                        <p:cTn id="858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9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0" dur="1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mph" presetID="8">
                                  <p:stCondLst>
                                    <p:cond delay="2600"/>
                                  </p:stCondLst>
                                  <p:childTnLst>
                                    <p:animRot by="2700000">
                                      <p:cBhvr>
                                        <p:cTn id="864" dur="1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">
                                  <p:stCondLst>
                                    <p:cond delay="27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68" dur="4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6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0" dur="4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2" dur="4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3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4" dur="4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5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6" dur="4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7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78" dur="4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9" nodeType="withEffect" fill="hold" presetClass="emph" presetID="8">
                                  <p:stCondLst>
                                    <p:cond delay="3000"/>
                                  </p:stCondLst>
                                  <p:childTnLst>
                                    <p:animRot by="43200000">
                                      <p:cBhvr>
                                        <p:cTn id="880" dur="4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8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2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4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4" dur="4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87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4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89" dur="4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2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4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4" dur="4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7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4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9" dur="4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2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4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4" dur="4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7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4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9" dur="4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4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4" dur="4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01:58:00Z</dcterms:created>
  <dc:creator>Microsoft</dc:creator>
  <dc:description/>
  <cp:keywords/>
  <dc:language>en-US</dc:language>
  <cp:lastModifiedBy>Administrator</cp:lastModifiedBy>
  <dcterms:modified xsi:type="dcterms:W3CDTF">2016-08-10T05:39:54Z</dcterms:modified>
  <cp:revision>15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