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D0B-D2A0-4123-A6C5-F5A2F6EE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0CF-7CC3-49A9-9754-B64B5234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DD7-500E-4FA8-BBC0-95418F06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C45-C015-48F9-830B-25C7C4D1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603-75FA-4C06-8B1B-B99AD50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2C7-85A8-472A-834A-8AD8E021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511-F407-4CE8-AC27-32878A03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BBC-1DF4-48CF-9E5B-9332852F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185-644E-4D84-A7AF-29D01472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1CC-F81A-4145-8873-2F1239C1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805-A431-407B-BEEE-C260C638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BA3-22E0-4A88-A63B-AE224A9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8069-46D8-458D-9C18-8F5A3FEA7C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0FED-5DBF-42C5-91ED-4E4569DCC1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1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1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1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1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custGeom>
            <a:avLst/>
            <a:gdLst/>
            <a:ahLst/>
            <a:rect l="l" t="t" r="r" b="b"/>
            <a:pathLst>
              <a:path w="5573492" h="5573492">
                <a:moveTo>
                  <a:pt x="2786746" y="1074060"/>
                </a:moveTo>
                <a:cubicBezTo>
                  <a:pt x="1840856" y="1074060"/>
                  <a:pt x="1074060" y="1840856"/>
                  <a:pt x="1074060" y="2786746"/>
                </a:cubicBezTo>
                <a:cubicBezTo>
                  <a:pt x="1074060" y="3732636"/>
                  <a:pt x="1840856" y="4499432"/>
                  <a:pt x="2786746" y="4499432"/>
                </a:cubicBezTo>
                <a:cubicBezTo>
                  <a:pt x="3732636" y="4499432"/>
                  <a:pt x="4499432" y="3732636"/>
                  <a:pt x="4499432" y="2786746"/>
                </a:cubicBezTo>
                <a:cubicBezTo>
                  <a:pt x="4499432" y="1840856"/>
                  <a:pt x="3732636" y="1074060"/>
                  <a:pt x="2786746" y="1074060"/>
                </a:cubicBezTo>
                <a:close/>
                <a:moveTo>
                  <a:pt x="2786746" y="0"/>
                </a:moveTo>
                <a:cubicBezTo>
                  <a:pt x="4325823" y="0"/>
                  <a:pt x="5573492" y="1247669"/>
                  <a:pt x="5573492" y="2786746"/>
                </a:cubicBezTo>
                <a:cubicBezTo>
                  <a:pt x="5573492" y="4325823"/>
                  <a:pt x="4325823" y="5573492"/>
                  <a:pt x="2786746" y="5573492"/>
                </a:cubicBezTo>
                <a:cubicBezTo>
                  <a:pt x="1247669" y="5573492"/>
                  <a:pt x="0" y="4325823"/>
                  <a:pt x="0" y="2786746"/>
                </a:cubicBezTo>
                <a:cubicBezTo>
                  <a:pt x="0" y="1247669"/>
                  <a:pt x="1247669" y="0"/>
                  <a:pt x="2786746" y="0"/>
                </a:cubicBezTo>
                <a:close/>
              </a:path>
            </a:pathLst>
          </a:cu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custGeom>
            <a:avLst/>
            <a:gdLst/>
            <a:ahLst/>
            <a:rect l="l" t="t" r="r" b="b"/>
            <a:pathLst>
              <a:path w="6961238" h="6961238">
                <a:moveTo>
                  <a:pt x="3480619" y="1268359"/>
                </a:moveTo>
                <a:cubicBezTo>
                  <a:pt x="2226241" y="1268359"/>
                  <a:pt x="1209367" y="2285233"/>
                  <a:pt x="1209367" y="3539611"/>
                </a:cubicBezTo>
                <a:cubicBezTo>
                  <a:pt x="1209367" y="4793989"/>
                  <a:pt x="2226241" y="5810863"/>
                  <a:pt x="3480619" y="5810863"/>
                </a:cubicBezTo>
                <a:cubicBezTo>
                  <a:pt x="4734997" y="5810863"/>
                  <a:pt x="5751871" y="4793989"/>
                  <a:pt x="5751871" y="3539611"/>
                </a:cubicBezTo>
                <a:cubicBezTo>
                  <a:pt x="5751871" y="2285233"/>
                  <a:pt x="4734997" y="1268359"/>
                  <a:pt x="3480619" y="1268359"/>
                </a:cubicBezTo>
                <a:close/>
                <a:moveTo>
                  <a:pt x="3480619" y="0"/>
                </a:moveTo>
                <a:cubicBezTo>
                  <a:pt x="5402912" y="0"/>
                  <a:pt x="6961238" y="1558326"/>
                  <a:pt x="6961238" y="3480619"/>
                </a:cubicBezTo>
                <a:cubicBezTo>
                  <a:pt x="6961238" y="5402912"/>
                  <a:pt x="5402912" y="6961238"/>
                  <a:pt x="3480619" y="6961238"/>
                </a:cubicBezTo>
                <a:cubicBezTo>
                  <a:pt x="1558326" y="6961238"/>
                  <a:pt x="0" y="5402912"/>
                  <a:pt x="0" y="3480619"/>
                </a:cubicBezTo>
                <a:cubicBezTo>
                  <a:pt x="0" y="1558326"/>
                  <a:pt x="1558326" y="0"/>
                  <a:pt x="3480619" y="0"/>
                </a:cubicBezTo>
                <a:close/>
              </a:path>
            </a:pathLst>
          </a:cu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custGeom>
            <a:avLst/>
            <a:gdLst/>
            <a:ahLst/>
            <a:rect l="l" t="t" r="r" b="b"/>
            <a:pathLst>
              <a:path w="6208730" h="6208730">
                <a:moveTo>
                  <a:pt x="3104365" y="1040115"/>
                </a:moveTo>
                <a:cubicBezTo>
                  <a:pt x="1966737" y="1040115"/>
                  <a:pt x="1044508" y="1962344"/>
                  <a:pt x="1044508" y="3099972"/>
                </a:cubicBezTo>
                <a:cubicBezTo>
                  <a:pt x="1044508" y="4237600"/>
                  <a:pt x="1966737" y="5159829"/>
                  <a:pt x="3104365" y="5159829"/>
                </a:cubicBezTo>
                <a:cubicBezTo>
                  <a:pt x="4241993" y="5159829"/>
                  <a:pt x="5164222" y="4237600"/>
                  <a:pt x="5164222" y="3099972"/>
                </a:cubicBezTo>
                <a:cubicBezTo>
                  <a:pt x="5164222" y="1962344"/>
                  <a:pt x="4241993" y="1040115"/>
                  <a:pt x="3104365" y="1040115"/>
                </a:cubicBezTo>
                <a:close/>
                <a:moveTo>
                  <a:pt x="3104365" y="0"/>
                </a:moveTo>
                <a:cubicBezTo>
                  <a:pt x="4818858" y="0"/>
                  <a:pt x="6208730" y="1389872"/>
                  <a:pt x="6208730" y="3104365"/>
                </a:cubicBezTo>
                <a:cubicBezTo>
                  <a:pt x="6208730" y="4818858"/>
                  <a:pt x="4818858" y="6208730"/>
                  <a:pt x="3104365" y="6208730"/>
                </a:cubicBezTo>
                <a:cubicBezTo>
                  <a:pt x="1389872" y="6208730"/>
                  <a:pt x="0" y="4818858"/>
                  <a:pt x="0" y="3104365"/>
                </a:cubicBezTo>
                <a:cubicBezTo>
                  <a:pt x="0" y="1389872"/>
                  <a:pt x="1389872" y="0"/>
                  <a:pt x="3104365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custGeom>
            <a:avLst/>
            <a:gdLst/>
            <a:ahLst/>
            <a:rect l="l" t="t" r="r" b="b"/>
            <a:pathLst>
              <a:path w="6362700" h="6362700">
                <a:moveTo>
                  <a:pt x="3105150" y="902280"/>
                </a:moveTo>
                <a:cubicBezTo>
                  <a:pt x="1909581" y="902280"/>
                  <a:pt x="940380" y="1871481"/>
                  <a:pt x="940380" y="3067050"/>
                </a:cubicBezTo>
                <a:cubicBezTo>
                  <a:pt x="940380" y="4262619"/>
                  <a:pt x="1909581" y="5231820"/>
                  <a:pt x="3105150" y="5231820"/>
                </a:cubicBezTo>
                <a:cubicBezTo>
                  <a:pt x="4300719" y="5231820"/>
                  <a:pt x="5269920" y="4262619"/>
                  <a:pt x="5269920" y="3067050"/>
                </a:cubicBezTo>
                <a:cubicBezTo>
                  <a:pt x="5269920" y="1871481"/>
                  <a:pt x="4300719" y="902280"/>
                  <a:pt x="3105150" y="902280"/>
                </a:cubicBezTo>
                <a:close/>
                <a:moveTo>
                  <a:pt x="3181350" y="0"/>
                </a:moveTo>
                <a:cubicBezTo>
                  <a:pt x="4938361" y="0"/>
                  <a:pt x="6362700" y="1424339"/>
                  <a:pt x="6362700" y="3181350"/>
                </a:cubicBezTo>
                <a:cubicBezTo>
                  <a:pt x="6362700" y="4938361"/>
                  <a:pt x="4938361" y="6362700"/>
                  <a:pt x="3181350" y="6362700"/>
                </a:cubicBezTo>
                <a:cubicBezTo>
                  <a:pt x="1424339" y="6362700"/>
                  <a:pt x="0" y="4938361"/>
                  <a:pt x="0" y="3181350"/>
                </a:cubicBezTo>
                <a:cubicBezTo>
                  <a:pt x="0" y="1424339"/>
                  <a:pt x="1424339" y="0"/>
                  <a:pt x="3181350" y="0"/>
                </a:cubicBezTo>
                <a:close/>
              </a:path>
            </a:pathLst>
          </a:cu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2000" y="3858480"/>
            <a:ext cx="477360" cy="476280"/>
            <a:chOff x="5022000" y="38584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89680" y="39232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5400" y="3991320"/>
              <a:ext cx="24984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89360" y="3424680"/>
            <a:ext cx="570960" cy="569160"/>
            <a:chOff x="2889360" y="34246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5680" y="34981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1840" y="3580560"/>
              <a:ext cx="306000" cy="256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19040" y="3525840"/>
            <a:ext cx="317520" cy="311040"/>
            <a:chOff x="1319040" y="3525840"/>
            <a:chExt cx="317520" cy="311040"/>
          </a:xfrm>
        </p:grpSpPr>
        <p:sp>
          <p:nvSpPr>
            <p:cNvPr id="70" name="Oval 5"/>
            <p:cNvSpPr/>
            <p:nvPr/>
          </p:nvSpPr>
          <p:spPr>
            <a:xfrm rot="16200000">
              <a:off x="1322280" y="3522600"/>
              <a:ext cx="3110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3680" y="3584880"/>
              <a:ext cx="227880" cy="192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6400" y="4950360"/>
            <a:ext cx="363960" cy="361800"/>
            <a:chOff x="9536400" y="4950360"/>
            <a:chExt cx="363960" cy="361800"/>
          </a:xfrm>
        </p:grpSpPr>
        <p:sp>
          <p:nvSpPr>
            <p:cNvPr id="76" name="Oval 5"/>
            <p:cNvSpPr/>
            <p:nvPr/>
          </p:nvSpPr>
          <p:spPr>
            <a:xfrm rot="14494200">
              <a:off x="9585360" y="4996080"/>
              <a:ext cx="26532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1000" y="5049360"/>
              <a:ext cx="194400" cy="164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0800" y="3452760"/>
            <a:ext cx="1525680" cy="1525320"/>
            <a:chOff x="5410800" y="3452760"/>
            <a:chExt cx="152568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7600" y="3672360"/>
              <a:ext cx="1071360" cy="10861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68280" y="3872520"/>
              <a:ext cx="784800" cy="6595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6360" y="3211560"/>
            <a:ext cx="489960" cy="489600"/>
            <a:chOff x="756360" y="3211560"/>
            <a:chExt cx="489960" cy="489600"/>
          </a:xfrm>
        </p:grpSpPr>
        <p:sp>
          <p:nvSpPr>
            <p:cNvPr id="88" name="Oval 5"/>
            <p:cNvSpPr/>
            <p:nvPr/>
          </p:nvSpPr>
          <p:spPr>
            <a:xfrm rot="13726800">
              <a:off x="829080" y="3281400"/>
              <a:ext cx="344520" cy="34956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5160" y="3350160"/>
              <a:ext cx="252360" cy="2124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0960" y="5355360"/>
            <a:ext cx="446400" cy="445320"/>
            <a:chOff x="11190960" y="5355360"/>
            <a:chExt cx="446400" cy="4453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6840" y="5417640"/>
              <a:ext cx="314280" cy="32040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8600" y="5480640"/>
              <a:ext cx="230400" cy="194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2880" y="3959280"/>
            <a:ext cx="566640" cy="565200"/>
            <a:chOff x="8282880" y="3959280"/>
            <a:chExt cx="566640" cy="565200"/>
          </a:xfrm>
        </p:grpSpPr>
        <p:sp>
          <p:nvSpPr>
            <p:cNvPr id="121" name="Oval 5"/>
            <p:cNvSpPr/>
            <p:nvPr/>
          </p:nvSpPr>
          <p:spPr>
            <a:xfrm rot="18294000">
              <a:off x="8364600" y="4037040"/>
              <a:ext cx="403200" cy="40968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240" y="4116960"/>
              <a:ext cx="295200" cy="248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7080" y="2984040"/>
            <a:ext cx="610920" cy="610560"/>
            <a:chOff x="2377080" y="2984040"/>
            <a:chExt cx="610920" cy="610560"/>
          </a:xfrm>
        </p:grpSpPr>
        <p:sp>
          <p:nvSpPr>
            <p:cNvPr id="136" name="Oval 5"/>
            <p:cNvSpPr/>
            <p:nvPr/>
          </p:nvSpPr>
          <p:spPr>
            <a:xfrm rot="13497600">
              <a:off x="2467800" y="3071520"/>
              <a:ext cx="428760" cy="43488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5400" y="3157200"/>
              <a:ext cx="313920" cy="264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28360" y="3302280"/>
            <a:ext cx="295560" cy="293400"/>
            <a:chOff x="1728360" y="3302280"/>
            <a:chExt cx="29556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68680" y="3339360"/>
              <a:ext cx="21456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7480" y="3381840"/>
              <a:ext cx="157320" cy="133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任意多边形 6" hidden="1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任意多边形 7" hidden="1"/>
          <p:cNvSpPr/>
          <p:nvPr/>
        </p:nvSpPr>
        <p:spPr>
          <a:xfrm>
            <a:off x="7870680" y="5397480"/>
            <a:ext cx="2625840" cy="262584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任意多边形 9" hidden="1"/>
          <p:cNvSpPr/>
          <p:nvPr/>
        </p:nvSpPr>
        <p:spPr>
          <a:xfrm>
            <a:off x="9794880" y="4368960"/>
            <a:ext cx="2625840" cy="26254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700" name="组合 13"/>
          <p:cNvGrpSpPr/>
          <p:nvPr/>
        </p:nvGrpSpPr>
        <p:grpSpPr>
          <a:xfrm>
            <a:off x="8485200" y="4572360"/>
            <a:ext cx="417600" cy="418320"/>
            <a:chOff x="8485200" y="4572360"/>
            <a:chExt cx="417600" cy="418320"/>
          </a:xfrm>
        </p:grpSpPr>
        <p:sp>
          <p:nvSpPr>
            <p:cNvPr id="701" name="Oval 5"/>
            <p:cNvSpPr/>
            <p:nvPr/>
          </p:nvSpPr>
          <p:spPr>
            <a:xfrm rot="18246000">
              <a:off x="8543160" y="4631040"/>
              <a:ext cx="301680" cy="30024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 rot="18246000">
              <a:off x="8582760" y="4685400"/>
              <a:ext cx="228240" cy="189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8"/>
          <p:cNvGrpSpPr/>
          <p:nvPr/>
        </p:nvGrpSpPr>
        <p:grpSpPr>
          <a:xfrm>
            <a:off x="10078920" y="5306760"/>
            <a:ext cx="424080" cy="422280"/>
            <a:chOff x="10078920" y="5306760"/>
            <a:chExt cx="424080" cy="422280"/>
          </a:xfrm>
        </p:grpSpPr>
        <p:sp>
          <p:nvSpPr>
            <p:cNvPr id="704" name="Oval 5"/>
            <p:cNvSpPr/>
            <p:nvPr/>
          </p:nvSpPr>
          <p:spPr>
            <a:xfrm rot="16200000">
              <a:off x="10079640" y="5305680"/>
              <a:ext cx="422280" cy="42408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"/>
            <p:cNvSpPr/>
            <p:nvPr/>
          </p:nvSpPr>
          <p:spPr>
            <a:xfrm rot="16200000">
              <a:off x="10130760" y="5384520"/>
              <a:ext cx="319680" cy="266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70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"/>
            <p:cNvSpPr/>
            <p:nvPr/>
          </p:nvSpPr>
          <p:spPr>
            <a:xfrm rot="3672600">
              <a:off x="9270360" y="4942080"/>
              <a:ext cx="176760" cy="146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71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71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"/>
            <p:cNvSpPr/>
            <p:nvPr/>
          </p:nvSpPr>
          <p:spPr>
            <a:xfrm rot="13488600">
              <a:off x="7888680" y="4370760"/>
              <a:ext cx="222480" cy="184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71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"/>
            <p:cNvSpPr/>
            <p:nvPr/>
          </p:nvSpPr>
          <p:spPr>
            <a:xfrm rot="14580600">
              <a:off x="8931240" y="4189680"/>
              <a:ext cx="190080" cy="157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40"/>
          <p:cNvGrpSpPr/>
          <p:nvPr/>
        </p:nvGrpSpPr>
        <p:grpSpPr>
          <a:xfrm>
            <a:off x="8310600" y="4011480"/>
            <a:ext cx="330120" cy="330480"/>
            <a:chOff x="8310600" y="4011480"/>
            <a:chExt cx="330120" cy="330480"/>
          </a:xfrm>
        </p:grpSpPr>
        <p:sp>
          <p:nvSpPr>
            <p:cNvPr id="719" name="Oval 5"/>
            <p:cNvSpPr/>
            <p:nvPr/>
          </p:nvSpPr>
          <p:spPr>
            <a:xfrm rot="16200000">
              <a:off x="8310240" y="4011480"/>
              <a:ext cx="330480" cy="3301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 rot="16200000">
              <a:off x="8350560" y="4073040"/>
              <a:ext cx="250200" cy="2077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72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"/>
            <p:cNvSpPr/>
            <p:nvPr/>
          </p:nvSpPr>
          <p:spPr>
            <a:xfrm rot="18674400">
              <a:off x="9390600" y="4371840"/>
              <a:ext cx="213840" cy="177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72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72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73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 rot="17841000">
              <a:off x="10755360" y="5608440"/>
              <a:ext cx="237960" cy="197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734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3424400">
              <a:off x="11310480" y="6096600"/>
              <a:ext cx="444240" cy="3704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44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737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任意多边形 48"/>
          <p:cNvSpPr/>
          <p:nvPr/>
        </p:nvSpPr>
        <p:spPr>
          <a:xfrm>
            <a:off x="7920000" y="5465880"/>
            <a:ext cx="2728800" cy="2728800"/>
          </a:xfrm>
          <a:custGeom>
            <a:avLst/>
            <a:gdLst/>
            <a:ahLst/>
            <a:rect l="l" t="t" r="r" b="b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任意多边形 49"/>
          <p:cNvSpPr/>
          <p:nvPr/>
        </p:nvSpPr>
        <p:spPr>
          <a:xfrm>
            <a:off x="9867960" y="4346640"/>
            <a:ext cx="2514600" cy="2514600"/>
          </a:xfrm>
          <a:custGeom>
            <a:avLst/>
            <a:gdLst/>
            <a:ahLst/>
            <a:rect l="l" t="t" r="r" b="b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任意多边形 50"/>
          <p:cNvSpPr/>
          <p:nvPr/>
        </p:nvSpPr>
        <p:spPr>
          <a:xfrm>
            <a:off x="-936720" y="-2319480"/>
            <a:ext cx="6572520" cy="657252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745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"/>
            <p:cNvSpPr/>
            <p:nvPr/>
          </p:nvSpPr>
          <p:spPr>
            <a:xfrm rot="13320000">
              <a:off x="4543920" y="1836360"/>
              <a:ext cx="786240" cy="653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748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rot="13320000">
              <a:off x="4543920" y="3971520"/>
              <a:ext cx="786240" cy="653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751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3320000">
              <a:off x="2561040" y="1844280"/>
              <a:ext cx="786240" cy="653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754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 rot="13320000">
              <a:off x="2535480" y="3971520"/>
              <a:ext cx="786240" cy="653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757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1"/>
            <p:cNvSpPr/>
            <p:nvPr/>
          </p:nvSpPr>
          <p:spPr>
            <a:xfrm rot="13320000">
              <a:off x="789480" y="1836360"/>
              <a:ext cx="786240" cy="6530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760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"/>
            <p:cNvSpPr/>
            <p:nvPr/>
          </p:nvSpPr>
          <p:spPr>
            <a:xfrm rot="13320000">
              <a:off x="738360" y="3971520"/>
              <a:ext cx="784800" cy="653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6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6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7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780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8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8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795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9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804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807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810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1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1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820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823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826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7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8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829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831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833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835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837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840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任意多边形 299"/>
            <p:cNvSpPr/>
            <p:nvPr/>
          </p:nvSpPr>
          <p:spPr>
            <a:xfrm>
              <a:off x="2599560" y="18986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843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心形 55"/>
            <p:cNvSpPr/>
            <p:nvPr/>
          </p:nvSpPr>
          <p:spPr>
            <a:xfrm>
              <a:off x="733320" y="251676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846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7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849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851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854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856" name="矩形 3087"/>
              <p:cNvSpPr/>
              <p:nvPr/>
            </p:nvSpPr>
            <p:spPr>
              <a:xfrm>
                <a:off x="2619000" y="311004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858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861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864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867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8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870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872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874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876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878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881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348"/>
            <p:cNvSpPr/>
            <p:nvPr/>
          </p:nvSpPr>
          <p:spPr>
            <a:xfrm>
              <a:off x="5342760" y="18986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884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心形 55"/>
            <p:cNvSpPr/>
            <p:nvPr/>
          </p:nvSpPr>
          <p:spPr>
            <a:xfrm>
              <a:off x="3476520" y="251676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887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890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892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895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897" name="矩形 3087"/>
              <p:cNvSpPr/>
              <p:nvPr/>
            </p:nvSpPr>
            <p:spPr>
              <a:xfrm>
                <a:off x="5362200" y="311004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899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0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902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4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905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908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9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911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913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915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917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919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922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任意多边形 392"/>
            <p:cNvSpPr/>
            <p:nvPr/>
          </p:nvSpPr>
          <p:spPr>
            <a:xfrm>
              <a:off x="8100360" y="18986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925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心形 55"/>
            <p:cNvSpPr/>
            <p:nvPr/>
          </p:nvSpPr>
          <p:spPr>
            <a:xfrm>
              <a:off x="6234120" y="251676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928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0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931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933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5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936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938" name="矩形 3087"/>
              <p:cNvSpPr/>
              <p:nvPr/>
            </p:nvSpPr>
            <p:spPr>
              <a:xfrm>
                <a:off x="8118000" y="311004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94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94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94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94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95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95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956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958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9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960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963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36"/>
            <p:cNvSpPr/>
            <p:nvPr/>
          </p:nvSpPr>
          <p:spPr>
            <a:xfrm>
              <a:off x="8100360" y="404676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966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心形 55"/>
            <p:cNvSpPr/>
            <p:nvPr/>
          </p:nvSpPr>
          <p:spPr>
            <a:xfrm>
              <a:off x="6234120" y="466452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969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0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1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972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974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977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979" name="矩形 3087"/>
              <p:cNvSpPr/>
              <p:nvPr/>
            </p:nvSpPr>
            <p:spPr>
              <a:xfrm>
                <a:off x="8118000" y="525780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0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981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2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3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984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6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987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990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1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993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995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997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999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0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001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004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任意多边形 480"/>
            <p:cNvSpPr/>
            <p:nvPr/>
          </p:nvSpPr>
          <p:spPr>
            <a:xfrm>
              <a:off x="5342760" y="404676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007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心形 55"/>
            <p:cNvSpPr/>
            <p:nvPr/>
          </p:nvSpPr>
          <p:spPr>
            <a:xfrm>
              <a:off x="3476520" y="466452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010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013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015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018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020" name="矩形 3087"/>
              <p:cNvSpPr/>
              <p:nvPr/>
            </p:nvSpPr>
            <p:spPr>
              <a:xfrm>
                <a:off x="5362200" y="525780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1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022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4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025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028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031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2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3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034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036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7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038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040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1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042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045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任意多边形 524"/>
            <p:cNvSpPr/>
            <p:nvPr/>
          </p:nvSpPr>
          <p:spPr>
            <a:xfrm>
              <a:off x="2613960" y="404676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048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心形 55"/>
            <p:cNvSpPr/>
            <p:nvPr/>
          </p:nvSpPr>
          <p:spPr>
            <a:xfrm>
              <a:off x="747720" y="4664520"/>
              <a:ext cx="257040" cy="224280"/>
            </a:xfrm>
            <a:custGeom>
              <a:avLst/>
              <a:gdLst/>
              <a:ahLst/>
              <a:rect l="l" t="t" r="r" b="b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051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2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3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054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056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059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061" name="矩形 3087"/>
              <p:cNvSpPr/>
              <p:nvPr/>
            </p:nvSpPr>
            <p:spPr>
              <a:xfrm>
                <a:off x="2631600" y="5257800"/>
                <a:ext cx="197640" cy="234720"/>
              </a:xfrm>
              <a:custGeom>
                <a:avLst/>
                <a:gdLst/>
                <a:ahLst/>
                <a:rect l="l" t="t" r="r" b="b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2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063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4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5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066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7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5200" y="4572360"/>
            <a:ext cx="417600" cy="418320"/>
            <a:chOff x="8485200" y="4572360"/>
            <a:chExt cx="417600" cy="418320"/>
          </a:xfrm>
        </p:grpSpPr>
        <p:sp>
          <p:nvSpPr>
            <p:cNvPr id="151" name="Oval 5"/>
            <p:cNvSpPr/>
            <p:nvPr/>
          </p:nvSpPr>
          <p:spPr>
            <a:xfrm rot="18246000">
              <a:off x="8543160" y="4631040"/>
              <a:ext cx="301680" cy="30024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2760" y="4685400"/>
              <a:ext cx="228240" cy="189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78920" y="5306760"/>
            <a:ext cx="424080" cy="422280"/>
            <a:chOff x="10078920" y="5306760"/>
            <a:chExt cx="42408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79640" y="5305680"/>
              <a:ext cx="422280" cy="42408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0760" y="5384520"/>
              <a:ext cx="319680" cy="266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0600" y="4011480"/>
            <a:ext cx="330120" cy="330480"/>
            <a:chOff x="8310600" y="4011480"/>
            <a:chExt cx="330120" cy="3304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0240" y="4011480"/>
              <a:ext cx="330480" cy="3301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0560" y="4073040"/>
              <a:ext cx="250200" cy="2077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custGeom>
            <a:avLst/>
            <a:gdLst/>
            <a:ahLst/>
            <a:rect l="l" t="t" r="r" b="b"/>
            <a:pathLst>
              <a:path w="101" h="84">
                <a:moveTo>
                  <a:pt x="69" y="51"/>
                </a:moveTo>
                <a:cubicBezTo>
                  <a:pt x="69" y="51"/>
                  <a:pt x="28" y="51"/>
                  <a:pt x="9" y="51"/>
                </a:cubicBezTo>
                <a:cubicBezTo>
                  <a:pt x="4" y="51"/>
                  <a:pt x="0" y="47"/>
                  <a:pt x="0" y="42"/>
                </a:cubicBezTo>
                <a:cubicBezTo>
                  <a:pt x="0" y="37"/>
                  <a:pt x="4" y="33"/>
                  <a:pt x="9" y="33"/>
                </a:cubicBezTo>
                <a:cubicBezTo>
                  <a:pt x="25" y="33"/>
                  <a:pt x="69" y="33"/>
                  <a:pt x="69" y="33"/>
                </a:cubicBezTo>
                <a:cubicBezTo>
                  <a:pt x="69" y="33"/>
                  <a:pt x="66" y="30"/>
                  <a:pt x="52" y="16"/>
                </a:cubicBezTo>
                <a:cubicBezTo>
                  <a:pt x="49" y="13"/>
                  <a:pt x="49" y="7"/>
                  <a:pt x="52" y="4"/>
                </a:cubicBezTo>
                <a:cubicBezTo>
                  <a:pt x="56" y="0"/>
                  <a:pt x="62" y="0"/>
                  <a:pt x="65" y="4"/>
                </a:cubicBezTo>
                <a:cubicBezTo>
                  <a:pt x="76" y="15"/>
                  <a:pt x="97" y="36"/>
                  <a:pt x="97" y="36"/>
                </a:cubicBezTo>
                <a:cubicBezTo>
                  <a:pt x="101" y="39"/>
                  <a:pt x="101" y="45"/>
                  <a:pt x="97" y="49"/>
                </a:cubicBezTo>
                <a:cubicBezTo>
                  <a:pt x="97" y="49"/>
                  <a:pt x="79" y="67"/>
                  <a:pt x="65" y="80"/>
                </a:cubicBezTo>
                <a:cubicBezTo>
                  <a:pt x="62" y="84"/>
                  <a:pt x="56" y="84"/>
                  <a:pt x="53" y="80"/>
                </a:cubicBezTo>
                <a:cubicBezTo>
                  <a:pt x="49" y="77"/>
                  <a:pt x="49" y="71"/>
                  <a:pt x="53" y="68"/>
                </a:cubicBezTo>
                <a:cubicBezTo>
                  <a:pt x="64" y="57"/>
                  <a:pt x="69" y="51"/>
                  <a:pt x="69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custGeom>
            <a:avLst/>
            <a:gdLst/>
            <a:ahLst/>
            <a:rect l="l" t="t" r="r" b="b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custGeom>
            <a:avLst/>
            <a:gdLst/>
            <a:ahLst/>
            <a:rect l="l" t="t" r="r" b="b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1240" y="2458080"/>
            <a:ext cx="319680" cy="319680"/>
            <a:chOff x="1641240" y="245808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8400" y="250416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2160" y="2544840"/>
              <a:ext cx="176400" cy="147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达人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模板素材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达人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E4D-B761-46AD-8804-F58E2347EF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211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226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235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238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241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251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"/>
          <p:cNvGrpSpPr/>
          <p:nvPr/>
        </p:nvGrpSpPr>
        <p:grpSpPr>
          <a:xfrm>
            <a:off x="1641240" y="2458080"/>
            <a:ext cx="319680" cy="319680"/>
            <a:chOff x="1641240" y="2458080"/>
            <a:chExt cx="319680" cy="319680"/>
          </a:xfrm>
        </p:grpSpPr>
        <p:sp>
          <p:nvSpPr>
            <p:cNvPr id="254" name="Oval 5"/>
            <p:cNvSpPr/>
            <p:nvPr/>
          </p:nvSpPr>
          <p:spPr>
            <a:xfrm rot="2803800">
              <a:off x="1688400" y="250416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"/>
            <p:cNvSpPr/>
            <p:nvPr/>
          </p:nvSpPr>
          <p:spPr>
            <a:xfrm rot="2803800">
              <a:off x="1712160" y="2544840"/>
              <a:ext cx="176400" cy="147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7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 rot="2803800">
              <a:off x="6643800" y="254700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7"/>
          <p:cNvSpPr/>
          <p:nvPr/>
        </p:nvSpPr>
        <p:spPr>
          <a:xfrm>
            <a:off x="1866960" y="2759040"/>
            <a:ext cx="4216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8"/>
          <p:cNvSpPr/>
          <p:nvPr/>
        </p:nvSpPr>
        <p:spPr>
          <a:xfrm>
            <a:off x="6799320" y="2759040"/>
            <a:ext cx="427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9"/>
          <p:cNvSpPr/>
          <p:nvPr/>
        </p:nvSpPr>
        <p:spPr>
          <a:xfrm>
            <a:off x="1866960" y="4545000"/>
            <a:ext cx="421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>
            <a:off x="6799320" y="4564080"/>
            <a:ext cx="42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8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1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5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9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285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9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3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6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300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3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6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309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312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315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8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2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325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30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custGeom>
              <a:avLst/>
              <a:gdLst/>
              <a:ahLst/>
              <a:rect l="l" t="t" r="r" b="b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3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6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9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custGeom>
              <a:avLst/>
              <a:gdLst/>
              <a:ahLst/>
              <a:rect l="l" t="t" r="r" b="b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2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21"/>
            <p:cNvSpPr/>
            <p:nvPr/>
          </p:nvSpPr>
          <p:spPr>
            <a:xfrm>
              <a:off x="1527840" y="3864240"/>
              <a:ext cx="252360" cy="231480"/>
            </a:xfrm>
            <a:custGeom>
              <a:avLst/>
              <a:gdLst/>
              <a:ahLst/>
              <a:rect l="l" t="t" r="r" b="b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lnTo>
                    <a:pt x="126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5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6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377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392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401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404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407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1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417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2"/>
          <p:cNvGrpSpPr/>
          <p:nvPr/>
        </p:nvGrpSpPr>
        <p:grpSpPr>
          <a:xfrm>
            <a:off x="1641240" y="2458080"/>
            <a:ext cx="319680" cy="319680"/>
            <a:chOff x="1641240" y="2458080"/>
            <a:chExt cx="319680" cy="319680"/>
          </a:xfrm>
        </p:grpSpPr>
        <p:sp>
          <p:nvSpPr>
            <p:cNvPr id="420" name="Oval 5"/>
            <p:cNvSpPr/>
            <p:nvPr/>
          </p:nvSpPr>
          <p:spPr>
            <a:xfrm rot="2803800">
              <a:off x="1688400" y="250416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 rot="2803800">
              <a:off x="1712160" y="2544840"/>
              <a:ext cx="176400" cy="147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 rot="2803800">
              <a:off x="6638760" y="254700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任意多边形 6" hidden="1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7" hidden="1"/>
          <p:cNvSpPr/>
          <p:nvPr/>
        </p:nvSpPr>
        <p:spPr>
          <a:xfrm>
            <a:off x="7870680" y="5397480"/>
            <a:ext cx="2625840" cy="262584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9" hidden="1"/>
          <p:cNvSpPr/>
          <p:nvPr/>
        </p:nvSpPr>
        <p:spPr>
          <a:xfrm>
            <a:off x="9794880" y="4368960"/>
            <a:ext cx="2625840" cy="26254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437" name="组合 13"/>
          <p:cNvGrpSpPr/>
          <p:nvPr/>
        </p:nvGrpSpPr>
        <p:grpSpPr>
          <a:xfrm>
            <a:off x="8485200" y="4572360"/>
            <a:ext cx="417600" cy="418320"/>
            <a:chOff x="8485200" y="4572360"/>
            <a:chExt cx="417600" cy="418320"/>
          </a:xfrm>
        </p:grpSpPr>
        <p:sp>
          <p:nvSpPr>
            <p:cNvPr id="438" name="Oval 5"/>
            <p:cNvSpPr/>
            <p:nvPr/>
          </p:nvSpPr>
          <p:spPr>
            <a:xfrm rot="18246000">
              <a:off x="8543160" y="4631040"/>
              <a:ext cx="301680" cy="30024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 rot="18246000">
              <a:off x="8582760" y="4685400"/>
              <a:ext cx="228240" cy="189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8"/>
          <p:cNvGrpSpPr/>
          <p:nvPr/>
        </p:nvGrpSpPr>
        <p:grpSpPr>
          <a:xfrm>
            <a:off x="10078920" y="5306760"/>
            <a:ext cx="424080" cy="422280"/>
            <a:chOff x="10078920" y="5306760"/>
            <a:chExt cx="424080" cy="422280"/>
          </a:xfrm>
        </p:grpSpPr>
        <p:sp>
          <p:nvSpPr>
            <p:cNvPr id="441" name="Oval 5"/>
            <p:cNvSpPr/>
            <p:nvPr/>
          </p:nvSpPr>
          <p:spPr>
            <a:xfrm rot="16200000">
              <a:off x="10079640" y="5305680"/>
              <a:ext cx="422280" cy="42408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 rot="16200000">
              <a:off x="10130760" y="5384520"/>
              <a:ext cx="319680" cy="2667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444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 rot="3672600">
              <a:off x="9270360" y="4942080"/>
              <a:ext cx="176760" cy="146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447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450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"/>
            <p:cNvSpPr/>
            <p:nvPr/>
          </p:nvSpPr>
          <p:spPr>
            <a:xfrm rot="13488600">
              <a:off x="7888680" y="4370760"/>
              <a:ext cx="222480" cy="184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453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14580600">
              <a:off x="8931240" y="4189680"/>
              <a:ext cx="190080" cy="157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40"/>
          <p:cNvGrpSpPr/>
          <p:nvPr/>
        </p:nvGrpSpPr>
        <p:grpSpPr>
          <a:xfrm>
            <a:off x="8310600" y="4011480"/>
            <a:ext cx="330120" cy="330480"/>
            <a:chOff x="8310600" y="4011480"/>
            <a:chExt cx="330120" cy="330480"/>
          </a:xfrm>
        </p:grpSpPr>
        <p:sp>
          <p:nvSpPr>
            <p:cNvPr id="456" name="Oval 5"/>
            <p:cNvSpPr/>
            <p:nvPr/>
          </p:nvSpPr>
          <p:spPr>
            <a:xfrm rot="16200000">
              <a:off x="8310240" y="4011480"/>
              <a:ext cx="330480" cy="3301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16200000">
              <a:off x="8350560" y="4073040"/>
              <a:ext cx="250200" cy="2077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459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rot="18674400">
              <a:off x="9390600" y="4371840"/>
              <a:ext cx="213840" cy="1778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462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465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468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 rot="17841000">
              <a:off x="10755360" y="5608440"/>
              <a:ext cx="237960" cy="197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471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 rot="13424400">
              <a:off x="11310480" y="6096600"/>
              <a:ext cx="444240" cy="3704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44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474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任意多边形 48"/>
          <p:cNvSpPr/>
          <p:nvPr/>
        </p:nvSpPr>
        <p:spPr>
          <a:xfrm>
            <a:off x="7920000" y="5465880"/>
            <a:ext cx="2728800" cy="2728800"/>
          </a:xfrm>
          <a:custGeom>
            <a:avLst/>
            <a:gdLst/>
            <a:ahLst/>
            <a:rect l="l" t="t" r="r" b="b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49"/>
          <p:cNvSpPr/>
          <p:nvPr/>
        </p:nvSpPr>
        <p:spPr>
          <a:xfrm>
            <a:off x="9867960" y="4346640"/>
            <a:ext cx="2514600" cy="2514600"/>
          </a:xfrm>
          <a:custGeom>
            <a:avLst/>
            <a:gdLst/>
            <a:ahLst/>
            <a:rect l="l" t="t" r="r" b="b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50"/>
          <p:cNvSpPr/>
          <p:nvPr/>
        </p:nvSpPr>
        <p:spPr>
          <a:xfrm>
            <a:off x="-936720" y="-2319480"/>
            <a:ext cx="6572520" cy="657252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表 8" descr=""/>
          <p:cNvPicPr/>
          <p:nvPr/>
        </p:nvPicPr>
        <p:blipFill>
          <a:blip r:embed="rId2"/>
          <a:stretch/>
        </p:blipFill>
        <p:spPr>
          <a:xfrm>
            <a:off x="-176040" y="1755720"/>
            <a:ext cx="74786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8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8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9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9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500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0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0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1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515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1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2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524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527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530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3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3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540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图表 32" descr=""/>
          <p:cNvPicPr/>
          <p:nvPr/>
        </p:nvPicPr>
        <p:blipFill>
          <a:blip r:embed="rId2"/>
          <a:stretch/>
        </p:blipFill>
        <p:spPr>
          <a:xfrm>
            <a:off x="601560" y="2338560"/>
            <a:ext cx="5686560" cy="341460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546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 rot="2803800">
              <a:off x="6676560" y="3021480"/>
              <a:ext cx="17676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40"/>
          <p:cNvSpPr/>
          <p:nvPr/>
        </p:nvSpPr>
        <p:spPr>
          <a:xfrm>
            <a:off x="6851520" y="3181320"/>
            <a:ext cx="229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51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54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58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62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568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72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76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79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583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86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89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592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595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598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01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05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608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0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840"/>
                <a:gridCol w="1103400"/>
                <a:gridCol w="1104840"/>
                <a:gridCol w="1103400"/>
                <a:gridCol w="1103400"/>
                <a:gridCol w="110484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浪漫雅圆"/>
                          <a:ea typeface="浪漫雅圆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1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615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 rot="2803800">
              <a:off x="7908840" y="302976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文本框 14"/>
          <p:cNvSpPr/>
          <p:nvPr/>
        </p:nvSpPr>
        <p:spPr>
          <a:xfrm>
            <a:off x="8077320" y="31719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1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2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2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Freeform 6"/>
            <p:cNvSpPr/>
            <p:nvPr/>
          </p:nvSpPr>
          <p:spPr>
            <a:xfrm rot="13661400">
              <a:off x="1042920" y="6344640"/>
              <a:ext cx="206280" cy="1713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3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custGeom>
                <a:avLst/>
                <a:gdLst/>
                <a:ahLst/>
                <a:rect l="l" t="t" r="r" b="b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任意多边形 36"/>
          <p:cNvSpPr/>
          <p:nvPr/>
        </p:nvSpPr>
        <p:spPr>
          <a:xfrm>
            <a:off x="-1089000" y="-2471760"/>
            <a:ext cx="6572160" cy="6572160"/>
          </a:xfrm>
          <a:custGeom>
            <a:avLst/>
            <a:gdLst/>
            <a:ahLst/>
            <a:rect l="l" t="t" r="r" b="b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42"/>
          <p:cNvSpPr/>
          <p:nvPr/>
        </p:nvSpPr>
        <p:spPr>
          <a:xfrm>
            <a:off x="8901000" y="-3240"/>
            <a:ext cx="2495520" cy="2494080"/>
          </a:xfrm>
          <a:custGeom>
            <a:avLst/>
            <a:gdLst/>
            <a:ahLst/>
            <a:rect l="l" t="t" r="r" b="b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任意多边形 45"/>
          <p:cNvSpPr/>
          <p:nvPr/>
        </p:nvSpPr>
        <p:spPr>
          <a:xfrm>
            <a:off x="10702800" y="-1468440"/>
            <a:ext cx="3102120" cy="3102120"/>
          </a:xfrm>
          <a:custGeom>
            <a:avLst/>
            <a:gdLst/>
            <a:ahLst/>
            <a:rect l="l" t="t" r="r" b="b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98"/>
          <p:cNvGrpSpPr/>
          <p:nvPr/>
        </p:nvGrpSpPr>
        <p:grpSpPr>
          <a:xfrm>
            <a:off x="11472120" y="193680"/>
            <a:ext cx="574560" cy="574560"/>
            <a:chOff x="11472120" y="193680"/>
            <a:chExt cx="574560" cy="574560"/>
          </a:xfrm>
        </p:grpSpPr>
        <p:sp>
          <p:nvSpPr>
            <p:cNvPr id="636" name="AutoShape 3"/>
            <p:cNvSpPr/>
            <p:nvPr/>
          </p:nvSpPr>
          <p:spPr>
            <a:xfrm rot="3493800">
              <a:off x="11552040" y="2725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5"/>
            <p:cNvSpPr/>
            <p:nvPr/>
          </p:nvSpPr>
          <p:spPr>
            <a:xfrm rot="3493800">
              <a:off x="11550240" y="2721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"/>
            <p:cNvSpPr/>
            <p:nvPr/>
          </p:nvSpPr>
          <p:spPr>
            <a:xfrm rot="3493800">
              <a:off x="11597040" y="350640"/>
              <a:ext cx="324720" cy="2696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4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4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 rot="13582800">
              <a:off x="10983960" y="920880"/>
              <a:ext cx="362160" cy="3009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4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"/>
            <p:cNvSpPr/>
            <p:nvPr/>
          </p:nvSpPr>
          <p:spPr>
            <a:xfrm rot="16200000">
              <a:off x="10998720" y="361080"/>
              <a:ext cx="292320" cy="243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102"/>
          <p:cNvGrpSpPr/>
          <p:nvPr/>
        </p:nvGrpSpPr>
        <p:grpSpPr>
          <a:xfrm>
            <a:off x="10290240" y="550080"/>
            <a:ext cx="596880" cy="596520"/>
            <a:chOff x="10290240" y="550080"/>
            <a:chExt cx="596880" cy="596520"/>
          </a:xfrm>
        </p:grpSpPr>
        <p:sp>
          <p:nvSpPr>
            <p:cNvPr id="651" name="Oval 5"/>
            <p:cNvSpPr/>
            <p:nvPr/>
          </p:nvSpPr>
          <p:spPr>
            <a:xfrm rot="14317200">
              <a:off x="10371960" y="63072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"/>
            <p:cNvSpPr/>
            <p:nvPr/>
          </p:nvSpPr>
          <p:spPr>
            <a:xfrm rot="14317200">
              <a:off x="10425960" y="707760"/>
              <a:ext cx="325080" cy="2710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5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"/>
            <p:cNvSpPr/>
            <p:nvPr/>
          </p:nvSpPr>
          <p:spPr>
            <a:xfrm rot="18474000">
              <a:off x="10036080" y="1459800"/>
              <a:ext cx="215640" cy="179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5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 rot="18467400">
              <a:off x="10016640" y="1452960"/>
              <a:ext cx="253080" cy="21024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组合 104"/>
          <p:cNvGrpSpPr/>
          <p:nvPr/>
        </p:nvGrpSpPr>
        <p:grpSpPr>
          <a:xfrm>
            <a:off x="9899280" y="729000"/>
            <a:ext cx="338760" cy="339120"/>
            <a:chOff x="9899280" y="729000"/>
            <a:chExt cx="338760" cy="339120"/>
          </a:xfrm>
        </p:grpSpPr>
        <p:sp>
          <p:nvSpPr>
            <p:cNvPr id="660" name="Oval 5"/>
            <p:cNvSpPr/>
            <p:nvPr/>
          </p:nvSpPr>
          <p:spPr>
            <a:xfrm flipV="1" rot="3939000">
              <a:off x="9939960" y="770760"/>
              <a:ext cx="25668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"/>
            <p:cNvSpPr/>
            <p:nvPr/>
          </p:nvSpPr>
          <p:spPr>
            <a:xfrm flipV="1" rot="3939000">
              <a:off x="9967320" y="814320"/>
              <a:ext cx="207000" cy="1710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组合 109"/>
          <p:cNvGrpSpPr/>
          <p:nvPr/>
        </p:nvGrpSpPr>
        <p:grpSpPr>
          <a:xfrm>
            <a:off x="9402120" y="743760"/>
            <a:ext cx="340920" cy="340920"/>
            <a:chOff x="9402120" y="743760"/>
            <a:chExt cx="340920" cy="340920"/>
          </a:xfrm>
        </p:grpSpPr>
        <p:sp>
          <p:nvSpPr>
            <p:cNvPr id="663" name="Oval 5"/>
            <p:cNvSpPr/>
            <p:nvPr/>
          </p:nvSpPr>
          <p:spPr>
            <a:xfrm rot="14727000">
              <a:off x="9443880" y="785520"/>
              <a:ext cx="257040" cy="25740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 rot="14727000">
              <a:off x="9470880" y="826920"/>
              <a:ext cx="203400" cy="1692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组合 108"/>
          <p:cNvGrpSpPr/>
          <p:nvPr/>
        </p:nvGrpSpPr>
        <p:grpSpPr>
          <a:xfrm>
            <a:off x="9647280" y="1230120"/>
            <a:ext cx="309600" cy="307800"/>
            <a:chOff x="9647280" y="1230120"/>
            <a:chExt cx="309600" cy="307800"/>
          </a:xfrm>
        </p:grpSpPr>
        <p:sp>
          <p:nvSpPr>
            <p:cNvPr id="666" name="Oval 5"/>
            <p:cNvSpPr/>
            <p:nvPr/>
          </p:nvSpPr>
          <p:spPr>
            <a:xfrm rot="16200000">
              <a:off x="9648000" y="122904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6200000">
              <a:off x="9685800" y="1282320"/>
              <a:ext cx="235800" cy="1972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6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6"/>
            <p:cNvSpPr/>
            <p:nvPr/>
          </p:nvSpPr>
          <p:spPr>
            <a:xfrm rot="13367400">
              <a:off x="8822520" y="1215360"/>
              <a:ext cx="214560" cy="1774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7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"/>
            <p:cNvSpPr/>
            <p:nvPr/>
          </p:nvSpPr>
          <p:spPr>
            <a:xfrm rot="18585600">
              <a:off x="9286200" y="1323000"/>
              <a:ext cx="16092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8"/>
          <p:cNvGrpSpPr/>
          <p:nvPr/>
        </p:nvGrpSpPr>
        <p:grpSpPr>
          <a:xfrm>
            <a:off x="263880" y="459360"/>
            <a:ext cx="411120" cy="411120"/>
            <a:chOff x="263880" y="459360"/>
            <a:chExt cx="411120" cy="411120"/>
          </a:xfrm>
        </p:grpSpPr>
        <p:sp>
          <p:nvSpPr>
            <p:cNvPr id="676" name="Oval 5"/>
            <p:cNvSpPr/>
            <p:nvPr/>
          </p:nvSpPr>
          <p:spPr>
            <a:xfrm flipV="1" rot="2503800">
              <a:off x="323280" y="519480"/>
              <a:ext cx="29196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 flipV="1" rot="2503800">
              <a:off x="358560" y="573120"/>
              <a:ext cx="221040" cy="18288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组合 5"/>
          <p:cNvGrpSpPr/>
          <p:nvPr/>
        </p:nvGrpSpPr>
        <p:grpSpPr>
          <a:xfrm>
            <a:off x="6568560" y="2464200"/>
            <a:ext cx="319680" cy="319680"/>
            <a:chOff x="6568560" y="2464200"/>
            <a:chExt cx="319680" cy="319680"/>
          </a:xfrm>
        </p:grpSpPr>
        <p:sp>
          <p:nvSpPr>
            <p:cNvPr id="681" name="Oval 5"/>
            <p:cNvSpPr/>
            <p:nvPr/>
          </p:nvSpPr>
          <p:spPr>
            <a:xfrm rot="2803800">
              <a:off x="6615360" y="251028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2803800">
              <a:off x="6639120" y="2550600"/>
              <a:ext cx="176400" cy="14760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684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6"/>
            <p:cNvSpPr/>
            <p:nvPr/>
          </p:nvSpPr>
          <p:spPr>
            <a:xfrm rot="2803800">
              <a:off x="1706400" y="2553480"/>
              <a:ext cx="176400" cy="1461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广告有限公司整合达人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素材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Administrator</cp:lastModifiedBy>
  <dcterms:modified xsi:type="dcterms:W3CDTF">2016-08-02T06:39:12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