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580D-979D-444D-B23A-955244DE5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842E-43A4-4CE2-B693-74DDC029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46D7-47F7-44F6-BF6B-9D21EE60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5D62-7E14-4E7E-B453-A1D01F560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7A1F-7113-4699-A31B-DA5347E1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CDC1-924A-4512-957B-32051A7A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DB2B-5F7C-482C-933E-D782A07B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F56B-A679-4B37-9EC0-D4197517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724C-AD73-4423-A63C-F922C29A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AED1-2491-474A-950F-0B60D6AA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B4A6-7C1C-4EBA-9817-AAED8625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5080-8A98-4DD5-A0A4-3573B1A7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702B-7530-4AFD-971A-87AC79887D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封面背景"/>
          <p:cNvPicPr/>
          <p:nvPr/>
        </p:nvPicPr>
        <p:blipFill>
          <a:blip r:embed="rId1"/>
          <a:stretch/>
        </p:blipFill>
        <p:spPr>
          <a:xfrm>
            <a:off x="46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封面线条"/>
          <p:cNvPicPr/>
          <p:nvPr/>
        </p:nvPicPr>
        <p:blipFill>
          <a:blip r:embed="rId2"/>
          <a:stretch/>
        </p:blipFill>
        <p:spPr>
          <a:xfrm>
            <a:off x="22320" y="-3240"/>
            <a:ext cx="12191760" cy="6854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封面卷页"/>
          <p:cNvPicPr/>
          <p:nvPr/>
        </p:nvPicPr>
        <p:blipFill>
          <a:blip r:embed="rId3"/>
          <a:stretch/>
        </p:blipFill>
        <p:spPr>
          <a:xfrm>
            <a:off x="130320" y="0"/>
            <a:ext cx="12191760" cy="6854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4297320" y="2243160"/>
            <a:ext cx="504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微软雅黑"/>
              </a:rPr>
              <a:t>拥抱正能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973680" y="3862440"/>
            <a:ext cx="46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点燃正能量    引爆小宇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封面闪电"/>
          <p:cNvPicPr/>
          <p:nvPr/>
        </p:nvPicPr>
        <p:blipFill>
          <a:blip r:embed="rId4"/>
          <a:stretch/>
        </p:blipFill>
        <p:spPr>
          <a:xfrm>
            <a:off x="5716440" y="741240"/>
            <a:ext cx="124776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目录背景"/>
          <p:cNvPicPr/>
          <p:nvPr/>
        </p:nvPicPr>
        <p:blipFill>
          <a:blip r:embed="rId1"/>
          <a:stretch/>
        </p:blipFill>
        <p:spPr>
          <a:xfrm>
            <a:off x="190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目录box"/>
          <p:cNvPicPr/>
          <p:nvPr/>
        </p:nvPicPr>
        <p:blipFill>
          <a:blip r:embed="rId2"/>
          <a:stretch/>
        </p:blipFill>
        <p:spPr>
          <a:xfrm>
            <a:off x="1009800" y="84600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目录丝带"/>
          <p:cNvPicPr/>
          <p:nvPr/>
        </p:nvPicPr>
        <p:blipFill>
          <a:blip r:embed="rId3"/>
          <a:stretch/>
        </p:blipFill>
        <p:spPr>
          <a:xfrm>
            <a:off x="-1263600" y="3517920"/>
            <a:ext cx="7764480" cy="4557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目录box"/>
          <p:cNvPicPr/>
          <p:nvPr/>
        </p:nvPicPr>
        <p:blipFill>
          <a:blip r:embed="rId4"/>
          <a:stretch/>
        </p:blipFill>
        <p:spPr>
          <a:xfrm>
            <a:off x="1603440" y="183996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目录box"/>
          <p:cNvPicPr/>
          <p:nvPr/>
        </p:nvPicPr>
        <p:blipFill>
          <a:blip r:embed="rId5"/>
          <a:stretch/>
        </p:blipFill>
        <p:spPr>
          <a:xfrm>
            <a:off x="2211480" y="2847960"/>
            <a:ext cx="2004840" cy="1625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目录box"/>
          <p:cNvPicPr/>
          <p:nvPr/>
        </p:nvPicPr>
        <p:blipFill>
          <a:blip r:embed="rId6"/>
          <a:stretch/>
        </p:blipFill>
        <p:spPr>
          <a:xfrm>
            <a:off x="2817720" y="3841920"/>
            <a:ext cx="2005200" cy="1625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目录意可贴"/>
          <p:cNvPicPr/>
          <p:nvPr/>
        </p:nvPicPr>
        <p:blipFill>
          <a:blip r:embed="rId7"/>
          <a:stretch/>
        </p:blipFill>
        <p:spPr>
          <a:xfrm>
            <a:off x="8440560" y="-9360"/>
            <a:ext cx="4054680" cy="3300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9640800" y="1270080"/>
            <a:ext cx="1760760" cy="14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cont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835280" y="13431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1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416320" y="23367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2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3022560" y="335592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3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3629160" y="4349880"/>
            <a:ext cx="482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4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2705040" y="102384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快 乐 的 能 量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3298680" y="20448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爱 的 吸 引 力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3932280" y="30510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命 运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习 惯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4406760" y="4044960"/>
            <a:ext cx="397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重 塑 全 新 自 我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5076720" y="109548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AP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5724360" y="2116080"/>
            <a:ext cx="314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L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6130800" y="313704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AB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7232760" y="4130640"/>
            <a:ext cx="314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EMO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过渡页橙色目录条"/>
          <p:cNvPicPr/>
          <p:nvPr/>
        </p:nvPicPr>
        <p:blipFill>
          <a:blip r:embed="rId2"/>
          <a:stretch/>
        </p:blipFill>
        <p:spPr>
          <a:xfrm>
            <a:off x="-154080" y="11160"/>
            <a:ext cx="12209400" cy="6878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快乐图标"/>
          <p:cNvPicPr/>
          <p:nvPr/>
        </p:nvPicPr>
        <p:blipFill>
          <a:blip r:embed="rId3"/>
          <a:stretch/>
        </p:blipFill>
        <p:spPr>
          <a:xfrm>
            <a:off x="-135000" y="2041560"/>
            <a:ext cx="3183120" cy="2502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6734160" y="2351160"/>
            <a:ext cx="659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11111"/>
                </a:solidFill>
                <a:latin typeface="Calibri"/>
                <a:ea typeface="微软雅黑"/>
              </a:rPr>
              <a:t>快 乐 </a:t>
            </a:r>
            <a:r>
              <a:rPr b="0" lang="zh-CN" sz="4000" spc="-1" strike="noStrike">
                <a:solidFill>
                  <a:srgbClr val="ff9b05"/>
                </a:solidFill>
                <a:latin typeface="Calibri"/>
                <a:ea typeface="微软雅黑"/>
              </a:rPr>
              <a:t>的 能 量</a:t>
            </a:r>
            <a:r>
              <a:rPr b="0" lang="zh-CN" sz="40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705640" y="3476520"/>
            <a:ext cx="40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POWER OF PLEAS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微笑图片"/>
          <p:cNvPicPr/>
          <p:nvPr/>
        </p:nvPicPr>
        <p:blipFill>
          <a:blip r:embed="rId3"/>
          <a:stretch/>
        </p:blipFill>
        <p:spPr>
          <a:xfrm>
            <a:off x="9820440" y="552600"/>
            <a:ext cx="1993680" cy="583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十字标记"/>
          <p:cNvPicPr/>
          <p:nvPr/>
        </p:nvPicPr>
        <p:blipFill>
          <a:blip r:embed="rId4"/>
          <a:stretch/>
        </p:blipFill>
        <p:spPr>
          <a:xfrm>
            <a:off x="4419720" y="1778040"/>
            <a:ext cx="2851200" cy="2914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4948200" y="13255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控 制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情 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075280" y="40813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创 造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快 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969240" y="2646360"/>
            <a:ext cx="314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懂 得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幽 默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2787480" y="262728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学 会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天 真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211480" y="1017720"/>
            <a:ext cx="3144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情绪管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Emotion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206800" y="1817640"/>
            <a:ext cx="8391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情绪是指个体对本身需要和客观事物之间关系的短暂而强烈的反应。是一种主观感受、生理的反应、认知的互动，并表达出一些特定行为。情绪管理是将这些感受、反应、评估和特定行为挖掘并驾驭的一种手段。情绪管理是指通过研究个体和群体对自身情绪和他人情绪的认识、协调、引导、互动和控制，充分挖掘和培植个体和群体的情绪智商、培养驾驭情绪的能力，从而确保个体和群体保持良好的情绪状态，并由此产生良好管理效果的一种管理手段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444760" y="3168720"/>
            <a:ext cx="31464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解压释放负能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   </a:t>
            </a:r>
            <a:r>
              <a:rPr b="0" lang="zh-CN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（小窍门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虚线图标"/>
          <p:cNvPicPr/>
          <p:nvPr/>
        </p:nvPicPr>
        <p:blipFill>
          <a:blip r:embed="rId3"/>
          <a:stretch/>
        </p:blipFill>
        <p:spPr>
          <a:xfrm>
            <a:off x="4545000" y="162000"/>
            <a:ext cx="2712960" cy="6458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圆"/>
          <p:cNvPicPr/>
          <p:nvPr/>
        </p:nvPicPr>
        <p:blipFill>
          <a:blip r:embed="rId4"/>
          <a:stretch/>
        </p:blipFill>
        <p:spPr>
          <a:xfrm>
            <a:off x="5796000" y="1116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圆"/>
          <p:cNvPicPr/>
          <p:nvPr/>
        </p:nvPicPr>
        <p:blipFill>
          <a:blip r:embed="rId5"/>
          <a:stretch/>
        </p:blipFill>
        <p:spPr>
          <a:xfrm>
            <a:off x="5821200" y="1407960"/>
            <a:ext cx="2500560" cy="2230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圆"/>
          <p:cNvPicPr/>
          <p:nvPr/>
        </p:nvPicPr>
        <p:blipFill>
          <a:blip r:embed="rId6"/>
          <a:stretch/>
        </p:blipFill>
        <p:spPr>
          <a:xfrm>
            <a:off x="5830920" y="302580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圆"/>
          <p:cNvPicPr/>
          <p:nvPr/>
        </p:nvPicPr>
        <p:blipFill>
          <a:blip r:embed="rId7"/>
          <a:stretch/>
        </p:blipFill>
        <p:spPr>
          <a:xfrm>
            <a:off x="5826240" y="4481640"/>
            <a:ext cx="2500200" cy="2228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6427800" y="90180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06:0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晨 跑   做体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6451560" y="231444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0:0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交 流   听音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6448320" y="3946680"/>
            <a:ext cx="5162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6:0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发 呆   喝清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458040" y="540216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22:0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泡 脚   听相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结束页"/>
          <p:cNvPicPr/>
          <p:nvPr/>
        </p:nvPicPr>
        <p:blipFill>
          <a:blip r:embed="rId2"/>
          <a:stretch/>
        </p:blipFill>
        <p:spPr>
          <a:xfrm>
            <a:off x="1155600" y="917640"/>
            <a:ext cx="9783720" cy="55022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4510080" y="2801880"/>
            <a:ext cx="503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alibri"/>
                <a:ea typeface="黑体"/>
              </a:rPr>
              <a:t>谢谢观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Administrator</cp:lastModifiedBy>
  <dcterms:modified xsi:type="dcterms:W3CDTF">2016-08-02T06:33:1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