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7.png" ContentType="image/png"/>
  <Override PartName="/ppt/media/image1.jpeg" ContentType="image/jpe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A9DED-2236-48D0-9081-F0B376079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2"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3"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CDE90-5948-4D20-AAD6-385E1E325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5"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6"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7"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8"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34155-5511-4267-9443-3A6E9450D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40"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1"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2"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3"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4"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5"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657B9-1416-4250-B347-7670DC06E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B79EA-2864-4334-A5DD-A5B1B5DC23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57"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EF2FD-5DCD-41BF-9D37-3812B86DE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59"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39E97-A732-4B40-A7F4-5491B4C59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61"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2"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9FBC3-0080-475A-AE49-B4D4C301B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9F7B3-054D-4FEC-B9A4-82EAB922C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1EE79-B676-41CD-A7C4-5A1D5922F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66"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7"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8"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D3AC2-ACE6-4C5C-8F49-99B118251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1"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44575-DD0E-404D-A4C5-F87B0BF07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70"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1"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2"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D0B8D-E80D-45D8-B74C-26B1BE441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7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6"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3DC3E-71C4-4054-9746-612E57432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78"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9"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DF88E-3206-4E62-A00C-8E5EAA533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81"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2"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3"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4"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24BE9B-1825-4509-83D7-A13200ADB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86"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7"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8"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9"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0"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1"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50B0A4-BB6F-439D-AA8B-E1FCEAF57B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B6F035-5518-4D48-B606-4EAC291758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04"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299469-0B29-4036-B3AA-D5C3D9354C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06"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BF3311-299A-46F9-B9CE-DF9389EF18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08"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09"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F367DB-ED69-49F4-BE7E-0400C77FCC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A6E9F1-AD05-4142-BF12-619F573A28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309FD-DD42-44DD-8D89-AF4CFAAE5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20C69C-E488-4091-8FA9-94A3644D97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13"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14"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15"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757805-3C39-4023-8A0A-EE37C4264A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17"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1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19"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AB7510-8A68-4C48-A678-2A8ED653A6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21"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22"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23"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D9FE60-31F5-4B33-980F-0A5481F43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25"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26"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6607C4-4CAC-47C4-9EE1-8B903047BE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28"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29"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0"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1"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2EE75E-ED92-436E-8F42-4FC92596EB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33"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4"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5"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6"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7"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8"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E1CE0D-3CD5-41E0-BE39-84E599BA5E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B6AA74-6FF2-4D80-B2B0-46A3C50991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9C41D0-192C-4786-BDC3-2413FEA8EB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63CA5E-FF35-4CF4-A9BE-8F233C0F2C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06666-3A3F-4FA0-AFBE-A6C464B7C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5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11E2A9-A3F9-4101-B801-847906EABB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55E289-A8DA-4470-AA45-A8819255CD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A37F9E-0D4B-4207-A1FF-10265949DC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8F76D5-786F-4922-A6A2-8FBBA693EB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6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7F0C69-E59F-4B85-A69D-667AC58C2D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6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3EFE72-DE29-4CE8-B947-19E47B7868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7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7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622E0C-776E-4805-966E-7D15CDD455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7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7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7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7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6524D4-7323-4C4C-AB76-CCC61BA369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7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670F94-345B-4873-B2DE-010B7D8825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6950CA-A9E0-4177-A3EC-059E319E8B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4FA0B-470F-4ECB-85F5-DE7B16D3E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03"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1CF84F-D604-4797-BD8B-82F6215971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05"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736744-FBA5-436F-86FE-8DC255B8A9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07"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08"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853AC4-5E89-4A2C-80C7-F4A2F14546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E1D220-D92E-4B2A-B146-CCDDA42F14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143554-A6E5-49AB-B017-139D279E6D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12"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3"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4"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42F171-5DF3-4BE2-9C9A-C99705F78A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16"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7"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8"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21CAEF-C8A5-444D-BFE6-82AC21B0C5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20"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1"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2"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EE7850-317A-4E06-8E87-CD6B4E1FEF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24"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5"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699FBA-A65F-488D-8594-F055410821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9"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0"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92A4F3-00C8-45E6-AC77-FF6D4538CC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33B2C-0392-4A29-9387-B2A8768A2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32"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3"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4"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5"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6"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7"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2D2CEB-9402-42F7-AD15-148B908DB3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0"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B3B87-58A9-45B3-B916-91854A5EB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6"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EC43B-D468-452E-8489-6090C6D2E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8"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9"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0"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381E2-2D20-4A06-9974-B684A27B9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7.png"/><Relationship Id="rId12" Type="http://schemas.openxmlformats.org/officeDocument/2006/relationships/slideLayout" Target="../slideLayouts/slideLayout49.xml"/><Relationship Id="rId13" Type="http://schemas.openxmlformats.org/officeDocument/2006/relationships/slideLayout" Target="../slideLayouts/slideLayout50.xml"/><Relationship Id="rId14" Type="http://schemas.openxmlformats.org/officeDocument/2006/relationships/slideLayout" Target="../slideLayouts/slideLayout51.xml"/><Relationship Id="rId15" Type="http://schemas.openxmlformats.org/officeDocument/2006/relationships/slideLayout" Target="../slideLayouts/slideLayout52.xml"/><Relationship Id="rId16" Type="http://schemas.openxmlformats.org/officeDocument/2006/relationships/slideLayout" Target="../slideLayouts/slideLayout53.xml"/><Relationship Id="rId17" Type="http://schemas.openxmlformats.org/officeDocument/2006/relationships/slideLayout" Target="../slideLayouts/slideLayout54.xml"/><Relationship Id="rId18" Type="http://schemas.openxmlformats.org/officeDocument/2006/relationships/slideLayout" Target="../slideLayouts/slideLayout55.xml"/><Relationship Id="rId19" Type="http://schemas.openxmlformats.org/officeDocument/2006/relationships/slideLayout" Target="../slideLayouts/slideLayout56.xml"/><Relationship Id="rId20" Type="http://schemas.openxmlformats.org/officeDocument/2006/relationships/slideLayout" Target="../slideLayouts/slideLayout57.xml"/><Relationship Id="rId21" Type="http://schemas.openxmlformats.org/officeDocument/2006/relationships/slideLayout" Target="../slideLayouts/slideLayout58.xml"/><Relationship Id="rId22" Type="http://schemas.openxmlformats.org/officeDocument/2006/relationships/slideLayout" Target="../slideLayouts/slideLayout59.xml"/><Relationship Id="rId2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60" descr="곡선4"/>
          <p:cNvPicPr/>
          <p:nvPr/>
        </p:nvPicPr>
        <p:blipFill>
          <a:blip r:embed="rId3"/>
          <a:stretch/>
        </p:blipFill>
        <p:spPr>
          <a:xfrm>
            <a:off x="1679400" y="541440"/>
            <a:ext cx="7464600" cy="6316560"/>
          </a:xfrm>
          <a:prstGeom prst="rect">
            <a:avLst/>
          </a:prstGeom>
          <a:ln w="0">
            <a:noFill/>
          </a:ln>
        </p:spPr>
      </p:pic>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 name="PlaceHolder 2"/>
          <p:cNvSpPr>
            <a:spLocks noGrp="1"/>
          </p:cNvSpPr>
          <p:nvPr>
            <p:ph type="ftr" idx="2"/>
          </p:nvPr>
        </p:nvSpPr>
        <p:spPr>
          <a:xfrm>
            <a:off x="3132000" y="6265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1BC1-A364-426A-BD70-F98510A40E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grpSp>
        <p:nvGrpSpPr>
          <p:cNvPr id="5" name="Group 248"/>
          <p:cNvGrpSpPr/>
          <p:nvPr/>
        </p:nvGrpSpPr>
        <p:grpSpPr>
          <a:xfrm>
            <a:off x="250920" y="6426360"/>
            <a:ext cx="2519280" cy="288720"/>
            <a:chOff x="250920" y="6426360"/>
            <a:chExt cx="2519280" cy="288720"/>
          </a:xfrm>
        </p:grpSpPr>
        <p:sp>
          <p:nvSpPr>
            <p:cNvPr id="6" name="WordArt 249"/>
            <p:cNvSpPr txBox="1"/>
            <p:nvPr/>
          </p:nvSpPr>
          <p:spPr>
            <a:xfrm>
              <a:off x="250920" y="642636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7" name="WordArt 250"/>
            <p:cNvSpPr txBox="1"/>
            <p:nvPr/>
          </p:nvSpPr>
          <p:spPr>
            <a:xfrm>
              <a:off x="1328760" y="6642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8" name="PlaceHolder 5"/>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Click to edit the outline text format</a:t>
            </a:r>
            <a:endParaRPr b="0" lang="en-US" sz="2800" spc="-1" strike="noStrike">
              <a:solidFill>
                <a:srgbClr val="000000"/>
              </a:solidFill>
              <a:latin typeface="굴림"/>
            </a:endParaRPr>
          </a:p>
          <a:p>
            <a:pPr lvl="1" marL="743040" indent="-28584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11430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Third Outline Level</a:t>
            </a:r>
            <a:endParaRPr b="0" lang="en-US" sz="2800" spc="-1" strike="noStrike">
              <a:solidFill>
                <a:srgbClr val="000000"/>
              </a:solidFill>
              <a:latin typeface="굴림"/>
            </a:endParaRPr>
          </a:p>
          <a:p>
            <a:pPr lvl="3" marL="16002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ourth Outline Level</a:t>
            </a:r>
            <a:endParaRPr b="0" lang="en-US" sz="2800" spc="-1" strike="noStrike">
              <a:solidFill>
                <a:srgbClr val="000000"/>
              </a:solidFill>
              <a:latin typeface="굴림"/>
            </a:endParaRPr>
          </a:p>
          <a:p>
            <a:pPr lvl="4"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ifth Outline Level</a:t>
            </a:r>
            <a:endParaRPr b="0" lang="en-US" sz="2800" spc="-1" strike="noStrike">
              <a:solidFill>
                <a:srgbClr val="000000"/>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ixth Outline Level</a:t>
            </a:r>
            <a:endParaRPr b="0" lang="en-US" sz="2800" spc="-1" strike="noStrike">
              <a:solidFill>
                <a:srgbClr val="000000"/>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venth Outline Level</a:t>
            </a:r>
            <a:endParaRPr b="0" lang="en-US" sz="2800" spc="-1" strike="noStrike">
              <a:solidFill>
                <a:srgbClr val="000000"/>
              </a:solidFill>
              <a:latin typeface="굴림"/>
            </a:endParaRPr>
          </a:p>
        </p:txBody>
      </p:sp>
      <p:pic>
        <p:nvPicPr>
          <p:cNvPr id="9" name="Picture 261" descr="나뭇잎3"/>
          <p:cNvPicPr/>
          <p:nvPr/>
        </p:nvPicPr>
        <p:blipFill>
          <a:blip r:embed="rId4"/>
          <a:stretch/>
        </p:blipFill>
        <p:spPr>
          <a:xfrm>
            <a:off x="6588000" y="0"/>
            <a:ext cx="2556000" cy="158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310" descr="곡선4"/>
          <p:cNvPicPr/>
          <p:nvPr/>
        </p:nvPicPr>
        <p:blipFill>
          <a:blip r:embed="rId3"/>
          <a:stretch/>
        </p:blipFill>
        <p:spPr>
          <a:xfrm>
            <a:off x="1679400" y="541440"/>
            <a:ext cx="7464600" cy="6316560"/>
          </a:xfrm>
          <a:prstGeom prst="rect">
            <a:avLst/>
          </a:prstGeom>
          <a:ln w="0">
            <a:noFill/>
          </a:ln>
        </p:spPr>
      </p:pic>
      <p:sp>
        <p:nvSpPr>
          <p:cNvPr id="4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sp>
        <p:nvSpPr>
          <p:cNvPr id="48"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Click to edit the outline text format</a:t>
            </a:r>
            <a:endParaRPr b="0" lang="en-US" sz="2800" spc="-1" strike="noStrike">
              <a:solidFill>
                <a:srgbClr val="ffffff"/>
              </a:solidFill>
              <a:latin typeface="굴림"/>
            </a:endParaRPr>
          </a:p>
          <a:p>
            <a:pPr lvl="1" marL="743040" indent="-28584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Second Outline Level</a:t>
            </a:r>
            <a:endParaRPr b="0" lang="en-US" sz="2800" spc="-1" strike="noStrike">
              <a:solidFill>
                <a:srgbClr val="ffffff"/>
              </a:solidFill>
              <a:latin typeface="굴림"/>
            </a:endParaRPr>
          </a:p>
          <a:p>
            <a:pPr lvl="2" marL="1143000" indent="-22860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Third Outline Level</a:t>
            </a:r>
            <a:endParaRPr b="0" lang="en-US" sz="2800" spc="-1" strike="noStrike">
              <a:solidFill>
                <a:srgbClr val="ffffff"/>
              </a:solidFill>
              <a:latin typeface="굴림"/>
            </a:endParaRPr>
          </a:p>
          <a:p>
            <a:pPr lvl="3" marL="1600200" indent="-22860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Fourth Outline Level</a:t>
            </a:r>
            <a:endParaRPr b="0" lang="en-US" sz="2800" spc="-1" strike="noStrike">
              <a:solidFill>
                <a:srgbClr val="ffffff"/>
              </a:solidFill>
              <a:latin typeface="굴림"/>
            </a:endParaRPr>
          </a:p>
          <a:p>
            <a:pPr lvl="4" marL="2057400" indent="-22860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Fifth Outline Level</a:t>
            </a:r>
            <a:endParaRPr b="0" lang="en-US" sz="2800" spc="-1" strike="noStrike">
              <a:solidFill>
                <a:srgbClr val="ffffff"/>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Sixth Outline Level</a:t>
            </a:r>
            <a:endParaRPr b="0" lang="en-US" sz="2800" spc="-1" strike="noStrike">
              <a:solidFill>
                <a:srgbClr val="ffffff"/>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Seventh Outline Level</a:t>
            </a:r>
            <a:endParaRPr b="0" lang="en-US" sz="2800" spc="-1" strike="noStrike">
              <a:solidFill>
                <a:srgbClr val="ffffff"/>
              </a:solidFill>
              <a:latin typeface="굴림"/>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29A1-A351-46B0-B16A-F3BD516C5C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2" name="Group 302"/>
          <p:cNvGrpSpPr/>
          <p:nvPr/>
        </p:nvGrpSpPr>
        <p:grpSpPr>
          <a:xfrm>
            <a:off x="250920" y="6426360"/>
            <a:ext cx="2519280" cy="288720"/>
            <a:chOff x="250920" y="6426360"/>
            <a:chExt cx="2519280" cy="288720"/>
          </a:xfrm>
        </p:grpSpPr>
        <p:sp>
          <p:nvSpPr>
            <p:cNvPr id="53" name="WordArt 303"/>
            <p:cNvSpPr txBox="1"/>
            <p:nvPr/>
          </p:nvSpPr>
          <p:spPr>
            <a:xfrm>
              <a:off x="250920" y="642636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54" name="WordArt 304"/>
            <p:cNvSpPr txBox="1"/>
            <p:nvPr/>
          </p:nvSpPr>
          <p:spPr>
            <a:xfrm>
              <a:off x="1328760" y="6642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55" name="Picture 312" descr="나뭇잎3"/>
          <p:cNvPicPr/>
          <p:nvPr/>
        </p:nvPicPr>
        <p:blipFill>
          <a:blip r:embed="rId4"/>
          <a:stretch/>
        </p:blipFill>
        <p:spPr>
          <a:xfrm>
            <a:off x="6588000" y="0"/>
            <a:ext cx="2556000" cy="158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2" name="Picture 79" descr="4"/>
          <p:cNvPicPr/>
          <p:nvPr/>
        </p:nvPicPr>
        <p:blipFill>
          <a:blip r:embed="rId3"/>
          <a:stretch/>
        </p:blipFill>
        <p:spPr>
          <a:xfrm>
            <a:off x="0" y="0"/>
            <a:ext cx="9144000" cy="2205000"/>
          </a:xfrm>
          <a:prstGeom prst="rect">
            <a:avLst/>
          </a:prstGeom>
          <a:ln w="0">
            <a:noFill/>
          </a:ln>
        </p:spPr>
      </p:pic>
      <p:pic>
        <p:nvPicPr>
          <p:cNvPr id="93" name="Picture 148" descr="곡선4"/>
          <p:cNvPicPr/>
          <p:nvPr/>
        </p:nvPicPr>
        <p:blipFill>
          <a:blip r:embed="rId4"/>
          <a:stretch/>
        </p:blipFill>
        <p:spPr>
          <a:xfrm>
            <a:off x="1679400" y="541440"/>
            <a:ext cx="7464600" cy="6316560"/>
          </a:xfrm>
          <a:prstGeom prst="rect">
            <a:avLst/>
          </a:prstGeom>
          <a:ln w="0">
            <a:noFill/>
          </a:ln>
        </p:spPr>
      </p:pic>
      <p:pic>
        <p:nvPicPr>
          <p:cNvPr id="94" name="Picture 149" descr="나뭇잎3"/>
          <p:cNvPicPr/>
          <p:nvPr/>
        </p:nvPicPr>
        <p:blipFill>
          <a:blip r:embed="rId5"/>
          <a:stretch/>
        </p:blipFill>
        <p:spPr>
          <a:xfrm>
            <a:off x="6588000" y="0"/>
            <a:ext cx="2556000" cy="1581120"/>
          </a:xfrm>
          <a:prstGeom prst="rect">
            <a:avLst/>
          </a:prstGeom>
          <a:ln w="0">
            <a:noFill/>
          </a:ln>
        </p:spPr>
      </p:pic>
      <p:grpSp>
        <p:nvGrpSpPr>
          <p:cNvPr id="95" name="Group 140"/>
          <p:cNvGrpSpPr/>
          <p:nvPr/>
        </p:nvGrpSpPr>
        <p:grpSpPr>
          <a:xfrm>
            <a:off x="250920" y="6426360"/>
            <a:ext cx="2519280" cy="288720"/>
            <a:chOff x="250920" y="6426360"/>
            <a:chExt cx="2519280" cy="288720"/>
          </a:xfrm>
        </p:grpSpPr>
        <p:sp>
          <p:nvSpPr>
            <p:cNvPr id="96" name="WordArt 141"/>
            <p:cNvSpPr txBox="1"/>
            <p:nvPr/>
          </p:nvSpPr>
          <p:spPr>
            <a:xfrm>
              <a:off x="250920" y="642636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97" name="WordArt 142"/>
            <p:cNvSpPr txBox="1"/>
            <p:nvPr/>
          </p:nvSpPr>
          <p:spPr>
            <a:xfrm>
              <a:off x="1328760" y="6642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98"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60A6-F361-4020-A7CB-8949E2003D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4"/>
          <p:cNvSpPr>
            <a:spLocks noGrp="1"/>
          </p:cNvSpPr>
          <p:nvPr>
            <p:ph type="body"/>
          </p:nvPr>
        </p:nvSpPr>
        <p:spPr>
          <a:xfrm>
            <a:off x="457200" y="1412640"/>
            <a:ext cx="8229600" cy="470988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Click to edit the outline text format</a:t>
            </a:r>
            <a:endParaRPr b="0" lang="en-US" sz="2800" spc="-1" strike="noStrike">
              <a:solidFill>
                <a:srgbClr val="000000"/>
              </a:solidFill>
              <a:latin typeface="굴림"/>
            </a:endParaRPr>
          </a:p>
          <a:p>
            <a:pPr lvl="1" marL="743040" indent="-28584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11430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Third Outline Level</a:t>
            </a:r>
            <a:endParaRPr b="0" lang="en-US" sz="2800" spc="-1" strike="noStrike">
              <a:solidFill>
                <a:srgbClr val="000000"/>
              </a:solidFill>
              <a:latin typeface="굴림"/>
            </a:endParaRPr>
          </a:p>
          <a:p>
            <a:pPr lvl="3" marL="16002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ourth Outline Level</a:t>
            </a:r>
            <a:endParaRPr b="0" lang="en-US" sz="2800" spc="-1" strike="noStrike">
              <a:solidFill>
                <a:srgbClr val="000000"/>
              </a:solidFill>
              <a:latin typeface="굴림"/>
            </a:endParaRPr>
          </a:p>
          <a:p>
            <a:pPr lvl="4"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ifth Outline Level</a:t>
            </a:r>
            <a:endParaRPr b="0" lang="en-US" sz="2800" spc="-1" strike="noStrike">
              <a:solidFill>
                <a:srgbClr val="000000"/>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ixth Outline Level</a:t>
            </a:r>
            <a:endParaRPr b="0" lang="en-US" sz="2800" spc="-1" strike="noStrike">
              <a:solidFill>
                <a:srgbClr val="000000"/>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venth Outline Level</a:t>
            </a:r>
            <a:endParaRPr b="0" lang="en-US" sz="2800" spc="-1" strike="noStrike">
              <a:solidFill>
                <a:srgbClr val="000000"/>
              </a:solidFill>
              <a:latin typeface="굴림"/>
            </a:endParaRPr>
          </a:p>
        </p:txBody>
      </p:sp>
      <p:sp>
        <p:nvSpPr>
          <p:cNvPr id="102" name="PlaceHolder 5"/>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9" name="Picture 30" descr="곡선1"/>
          <p:cNvPicPr/>
          <p:nvPr/>
        </p:nvPicPr>
        <p:blipFill>
          <a:blip r:embed="rId3"/>
          <a:stretch/>
        </p:blipFill>
        <p:spPr>
          <a:xfrm>
            <a:off x="-231840" y="189000"/>
            <a:ext cx="4659480" cy="4895640"/>
          </a:xfrm>
          <a:prstGeom prst="rect">
            <a:avLst/>
          </a:prstGeom>
          <a:ln w="0">
            <a:noFill/>
          </a:ln>
        </p:spPr>
      </p:pic>
      <p:pic>
        <p:nvPicPr>
          <p:cNvPr id="140" name="Picture 31" descr="원1"/>
          <p:cNvPicPr/>
          <p:nvPr/>
        </p:nvPicPr>
        <p:blipFill>
          <a:blip r:embed="rId4"/>
          <a:stretch/>
        </p:blipFill>
        <p:spPr>
          <a:xfrm>
            <a:off x="-396720" y="4076640"/>
            <a:ext cx="2584440" cy="2584440"/>
          </a:xfrm>
          <a:prstGeom prst="rect">
            <a:avLst/>
          </a:prstGeom>
          <a:ln w="0">
            <a:noFill/>
          </a:ln>
        </p:spPr>
      </p:pic>
      <p:pic>
        <p:nvPicPr>
          <p:cNvPr id="141" name="Picture 32" descr="원2"/>
          <p:cNvPicPr/>
          <p:nvPr/>
        </p:nvPicPr>
        <p:blipFill>
          <a:blip r:embed="rId5"/>
          <a:stretch/>
        </p:blipFill>
        <p:spPr>
          <a:xfrm>
            <a:off x="709560" y="2276640"/>
            <a:ext cx="1774800" cy="1774800"/>
          </a:xfrm>
          <a:prstGeom prst="rect">
            <a:avLst/>
          </a:prstGeom>
          <a:ln w="0">
            <a:noFill/>
          </a:ln>
        </p:spPr>
      </p:pic>
      <p:pic>
        <p:nvPicPr>
          <p:cNvPr id="142" name="Picture 28" descr="꽃1"/>
          <p:cNvPicPr/>
          <p:nvPr/>
        </p:nvPicPr>
        <p:blipFill>
          <a:blip r:embed="rId6"/>
          <a:stretch/>
        </p:blipFill>
        <p:spPr>
          <a:xfrm>
            <a:off x="-177840" y="3357720"/>
            <a:ext cx="3670200" cy="2776320"/>
          </a:xfrm>
          <a:prstGeom prst="rect">
            <a:avLst/>
          </a:prstGeom>
          <a:ln w="0">
            <a:noFill/>
          </a:ln>
        </p:spPr>
      </p:pic>
      <p:pic>
        <p:nvPicPr>
          <p:cNvPr id="143" name="Picture 24" descr="8"/>
          <p:cNvPicPr/>
          <p:nvPr/>
        </p:nvPicPr>
        <p:blipFill>
          <a:blip r:embed="rId7"/>
          <a:stretch/>
        </p:blipFill>
        <p:spPr>
          <a:xfrm>
            <a:off x="1217520" y="-15840"/>
            <a:ext cx="7926480" cy="6873840"/>
          </a:xfrm>
          <a:prstGeom prst="rect">
            <a:avLst/>
          </a:prstGeom>
          <a:ln w="0">
            <a:noFill/>
          </a:ln>
        </p:spPr>
      </p:pic>
      <p:sp>
        <p:nvSpPr>
          <p:cNvPr id="144"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5"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6"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BE79-63DC-4D85-82B9-6A27C37829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4"/>
          <p:cNvSpPr>
            <a:spLocks noGrp="1"/>
          </p:cNvSpPr>
          <p:nvPr>
            <p:ph type="body"/>
          </p:nvPr>
        </p:nvSpPr>
        <p:spPr>
          <a:xfrm>
            <a:off x="1835280" y="1052280"/>
            <a:ext cx="6851520" cy="507348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Click to edit the outline text format</a:t>
            </a:r>
            <a:endParaRPr b="0" lang="en-US" sz="2800" spc="-1" strike="noStrike">
              <a:solidFill>
                <a:srgbClr val="000000"/>
              </a:solidFill>
              <a:latin typeface="굴림"/>
            </a:endParaRPr>
          </a:p>
          <a:p>
            <a:pPr lvl="1" marL="743040" indent="-28584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11430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Third Outline Level</a:t>
            </a:r>
            <a:endParaRPr b="0" lang="en-US" sz="2800" spc="-1" strike="noStrike">
              <a:solidFill>
                <a:srgbClr val="000000"/>
              </a:solidFill>
              <a:latin typeface="굴림"/>
            </a:endParaRPr>
          </a:p>
          <a:p>
            <a:pPr lvl="3" marL="16002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ourth Outline Level</a:t>
            </a:r>
            <a:endParaRPr b="0" lang="en-US" sz="2800" spc="-1" strike="noStrike">
              <a:solidFill>
                <a:srgbClr val="000000"/>
              </a:solidFill>
              <a:latin typeface="굴림"/>
            </a:endParaRPr>
          </a:p>
          <a:p>
            <a:pPr lvl="4"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ifth Outline Level</a:t>
            </a:r>
            <a:endParaRPr b="0" lang="en-US" sz="2800" spc="-1" strike="noStrike">
              <a:solidFill>
                <a:srgbClr val="000000"/>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ixth Outline Level</a:t>
            </a:r>
            <a:endParaRPr b="0" lang="en-US" sz="2800" spc="-1" strike="noStrike">
              <a:solidFill>
                <a:srgbClr val="000000"/>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venth Outline Level</a:t>
            </a:r>
            <a:endParaRPr b="0" lang="en-US" sz="2800" spc="-1" strike="noStrike">
              <a:solidFill>
                <a:srgbClr val="000000"/>
              </a:solidFill>
              <a:latin typeface="굴림"/>
            </a:endParaRPr>
          </a:p>
        </p:txBody>
      </p:sp>
      <p:sp>
        <p:nvSpPr>
          <p:cNvPr id="148" name="PlaceHolder 5"/>
          <p:cNvSpPr>
            <a:spLocks noGrp="1"/>
          </p:cNvSpPr>
          <p:nvPr>
            <p:ph type="title"/>
          </p:nvPr>
        </p:nvSpPr>
        <p:spPr>
          <a:xfrm>
            <a:off x="1835280" y="-360"/>
            <a:ext cx="685152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5" name="Picture 491" descr="곡선2"/>
          <p:cNvPicPr/>
          <p:nvPr/>
        </p:nvPicPr>
        <p:blipFill>
          <a:blip r:embed="rId3"/>
          <a:stretch/>
        </p:blipFill>
        <p:spPr>
          <a:xfrm>
            <a:off x="4356000" y="4349880"/>
            <a:ext cx="4788000" cy="2382840"/>
          </a:xfrm>
          <a:prstGeom prst="rect">
            <a:avLst/>
          </a:prstGeom>
          <a:ln w="0">
            <a:noFill/>
          </a:ln>
        </p:spPr>
      </p:pic>
      <p:pic>
        <p:nvPicPr>
          <p:cNvPr id="186" name="Picture 493" descr="꽃무늬"/>
          <p:cNvPicPr/>
          <p:nvPr/>
        </p:nvPicPr>
        <p:blipFill>
          <a:blip r:embed="rId4"/>
          <a:stretch/>
        </p:blipFill>
        <p:spPr>
          <a:xfrm>
            <a:off x="3203640" y="4581360"/>
            <a:ext cx="4967280" cy="1936800"/>
          </a:xfrm>
          <a:prstGeom prst="rect">
            <a:avLst/>
          </a:prstGeom>
          <a:ln w="0">
            <a:noFill/>
          </a:ln>
        </p:spPr>
      </p:pic>
      <p:pic>
        <p:nvPicPr>
          <p:cNvPr id="187" name="Picture 492" descr="원"/>
          <p:cNvPicPr/>
          <p:nvPr/>
        </p:nvPicPr>
        <p:blipFill>
          <a:blip r:embed="rId5"/>
          <a:stretch/>
        </p:blipFill>
        <p:spPr>
          <a:xfrm>
            <a:off x="0" y="0"/>
            <a:ext cx="6300720" cy="5897520"/>
          </a:xfrm>
          <a:prstGeom prst="rect">
            <a:avLst/>
          </a:prstGeom>
          <a:ln w="0">
            <a:noFill/>
          </a:ln>
        </p:spPr>
      </p:pic>
      <p:pic>
        <p:nvPicPr>
          <p:cNvPr id="188" name="Picture 490" descr="곡선1"/>
          <p:cNvPicPr/>
          <p:nvPr/>
        </p:nvPicPr>
        <p:blipFill>
          <a:blip r:embed="rId6"/>
          <a:stretch/>
        </p:blipFill>
        <p:spPr>
          <a:xfrm>
            <a:off x="0" y="0"/>
            <a:ext cx="7380360" cy="6107040"/>
          </a:xfrm>
          <a:prstGeom prst="rect">
            <a:avLst/>
          </a:prstGeom>
          <a:ln w="0">
            <a:noFill/>
          </a:ln>
        </p:spPr>
      </p:pic>
      <p:grpSp>
        <p:nvGrpSpPr>
          <p:cNvPr id="189" name="Group 481"/>
          <p:cNvGrpSpPr/>
          <p:nvPr/>
        </p:nvGrpSpPr>
        <p:grpSpPr>
          <a:xfrm>
            <a:off x="3922560" y="6165720"/>
            <a:ext cx="1441440" cy="426960"/>
            <a:chOff x="3922560" y="6165720"/>
            <a:chExt cx="1441440" cy="426960"/>
          </a:xfrm>
        </p:grpSpPr>
        <p:sp>
          <p:nvSpPr>
            <p:cNvPr id="190" name="WordArt 482"/>
            <p:cNvSpPr txBox="1"/>
            <p:nvPr/>
          </p:nvSpPr>
          <p:spPr>
            <a:xfrm>
              <a:off x="4065120" y="616572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Impact"/>
                </a:rPr>
                <a:t>' LOGO '</a:t>
              </a:r>
              <a:endParaRPr b="0" lang="en-US" sz="1400" spc="1" strike="noStrike">
                <a:ln w="0">
                  <a:noFill/>
                </a:ln>
                <a:solidFill>
                  <a:srgbClr val="000000">
                    <a:alpha val="75000"/>
                  </a:srgbClr>
                </a:solidFill>
                <a:latin typeface="Impact"/>
                <a:ea typeface="Impact"/>
              </a:endParaRPr>
            </a:p>
          </p:txBody>
        </p:sp>
        <p:sp>
          <p:nvSpPr>
            <p:cNvPr id="191" name="WordArt 483"/>
            <p:cNvSpPr txBox="1"/>
            <p:nvPr/>
          </p:nvSpPr>
          <p:spPr>
            <a:xfrm>
              <a:off x="3922560" y="65199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COMPANY LOGOTYPE INSERT</a:t>
              </a:r>
              <a:endParaRPr b="1" lang="en-US" sz="800" spc="1" strike="noStrike">
                <a:ln w="0">
                  <a:noFill/>
                </a:ln>
                <a:solidFill>
                  <a:srgbClr val="000000">
                    <a:alpha val="75000"/>
                  </a:srgbClr>
                </a:solidFill>
                <a:latin typeface="Arial"/>
                <a:ea typeface="Arial"/>
              </a:endParaRPr>
            </a:p>
          </p:txBody>
        </p:sp>
      </p:grpSp>
      <p:pic>
        <p:nvPicPr>
          <p:cNvPr id="192" name="Picture 495" descr="꽃2"/>
          <p:cNvPicPr/>
          <p:nvPr/>
        </p:nvPicPr>
        <p:blipFill>
          <a:blip r:embed="rId7"/>
          <a:stretch/>
        </p:blipFill>
        <p:spPr>
          <a:xfrm>
            <a:off x="4788000" y="3789360"/>
            <a:ext cx="2060640" cy="1879560"/>
          </a:xfrm>
          <a:prstGeom prst="rect">
            <a:avLst/>
          </a:prstGeom>
          <a:ln w="0">
            <a:noFill/>
          </a:ln>
        </p:spPr>
      </p:pic>
      <p:pic>
        <p:nvPicPr>
          <p:cNvPr id="193" name="Picture 496" descr="원1"/>
          <p:cNvPicPr/>
          <p:nvPr/>
        </p:nvPicPr>
        <p:blipFill>
          <a:blip r:embed="rId8"/>
          <a:stretch/>
        </p:blipFill>
        <p:spPr>
          <a:xfrm>
            <a:off x="395280" y="2924280"/>
            <a:ext cx="2584440" cy="2584440"/>
          </a:xfrm>
          <a:prstGeom prst="rect">
            <a:avLst/>
          </a:prstGeom>
          <a:ln w="0">
            <a:noFill/>
          </a:ln>
        </p:spPr>
      </p:pic>
      <p:pic>
        <p:nvPicPr>
          <p:cNvPr id="194" name="Picture 497" descr="원2"/>
          <p:cNvPicPr/>
          <p:nvPr/>
        </p:nvPicPr>
        <p:blipFill>
          <a:blip r:embed="rId9"/>
          <a:stretch/>
        </p:blipFill>
        <p:spPr>
          <a:xfrm>
            <a:off x="2797200" y="3309840"/>
            <a:ext cx="1774800" cy="1774800"/>
          </a:xfrm>
          <a:prstGeom prst="rect">
            <a:avLst/>
          </a:prstGeom>
          <a:ln w="0">
            <a:noFill/>
          </a:ln>
        </p:spPr>
      </p:pic>
      <p:pic>
        <p:nvPicPr>
          <p:cNvPr id="195" name="Picture 494" descr="꽃1"/>
          <p:cNvPicPr/>
          <p:nvPr/>
        </p:nvPicPr>
        <p:blipFill>
          <a:blip r:embed="rId10"/>
          <a:stretch/>
        </p:blipFill>
        <p:spPr>
          <a:xfrm>
            <a:off x="468360" y="3556080"/>
            <a:ext cx="3670200" cy="2776320"/>
          </a:xfrm>
          <a:prstGeom prst="rect">
            <a:avLst/>
          </a:prstGeom>
          <a:ln w="0">
            <a:noFill/>
          </a:ln>
        </p:spPr>
      </p:pic>
      <p:pic>
        <p:nvPicPr>
          <p:cNvPr id="196" name="Picture 498" descr="나뭇잎"/>
          <p:cNvPicPr/>
          <p:nvPr/>
        </p:nvPicPr>
        <p:blipFill>
          <a:blip r:embed="rId11"/>
          <a:stretch/>
        </p:blipFill>
        <p:spPr>
          <a:xfrm>
            <a:off x="0" y="0"/>
            <a:ext cx="4716360" cy="1952640"/>
          </a:xfrm>
          <a:prstGeom prst="rect">
            <a:avLst/>
          </a:prstGeom>
          <a:ln w="0">
            <a:noFill/>
          </a:ln>
        </p:spPr>
      </p:pic>
      <p:sp>
        <p:nvSpPr>
          <p:cNvPr id="19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sp>
        <p:nvSpPr>
          <p:cNvPr id="198"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Click to edit the outline text format</a:t>
            </a:r>
            <a:endParaRPr b="0" lang="en-US" sz="2800" spc="-1" strike="noStrike">
              <a:solidFill>
                <a:srgbClr val="000000"/>
              </a:solidFill>
              <a:latin typeface="굴림"/>
            </a:endParaRPr>
          </a:p>
          <a:p>
            <a:pPr lvl="1" marL="743040" indent="-28584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11430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Third Outline Level</a:t>
            </a:r>
            <a:endParaRPr b="0" lang="en-US" sz="2800" spc="-1" strike="noStrike">
              <a:solidFill>
                <a:srgbClr val="000000"/>
              </a:solidFill>
              <a:latin typeface="굴림"/>
            </a:endParaRPr>
          </a:p>
          <a:p>
            <a:pPr lvl="3" marL="16002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ourth Outline Level</a:t>
            </a:r>
            <a:endParaRPr b="0" lang="en-US" sz="2800" spc="-1" strike="noStrike">
              <a:solidFill>
                <a:srgbClr val="000000"/>
              </a:solidFill>
              <a:latin typeface="굴림"/>
            </a:endParaRPr>
          </a:p>
          <a:p>
            <a:pPr lvl="4"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ifth Outline Level</a:t>
            </a:r>
            <a:endParaRPr b="0" lang="en-US" sz="2800" spc="-1" strike="noStrike">
              <a:solidFill>
                <a:srgbClr val="000000"/>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ixth Outline Level</a:t>
            </a:r>
            <a:endParaRPr b="0" lang="en-US" sz="2800" spc="-1" strike="noStrike">
              <a:solidFill>
                <a:srgbClr val="000000"/>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venth Outline Level</a:t>
            </a:r>
            <a:endParaRPr b="0" lang="en-US" sz="2800" spc="-1" strike="noStrike">
              <a:solidFill>
                <a:srgbClr val="000000"/>
              </a:solidFill>
              <a:latin typeface="굴림"/>
            </a:endParaRPr>
          </a:p>
        </p:txBody>
      </p:sp>
      <p:sp>
        <p:nvSpPr>
          <p:cNvPr id="19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A029-C6AD-47EE-94CE-7E5F40EB9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2"/>
    <p:sldLayoutId id="2147483702" r:id="rId13"/>
    <p:sldLayoutId id="2147483703" r:id="rId14"/>
    <p:sldLayoutId id="2147483704" r:id="rId15"/>
    <p:sldLayoutId id="2147483705" r:id="rId16"/>
    <p:sldLayoutId id="2147483706" r:id="rId17"/>
    <p:sldLayoutId id="2147483707" r:id="rId18"/>
    <p:sldLayoutId id="2147483708" r:id="rId19"/>
    <p:sldLayoutId id="2147483709" r:id="rId20"/>
    <p:sldLayoutId id="2147483710" r:id="rId21"/>
    <p:sldLayoutId id="2147483711" r:id="rId22"/>
    <p:sldLayoutId id="2147483712" r:id="rId23"/>
  </p:sldLayoutIdLst>
</p:sldMaster>
</file>

<file path=ppt/slides/_rels/slide1.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1501560"/>
            <a:ext cx="9144000" cy="14698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Unicode MS"/>
              </a:rPr>
              <a:t>P.P.Template </a:t>
            </a:r>
            <a:r>
              <a:rPr b="1" lang="en-US" sz="4800" spc="-1" strike="noStrike">
                <a:solidFill>
                  <a:srgbClr val="cc0000"/>
                </a:solidFill>
                <a:latin typeface="Arial"/>
                <a:ea typeface="Arial Unicode MS"/>
              </a:rPr>
              <a:t>Korea</a:t>
            </a:r>
            <a:endParaRPr b="1" i="1" lang="en-US" sz="4800" spc="-1" strike="noStrike">
              <a:solidFill>
                <a:srgbClr val="006600"/>
              </a:solidFill>
              <a:latin typeface="Times New Roman"/>
            </a:endParaRPr>
          </a:p>
        </p:txBody>
      </p:sp>
      <p:sp>
        <p:nvSpPr>
          <p:cNvPr id="239" name="PlaceHolder 2"/>
          <p:cNvSpPr>
            <a:spLocks noGrp="1"/>
          </p:cNvSpPr>
          <p:nvPr>
            <p:ph type="subTitle"/>
          </p:nvPr>
        </p:nvSpPr>
        <p:spPr>
          <a:xfrm>
            <a:off x="1371600" y="254016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www.pptkorea.com</a:t>
            </a:r>
            <a:endParaRPr b="0" lang="en-US" sz="2400" spc="-1" strike="noStrike">
              <a:solidFill>
                <a:srgbClr val="000000"/>
              </a:solidFill>
              <a:latin typeface="굴림"/>
            </a:endParaRPr>
          </a:p>
        </p:txBody>
      </p:sp>
      <p:sp>
        <p:nvSpPr>
          <p:cNvPr id="240" name="矩形 3"/>
          <p:cNvSpPr/>
          <p:nvPr/>
        </p:nvSpPr>
        <p:spPr>
          <a:xfrm>
            <a:off x="58500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393" name="Group 405"/>
          <p:cNvGrpSpPr/>
          <p:nvPr/>
        </p:nvGrpSpPr>
        <p:grpSpPr>
          <a:xfrm>
            <a:off x="287280" y="1465200"/>
            <a:ext cx="8569440" cy="5392800"/>
            <a:chOff x="287280" y="1465200"/>
            <a:chExt cx="8569440" cy="5392800"/>
          </a:xfrm>
        </p:grpSpPr>
        <p:sp>
          <p:nvSpPr>
            <p:cNvPr id="394" name="AutoShape 406"/>
            <p:cNvSpPr/>
            <p:nvPr/>
          </p:nvSpPr>
          <p:spPr>
            <a:xfrm rot="10800000">
              <a:off x="287280" y="3761640"/>
              <a:ext cx="8569440" cy="181080"/>
            </a:xfrm>
            <a:custGeom>
              <a:avLst/>
              <a:gdLst>
                <a:gd name="textAreaLeft" fmla="*/ 855720 w 8569440"/>
                <a:gd name="textAreaRight" fmla="*/ 7713720 w 8569440"/>
                <a:gd name="textAreaTop" fmla="*/ 17280 h 181080"/>
                <a:gd name="textAreaBottom" fmla="*/ 163800 h 181080"/>
              </a:gdLst>
              <a:ahLst/>
              <a:rect l="textAreaLeft" t="textAreaTop" r="textAreaRight" b="textAreaBottom"/>
              <a:pathLst>
                <a:path w="21600" h="21600">
                  <a:moveTo>
                    <a:pt x="0" y="0"/>
                  </a:moveTo>
                  <a:lnTo>
                    <a:pt x="712" y="21600"/>
                  </a:lnTo>
                  <a:lnTo>
                    <a:pt x="20888" y="21600"/>
                  </a:lnTo>
                  <a:lnTo>
                    <a:pt x="21600" y="0"/>
                  </a:lnTo>
                  <a:lnTo>
                    <a:pt x="0" y="0"/>
                  </a:lnTo>
                  <a:close/>
                </a:path>
              </a:pathLst>
            </a:custGeom>
            <a:gradFill rotWithShape="0">
              <a:gsLst>
                <a:gs pos="0">
                  <a:srgbClr val="978198"/>
                </a:gs>
                <a:gs pos="100000">
                  <a:srgbClr val="6a4a6b"/>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95" name="Rectangle 407"/>
            <p:cNvSpPr/>
            <p:nvPr/>
          </p:nvSpPr>
          <p:spPr>
            <a:xfrm>
              <a:off x="576360" y="1465200"/>
              <a:ext cx="7991280" cy="2295720"/>
            </a:xfrm>
            <a:prstGeom prst="rect">
              <a:avLst/>
            </a:prstGeom>
            <a:gradFill rotWithShape="0">
              <a:gsLst>
                <a:gs pos="0">
                  <a:srgbClr val="d4e3ef"/>
                </a:gs>
                <a:gs pos="100000">
                  <a:srgbClr val="bfd5e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6" name="Rectangle 408"/>
            <p:cNvSpPr/>
            <p:nvPr/>
          </p:nvSpPr>
          <p:spPr>
            <a:xfrm>
              <a:off x="287280" y="3941640"/>
              <a:ext cx="8569440" cy="2916360"/>
            </a:xfrm>
            <a:prstGeom prst="rect">
              <a:avLst/>
            </a:prstGeom>
            <a:gradFill rotWithShape="0">
              <a:gsLst>
                <a:gs pos="0">
                  <a:srgbClr val="cac8ea"/>
                </a:gs>
                <a:gs pos="100000">
                  <a:srgbClr val="5d5d6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97" name="Group 409"/>
            <p:cNvGrpSpPr/>
            <p:nvPr/>
          </p:nvGrpSpPr>
          <p:grpSpPr>
            <a:xfrm>
              <a:off x="576360" y="1681200"/>
              <a:ext cx="7991280" cy="791640"/>
              <a:chOff x="576360" y="1681200"/>
              <a:chExt cx="7991280" cy="791640"/>
            </a:xfrm>
          </p:grpSpPr>
          <p:sp>
            <p:nvSpPr>
              <p:cNvPr id="398" name="Rectangle 410"/>
              <p:cNvSpPr/>
              <p:nvPr/>
            </p:nvSpPr>
            <p:spPr>
              <a:xfrm>
                <a:off x="576360" y="1898280"/>
                <a:ext cx="7991280" cy="574560"/>
              </a:xfrm>
              <a:prstGeom prst="rect">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99" name="Group 411"/>
              <p:cNvGrpSpPr/>
              <p:nvPr/>
            </p:nvGrpSpPr>
            <p:grpSpPr>
              <a:xfrm>
                <a:off x="792000" y="1681200"/>
                <a:ext cx="7559640" cy="541080"/>
                <a:chOff x="792000" y="1681200"/>
                <a:chExt cx="7559640" cy="541080"/>
              </a:xfrm>
            </p:grpSpPr>
            <p:sp>
              <p:nvSpPr>
                <p:cNvPr id="400" name="AutoShape 412"/>
                <p:cNvSpPr/>
                <p:nvPr/>
              </p:nvSpPr>
              <p:spPr>
                <a:xfrm>
                  <a:off x="792000" y="1681200"/>
                  <a:ext cx="7559640" cy="541080"/>
                </a:xfrm>
                <a:prstGeom prst="roundRect">
                  <a:avLst>
                    <a:gd name="adj" fmla="val 50000"/>
                  </a:avLst>
                </a:prstGeom>
                <a:gradFill rotWithShape="0">
                  <a:gsLst>
                    <a:gs pos="0">
                      <a:srgbClr val="9ebdd0"/>
                    </a:gs>
                    <a:gs pos="100000">
                      <a:srgbClr val="437e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1" name="Oval 413"/>
                <p:cNvSpPr/>
                <p:nvPr/>
              </p:nvSpPr>
              <p:spPr>
                <a:xfrm flipV="1">
                  <a:off x="1163880" y="1721880"/>
                  <a:ext cx="681588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402" name="Rectangle 414"/>
            <p:cNvSpPr/>
            <p:nvPr/>
          </p:nvSpPr>
          <p:spPr>
            <a:xfrm>
              <a:off x="287280" y="4444920"/>
              <a:ext cx="8569440" cy="574920"/>
            </a:xfrm>
            <a:prstGeom prst="rect">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03" name="Group 415"/>
            <p:cNvGrpSpPr/>
            <p:nvPr/>
          </p:nvGrpSpPr>
          <p:grpSpPr>
            <a:xfrm>
              <a:off x="503280" y="4157640"/>
              <a:ext cx="8137080" cy="541440"/>
              <a:chOff x="503280" y="4157640"/>
              <a:chExt cx="8137080" cy="541440"/>
            </a:xfrm>
          </p:grpSpPr>
          <p:sp>
            <p:nvSpPr>
              <p:cNvPr id="404" name="AutoShape 416"/>
              <p:cNvSpPr/>
              <p:nvPr/>
            </p:nvSpPr>
            <p:spPr>
              <a:xfrm>
                <a:off x="503280" y="4157640"/>
                <a:ext cx="8137080" cy="541440"/>
              </a:xfrm>
              <a:prstGeom prst="roundRect">
                <a:avLst>
                  <a:gd name="adj" fmla="val 50000"/>
                </a:avLst>
              </a:prstGeom>
              <a:gradFill rotWithShape="0">
                <a:gsLst>
                  <a:gs pos="0">
                    <a:srgbClr val="a89ed0"/>
                  </a:gs>
                  <a:gs pos="100000">
                    <a:srgbClr val="5543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5" name="Oval 417"/>
              <p:cNvSpPr/>
              <p:nvPr/>
            </p:nvSpPr>
            <p:spPr>
              <a:xfrm flipV="1">
                <a:off x="903600" y="4198320"/>
                <a:ext cx="73364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06" name="AutoShape 418"/>
            <p:cNvSpPr/>
            <p:nvPr/>
          </p:nvSpPr>
          <p:spPr>
            <a:xfrm>
              <a:off x="792000" y="2365200"/>
              <a:ext cx="7560000" cy="1252800"/>
            </a:xfrm>
            <a:prstGeom prst="roundRect">
              <a:avLst>
                <a:gd name="adj" fmla="val 9519"/>
              </a:avLst>
            </a:prstGeom>
            <a:solidFill>
              <a:srgbClr val="ffffff">
                <a:alpha val="6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7" name="AutoShape 419"/>
            <p:cNvSpPr/>
            <p:nvPr/>
          </p:nvSpPr>
          <p:spPr>
            <a:xfrm>
              <a:off x="503280" y="4842000"/>
              <a:ext cx="8137440" cy="1682640"/>
            </a:xfrm>
            <a:prstGeom prst="roundRect">
              <a:avLst>
                <a:gd name="adj" fmla="val 9519"/>
              </a:avLst>
            </a:prstGeom>
            <a:solidFill>
              <a:srgbClr val="ffffff">
                <a:alpha val="6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8" name="WordArt 420"/>
            <p:cNvSpPr txBox="1"/>
            <p:nvPr/>
          </p:nvSpPr>
          <p:spPr>
            <a:xfrm>
              <a:off x="3348000" y="2610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09" name="WordArt 421"/>
            <p:cNvSpPr txBox="1"/>
            <p:nvPr/>
          </p:nvSpPr>
          <p:spPr>
            <a:xfrm>
              <a:off x="3348000" y="289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10" name="WordArt 422"/>
            <p:cNvSpPr txBox="1"/>
            <p:nvPr/>
          </p:nvSpPr>
          <p:spPr>
            <a:xfrm>
              <a:off x="3348000" y="318600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11" name="WordArt 423"/>
            <p:cNvSpPr txBox="1"/>
            <p:nvPr/>
          </p:nvSpPr>
          <p:spPr>
            <a:xfrm>
              <a:off x="3348000" y="51307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12" name="WordArt 424"/>
            <p:cNvSpPr txBox="1"/>
            <p:nvPr/>
          </p:nvSpPr>
          <p:spPr>
            <a:xfrm>
              <a:off x="3348000" y="541800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13" name="WordArt 425"/>
            <p:cNvSpPr txBox="1"/>
            <p:nvPr/>
          </p:nvSpPr>
          <p:spPr>
            <a:xfrm>
              <a:off x="3348000" y="57070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14" name="WordArt 426"/>
            <p:cNvSpPr txBox="1"/>
            <p:nvPr/>
          </p:nvSpPr>
          <p:spPr>
            <a:xfrm>
              <a:off x="3635280" y="1790640"/>
              <a:ext cx="2016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415" name="WordArt 427"/>
            <p:cNvSpPr txBox="1"/>
            <p:nvPr/>
          </p:nvSpPr>
          <p:spPr>
            <a:xfrm>
              <a:off x="3635280" y="4265640"/>
              <a:ext cx="2016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416" name="WordArt 428"/>
            <p:cNvSpPr txBox="1"/>
            <p:nvPr/>
          </p:nvSpPr>
          <p:spPr>
            <a:xfrm>
              <a:off x="3348000" y="6002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grpSp>
      <p:sp>
        <p:nvSpPr>
          <p:cNvPr id="417" name="矩形 26"/>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419" name="Group 174"/>
          <p:cNvGrpSpPr/>
          <p:nvPr/>
        </p:nvGrpSpPr>
        <p:grpSpPr>
          <a:xfrm>
            <a:off x="932040" y="1636560"/>
            <a:ext cx="7095600" cy="4097160"/>
            <a:chOff x="932040" y="1636560"/>
            <a:chExt cx="7095600" cy="4097160"/>
          </a:xfrm>
        </p:grpSpPr>
        <p:grpSp>
          <p:nvGrpSpPr>
            <p:cNvPr id="420" name="Group 175"/>
            <p:cNvGrpSpPr/>
            <p:nvPr/>
          </p:nvGrpSpPr>
          <p:grpSpPr>
            <a:xfrm>
              <a:off x="932040" y="1636560"/>
              <a:ext cx="4095000" cy="4097160"/>
              <a:chOff x="932040" y="1636560"/>
              <a:chExt cx="4095000" cy="4097160"/>
            </a:xfrm>
          </p:grpSpPr>
          <p:grpSp>
            <p:nvGrpSpPr>
              <p:cNvPr id="421" name="Group 176"/>
              <p:cNvGrpSpPr/>
              <p:nvPr/>
            </p:nvGrpSpPr>
            <p:grpSpPr>
              <a:xfrm>
                <a:off x="932040" y="1636560"/>
                <a:ext cx="4095000" cy="4097160"/>
                <a:chOff x="932040" y="1636560"/>
                <a:chExt cx="4095000" cy="4097160"/>
              </a:xfrm>
            </p:grpSpPr>
            <p:sp>
              <p:nvSpPr>
                <p:cNvPr id="422" name="Freeform 177"/>
                <p:cNvSpPr/>
                <p:nvPr/>
              </p:nvSpPr>
              <p:spPr>
                <a:xfrm>
                  <a:off x="3719520" y="2251440"/>
                  <a:ext cx="1307520" cy="2743200"/>
                </a:xfrm>
                <a:custGeom>
                  <a:avLst/>
                  <a:gdLst>
                    <a:gd name="textAreaLeft" fmla="*/ 0 w 1307520"/>
                    <a:gd name="textAreaRight" fmla="*/ 1307880 w 1307520"/>
                    <a:gd name="textAreaTop" fmla="*/ 0 h 2743200"/>
                    <a:gd name="textAreaBottom" fmla="*/ 2743560 h 2743200"/>
                  </a:gdLst>
                  <a:ahLst/>
                  <a:rect l="textAreaLeft" t="textAreaTop" r="textAreaRight" b="textAreaBottom"/>
                  <a:pathLst>
                    <a:path w="1230" h="2578">
                      <a:moveTo>
                        <a:pt x="680" y="0"/>
                      </a:moveTo>
                      <a:lnTo>
                        <a:pt x="568" y="568"/>
                      </a:lnTo>
                      <a:lnTo>
                        <a:pt x="0" y="682"/>
                      </a:lnTo>
                      <a:lnTo>
                        <a:pt x="28" y="712"/>
                      </a:lnTo>
                      <a:lnTo>
                        <a:pt x="56" y="744"/>
                      </a:lnTo>
                      <a:lnTo>
                        <a:pt x="80" y="778"/>
                      </a:lnTo>
                      <a:lnTo>
                        <a:pt x="104" y="812"/>
                      </a:lnTo>
                      <a:lnTo>
                        <a:pt x="126" y="846"/>
                      </a:lnTo>
                      <a:lnTo>
                        <a:pt x="148" y="882"/>
                      </a:lnTo>
                      <a:lnTo>
                        <a:pt x="166" y="918"/>
                      </a:lnTo>
                      <a:lnTo>
                        <a:pt x="184" y="954"/>
                      </a:lnTo>
                      <a:lnTo>
                        <a:pt x="200" y="992"/>
                      </a:lnTo>
                      <a:lnTo>
                        <a:pt x="214" y="1030"/>
                      </a:lnTo>
                      <a:lnTo>
                        <a:pt x="226" y="1068"/>
                      </a:lnTo>
                      <a:lnTo>
                        <a:pt x="236" y="1106"/>
                      </a:lnTo>
                      <a:lnTo>
                        <a:pt x="246" y="1146"/>
                      </a:lnTo>
                      <a:lnTo>
                        <a:pt x="252" y="1184"/>
                      </a:lnTo>
                      <a:lnTo>
                        <a:pt x="258" y="1224"/>
                      </a:lnTo>
                      <a:lnTo>
                        <a:pt x="262" y="1264"/>
                      </a:lnTo>
                      <a:lnTo>
                        <a:pt x="266" y="1304"/>
                      </a:lnTo>
                      <a:lnTo>
                        <a:pt x="266" y="1344"/>
                      </a:lnTo>
                      <a:lnTo>
                        <a:pt x="266" y="1382"/>
                      </a:lnTo>
                      <a:lnTo>
                        <a:pt x="264" y="1422"/>
                      </a:lnTo>
                      <a:lnTo>
                        <a:pt x="260" y="1462"/>
                      </a:lnTo>
                      <a:lnTo>
                        <a:pt x="254" y="1502"/>
                      </a:lnTo>
                      <a:lnTo>
                        <a:pt x="246" y="1540"/>
                      </a:lnTo>
                      <a:lnTo>
                        <a:pt x="238" y="1580"/>
                      </a:lnTo>
                      <a:lnTo>
                        <a:pt x="228" y="1618"/>
                      </a:lnTo>
                      <a:lnTo>
                        <a:pt x="216" y="1656"/>
                      </a:lnTo>
                      <a:lnTo>
                        <a:pt x="202" y="1694"/>
                      </a:lnTo>
                      <a:lnTo>
                        <a:pt x="186" y="1732"/>
                      </a:lnTo>
                      <a:lnTo>
                        <a:pt x="170" y="1768"/>
                      </a:lnTo>
                      <a:lnTo>
                        <a:pt x="150" y="1804"/>
                      </a:lnTo>
                      <a:lnTo>
                        <a:pt x="130" y="1840"/>
                      </a:lnTo>
                      <a:lnTo>
                        <a:pt x="108" y="1876"/>
                      </a:lnTo>
                      <a:lnTo>
                        <a:pt x="228" y="2466"/>
                      </a:lnTo>
                      <a:lnTo>
                        <a:pt x="784" y="2578"/>
                      </a:lnTo>
                      <a:lnTo>
                        <a:pt x="842" y="2506"/>
                      </a:lnTo>
                      <a:lnTo>
                        <a:pt x="894" y="2432"/>
                      </a:lnTo>
                      <a:lnTo>
                        <a:pt x="944" y="2358"/>
                      </a:lnTo>
                      <a:lnTo>
                        <a:pt x="988" y="2280"/>
                      </a:lnTo>
                      <a:lnTo>
                        <a:pt x="1030" y="2202"/>
                      </a:lnTo>
                      <a:lnTo>
                        <a:pt x="1066" y="2122"/>
                      </a:lnTo>
                      <a:lnTo>
                        <a:pt x="1100" y="2040"/>
                      </a:lnTo>
                      <a:lnTo>
                        <a:pt x="1130" y="1958"/>
                      </a:lnTo>
                      <a:lnTo>
                        <a:pt x="1156" y="1874"/>
                      </a:lnTo>
                      <a:lnTo>
                        <a:pt x="1178" y="1790"/>
                      </a:lnTo>
                      <a:lnTo>
                        <a:pt x="1196" y="1706"/>
                      </a:lnTo>
                      <a:lnTo>
                        <a:pt x="1210" y="1620"/>
                      </a:lnTo>
                      <a:lnTo>
                        <a:pt x="1220" y="1534"/>
                      </a:lnTo>
                      <a:lnTo>
                        <a:pt x="1226" y="1448"/>
                      </a:lnTo>
                      <a:lnTo>
                        <a:pt x="1230" y="1360"/>
                      </a:lnTo>
                      <a:lnTo>
                        <a:pt x="1228" y="1274"/>
                      </a:lnTo>
                      <a:lnTo>
                        <a:pt x="1222" y="1188"/>
                      </a:lnTo>
                      <a:lnTo>
                        <a:pt x="1214" y="1102"/>
                      </a:lnTo>
                      <a:lnTo>
                        <a:pt x="1200" y="1016"/>
                      </a:lnTo>
                      <a:lnTo>
                        <a:pt x="1184" y="930"/>
                      </a:lnTo>
                      <a:lnTo>
                        <a:pt x="1164" y="846"/>
                      </a:lnTo>
                      <a:lnTo>
                        <a:pt x="1138" y="762"/>
                      </a:lnTo>
                      <a:lnTo>
                        <a:pt x="1110" y="680"/>
                      </a:lnTo>
                      <a:lnTo>
                        <a:pt x="1078" y="598"/>
                      </a:lnTo>
                      <a:lnTo>
                        <a:pt x="1042" y="518"/>
                      </a:lnTo>
                      <a:lnTo>
                        <a:pt x="1002" y="438"/>
                      </a:lnTo>
                      <a:lnTo>
                        <a:pt x="958" y="360"/>
                      </a:lnTo>
                      <a:lnTo>
                        <a:pt x="910" y="284"/>
                      </a:lnTo>
                      <a:lnTo>
                        <a:pt x="858" y="210"/>
                      </a:lnTo>
                      <a:lnTo>
                        <a:pt x="804" y="138"/>
                      </a:lnTo>
                      <a:lnTo>
                        <a:pt x="744" y="68"/>
                      </a:lnTo>
                      <a:lnTo>
                        <a:pt x="680" y="0"/>
                      </a:lnTo>
                      <a:close/>
                    </a:path>
                  </a:pathLst>
                </a:custGeom>
                <a:gradFill rotWithShape="0">
                  <a:gsLst>
                    <a:gs pos="0">
                      <a:srgbClr val="9bcad8"/>
                    </a:gs>
                    <a:gs pos="100000">
                      <a:srgbClr val="489db8"/>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3" name="Freeform 178"/>
                <p:cNvSpPr/>
                <p:nvPr/>
              </p:nvSpPr>
              <p:spPr>
                <a:xfrm>
                  <a:off x="1548720" y="1636560"/>
                  <a:ext cx="2738520" cy="1306440"/>
                </a:xfrm>
                <a:custGeom>
                  <a:avLst/>
                  <a:gdLst>
                    <a:gd name="textAreaLeft" fmla="*/ 0 w 2738520"/>
                    <a:gd name="textAreaRight" fmla="*/ 2738880 w 2738520"/>
                    <a:gd name="textAreaTop" fmla="*/ 0 h 1306440"/>
                    <a:gd name="textAreaBottom" fmla="*/ 1306800 h 1306440"/>
                  </a:gdLst>
                  <a:ahLst/>
                  <a:rect l="textAreaLeft" t="textAreaTop" r="textAreaRight" b="textAreaBottom"/>
                  <a:pathLst>
                    <a:path w="2576" h="1228">
                      <a:moveTo>
                        <a:pt x="0" y="548"/>
                      </a:moveTo>
                      <a:lnTo>
                        <a:pt x="512" y="650"/>
                      </a:lnTo>
                      <a:lnTo>
                        <a:pt x="566" y="660"/>
                      </a:lnTo>
                      <a:lnTo>
                        <a:pt x="680" y="1228"/>
                      </a:lnTo>
                      <a:lnTo>
                        <a:pt x="712" y="1200"/>
                      </a:lnTo>
                      <a:lnTo>
                        <a:pt x="744" y="1174"/>
                      </a:lnTo>
                      <a:lnTo>
                        <a:pt x="778" y="1148"/>
                      </a:lnTo>
                      <a:lnTo>
                        <a:pt x="812" y="1124"/>
                      </a:lnTo>
                      <a:lnTo>
                        <a:pt x="846" y="1102"/>
                      </a:lnTo>
                      <a:lnTo>
                        <a:pt x="882" y="1082"/>
                      </a:lnTo>
                      <a:lnTo>
                        <a:pt x="918" y="1062"/>
                      </a:lnTo>
                      <a:lnTo>
                        <a:pt x="954" y="1044"/>
                      </a:lnTo>
                      <a:lnTo>
                        <a:pt x="992" y="1030"/>
                      </a:lnTo>
                      <a:lnTo>
                        <a:pt x="1028" y="1016"/>
                      </a:lnTo>
                      <a:lnTo>
                        <a:pt x="1068" y="1002"/>
                      </a:lnTo>
                      <a:lnTo>
                        <a:pt x="1106" y="992"/>
                      </a:lnTo>
                      <a:lnTo>
                        <a:pt x="1144" y="982"/>
                      </a:lnTo>
                      <a:lnTo>
                        <a:pt x="1184" y="976"/>
                      </a:lnTo>
                      <a:lnTo>
                        <a:pt x="1224" y="970"/>
                      </a:lnTo>
                      <a:lnTo>
                        <a:pt x="1262" y="966"/>
                      </a:lnTo>
                      <a:lnTo>
                        <a:pt x="1302" y="962"/>
                      </a:lnTo>
                      <a:lnTo>
                        <a:pt x="1342" y="962"/>
                      </a:lnTo>
                      <a:lnTo>
                        <a:pt x="1382" y="962"/>
                      </a:lnTo>
                      <a:lnTo>
                        <a:pt x="1422" y="964"/>
                      </a:lnTo>
                      <a:lnTo>
                        <a:pt x="1462" y="968"/>
                      </a:lnTo>
                      <a:lnTo>
                        <a:pt x="1500" y="974"/>
                      </a:lnTo>
                      <a:lnTo>
                        <a:pt x="1540" y="982"/>
                      </a:lnTo>
                      <a:lnTo>
                        <a:pt x="1578" y="990"/>
                      </a:lnTo>
                      <a:lnTo>
                        <a:pt x="1618" y="1000"/>
                      </a:lnTo>
                      <a:lnTo>
                        <a:pt x="1656" y="1012"/>
                      </a:lnTo>
                      <a:lnTo>
                        <a:pt x="1694" y="1026"/>
                      </a:lnTo>
                      <a:lnTo>
                        <a:pt x="1730" y="1042"/>
                      </a:lnTo>
                      <a:lnTo>
                        <a:pt x="1768" y="1058"/>
                      </a:lnTo>
                      <a:lnTo>
                        <a:pt x="1804" y="1078"/>
                      </a:lnTo>
                      <a:lnTo>
                        <a:pt x="1840" y="1098"/>
                      </a:lnTo>
                      <a:lnTo>
                        <a:pt x="1874" y="1120"/>
                      </a:lnTo>
                      <a:lnTo>
                        <a:pt x="2466" y="1002"/>
                      </a:lnTo>
                      <a:lnTo>
                        <a:pt x="2576" y="444"/>
                      </a:lnTo>
                      <a:lnTo>
                        <a:pt x="2506" y="388"/>
                      </a:lnTo>
                      <a:lnTo>
                        <a:pt x="2432" y="334"/>
                      </a:lnTo>
                      <a:lnTo>
                        <a:pt x="2356" y="286"/>
                      </a:lnTo>
                      <a:lnTo>
                        <a:pt x="2280" y="240"/>
                      </a:lnTo>
                      <a:lnTo>
                        <a:pt x="2200" y="198"/>
                      </a:lnTo>
                      <a:lnTo>
                        <a:pt x="2120" y="162"/>
                      </a:lnTo>
                      <a:lnTo>
                        <a:pt x="2040" y="128"/>
                      </a:lnTo>
                      <a:lnTo>
                        <a:pt x="1958" y="98"/>
                      </a:lnTo>
                      <a:lnTo>
                        <a:pt x="1874" y="72"/>
                      </a:lnTo>
                      <a:lnTo>
                        <a:pt x="1790" y="50"/>
                      </a:lnTo>
                      <a:lnTo>
                        <a:pt x="1704" y="32"/>
                      </a:lnTo>
                      <a:lnTo>
                        <a:pt x="1618" y="18"/>
                      </a:lnTo>
                      <a:lnTo>
                        <a:pt x="1532" y="8"/>
                      </a:lnTo>
                      <a:lnTo>
                        <a:pt x="1446" y="2"/>
                      </a:lnTo>
                      <a:lnTo>
                        <a:pt x="1360" y="0"/>
                      </a:lnTo>
                      <a:lnTo>
                        <a:pt x="1274" y="0"/>
                      </a:lnTo>
                      <a:lnTo>
                        <a:pt x="1186" y="6"/>
                      </a:lnTo>
                      <a:lnTo>
                        <a:pt x="1100" y="14"/>
                      </a:lnTo>
                      <a:lnTo>
                        <a:pt x="1014" y="28"/>
                      </a:lnTo>
                      <a:lnTo>
                        <a:pt x="930" y="44"/>
                      </a:lnTo>
                      <a:lnTo>
                        <a:pt x="846" y="66"/>
                      </a:lnTo>
                      <a:lnTo>
                        <a:pt x="762" y="90"/>
                      </a:lnTo>
                      <a:lnTo>
                        <a:pt x="678" y="118"/>
                      </a:lnTo>
                      <a:lnTo>
                        <a:pt x="596" y="150"/>
                      </a:lnTo>
                      <a:lnTo>
                        <a:pt x="516" y="186"/>
                      </a:lnTo>
                      <a:lnTo>
                        <a:pt x="438" y="226"/>
                      </a:lnTo>
                      <a:lnTo>
                        <a:pt x="360" y="270"/>
                      </a:lnTo>
                      <a:lnTo>
                        <a:pt x="284" y="318"/>
                      </a:lnTo>
                      <a:lnTo>
                        <a:pt x="210" y="370"/>
                      </a:lnTo>
                      <a:lnTo>
                        <a:pt x="138" y="424"/>
                      </a:lnTo>
                      <a:lnTo>
                        <a:pt x="68" y="484"/>
                      </a:lnTo>
                      <a:lnTo>
                        <a:pt x="0" y="548"/>
                      </a:lnTo>
                      <a:close/>
                    </a:path>
                  </a:pathLst>
                </a:custGeom>
                <a:gradFill rotWithShape="0">
                  <a:gsLst>
                    <a:gs pos="0">
                      <a:srgbClr val="9bb7d9"/>
                    </a:gs>
                    <a:gs pos="100000">
                      <a:srgbClr val="477bb9"/>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4" name="Freeform 179"/>
                <p:cNvSpPr/>
                <p:nvPr/>
              </p:nvSpPr>
              <p:spPr>
                <a:xfrm>
                  <a:off x="932040" y="2374920"/>
                  <a:ext cx="1307520" cy="2741040"/>
                </a:xfrm>
                <a:custGeom>
                  <a:avLst/>
                  <a:gdLst>
                    <a:gd name="textAreaLeft" fmla="*/ 0 w 1307520"/>
                    <a:gd name="textAreaRight" fmla="*/ 1307880 w 1307520"/>
                    <a:gd name="textAreaTop" fmla="*/ 0 h 2741040"/>
                    <a:gd name="textAreaBottom" fmla="*/ 2741400 h 2741040"/>
                  </a:gdLst>
                  <a:ahLst/>
                  <a:rect l="textAreaLeft" t="textAreaTop" r="textAreaRight" b="textAreaBottom"/>
                  <a:pathLst>
                    <a:path w="1230" h="2576">
                      <a:moveTo>
                        <a:pt x="548" y="2576"/>
                      </a:moveTo>
                      <a:lnTo>
                        <a:pt x="662" y="2010"/>
                      </a:lnTo>
                      <a:lnTo>
                        <a:pt x="718" y="1998"/>
                      </a:lnTo>
                      <a:lnTo>
                        <a:pt x="1230" y="1896"/>
                      </a:lnTo>
                      <a:lnTo>
                        <a:pt x="1202" y="1864"/>
                      </a:lnTo>
                      <a:lnTo>
                        <a:pt x="1174" y="1832"/>
                      </a:lnTo>
                      <a:lnTo>
                        <a:pt x="1148" y="1800"/>
                      </a:lnTo>
                      <a:lnTo>
                        <a:pt x="1126" y="1766"/>
                      </a:lnTo>
                      <a:lnTo>
                        <a:pt x="1102" y="1730"/>
                      </a:lnTo>
                      <a:lnTo>
                        <a:pt x="1082" y="1696"/>
                      </a:lnTo>
                      <a:lnTo>
                        <a:pt x="1064" y="1660"/>
                      </a:lnTo>
                      <a:lnTo>
                        <a:pt x="1046" y="1622"/>
                      </a:lnTo>
                      <a:lnTo>
                        <a:pt x="1030" y="1586"/>
                      </a:lnTo>
                      <a:lnTo>
                        <a:pt x="1016" y="1548"/>
                      </a:lnTo>
                      <a:lnTo>
                        <a:pt x="1004" y="1510"/>
                      </a:lnTo>
                      <a:lnTo>
                        <a:pt x="994" y="1470"/>
                      </a:lnTo>
                      <a:lnTo>
                        <a:pt x="984" y="1432"/>
                      </a:lnTo>
                      <a:lnTo>
                        <a:pt x="976" y="1392"/>
                      </a:lnTo>
                      <a:lnTo>
                        <a:pt x="970" y="1354"/>
                      </a:lnTo>
                      <a:lnTo>
                        <a:pt x="966" y="1314"/>
                      </a:lnTo>
                      <a:lnTo>
                        <a:pt x="964" y="1274"/>
                      </a:lnTo>
                      <a:lnTo>
                        <a:pt x="962" y="1234"/>
                      </a:lnTo>
                      <a:lnTo>
                        <a:pt x="964" y="1194"/>
                      </a:lnTo>
                      <a:lnTo>
                        <a:pt x="966" y="1154"/>
                      </a:lnTo>
                      <a:lnTo>
                        <a:pt x="970" y="1116"/>
                      </a:lnTo>
                      <a:lnTo>
                        <a:pt x="976" y="1076"/>
                      </a:lnTo>
                      <a:lnTo>
                        <a:pt x="982" y="1036"/>
                      </a:lnTo>
                      <a:lnTo>
                        <a:pt x="992" y="998"/>
                      </a:lnTo>
                      <a:lnTo>
                        <a:pt x="1002" y="958"/>
                      </a:lnTo>
                      <a:lnTo>
                        <a:pt x="1014" y="920"/>
                      </a:lnTo>
                      <a:lnTo>
                        <a:pt x="1028" y="882"/>
                      </a:lnTo>
                      <a:lnTo>
                        <a:pt x="1042" y="846"/>
                      </a:lnTo>
                      <a:lnTo>
                        <a:pt x="1060" y="808"/>
                      </a:lnTo>
                      <a:lnTo>
                        <a:pt x="1078" y="772"/>
                      </a:lnTo>
                      <a:lnTo>
                        <a:pt x="1098" y="736"/>
                      </a:lnTo>
                      <a:lnTo>
                        <a:pt x="1120" y="702"/>
                      </a:lnTo>
                      <a:lnTo>
                        <a:pt x="1002" y="112"/>
                      </a:lnTo>
                      <a:lnTo>
                        <a:pt x="444" y="0"/>
                      </a:lnTo>
                      <a:lnTo>
                        <a:pt x="388" y="72"/>
                      </a:lnTo>
                      <a:lnTo>
                        <a:pt x="336" y="144"/>
                      </a:lnTo>
                      <a:lnTo>
                        <a:pt x="286" y="220"/>
                      </a:lnTo>
                      <a:lnTo>
                        <a:pt x="242" y="296"/>
                      </a:lnTo>
                      <a:lnTo>
                        <a:pt x="200" y="376"/>
                      </a:lnTo>
                      <a:lnTo>
                        <a:pt x="162" y="456"/>
                      </a:lnTo>
                      <a:lnTo>
                        <a:pt x="130" y="536"/>
                      </a:lnTo>
                      <a:lnTo>
                        <a:pt x="100" y="620"/>
                      </a:lnTo>
                      <a:lnTo>
                        <a:pt x="74" y="702"/>
                      </a:lnTo>
                      <a:lnTo>
                        <a:pt x="52" y="786"/>
                      </a:lnTo>
                      <a:lnTo>
                        <a:pt x="34" y="872"/>
                      </a:lnTo>
                      <a:lnTo>
                        <a:pt x="20" y="958"/>
                      </a:lnTo>
                      <a:lnTo>
                        <a:pt x="10" y="1044"/>
                      </a:lnTo>
                      <a:lnTo>
                        <a:pt x="2" y="1130"/>
                      </a:lnTo>
                      <a:lnTo>
                        <a:pt x="0" y="1216"/>
                      </a:lnTo>
                      <a:lnTo>
                        <a:pt x="2" y="1304"/>
                      </a:lnTo>
                      <a:lnTo>
                        <a:pt x="6" y="1390"/>
                      </a:lnTo>
                      <a:lnTo>
                        <a:pt x="16" y="1476"/>
                      </a:lnTo>
                      <a:lnTo>
                        <a:pt x="28" y="1562"/>
                      </a:lnTo>
                      <a:lnTo>
                        <a:pt x="46" y="1646"/>
                      </a:lnTo>
                      <a:lnTo>
                        <a:pt x="66" y="1732"/>
                      </a:lnTo>
                      <a:lnTo>
                        <a:pt x="90" y="1814"/>
                      </a:lnTo>
                      <a:lnTo>
                        <a:pt x="120" y="1898"/>
                      </a:lnTo>
                      <a:lnTo>
                        <a:pt x="152" y="1980"/>
                      </a:lnTo>
                      <a:lnTo>
                        <a:pt x="188" y="2060"/>
                      </a:lnTo>
                      <a:lnTo>
                        <a:pt x="228" y="2138"/>
                      </a:lnTo>
                      <a:lnTo>
                        <a:pt x="272" y="2216"/>
                      </a:lnTo>
                      <a:lnTo>
                        <a:pt x="320" y="2292"/>
                      </a:lnTo>
                      <a:lnTo>
                        <a:pt x="370" y="2366"/>
                      </a:lnTo>
                      <a:lnTo>
                        <a:pt x="426" y="2438"/>
                      </a:lnTo>
                      <a:lnTo>
                        <a:pt x="486" y="2508"/>
                      </a:lnTo>
                      <a:lnTo>
                        <a:pt x="548" y="2576"/>
                      </a:lnTo>
                      <a:close/>
                    </a:path>
                  </a:pathLst>
                </a:custGeom>
                <a:gradFill rotWithShape="0">
                  <a:gsLst>
                    <a:gs pos="0">
                      <a:srgbClr val="9ba2d9"/>
                    </a:gs>
                    <a:gs pos="100000">
                      <a:srgbClr val="4755b9"/>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5" name="Freeform 180"/>
                <p:cNvSpPr/>
                <p:nvPr/>
              </p:nvSpPr>
              <p:spPr>
                <a:xfrm>
                  <a:off x="1669680" y="4424760"/>
                  <a:ext cx="2740680" cy="1308960"/>
                </a:xfrm>
                <a:custGeom>
                  <a:avLst/>
                  <a:gdLst>
                    <a:gd name="textAreaLeft" fmla="*/ 0 w 2740680"/>
                    <a:gd name="textAreaRight" fmla="*/ 2741040 w 2740680"/>
                    <a:gd name="textAreaTop" fmla="*/ 0 h 1308960"/>
                    <a:gd name="textAreaBottom" fmla="*/ 1309320 h 1308960"/>
                  </a:gdLst>
                  <a:ahLst/>
                  <a:rect l="textAreaLeft" t="textAreaTop" r="textAreaRight" b="textAreaBottom"/>
                  <a:pathLst>
                    <a:path w="2578" h="1230">
                      <a:moveTo>
                        <a:pt x="2010" y="568"/>
                      </a:moveTo>
                      <a:lnTo>
                        <a:pt x="1898" y="0"/>
                      </a:lnTo>
                      <a:lnTo>
                        <a:pt x="1866" y="28"/>
                      </a:lnTo>
                      <a:lnTo>
                        <a:pt x="1834" y="56"/>
                      </a:lnTo>
                      <a:lnTo>
                        <a:pt x="1800" y="82"/>
                      </a:lnTo>
                      <a:lnTo>
                        <a:pt x="1766" y="106"/>
                      </a:lnTo>
                      <a:lnTo>
                        <a:pt x="1732" y="128"/>
                      </a:lnTo>
                      <a:lnTo>
                        <a:pt x="1696" y="148"/>
                      </a:lnTo>
                      <a:lnTo>
                        <a:pt x="1660" y="166"/>
                      </a:lnTo>
                      <a:lnTo>
                        <a:pt x="1624" y="184"/>
                      </a:lnTo>
                      <a:lnTo>
                        <a:pt x="1586" y="200"/>
                      </a:lnTo>
                      <a:lnTo>
                        <a:pt x="1548" y="214"/>
                      </a:lnTo>
                      <a:lnTo>
                        <a:pt x="1510" y="226"/>
                      </a:lnTo>
                      <a:lnTo>
                        <a:pt x="1472" y="238"/>
                      </a:lnTo>
                      <a:lnTo>
                        <a:pt x="1432" y="246"/>
                      </a:lnTo>
                      <a:lnTo>
                        <a:pt x="1394" y="254"/>
                      </a:lnTo>
                      <a:lnTo>
                        <a:pt x="1354" y="260"/>
                      </a:lnTo>
                      <a:lnTo>
                        <a:pt x="1314" y="264"/>
                      </a:lnTo>
                      <a:lnTo>
                        <a:pt x="1276" y="266"/>
                      </a:lnTo>
                      <a:lnTo>
                        <a:pt x="1236" y="268"/>
                      </a:lnTo>
                      <a:lnTo>
                        <a:pt x="1196" y="266"/>
                      </a:lnTo>
                      <a:lnTo>
                        <a:pt x="1156" y="264"/>
                      </a:lnTo>
                      <a:lnTo>
                        <a:pt x="1116" y="260"/>
                      </a:lnTo>
                      <a:lnTo>
                        <a:pt x="1076" y="254"/>
                      </a:lnTo>
                      <a:lnTo>
                        <a:pt x="1038" y="248"/>
                      </a:lnTo>
                      <a:lnTo>
                        <a:pt x="998" y="238"/>
                      </a:lnTo>
                      <a:lnTo>
                        <a:pt x="960" y="228"/>
                      </a:lnTo>
                      <a:lnTo>
                        <a:pt x="922" y="216"/>
                      </a:lnTo>
                      <a:lnTo>
                        <a:pt x="884" y="202"/>
                      </a:lnTo>
                      <a:lnTo>
                        <a:pt x="846" y="188"/>
                      </a:lnTo>
                      <a:lnTo>
                        <a:pt x="810" y="170"/>
                      </a:lnTo>
                      <a:lnTo>
                        <a:pt x="774" y="152"/>
                      </a:lnTo>
                      <a:lnTo>
                        <a:pt x="738" y="132"/>
                      </a:lnTo>
                      <a:lnTo>
                        <a:pt x="704" y="110"/>
                      </a:lnTo>
                      <a:lnTo>
                        <a:pt x="112" y="228"/>
                      </a:lnTo>
                      <a:lnTo>
                        <a:pt x="0" y="786"/>
                      </a:lnTo>
                      <a:lnTo>
                        <a:pt x="72" y="842"/>
                      </a:lnTo>
                      <a:lnTo>
                        <a:pt x="146" y="894"/>
                      </a:lnTo>
                      <a:lnTo>
                        <a:pt x="222" y="944"/>
                      </a:lnTo>
                      <a:lnTo>
                        <a:pt x="298" y="990"/>
                      </a:lnTo>
                      <a:lnTo>
                        <a:pt x="376" y="1030"/>
                      </a:lnTo>
                      <a:lnTo>
                        <a:pt x="456" y="1068"/>
                      </a:lnTo>
                      <a:lnTo>
                        <a:pt x="538" y="1102"/>
                      </a:lnTo>
                      <a:lnTo>
                        <a:pt x="620" y="1130"/>
                      </a:lnTo>
                      <a:lnTo>
                        <a:pt x="704" y="1156"/>
                      </a:lnTo>
                      <a:lnTo>
                        <a:pt x="788" y="1178"/>
                      </a:lnTo>
                      <a:lnTo>
                        <a:pt x="874" y="1196"/>
                      </a:lnTo>
                      <a:lnTo>
                        <a:pt x="958" y="1210"/>
                      </a:lnTo>
                      <a:lnTo>
                        <a:pt x="1044" y="1220"/>
                      </a:lnTo>
                      <a:lnTo>
                        <a:pt x="1132" y="1228"/>
                      </a:lnTo>
                      <a:lnTo>
                        <a:pt x="1218" y="1230"/>
                      </a:lnTo>
                      <a:lnTo>
                        <a:pt x="1304" y="1228"/>
                      </a:lnTo>
                      <a:lnTo>
                        <a:pt x="1390" y="1224"/>
                      </a:lnTo>
                      <a:lnTo>
                        <a:pt x="1476" y="1214"/>
                      </a:lnTo>
                      <a:lnTo>
                        <a:pt x="1562" y="1202"/>
                      </a:lnTo>
                      <a:lnTo>
                        <a:pt x="1648" y="1184"/>
                      </a:lnTo>
                      <a:lnTo>
                        <a:pt x="1732" y="1164"/>
                      </a:lnTo>
                      <a:lnTo>
                        <a:pt x="1816" y="1140"/>
                      </a:lnTo>
                      <a:lnTo>
                        <a:pt x="1898" y="1112"/>
                      </a:lnTo>
                      <a:lnTo>
                        <a:pt x="1980" y="1078"/>
                      </a:lnTo>
                      <a:lnTo>
                        <a:pt x="2062" y="1042"/>
                      </a:lnTo>
                      <a:lnTo>
                        <a:pt x="2140" y="1002"/>
                      </a:lnTo>
                      <a:lnTo>
                        <a:pt x="2218" y="958"/>
                      </a:lnTo>
                      <a:lnTo>
                        <a:pt x="2294" y="912"/>
                      </a:lnTo>
                      <a:lnTo>
                        <a:pt x="2368" y="860"/>
                      </a:lnTo>
                      <a:lnTo>
                        <a:pt x="2440" y="804"/>
                      </a:lnTo>
                      <a:lnTo>
                        <a:pt x="2510" y="744"/>
                      </a:lnTo>
                      <a:lnTo>
                        <a:pt x="2578" y="682"/>
                      </a:lnTo>
                      <a:lnTo>
                        <a:pt x="2010" y="568"/>
                      </a:lnTo>
                      <a:close/>
                    </a:path>
                  </a:pathLst>
                </a:custGeom>
                <a:gradFill rotWithShape="0">
                  <a:gsLst>
                    <a:gs pos="0">
                      <a:srgbClr val="9bd9d6"/>
                    </a:gs>
                    <a:gs pos="100000">
                      <a:srgbClr val="47b9b4"/>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26" name="Group 181"/>
              <p:cNvGrpSpPr/>
              <p:nvPr/>
            </p:nvGrpSpPr>
            <p:grpSpPr>
              <a:xfrm>
                <a:off x="2190240" y="3339000"/>
                <a:ext cx="1526040" cy="555120"/>
                <a:chOff x="2190240" y="3339000"/>
                <a:chExt cx="1526040" cy="555120"/>
              </a:xfrm>
            </p:grpSpPr>
            <p:sp>
              <p:nvSpPr>
                <p:cNvPr id="427" name="WordArt 182"/>
                <p:cNvSpPr txBox="1"/>
                <p:nvPr/>
              </p:nvSpPr>
              <p:spPr>
                <a:xfrm>
                  <a:off x="2385000" y="3339000"/>
                  <a:ext cx="1140480" cy="33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75000"/>
                        </a:srgbClr>
                      </a:solidFill>
                      <a:latin typeface="Arial Black"/>
                    </a:rPr>
                    <a:t>TEXT</a:t>
                  </a:r>
                  <a:endParaRPr b="0" lang="en-US" sz="1400" spc="1" strike="noStrike">
                    <a:ln w="0">
                      <a:noFill/>
                    </a:ln>
                    <a:solidFill>
                      <a:srgbClr val="ffffff">
                        <a:alpha val="75000"/>
                      </a:srgbClr>
                    </a:solidFill>
                    <a:latin typeface="Arial Black"/>
                    <a:ea typeface="Arial Black"/>
                  </a:endParaRPr>
                </a:p>
              </p:txBody>
            </p:sp>
            <p:sp>
              <p:nvSpPr>
                <p:cNvPr id="428" name="WordArt 183"/>
                <p:cNvSpPr txBox="1"/>
                <p:nvPr/>
              </p:nvSpPr>
              <p:spPr>
                <a:xfrm>
                  <a:off x="2190240" y="3718080"/>
                  <a:ext cx="1526040" cy="17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75000"/>
                        </a:srgbClr>
                      </a:solidFill>
                      <a:latin typeface="Arial"/>
                    </a:rPr>
                    <a:t>ADD CONTENTS</a:t>
                  </a:r>
                  <a:endParaRPr b="1" lang="en-US" sz="800" spc="1" strike="noStrike">
                    <a:ln w="0">
                      <a:noFill/>
                    </a:ln>
                    <a:solidFill>
                      <a:srgbClr val="ffffff">
                        <a:alpha val="75000"/>
                      </a:srgbClr>
                    </a:solidFill>
                    <a:latin typeface="Arial"/>
                    <a:ea typeface="Arial"/>
                  </a:endParaRPr>
                </a:p>
              </p:txBody>
            </p:sp>
          </p:grpSp>
          <p:sp>
            <p:nvSpPr>
              <p:cNvPr id="429" name="WordArt 184"/>
              <p:cNvSpPr txBox="1"/>
              <p:nvPr/>
            </p:nvSpPr>
            <p:spPr>
              <a:xfrm>
                <a:off x="2571480" y="2007360"/>
                <a:ext cx="85536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0" name="WordArt 185"/>
              <p:cNvSpPr txBox="1"/>
              <p:nvPr/>
            </p:nvSpPr>
            <p:spPr>
              <a:xfrm>
                <a:off x="1049400" y="3530160"/>
                <a:ext cx="855360" cy="25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1" name="WordArt 186"/>
              <p:cNvSpPr txBox="1"/>
              <p:nvPr/>
            </p:nvSpPr>
            <p:spPr>
              <a:xfrm>
                <a:off x="2475000" y="5050440"/>
                <a:ext cx="855720" cy="25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2" name="WordArt 187"/>
              <p:cNvSpPr txBox="1"/>
              <p:nvPr/>
            </p:nvSpPr>
            <p:spPr>
              <a:xfrm>
                <a:off x="4092120" y="3624120"/>
                <a:ext cx="85536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433" name="Group 188"/>
            <p:cNvGrpSpPr/>
            <p:nvPr/>
          </p:nvGrpSpPr>
          <p:grpSpPr>
            <a:xfrm>
              <a:off x="5396040" y="3076560"/>
              <a:ext cx="2631600" cy="2631600"/>
              <a:chOff x="5396040" y="3076560"/>
              <a:chExt cx="2631600" cy="2631600"/>
            </a:xfrm>
          </p:grpSpPr>
          <p:grpSp>
            <p:nvGrpSpPr>
              <p:cNvPr id="434" name="Group 189"/>
              <p:cNvGrpSpPr/>
              <p:nvPr/>
            </p:nvGrpSpPr>
            <p:grpSpPr>
              <a:xfrm>
                <a:off x="5396040" y="3076560"/>
                <a:ext cx="2631600" cy="2631600"/>
                <a:chOff x="5396040" y="3076560"/>
                <a:chExt cx="2631600" cy="2631600"/>
              </a:xfrm>
            </p:grpSpPr>
            <p:sp>
              <p:nvSpPr>
                <p:cNvPr id="435" name="Freeform 190"/>
                <p:cNvSpPr/>
                <p:nvPr/>
              </p:nvSpPr>
              <p:spPr>
                <a:xfrm>
                  <a:off x="7188120" y="3471480"/>
                  <a:ext cx="839520" cy="1762200"/>
                </a:xfrm>
                <a:custGeom>
                  <a:avLst/>
                  <a:gdLst/>
                  <a:ahLst/>
                  <a:rect l="l" t="t" r="r" b="b"/>
                  <a:pathLst>
                    <a:path w="1230" h="2578">
                      <a:moveTo>
                        <a:pt x="680" y="0"/>
                      </a:moveTo>
                      <a:lnTo>
                        <a:pt x="568" y="568"/>
                      </a:lnTo>
                      <a:lnTo>
                        <a:pt x="0" y="682"/>
                      </a:lnTo>
                      <a:lnTo>
                        <a:pt x="0" y="682"/>
                      </a:lnTo>
                      <a:lnTo>
                        <a:pt x="28" y="712"/>
                      </a:lnTo>
                      <a:lnTo>
                        <a:pt x="56" y="744"/>
                      </a:lnTo>
                      <a:lnTo>
                        <a:pt x="80" y="778"/>
                      </a:lnTo>
                      <a:lnTo>
                        <a:pt x="104" y="812"/>
                      </a:lnTo>
                      <a:lnTo>
                        <a:pt x="126" y="846"/>
                      </a:lnTo>
                      <a:lnTo>
                        <a:pt x="148" y="882"/>
                      </a:lnTo>
                      <a:lnTo>
                        <a:pt x="166" y="918"/>
                      </a:lnTo>
                      <a:lnTo>
                        <a:pt x="184" y="954"/>
                      </a:lnTo>
                      <a:lnTo>
                        <a:pt x="200" y="992"/>
                      </a:lnTo>
                      <a:lnTo>
                        <a:pt x="214" y="1030"/>
                      </a:lnTo>
                      <a:lnTo>
                        <a:pt x="226" y="1068"/>
                      </a:lnTo>
                      <a:lnTo>
                        <a:pt x="236" y="1106"/>
                      </a:lnTo>
                      <a:lnTo>
                        <a:pt x="246" y="1146"/>
                      </a:lnTo>
                      <a:lnTo>
                        <a:pt x="252" y="1184"/>
                      </a:lnTo>
                      <a:lnTo>
                        <a:pt x="258" y="1224"/>
                      </a:lnTo>
                      <a:lnTo>
                        <a:pt x="262" y="1264"/>
                      </a:lnTo>
                      <a:lnTo>
                        <a:pt x="266" y="1304"/>
                      </a:lnTo>
                      <a:lnTo>
                        <a:pt x="266" y="1344"/>
                      </a:lnTo>
                      <a:lnTo>
                        <a:pt x="266" y="1382"/>
                      </a:lnTo>
                      <a:lnTo>
                        <a:pt x="264" y="1422"/>
                      </a:lnTo>
                      <a:lnTo>
                        <a:pt x="260" y="1462"/>
                      </a:lnTo>
                      <a:lnTo>
                        <a:pt x="254" y="1502"/>
                      </a:lnTo>
                      <a:lnTo>
                        <a:pt x="246" y="1540"/>
                      </a:lnTo>
                      <a:lnTo>
                        <a:pt x="238" y="1580"/>
                      </a:lnTo>
                      <a:lnTo>
                        <a:pt x="228" y="1618"/>
                      </a:lnTo>
                      <a:lnTo>
                        <a:pt x="216" y="1656"/>
                      </a:lnTo>
                      <a:lnTo>
                        <a:pt x="202" y="1694"/>
                      </a:lnTo>
                      <a:lnTo>
                        <a:pt x="186" y="1732"/>
                      </a:lnTo>
                      <a:lnTo>
                        <a:pt x="170" y="1768"/>
                      </a:lnTo>
                      <a:lnTo>
                        <a:pt x="150" y="1804"/>
                      </a:lnTo>
                      <a:lnTo>
                        <a:pt x="130" y="1840"/>
                      </a:lnTo>
                      <a:lnTo>
                        <a:pt x="108" y="1876"/>
                      </a:lnTo>
                      <a:lnTo>
                        <a:pt x="108" y="1876"/>
                      </a:lnTo>
                      <a:lnTo>
                        <a:pt x="228" y="2466"/>
                      </a:lnTo>
                      <a:lnTo>
                        <a:pt x="228" y="2466"/>
                      </a:lnTo>
                      <a:lnTo>
                        <a:pt x="784" y="2578"/>
                      </a:lnTo>
                      <a:lnTo>
                        <a:pt x="784" y="2578"/>
                      </a:lnTo>
                      <a:lnTo>
                        <a:pt x="842" y="2506"/>
                      </a:lnTo>
                      <a:lnTo>
                        <a:pt x="894" y="2432"/>
                      </a:lnTo>
                      <a:lnTo>
                        <a:pt x="944" y="2358"/>
                      </a:lnTo>
                      <a:lnTo>
                        <a:pt x="988" y="2280"/>
                      </a:lnTo>
                      <a:lnTo>
                        <a:pt x="1030" y="2202"/>
                      </a:lnTo>
                      <a:lnTo>
                        <a:pt x="1066" y="2122"/>
                      </a:lnTo>
                      <a:lnTo>
                        <a:pt x="1100" y="2040"/>
                      </a:lnTo>
                      <a:lnTo>
                        <a:pt x="1130" y="1958"/>
                      </a:lnTo>
                      <a:lnTo>
                        <a:pt x="1156" y="1874"/>
                      </a:lnTo>
                      <a:lnTo>
                        <a:pt x="1178" y="1790"/>
                      </a:lnTo>
                      <a:lnTo>
                        <a:pt x="1196" y="1706"/>
                      </a:lnTo>
                      <a:lnTo>
                        <a:pt x="1210" y="1620"/>
                      </a:lnTo>
                      <a:lnTo>
                        <a:pt x="1220" y="1534"/>
                      </a:lnTo>
                      <a:lnTo>
                        <a:pt x="1226" y="1448"/>
                      </a:lnTo>
                      <a:lnTo>
                        <a:pt x="1230" y="1360"/>
                      </a:lnTo>
                      <a:lnTo>
                        <a:pt x="1228" y="1274"/>
                      </a:lnTo>
                      <a:lnTo>
                        <a:pt x="1222" y="1188"/>
                      </a:lnTo>
                      <a:lnTo>
                        <a:pt x="1214" y="1102"/>
                      </a:lnTo>
                      <a:lnTo>
                        <a:pt x="1200" y="1016"/>
                      </a:lnTo>
                      <a:lnTo>
                        <a:pt x="1184" y="930"/>
                      </a:lnTo>
                      <a:lnTo>
                        <a:pt x="1164" y="846"/>
                      </a:lnTo>
                      <a:lnTo>
                        <a:pt x="1138" y="762"/>
                      </a:lnTo>
                      <a:lnTo>
                        <a:pt x="1110" y="680"/>
                      </a:lnTo>
                      <a:lnTo>
                        <a:pt x="1078" y="598"/>
                      </a:lnTo>
                      <a:lnTo>
                        <a:pt x="1042" y="518"/>
                      </a:lnTo>
                      <a:lnTo>
                        <a:pt x="1002" y="438"/>
                      </a:lnTo>
                      <a:lnTo>
                        <a:pt x="958" y="360"/>
                      </a:lnTo>
                      <a:lnTo>
                        <a:pt x="910" y="284"/>
                      </a:lnTo>
                      <a:lnTo>
                        <a:pt x="858" y="210"/>
                      </a:lnTo>
                      <a:lnTo>
                        <a:pt x="804" y="138"/>
                      </a:lnTo>
                      <a:lnTo>
                        <a:pt x="744" y="68"/>
                      </a:lnTo>
                      <a:lnTo>
                        <a:pt x="680" y="0"/>
                      </a:lnTo>
                      <a:lnTo>
                        <a:pt x="680" y="0"/>
                      </a:lnTo>
                      <a:close/>
                    </a:path>
                  </a:pathLst>
                </a:custGeom>
                <a:gradFill rotWithShape="0">
                  <a:gsLst>
                    <a:gs pos="0">
                      <a:srgbClr val="ffffff"/>
                    </a:gs>
                    <a:gs pos="100000">
                      <a:srgbClr val="48a3b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6" name="Freeform 191"/>
                <p:cNvSpPr/>
                <p:nvPr/>
              </p:nvSpPr>
              <p:spPr>
                <a:xfrm>
                  <a:off x="5792760" y="3076560"/>
                  <a:ext cx="1758960" cy="839160"/>
                </a:xfrm>
                <a:custGeom>
                  <a:avLst/>
                  <a:gdLst/>
                  <a:ahLst/>
                  <a:rect l="l" t="t" r="r" b="b"/>
                  <a:pathLst>
                    <a:path w="2576" h="1228">
                      <a:moveTo>
                        <a:pt x="0" y="548"/>
                      </a:moveTo>
                      <a:lnTo>
                        <a:pt x="512" y="650"/>
                      </a:lnTo>
                      <a:lnTo>
                        <a:pt x="566" y="660"/>
                      </a:lnTo>
                      <a:lnTo>
                        <a:pt x="680" y="1228"/>
                      </a:lnTo>
                      <a:lnTo>
                        <a:pt x="680" y="1228"/>
                      </a:lnTo>
                      <a:lnTo>
                        <a:pt x="712" y="1200"/>
                      </a:lnTo>
                      <a:lnTo>
                        <a:pt x="744" y="1174"/>
                      </a:lnTo>
                      <a:lnTo>
                        <a:pt x="778" y="1148"/>
                      </a:lnTo>
                      <a:lnTo>
                        <a:pt x="812" y="1124"/>
                      </a:lnTo>
                      <a:lnTo>
                        <a:pt x="846" y="1102"/>
                      </a:lnTo>
                      <a:lnTo>
                        <a:pt x="882" y="1082"/>
                      </a:lnTo>
                      <a:lnTo>
                        <a:pt x="918" y="1062"/>
                      </a:lnTo>
                      <a:lnTo>
                        <a:pt x="954" y="1044"/>
                      </a:lnTo>
                      <a:lnTo>
                        <a:pt x="992" y="1030"/>
                      </a:lnTo>
                      <a:lnTo>
                        <a:pt x="1028" y="1016"/>
                      </a:lnTo>
                      <a:lnTo>
                        <a:pt x="1068" y="1002"/>
                      </a:lnTo>
                      <a:lnTo>
                        <a:pt x="1106" y="992"/>
                      </a:lnTo>
                      <a:lnTo>
                        <a:pt x="1144" y="982"/>
                      </a:lnTo>
                      <a:lnTo>
                        <a:pt x="1184" y="976"/>
                      </a:lnTo>
                      <a:lnTo>
                        <a:pt x="1224" y="970"/>
                      </a:lnTo>
                      <a:lnTo>
                        <a:pt x="1262" y="966"/>
                      </a:lnTo>
                      <a:lnTo>
                        <a:pt x="1302" y="962"/>
                      </a:lnTo>
                      <a:lnTo>
                        <a:pt x="1342" y="962"/>
                      </a:lnTo>
                      <a:lnTo>
                        <a:pt x="1382" y="962"/>
                      </a:lnTo>
                      <a:lnTo>
                        <a:pt x="1422" y="964"/>
                      </a:lnTo>
                      <a:lnTo>
                        <a:pt x="1462" y="968"/>
                      </a:lnTo>
                      <a:lnTo>
                        <a:pt x="1500" y="974"/>
                      </a:lnTo>
                      <a:lnTo>
                        <a:pt x="1540" y="982"/>
                      </a:lnTo>
                      <a:lnTo>
                        <a:pt x="1578" y="990"/>
                      </a:lnTo>
                      <a:lnTo>
                        <a:pt x="1618" y="1000"/>
                      </a:lnTo>
                      <a:lnTo>
                        <a:pt x="1656" y="1012"/>
                      </a:lnTo>
                      <a:lnTo>
                        <a:pt x="1694" y="1026"/>
                      </a:lnTo>
                      <a:lnTo>
                        <a:pt x="1730" y="1042"/>
                      </a:lnTo>
                      <a:lnTo>
                        <a:pt x="1768" y="1058"/>
                      </a:lnTo>
                      <a:lnTo>
                        <a:pt x="1804" y="1078"/>
                      </a:lnTo>
                      <a:lnTo>
                        <a:pt x="1840" y="1098"/>
                      </a:lnTo>
                      <a:lnTo>
                        <a:pt x="1874" y="1120"/>
                      </a:lnTo>
                      <a:lnTo>
                        <a:pt x="1874" y="1120"/>
                      </a:lnTo>
                      <a:lnTo>
                        <a:pt x="2466" y="1002"/>
                      </a:lnTo>
                      <a:lnTo>
                        <a:pt x="2466" y="1002"/>
                      </a:lnTo>
                      <a:lnTo>
                        <a:pt x="2576" y="444"/>
                      </a:lnTo>
                      <a:lnTo>
                        <a:pt x="2576" y="444"/>
                      </a:lnTo>
                      <a:lnTo>
                        <a:pt x="2506" y="388"/>
                      </a:lnTo>
                      <a:lnTo>
                        <a:pt x="2432" y="334"/>
                      </a:lnTo>
                      <a:lnTo>
                        <a:pt x="2356" y="286"/>
                      </a:lnTo>
                      <a:lnTo>
                        <a:pt x="2280" y="240"/>
                      </a:lnTo>
                      <a:lnTo>
                        <a:pt x="2200" y="198"/>
                      </a:lnTo>
                      <a:lnTo>
                        <a:pt x="2120" y="162"/>
                      </a:lnTo>
                      <a:lnTo>
                        <a:pt x="2040" y="128"/>
                      </a:lnTo>
                      <a:lnTo>
                        <a:pt x="1958" y="98"/>
                      </a:lnTo>
                      <a:lnTo>
                        <a:pt x="1874" y="72"/>
                      </a:lnTo>
                      <a:lnTo>
                        <a:pt x="1790" y="50"/>
                      </a:lnTo>
                      <a:lnTo>
                        <a:pt x="1704" y="32"/>
                      </a:lnTo>
                      <a:lnTo>
                        <a:pt x="1618" y="18"/>
                      </a:lnTo>
                      <a:lnTo>
                        <a:pt x="1532" y="8"/>
                      </a:lnTo>
                      <a:lnTo>
                        <a:pt x="1446" y="2"/>
                      </a:lnTo>
                      <a:lnTo>
                        <a:pt x="1360" y="0"/>
                      </a:lnTo>
                      <a:lnTo>
                        <a:pt x="1274" y="0"/>
                      </a:lnTo>
                      <a:lnTo>
                        <a:pt x="1186" y="6"/>
                      </a:lnTo>
                      <a:lnTo>
                        <a:pt x="1100" y="14"/>
                      </a:lnTo>
                      <a:lnTo>
                        <a:pt x="1014" y="28"/>
                      </a:lnTo>
                      <a:lnTo>
                        <a:pt x="930" y="44"/>
                      </a:lnTo>
                      <a:lnTo>
                        <a:pt x="846" y="66"/>
                      </a:lnTo>
                      <a:lnTo>
                        <a:pt x="762" y="90"/>
                      </a:lnTo>
                      <a:lnTo>
                        <a:pt x="678" y="118"/>
                      </a:lnTo>
                      <a:lnTo>
                        <a:pt x="596" y="150"/>
                      </a:lnTo>
                      <a:lnTo>
                        <a:pt x="516" y="186"/>
                      </a:lnTo>
                      <a:lnTo>
                        <a:pt x="438" y="226"/>
                      </a:lnTo>
                      <a:lnTo>
                        <a:pt x="360" y="270"/>
                      </a:lnTo>
                      <a:lnTo>
                        <a:pt x="284" y="318"/>
                      </a:lnTo>
                      <a:lnTo>
                        <a:pt x="210" y="370"/>
                      </a:lnTo>
                      <a:lnTo>
                        <a:pt x="138" y="424"/>
                      </a:lnTo>
                      <a:lnTo>
                        <a:pt x="68" y="484"/>
                      </a:lnTo>
                      <a:lnTo>
                        <a:pt x="0" y="548"/>
                      </a:lnTo>
                      <a:lnTo>
                        <a:pt x="0" y="548"/>
                      </a:lnTo>
                      <a:close/>
                    </a:path>
                  </a:pathLst>
                </a:custGeom>
                <a:gradFill rotWithShape="0">
                  <a:gsLst>
                    <a:gs pos="0">
                      <a:srgbClr val="ffffff"/>
                    </a:gs>
                    <a:gs pos="100000">
                      <a:srgbClr val="48a3b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7" name="Freeform 192"/>
                <p:cNvSpPr/>
                <p:nvPr/>
              </p:nvSpPr>
              <p:spPr>
                <a:xfrm>
                  <a:off x="5396040" y="3551040"/>
                  <a:ext cx="839520" cy="1760400"/>
                </a:xfrm>
                <a:custGeom>
                  <a:avLst/>
                  <a:gdLst/>
                  <a:ahLst/>
                  <a:rect l="l" t="t" r="r" b="b"/>
                  <a:pathLst>
                    <a:path w="1230" h="2576">
                      <a:moveTo>
                        <a:pt x="548" y="2576"/>
                      </a:moveTo>
                      <a:lnTo>
                        <a:pt x="662" y="2010"/>
                      </a:lnTo>
                      <a:lnTo>
                        <a:pt x="718" y="1998"/>
                      </a:lnTo>
                      <a:lnTo>
                        <a:pt x="1230" y="1896"/>
                      </a:lnTo>
                      <a:lnTo>
                        <a:pt x="1230" y="1896"/>
                      </a:lnTo>
                      <a:lnTo>
                        <a:pt x="1202" y="1864"/>
                      </a:lnTo>
                      <a:lnTo>
                        <a:pt x="1174" y="1832"/>
                      </a:lnTo>
                      <a:lnTo>
                        <a:pt x="1148" y="1800"/>
                      </a:lnTo>
                      <a:lnTo>
                        <a:pt x="1126" y="1766"/>
                      </a:lnTo>
                      <a:lnTo>
                        <a:pt x="1102" y="1730"/>
                      </a:lnTo>
                      <a:lnTo>
                        <a:pt x="1082" y="1696"/>
                      </a:lnTo>
                      <a:lnTo>
                        <a:pt x="1064" y="1660"/>
                      </a:lnTo>
                      <a:lnTo>
                        <a:pt x="1046" y="1622"/>
                      </a:lnTo>
                      <a:lnTo>
                        <a:pt x="1030" y="1586"/>
                      </a:lnTo>
                      <a:lnTo>
                        <a:pt x="1016" y="1548"/>
                      </a:lnTo>
                      <a:lnTo>
                        <a:pt x="1004" y="1510"/>
                      </a:lnTo>
                      <a:lnTo>
                        <a:pt x="994" y="1470"/>
                      </a:lnTo>
                      <a:lnTo>
                        <a:pt x="984" y="1432"/>
                      </a:lnTo>
                      <a:lnTo>
                        <a:pt x="976" y="1392"/>
                      </a:lnTo>
                      <a:lnTo>
                        <a:pt x="970" y="1354"/>
                      </a:lnTo>
                      <a:lnTo>
                        <a:pt x="966" y="1314"/>
                      </a:lnTo>
                      <a:lnTo>
                        <a:pt x="964" y="1274"/>
                      </a:lnTo>
                      <a:lnTo>
                        <a:pt x="962" y="1234"/>
                      </a:lnTo>
                      <a:lnTo>
                        <a:pt x="964" y="1194"/>
                      </a:lnTo>
                      <a:lnTo>
                        <a:pt x="966" y="1154"/>
                      </a:lnTo>
                      <a:lnTo>
                        <a:pt x="970" y="1116"/>
                      </a:lnTo>
                      <a:lnTo>
                        <a:pt x="976" y="1076"/>
                      </a:lnTo>
                      <a:lnTo>
                        <a:pt x="982" y="1036"/>
                      </a:lnTo>
                      <a:lnTo>
                        <a:pt x="992" y="998"/>
                      </a:lnTo>
                      <a:lnTo>
                        <a:pt x="1002" y="958"/>
                      </a:lnTo>
                      <a:lnTo>
                        <a:pt x="1014" y="920"/>
                      </a:lnTo>
                      <a:lnTo>
                        <a:pt x="1028" y="882"/>
                      </a:lnTo>
                      <a:lnTo>
                        <a:pt x="1042" y="846"/>
                      </a:lnTo>
                      <a:lnTo>
                        <a:pt x="1060" y="808"/>
                      </a:lnTo>
                      <a:lnTo>
                        <a:pt x="1078" y="772"/>
                      </a:lnTo>
                      <a:lnTo>
                        <a:pt x="1098" y="736"/>
                      </a:lnTo>
                      <a:lnTo>
                        <a:pt x="1120" y="702"/>
                      </a:lnTo>
                      <a:lnTo>
                        <a:pt x="1120" y="702"/>
                      </a:lnTo>
                      <a:lnTo>
                        <a:pt x="1002" y="112"/>
                      </a:lnTo>
                      <a:lnTo>
                        <a:pt x="1002" y="112"/>
                      </a:lnTo>
                      <a:lnTo>
                        <a:pt x="444" y="0"/>
                      </a:lnTo>
                      <a:lnTo>
                        <a:pt x="444" y="0"/>
                      </a:lnTo>
                      <a:lnTo>
                        <a:pt x="388" y="72"/>
                      </a:lnTo>
                      <a:lnTo>
                        <a:pt x="336" y="144"/>
                      </a:lnTo>
                      <a:lnTo>
                        <a:pt x="286" y="220"/>
                      </a:lnTo>
                      <a:lnTo>
                        <a:pt x="242" y="296"/>
                      </a:lnTo>
                      <a:lnTo>
                        <a:pt x="200" y="376"/>
                      </a:lnTo>
                      <a:lnTo>
                        <a:pt x="162" y="456"/>
                      </a:lnTo>
                      <a:lnTo>
                        <a:pt x="130" y="536"/>
                      </a:lnTo>
                      <a:lnTo>
                        <a:pt x="100" y="620"/>
                      </a:lnTo>
                      <a:lnTo>
                        <a:pt x="74" y="702"/>
                      </a:lnTo>
                      <a:lnTo>
                        <a:pt x="52" y="786"/>
                      </a:lnTo>
                      <a:lnTo>
                        <a:pt x="34" y="872"/>
                      </a:lnTo>
                      <a:lnTo>
                        <a:pt x="20" y="958"/>
                      </a:lnTo>
                      <a:lnTo>
                        <a:pt x="10" y="1044"/>
                      </a:lnTo>
                      <a:lnTo>
                        <a:pt x="2" y="1130"/>
                      </a:lnTo>
                      <a:lnTo>
                        <a:pt x="0" y="1216"/>
                      </a:lnTo>
                      <a:lnTo>
                        <a:pt x="2" y="1304"/>
                      </a:lnTo>
                      <a:lnTo>
                        <a:pt x="6" y="1390"/>
                      </a:lnTo>
                      <a:lnTo>
                        <a:pt x="16" y="1476"/>
                      </a:lnTo>
                      <a:lnTo>
                        <a:pt x="28" y="1562"/>
                      </a:lnTo>
                      <a:lnTo>
                        <a:pt x="46" y="1646"/>
                      </a:lnTo>
                      <a:lnTo>
                        <a:pt x="66" y="1732"/>
                      </a:lnTo>
                      <a:lnTo>
                        <a:pt x="90" y="1814"/>
                      </a:lnTo>
                      <a:lnTo>
                        <a:pt x="120" y="1898"/>
                      </a:lnTo>
                      <a:lnTo>
                        <a:pt x="152" y="1980"/>
                      </a:lnTo>
                      <a:lnTo>
                        <a:pt x="188" y="2060"/>
                      </a:lnTo>
                      <a:lnTo>
                        <a:pt x="228" y="2138"/>
                      </a:lnTo>
                      <a:lnTo>
                        <a:pt x="272" y="2216"/>
                      </a:lnTo>
                      <a:lnTo>
                        <a:pt x="320" y="2292"/>
                      </a:lnTo>
                      <a:lnTo>
                        <a:pt x="370" y="2366"/>
                      </a:lnTo>
                      <a:lnTo>
                        <a:pt x="426" y="2438"/>
                      </a:lnTo>
                      <a:lnTo>
                        <a:pt x="486" y="2508"/>
                      </a:lnTo>
                      <a:lnTo>
                        <a:pt x="548" y="2576"/>
                      </a:lnTo>
                      <a:lnTo>
                        <a:pt x="548" y="2576"/>
                      </a:lnTo>
                      <a:close/>
                    </a:path>
                  </a:pathLst>
                </a:custGeom>
                <a:gradFill rotWithShape="0">
                  <a:gsLst>
                    <a:gs pos="0">
                      <a:srgbClr val="ffffff"/>
                    </a:gs>
                    <a:gs pos="100000">
                      <a:srgbClr val="48a3b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8" name="Freeform 193"/>
                <p:cNvSpPr/>
                <p:nvPr/>
              </p:nvSpPr>
              <p:spPr>
                <a:xfrm>
                  <a:off x="5870880" y="4866840"/>
                  <a:ext cx="1760760" cy="841320"/>
                </a:xfrm>
                <a:custGeom>
                  <a:avLst/>
                  <a:gdLst/>
                  <a:ahLst/>
                  <a:rect l="l" t="t" r="r" b="b"/>
                  <a:pathLst>
                    <a:path w="2578" h="1230">
                      <a:moveTo>
                        <a:pt x="2010" y="568"/>
                      </a:moveTo>
                      <a:lnTo>
                        <a:pt x="1898" y="0"/>
                      </a:lnTo>
                      <a:lnTo>
                        <a:pt x="1898" y="0"/>
                      </a:lnTo>
                      <a:lnTo>
                        <a:pt x="1866" y="28"/>
                      </a:lnTo>
                      <a:lnTo>
                        <a:pt x="1834" y="56"/>
                      </a:lnTo>
                      <a:lnTo>
                        <a:pt x="1800" y="82"/>
                      </a:lnTo>
                      <a:lnTo>
                        <a:pt x="1766" y="106"/>
                      </a:lnTo>
                      <a:lnTo>
                        <a:pt x="1732" y="128"/>
                      </a:lnTo>
                      <a:lnTo>
                        <a:pt x="1696" y="148"/>
                      </a:lnTo>
                      <a:lnTo>
                        <a:pt x="1660" y="166"/>
                      </a:lnTo>
                      <a:lnTo>
                        <a:pt x="1624" y="184"/>
                      </a:lnTo>
                      <a:lnTo>
                        <a:pt x="1586" y="200"/>
                      </a:lnTo>
                      <a:lnTo>
                        <a:pt x="1548" y="214"/>
                      </a:lnTo>
                      <a:lnTo>
                        <a:pt x="1510" y="226"/>
                      </a:lnTo>
                      <a:lnTo>
                        <a:pt x="1472" y="238"/>
                      </a:lnTo>
                      <a:lnTo>
                        <a:pt x="1432" y="246"/>
                      </a:lnTo>
                      <a:lnTo>
                        <a:pt x="1394" y="254"/>
                      </a:lnTo>
                      <a:lnTo>
                        <a:pt x="1354" y="260"/>
                      </a:lnTo>
                      <a:lnTo>
                        <a:pt x="1314" y="264"/>
                      </a:lnTo>
                      <a:lnTo>
                        <a:pt x="1276" y="266"/>
                      </a:lnTo>
                      <a:lnTo>
                        <a:pt x="1236" y="268"/>
                      </a:lnTo>
                      <a:lnTo>
                        <a:pt x="1196" y="266"/>
                      </a:lnTo>
                      <a:lnTo>
                        <a:pt x="1156" y="264"/>
                      </a:lnTo>
                      <a:lnTo>
                        <a:pt x="1116" y="260"/>
                      </a:lnTo>
                      <a:lnTo>
                        <a:pt x="1076" y="254"/>
                      </a:lnTo>
                      <a:lnTo>
                        <a:pt x="1038" y="248"/>
                      </a:lnTo>
                      <a:lnTo>
                        <a:pt x="998" y="238"/>
                      </a:lnTo>
                      <a:lnTo>
                        <a:pt x="960" y="228"/>
                      </a:lnTo>
                      <a:lnTo>
                        <a:pt x="922" y="216"/>
                      </a:lnTo>
                      <a:lnTo>
                        <a:pt x="884" y="202"/>
                      </a:lnTo>
                      <a:lnTo>
                        <a:pt x="846" y="188"/>
                      </a:lnTo>
                      <a:lnTo>
                        <a:pt x="810" y="170"/>
                      </a:lnTo>
                      <a:lnTo>
                        <a:pt x="774" y="152"/>
                      </a:lnTo>
                      <a:lnTo>
                        <a:pt x="738" y="132"/>
                      </a:lnTo>
                      <a:lnTo>
                        <a:pt x="704" y="110"/>
                      </a:lnTo>
                      <a:lnTo>
                        <a:pt x="704" y="110"/>
                      </a:lnTo>
                      <a:lnTo>
                        <a:pt x="112" y="228"/>
                      </a:lnTo>
                      <a:lnTo>
                        <a:pt x="112" y="228"/>
                      </a:lnTo>
                      <a:lnTo>
                        <a:pt x="0" y="786"/>
                      </a:lnTo>
                      <a:lnTo>
                        <a:pt x="0" y="786"/>
                      </a:lnTo>
                      <a:lnTo>
                        <a:pt x="72" y="842"/>
                      </a:lnTo>
                      <a:lnTo>
                        <a:pt x="146" y="894"/>
                      </a:lnTo>
                      <a:lnTo>
                        <a:pt x="222" y="944"/>
                      </a:lnTo>
                      <a:lnTo>
                        <a:pt x="298" y="990"/>
                      </a:lnTo>
                      <a:lnTo>
                        <a:pt x="376" y="1030"/>
                      </a:lnTo>
                      <a:lnTo>
                        <a:pt x="456" y="1068"/>
                      </a:lnTo>
                      <a:lnTo>
                        <a:pt x="538" y="1102"/>
                      </a:lnTo>
                      <a:lnTo>
                        <a:pt x="620" y="1130"/>
                      </a:lnTo>
                      <a:lnTo>
                        <a:pt x="704" y="1156"/>
                      </a:lnTo>
                      <a:lnTo>
                        <a:pt x="788" y="1178"/>
                      </a:lnTo>
                      <a:lnTo>
                        <a:pt x="874" y="1196"/>
                      </a:lnTo>
                      <a:lnTo>
                        <a:pt x="958" y="1210"/>
                      </a:lnTo>
                      <a:lnTo>
                        <a:pt x="1044" y="1220"/>
                      </a:lnTo>
                      <a:lnTo>
                        <a:pt x="1132" y="1228"/>
                      </a:lnTo>
                      <a:lnTo>
                        <a:pt x="1218" y="1230"/>
                      </a:lnTo>
                      <a:lnTo>
                        <a:pt x="1304" y="1228"/>
                      </a:lnTo>
                      <a:lnTo>
                        <a:pt x="1390" y="1224"/>
                      </a:lnTo>
                      <a:lnTo>
                        <a:pt x="1476" y="1214"/>
                      </a:lnTo>
                      <a:lnTo>
                        <a:pt x="1562" y="1202"/>
                      </a:lnTo>
                      <a:lnTo>
                        <a:pt x="1648" y="1184"/>
                      </a:lnTo>
                      <a:lnTo>
                        <a:pt x="1732" y="1164"/>
                      </a:lnTo>
                      <a:lnTo>
                        <a:pt x="1816" y="1140"/>
                      </a:lnTo>
                      <a:lnTo>
                        <a:pt x="1898" y="1112"/>
                      </a:lnTo>
                      <a:lnTo>
                        <a:pt x="1980" y="1078"/>
                      </a:lnTo>
                      <a:lnTo>
                        <a:pt x="2062" y="1042"/>
                      </a:lnTo>
                      <a:lnTo>
                        <a:pt x="2140" y="1002"/>
                      </a:lnTo>
                      <a:lnTo>
                        <a:pt x="2218" y="958"/>
                      </a:lnTo>
                      <a:lnTo>
                        <a:pt x="2294" y="912"/>
                      </a:lnTo>
                      <a:lnTo>
                        <a:pt x="2368" y="860"/>
                      </a:lnTo>
                      <a:lnTo>
                        <a:pt x="2440" y="804"/>
                      </a:lnTo>
                      <a:lnTo>
                        <a:pt x="2510" y="744"/>
                      </a:lnTo>
                      <a:lnTo>
                        <a:pt x="2578" y="682"/>
                      </a:lnTo>
                      <a:lnTo>
                        <a:pt x="2010" y="568"/>
                      </a:lnTo>
                      <a:close/>
                    </a:path>
                  </a:pathLst>
                </a:custGeom>
                <a:gradFill rotWithShape="0">
                  <a:gsLst>
                    <a:gs pos="0">
                      <a:srgbClr val="ffffff"/>
                    </a:gs>
                    <a:gs pos="100000">
                      <a:srgbClr val="48a3b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39" name="Group 194"/>
              <p:cNvGrpSpPr/>
              <p:nvPr/>
            </p:nvGrpSpPr>
            <p:grpSpPr>
              <a:xfrm>
                <a:off x="6219720" y="4168440"/>
                <a:ext cx="981360" cy="356760"/>
                <a:chOff x="6219720" y="4168440"/>
                <a:chExt cx="981360" cy="356760"/>
              </a:xfrm>
            </p:grpSpPr>
            <p:sp>
              <p:nvSpPr>
                <p:cNvPr id="440" name="WordArt 195"/>
                <p:cNvSpPr txBox="1"/>
                <p:nvPr/>
              </p:nvSpPr>
              <p:spPr>
                <a:xfrm>
                  <a:off x="6345000" y="4168440"/>
                  <a:ext cx="733320" cy="21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75000"/>
                        </a:srgbClr>
                      </a:solidFill>
                      <a:latin typeface="Arial Black"/>
                    </a:rPr>
                    <a:t>TEXT</a:t>
                  </a:r>
                  <a:endParaRPr b="0" lang="en-US" sz="1400" spc="1" strike="noStrike">
                    <a:ln w="0">
                      <a:noFill/>
                    </a:ln>
                    <a:solidFill>
                      <a:srgbClr val="ffffff">
                        <a:alpha val="75000"/>
                      </a:srgbClr>
                    </a:solidFill>
                    <a:latin typeface="Arial Black"/>
                    <a:ea typeface="Arial Black"/>
                  </a:endParaRPr>
                </a:p>
              </p:txBody>
            </p:sp>
            <p:sp>
              <p:nvSpPr>
                <p:cNvPr id="441" name="WordArt 196"/>
                <p:cNvSpPr txBox="1"/>
                <p:nvPr/>
              </p:nvSpPr>
              <p:spPr>
                <a:xfrm>
                  <a:off x="6219720" y="4412160"/>
                  <a:ext cx="981360" cy="11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75000"/>
                        </a:srgbClr>
                      </a:solidFill>
                      <a:latin typeface="Arial Black"/>
                    </a:rPr>
                    <a:t>ADD CONTENTS</a:t>
                  </a:r>
                  <a:endParaRPr b="0" lang="en-US" sz="1400" spc="1" strike="noStrike">
                    <a:ln w="0">
                      <a:noFill/>
                    </a:ln>
                    <a:solidFill>
                      <a:srgbClr val="ffffff">
                        <a:alpha val="75000"/>
                      </a:srgbClr>
                    </a:solidFill>
                    <a:latin typeface="Arial Black"/>
                    <a:ea typeface="Arial Black"/>
                  </a:endParaRPr>
                </a:p>
              </p:txBody>
            </p:sp>
          </p:grpSp>
          <p:sp>
            <p:nvSpPr>
              <p:cNvPr id="442" name="WordArt 197"/>
              <p:cNvSpPr txBox="1"/>
              <p:nvPr/>
            </p:nvSpPr>
            <p:spPr>
              <a:xfrm>
                <a:off x="6404400" y="3312360"/>
                <a:ext cx="54972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43" name="WordArt 198"/>
              <p:cNvSpPr txBox="1"/>
              <p:nvPr/>
            </p:nvSpPr>
            <p:spPr>
              <a:xfrm>
                <a:off x="5425560" y="4291560"/>
                <a:ext cx="549720" cy="16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44" name="WordArt 199"/>
              <p:cNvSpPr txBox="1"/>
              <p:nvPr/>
            </p:nvSpPr>
            <p:spPr>
              <a:xfrm>
                <a:off x="6342480" y="5268960"/>
                <a:ext cx="549720" cy="16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45" name="WordArt 200"/>
              <p:cNvSpPr txBox="1"/>
              <p:nvPr/>
            </p:nvSpPr>
            <p:spPr>
              <a:xfrm>
                <a:off x="7382160" y="4352040"/>
                <a:ext cx="54972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grpSp>
      </p:grpSp>
      <p:sp>
        <p:nvSpPr>
          <p:cNvPr id="446" name="矩形 29"/>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448" name="Group 296"/>
          <p:cNvGrpSpPr/>
          <p:nvPr/>
        </p:nvGrpSpPr>
        <p:grpSpPr>
          <a:xfrm>
            <a:off x="826920" y="1484280"/>
            <a:ext cx="8317080" cy="4642920"/>
            <a:chOff x="826920" y="1484280"/>
            <a:chExt cx="8317080" cy="4642920"/>
          </a:xfrm>
        </p:grpSpPr>
        <p:grpSp>
          <p:nvGrpSpPr>
            <p:cNvPr id="449" name="Group 297"/>
            <p:cNvGrpSpPr/>
            <p:nvPr/>
          </p:nvGrpSpPr>
          <p:grpSpPr>
            <a:xfrm>
              <a:off x="1987560" y="1484280"/>
              <a:ext cx="2199960" cy="2539440"/>
              <a:chOff x="1987560" y="1484280"/>
              <a:chExt cx="2199960" cy="2539440"/>
            </a:xfrm>
          </p:grpSpPr>
          <p:sp>
            <p:nvSpPr>
              <p:cNvPr id="450" name="Oval 298"/>
              <p:cNvSpPr/>
              <p:nvPr/>
            </p:nvSpPr>
            <p:spPr>
              <a:xfrm>
                <a:off x="2014920" y="3314160"/>
                <a:ext cx="2131920" cy="7095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1" name="Oval 299"/>
              <p:cNvSpPr/>
              <p:nvPr/>
            </p:nvSpPr>
            <p:spPr>
              <a:xfrm>
                <a:off x="1987560" y="1484280"/>
                <a:ext cx="2199960" cy="2213640"/>
              </a:xfrm>
              <a:prstGeom prst="ellipse">
                <a:avLst/>
              </a:prstGeom>
              <a:gradFill rotWithShape="0">
                <a:gsLst>
                  <a:gs pos="0">
                    <a:srgbClr val="c69a4a"/>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2" name="Oval 300"/>
              <p:cNvSpPr/>
              <p:nvPr/>
            </p:nvSpPr>
            <p:spPr>
              <a:xfrm>
                <a:off x="2745360" y="1484280"/>
                <a:ext cx="584640" cy="587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53" name="Group 301"/>
            <p:cNvGrpSpPr/>
            <p:nvPr/>
          </p:nvGrpSpPr>
          <p:grpSpPr>
            <a:xfrm>
              <a:off x="826920" y="2502000"/>
              <a:ext cx="2199960" cy="2537640"/>
              <a:chOff x="826920" y="2502000"/>
              <a:chExt cx="2199960" cy="2537640"/>
            </a:xfrm>
          </p:grpSpPr>
          <p:sp>
            <p:nvSpPr>
              <p:cNvPr id="454" name="Oval 302"/>
              <p:cNvSpPr/>
              <p:nvPr/>
            </p:nvSpPr>
            <p:spPr>
              <a:xfrm>
                <a:off x="854280" y="4330440"/>
                <a:ext cx="213192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5" name="Oval 303"/>
              <p:cNvSpPr/>
              <p:nvPr/>
            </p:nvSpPr>
            <p:spPr>
              <a:xfrm>
                <a:off x="826920" y="2502000"/>
                <a:ext cx="2199960" cy="2212200"/>
              </a:xfrm>
              <a:prstGeom prst="ellipse">
                <a:avLst/>
              </a:prstGeom>
              <a:gradFill rotWithShape="0">
                <a:gsLst>
                  <a:gs pos="0">
                    <a:srgbClr val="80c24e"/>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6" name="Oval 304"/>
              <p:cNvSpPr/>
              <p:nvPr/>
            </p:nvSpPr>
            <p:spPr>
              <a:xfrm>
                <a:off x="1584720" y="25020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57" name="Group 305"/>
            <p:cNvGrpSpPr/>
            <p:nvPr/>
          </p:nvGrpSpPr>
          <p:grpSpPr>
            <a:xfrm>
              <a:off x="3149640" y="2502000"/>
              <a:ext cx="2199960" cy="2537640"/>
              <a:chOff x="3149640" y="2502000"/>
              <a:chExt cx="2199960" cy="2537640"/>
            </a:xfrm>
          </p:grpSpPr>
          <p:sp>
            <p:nvSpPr>
              <p:cNvPr id="458" name="Oval 306"/>
              <p:cNvSpPr/>
              <p:nvPr/>
            </p:nvSpPr>
            <p:spPr>
              <a:xfrm>
                <a:off x="3177000" y="4330440"/>
                <a:ext cx="213192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9" name="Oval 307"/>
              <p:cNvSpPr/>
              <p:nvPr/>
            </p:nvSpPr>
            <p:spPr>
              <a:xfrm>
                <a:off x="3149640" y="2502000"/>
                <a:ext cx="2199960" cy="2212200"/>
              </a:xfrm>
              <a:prstGeom prst="ellipse">
                <a:avLst/>
              </a:prstGeom>
              <a:gradFill rotWithShape="0">
                <a:gsLst>
                  <a:gs pos="0">
                    <a:srgbClr val="5075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0" name="Oval 308"/>
              <p:cNvSpPr/>
              <p:nvPr/>
            </p:nvSpPr>
            <p:spPr>
              <a:xfrm>
                <a:off x="3907440" y="25020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61" name="Group 309"/>
            <p:cNvGrpSpPr/>
            <p:nvPr/>
          </p:nvGrpSpPr>
          <p:grpSpPr>
            <a:xfrm>
              <a:off x="1987560" y="3589200"/>
              <a:ext cx="2199960" cy="2538000"/>
              <a:chOff x="1987560" y="3589200"/>
              <a:chExt cx="2199960" cy="2538000"/>
            </a:xfrm>
          </p:grpSpPr>
          <p:sp>
            <p:nvSpPr>
              <p:cNvPr id="462" name="Oval 310"/>
              <p:cNvSpPr/>
              <p:nvPr/>
            </p:nvSpPr>
            <p:spPr>
              <a:xfrm>
                <a:off x="2014920" y="5418000"/>
                <a:ext cx="213192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3" name="Oval 311"/>
              <p:cNvSpPr/>
              <p:nvPr/>
            </p:nvSpPr>
            <p:spPr>
              <a:xfrm>
                <a:off x="1987560" y="3589200"/>
                <a:ext cx="2199960" cy="221256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4" name="Oval 312"/>
              <p:cNvSpPr/>
              <p:nvPr/>
            </p:nvSpPr>
            <p:spPr>
              <a:xfrm>
                <a:off x="2745360" y="35892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65" name="Group 313"/>
            <p:cNvGrpSpPr/>
            <p:nvPr/>
          </p:nvGrpSpPr>
          <p:grpSpPr>
            <a:xfrm>
              <a:off x="2556000" y="4508640"/>
              <a:ext cx="1155600" cy="420120"/>
              <a:chOff x="2556000" y="4508640"/>
              <a:chExt cx="1155600" cy="420120"/>
            </a:xfrm>
          </p:grpSpPr>
          <p:sp>
            <p:nvSpPr>
              <p:cNvPr id="466" name="WordArt 314"/>
              <p:cNvSpPr txBox="1"/>
              <p:nvPr/>
            </p:nvSpPr>
            <p:spPr>
              <a:xfrm>
                <a:off x="2703600" y="4508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7" name="WordArt 315"/>
              <p:cNvSpPr txBox="1"/>
              <p:nvPr/>
            </p:nvSpPr>
            <p:spPr>
              <a:xfrm>
                <a:off x="2556000" y="4795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68" name="Group 316"/>
            <p:cNvGrpSpPr/>
            <p:nvPr/>
          </p:nvGrpSpPr>
          <p:grpSpPr>
            <a:xfrm>
              <a:off x="3708360" y="3213000"/>
              <a:ext cx="1155600" cy="420840"/>
              <a:chOff x="3708360" y="3213000"/>
              <a:chExt cx="1155600" cy="420840"/>
            </a:xfrm>
          </p:grpSpPr>
          <p:sp>
            <p:nvSpPr>
              <p:cNvPr id="469" name="WordArt 317"/>
              <p:cNvSpPr txBox="1"/>
              <p:nvPr/>
            </p:nvSpPr>
            <p:spPr>
              <a:xfrm>
                <a:off x="3855960" y="321300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0" name="WordArt 318"/>
              <p:cNvSpPr txBox="1"/>
              <p:nvPr/>
            </p:nvSpPr>
            <p:spPr>
              <a:xfrm>
                <a:off x="3708360" y="35002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71" name="Group 319"/>
            <p:cNvGrpSpPr/>
            <p:nvPr/>
          </p:nvGrpSpPr>
          <p:grpSpPr>
            <a:xfrm>
              <a:off x="1332000" y="3213000"/>
              <a:ext cx="1155600" cy="420840"/>
              <a:chOff x="1332000" y="3213000"/>
              <a:chExt cx="1155600" cy="420840"/>
            </a:xfrm>
          </p:grpSpPr>
          <p:sp>
            <p:nvSpPr>
              <p:cNvPr id="472" name="WordArt 320"/>
              <p:cNvSpPr txBox="1"/>
              <p:nvPr/>
            </p:nvSpPr>
            <p:spPr>
              <a:xfrm>
                <a:off x="1479600" y="321300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3" name="WordArt 321"/>
              <p:cNvSpPr txBox="1"/>
              <p:nvPr/>
            </p:nvSpPr>
            <p:spPr>
              <a:xfrm>
                <a:off x="1332000" y="35002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74" name="Group 322"/>
            <p:cNvGrpSpPr/>
            <p:nvPr/>
          </p:nvGrpSpPr>
          <p:grpSpPr>
            <a:xfrm>
              <a:off x="2484360" y="2060640"/>
              <a:ext cx="1155600" cy="420120"/>
              <a:chOff x="2484360" y="2060640"/>
              <a:chExt cx="1155600" cy="420120"/>
            </a:xfrm>
          </p:grpSpPr>
          <p:sp>
            <p:nvSpPr>
              <p:cNvPr id="475" name="WordArt 323"/>
              <p:cNvSpPr txBox="1"/>
              <p:nvPr/>
            </p:nvSpPr>
            <p:spPr>
              <a:xfrm>
                <a:off x="2631960" y="2060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6" name="WordArt 324"/>
              <p:cNvSpPr txBox="1"/>
              <p:nvPr/>
            </p:nvSpPr>
            <p:spPr>
              <a:xfrm>
                <a:off x="2484360" y="2347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77" name="AutoShape 325"/>
            <p:cNvSpPr/>
            <p:nvPr/>
          </p:nvSpPr>
          <p:spPr>
            <a:xfrm>
              <a:off x="5651640" y="2205000"/>
              <a:ext cx="3492360" cy="2881440"/>
            </a:xfrm>
            <a:prstGeom prst="leftArrow">
              <a:avLst>
                <a:gd name="adj1" fmla="val 49972"/>
                <a:gd name="adj2" fmla="val 5145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78" name="Group 326"/>
            <p:cNvGrpSpPr/>
            <p:nvPr/>
          </p:nvGrpSpPr>
          <p:grpSpPr>
            <a:xfrm>
              <a:off x="6516720" y="3213000"/>
              <a:ext cx="1368000" cy="901440"/>
              <a:chOff x="6516720" y="3213000"/>
              <a:chExt cx="1368000" cy="901440"/>
            </a:xfrm>
          </p:grpSpPr>
          <p:sp>
            <p:nvSpPr>
              <p:cNvPr id="479" name="WordArt 327"/>
              <p:cNvSpPr txBox="1"/>
              <p:nvPr/>
            </p:nvSpPr>
            <p:spPr>
              <a:xfrm>
                <a:off x="6691320" y="321300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0" name="WordArt 328"/>
              <p:cNvSpPr txBox="1"/>
              <p:nvPr/>
            </p:nvSpPr>
            <p:spPr>
              <a:xfrm>
                <a:off x="6516720" y="36018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sp>
        <p:nvSpPr>
          <p:cNvPr id="481" name="矩形 35"/>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483" name="Group 194"/>
          <p:cNvGrpSpPr/>
          <p:nvPr/>
        </p:nvGrpSpPr>
        <p:grpSpPr>
          <a:xfrm>
            <a:off x="1763640" y="1273320"/>
            <a:ext cx="5749920" cy="4963680"/>
            <a:chOff x="1763640" y="1273320"/>
            <a:chExt cx="5749920" cy="4963680"/>
          </a:xfrm>
        </p:grpSpPr>
        <p:sp>
          <p:nvSpPr>
            <p:cNvPr id="484" name="Oval 195"/>
            <p:cNvSpPr/>
            <p:nvPr/>
          </p:nvSpPr>
          <p:spPr>
            <a:xfrm>
              <a:off x="3589200" y="4336920"/>
              <a:ext cx="2035440" cy="6760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5" name="Oval 196"/>
            <p:cNvSpPr/>
            <p:nvPr/>
          </p:nvSpPr>
          <p:spPr>
            <a:xfrm>
              <a:off x="3564000" y="2762280"/>
              <a:ext cx="2100240" cy="2111040"/>
            </a:xfrm>
            <a:prstGeom prst="ellipse">
              <a:avLst/>
            </a:prstGeom>
            <a:gradFill rotWithShape="0">
              <a:gsLst>
                <a:gs pos="0">
                  <a:srgbClr val="cfd9ee"/>
                </a:gs>
                <a:gs pos="100000">
                  <a:srgbClr val="5075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6" name="Oval 197"/>
            <p:cNvSpPr/>
            <p:nvPr/>
          </p:nvSpPr>
          <p:spPr>
            <a:xfrm>
              <a:off x="4307040" y="2805120"/>
              <a:ext cx="558720" cy="5648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7" name="Oval 198"/>
            <p:cNvSpPr/>
            <p:nvPr/>
          </p:nvSpPr>
          <p:spPr>
            <a:xfrm>
              <a:off x="3909960" y="2403360"/>
              <a:ext cx="1314360" cy="4377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8" name="Oval 199"/>
            <p:cNvSpPr/>
            <p:nvPr/>
          </p:nvSpPr>
          <p:spPr>
            <a:xfrm>
              <a:off x="3892680" y="1273320"/>
              <a:ext cx="1358640" cy="136656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9" name="Oval 200"/>
            <p:cNvSpPr/>
            <p:nvPr/>
          </p:nvSpPr>
          <p:spPr>
            <a:xfrm>
              <a:off x="4373640" y="1301760"/>
              <a:ext cx="360360" cy="3664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0" name="Oval 201"/>
            <p:cNvSpPr/>
            <p:nvPr/>
          </p:nvSpPr>
          <p:spPr>
            <a:xfrm>
              <a:off x="1781280" y="3633840"/>
              <a:ext cx="1322280" cy="43920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1" name="Oval 202"/>
            <p:cNvSpPr/>
            <p:nvPr/>
          </p:nvSpPr>
          <p:spPr>
            <a:xfrm>
              <a:off x="1763640" y="2496960"/>
              <a:ext cx="1365480" cy="137448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2" name="Oval 203"/>
            <p:cNvSpPr/>
            <p:nvPr/>
          </p:nvSpPr>
          <p:spPr>
            <a:xfrm>
              <a:off x="2246400" y="2525760"/>
              <a:ext cx="363600" cy="3661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3" name="Oval 204"/>
            <p:cNvSpPr/>
            <p:nvPr/>
          </p:nvSpPr>
          <p:spPr>
            <a:xfrm>
              <a:off x="6172200" y="3633840"/>
              <a:ext cx="1316160" cy="4377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4" name="Oval 205"/>
            <p:cNvSpPr/>
            <p:nvPr/>
          </p:nvSpPr>
          <p:spPr>
            <a:xfrm>
              <a:off x="6156360" y="2503440"/>
              <a:ext cx="1357200" cy="136656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5" name="Oval 206"/>
            <p:cNvSpPr/>
            <p:nvPr/>
          </p:nvSpPr>
          <p:spPr>
            <a:xfrm>
              <a:off x="6635880" y="2531880"/>
              <a:ext cx="361800" cy="3650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6" name="Oval 207"/>
            <p:cNvSpPr/>
            <p:nvPr/>
          </p:nvSpPr>
          <p:spPr>
            <a:xfrm>
              <a:off x="2494080" y="5797440"/>
              <a:ext cx="1320840" cy="4395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7" name="Oval 208"/>
            <p:cNvSpPr/>
            <p:nvPr/>
          </p:nvSpPr>
          <p:spPr>
            <a:xfrm>
              <a:off x="2476440" y="4660920"/>
              <a:ext cx="1365480" cy="137448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8" name="Oval 209"/>
            <p:cNvSpPr/>
            <p:nvPr/>
          </p:nvSpPr>
          <p:spPr>
            <a:xfrm>
              <a:off x="2959200" y="4689360"/>
              <a:ext cx="363600" cy="367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9" name="Oval 210"/>
            <p:cNvSpPr/>
            <p:nvPr/>
          </p:nvSpPr>
          <p:spPr>
            <a:xfrm>
              <a:off x="5262480" y="5791320"/>
              <a:ext cx="1320840" cy="43920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0" name="Oval 211"/>
            <p:cNvSpPr/>
            <p:nvPr/>
          </p:nvSpPr>
          <p:spPr>
            <a:xfrm>
              <a:off x="5245200" y="4656240"/>
              <a:ext cx="1365120" cy="137268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1" name="Oval 212"/>
            <p:cNvSpPr/>
            <p:nvPr/>
          </p:nvSpPr>
          <p:spPr>
            <a:xfrm>
              <a:off x="5727600" y="4684680"/>
              <a:ext cx="363600" cy="367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2" name="Freeform 213"/>
            <p:cNvSpPr/>
            <p:nvPr/>
          </p:nvSpPr>
          <p:spPr>
            <a:xfrm rot="2272200">
              <a:off x="3526920" y="4343400"/>
              <a:ext cx="403200" cy="6282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312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3" name="Freeform 214"/>
            <p:cNvSpPr/>
            <p:nvPr/>
          </p:nvSpPr>
          <p:spPr>
            <a:xfrm rot="19152600">
              <a:off x="5155920" y="4347720"/>
              <a:ext cx="403200" cy="6300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784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4" name="Freeform 215"/>
            <p:cNvSpPr/>
            <p:nvPr/>
          </p:nvSpPr>
          <p:spPr>
            <a:xfrm rot="15487200">
              <a:off x="5781960" y="3026880"/>
              <a:ext cx="402840" cy="7650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1151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5" name="Freeform 216"/>
            <p:cNvSpPr/>
            <p:nvPr/>
          </p:nvSpPr>
          <p:spPr>
            <a:xfrm rot="10800000">
              <a:off x="4384800" y="2530080"/>
              <a:ext cx="403200" cy="4950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6" name="Freeform 217"/>
            <p:cNvSpPr/>
            <p:nvPr/>
          </p:nvSpPr>
          <p:spPr>
            <a:xfrm rot="6208800">
              <a:off x="3200400" y="3090240"/>
              <a:ext cx="403200" cy="6732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2079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507" name="Group 218"/>
            <p:cNvGrpSpPr/>
            <p:nvPr/>
          </p:nvGrpSpPr>
          <p:grpSpPr>
            <a:xfrm>
              <a:off x="3992400" y="3505320"/>
              <a:ext cx="1298520" cy="575280"/>
              <a:chOff x="3992400" y="3505320"/>
              <a:chExt cx="1298520" cy="575280"/>
            </a:xfrm>
          </p:grpSpPr>
          <p:sp>
            <p:nvSpPr>
              <p:cNvPr id="508" name="WordArt 219"/>
              <p:cNvSpPr txBox="1"/>
              <p:nvPr/>
            </p:nvSpPr>
            <p:spPr>
              <a:xfrm>
                <a:off x="4209840" y="35053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TEXT</a:t>
                </a:r>
                <a:endParaRPr b="0" lang="en-US" sz="1400" spc="1" strike="noStrike">
                  <a:ln w="0">
                    <a:noFill/>
                  </a:ln>
                  <a:solidFill>
                    <a:srgbClr val="2d3069"/>
                  </a:solidFill>
                  <a:latin typeface="Arial Black"/>
                  <a:ea typeface="Arial Black"/>
                </a:endParaRPr>
              </a:p>
            </p:txBody>
          </p:sp>
          <p:sp>
            <p:nvSpPr>
              <p:cNvPr id="509" name="WordArt 220"/>
              <p:cNvSpPr txBox="1"/>
              <p:nvPr/>
            </p:nvSpPr>
            <p:spPr>
              <a:xfrm>
                <a:off x="4281480" y="3803400"/>
                <a:ext cx="72072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d3069"/>
                    </a:solidFill>
                    <a:latin typeface="Arial"/>
                  </a:rPr>
                  <a:t>CLICK TO</a:t>
                </a:r>
                <a:endParaRPr b="1" lang="en-US" sz="800" spc="1" strike="noStrike">
                  <a:ln w="0">
                    <a:noFill/>
                  </a:ln>
                  <a:solidFill>
                    <a:srgbClr val="2d3069"/>
                  </a:solidFill>
                  <a:latin typeface="Arial"/>
                  <a:ea typeface="Arial"/>
                </a:endParaRPr>
              </a:p>
            </p:txBody>
          </p:sp>
          <p:sp>
            <p:nvSpPr>
              <p:cNvPr id="510" name="WordArt 221"/>
              <p:cNvSpPr txBox="1"/>
              <p:nvPr/>
            </p:nvSpPr>
            <p:spPr>
              <a:xfrm>
                <a:off x="3992400" y="3947760"/>
                <a:ext cx="129852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d3069"/>
                    </a:solidFill>
                    <a:latin typeface="Arial"/>
                  </a:rPr>
                  <a:t>ADD CONTENTS !</a:t>
                </a:r>
                <a:endParaRPr b="1" lang="en-US" sz="800" spc="1" strike="noStrike">
                  <a:ln w="0">
                    <a:noFill/>
                  </a:ln>
                  <a:solidFill>
                    <a:srgbClr val="2d3069"/>
                  </a:solidFill>
                  <a:latin typeface="Arial"/>
                  <a:ea typeface="Arial"/>
                </a:endParaRPr>
              </a:p>
            </p:txBody>
          </p:sp>
        </p:grpSp>
        <p:grpSp>
          <p:nvGrpSpPr>
            <p:cNvPr id="511" name="Group 222"/>
            <p:cNvGrpSpPr/>
            <p:nvPr/>
          </p:nvGrpSpPr>
          <p:grpSpPr>
            <a:xfrm>
              <a:off x="2627280" y="5205240"/>
              <a:ext cx="1008000" cy="359640"/>
              <a:chOff x="2627280" y="5205240"/>
              <a:chExt cx="1008000" cy="359640"/>
            </a:xfrm>
          </p:grpSpPr>
          <p:sp>
            <p:nvSpPr>
              <p:cNvPr id="512" name="WordArt 223"/>
              <p:cNvSpPr txBox="1"/>
              <p:nvPr/>
            </p:nvSpPr>
            <p:spPr>
              <a:xfrm>
                <a:off x="2755800" y="52052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3" name="WordArt 224"/>
              <p:cNvSpPr txBox="1"/>
              <p:nvPr/>
            </p:nvSpPr>
            <p:spPr>
              <a:xfrm>
                <a:off x="2627280" y="54507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14" name="Group 225"/>
            <p:cNvGrpSpPr/>
            <p:nvPr/>
          </p:nvGrpSpPr>
          <p:grpSpPr>
            <a:xfrm>
              <a:off x="5435640" y="5205240"/>
              <a:ext cx="1008000" cy="359640"/>
              <a:chOff x="5435640" y="5205240"/>
              <a:chExt cx="1008000" cy="359640"/>
            </a:xfrm>
          </p:grpSpPr>
          <p:sp>
            <p:nvSpPr>
              <p:cNvPr id="515" name="WordArt 226"/>
              <p:cNvSpPr txBox="1"/>
              <p:nvPr/>
            </p:nvSpPr>
            <p:spPr>
              <a:xfrm>
                <a:off x="5564160" y="52052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6" name="WordArt 227"/>
              <p:cNvSpPr txBox="1"/>
              <p:nvPr/>
            </p:nvSpPr>
            <p:spPr>
              <a:xfrm>
                <a:off x="5435640" y="54507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17" name="Group 228"/>
            <p:cNvGrpSpPr/>
            <p:nvPr/>
          </p:nvGrpSpPr>
          <p:grpSpPr>
            <a:xfrm>
              <a:off x="6321600" y="3030480"/>
              <a:ext cx="1008000" cy="359640"/>
              <a:chOff x="6321600" y="3030480"/>
              <a:chExt cx="1008000" cy="359640"/>
            </a:xfrm>
          </p:grpSpPr>
          <p:sp>
            <p:nvSpPr>
              <p:cNvPr id="518" name="WordArt 229"/>
              <p:cNvSpPr txBox="1"/>
              <p:nvPr/>
            </p:nvSpPr>
            <p:spPr>
              <a:xfrm>
                <a:off x="6450120" y="30304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9" name="WordArt 230"/>
              <p:cNvSpPr txBox="1"/>
              <p:nvPr/>
            </p:nvSpPr>
            <p:spPr>
              <a:xfrm>
                <a:off x="6321600" y="32760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20" name="Group 231"/>
            <p:cNvGrpSpPr/>
            <p:nvPr/>
          </p:nvGrpSpPr>
          <p:grpSpPr>
            <a:xfrm>
              <a:off x="1908000" y="3030480"/>
              <a:ext cx="1008360" cy="359640"/>
              <a:chOff x="1908000" y="3030480"/>
              <a:chExt cx="1008360" cy="359640"/>
            </a:xfrm>
          </p:grpSpPr>
          <p:sp>
            <p:nvSpPr>
              <p:cNvPr id="521" name="WordArt 232"/>
              <p:cNvSpPr txBox="1"/>
              <p:nvPr/>
            </p:nvSpPr>
            <p:spPr>
              <a:xfrm>
                <a:off x="2036520" y="30304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2" name="WordArt 233"/>
              <p:cNvSpPr txBox="1"/>
              <p:nvPr/>
            </p:nvSpPr>
            <p:spPr>
              <a:xfrm>
                <a:off x="1908000" y="327600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23" name="Group 234"/>
            <p:cNvGrpSpPr/>
            <p:nvPr/>
          </p:nvGrpSpPr>
          <p:grpSpPr>
            <a:xfrm>
              <a:off x="4067280" y="1778040"/>
              <a:ext cx="1008000" cy="359640"/>
              <a:chOff x="4067280" y="1778040"/>
              <a:chExt cx="1008000" cy="359640"/>
            </a:xfrm>
          </p:grpSpPr>
          <p:sp>
            <p:nvSpPr>
              <p:cNvPr id="524" name="WordArt 235"/>
              <p:cNvSpPr txBox="1"/>
              <p:nvPr/>
            </p:nvSpPr>
            <p:spPr>
              <a:xfrm>
                <a:off x="4195800" y="17780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5" name="WordArt 236"/>
              <p:cNvSpPr txBox="1"/>
              <p:nvPr/>
            </p:nvSpPr>
            <p:spPr>
              <a:xfrm>
                <a:off x="4067280" y="20235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526" name="矩形 45"/>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528" name="Group 581"/>
          <p:cNvGrpSpPr/>
          <p:nvPr/>
        </p:nvGrpSpPr>
        <p:grpSpPr>
          <a:xfrm>
            <a:off x="431640" y="1628640"/>
            <a:ext cx="8280720" cy="4464360"/>
            <a:chOff x="431640" y="1628640"/>
            <a:chExt cx="8280720" cy="4464360"/>
          </a:xfrm>
        </p:grpSpPr>
        <p:sp>
          <p:nvSpPr>
            <p:cNvPr id="529" name="Rectangle 582"/>
            <p:cNvSpPr/>
            <p:nvPr/>
          </p:nvSpPr>
          <p:spPr>
            <a:xfrm>
              <a:off x="431640" y="1628640"/>
              <a:ext cx="8280720" cy="4464360"/>
            </a:xfrm>
            <a:prstGeom prst="rect">
              <a:avLst/>
            </a:prstGeom>
            <a:gradFill rotWithShape="0">
              <a:gsLst>
                <a:gs pos="0">
                  <a:srgbClr val="ffffff"/>
                </a:gs>
                <a:gs pos="100000">
                  <a:srgbClr val="bfe7d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0" name="Rectangle 583"/>
            <p:cNvSpPr/>
            <p:nvPr/>
          </p:nvSpPr>
          <p:spPr>
            <a:xfrm>
              <a:off x="576360" y="1773360"/>
              <a:ext cx="23749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1" name="Rectangle 584"/>
            <p:cNvSpPr/>
            <p:nvPr/>
          </p:nvSpPr>
          <p:spPr>
            <a:xfrm>
              <a:off x="576360" y="227664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2" name="Rectangle 585"/>
            <p:cNvSpPr/>
            <p:nvPr/>
          </p:nvSpPr>
          <p:spPr>
            <a:xfrm>
              <a:off x="2949480" y="1773360"/>
              <a:ext cx="140508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3" name="Rectangle 586"/>
            <p:cNvSpPr/>
            <p:nvPr/>
          </p:nvSpPr>
          <p:spPr>
            <a:xfrm>
              <a:off x="2949480" y="227664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4" name="Rectangle 587"/>
            <p:cNvSpPr/>
            <p:nvPr/>
          </p:nvSpPr>
          <p:spPr>
            <a:xfrm>
              <a:off x="4354560" y="1773360"/>
              <a:ext cx="14047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5" name="Rectangle 588"/>
            <p:cNvSpPr/>
            <p:nvPr/>
          </p:nvSpPr>
          <p:spPr>
            <a:xfrm>
              <a:off x="4356000" y="227664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6" name="Rectangle 589"/>
            <p:cNvSpPr/>
            <p:nvPr/>
          </p:nvSpPr>
          <p:spPr>
            <a:xfrm>
              <a:off x="5757840" y="1773360"/>
              <a:ext cx="140508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7" name="Rectangle 590"/>
            <p:cNvSpPr/>
            <p:nvPr/>
          </p:nvSpPr>
          <p:spPr>
            <a:xfrm>
              <a:off x="5757840" y="227664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8" name="Rectangle 591"/>
            <p:cNvSpPr/>
            <p:nvPr/>
          </p:nvSpPr>
          <p:spPr>
            <a:xfrm>
              <a:off x="7162920" y="1773360"/>
              <a:ext cx="14047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9" name="Rectangle 592"/>
            <p:cNvSpPr/>
            <p:nvPr/>
          </p:nvSpPr>
          <p:spPr>
            <a:xfrm>
              <a:off x="7162920" y="2276640"/>
              <a:ext cx="140472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0" name="Rectangle 593"/>
            <p:cNvSpPr/>
            <p:nvPr/>
          </p:nvSpPr>
          <p:spPr>
            <a:xfrm>
              <a:off x="576360" y="288936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1" name="Rectangle 594"/>
            <p:cNvSpPr/>
            <p:nvPr/>
          </p:nvSpPr>
          <p:spPr>
            <a:xfrm>
              <a:off x="2949480" y="2889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2" name="Rectangle 595"/>
            <p:cNvSpPr/>
            <p:nvPr/>
          </p:nvSpPr>
          <p:spPr>
            <a:xfrm>
              <a:off x="4356000" y="2889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3" name="Rectangle 596"/>
            <p:cNvSpPr/>
            <p:nvPr/>
          </p:nvSpPr>
          <p:spPr>
            <a:xfrm>
              <a:off x="5757840" y="2889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4" name="Rectangle 597"/>
            <p:cNvSpPr/>
            <p:nvPr/>
          </p:nvSpPr>
          <p:spPr>
            <a:xfrm>
              <a:off x="7162920" y="2889360"/>
              <a:ext cx="140472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5" name="Rectangle 598"/>
            <p:cNvSpPr/>
            <p:nvPr/>
          </p:nvSpPr>
          <p:spPr>
            <a:xfrm>
              <a:off x="576360" y="3500280"/>
              <a:ext cx="2374920" cy="61308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6" name="Rectangle 599"/>
            <p:cNvSpPr/>
            <p:nvPr/>
          </p:nvSpPr>
          <p:spPr>
            <a:xfrm>
              <a:off x="2949480" y="350028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7" name="Rectangle 600"/>
            <p:cNvSpPr/>
            <p:nvPr/>
          </p:nvSpPr>
          <p:spPr>
            <a:xfrm>
              <a:off x="4356000" y="350028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8" name="Rectangle 601"/>
            <p:cNvSpPr/>
            <p:nvPr/>
          </p:nvSpPr>
          <p:spPr>
            <a:xfrm>
              <a:off x="5757840" y="350028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9" name="Rectangle 602"/>
            <p:cNvSpPr/>
            <p:nvPr/>
          </p:nvSpPr>
          <p:spPr>
            <a:xfrm>
              <a:off x="7162920" y="3500280"/>
              <a:ext cx="1404720" cy="61308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Rectangle 603"/>
            <p:cNvSpPr/>
            <p:nvPr/>
          </p:nvSpPr>
          <p:spPr>
            <a:xfrm>
              <a:off x="576360" y="411336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1" name="Rectangle 604"/>
            <p:cNvSpPr/>
            <p:nvPr/>
          </p:nvSpPr>
          <p:spPr>
            <a:xfrm>
              <a:off x="2949480" y="4113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2" name="Rectangle 605"/>
            <p:cNvSpPr/>
            <p:nvPr/>
          </p:nvSpPr>
          <p:spPr>
            <a:xfrm>
              <a:off x="4356000" y="4113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3" name="Rectangle 606"/>
            <p:cNvSpPr/>
            <p:nvPr/>
          </p:nvSpPr>
          <p:spPr>
            <a:xfrm>
              <a:off x="5757840" y="4113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4" name="Rectangle 607"/>
            <p:cNvSpPr/>
            <p:nvPr/>
          </p:nvSpPr>
          <p:spPr>
            <a:xfrm>
              <a:off x="7162920" y="4113360"/>
              <a:ext cx="140472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5" name="Rectangle 608"/>
            <p:cNvSpPr/>
            <p:nvPr/>
          </p:nvSpPr>
          <p:spPr>
            <a:xfrm>
              <a:off x="576360" y="472608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6" name="Rectangle 609"/>
            <p:cNvSpPr/>
            <p:nvPr/>
          </p:nvSpPr>
          <p:spPr>
            <a:xfrm>
              <a:off x="2949480" y="472608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7" name="Rectangle 610"/>
            <p:cNvSpPr/>
            <p:nvPr/>
          </p:nvSpPr>
          <p:spPr>
            <a:xfrm>
              <a:off x="4356000" y="472608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8" name="Rectangle 611"/>
            <p:cNvSpPr/>
            <p:nvPr/>
          </p:nvSpPr>
          <p:spPr>
            <a:xfrm>
              <a:off x="5757840" y="472608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9" name="Rectangle 612"/>
            <p:cNvSpPr/>
            <p:nvPr/>
          </p:nvSpPr>
          <p:spPr>
            <a:xfrm>
              <a:off x="7162920" y="4726080"/>
              <a:ext cx="140472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0" name="Rectangle 613"/>
            <p:cNvSpPr/>
            <p:nvPr/>
          </p:nvSpPr>
          <p:spPr>
            <a:xfrm>
              <a:off x="576360" y="5337000"/>
              <a:ext cx="2374920" cy="61308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1" name="Rectangle 614"/>
            <p:cNvSpPr/>
            <p:nvPr/>
          </p:nvSpPr>
          <p:spPr>
            <a:xfrm>
              <a:off x="2949480" y="533700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2" name="Rectangle 615"/>
            <p:cNvSpPr/>
            <p:nvPr/>
          </p:nvSpPr>
          <p:spPr>
            <a:xfrm>
              <a:off x="4356000" y="533700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3" name="Rectangle 616"/>
            <p:cNvSpPr/>
            <p:nvPr/>
          </p:nvSpPr>
          <p:spPr>
            <a:xfrm>
              <a:off x="5757840" y="533700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4" name="Rectangle 617"/>
            <p:cNvSpPr/>
            <p:nvPr/>
          </p:nvSpPr>
          <p:spPr>
            <a:xfrm>
              <a:off x="7162920" y="5337000"/>
              <a:ext cx="1404720" cy="61308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5" name="WordArt 618"/>
            <p:cNvSpPr txBox="1"/>
            <p:nvPr/>
          </p:nvSpPr>
          <p:spPr>
            <a:xfrm>
              <a:off x="1332000" y="191628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6" name="WordArt 619"/>
            <p:cNvSpPr txBox="1"/>
            <p:nvPr/>
          </p:nvSpPr>
          <p:spPr>
            <a:xfrm>
              <a:off x="3276720" y="191772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7" name="WordArt 620"/>
            <p:cNvSpPr txBox="1"/>
            <p:nvPr/>
          </p:nvSpPr>
          <p:spPr>
            <a:xfrm>
              <a:off x="4643280" y="191628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8" name="WordArt 621"/>
            <p:cNvSpPr txBox="1"/>
            <p:nvPr/>
          </p:nvSpPr>
          <p:spPr>
            <a:xfrm>
              <a:off x="6084720" y="1916280"/>
              <a:ext cx="790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9" name="WordArt 622"/>
            <p:cNvSpPr txBox="1"/>
            <p:nvPr/>
          </p:nvSpPr>
          <p:spPr>
            <a:xfrm>
              <a:off x="7453440" y="191628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0" name="WordArt 623"/>
            <p:cNvSpPr txBox="1"/>
            <p:nvPr/>
          </p:nvSpPr>
          <p:spPr>
            <a:xfrm>
              <a:off x="3419640" y="24922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1" name="WordArt 624"/>
            <p:cNvSpPr txBox="1"/>
            <p:nvPr/>
          </p:nvSpPr>
          <p:spPr>
            <a:xfrm>
              <a:off x="3419640" y="31399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2" name="WordArt 625"/>
            <p:cNvSpPr txBox="1"/>
            <p:nvPr/>
          </p:nvSpPr>
          <p:spPr>
            <a:xfrm>
              <a:off x="3419640" y="37274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3" name="WordArt 626"/>
            <p:cNvSpPr txBox="1"/>
            <p:nvPr/>
          </p:nvSpPr>
          <p:spPr>
            <a:xfrm>
              <a:off x="3419640" y="43657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4" name="WordArt 627"/>
            <p:cNvSpPr txBox="1"/>
            <p:nvPr/>
          </p:nvSpPr>
          <p:spPr>
            <a:xfrm>
              <a:off x="3419640" y="5013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5" name="WordArt 628"/>
            <p:cNvSpPr txBox="1"/>
            <p:nvPr/>
          </p:nvSpPr>
          <p:spPr>
            <a:xfrm>
              <a:off x="3419640" y="56008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6" name="WordArt 629"/>
            <p:cNvSpPr txBox="1"/>
            <p:nvPr/>
          </p:nvSpPr>
          <p:spPr>
            <a:xfrm>
              <a:off x="4859280" y="24922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7" name="WordArt 630"/>
            <p:cNvSpPr txBox="1"/>
            <p:nvPr/>
          </p:nvSpPr>
          <p:spPr>
            <a:xfrm>
              <a:off x="4859280" y="313992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8" name="WordArt 631"/>
            <p:cNvSpPr txBox="1"/>
            <p:nvPr/>
          </p:nvSpPr>
          <p:spPr>
            <a:xfrm>
              <a:off x="4859280" y="372744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9" name="WordArt 632"/>
            <p:cNvSpPr txBox="1"/>
            <p:nvPr/>
          </p:nvSpPr>
          <p:spPr>
            <a:xfrm>
              <a:off x="4859280" y="43657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0" name="WordArt 633"/>
            <p:cNvSpPr txBox="1"/>
            <p:nvPr/>
          </p:nvSpPr>
          <p:spPr>
            <a:xfrm>
              <a:off x="4859280" y="501336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1" name="WordArt 634"/>
            <p:cNvSpPr txBox="1"/>
            <p:nvPr/>
          </p:nvSpPr>
          <p:spPr>
            <a:xfrm>
              <a:off x="4859280" y="560088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2" name="WordArt 635"/>
            <p:cNvSpPr txBox="1"/>
            <p:nvPr/>
          </p:nvSpPr>
          <p:spPr>
            <a:xfrm>
              <a:off x="6227640" y="24922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3" name="WordArt 636"/>
            <p:cNvSpPr txBox="1"/>
            <p:nvPr/>
          </p:nvSpPr>
          <p:spPr>
            <a:xfrm>
              <a:off x="6227640" y="313992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4" name="WordArt 637"/>
            <p:cNvSpPr txBox="1"/>
            <p:nvPr/>
          </p:nvSpPr>
          <p:spPr>
            <a:xfrm>
              <a:off x="6227640" y="372744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5" name="WordArt 638"/>
            <p:cNvSpPr txBox="1"/>
            <p:nvPr/>
          </p:nvSpPr>
          <p:spPr>
            <a:xfrm>
              <a:off x="6227640" y="43657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6" name="WordArt 639"/>
            <p:cNvSpPr txBox="1"/>
            <p:nvPr/>
          </p:nvSpPr>
          <p:spPr>
            <a:xfrm>
              <a:off x="6227640" y="501336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7" name="WordArt 640"/>
            <p:cNvSpPr txBox="1"/>
            <p:nvPr/>
          </p:nvSpPr>
          <p:spPr>
            <a:xfrm>
              <a:off x="6227640" y="560088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8" name="WordArt 641"/>
            <p:cNvSpPr txBox="1"/>
            <p:nvPr/>
          </p:nvSpPr>
          <p:spPr>
            <a:xfrm>
              <a:off x="7667640" y="24922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9" name="WordArt 642"/>
            <p:cNvSpPr txBox="1"/>
            <p:nvPr/>
          </p:nvSpPr>
          <p:spPr>
            <a:xfrm>
              <a:off x="7667640" y="31399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90" name="WordArt 643"/>
            <p:cNvSpPr txBox="1"/>
            <p:nvPr/>
          </p:nvSpPr>
          <p:spPr>
            <a:xfrm>
              <a:off x="7667640" y="37274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91" name="WordArt 644"/>
            <p:cNvSpPr txBox="1"/>
            <p:nvPr/>
          </p:nvSpPr>
          <p:spPr>
            <a:xfrm>
              <a:off x="7667640" y="43657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92" name="WordArt 645"/>
            <p:cNvSpPr txBox="1"/>
            <p:nvPr/>
          </p:nvSpPr>
          <p:spPr>
            <a:xfrm>
              <a:off x="7667640" y="5013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93" name="WordArt 646"/>
            <p:cNvSpPr txBox="1"/>
            <p:nvPr/>
          </p:nvSpPr>
          <p:spPr>
            <a:xfrm>
              <a:off x="7667640" y="56008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94" name="WordArt 647"/>
            <p:cNvSpPr txBox="1"/>
            <p:nvPr/>
          </p:nvSpPr>
          <p:spPr>
            <a:xfrm>
              <a:off x="1332000" y="2492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5" name="WordArt 648"/>
            <p:cNvSpPr txBox="1"/>
            <p:nvPr/>
          </p:nvSpPr>
          <p:spPr>
            <a:xfrm>
              <a:off x="1332000" y="306864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6" name="WordArt 649"/>
            <p:cNvSpPr txBox="1"/>
            <p:nvPr/>
          </p:nvSpPr>
          <p:spPr>
            <a:xfrm>
              <a:off x="1332000" y="3716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7" name="WordArt 650"/>
            <p:cNvSpPr txBox="1"/>
            <p:nvPr/>
          </p:nvSpPr>
          <p:spPr>
            <a:xfrm>
              <a:off x="1332000" y="429264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8" name="WordArt 651"/>
            <p:cNvSpPr txBox="1"/>
            <p:nvPr/>
          </p:nvSpPr>
          <p:spPr>
            <a:xfrm>
              <a:off x="1332000" y="4940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9" name="WordArt 652"/>
            <p:cNvSpPr txBox="1"/>
            <p:nvPr/>
          </p:nvSpPr>
          <p:spPr>
            <a:xfrm>
              <a:off x="1332000" y="551664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600" name="矩形 74"/>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602" name="Group 147"/>
          <p:cNvGrpSpPr/>
          <p:nvPr/>
        </p:nvGrpSpPr>
        <p:grpSpPr>
          <a:xfrm>
            <a:off x="971640" y="1413000"/>
            <a:ext cx="7092360" cy="5184360"/>
            <a:chOff x="971640" y="1413000"/>
            <a:chExt cx="7092360" cy="5184360"/>
          </a:xfrm>
        </p:grpSpPr>
        <p:sp>
          <p:nvSpPr>
            <p:cNvPr id="603" name="Line 148"/>
            <p:cNvSpPr/>
            <p:nvPr/>
          </p:nvSpPr>
          <p:spPr>
            <a:xfrm>
              <a:off x="5364000" y="2889360"/>
              <a:ext cx="1080" cy="610920"/>
            </a:xfrm>
            <a:prstGeom prst="line">
              <a:avLst/>
            </a:prstGeom>
            <a:ln w="1904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4" name="Line 149"/>
            <p:cNvSpPr/>
            <p:nvPr/>
          </p:nvSpPr>
          <p:spPr>
            <a:xfrm>
              <a:off x="3671640" y="2889360"/>
              <a:ext cx="1440" cy="610920"/>
            </a:xfrm>
            <a:prstGeom prst="line">
              <a:avLst/>
            </a:prstGeom>
            <a:ln w="1904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5" name="Freeform 150"/>
            <p:cNvSpPr/>
            <p:nvPr/>
          </p:nvSpPr>
          <p:spPr>
            <a:xfrm flipH="1">
              <a:off x="6120360" y="2889360"/>
              <a:ext cx="934920" cy="1763640"/>
            </a:xfrm>
            <a:custGeom>
              <a:avLst/>
              <a:gdLst>
                <a:gd name="textAreaLeft" fmla="*/ -360 w 934920"/>
                <a:gd name="textAreaRight" fmla="*/ 934920 w 93492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6" name="Freeform 151"/>
            <p:cNvSpPr/>
            <p:nvPr/>
          </p:nvSpPr>
          <p:spPr>
            <a:xfrm>
              <a:off x="1979280" y="2889360"/>
              <a:ext cx="900000" cy="1763640"/>
            </a:xfrm>
            <a:custGeom>
              <a:avLst/>
              <a:gdLst>
                <a:gd name="textAreaLeft" fmla="*/ 0 w 900000"/>
                <a:gd name="textAreaRight" fmla="*/ 900360 w 90000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7" name="AutoShape 152"/>
            <p:cNvSpPr/>
            <p:nvPr/>
          </p:nvSpPr>
          <p:spPr>
            <a:xfrm>
              <a:off x="971640" y="2671920"/>
              <a:ext cx="201600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8" name="AutoShape 153"/>
            <p:cNvSpPr/>
            <p:nvPr/>
          </p:nvSpPr>
          <p:spPr>
            <a:xfrm>
              <a:off x="1223640" y="1413000"/>
              <a:ext cx="1510920" cy="147456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9" name="AutoShape 154"/>
            <p:cNvSpPr/>
            <p:nvPr/>
          </p:nvSpPr>
          <p:spPr>
            <a:xfrm>
              <a:off x="1295280" y="1484280"/>
              <a:ext cx="136800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0" name="AutoShape 155"/>
            <p:cNvSpPr/>
            <p:nvPr/>
          </p:nvSpPr>
          <p:spPr>
            <a:xfrm>
              <a:off x="2663640" y="2671920"/>
              <a:ext cx="201564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1" name="AutoShape 156"/>
            <p:cNvSpPr/>
            <p:nvPr/>
          </p:nvSpPr>
          <p:spPr>
            <a:xfrm>
              <a:off x="2916000" y="1413000"/>
              <a:ext cx="1510920" cy="147456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2" name="AutoShape 157"/>
            <p:cNvSpPr/>
            <p:nvPr/>
          </p:nvSpPr>
          <p:spPr>
            <a:xfrm>
              <a:off x="2987640" y="1484280"/>
              <a:ext cx="136800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3" name="AutoShape 158"/>
            <p:cNvSpPr/>
            <p:nvPr/>
          </p:nvSpPr>
          <p:spPr>
            <a:xfrm>
              <a:off x="4356000" y="2671920"/>
              <a:ext cx="201564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4" name="AutoShape 159"/>
            <p:cNvSpPr/>
            <p:nvPr/>
          </p:nvSpPr>
          <p:spPr>
            <a:xfrm>
              <a:off x="4608360" y="1413000"/>
              <a:ext cx="1510920" cy="147456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5" name="AutoShape 160"/>
            <p:cNvSpPr/>
            <p:nvPr/>
          </p:nvSpPr>
          <p:spPr>
            <a:xfrm>
              <a:off x="4679640" y="1484280"/>
              <a:ext cx="136800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6" name="AutoShape 161"/>
            <p:cNvSpPr/>
            <p:nvPr/>
          </p:nvSpPr>
          <p:spPr>
            <a:xfrm>
              <a:off x="6048000" y="2671920"/>
              <a:ext cx="201600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7" name="AutoShape 162"/>
            <p:cNvSpPr/>
            <p:nvPr/>
          </p:nvSpPr>
          <p:spPr>
            <a:xfrm>
              <a:off x="6300720" y="1413000"/>
              <a:ext cx="1510920" cy="147456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8" name="AutoShape 163"/>
            <p:cNvSpPr/>
            <p:nvPr/>
          </p:nvSpPr>
          <p:spPr>
            <a:xfrm>
              <a:off x="6372000" y="1484280"/>
              <a:ext cx="136800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19" name="Group 164"/>
            <p:cNvGrpSpPr/>
            <p:nvPr/>
          </p:nvGrpSpPr>
          <p:grpSpPr>
            <a:xfrm>
              <a:off x="1404720" y="1700280"/>
              <a:ext cx="1155240" cy="420120"/>
              <a:chOff x="1404720" y="1700280"/>
              <a:chExt cx="1155240" cy="420120"/>
            </a:xfrm>
          </p:grpSpPr>
          <p:sp>
            <p:nvSpPr>
              <p:cNvPr id="620" name="WordArt 165"/>
              <p:cNvSpPr txBox="1"/>
              <p:nvPr/>
            </p:nvSpPr>
            <p:spPr>
              <a:xfrm>
                <a:off x="1551960" y="17002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1" name="WordArt 166"/>
              <p:cNvSpPr txBox="1"/>
              <p:nvPr/>
            </p:nvSpPr>
            <p:spPr>
              <a:xfrm>
                <a:off x="1404720" y="19872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2" name="Group 167"/>
            <p:cNvGrpSpPr/>
            <p:nvPr/>
          </p:nvGrpSpPr>
          <p:grpSpPr>
            <a:xfrm>
              <a:off x="3132000" y="1700280"/>
              <a:ext cx="1155240" cy="420120"/>
              <a:chOff x="3132000" y="1700280"/>
              <a:chExt cx="1155240" cy="420120"/>
            </a:xfrm>
          </p:grpSpPr>
          <p:sp>
            <p:nvSpPr>
              <p:cNvPr id="623" name="WordArt 168"/>
              <p:cNvSpPr txBox="1"/>
              <p:nvPr/>
            </p:nvSpPr>
            <p:spPr>
              <a:xfrm>
                <a:off x="3279240" y="17002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4" name="WordArt 169"/>
              <p:cNvSpPr txBox="1"/>
              <p:nvPr/>
            </p:nvSpPr>
            <p:spPr>
              <a:xfrm>
                <a:off x="3132000" y="19872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5" name="Group 170"/>
            <p:cNvGrpSpPr/>
            <p:nvPr/>
          </p:nvGrpSpPr>
          <p:grpSpPr>
            <a:xfrm>
              <a:off x="4787640" y="1700280"/>
              <a:ext cx="1155240" cy="420120"/>
              <a:chOff x="4787640" y="1700280"/>
              <a:chExt cx="1155240" cy="420120"/>
            </a:xfrm>
          </p:grpSpPr>
          <p:sp>
            <p:nvSpPr>
              <p:cNvPr id="626" name="WordArt 171"/>
              <p:cNvSpPr txBox="1"/>
              <p:nvPr/>
            </p:nvSpPr>
            <p:spPr>
              <a:xfrm>
                <a:off x="4934880" y="17002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7" name="WordArt 172"/>
              <p:cNvSpPr txBox="1"/>
              <p:nvPr/>
            </p:nvSpPr>
            <p:spPr>
              <a:xfrm>
                <a:off x="4787640" y="19872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8" name="Group 173"/>
            <p:cNvGrpSpPr/>
            <p:nvPr/>
          </p:nvGrpSpPr>
          <p:grpSpPr>
            <a:xfrm>
              <a:off x="6516360" y="1700280"/>
              <a:ext cx="1155600" cy="420120"/>
              <a:chOff x="6516360" y="1700280"/>
              <a:chExt cx="1155600" cy="420120"/>
            </a:xfrm>
          </p:grpSpPr>
          <p:sp>
            <p:nvSpPr>
              <p:cNvPr id="629" name="WordArt 174"/>
              <p:cNvSpPr txBox="1"/>
              <p:nvPr/>
            </p:nvSpPr>
            <p:spPr>
              <a:xfrm>
                <a:off x="6663960" y="17002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0" name="WordArt 175"/>
              <p:cNvSpPr txBox="1"/>
              <p:nvPr/>
            </p:nvSpPr>
            <p:spPr>
              <a:xfrm>
                <a:off x="6516360" y="19872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31" name="WordArt 176"/>
            <p:cNvSpPr txBox="1"/>
            <p:nvPr/>
          </p:nvSpPr>
          <p:spPr>
            <a:xfrm>
              <a:off x="1476000" y="256392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32" name="WordArt 177"/>
            <p:cNvSpPr txBox="1"/>
            <p:nvPr/>
          </p:nvSpPr>
          <p:spPr>
            <a:xfrm>
              <a:off x="3205080" y="2563920"/>
              <a:ext cx="10058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33" name="WordArt 178"/>
            <p:cNvSpPr txBox="1"/>
            <p:nvPr/>
          </p:nvSpPr>
          <p:spPr>
            <a:xfrm>
              <a:off x="4860720" y="256392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34" name="WordArt 179"/>
            <p:cNvSpPr txBox="1"/>
            <p:nvPr/>
          </p:nvSpPr>
          <p:spPr>
            <a:xfrm>
              <a:off x="6588000" y="256392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nvGrpSpPr>
            <p:cNvPr id="635" name="Group 180"/>
            <p:cNvGrpSpPr/>
            <p:nvPr/>
          </p:nvGrpSpPr>
          <p:grpSpPr>
            <a:xfrm>
              <a:off x="3105000" y="3359160"/>
              <a:ext cx="2816640" cy="3238200"/>
              <a:chOff x="3105000" y="3359160"/>
              <a:chExt cx="2816640" cy="3238200"/>
            </a:xfrm>
          </p:grpSpPr>
          <p:sp>
            <p:nvSpPr>
              <p:cNvPr id="636" name="Oval 181"/>
              <p:cNvSpPr/>
              <p:nvPr/>
            </p:nvSpPr>
            <p:spPr>
              <a:xfrm>
                <a:off x="3105000" y="3359160"/>
                <a:ext cx="2790360" cy="2790720"/>
              </a:xfrm>
              <a:prstGeom prst="ellipse">
                <a:avLst/>
              </a:prstGeom>
              <a:gradFill rotWithShape="0">
                <a:gsLst>
                  <a:gs pos="0">
                    <a:srgbClr val="2c5f76"/>
                  </a:gs>
                  <a:gs pos="100000">
                    <a:srgbClr val="2c5f76">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37" name="Group 182"/>
              <p:cNvGrpSpPr/>
              <p:nvPr/>
            </p:nvGrpSpPr>
            <p:grpSpPr>
              <a:xfrm>
                <a:off x="3131640" y="3359160"/>
                <a:ext cx="2790000" cy="3238200"/>
                <a:chOff x="3131640" y="3359160"/>
                <a:chExt cx="2790000" cy="3238200"/>
              </a:xfrm>
            </p:grpSpPr>
            <p:sp>
              <p:nvSpPr>
                <p:cNvPr id="638" name="Oval 183"/>
                <p:cNvSpPr/>
                <p:nvPr/>
              </p:nvSpPr>
              <p:spPr>
                <a:xfrm>
                  <a:off x="4089960" y="3400920"/>
                  <a:ext cx="738000" cy="7394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9" name="Oval 184"/>
                <p:cNvSpPr/>
                <p:nvPr/>
              </p:nvSpPr>
              <p:spPr>
                <a:xfrm>
                  <a:off x="3155400" y="5691240"/>
                  <a:ext cx="2716560" cy="90612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40" name="Picture 185" descr="그림1"/>
                <p:cNvPicPr/>
                <p:nvPr/>
              </p:nvPicPr>
              <p:blipFill>
                <a:blip r:embed="rId1"/>
                <a:stretch/>
              </p:blipFill>
              <p:spPr>
                <a:xfrm>
                  <a:off x="3131640" y="3359160"/>
                  <a:ext cx="2790000" cy="2790360"/>
                </a:xfrm>
                <a:prstGeom prst="rect">
                  <a:avLst/>
                </a:prstGeom>
                <a:ln w="0">
                  <a:noFill/>
                </a:ln>
              </p:spPr>
            </p:pic>
          </p:grpSp>
          <p:grpSp>
            <p:nvGrpSpPr>
              <p:cNvPr id="641" name="Group 186"/>
              <p:cNvGrpSpPr/>
              <p:nvPr/>
            </p:nvGrpSpPr>
            <p:grpSpPr>
              <a:xfrm>
                <a:off x="3492000" y="4579920"/>
                <a:ext cx="2088720" cy="431280"/>
                <a:chOff x="3492000" y="4579920"/>
                <a:chExt cx="2088720" cy="431280"/>
              </a:xfrm>
            </p:grpSpPr>
            <p:sp>
              <p:nvSpPr>
                <p:cNvPr id="642" name="WordArt 187"/>
                <p:cNvSpPr txBox="1"/>
                <p:nvPr/>
              </p:nvSpPr>
              <p:spPr>
                <a:xfrm>
                  <a:off x="3636000" y="4579920"/>
                  <a:ext cx="17283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43" name="WordArt 188"/>
                <p:cNvSpPr txBox="1"/>
                <p:nvPr/>
              </p:nvSpPr>
              <p:spPr>
                <a:xfrm>
                  <a:off x="3492000" y="4878000"/>
                  <a:ext cx="2088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grpSp>
      <p:sp>
        <p:nvSpPr>
          <p:cNvPr id="644" name="矩形 44"/>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646" name="Group 402"/>
          <p:cNvGrpSpPr/>
          <p:nvPr/>
        </p:nvGrpSpPr>
        <p:grpSpPr>
          <a:xfrm>
            <a:off x="324000" y="1268280"/>
            <a:ext cx="8605800" cy="4997520"/>
            <a:chOff x="324000" y="1268280"/>
            <a:chExt cx="8605800" cy="4997520"/>
          </a:xfrm>
        </p:grpSpPr>
        <p:sp>
          <p:nvSpPr>
            <p:cNvPr id="647" name="AutoShape 403"/>
            <p:cNvSpPr/>
            <p:nvPr/>
          </p:nvSpPr>
          <p:spPr>
            <a:xfrm>
              <a:off x="324000" y="3668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8" name="AutoShape 404"/>
            <p:cNvSpPr/>
            <p:nvPr/>
          </p:nvSpPr>
          <p:spPr>
            <a:xfrm>
              <a:off x="2038320" y="1697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9" name="AutoShape 405"/>
            <p:cNvSpPr/>
            <p:nvPr/>
          </p:nvSpPr>
          <p:spPr>
            <a:xfrm>
              <a:off x="2324160" y="1268280"/>
              <a:ext cx="214452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0" name="AutoShape 406"/>
            <p:cNvSpPr/>
            <p:nvPr/>
          </p:nvSpPr>
          <p:spPr>
            <a:xfrm>
              <a:off x="2421000" y="1358640"/>
              <a:ext cx="1954080" cy="495360"/>
            </a:xfrm>
            <a:prstGeom prst="roundRect">
              <a:avLst>
                <a:gd name="adj" fmla="val 50000"/>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1" name="AutoShape 407"/>
            <p:cNvSpPr/>
            <p:nvPr/>
          </p:nvSpPr>
          <p:spPr>
            <a:xfrm>
              <a:off x="4513320" y="1697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2" name="AutoShape 408"/>
            <p:cNvSpPr/>
            <p:nvPr/>
          </p:nvSpPr>
          <p:spPr>
            <a:xfrm>
              <a:off x="4657680" y="1268280"/>
              <a:ext cx="209232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3" name="AutoShape 409"/>
            <p:cNvSpPr/>
            <p:nvPr/>
          </p:nvSpPr>
          <p:spPr>
            <a:xfrm>
              <a:off x="4753080" y="1358640"/>
              <a:ext cx="1903320" cy="495360"/>
            </a:xfrm>
            <a:prstGeom prst="roundRect">
              <a:avLst>
                <a:gd name="adj" fmla="val 50000"/>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4" name="Oval 410"/>
            <p:cNvSpPr/>
            <p:nvPr/>
          </p:nvSpPr>
          <p:spPr>
            <a:xfrm>
              <a:off x="3132000" y="4491000"/>
              <a:ext cx="2820960" cy="11541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5" name="Oval 411"/>
            <p:cNvSpPr/>
            <p:nvPr/>
          </p:nvSpPr>
          <p:spPr>
            <a:xfrm>
              <a:off x="3132000" y="2265120"/>
              <a:ext cx="2803680" cy="2818080"/>
            </a:xfrm>
            <a:prstGeom prst="ellipse">
              <a:avLst/>
            </a:prstGeom>
            <a:gradFill rotWithShape="0">
              <a:gsLst>
                <a:gs pos="0">
                  <a:srgbClr val="60a5c8">
                    <a:alpha val="65098"/>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6" name="Oval 412"/>
            <p:cNvSpPr/>
            <p:nvPr/>
          </p:nvSpPr>
          <p:spPr>
            <a:xfrm>
              <a:off x="4276800" y="229716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7" name="AutoShape 413"/>
            <p:cNvSpPr/>
            <p:nvPr/>
          </p:nvSpPr>
          <p:spPr>
            <a:xfrm>
              <a:off x="2038320" y="57704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8" name="AutoShape 414"/>
            <p:cNvSpPr/>
            <p:nvPr/>
          </p:nvSpPr>
          <p:spPr>
            <a:xfrm>
              <a:off x="2324160" y="5341680"/>
              <a:ext cx="2144520" cy="6829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9" name="AutoShape 415"/>
            <p:cNvSpPr/>
            <p:nvPr/>
          </p:nvSpPr>
          <p:spPr>
            <a:xfrm>
              <a:off x="2421000" y="5432400"/>
              <a:ext cx="1954080" cy="495360"/>
            </a:xfrm>
            <a:prstGeom prst="roundRect">
              <a:avLst>
                <a:gd name="adj" fmla="val 50000"/>
              </a:avLst>
            </a:prstGeom>
            <a:gradFill rotWithShape="0">
              <a:gsLst>
                <a:gs pos="0">
                  <a:srgbClr val="422e5f"/>
                </a:gs>
                <a:gs pos="100000">
                  <a:srgbClr val="8f64ce">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0" name="AutoShape 416"/>
            <p:cNvSpPr/>
            <p:nvPr/>
          </p:nvSpPr>
          <p:spPr>
            <a:xfrm>
              <a:off x="4513320" y="57704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1" name="AutoShape 417"/>
            <p:cNvSpPr/>
            <p:nvPr/>
          </p:nvSpPr>
          <p:spPr>
            <a:xfrm>
              <a:off x="4657680" y="5341680"/>
              <a:ext cx="2092320" cy="6829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2" name="AutoShape 418"/>
            <p:cNvSpPr/>
            <p:nvPr/>
          </p:nvSpPr>
          <p:spPr>
            <a:xfrm>
              <a:off x="4753080" y="5432400"/>
              <a:ext cx="1903320" cy="495360"/>
            </a:xfrm>
            <a:prstGeom prst="roundRect">
              <a:avLst>
                <a:gd name="adj" fmla="val 50000"/>
              </a:avLst>
            </a:prstGeom>
            <a:gradFill rotWithShape="0">
              <a:gsLst>
                <a:gs pos="0">
                  <a:srgbClr val="422e5f"/>
                </a:gs>
                <a:gs pos="100000">
                  <a:srgbClr val="8f64ce">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3" name="AutoShape 419"/>
            <p:cNvSpPr/>
            <p:nvPr/>
          </p:nvSpPr>
          <p:spPr>
            <a:xfrm>
              <a:off x="574560" y="3240000"/>
              <a:ext cx="214488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4" name="AutoShape 420"/>
            <p:cNvSpPr/>
            <p:nvPr/>
          </p:nvSpPr>
          <p:spPr>
            <a:xfrm>
              <a:off x="671400" y="3330360"/>
              <a:ext cx="1954440" cy="495360"/>
            </a:xfrm>
            <a:prstGeom prst="roundRect">
              <a:avLst>
                <a:gd name="adj" fmla="val 50000"/>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5" name="AutoShape 421"/>
            <p:cNvSpPr/>
            <p:nvPr/>
          </p:nvSpPr>
          <p:spPr>
            <a:xfrm>
              <a:off x="6264360" y="3668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6" name="AutoShape 422"/>
            <p:cNvSpPr/>
            <p:nvPr/>
          </p:nvSpPr>
          <p:spPr>
            <a:xfrm>
              <a:off x="6408720" y="3240000"/>
              <a:ext cx="209232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7" name="AutoShape 423"/>
            <p:cNvSpPr/>
            <p:nvPr/>
          </p:nvSpPr>
          <p:spPr>
            <a:xfrm>
              <a:off x="6504120" y="3330360"/>
              <a:ext cx="1903320" cy="495360"/>
            </a:xfrm>
            <a:prstGeom prst="roundRect">
              <a:avLst>
                <a:gd name="adj" fmla="val 50000"/>
              </a:avLst>
            </a:prstGeom>
            <a:gradFill rotWithShape="0">
              <a:gsLst>
                <a:gs pos="0">
                  <a:srgbClr val="422e5f"/>
                </a:gs>
                <a:gs pos="100000">
                  <a:srgbClr val="8f64ce">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8" name="AutoShape 424"/>
            <p:cNvSpPr/>
            <p:nvPr/>
          </p:nvSpPr>
          <p:spPr>
            <a:xfrm rot="10800000">
              <a:off x="2687400" y="3185640"/>
              <a:ext cx="718920" cy="863640"/>
            </a:xfrm>
            <a:prstGeom prst="rightArrow">
              <a:avLst>
                <a:gd name="adj1" fmla="val 50000"/>
                <a:gd name="adj2" fmla="val 46139"/>
              </a:avLst>
            </a:prstGeom>
            <a:gradFill rotWithShape="0">
              <a:gsLst>
                <a:gs pos="0">
                  <a:srgbClr val="767676">
                    <a:alpha val="0"/>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9" name="AutoShape 425"/>
            <p:cNvSpPr/>
            <p:nvPr/>
          </p:nvSpPr>
          <p:spPr>
            <a:xfrm>
              <a:off x="5638680" y="3186000"/>
              <a:ext cx="719280" cy="863640"/>
            </a:xfrm>
            <a:prstGeom prst="rightArrow">
              <a:avLst>
                <a:gd name="adj1" fmla="val 50000"/>
                <a:gd name="adj2" fmla="val 46139"/>
              </a:avLst>
            </a:prstGeom>
            <a:gradFill rotWithShape="0">
              <a:gsLst>
                <a:gs pos="0">
                  <a:srgbClr val="767676">
                    <a:alpha val="0"/>
                  </a:srgbClr>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0" name="WordArt 426"/>
            <p:cNvSpPr txBox="1"/>
            <p:nvPr/>
          </p:nvSpPr>
          <p:spPr>
            <a:xfrm>
              <a:off x="887400" y="3473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1" name="WordArt 427"/>
            <p:cNvSpPr txBox="1"/>
            <p:nvPr/>
          </p:nvSpPr>
          <p:spPr>
            <a:xfrm>
              <a:off x="2614680" y="56181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2" name="WordArt 428"/>
            <p:cNvSpPr txBox="1"/>
            <p:nvPr/>
          </p:nvSpPr>
          <p:spPr>
            <a:xfrm>
              <a:off x="4919760" y="56181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3" name="WordArt 429"/>
            <p:cNvSpPr txBox="1"/>
            <p:nvPr/>
          </p:nvSpPr>
          <p:spPr>
            <a:xfrm>
              <a:off x="2614680" y="1484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4" name="WordArt 430"/>
            <p:cNvSpPr txBox="1"/>
            <p:nvPr/>
          </p:nvSpPr>
          <p:spPr>
            <a:xfrm>
              <a:off x="4919760" y="1484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5" name="WordArt 431"/>
            <p:cNvSpPr txBox="1"/>
            <p:nvPr/>
          </p:nvSpPr>
          <p:spPr>
            <a:xfrm>
              <a:off x="6647040" y="3473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676" name="Group 432"/>
            <p:cNvGrpSpPr/>
            <p:nvPr/>
          </p:nvGrpSpPr>
          <p:grpSpPr>
            <a:xfrm>
              <a:off x="3695760" y="3114720"/>
              <a:ext cx="1655280" cy="1089720"/>
              <a:chOff x="3695760" y="3114720"/>
              <a:chExt cx="1655280" cy="1089720"/>
            </a:xfrm>
          </p:grpSpPr>
          <p:sp>
            <p:nvSpPr>
              <p:cNvPr id="677" name="WordArt 433"/>
              <p:cNvSpPr txBox="1"/>
              <p:nvPr/>
            </p:nvSpPr>
            <p:spPr>
              <a:xfrm>
                <a:off x="3907080" y="311472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8" name="WordArt 434"/>
              <p:cNvSpPr txBox="1"/>
              <p:nvPr/>
            </p:nvSpPr>
            <p:spPr>
              <a:xfrm>
                <a:off x="3695760" y="3584880"/>
                <a:ext cx="1655280" cy="61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679" name="Freeform 435"/>
            <p:cNvSpPr/>
            <p:nvPr/>
          </p:nvSpPr>
          <p:spPr>
            <a:xfrm rot="1800000">
              <a:off x="4716360" y="204948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0" name="Freeform 436"/>
            <p:cNvSpPr/>
            <p:nvPr/>
          </p:nvSpPr>
          <p:spPr>
            <a:xfrm rot="20700000">
              <a:off x="3348000" y="204948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1" name="Freeform 437"/>
            <p:cNvSpPr/>
            <p:nvPr/>
          </p:nvSpPr>
          <p:spPr>
            <a:xfrm rot="9000000">
              <a:off x="5002920" y="449676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2" name="Freeform 438"/>
            <p:cNvSpPr/>
            <p:nvPr/>
          </p:nvSpPr>
          <p:spPr>
            <a:xfrm rot="12600000">
              <a:off x="3002760" y="44964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683" name="矩形 39"/>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685" name="Group 396"/>
          <p:cNvGrpSpPr/>
          <p:nvPr/>
        </p:nvGrpSpPr>
        <p:grpSpPr>
          <a:xfrm>
            <a:off x="745560" y="1019880"/>
            <a:ext cx="7314120" cy="5175720"/>
            <a:chOff x="745560" y="1019880"/>
            <a:chExt cx="7314120" cy="5175720"/>
          </a:xfrm>
        </p:grpSpPr>
        <p:grpSp>
          <p:nvGrpSpPr>
            <p:cNvPr id="686" name="Group 397"/>
            <p:cNvGrpSpPr/>
            <p:nvPr/>
          </p:nvGrpSpPr>
          <p:grpSpPr>
            <a:xfrm>
              <a:off x="745560" y="1572120"/>
              <a:ext cx="7314120" cy="4623480"/>
              <a:chOff x="745560" y="1572120"/>
              <a:chExt cx="7314120" cy="4623480"/>
            </a:xfrm>
          </p:grpSpPr>
          <p:sp>
            <p:nvSpPr>
              <p:cNvPr id="687" name="Freeform 398"/>
              <p:cNvSpPr/>
              <p:nvPr/>
            </p:nvSpPr>
            <p:spPr>
              <a:xfrm rot="21274800">
                <a:off x="4163400" y="16902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c6d5e8"/>
                  </a:gs>
                  <a:gs pos="50000">
                    <a:srgbClr val="ffffff"/>
                  </a:gs>
                  <a:gs pos="100000">
                    <a:srgbClr val="c6d5e8"/>
                  </a:gs>
                </a:gsLst>
                <a:lin ang="5724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688" name="Group 399"/>
              <p:cNvGrpSpPr/>
              <p:nvPr/>
            </p:nvGrpSpPr>
            <p:grpSpPr>
              <a:xfrm>
                <a:off x="745560" y="1605240"/>
                <a:ext cx="3736800" cy="3737520"/>
                <a:chOff x="745560" y="1605240"/>
                <a:chExt cx="3736800" cy="3737520"/>
              </a:xfrm>
            </p:grpSpPr>
            <p:sp>
              <p:nvSpPr>
                <p:cNvPr id="689" name="Freeform 400"/>
                <p:cNvSpPr/>
                <p:nvPr/>
              </p:nvSpPr>
              <p:spPr>
                <a:xfrm rot="21274800">
                  <a:off x="899640" y="1759320"/>
                  <a:ext cx="342828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c6d5e8"/>
                    </a:gs>
                    <a:gs pos="50000">
                      <a:srgbClr val="ffffff"/>
                    </a:gs>
                    <a:gs pos="100000">
                      <a:srgbClr val="c6d5e8"/>
                    </a:gs>
                  </a:gsLst>
                  <a:lin ang="5724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0" name="Oval 401"/>
                <p:cNvSpPr/>
                <p:nvPr/>
              </p:nvSpPr>
              <p:spPr>
                <a:xfrm rot="21274800">
                  <a:off x="1266480" y="2126160"/>
                  <a:ext cx="2696040" cy="2693520"/>
                </a:xfrm>
                <a:prstGeom prst="ellipse">
                  <a:avLst/>
                </a:prstGeom>
                <a:gradFill rotWithShape="0">
                  <a:gsLst>
                    <a:gs pos="0">
                      <a:srgbClr val="ffffff"/>
                    </a:gs>
                    <a:gs pos="100000">
                      <a:srgbClr val="38c8c5"/>
                    </a:gs>
                  </a:gsLst>
                  <a:lin ang="5724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91" name="Oval 402"/>
              <p:cNvSpPr/>
              <p:nvPr/>
            </p:nvSpPr>
            <p:spPr>
              <a:xfrm rot="21274800">
                <a:off x="4576680" y="2104920"/>
                <a:ext cx="1801440" cy="1802880"/>
              </a:xfrm>
              <a:prstGeom prst="ellipse">
                <a:avLst/>
              </a:prstGeom>
              <a:gradFill rotWithShape="0">
                <a:gsLst>
                  <a:gs pos="0">
                    <a:srgbClr val="ffffff"/>
                  </a:gs>
                  <a:gs pos="100000">
                    <a:srgbClr val="5876a8"/>
                  </a:gs>
                </a:gsLst>
                <a:lin ang="5724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92" name="Group 403"/>
              <p:cNvGrpSpPr/>
              <p:nvPr/>
            </p:nvGrpSpPr>
            <p:grpSpPr>
              <a:xfrm>
                <a:off x="5549400" y="3684240"/>
                <a:ext cx="2510280" cy="2511360"/>
                <a:chOff x="5549400" y="3684240"/>
                <a:chExt cx="2510280" cy="2511360"/>
              </a:xfrm>
            </p:grpSpPr>
            <p:sp>
              <p:nvSpPr>
                <p:cNvPr id="693" name="Freeform 404"/>
                <p:cNvSpPr/>
                <p:nvPr/>
              </p:nvSpPr>
              <p:spPr>
                <a:xfrm rot="21274800">
                  <a:off x="5653080" y="3787560"/>
                  <a:ext cx="2302920" cy="23043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c6d5e8"/>
                    </a:gs>
                    <a:gs pos="50000">
                      <a:srgbClr val="ffffff"/>
                    </a:gs>
                    <a:gs pos="100000">
                      <a:srgbClr val="c6d5e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4" name="Oval 405"/>
                <p:cNvSpPr/>
                <p:nvPr/>
              </p:nvSpPr>
              <p:spPr>
                <a:xfrm rot="21274800">
                  <a:off x="6014880" y="4151160"/>
                  <a:ext cx="1577520" cy="1577520"/>
                </a:xfrm>
                <a:prstGeom prst="ellipse">
                  <a:avLst/>
                </a:prstGeom>
                <a:gradFill rotWithShape="0">
                  <a:gsLst>
                    <a:gs pos="0">
                      <a:srgbClr val="ffffff"/>
                    </a:gs>
                    <a:gs pos="100000">
                      <a:srgbClr val="a183b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95" name="Arc 406"/>
            <p:cNvSpPr/>
            <p:nvPr/>
          </p:nvSpPr>
          <p:spPr>
            <a:xfrm rot="7501200">
              <a:off x="410148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96" name="Arc 407"/>
            <p:cNvSpPr/>
            <p:nvPr/>
          </p:nvSpPr>
          <p:spPr>
            <a:xfrm rot="18746400">
              <a:off x="351360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97" name="Arc 408"/>
            <p:cNvSpPr/>
            <p:nvPr/>
          </p:nvSpPr>
          <p:spPr>
            <a:xfrm rot="256800">
              <a:off x="697860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698" name="Group 409"/>
            <p:cNvGrpSpPr/>
            <p:nvPr/>
          </p:nvGrpSpPr>
          <p:grpSpPr>
            <a:xfrm>
              <a:off x="2124000" y="3025800"/>
              <a:ext cx="1008000" cy="901440"/>
              <a:chOff x="2124000" y="3025800"/>
              <a:chExt cx="1008000" cy="901440"/>
            </a:xfrm>
          </p:grpSpPr>
          <p:sp>
            <p:nvSpPr>
              <p:cNvPr id="699" name="WordArt 410"/>
              <p:cNvSpPr txBox="1"/>
              <p:nvPr/>
            </p:nvSpPr>
            <p:spPr>
              <a:xfrm>
                <a:off x="2124000" y="30258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700" name="WordArt 411"/>
              <p:cNvSpPr txBox="1"/>
              <p:nvPr/>
            </p:nvSpPr>
            <p:spPr>
              <a:xfrm>
                <a:off x="2124000" y="34146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CONTENTS</a:t>
                </a:r>
                <a:endParaRPr b="1" lang="en-US" sz="800" spc="1" strike="noStrike">
                  <a:ln w="0">
                    <a:noFill/>
                  </a:ln>
                  <a:solidFill>
                    <a:srgbClr val="000000">
                      <a:alpha val="75000"/>
                    </a:srgbClr>
                  </a:solidFill>
                  <a:latin typeface="Arial"/>
                  <a:ea typeface="Arial"/>
                </a:endParaRPr>
              </a:p>
            </p:txBody>
          </p:sp>
        </p:grpSp>
        <p:grpSp>
          <p:nvGrpSpPr>
            <p:cNvPr id="701" name="Group 412"/>
            <p:cNvGrpSpPr/>
            <p:nvPr/>
          </p:nvGrpSpPr>
          <p:grpSpPr>
            <a:xfrm>
              <a:off x="5005440" y="2594160"/>
              <a:ext cx="1008000" cy="901440"/>
              <a:chOff x="5005440" y="2594160"/>
              <a:chExt cx="1008000" cy="901440"/>
            </a:xfrm>
          </p:grpSpPr>
          <p:sp>
            <p:nvSpPr>
              <p:cNvPr id="702" name="WordArt 413"/>
              <p:cNvSpPr txBox="1"/>
              <p:nvPr/>
            </p:nvSpPr>
            <p:spPr>
              <a:xfrm>
                <a:off x="500544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703" name="WordArt 414"/>
              <p:cNvSpPr txBox="1"/>
              <p:nvPr/>
            </p:nvSpPr>
            <p:spPr>
              <a:xfrm>
                <a:off x="5005440" y="298296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CONTENTS</a:t>
                </a:r>
                <a:endParaRPr b="1" lang="en-US" sz="800" spc="1" strike="noStrike">
                  <a:ln w="0">
                    <a:noFill/>
                  </a:ln>
                  <a:solidFill>
                    <a:srgbClr val="000000">
                      <a:alpha val="75000"/>
                    </a:srgbClr>
                  </a:solidFill>
                  <a:latin typeface="Arial"/>
                  <a:ea typeface="Arial"/>
                </a:endParaRPr>
              </a:p>
            </p:txBody>
          </p:sp>
        </p:grpSp>
        <p:grpSp>
          <p:nvGrpSpPr>
            <p:cNvPr id="704" name="Group 415"/>
            <p:cNvGrpSpPr/>
            <p:nvPr/>
          </p:nvGrpSpPr>
          <p:grpSpPr>
            <a:xfrm>
              <a:off x="6372360" y="4610160"/>
              <a:ext cx="792000" cy="707760"/>
              <a:chOff x="6372360" y="4610160"/>
              <a:chExt cx="792000" cy="707760"/>
            </a:xfrm>
          </p:grpSpPr>
          <p:sp>
            <p:nvSpPr>
              <p:cNvPr id="705" name="WordArt 416"/>
              <p:cNvSpPr txBox="1"/>
              <p:nvPr/>
            </p:nvSpPr>
            <p:spPr>
              <a:xfrm>
                <a:off x="6372360" y="4610160"/>
                <a:ext cx="792000" cy="23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706" name="WordArt 417"/>
              <p:cNvSpPr txBox="1"/>
              <p:nvPr/>
            </p:nvSpPr>
            <p:spPr>
              <a:xfrm>
                <a:off x="6372360" y="4915440"/>
                <a:ext cx="792000" cy="40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CONTENTS</a:t>
                </a:r>
                <a:endParaRPr b="1" lang="en-US" sz="800" spc="1" strike="noStrike">
                  <a:ln w="0">
                    <a:noFill/>
                  </a:ln>
                  <a:solidFill>
                    <a:srgbClr val="000000">
                      <a:alpha val="75000"/>
                    </a:srgbClr>
                  </a:solidFill>
                  <a:latin typeface="Arial"/>
                  <a:ea typeface="Arial"/>
                </a:endParaRPr>
              </a:p>
            </p:txBody>
          </p:sp>
        </p:grpSp>
        <p:sp>
          <p:nvSpPr>
            <p:cNvPr id="707" name="WordArt 418"/>
            <p:cNvSpPr txBox="1"/>
            <p:nvPr/>
          </p:nvSpPr>
          <p:spPr>
            <a:xfrm>
              <a:off x="450072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8" name="WordArt 419"/>
            <p:cNvSpPr txBox="1"/>
            <p:nvPr/>
          </p:nvSpPr>
          <p:spPr>
            <a:xfrm>
              <a:off x="378000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9" name="WordArt 420"/>
            <p:cNvSpPr txBox="1"/>
            <p:nvPr/>
          </p:nvSpPr>
          <p:spPr>
            <a:xfrm>
              <a:off x="7380360" y="2594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710" name="矩形 27"/>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712" name="Group 256"/>
          <p:cNvGrpSpPr/>
          <p:nvPr/>
        </p:nvGrpSpPr>
        <p:grpSpPr>
          <a:xfrm>
            <a:off x="846000" y="1557360"/>
            <a:ext cx="7488360" cy="4311720"/>
            <a:chOff x="846000" y="1557360"/>
            <a:chExt cx="7488360" cy="4311720"/>
          </a:xfrm>
        </p:grpSpPr>
        <p:sp>
          <p:nvSpPr>
            <p:cNvPr id="713" name="Line 257"/>
            <p:cNvSpPr/>
            <p:nvPr/>
          </p:nvSpPr>
          <p:spPr>
            <a:xfrm flipV="1">
              <a:off x="4606920" y="3346200"/>
              <a:ext cx="0" cy="1152360"/>
            </a:xfrm>
            <a:prstGeom prst="line">
              <a:avLst/>
            </a:prstGeom>
            <a:ln w="63360">
              <a:solidFill>
                <a:srgbClr val="2155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14" name="Freeform 258"/>
            <p:cNvSpPr/>
            <p:nvPr/>
          </p:nvSpPr>
          <p:spPr>
            <a:xfrm flipH="1">
              <a:off x="6588000" y="3346560"/>
              <a:ext cx="503280" cy="1295280"/>
            </a:xfrm>
            <a:custGeom>
              <a:avLst/>
              <a:gdLst>
                <a:gd name="textAreaLeft" fmla="*/ 360 w 503280"/>
                <a:gd name="textAreaRight" fmla="*/ 504000 w 5032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5011c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15" name="Freeform 259"/>
            <p:cNvSpPr/>
            <p:nvPr/>
          </p:nvSpPr>
          <p:spPr>
            <a:xfrm>
              <a:off x="2050920" y="3346560"/>
              <a:ext cx="505080" cy="1295280"/>
            </a:xfrm>
            <a:custGeom>
              <a:avLst/>
              <a:gdLst>
                <a:gd name="textAreaLeft" fmla="*/ 0 w 505080"/>
                <a:gd name="textAreaRight" fmla="*/ 505440 w 5050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03a9b1"/>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16" name="AutoShape 260"/>
            <p:cNvSpPr/>
            <p:nvPr/>
          </p:nvSpPr>
          <p:spPr>
            <a:xfrm>
              <a:off x="846000" y="1557360"/>
              <a:ext cx="7488360" cy="1785960"/>
            </a:xfrm>
            <a:prstGeom prst="roundRect">
              <a:avLst>
                <a:gd name="adj" fmla="val 12343"/>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7" name="AutoShape 261"/>
            <p:cNvSpPr/>
            <p:nvPr/>
          </p:nvSpPr>
          <p:spPr>
            <a:xfrm>
              <a:off x="932040" y="1641600"/>
              <a:ext cx="2382840" cy="1533600"/>
            </a:xfrm>
            <a:prstGeom prst="roundRect">
              <a:avLst>
                <a:gd name="adj" fmla="val 11417"/>
              </a:avLst>
            </a:prstGeom>
            <a:gradFill rotWithShape="0">
              <a:gsLst>
                <a:gs pos="0">
                  <a:srgbClr val="02767c"/>
                </a:gs>
                <a:gs pos="50000">
                  <a:srgbClr val="03a9b1"/>
                </a:gs>
                <a:gs pos="100000">
                  <a:srgbClr val="02767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8" name="AutoShape 262"/>
            <p:cNvSpPr/>
            <p:nvPr/>
          </p:nvSpPr>
          <p:spPr>
            <a:xfrm>
              <a:off x="3398760" y="1641600"/>
              <a:ext cx="2382840" cy="1533600"/>
            </a:xfrm>
            <a:prstGeom prst="roundRect">
              <a:avLst>
                <a:gd name="adj" fmla="val 11417"/>
              </a:avLst>
            </a:prstGeom>
            <a:gradFill rotWithShape="0">
              <a:gsLst>
                <a:gs pos="0">
                  <a:srgbClr val="114e80"/>
                </a:gs>
                <a:gs pos="50000">
                  <a:srgbClr val="1970b7"/>
                </a:gs>
                <a:gs pos="100000">
                  <a:srgbClr val="114e8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9" name="AutoShape 263"/>
            <p:cNvSpPr/>
            <p:nvPr/>
          </p:nvSpPr>
          <p:spPr>
            <a:xfrm>
              <a:off x="5867280" y="1641600"/>
              <a:ext cx="2382840" cy="1533600"/>
            </a:xfrm>
            <a:prstGeom prst="roundRect">
              <a:avLst>
                <a:gd name="adj" fmla="val 11417"/>
              </a:avLst>
            </a:prstGeom>
            <a:gradFill rotWithShape="0">
              <a:gsLst>
                <a:gs pos="0">
                  <a:srgbClr val="504274"/>
                </a:gs>
                <a:gs pos="50000">
                  <a:srgbClr val="735ea6"/>
                </a:gs>
                <a:gs pos="100000">
                  <a:srgbClr val="504274"/>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20" name="Group 264"/>
            <p:cNvGrpSpPr/>
            <p:nvPr/>
          </p:nvGrpSpPr>
          <p:grpSpPr>
            <a:xfrm>
              <a:off x="3941640" y="1917720"/>
              <a:ext cx="1368360" cy="901440"/>
              <a:chOff x="3941640" y="1917720"/>
              <a:chExt cx="1368360" cy="901440"/>
            </a:xfrm>
          </p:grpSpPr>
          <p:sp>
            <p:nvSpPr>
              <p:cNvPr id="721" name="WordArt 265"/>
              <p:cNvSpPr txBox="1"/>
              <p:nvPr/>
            </p:nvSpPr>
            <p:spPr>
              <a:xfrm>
                <a:off x="4116240" y="1917720"/>
                <a:ext cx="102276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2" name="WordArt 266"/>
              <p:cNvSpPr txBox="1"/>
              <p:nvPr/>
            </p:nvSpPr>
            <p:spPr>
              <a:xfrm>
                <a:off x="3941640" y="230652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23" name="Group 267"/>
            <p:cNvGrpSpPr/>
            <p:nvPr/>
          </p:nvGrpSpPr>
          <p:grpSpPr>
            <a:xfrm>
              <a:off x="1420920" y="1917720"/>
              <a:ext cx="1368000" cy="901440"/>
              <a:chOff x="1420920" y="1917720"/>
              <a:chExt cx="1368000" cy="901440"/>
            </a:xfrm>
          </p:grpSpPr>
          <p:sp>
            <p:nvSpPr>
              <p:cNvPr id="724" name="WordArt 268"/>
              <p:cNvSpPr txBox="1"/>
              <p:nvPr/>
            </p:nvSpPr>
            <p:spPr>
              <a:xfrm>
                <a:off x="1595520" y="19177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5" name="WordArt 269"/>
              <p:cNvSpPr txBox="1"/>
              <p:nvPr/>
            </p:nvSpPr>
            <p:spPr>
              <a:xfrm>
                <a:off x="1420920" y="2306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26" name="Group 270"/>
            <p:cNvGrpSpPr/>
            <p:nvPr/>
          </p:nvGrpSpPr>
          <p:grpSpPr>
            <a:xfrm>
              <a:off x="6389640" y="1917720"/>
              <a:ext cx="1368000" cy="901440"/>
              <a:chOff x="6389640" y="1917720"/>
              <a:chExt cx="1368000" cy="901440"/>
            </a:xfrm>
          </p:grpSpPr>
          <p:sp>
            <p:nvSpPr>
              <p:cNvPr id="727" name="WordArt 271"/>
              <p:cNvSpPr txBox="1"/>
              <p:nvPr/>
            </p:nvSpPr>
            <p:spPr>
              <a:xfrm>
                <a:off x="6564240" y="19177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8" name="WordArt 272"/>
              <p:cNvSpPr txBox="1"/>
              <p:nvPr/>
            </p:nvSpPr>
            <p:spPr>
              <a:xfrm>
                <a:off x="6389640" y="2306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29" name="Group 273"/>
            <p:cNvGrpSpPr/>
            <p:nvPr/>
          </p:nvGrpSpPr>
          <p:grpSpPr>
            <a:xfrm>
              <a:off x="2340000" y="3760920"/>
              <a:ext cx="1794960" cy="1404720"/>
              <a:chOff x="2340000" y="3760920"/>
              <a:chExt cx="1794960" cy="1404720"/>
            </a:xfrm>
          </p:grpSpPr>
          <p:sp>
            <p:nvSpPr>
              <p:cNvPr id="730" name="AutoShape 274"/>
              <p:cNvSpPr/>
              <p:nvPr/>
            </p:nvSpPr>
            <p:spPr>
              <a:xfrm rot="10800000">
                <a:off x="2340000" y="3760920"/>
                <a:ext cx="1794960" cy="1404720"/>
              </a:xfrm>
              <a:prstGeom prst="hexagon">
                <a:avLst>
                  <a:gd name="adj" fmla="val 31945"/>
                  <a:gd name="vf" fmla="val 115470"/>
                </a:avLst>
              </a:prstGeom>
              <a:gradFill rotWithShape="0">
                <a:gsLst>
                  <a:gs pos="0">
                    <a:srgbClr val="02767c"/>
                  </a:gs>
                  <a:gs pos="50000">
                    <a:srgbClr val="03a9b1"/>
                  </a:gs>
                  <a:gs pos="100000">
                    <a:srgbClr val="02767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1" name="AutoShape 275"/>
              <p:cNvSpPr/>
              <p:nvPr/>
            </p:nvSpPr>
            <p:spPr>
              <a:xfrm rot="10800000">
                <a:off x="2341800" y="3762720"/>
                <a:ext cx="1793160" cy="1402920"/>
              </a:xfrm>
              <a:prstGeom prst="hexagon">
                <a:avLst>
                  <a:gd name="adj" fmla="val 3195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32" name="Group 276"/>
            <p:cNvGrpSpPr/>
            <p:nvPr/>
          </p:nvGrpSpPr>
          <p:grpSpPr>
            <a:xfrm>
              <a:off x="5056200" y="3767400"/>
              <a:ext cx="1792080" cy="1399680"/>
              <a:chOff x="5056200" y="3767400"/>
              <a:chExt cx="1792080" cy="1399680"/>
            </a:xfrm>
          </p:grpSpPr>
          <p:sp>
            <p:nvSpPr>
              <p:cNvPr id="733" name="AutoShape 277"/>
              <p:cNvSpPr/>
              <p:nvPr/>
            </p:nvSpPr>
            <p:spPr>
              <a:xfrm rot="10800000">
                <a:off x="5056200" y="3767400"/>
                <a:ext cx="1792080" cy="1399680"/>
              </a:xfrm>
              <a:prstGeom prst="hexagon">
                <a:avLst>
                  <a:gd name="adj" fmla="val 32009"/>
                  <a:gd name="vf" fmla="val 115470"/>
                </a:avLst>
              </a:prstGeom>
              <a:gradFill rotWithShape="0">
                <a:gsLst>
                  <a:gs pos="0">
                    <a:srgbClr val="504274"/>
                  </a:gs>
                  <a:gs pos="50000">
                    <a:srgbClr val="735ea6"/>
                  </a:gs>
                  <a:gs pos="100000">
                    <a:srgbClr val="504274"/>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4" name="AutoShape 278"/>
              <p:cNvSpPr/>
              <p:nvPr/>
            </p:nvSpPr>
            <p:spPr>
              <a:xfrm rot="10800000">
                <a:off x="5056200" y="3767400"/>
                <a:ext cx="1792080" cy="1399680"/>
              </a:xfrm>
              <a:prstGeom prst="hexagon">
                <a:avLst>
                  <a:gd name="adj" fmla="val 3200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35" name="AutoShape 279"/>
            <p:cNvSpPr/>
            <p:nvPr/>
          </p:nvSpPr>
          <p:spPr>
            <a:xfrm rot="10800000">
              <a:off x="3697200" y="4462200"/>
              <a:ext cx="1797120" cy="1405080"/>
            </a:xfrm>
            <a:prstGeom prst="hexagon">
              <a:avLst>
                <a:gd name="adj" fmla="val 31975"/>
                <a:gd name="vf" fmla="val 115470"/>
              </a:avLst>
            </a:prstGeom>
            <a:gradFill rotWithShape="0">
              <a:gsLst>
                <a:gs pos="0">
                  <a:srgbClr val="114e80"/>
                </a:gs>
                <a:gs pos="50000">
                  <a:srgbClr val="1970b7"/>
                </a:gs>
                <a:gs pos="100000">
                  <a:srgbClr val="114e8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6" name="AutoShape 280"/>
            <p:cNvSpPr/>
            <p:nvPr/>
          </p:nvSpPr>
          <p:spPr>
            <a:xfrm rot="10800000">
              <a:off x="3695400" y="446580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7" name="WordArt 281"/>
            <p:cNvSpPr txBox="1"/>
            <p:nvPr/>
          </p:nvSpPr>
          <p:spPr>
            <a:xfrm>
              <a:off x="4172040" y="507528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8" name="WordArt 282"/>
            <p:cNvSpPr txBox="1"/>
            <p:nvPr/>
          </p:nvSpPr>
          <p:spPr>
            <a:xfrm>
              <a:off x="2805120" y="435456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9" name="WordArt 283"/>
            <p:cNvSpPr txBox="1"/>
            <p:nvPr/>
          </p:nvSpPr>
          <p:spPr>
            <a:xfrm>
              <a:off x="5541840" y="435456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740" name="矩形 30"/>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742" name="Group 290"/>
          <p:cNvGrpSpPr/>
          <p:nvPr/>
        </p:nvGrpSpPr>
        <p:grpSpPr>
          <a:xfrm>
            <a:off x="473400" y="1992240"/>
            <a:ext cx="8670600" cy="3668760"/>
            <a:chOff x="473400" y="1992240"/>
            <a:chExt cx="8670600" cy="3668760"/>
          </a:xfrm>
        </p:grpSpPr>
        <p:sp>
          <p:nvSpPr>
            <p:cNvPr id="743" name="Freeform 291"/>
            <p:cNvSpPr/>
            <p:nvPr/>
          </p:nvSpPr>
          <p:spPr>
            <a:xfrm flipH="1">
              <a:off x="683640" y="4363920"/>
              <a:ext cx="8459640" cy="397080"/>
            </a:xfrm>
            <a:custGeom>
              <a:avLst/>
              <a:gdLst>
                <a:gd name="textAreaLeft" fmla="*/ -360 w 8459640"/>
                <a:gd name="textAreaRight" fmla="*/ 8459640 w 8459640"/>
                <a:gd name="textAreaTop" fmla="*/ 0 h 397080"/>
                <a:gd name="textAreaBottom" fmla="*/ 397440 h 39708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4" name="Rectangle 292"/>
            <p:cNvSpPr/>
            <p:nvPr/>
          </p:nvSpPr>
          <p:spPr>
            <a:xfrm flipH="1">
              <a:off x="683640" y="4761000"/>
              <a:ext cx="8459640" cy="90000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5" name="Freeform 293"/>
            <p:cNvSpPr/>
            <p:nvPr/>
          </p:nvSpPr>
          <p:spPr>
            <a:xfrm flipH="1">
              <a:off x="1187280" y="3139920"/>
              <a:ext cx="7956720" cy="325440"/>
            </a:xfrm>
            <a:custGeom>
              <a:avLst/>
              <a:gdLst>
                <a:gd name="textAreaLeft" fmla="*/ 360 w 7956720"/>
                <a:gd name="textAreaRight" fmla="*/ 7957440 w 7956720"/>
                <a:gd name="textAreaTop" fmla="*/ 0 h 325440"/>
                <a:gd name="textAreaBottom" fmla="*/ 325800 h 32544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6" name="Rectangle 294"/>
            <p:cNvSpPr/>
            <p:nvPr/>
          </p:nvSpPr>
          <p:spPr>
            <a:xfrm flipH="1">
              <a:off x="1187280" y="3465360"/>
              <a:ext cx="7956720" cy="90180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7" name="Freeform 295"/>
            <p:cNvSpPr/>
            <p:nvPr/>
          </p:nvSpPr>
          <p:spPr>
            <a:xfrm flipH="1">
              <a:off x="1691640" y="1992240"/>
              <a:ext cx="7451640" cy="247680"/>
            </a:xfrm>
            <a:custGeom>
              <a:avLst/>
              <a:gdLst>
                <a:gd name="textAreaLeft" fmla="*/ -360 w 7451640"/>
                <a:gd name="textAreaRight" fmla="*/ 7451640 w 7451640"/>
                <a:gd name="textAreaTop" fmla="*/ 0 h 247680"/>
                <a:gd name="textAreaBottom" fmla="*/ 248040 h 24768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8" name="Rectangle 296"/>
            <p:cNvSpPr/>
            <p:nvPr/>
          </p:nvSpPr>
          <p:spPr>
            <a:xfrm flipH="1">
              <a:off x="1691640" y="2241720"/>
              <a:ext cx="7451640" cy="90000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9" name="AutoShape 297"/>
            <p:cNvSpPr/>
            <p:nvPr/>
          </p:nvSpPr>
          <p:spPr>
            <a:xfrm>
              <a:off x="755640" y="4832280"/>
              <a:ext cx="3024360" cy="755640"/>
            </a:xfrm>
            <a:prstGeom prst="roundRect">
              <a:avLst>
                <a:gd name="adj" fmla="val 14319"/>
              </a:avLst>
            </a:prstGeom>
            <a:gradFill rotWithShape="0">
              <a:gsLst>
                <a:gs pos="0">
                  <a:srgbClr val="174834"/>
                </a:gs>
                <a:gs pos="100000">
                  <a:srgbClr val="319b70">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0" name="AutoShape 298"/>
            <p:cNvSpPr/>
            <p:nvPr/>
          </p:nvSpPr>
          <p:spPr>
            <a:xfrm>
              <a:off x="1258920" y="3535200"/>
              <a:ext cx="3025800" cy="755640"/>
            </a:xfrm>
            <a:prstGeom prst="roundRect">
              <a:avLst>
                <a:gd name="adj" fmla="val 14319"/>
              </a:avLst>
            </a:prstGeom>
            <a:gradFill rotWithShape="0">
              <a:gsLst>
                <a:gs pos="0">
                  <a:srgbClr val="173847"/>
                </a:gs>
                <a:gs pos="100000">
                  <a:srgbClr val="327a9a">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1" name="AutoShape 299"/>
            <p:cNvSpPr/>
            <p:nvPr/>
          </p:nvSpPr>
          <p:spPr>
            <a:xfrm>
              <a:off x="1763640" y="2311560"/>
              <a:ext cx="3025800" cy="755640"/>
            </a:xfrm>
            <a:prstGeom prst="roundRect">
              <a:avLst>
                <a:gd name="adj" fmla="val 14319"/>
              </a:avLst>
            </a:prstGeom>
            <a:gradFill rotWithShape="0">
              <a:gsLst>
                <a:gs pos="0">
                  <a:srgbClr val="232e4d"/>
                </a:gs>
                <a:gs pos="100000">
                  <a:srgbClr val="4c64a6">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AutoShape 300"/>
            <p:cNvSpPr/>
            <p:nvPr/>
          </p:nvSpPr>
          <p:spPr>
            <a:xfrm rot="14805600">
              <a:off x="583920" y="3888720"/>
              <a:ext cx="863640" cy="809640"/>
            </a:xfrm>
            <a:custGeom>
              <a:avLst/>
              <a:gdLst>
                <a:gd name="textAreaLeft" fmla="*/ 126720 w 863640"/>
                <a:gd name="textAreaRight" fmla="*/ 736920 w 863640"/>
                <a:gd name="textAreaTop" fmla="*/ 118800 h 809640"/>
                <a:gd name="textAreaBottom" fmla="*/ 690840 h 809640"/>
              </a:gdLst>
              <a:ahLst/>
              <a:rect l="textAreaLeft" t="textAreaTop" r="textAreaRight" b="textAreaBottom"/>
              <a:pathLst>
                <a:path w="21600" h="21600">
                  <a:moveTo>
                    <a:pt x="15829" y="11276"/>
                  </a:moveTo>
                  <a:cubicBezTo>
                    <a:pt x="15844" y="11118"/>
                    <a:pt x="15852" y="10959"/>
                    <a:pt x="15852" y="10800"/>
                  </a:cubicBezTo>
                  <a:cubicBezTo>
                    <a:pt x="15852" y="8009"/>
                    <a:pt x="13590" y="5748"/>
                    <a:pt x="10800" y="5748"/>
                  </a:cubicBezTo>
                  <a:cubicBezTo>
                    <a:pt x="10105" y="5747"/>
                    <a:pt x="9418" y="5891"/>
                    <a:pt x="8781" y="6168"/>
                  </a:cubicBezTo>
                  <a:lnTo>
                    <a:pt x="6484" y="899"/>
                  </a:lnTo>
                  <a:cubicBezTo>
                    <a:pt x="7845" y="306"/>
                    <a:pt x="9314" y="-1"/>
                    <a:pt x="10800" y="0"/>
                  </a:cubicBezTo>
                  <a:cubicBezTo>
                    <a:pt x="16764" y="0"/>
                    <a:pt x="21600" y="4835"/>
                    <a:pt x="21600" y="10800"/>
                  </a:cubicBezTo>
                  <a:cubicBezTo>
                    <a:pt x="21600" y="11140"/>
                    <a:pt x="21583" y="11480"/>
                    <a:pt x="21551" y="11819"/>
                  </a:cubicBezTo>
                  <a:lnTo>
                    <a:pt x="24239" y="12074"/>
                  </a:lnTo>
                  <a:lnTo>
                    <a:pt x="18164" y="17097"/>
                  </a:lnTo>
                  <a:lnTo>
                    <a:pt x="13141" y="11022"/>
                  </a:lnTo>
                  <a:lnTo>
                    <a:pt x="15829" y="112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3" name="AutoShape 301"/>
            <p:cNvSpPr/>
            <p:nvPr/>
          </p:nvSpPr>
          <p:spPr>
            <a:xfrm rot="14805600">
              <a:off x="1089000" y="2628720"/>
              <a:ext cx="863280" cy="809640"/>
            </a:xfrm>
            <a:custGeom>
              <a:avLst/>
              <a:gdLst>
                <a:gd name="textAreaLeft" fmla="*/ 126720 w 863280"/>
                <a:gd name="textAreaRight" fmla="*/ 736560 w 863280"/>
                <a:gd name="textAreaTop" fmla="*/ 118800 h 809640"/>
                <a:gd name="textAreaBottom" fmla="*/ 690840 h 809640"/>
              </a:gdLst>
              <a:ahLst/>
              <a:rect l="textAreaLeft" t="textAreaTop" r="textAreaRight" b="textAreaBottom"/>
              <a:pathLst>
                <a:path w="21600" h="21600">
                  <a:moveTo>
                    <a:pt x="15829" y="11276"/>
                  </a:moveTo>
                  <a:cubicBezTo>
                    <a:pt x="15844" y="11118"/>
                    <a:pt x="15852" y="10959"/>
                    <a:pt x="15852" y="10800"/>
                  </a:cubicBezTo>
                  <a:cubicBezTo>
                    <a:pt x="15852" y="8009"/>
                    <a:pt x="13590" y="5748"/>
                    <a:pt x="10800" y="5748"/>
                  </a:cubicBezTo>
                  <a:cubicBezTo>
                    <a:pt x="10105" y="5747"/>
                    <a:pt x="9418" y="5891"/>
                    <a:pt x="8781" y="6168"/>
                  </a:cubicBezTo>
                  <a:lnTo>
                    <a:pt x="6484" y="899"/>
                  </a:lnTo>
                  <a:cubicBezTo>
                    <a:pt x="7845" y="306"/>
                    <a:pt x="9314" y="-1"/>
                    <a:pt x="10800" y="0"/>
                  </a:cubicBezTo>
                  <a:cubicBezTo>
                    <a:pt x="16764" y="0"/>
                    <a:pt x="21600" y="4835"/>
                    <a:pt x="21600" y="10800"/>
                  </a:cubicBezTo>
                  <a:cubicBezTo>
                    <a:pt x="21600" y="11140"/>
                    <a:pt x="21583" y="11480"/>
                    <a:pt x="21551" y="11819"/>
                  </a:cubicBezTo>
                  <a:lnTo>
                    <a:pt x="24239" y="12074"/>
                  </a:lnTo>
                  <a:lnTo>
                    <a:pt x="18164" y="17097"/>
                  </a:lnTo>
                  <a:lnTo>
                    <a:pt x="13141" y="11022"/>
                  </a:lnTo>
                  <a:lnTo>
                    <a:pt x="15829" y="112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4" name="WordArt 302"/>
            <p:cNvSpPr txBox="1"/>
            <p:nvPr/>
          </p:nvSpPr>
          <p:spPr>
            <a:xfrm>
              <a:off x="5003640" y="2422440"/>
              <a:ext cx="136872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sp>
          <p:nvSpPr>
            <p:cNvPr id="755" name="WordArt 303"/>
            <p:cNvSpPr txBox="1"/>
            <p:nvPr/>
          </p:nvSpPr>
          <p:spPr>
            <a:xfrm>
              <a:off x="4427640" y="3646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sp>
          <p:nvSpPr>
            <p:cNvPr id="756" name="WordArt 304"/>
            <p:cNvSpPr txBox="1"/>
            <p:nvPr/>
          </p:nvSpPr>
          <p:spPr>
            <a:xfrm>
              <a:off x="3995640" y="4941720"/>
              <a:ext cx="136836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grpSp>
          <p:nvGrpSpPr>
            <p:cNvPr id="757" name="Group 305"/>
            <p:cNvGrpSpPr/>
            <p:nvPr/>
          </p:nvGrpSpPr>
          <p:grpSpPr>
            <a:xfrm>
              <a:off x="2556000" y="2422440"/>
              <a:ext cx="1298520" cy="576000"/>
              <a:chOff x="2556000" y="2422440"/>
              <a:chExt cx="1298520" cy="576000"/>
            </a:xfrm>
          </p:grpSpPr>
          <p:sp>
            <p:nvSpPr>
              <p:cNvPr id="758" name="WordArt 306"/>
              <p:cNvSpPr txBox="1"/>
              <p:nvPr/>
            </p:nvSpPr>
            <p:spPr>
              <a:xfrm>
                <a:off x="2773440" y="2422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59" name="WordArt 307"/>
              <p:cNvSpPr txBox="1"/>
              <p:nvPr/>
            </p:nvSpPr>
            <p:spPr>
              <a:xfrm>
                <a:off x="2845080" y="27208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60" name="WordArt 308"/>
              <p:cNvSpPr txBox="1"/>
              <p:nvPr/>
            </p:nvSpPr>
            <p:spPr>
              <a:xfrm>
                <a:off x="2556000" y="286524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761" name="Group 309"/>
            <p:cNvGrpSpPr/>
            <p:nvPr/>
          </p:nvGrpSpPr>
          <p:grpSpPr>
            <a:xfrm>
              <a:off x="2050920" y="3646440"/>
              <a:ext cx="1298520" cy="576000"/>
              <a:chOff x="2050920" y="3646440"/>
              <a:chExt cx="1298520" cy="576000"/>
            </a:xfrm>
          </p:grpSpPr>
          <p:sp>
            <p:nvSpPr>
              <p:cNvPr id="762" name="WordArt 310"/>
              <p:cNvSpPr txBox="1"/>
              <p:nvPr/>
            </p:nvSpPr>
            <p:spPr>
              <a:xfrm>
                <a:off x="2268360" y="3646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63" name="WordArt 311"/>
              <p:cNvSpPr txBox="1"/>
              <p:nvPr/>
            </p:nvSpPr>
            <p:spPr>
              <a:xfrm>
                <a:off x="2340000" y="39448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64" name="WordArt 312"/>
              <p:cNvSpPr txBox="1"/>
              <p:nvPr/>
            </p:nvSpPr>
            <p:spPr>
              <a:xfrm>
                <a:off x="2050920" y="408924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765" name="Group 313"/>
            <p:cNvGrpSpPr/>
            <p:nvPr/>
          </p:nvGrpSpPr>
          <p:grpSpPr>
            <a:xfrm>
              <a:off x="1547640" y="4941720"/>
              <a:ext cx="1298520" cy="576000"/>
              <a:chOff x="1547640" y="4941720"/>
              <a:chExt cx="1298520" cy="576000"/>
            </a:xfrm>
          </p:grpSpPr>
          <p:sp>
            <p:nvSpPr>
              <p:cNvPr id="766" name="WordArt 314"/>
              <p:cNvSpPr txBox="1"/>
              <p:nvPr/>
            </p:nvSpPr>
            <p:spPr>
              <a:xfrm>
                <a:off x="1765080" y="49417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67" name="WordArt 315"/>
              <p:cNvSpPr txBox="1"/>
              <p:nvPr/>
            </p:nvSpPr>
            <p:spPr>
              <a:xfrm>
                <a:off x="1836720" y="524016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68" name="WordArt 316"/>
              <p:cNvSpPr txBox="1"/>
              <p:nvPr/>
            </p:nvSpPr>
            <p:spPr>
              <a:xfrm>
                <a:off x="1547640" y="538452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sp>
        <p:nvSpPr>
          <p:cNvPr id="769" name="矩形 29"/>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7200" y="1341000"/>
            <a:ext cx="8231040" cy="4527720"/>
          </a:xfrm>
          <a:prstGeom prst="rect">
            <a:avLst/>
          </a:prstGeom>
          <a:noFill/>
          <a:ln w="0">
            <a:noFill/>
          </a:ln>
        </p:spPr>
        <p:txBody>
          <a:bodyPr anchor="t">
            <a:normAutofit fontScale="98000"/>
          </a:bodyPr>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Design Inspiration for Presentation</a:t>
            </a:r>
            <a:endParaRPr b="0" lang="en-US" sz="2800" spc="-1" strike="noStrike">
              <a:solidFill>
                <a:srgbClr val="000000"/>
              </a:solidFill>
              <a:latin typeface="굴림"/>
            </a:endParaRPr>
          </a:p>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35880" indent="-3358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Lorem ipsum dolor sit amet, consectetur adipiscing elit, set eiusmod tempor incidunt et labore et dolore magna aliquam. Ut enim ad minim veniam, quis nostrud exerc. Irure dolor in reprehend incididunt ut labore et dolore magna aliqua.</a:t>
            </a:r>
            <a:br>
              <a:rPr sz="1600"/>
            </a:br>
            <a:r>
              <a:rPr b="0" lang="en-US" sz="1600" spc="-1" strike="noStrike">
                <a:solidFill>
                  <a:srgbClr val="000000"/>
                </a:solidFill>
                <a:latin typeface="굴림"/>
              </a:rPr>
              <a:t> </a:t>
            </a:r>
            <a:endParaRPr b="0" lang="en-US" sz="1600" spc="-1" strike="noStrike">
              <a:solidFill>
                <a:srgbClr val="000000"/>
              </a:solidFill>
              <a:latin typeface="굴림"/>
            </a:endParaRPr>
          </a:p>
          <a:p>
            <a:pPr marL="335880" indent="-3358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Ut enim ad minim veniam, quis nostrud exercitation ullamco laboris nisi ut aliquip ex ea commodo consequat. </a:t>
            </a:r>
            <a:endParaRPr b="0" lang="en-US" sz="1600" spc="-1" strike="noStrike">
              <a:solidFill>
                <a:srgbClr val="000000"/>
              </a:solidFill>
              <a:latin typeface="굴림"/>
            </a:endParaRPr>
          </a:p>
          <a:p>
            <a:pPr marL="3358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35880" indent="-3358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Ut enim ad minim veniam, quis nostrud exerc. Irure dolor in reprehend incididunt ut labore et dolore magna aliqua. Ut enim ad minim veniam, quis nostrud exerci </a:t>
            </a:r>
            <a:endParaRPr b="0" lang="en-US" sz="1600" spc="-1" strike="noStrike">
              <a:solidFill>
                <a:srgbClr val="000000"/>
              </a:solidFill>
              <a:latin typeface="굴림"/>
            </a:endParaRPr>
          </a:p>
          <a:p>
            <a:pPr marL="3358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       </a:t>
            </a:r>
            <a:r>
              <a:rPr b="0" lang="en-US" sz="1600" spc="-1" strike="noStrike">
                <a:solidFill>
                  <a:srgbClr val="000000"/>
                </a:solidFill>
                <a:latin typeface="Arial Black"/>
              </a:rPr>
              <a:t>Stylish templates can be a valuable aid to creative professionals.</a:t>
            </a:r>
            <a:endParaRPr b="0" lang="en-US" sz="1600" spc="-1" strike="noStrike">
              <a:solidFill>
                <a:srgbClr val="000000"/>
              </a:solidFill>
              <a:latin typeface="굴림"/>
            </a:endParaRPr>
          </a:p>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Each work is featured with simplicity but supreme beauty.</a:t>
            </a:r>
            <a:endParaRPr b="0" lang="en-US" sz="1600" spc="-1" strike="noStrike">
              <a:solidFill>
                <a:srgbClr val="000000"/>
              </a:solidFill>
              <a:latin typeface="굴림"/>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
        <p:nvSpPr>
          <p:cNvPr id="242" name="PlaceHolder 2"/>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sp>
        <p:nvSpPr>
          <p:cNvPr id="243" name="矩形 4"/>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771" name="Group 314"/>
          <p:cNvGrpSpPr/>
          <p:nvPr/>
        </p:nvGrpSpPr>
        <p:grpSpPr>
          <a:xfrm>
            <a:off x="1042920" y="1663560"/>
            <a:ext cx="6940440" cy="4429080"/>
            <a:chOff x="1042920" y="1663560"/>
            <a:chExt cx="6940440" cy="4429080"/>
          </a:xfrm>
        </p:grpSpPr>
        <p:sp>
          <p:nvSpPr>
            <p:cNvPr id="772" name="Line 315"/>
            <p:cNvSpPr/>
            <p:nvPr/>
          </p:nvSpPr>
          <p:spPr>
            <a:xfrm>
              <a:off x="4390920" y="1950840"/>
              <a:ext cx="0" cy="47016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73" name="AutoShape 316"/>
            <p:cNvSpPr/>
            <p:nvPr/>
          </p:nvSpPr>
          <p:spPr>
            <a:xfrm>
              <a:off x="3201840" y="1663560"/>
              <a:ext cx="2376720" cy="468360"/>
            </a:xfrm>
            <a:prstGeom prst="roundRect">
              <a:avLst>
                <a:gd name="adj" fmla="val 50000"/>
              </a:avLst>
            </a:prstGeom>
            <a:gradFill rotWithShape="0">
              <a:gsLst>
                <a:gs pos="0">
                  <a:srgbClr val="876ea2"/>
                </a:gs>
                <a:gs pos="100000">
                  <a:srgbClr val="5a496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4" name="Freeform 317"/>
            <p:cNvSpPr/>
            <p:nvPr/>
          </p:nvSpPr>
          <p:spPr>
            <a:xfrm>
              <a:off x="1835280" y="2421000"/>
              <a:ext cx="5400720" cy="395280"/>
            </a:xfrm>
            <a:custGeom>
              <a:avLst/>
              <a:gdLst>
                <a:gd name="textAreaLeft" fmla="*/ 0 w 5400720"/>
                <a:gd name="textAreaRight" fmla="*/ 5401080 w 5400720"/>
                <a:gd name="textAreaTop" fmla="*/ 0 h 395280"/>
                <a:gd name="textAreaBottom" fmla="*/ 395640 h 395280"/>
              </a:gdLst>
              <a:ahLst/>
              <a:rect l="textAreaLeft" t="textAreaTop" r="textAreaRight" b="textAreaBottom"/>
              <a:pathLst>
                <a:path w="3311" h="2041">
                  <a:moveTo>
                    <a:pt x="0" y="1995"/>
                  </a:moveTo>
                  <a:lnTo>
                    <a:pt x="0" y="0"/>
                  </a:lnTo>
                  <a:lnTo>
                    <a:pt x="3311" y="0"/>
                  </a:lnTo>
                  <a:lnTo>
                    <a:pt x="3311" y="2041"/>
                  </a:lnTo>
                </a:path>
              </a:pathLst>
            </a:custGeom>
            <a:noFill/>
            <a:ln w="19080">
              <a:solidFill>
                <a:srgbClr val="21385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5" name="AutoShape 318"/>
            <p:cNvSpPr/>
            <p:nvPr/>
          </p:nvSpPr>
          <p:spPr>
            <a:xfrm>
              <a:off x="6586560" y="3806640"/>
              <a:ext cx="139680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6" name="Oval 319"/>
            <p:cNvSpPr/>
            <p:nvPr/>
          </p:nvSpPr>
          <p:spPr>
            <a:xfrm>
              <a:off x="6791400" y="3054240"/>
              <a:ext cx="969840" cy="8128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7" name="Oval 320"/>
            <p:cNvSpPr/>
            <p:nvPr/>
          </p:nvSpPr>
          <p:spPr>
            <a:xfrm>
              <a:off x="6778800" y="2600280"/>
              <a:ext cx="1000080" cy="1004760"/>
            </a:xfrm>
            <a:prstGeom prst="ellipse">
              <a:avLst/>
            </a:prstGeom>
            <a:gradFill rotWithShape="0">
              <a:gsLst>
                <a:gs pos="0">
                  <a:srgbClr val="c69a4a"/>
                </a:gs>
                <a:gs pos="100000">
                  <a:srgbClr val="84673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8" name="Oval 321"/>
            <p:cNvSpPr/>
            <p:nvPr/>
          </p:nvSpPr>
          <p:spPr>
            <a:xfrm>
              <a:off x="7118280" y="2620800"/>
              <a:ext cx="265320" cy="2682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9" name="AutoShape 322"/>
            <p:cNvSpPr/>
            <p:nvPr/>
          </p:nvSpPr>
          <p:spPr>
            <a:xfrm>
              <a:off x="6678720" y="3698640"/>
              <a:ext cx="121284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0" name="Oval 323"/>
            <p:cNvSpPr/>
            <p:nvPr/>
          </p:nvSpPr>
          <p:spPr>
            <a:xfrm flipV="1">
              <a:off x="6788160" y="3725640"/>
              <a:ext cx="99216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1" name="Oval 324"/>
            <p:cNvSpPr/>
            <p:nvPr/>
          </p:nvSpPr>
          <p:spPr>
            <a:xfrm>
              <a:off x="3249720" y="3211560"/>
              <a:ext cx="1147680" cy="96012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2" name="AutoShape 325"/>
            <p:cNvSpPr/>
            <p:nvPr/>
          </p:nvSpPr>
          <p:spPr>
            <a:xfrm>
              <a:off x="3027240" y="4108320"/>
              <a:ext cx="1652760" cy="47772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3" name="Oval 326"/>
            <p:cNvSpPr/>
            <p:nvPr/>
          </p:nvSpPr>
          <p:spPr>
            <a:xfrm>
              <a:off x="3236760" y="2600280"/>
              <a:ext cx="1184400" cy="1189080"/>
            </a:xfrm>
            <a:prstGeom prst="ellipse">
              <a:avLst/>
            </a:prstGeom>
            <a:gradFill rotWithShape="0">
              <a:gsLst>
                <a:gs pos="0">
                  <a:srgbClr val="5075c0"/>
                </a:gs>
                <a:gs pos="100000">
                  <a:srgbClr val="3a558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Oval 327"/>
            <p:cNvSpPr/>
            <p:nvPr/>
          </p:nvSpPr>
          <p:spPr>
            <a:xfrm>
              <a:off x="3638520" y="2625480"/>
              <a:ext cx="314280" cy="3160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AutoShape 328"/>
            <p:cNvSpPr/>
            <p:nvPr/>
          </p:nvSpPr>
          <p:spPr>
            <a:xfrm>
              <a:off x="2986200" y="3900240"/>
              <a:ext cx="1693800" cy="48276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6" name="Oval 329"/>
            <p:cNvSpPr/>
            <p:nvPr/>
          </p:nvSpPr>
          <p:spPr>
            <a:xfrm flipV="1">
              <a:off x="3265560" y="3931560"/>
              <a:ext cx="117468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7" name="AutoShape 330"/>
            <p:cNvSpPr/>
            <p:nvPr/>
          </p:nvSpPr>
          <p:spPr>
            <a:xfrm>
              <a:off x="3027240" y="4714920"/>
              <a:ext cx="1652760" cy="47772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AutoShape 331"/>
            <p:cNvSpPr/>
            <p:nvPr/>
          </p:nvSpPr>
          <p:spPr>
            <a:xfrm>
              <a:off x="2986200" y="4510080"/>
              <a:ext cx="1693800" cy="48240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9" name="Oval 332"/>
            <p:cNvSpPr/>
            <p:nvPr/>
          </p:nvSpPr>
          <p:spPr>
            <a:xfrm flipV="1">
              <a:off x="3265560" y="4541040"/>
              <a:ext cx="117468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0" name="AutoShape 333"/>
            <p:cNvSpPr/>
            <p:nvPr/>
          </p:nvSpPr>
          <p:spPr>
            <a:xfrm>
              <a:off x="1082520" y="4714920"/>
              <a:ext cx="1621080" cy="4680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1" name="AutoShape 334"/>
            <p:cNvSpPr/>
            <p:nvPr/>
          </p:nvSpPr>
          <p:spPr>
            <a:xfrm>
              <a:off x="1082520" y="4081320"/>
              <a:ext cx="1621080" cy="4698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2" name="Oval 335"/>
            <p:cNvSpPr/>
            <p:nvPr/>
          </p:nvSpPr>
          <p:spPr>
            <a:xfrm>
              <a:off x="1300320" y="3200400"/>
              <a:ext cx="1125360" cy="9442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3" name="Oval 336"/>
            <p:cNvSpPr/>
            <p:nvPr/>
          </p:nvSpPr>
          <p:spPr>
            <a:xfrm>
              <a:off x="1265400" y="2600280"/>
              <a:ext cx="1160280" cy="1166760"/>
            </a:xfrm>
            <a:prstGeom prst="ellipse">
              <a:avLst/>
            </a:prstGeom>
            <a:gradFill rotWithShape="0">
              <a:gsLst>
                <a:gs pos="0">
                  <a:srgbClr val="5075c0"/>
                </a:gs>
                <a:gs pos="100000">
                  <a:srgbClr val="3a558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4" name="Oval 337"/>
            <p:cNvSpPr/>
            <p:nvPr/>
          </p:nvSpPr>
          <p:spPr>
            <a:xfrm>
              <a:off x="1660680" y="2624040"/>
              <a:ext cx="307800" cy="311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5" name="AutoShape 338"/>
            <p:cNvSpPr/>
            <p:nvPr/>
          </p:nvSpPr>
          <p:spPr>
            <a:xfrm>
              <a:off x="1042920" y="3876480"/>
              <a:ext cx="1660680" cy="47484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6" name="Oval 339"/>
            <p:cNvSpPr/>
            <p:nvPr/>
          </p:nvSpPr>
          <p:spPr>
            <a:xfrm flipV="1">
              <a:off x="1316160" y="3907440"/>
              <a:ext cx="115236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7" name="AutoShape 340"/>
            <p:cNvSpPr/>
            <p:nvPr/>
          </p:nvSpPr>
          <p:spPr>
            <a:xfrm>
              <a:off x="1042920" y="4513320"/>
              <a:ext cx="1660680" cy="47304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8" name="Oval 341"/>
            <p:cNvSpPr/>
            <p:nvPr/>
          </p:nvSpPr>
          <p:spPr>
            <a:xfrm flipV="1">
              <a:off x="1316160" y="4545000"/>
              <a:ext cx="115236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9" name="AutoShape 342"/>
            <p:cNvSpPr/>
            <p:nvPr/>
          </p:nvSpPr>
          <p:spPr>
            <a:xfrm>
              <a:off x="1082520" y="5405400"/>
              <a:ext cx="1621080" cy="68724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0" name="AutoShape 343"/>
            <p:cNvSpPr/>
            <p:nvPr/>
          </p:nvSpPr>
          <p:spPr>
            <a:xfrm>
              <a:off x="1042920" y="5143320"/>
              <a:ext cx="1660680" cy="67320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1" name="Oval 344"/>
            <p:cNvSpPr/>
            <p:nvPr/>
          </p:nvSpPr>
          <p:spPr>
            <a:xfrm flipV="1">
              <a:off x="1316160" y="5190840"/>
              <a:ext cx="1152360" cy="1828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2" name="AutoShape 345"/>
            <p:cNvSpPr/>
            <p:nvPr/>
          </p:nvSpPr>
          <p:spPr>
            <a:xfrm>
              <a:off x="5111640" y="3806640"/>
              <a:ext cx="139536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3" name="Oval 346"/>
            <p:cNvSpPr/>
            <p:nvPr/>
          </p:nvSpPr>
          <p:spPr>
            <a:xfrm>
              <a:off x="5299200" y="3085920"/>
              <a:ext cx="969840" cy="81144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4" name="Oval 347"/>
            <p:cNvSpPr/>
            <p:nvPr/>
          </p:nvSpPr>
          <p:spPr>
            <a:xfrm>
              <a:off x="5302080" y="2600280"/>
              <a:ext cx="1000440" cy="1003320"/>
            </a:xfrm>
            <a:prstGeom prst="ellipse">
              <a:avLst/>
            </a:prstGeom>
            <a:gradFill rotWithShape="0">
              <a:gsLst>
                <a:gs pos="0">
                  <a:srgbClr val="c69a4a"/>
                </a:gs>
                <a:gs pos="100000">
                  <a:srgbClr val="84673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5" name="Oval 348"/>
            <p:cNvSpPr/>
            <p:nvPr/>
          </p:nvSpPr>
          <p:spPr>
            <a:xfrm>
              <a:off x="5641920" y="2620800"/>
              <a:ext cx="265320" cy="26676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6" name="AutoShape 349"/>
            <p:cNvSpPr/>
            <p:nvPr/>
          </p:nvSpPr>
          <p:spPr>
            <a:xfrm>
              <a:off x="5203800" y="3698640"/>
              <a:ext cx="121140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7" name="Oval 350"/>
            <p:cNvSpPr/>
            <p:nvPr/>
          </p:nvSpPr>
          <p:spPr>
            <a:xfrm flipV="1">
              <a:off x="5313240" y="3725640"/>
              <a:ext cx="99072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8" name="Line 351"/>
            <p:cNvSpPr/>
            <p:nvPr/>
          </p:nvSpPr>
          <p:spPr>
            <a:xfrm flipV="1">
              <a:off x="3851280" y="2421000"/>
              <a:ext cx="0" cy="17928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809" name="Line 352"/>
            <p:cNvSpPr/>
            <p:nvPr/>
          </p:nvSpPr>
          <p:spPr>
            <a:xfrm flipV="1">
              <a:off x="5759280" y="2421000"/>
              <a:ext cx="0" cy="17928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810" name="WordArt 353"/>
            <p:cNvSpPr txBox="1"/>
            <p:nvPr/>
          </p:nvSpPr>
          <p:spPr>
            <a:xfrm>
              <a:off x="3635280" y="1771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811" name="Group 354"/>
            <p:cNvGrpSpPr/>
            <p:nvPr/>
          </p:nvGrpSpPr>
          <p:grpSpPr>
            <a:xfrm>
              <a:off x="1332000" y="2960640"/>
              <a:ext cx="1008000" cy="360000"/>
              <a:chOff x="1332000" y="2960640"/>
              <a:chExt cx="1008000" cy="360000"/>
            </a:xfrm>
          </p:grpSpPr>
          <p:sp>
            <p:nvSpPr>
              <p:cNvPr id="812" name="WordArt 355"/>
              <p:cNvSpPr txBox="1"/>
              <p:nvPr/>
            </p:nvSpPr>
            <p:spPr>
              <a:xfrm>
                <a:off x="1460520" y="2960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3" name="WordArt 356"/>
              <p:cNvSpPr txBox="1"/>
              <p:nvPr/>
            </p:nvSpPr>
            <p:spPr>
              <a:xfrm>
                <a:off x="1332000" y="3206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814" name="Group 357"/>
            <p:cNvGrpSpPr/>
            <p:nvPr/>
          </p:nvGrpSpPr>
          <p:grpSpPr>
            <a:xfrm>
              <a:off x="3348000" y="2960640"/>
              <a:ext cx="1008000" cy="360000"/>
              <a:chOff x="3348000" y="2960640"/>
              <a:chExt cx="1008000" cy="360000"/>
            </a:xfrm>
          </p:grpSpPr>
          <p:sp>
            <p:nvSpPr>
              <p:cNvPr id="815" name="WordArt 358"/>
              <p:cNvSpPr txBox="1"/>
              <p:nvPr/>
            </p:nvSpPr>
            <p:spPr>
              <a:xfrm>
                <a:off x="3476520" y="2960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6" name="WordArt 359"/>
              <p:cNvSpPr txBox="1"/>
              <p:nvPr/>
            </p:nvSpPr>
            <p:spPr>
              <a:xfrm>
                <a:off x="3348000" y="3206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817" name="WordArt 360"/>
            <p:cNvSpPr txBox="1"/>
            <p:nvPr/>
          </p:nvSpPr>
          <p:spPr>
            <a:xfrm>
              <a:off x="5508720" y="30319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8" name="WordArt 361"/>
            <p:cNvSpPr txBox="1"/>
            <p:nvPr/>
          </p:nvSpPr>
          <p:spPr>
            <a:xfrm>
              <a:off x="6948360" y="30319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9" name="WordArt 362"/>
            <p:cNvSpPr txBox="1"/>
            <p:nvPr/>
          </p:nvSpPr>
          <p:spPr>
            <a:xfrm>
              <a:off x="1547640" y="404172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20" name="WordArt 363"/>
            <p:cNvSpPr txBox="1"/>
            <p:nvPr/>
          </p:nvSpPr>
          <p:spPr>
            <a:xfrm>
              <a:off x="1547640" y="468936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21" name="WordArt 364"/>
            <p:cNvSpPr txBox="1"/>
            <p:nvPr/>
          </p:nvSpPr>
          <p:spPr>
            <a:xfrm>
              <a:off x="1547640" y="5408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22" name="WordArt 365"/>
            <p:cNvSpPr txBox="1"/>
            <p:nvPr/>
          </p:nvSpPr>
          <p:spPr>
            <a:xfrm>
              <a:off x="3492360" y="404172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23" name="WordArt 366"/>
            <p:cNvSpPr txBox="1"/>
            <p:nvPr/>
          </p:nvSpPr>
          <p:spPr>
            <a:xfrm>
              <a:off x="3492360" y="468936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24" name="WordArt 367"/>
            <p:cNvSpPr txBox="1"/>
            <p:nvPr/>
          </p:nvSpPr>
          <p:spPr>
            <a:xfrm>
              <a:off x="5580000" y="382428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25" name="WordArt 368"/>
            <p:cNvSpPr txBox="1"/>
            <p:nvPr/>
          </p:nvSpPr>
          <p:spPr>
            <a:xfrm>
              <a:off x="7093080" y="38242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26" name="AutoShape 369"/>
            <p:cNvSpPr/>
            <p:nvPr/>
          </p:nvSpPr>
          <p:spPr>
            <a:xfrm>
              <a:off x="6586560" y="4292640"/>
              <a:ext cx="139680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7" name="AutoShape 370"/>
            <p:cNvSpPr/>
            <p:nvPr/>
          </p:nvSpPr>
          <p:spPr>
            <a:xfrm>
              <a:off x="6678720" y="4184640"/>
              <a:ext cx="121284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8" name="Oval 371"/>
            <p:cNvSpPr/>
            <p:nvPr/>
          </p:nvSpPr>
          <p:spPr>
            <a:xfrm flipV="1">
              <a:off x="6788160" y="4211640"/>
              <a:ext cx="99216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9" name="AutoShape 372"/>
            <p:cNvSpPr/>
            <p:nvPr/>
          </p:nvSpPr>
          <p:spPr>
            <a:xfrm>
              <a:off x="5111640" y="4292640"/>
              <a:ext cx="139536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0" name="AutoShape 373"/>
            <p:cNvSpPr/>
            <p:nvPr/>
          </p:nvSpPr>
          <p:spPr>
            <a:xfrm>
              <a:off x="5203800" y="4184640"/>
              <a:ext cx="121140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1" name="Oval 374"/>
            <p:cNvSpPr/>
            <p:nvPr/>
          </p:nvSpPr>
          <p:spPr>
            <a:xfrm flipV="1">
              <a:off x="5313240" y="4211640"/>
              <a:ext cx="99072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2" name="WordArt 375"/>
            <p:cNvSpPr txBox="1"/>
            <p:nvPr/>
          </p:nvSpPr>
          <p:spPr>
            <a:xfrm>
              <a:off x="5580000" y="430992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33" name="WordArt 376"/>
            <p:cNvSpPr txBox="1"/>
            <p:nvPr/>
          </p:nvSpPr>
          <p:spPr>
            <a:xfrm>
              <a:off x="7093080" y="43099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
        <p:nvSpPr>
          <p:cNvPr id="834" name="矩形 65"/>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0" y="1501560"/>
            <a:ext cx="9144000" cy="14698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Arial"/>
                <a:ea typeface="Arial Unicode MS"/>
              </a:rPr>
              <a:t>THANK</a:t>
            </a:r>
            <a:r>
              <a:rPr b="1" lang="en-US" sz="5900" spc="-1" strike="noStrike">
                <a:solidFill>
                  <a:srgbClr val="ff6600"/>
                </a:solidFill>
                <a:latin typeface="Arial"/>
                <a:ea typeface="Arial Unicode MS"/>
              </a:rPr>
              <a:t> </a:t>
            </a:r>
            <a:r>
              <a:rPr b="1" lang="en-US" sz="5900" spc="-1" strike="noStrike">
                <a:solidFill>
                  <a:srgbClr val="cc0000"/>
                </a:solidFill>
                <a:latin typeface="Arial"/>
                <a:ea typeface="Arial Unicode MS"/>
              </a:rPr>
              <a:t>YOU</a:t>
            </a:r>
            <a:endParaRPr b="1" i="1" lang="en-US" sz="5900" spc="-1" strike="noStrike">
              <a:solidFill>
                <a:srgbClr val="006600"/>
              </a:solidFill>
              <a:latin typeface="Times New Roman"/>
            </a:endParaRPr>
          </a:p>
        </p:txBody>
      </p:sp>
      <p:sp>
        <p:nvSpPr>
          <p:cNvPr id="836" name="PlaceHolder 2"/>
          <p:cNvSpPr>
            <a:spLocks noGrp="1"/>
          </p:cNvSpPr>
          <p:nvPr>
            <p:ph type="subTitle"/>
          </p:nvPr>
        </p:nvSpPr>
        <p:spPr>
          <a:xfrm>
            <a:off x="1371600" y="254016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www.pptkorea.com</a:t>
            </a:r>
            <a:endParaRPr b="0" lang="en-US" sz="2400" spc="-1" strike="noStrike">
              <a:solidFill>
                <a:srgbClr val="000000"/>
              </a:solidFill>
              <a:latin typeface="굴림"/>
            </a:endParaRPr>
          </a:p>
        </p:txBody>
      </p:sp>
      <p:sp>
        <p:nvSpPr>
          <p:cNvPr id="837" name="矩形 3"/>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1341000"/>
            <a:ext cx="8229600" cy="452772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Valuable Aids To Creativity!</a:t>
            </a:r>
            <a:endParaRPr b="0" lang="en-US" sz="20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굴림"/>
            </a:endParaRPr>
          </a:p>
          <a:p>
            <a:pPr marL="343080" indent="-343080">
              <a:lnSpc>
                <a:spcPct val="110000"/>
              </a:lnSpc>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굴림"/>
              </a:rPr>
              <a:t>Lorem ipsum dolor sit amet, consectetur adipisicing elit, sed do eiusmod tempor incididunt ut labore et dolore magna aliqua. Ut enim ad minim veniam, quis nostrud exercitation ullamco laboris </a:t>
            </a:r>
            <a:endParaRPr b="0" lang="en-US" sz="12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343080">
              <a:lnSpc>
                <a:spcPct val="110000"/>
              </a:lnSpc>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굴림"/>
              </a:rPr>
              <a:t>nisi ut aliquip ex ea commodo consequat. Duis aute irure dolor in reprehenderit in voluptate velit esse cillum dolore eu fugiat nulla pariatur. Excepteur sint occaecat cupidatat non proident, sunt in </a:t>
            </a:r>
            <a:endParaRPr b="0" lang="en-US" sz="12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343080">
              <a:lnSpc>
                <a:spcPct val="110000"/>
              </a:lnSpc>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굴림"/>
              </a:rPr>
              <a:t>culpa qui officia deserunt mollit anim id est laborum. </a:t>
            </a:r>
            <a:endParaRPr b="0" lang="en-US" sz="12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343080">
              <a:lnSpc>
                <a:spcPct val="110000"/>
              </a:lnSpc>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굴림"/>
              </a:rPr>
              <a:t>Aenean tortor risus, feugiat at, condimentum sagittis, tempor ut, odio. Amet nisi vitae mi tempus condimentum. Etiam vitae magna eu sapien rhoncus consequat. Curabitur vitae nibh vel</a:t>
            </a:r>
            <a:endParaRPr b="0" lang="en-US" sz="12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a:t>
            </a:r>
            <a:r>
              <a:rPr b="0" lang="en-US" sz="1200" spc="-1" strike="noStrike">
                <a:solidFill>
                  <a:srgbClr val="ffffff"/>
                </a:solidFill>
                <a:latin typeface="Arial Black"/>
              </a:rPr>
              <a:t>Stylish templates can be a valuable aid to creative professionals.</a:t>
            </a:r>
            <a:endParaRPr b="0" lang="en-US" sz="12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a:t>
            </a:r>
            <a:r>
              <a:rPr b="0" lang="en-US" sz="1200" spc="-1" strike="noStrike">
                <a:solidFill>
                  <a:srgbClr val="ffffff"/>
                </a:solidFill>
                <a:latin typeface="Arial Black"/>
              </a:rPr>
              <a:t>Each work is featured with simplicity but supreme beauty.</a:t>
            </a:r>
            <a:endParaRPr b="0" lang="en-US" sz="1200" spc="-1" strike="noStrike">
              <a:solidFill>
                <a:srgbClr val="ffffff"/>
              </a:solidFill>
              <a:latin typeface="굴림"/>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p:txBody>
      </p:sp>
      <p:sp>
        <p:nvSpPr>
          <p:cNvPr id="245" name="PlaceHolder 2"/>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sp>
        <p:nvSpPr>
          <p:cNvPr id="246" name="矩形 3"/>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57200" y="1684440"/>
            <a:ext cx="8229600" cy="4201920"/>
          </a:xfrm>
          <a:prstGeom prst="rect">
            <a:avLst/>
          </a:prstGeom>
          <a:noFill/>
          <a:ln w="0">
            <a:noFill/>
          </a:ln>
        </p:spPr>
        <p:txBody>
          <a:bodyPr anchor="t">
            <a:normAutofit fontScale="99000"/>
          </a:bodyPr>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Design Inspiration</a:t>
            </a: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Clarity &amp; Impact</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Premium Design</a:t>
            </a: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ubtle Touch</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Visual Appealing</a:t>
            </a: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tylish Design</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implicity &amp; Beauty</a:t>
            </a: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3D Effect</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48" name="PlaceHolder 2"/>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sp>
        <p:nvSpPr>
          <p:cNvPr id="249" name="矩形 3"/>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835280" y="-360"/>
            <a:ext cx="685152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sp>
        <p:nvSpPr>
          <p:cNvPr id="251" name="PlaceHolder 2"/>
          <p:cNvSpPr>
            <a:spLocks noGrp="1"/>
          </p:cNvSpPr>
          <p:nvPr>
            <p:ph/>
          </p:nvPr>
        </p:nvSpPr>
        <p:spPr>
          <a:xfrm>
            <a:off x="1835280" y="1052280"/>
            <a:ext cx="685152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굴림"/>
            </a:endParaRPr>
          </a:p>
        </p:txBody>
      </p:sp>
      <p:sp>
        <p:nvSpPr>
          <p:cNvPr id="252" name="矩形 3"/>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254" name="Group 247"/>
          <p:cNvGrpSpPr/>
          <p:nvPr/>
        </p:nvGrpSpPr>
        <p:grpSpPr>
          <a:xfrm>
            <a:off x="755640" y="1360440"/>
            <a:ext cx="7635600" cy="4732200"/>
            <a:chOff x="755640" y="1360440"/>
            <a:chExt cx="7635600" cy="4732200"/>
          </a:xfrm>
        </p:grpSpPr>
        <p:grpSp>
          <p:nvGrpSpPr>
            <p:cNvPr id="255" name="Group 248"/>
            <p:cNvGrpSpPr/>
            <p:nvPr/>
          </p:nvGrpSpPr>
          <p:grpSpPr>
            <a:xfrm>
              <a:off x="2376360" y="1360440"/>
              <a:ext cx="4388040" cy="749160"/>
              <a:chOff x="2376360" y="1360440"/>
              <a:chExt cx="4388040" cy="749160"/>
            </a:xfrm>
          </p:grpSpPr>
          <p:sp>
            <p:nvSpPr>
              <p:cNvPr id="256" name="AutoShape 249"/>
              <p:cNvSpPr/>
              <p:nvPr/>
            </p:nvSpPr>
            <p:spPr>
              <a:xfrm>
                <a:off x="2376360" y="1772640"/>
                <a:ext cx="4388040" cy="3369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57" name="Group 250"/>
              <p:cNvGrpSpPr/>
              <p:nvPr/>
            </p:nvGrpSpPr>
            <p:grpSpPr>
              <a:xfrm>
                <a:off x="2376360" y="1360440"/>
                <a:ext cx="4388040" cy="568440"/>
                <a:chOff x="2376360" y="1360440"/>
                <a:chExt cx="4388040" cy="568440"/>
              </a:xfrm>
            </p:grpSpPr>
            <p:sp>
              <p:nvSpPr>
                <p:cNvPr id="258" name="AutoShape 251"/>
                <p:cNvSpPr/>
                <p:nvPr/>
              </p:nvSpPr>
              <p:spPr>
                <a:xfrm>
                  <a:off x="2376360" y="1360440"/>
                  <a:ext cx="4388040" cy="568440"/>
                </a:xfrm>
                <a:prstGeom prst="roundRect">
                  <a:avLst>
                    <a:gd name="adj" fmla="val 50000"/>
                  </a:avLst>
                </a:prstGeom>
                <a:gradFill rotWithShape="0">
                  <a:gsLst>
                    <a:gs pos="0">
                      <a:srgbClr val="a89ed0"/>
                    </a:gs>
                    <a:gs pos="100000">
                      <a:srgbClr val="5543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9" name="Oval 252"/>
                <p:cNvSpPr/>
                <p:nvPr/>
              </p:nvSpPr>
              <p:spPr>
                <a:xfrm flipV="1">
                  <a:off x="2592360" y="1404000"/>
                  <a:ext cx="3956040" cy="1310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080" bIns="46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260" name="Group 253"/>
            <p:cNvGrpSpPr/>
            <p:nvPr/>
          </p:nvGrpSpPr>
          <p:grpSpPr>
            <a:xfrm>
              <a:off x="2050920" y="2008440"/>
              <a:ext cx="5038920" cy="863280"/>
              <a:chOff x="2050920" y="2008440"/>
              <a:chExt cx="5038920" cy="863280"/>
            </a:xfrm>
          </p:grpSpPr>
          <p:sp>
            <p:nvSpPr>
              <p:cNvPr id="261" name="AutoShape 254"/>
              <p:cNvSpPr/>
              <p:nvPr/>
            </p:nvSpPr>
            <p:spPr>
              <a:xfrm>
                <a:off x="2050920" y="2484720"/>
                <a:ext cx="5038920" cy="387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62" name="Group 255"/>
              <p:cNvGrpSpPr/>
              <p:nvPr/>
            </p:nvGrpSpPr>
            <p:grpSpPr>
              <a:xfrm>
                <a:off x="2050920" y="2008440"/>
                <a:ext cx="5038920" cy="654480"/>
                <a:chOff x="2050920" y="2008440"/>
                <a:chExt cx="5038920" cy="654480"/>
              </a:xfrm>
            </p:grpSpPr>
            <p:sp>
              <p:nvSpPr>
                <p:cNvPr id="263" name="AutoShape 256"/>
                <p:cNvSpPr/>
                <p:nvPr/>
              </p:nvSpPr>
              <p:spPr>
                <a:xfrm>
                  <a:off x="2050920" y="2008440"/>
                  <a:ext cx="5038920" cy="654480"/>
                </a:xfrm>
                <a:prstGeom prst="roundRect">
                  <a:avLst>
                    <a:gd name="adj" fmla="val 50000"/>
                  </a:avLst>
                </a:prstGeom>
                <a:gradFill rotWithShape="0">
                  <a:gsLst>
                    <a:gs pos="0">
                      <a:srgbClr val="9faccf"/>
                    </a:gs>
                    <a:gs pos="100000">
                      <a:srgbClr val="445da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4" name="Oval 257"/>
                <p:cNvSpPr/>
                <p:nvPr/>
              </p:nvSpPr>
              <p:spPr>
                <a:xfrm flipV="1">
                  <a:off x="2298960" y="2058120"/>
                  <a:ext cx="4542840" cy="150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265" name="Group 258"/>
            <p:cNvGrpSpPr/>
            <p:nvPr/>
          </p:nvGrpSpPr>
          <p:grpSpPr>
            <a:xfrm>
              <a:off x="1695600" y="2786040"/>
              <a:ext cx="5756040" cy="987120"/>
              <a:chOff x="1695600" y="2786040"/>
              <a:chExt cx="5756040" cy="987120"/>
            </a:xfrm>
          </p:grpSpPr>
          <p:sp>
            <p:nvSpPr>
              <p:cNvPr id="266" name="AutoShape 259"/>
              <p:cNvSpPr/>
              <p:nvPr/>
            </p:nvSpPr>
            <p:spPr>
              <a:xfrm>
                <a:off x="1695600" y="3330720"/>
                <a:ext cx="5756040" cy="442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67" name="Group 260"/>
              <p:cNvGrpSpPr/>
              <p:nvPr/>
            </p:nvGrpSpPr>
            <p:grpSpPr>
              <a:xfrm>
                <a:off x="1695600" y="2786040"/>
                <a:ext cx="5756040" cy="748800"/>
                <a:chOff x="1695600" y="2786040"/>
                <a:chExt cx="5756040" cy="748800"/>
              </a:xfrm>
            </p:grpSpPr>
            <p:sp>
              <p:nvSpPr>
                <p:cNvPr id="268" name="AutoShape 261"/>
                <p:cNvSpPr/>
                <p:nvPr/>
              </p:nvSpPr>
              <p:spPr>
                <a:xfrm>
                  <a:off x="1695600" y="2786040"/>
                  <a:ext cx="5756040" cy="748800"/>
                </a:xfrm>
                <a:prstGeom prst="roundRect">
                  <a:avLst>
                    <a:gd name="adj" fmla="val 50000"/>
                  </a:avLst>
                </a:prstGeom>
                <a:gradFill rotWithShape="0">
                  <a:gsLst>
                    <a:gs pos="0">
                      <a:srgbClr val="9ebdd0"/>
                    </a:gs>
                    <a:gs pos="100000">
                      <a:srgbClr val="437ea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9" name="Oval 262"/>
                <p:cNvSpPr/>
                <p:nvPr/>
              </p:nvSpPr>
              <p:spPr>
                <a:xfrm flipV="1">
                  <a:off x="1978920" y="2843640"/>
                  <a:ext cx="5189400" cy="1728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270" name="Group 263"/>
            <p:cNvGrpSpPr/>
            <p:nvPr/>
          </p:nvGrpSpPr>
          <p:grpSpPr>
            <a:xfrm>
              <a:off x="1258920" y="3700440"/>
              <a:ext cx="6622560" cy="1136520"/>
              <a:chOff x="1258920" y="3700440"/>
              <a:chExt cx="6622560" cy="1136520"/>
            </a:xfrm>
          </p:grpSpPr>
          <p:sp>
            <p:nvSpPr>
              <p:cNvPr id="271" name="AutoShape 264"/>
              <p:cNvSpPr/>
              <p:nvPr/>
            </p:nvSpPr>
            <p:spPr>
              <a:xfrm>
                <a:off x="1258920" y="4327560"/>
                <a:ext cx="6622560" cy="509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72" name="Group 265"/>
              <p:cNvGrpSpPr/>
              <p:nvPr/>
            </p:nvGrpSpPr>
            <p:grpSpPr>
              <a:xfrm>
                <a:off x="1258920" y="3700440"/>
                <a:ext cx="6622560" cy="861840"/>
                <a:chOff x="1258920" y="3700440"/>
                <a:chExt cx="6622560" cy="861840"/>
              </a:xfrm>
            </p:grpSpPr>
            <p:sp>
              <p:nvSpPr>
                <p:cNvPr id="273" name="AutoShape 266"/>
                <p:cNvSpPr/>
                <p:nvPr/>
              </p:nvSpPr>
              <p:spPr>
                <a:xfrm>
                  <a:off x="1258920" y="3700440"/>
                  <a:ext cx="6622560" cy="861840"/>
                </a:xfrm>
                <a:prstGeom prst="roundRect">
                  <a:avLst>
                    <a:gd name="adj" fmla="val 50000"/>
                  </a:avLst>
                </a:prstGeom>
                <a:gradFill rotWithShape="0">
                  <a:gsLst>
                    <a:gs pos="0">
                      <a:srgbClr val="9ecad0"/>
                    </a:gs>
                    <a:gs pos="100000">
                      <a:srgbClr val="4298a4"/>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4" name="Oval 267"/>
                <p:cNvSpPr/>
                <p:nvPr/>
              </p:nvSpPr>
              <p:spPr>
                <a:xfrm flipV="1">
                  <a:off x="1584720" y="3766320"/>
                  <a:ext cx="5970600" cy="1990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275" name="Group 268"/>
            <p:cNvGrpSpPr/>
            <p:nvPr/>
          </p:nvGrpSpPr>
          <p:grpSpPr>
            <a:xfrm>
              <a:off x="755640" y="4784760"/>
              <a:ext cx="7635600" cy="1307880"/>
              <a:chOff x="755640" y="4784760"/>
              <a:chExt cx="7635600" cy="1307880"/>
            </a:xfrm>
          </p:grpSpPr>
          <p:sp>
            <p:nvSpPr>
              <p:cNvPr id="276" name="AutoShape 269"/>
              <p:cNvSpPr/>
              <p:nvPr/>
            </p:nvSpPr>
            <p:spPr>
              <a:xfrm>
                <a:off x="755640" y="5506200"/>
                <a:ext cx="7635600" cy="586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77" name="Group 270"/>
              <p:cNvGrpSpPr/>
              <p:nvPr/>
            </p:nvGrpSpPr>
            <p:grpSpPr>
              <a:xfrm>
                <a:off x="755640" y="4784760"/>
                <a:ext cx="7635240" cy="991440"/>
                <a:chOff x="755640" y="4784760"/>
                <a:chExt cx="7635240" cy="991440"/>
              </a:xfrm>
            </p:grpSpPr>
            <p:sp>
              <p:nvSpPr>
                <p:cNvPr id="278" name="AutoShape 271"/>
                <p:cNvSpPr/>
                <p:nvPr/>
              </p:nvSpPr>
              <p:spPr>
                <a:xfrm>
                  <a:off x="755640" y="4784760"/>
                  <a:ext cx="7635240" cy="991440"/>
                </a:xfrm>
                <a:prstGeom prst="roundRect">
                  <a:avLst>
                    <a:gd name="adj" fmla="val 50000"/>
                  </a:avLst>
                </a:prstGeom>
                <a:gradFill rotWithShape="0">
                  <a:gsLst>
                    <a:gs pos="0">
                      <a:srgbClr val="9ed0cf"/>
                    </a:gs>
                    <a:gs pos="100000">
                      <a:srgbClr val="42a4a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9" name="Oval 272"/>
                <p:cNvSpPr/>
                <p:nvPr/>
              </p:nvSpPr>
              <p:spPr>
                <a:xfrm flipV="1">
                  <a:off x="1131480" y="4861440"/>
                  <a:ext cx="6883920" cy="228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280" name="WordArt 273"/>
            <p:cNvSpPr txBox="1"/>
            <p:nvPr/>
          </p:nvSpPr>
          <p:spPr>
            <a:xfrm>
              <a:off x="3780000" y="14734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81" name="WordArt 274"/>
            <p:cNvSpPr txBox="1"/>
            <p:nvPr/>
          </p:nvSpPr>
          <p:spPr>
            <a:xfrm>
              <a:off x="3780000" y="21924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82" name="WordArt 275"/>
            <p:cNvSpPr txBox="1"/>
            <p:nvPr/>
          </p:nvSpPr>
          <p:spPr>
            <a:xfrm>
              <a:off x="3780000" y="29847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83" name="WordArt 276"/>
            <p:cNvSpPr txBox="1"/>
            <p:nvPr/>
          </p:nvSpPr>
          <p:spPr>
            <a:xfrm>
              <a:off x="3780000" y="39927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84" name="WordArt 277"/>
            <p:cNvSpPr txBox="1"/>
            <p:nvPr/>
          </p:nvSpPr>
          <p:spPr>
            <a:xfrm>
              <a:off x="3780000" y="51451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285" name="矩形 33"/>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287" name="Group 367"/>
          <p:cNvGrpSpPr/>
          <p:nvPr/>
        </p:nvGrpSpPr>
        <p:grpSpPr>
          <a:xfrm>
            <a:off x="934920" y="1628640"/>
            <a:ext cx="7274160" cy="5229360"/>
            <a:chOff x="934920" y="1628640"/>
            <a:chExt cx="7274160" cy="5229360"/>
          </a:xfrm>
        </p:grpSpPr>
        <p:sp>
          <p:nvSpPr>
            <p:cNvPr id="288" name="Freeform 368"/>
            <p:cNvSpPr/>
            <p:nvPr/>
          </p:nvSpPr>
          <p:spPr>
            <a:xfrm>
              <a:off x="934920" y="2565360"/>
              <a:ext cx="7274160" cy="4292640"/>
            </a:xfrm>
            <a:custGeom>
              <a:avLst/>
              <a:gdLst>
                <a:gd name="textAreaLeft" fmla="*/ 0 w 7274160"/>
                <a:gd name="textAreaRight" fmla="*/ 7274520 w 7274160"/>
                <a:gd name="textAreaTop" fmla="*/ 0 h 4292640"/>
                <a:gd name="textAreaBottom" fmla="*/ 4293000 h 4292640"/>
              </a:gdLst>
              <a:ahLst/>
              <a:rect l="textAreaLeft" t="textAreaTop" r="textAreaRight" b="textAreaBottom"/>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988068"/>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289" name="Group 369"/>
            <p:cNvGrpSpPr/>
            <p:nvPr/>
          </p:nvGrpSpPr>
          <p:grpSpPr>
            <a:xfrm>
              <a:off x="4643280" y="3933720"/>
              <a:ext cx="1441440" cy="1727280"/>
              <a:chOff x="4643280" y="3933720"/>
              <a:chExt cx="1441440" cy="1727280"/>
            </a:xfrm>
          </p:grpSpPr>
          <p:sp>
            <p:nvSpPr>
              <p:cNvPr id="290" name="Oval 370"/>
              <p:cNvSpPr/>
              <p:nvPr/>
            </p:nvSpPr>
            <p:spPr>
              <a:xfrm>
                <a:off x="4643280" y="5070600"/>
                <a:ext cx="1441440" cy="5904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91" name="Group 371"/>
              <p:cNvGrpSpPr/>
              <p:nvPr/>
            </p:nvGrpSpPr>
            <p:grpSpPr>
              <a:xfrm>
                <a:off x="4643280" y="3933720"/>
                <a:ext cx="1433520" cy="1440000"/>
                <a:chOff x="4643280" y="3933720"/>
                <a:chExt cx="1433520" cy="1440000"/>
              </a:xfrm>
            </p:grpSpPr>
            <p:sp>
              <p:nvSpPr>
                <p:cNvPr id="292" name="Oval 372"/>
                <p:cNvSpPr/>
                <p:nvPr/>
              </p:nvSpPr>
              <p:spPr>
                <a:xfrm>
                  <a:off x="4643280" y="3933720"/>
                  <a:ext cx="1433520" cy="1440000"/>
                </a:xfrm>
                <a:prstGeom prst="ellipse">
                  <a:avLst/>
                </a:prstGeom>
                <a:gradFill rotWithShape="0">
                  <a:gsLst>
                    <a:gs pos="0">
                      <a:srgbClr val="d4a0a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3" name="Oval 373"/>
                <p:cNvSpPr/>
                <p:nvPr/>
              </p:nvSpPr>
              <p:spPr>
                <a:xfrm>
                  <a:off x="4833720" y="4123080"/>
                  <a:ext cx="382680" cy="3837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94" name="WordArt 374"/>
              <p:cNvSpPr txBox="1"/>
              <p:nvPr/>
            </p:nvSpPr>
            <p:spPr>
              <a:xfrm>
                <a:off x="5079960" y="4446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295" name="Group 375"/>
            <p:cNvGrpSpPr/>
            <p:nvPr/>
          </p:nvGrpSpPr>
          <p:grpSpPr>
            <a:xfrm>
              <a:off x="3059280" y="3933720"/>
              <a:ext cx="1442880" cy="1727280"/>
              <a:chOff x="3059280" y="3933720"/>
              <a:chExt cx="1442880" cy="1727280"/>
            </a:xfrm>
          </p:grpSpPr>
          <p:sp>
            <p:nvSpPr>
              <p:cNvPr id="296" name="Oval 376"/>
              <p:cNvSpPr/>
              <p:nvPr/>
            </p:nvSpPr>
            <p:spPr>
              <a:xfrm>
                <a:off x="3059280" y="5070600"/>
                <a:ext cx="1442880" cy="5904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97" name="Group 377"/>
              <p:cNvGrpSpPr/>
              <p:nvPr/>
            </p:nvGrpSpPr>
            <p:grpSpPr>
              <a:xfrm>
                <a:off x="3059280" y="3933720"/>
                <a:ext cx="1433520" cy="1440000"/>
                <a:chOff x="3059280" y="3933720"/>
                <a:chExt cx="1433520" cy="1440000"/>
              </a:xfrm>
            </p:grpSpPr>
            <p:sp>
              <p:nvSpPr>
                <p:cNvPr id="298" name="Oval 378"/>
                <p:cNvSpPr/>
                <p:nvPr/>
              </p:nvSpPr>
              <p:spPr>
                <a:xfrm>
                  <a:off x="3059280" y="3933720"/>
                  <a:ext cx="1433520" cy="1440000"/>
                </a:xfrm>
                <a:prstGeom prst="ellipse">
                  <a:avLst/>
                </a:prstGeom>
                <a:gradFill rotWithShape="0">
                  <a:gsLst>
                    <a:gs pos="0">
                      <a:srgbClr val="b593d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9" name="Oval 379"/>
                <p:cNvSpPr/>
                <p:nvPr/>
              </p:nvSpPr>
              <p:spPr>
                <a:xfrm>
                  <a:off x="3249720" y="4123080"/>
                  <a:ext cx="382680" cy="3837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00" name="WordArt 380"/>
              <p:cNvSpPr txBox="1"/>
              <p:nvPr/>
            </p:nvSpPr>
            <p:spPr>
              <a:xfrm>
                <a:off x="3454560" y="4446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301" name="Group 381"/>
            <p:cNvGrpSpPr/>
            <p:nvPr/>
          </p:nvGrpSpPr>
          <p:grpSpPr>
            <a:xfrm>
              <a:off x="3348000" y="3171960"/>
              <a:ext cx="2520720" cy="688320"/>
              <a:chOff x="3348000" y="3171960"/>
              <a:chExt cx="2520720" cy="688320"/>
            </a:xfrm>
          </p:grpSpPr>
          <p:sp>
            <p:nvSpPr>
              <p:cNvPr id="302" name="WordArt 382"/>
              <p:cNvSpPr txBox="1"/>
              <p:nvPr/>
            </p:nvSpPr>
            <p:spPr>
              <a:xfrm>
                <a:off x="3636720" y="3171960"/>
                <a:ext cx="187164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CONTENTS</a:t>
                </a:r>
                <a:endParaRPr b="0" lang="en-US" sz="1400" spc="1" strike="noStrike">
                  <a:ln w="0">
                    <a:noFill/>
                  </a:ln>
                  <a:solidFill>
                    <a:srgbClr val="000000">
                      <a:alpha val="75000"/>
                    </a:srgbClr>
                  </a:solidFill>
                  <a:latin typeface="Arial Black"/>
                  <a:ea typeface="Arial Black"/>
                </a:endParaRPr>
              </a:p>
            </p:txBody>
          </p:sp>
          <p:sp>
            <p:nvSpPr>
              <p:cNvPr id="303" name="WordArt 383"/>
              <p:cNvSpPr txBox="1"/>
              <p:nvPr/>
            </p:nvSpPr>
            <p:spPr>
              <a:xfrm>
                <a:off x="3348000" y="3511440"/>
                <a:ext cx="2520720" cy="15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01. CLICK TO ADD CONTENTS !</a:t>
                </a:r>
                <a:endParaRPr b="1" lang="en-US" sz="1000" spc="1" strike="noStrike">
                  <a:ln w="0">
                    <a:noFill/>
                  </a:ln>
                  <a:solidFill>
                    <a:srgbClr val="000000">
                      <a:alpha val="75000"/>
                    </a:srgbClr>
                  </a:solidFill>
                  <a:latin typeface="Arial"/>
                  <a:ea typeface="Arial"/>
                </a:endParaRPr>
              </a:p>
            </p:txBody>
          </p:sp>
          <p:sp>
            <p:nvSpPr>
              <p:cNvPr id="304" name="WordArt 384"/>
              <p:cNvSpPr txBox="1"/>
              <p:nvPr/>
            </p:nvSpPr>
            <p:spPr>
              <a:xfrm>
                <a:off x="3348000" y="3708000"/>
                <a:ext cx="252072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02. CLICK TO ADD CONTENTS !</a:t>
                </a:r>
                <a:endParaRPr b="1" lang="en-US" sz="1000" spc="1" strike="noStrike">
                  <a:ln w="0">
                    <a:noFill/>
                  </a:ln>
                  <a:solidFill>
                    <a:srgbClr val="000000">
                      <a:alpha val="75000"/>
                    </a:srgbClr>
                  </a:solidFill>
                  <a:latin typeface="Arial"/>
                  <a:ea typeface="Arial"/>
                </a:endParaRPr>
              </a:p>
            </p:txBody>
          </p:sp>
        </p:grpSp>
        <p:grpSp>
          <p:nvGrpSpPr>
            <p:cNvPr id="305" name="Group 385"/>
            <p:cNvGrpSpPr/>
            <p:nvPr/>
          </p:nvGrpSpPr>
          <p:grpSpPr>
            <a:xfrm>
              <a:off x="1006560" y="1628640"/>
              <a:ext cx="7165800" cy="720720"/>
              <a:chOff x="1006560" y="1628640"/>
              <a:chExt cx="7165800" cy="720720"/>
            </a:xfrm>
          </p:grpSpPr>
          <p:sp>
            <p:nvSpPr>
              <p:cNvPr id="306" name="AutoShape 386"/>
              <p:cNvSpPr/>
              <p:nvPr/>
            </p:nvSpPr>
            <p:spPr>
              <a:xfrm>
                <a:off x="1006560" y="1628640"/>
                <a:ext cx="7165800" cy="720720"/>
              </a:xfrm>
              <a:prstGeom prst="roundRect">
                <a:avLst>
                  <a:gd name="adj" fmla="val 50000"/>
                </a:avLst>
              </a:prstGeom>
              <a:solidFill>
                <a:srgbClr val="489d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7" name="Freeform 387"/>
              <p:cNvSpPr/>
              <p:nvPr/>
            </p:nvSpPr>
            <p:spPr>
              <a:xfrm>
                <a:off x="1036800" y="1659960"/>
                <a:ext cx="7103520" cy="31320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8" name="WordArt 388"/>
              <p:cNvSpPr txBox="1"/>
              <p:nvPr/>
            </p:nvSpPr>
            <p:spPr>
              <a:xfrm>
                <a:off x="2882880" y="1752840"/>
                <a:ext cx="3380760" cy="43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grpSp>
        <p:grpSp>
          <p:nvGrpSpPr>
            <p:cNvPr id="309" name="Group 389"/>
            <p:cNvGrpSpPr/>
            <p:nvPr/>
          </p:nvGrpSpPr>
          <p:grpSpPr>
            <a:xfrm>
              <a:off x="5435640" y="4529160"/>
              <a:ext cx="1845720" cy="2139480"/>
              <a:chOff x="5435640" y="4529160"/>
              <a:chExt cx="1845720" cy="2139480"/>
            </a:xfrm>
          </p:grpSpPr>
          <p:sp>
            <p:nvSpPr>
              <p:cNvPr id="310" name="Oval 390"/>
              <p:cNvSpPr/>
              <p:nvPr/>
            </p:nvSpPr>
            <p:spPr>
              <a:xfrm>
                <a:off x="5578200" y="6012360"/>
                <a:ext cx="1604520" cy="6562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1" name="Oval 391"/>
              <p:cNvSpPr/>
              <p:nvPr/>
            </p:nvSpPr>
            <p:spPr>
              <a:xfrm>
                <a:off x="5435640" y="4529160"/>
                <a:ext cx="1845720" cy="1855440"/>
              </a:xfrm>
              <a:prstGeom prst="ellipse">
                <a:avLst/>
              </a:prstGeom>
              <a:gradFill rotWithShape="0">
                <a:gsLst>
                  <a:gs pos="0">
                    <a:srgbClr val="59b75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2" name="Oval 392"/>
              <p:cNvSpPr/>
              <p:nvPr/>
            </p:nvSpPr>
            <p:spPr>
              <a:xfrm>
                <a:off x="5680800" y="4774320"/>
                <a:ext cx="494280" cy="494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3" name="WordArt 393"/>
              <p:cNvSpPr txBox="1"/>
              <p:nvPr/>
            </p:nvSpPr>
            <p:spPr>
              <a:xfrm>
                <a:off x="6000120" y="5341320"/>
                <a:ext cx="720000" cy="21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314" name="Group 394"/>
            <p:cNvGrpSpPr/>
            <p:nvPr/>
          </p:nvGrpSpPr>
          <p:grpSpPr>
            <a:xfrm>
              <a:off x="1835280" y="4581360"/>
              <a:ext cx="1841040" cy="2133360"/>
              <a:chOff x="1835280" y="4581360"/>
              <a:chExt cx="1841040" cy="2133360"/>
            </a:xfrm>
          </p:grpSpPr>
          <p:sp>
            <p:nvSpPr>
              <p:cNvPr id="315" name="Oval 395"/>
              <p:cNvSpPr/>
              <p:nvPr/>
            </p:nvSpPr>
            <p:spPr>
              <a:xfrm>
                <a:off x="1891800" y="6060240"/>
                <a:ext cx="1598040" cy="65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6" name="Oval 396"/>
              <p:cNvSpPr/>
              <p:nvPr/>
            </p:nvSpPr>
            <p:spPr>
              <a:xfrm>
                <a:off x="1835280" y="4581360"/>
                <a:ext cx="1841040" cy="1850040"/>
              </a:xfrm>
              <a:prstGeom prst="ellipse">
                <a:avLst/>
              </a:prstGeom>
              <a:gradFill rotWithShape="0">
                <a:gsLst>
                  <a:gs pos="0">
                    <a:srgbClr val="5b93b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7" name="Oval 397"/>
              <p:cNvSpPr/>
              <p:nvPr/>
            </p:nvSpPr>
            <p:spPr>
              <a:xfrm>
                <a:off x="2079720" y="4825800"/>
                <a:ext cx="492840" cy="492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8" name="WordArt 398"/>
              <p:cNvSpPr txBox="1"/>
              <p:nvPr/>
            </p:nvSpPr>
            <p:spPr>
              <a:xfrm>
                <a:off x="2410560" y="5391000"/>
                <a:ext cx="718200" cy="21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sp>
        <p:nvSpPr>
          <p:cNvPr id="319" name="矩形 34"/>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321" name="Group 357"/>
          <p:cNvGrpSpPr/>
          <p:nvPr/>
        </p:nvGrpSpPr>
        <p:grpSpPr>
          <a:xfrm>
            <a:off x="754200" y="1450800"/>
            <a:ext cx="7670520" cy="4426200"/>
            <a:chOff x="754200" y="1450800"/>
            <a:chExt cx="7670520" cy="4426200"/>
          </a:xfrm>
        </p:grpSpPr>
        <p:grpSp>
          <p:nvGrpSpPr>
            <p:cNvPr id="322" name="Group 358"/>
            <p:cNvGrpSpPr/>
            <p:nvPr/>
          </p:nvGrpSpPr>
          <p:grpSpPr>
            <a:xfrm>
              <a:off x="790560" y="1486080"/>
              <a:ext cx="3637080" cy="1872720"/>
              <a:chOff x="790560" y="1486080"/>
              <a:chExt cx="3637080" cy="1872720"/>
            </a:xfrm>
          </p:grpSpPr>
          <p:sp>
            <p:nvSpPr>
              <p:cNvPr id="323" name="AutoShape 359"/>
              <p:cNvSpPr/>
              <p:nvPr/>
            </p:nvSpPr>
            <p:spPr>
              <a:xfrm>
                <a:off x="790560" y="1486080"/>
                <a:ext cx="3637080" cy="1871280"/>
              </a:xfrm>
              <a:prstGeom prst="roundRect">
                <a:avLst>
                  <a:gd name="adj" fmla="val 8708"/>
                </a:avLst>
              </a:prstGeom>
              <a:gradFill rotWithShape="0">
                <a:gsLst>
                  <a:gs pos="0">
                    <a:srgbClr val="ffffff"/>
                  </a:gs>
                  <a:gs pos="100000">
                    <a:srgbClr val="bacbc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4" name="AutoShape 360"/>
              <p:cNvSpPr/>
              <p:nvPr/>
            </p:nvSpPr>
            <p:spPr>
              <a:xfrm>
                <a:off x="860400" y="1558800"/>
                <a:ext cx="3457440" cy="429840"/>
              </a:xfrm>
              <a:prstGeom prst="roundRect">
                <a:avLst>
                  <a:gd name="adj" fmla="val 50000"/>
                </a:avLst>
              </a:prstGeom>
              <a:gradFill rotWithShape="0">
                <a:gsLst>
                  <a:gs pos="0">
                    <a:srgbClr val="214856"/>
                  </a:gs>
                  <a:gs pos="100000">
                    <a:srgbClr val="479bb9">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5" name="AutoShape 361"/>
              <p:cNvSpPr/>
              <p:nvPr/>
            </p:nvSpPr>
            <p:spPr>
              <a:xfrm>
                <a:off x="790560" y="1487520"/>
                <a:ext cx="3637080" cy="187128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6" name="WordArt 362"/>
              <p:cNvSpPr txBox="1"/>
              <p:nvPr/>
            </p:nvSpPr>
            <p:spPr>
              <a:xfrm>
                <a:off x="1222200" y="213516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7" name="WordArt 363"/>
              <p:cNvSpPr txBox="1"/>
              <p:nvPr/>
            </p:nvSpPr>
            <p:spPr>
              <a:xfrm>
                <a:off x="1222200" y="245592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8" name="WordArt 364"/>
              <p:cNvSpPr txBox="1"/>
              <p:nvPr/>
            </p:nvSpPr>
            <p:spPr>
              <a:xfrm>
                <a:off x="1222200" y="276372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9" name="WordArt 365"/>
              <p:cNvSpPr txBox="1"/>
              <p:nvPr/>
            </p:nvSpPr>
            <p:spPr>
              <a:xfrm>
                <a:off x="1760400" y="1665360"/>
                <a:ext cx="15829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30" name="Group 366"/>
            <p:cNvGrpSpPr/>
            <p:nvPr/>
          </p:nvGrpSpPr>
          <p:grpSpPr>
            <a:xfrm>
              <a:off x="4788000" y="1450800"/>
              <a:ext cx="3636720" cy="1871640"/>
              <a:chOff x="4788000" y="1450800"/>
              <a:chExt cx="3636720" cy="1871640"/>
            </a:xfrm>
          </p:grpSpPr>
          <p:sp>
            <p:nvSpPr>
              <p:cNvPr id="331" name="AutoShape 367"/>
              <p:cNvSpPr/>
              <p:nvPr/>
            </p:nvSpPr>
            <p:spPr>
              <a:xfrm>
                <a:off x="4788000" y="1450800"/>
                <a:ext cx="3636720" cy="1871640"/>
              </a:xfrm>
              <a:prstGeom prst="roundRect">
                <a:avLst>
                  <a:gd name="adj" fmla="val 8708"/>
                </a:avLst>
              </a:prstGeom>
              <a:gradFill rotWithShape="0">
                <a:gsLst>
                  <a:gs pos="0">
                    <a:srgbClr val="ffffff"/>
                  </a:gs>
                  <a:gs pos="100000">
                    <a:srgbClr val="b9c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2" name="AutoShape 368"/>
              <p:cNvSpPr/>
              <p:nvPr/>
            </p:nvSpPr>
            <p:spPr>
              <a:xfrm>
                <a:off x="4860720" y="1523880"/>
                <a:ext cx="3492360" cy="430200"/>
              </a:xfrm>
              <a:prstGeom prst="roundRect">
                <a:avLst>
                  <a:gd name="adj" fmla="val 50000"/>
                </a:avLst>
              </a:prstGeom>
              <a:gradFill rotWithShape="0">
                <a:gsLst>
                  <a:gs pos="0">
                    <a:srgbClr val="21564b"/>
                  </a:gs>
                  <a:gs pos="100000">
                    <a:srgbClr val="47b9a3">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3" name="AutoShape 369"/>
              <p:cNvSpPr/>
              <p:nvPr/>
            </p:nvSpPr>
            <p:spPr>
              <a:xfrm>
                <a:off x="4788000" y="1450800"/>
                <a:ext cx="3636720" cy="187164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4" name="WordArt 370"/>
              <p:cNvSpPr txBox="1"/>
              <p:nvPr/>
            </p:nvSpPr>
            <p:spPr>
              <a:xfrm>
                <a:off x="5400360" y="21351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5" name="WordArt 371"/>
              <p:cNvSpPr txBox="1"/>
              <p:nvPr/>
            </p:nvSpPr>
            <p:spPr>
              <a:xfrm>
                <a:off x="5400360" y="245592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6" name="WordArt 372"/>
              <p:cNvSpPr txBox="1"/>
              <p:nvPr/>
            </p:nvSpPr>
            <p:spPr>
              <a:xfrm>
                <a:off x="5400360" y="276372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7" name="WordArt 373"/>
              <p:cNvSpPr txBox="1"/>
              <p:nvPr/>
            </p:nvSpPr>
            <p:spPr>
              <a:xfrm>
                <a:off x="5903640" y="163044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38" name="Group 374"/>
            <p:cNvGrpSpPr/>
            <p:nvPr/>
          </p:nvGrpSpPr>
          <p:grpSpPr>
            <a:xfrm>
              <a:off x="754200" y="3718080"/>
              <a:ext cx="3636720" cy="2158920"/>
              <a:chOff x="754200" y="3718080"/>
              <a:chExt cx="3636720" cy="2158920"/>
            </a:xfrm>
          </p:grpSpPr>
          <p:sp>
            <p:nvSpPr>
              <p:cNvPr id="339" name="AutoShape 375"/>
              <p:cNvSpPr/>
              <p:nvPr/>
            </p:nvSpPr>
            <p:spPr>
              <a:xfrm>
                <a:off x="754200" y="3718080"/>
                <a:ext cx="3636720" cy="2158920"/>
              </a:xfrm>
              <a:prstGeom prst="roundRect">
                <a:avLst>
                  <a:gd name="adj" fmla="val 8708"/>
                </a:avLst>
              </a:prstGeom>
              <a:gradFill rotWithShape="0">
                <a:gsLst>
                  <a:gs pos="0">
                    <a:srgbClr val="ffffff"/>
                  </a:gs>
                  <a:gs pos="100000">
                    <a:srgbClr val="a5b3b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0" name="AutoShape 376"/>
              <p:cNvSpPr/>
              <p:nvPr/>
            </p:nvSpPr>
            <p:spPr>
              <a:xfrm>
                <a:off x="825480" y="3791160"/>
                <a:ext cx="3457080" cy="430200"/>
              </a:xfrm>
              <a:prstGeom prst="roundRect">
                <a:avLst>
                  <a:gd name="adj" fmla="val 50000"/>
                </a:avLst>
              </a:prstGeom>
              <a:gradFill rotWithShape="0">
                <a:gsLst>
                  <a:gs pos="0">
                    <a:srgbClr val="1b364d"/>
                  </a:gs>
                  <a:gs pos="100000">
                    <a:srgbClr val="3b74a7">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1" name="AutoShape 377"/>
              <p:cNvSpPr/>
              <p:nvPr/>
            </p:nvSpPr>
            <p:spPr>
              <a:xfrm>
                <a:off x="754200" y="3718080"/>
                <a:ext cx="3636720" cy="215892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2" name="WordArt 378"/>
              <p:cNvSpPr txBox="1"/>
              <p:nvPr/>
            </p:nvSpPr>
            <p:spPr>
              <a:xfrm>
                <a:off x="1222200" y="46180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3" name="WordArt 379"/>
              <p:cNvSpPr txBox="1"/>
              <p:nvPr/>
            </p:nvSpPr>
            <p:spPr>
              <a:xfrm>
                <a:off x="1222200" y="49388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4" name="WordArt 380"/>
              <p:cNvSpPr txBox="1"/>
              <p:nvPr/>
            </p:nvSpPr>
            <p:spPr>
              <a:xfrm>
                <a:off x="1222200" y="524700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5" name="WordArt 381"/>
              <p:cNvSpPr txBox="1"/>
              <p:nvPr/>
            </p:nvSpPr>
            <p:spPr>
              <a:xfrm>
                <a:off x="1725480" y="38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46" name="Group 382"/>
            <p:cNvGrpSpPr/>
            <p:nvPr/>
          </p:nvGrpSpPr>
          <p:grpSpPr>
            <a:xfrm>
              <a:off x="4788000" y="3645000"/>
              <a:ext cx="3636720" cy="2158920"/>
              <a:chOff x="4788000" y="3645000"/>
              <a:chExt cx="3636720" cy="2158920"/>
            </a:xfrm>
          </p:grpSpPr>
          <p:sp>
            <p:nvSpPr>
              <p:cNvPr id="347" name="AutoShape 383"/>
              <p:cNvSpPr/>
              <p:nvPr/>
            </p:nvSpPr>
            <p:spPr>
              <a:xfrm>
                <a:off x="4788000" y="3645000"/>
                <a:ext cx="3636720" cy="2158920"/>
              </a:xfrm>
              <a:prstGeom prst="roundRect">
                <a:avLst>
                  <a:gd name="adj" fmla="val 8708"/>
                </a:avLst>
              </a:prstGeom>
              <a:gradFill rotWithShape="0">
                <a:gsLst>
                  <a:gs pos="0">
                    <a:srgbClr val="ffffff"/>
                  </a:gs>
                  <a:gs pos="100000">
                    <a:srgbClr val="bba7c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8" name="AutoShape 384"/>
              <p:cNvSpPr/>
              <p:nvPr/>
            </p:nvSpPr>
            <p:spPr>
              <a:xfrm>
                <a:off x="4860720" y="3718080"/>
                <a:ext cx="3492360" cy="430200"/>
              </a:xfrm>
              <a:prstGeom prst="roundRect">
                <a:avLst>
                  <a:gd name="adj" fmla="val 50000"/>
                </a:avLst>
              </a:prstGeom>
              <a:gradFill rotWithShape="0">
                <a:gsLst>
                  <a:gs pos="0">
                    <a:srgbClr val="302344"/>
                  </a:gs>
                  <a:gs pos="100000">
                    <a:srgbClr val="684b93">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9" name="AutoShape 385"/>
              <p:cNvSpPr/>
              <p:nvPr/>
            </p:nvSpPr>
            <p:spPr>
              <a:xfrm>
                <a:off x="4788000" y="3645000"/>
                <a:ext cx="3636720" cy="215892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0" name="WordArt 386"/>
              <p:cNvSpPr txBox="1"/>
              <p:nvPr/>
            </p:nvSpPr>
            <p:spPr>
              <a:xfrm>
                <a:off x="5400360" y="454500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1" name="WordArt 387"/>
              <p:cNvSpPr txBox="1"/>
              <p:nvPr/>
            </p:nvSpPr>
            <p:spPr>
              <a:xfrm>
                <a:off x="5400360" y="48657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2" name="WordArt 388"/>
              <p:cNvSpPr txBox="1"/>
              <p:nvPr/>
            </p:nvSpPr>
            <p:spPr>
              <a:xfrm>
                <a:off x="5400360" y="517392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3" name="WordArt 389"/>
              <p:cNvSpPr txBox="1"/>
              <p:nvPr/>
            </p:nvSpPr>
            <p:spPr>
              <a:xfrm>
                <a:off x="5903640" y="3826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54" name="Group 390"/>
            <p:cNvGrpSpPr/>
            <p:nvPr/>
          </p:nvGrpSpPr>
          <p:grpSpPr>
            <a:xfrm>
              <a:off x="3637080" y="2746440"/>
              <a:ext cx="1871640" cy="2158920"/>
              <a:chOff x="3637080" y="2746440"/>
              <a:chExt cx="1871640" cy="2158920"/>
            </a:xfrm>
          </p:grpSpPr>
          <p:sp>
            <p:nvSpPr>
              <p:cNvPr id="355" name="Oval 391"/>
              <p:cNvSpPr/>
              <p:nvPr/>
            </p:nvSpPr>
            <p:spPr>
              <a:xfrm>
                <a:off x="3659040" y="4302000"/>
                <a:ext cx="1814760" cy="6033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6" name="Oval 392"/>
              <p:cNvSpPr/>
              <p:nvPr/>
            </p:nvSpPr>
            <p:spPr>
              <a:xfrm>
                <a:off x="3637080" y="2746440"/>
                <a:ext cx="1871640" cy="1882800"/>
              </a:xfrm>
              <a:prstGeom prst="ellipse">
                <a:avLst/>
              </a:prstGeom>
              <a:gradFill rotWithShape="0">
                <a:gsLst>
                  <a:gs pos="0">
                    <a:srgbClr val="cfd9ee"/>
                  </a:gs>
                  <a:gs pos="100000">
                    <a:srgbClr val="5075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7" name="Oval 393"/>
              <p:cNvSpPr/>
              <p:nvPr/>
            </p:nvSpPr>
            <p:spPr>
              <a:xfrm>
                <a:off x="4299120" y="2784600"/>
                <a:ext cx="498240" cy="503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58" name="Group 394"/>
              <p:cNvGrpSpPr/>
              <p:nvPr/>
            </p:nvGrpSpPr>
            <p:grpSpPr>
              <a:xfrm>
                <a:off x="3995640" y="3502080"/>
                <a:ext cx="1155600" cy="420120"/>
                <a:chOff x="3995640" y="3502080"/>
                <a:chExt cx="1155600" cy="420120"/>
              </a:xfrm>
            </p:grpSpPr>
            <p:sp>
              <p:nvSpPr>
                <p:cNvPr id="359" name="WordArt 395"/>
                <p:cNvSpPr txBox="1"/>
                <p:nvPr/>
              </p:nvSpPr>
              <p:spPr>
                <a:xfrm>
                  <a:off x="4143240" y="35020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TEXT</a:t>
                  </a:r>
                  <a:endParaRPr b="0" lang="en-US" sz="1400" spc="1" strike="noStrike">
                    <a:ln w="0">
                      <a:noFill/>
                    </a:ln>
                    <a:solidFill>
                      <a:srgbClr val="2d3069"/>
                    </a:solidFill>
                    <a:latin typeface="Arial Black"/>
                    <a:ea typeface="Arial Black"/>
                  </a:endParaRPr>
                </a:p>
              </p:txBody>
            </p:sp>
            <p:sp>
              <p:nvSpPr>
                <p:cNvPr id="360" name="WordArt 396"/>
                <p:cNvSpPr txBox="1"/>
                <p:nvPr/>
              </p:nvSpPr>
              <p:spPr>
                <a:xfrm>
                  <a:off x="3995640" y="37890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ADD CONTENTS</a:t>
                  </a:r>
                  <a:endParaRPr b="0" lang="en-US" sz="1400" spc="1" strike="noStrike">
                    <a:ln w="0">
                      <a:noFill/>
                    </a:ln>
                    <a:solidFill>
                      <a:srgbClr val="2d3069"/>
                    </a:solidFill>
                    <a:latin typeface="Arial Black"/>
                    <a:ea typeface="Arial Black"/>
                  </a:endParaRPr>
                </a:p>
              </p:txBody>
            </p:sp>
          </p:grpSp>
        </p:grpSp>
      </p:grpSp>
      <p:sp>
        <p:nvSpPr>
          <p:cNvPr id="361" name="矩形 42"/>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363" name="Group 645"/>
          <p:cNvGrpSpPr/>
          <p:nvPr/>
        </p:nvGrpSpPr>
        <p:grpSpPr>
          <a:xfrm>
            <a:off x="1332000" y="1481040"/>
            <a:ext cx="6351120" cy="4252680"/>
            <a:chOff x="1332000" y="1481040"/>
            <a:chExt cx="6351120" cy="4252680"/>
          </a:xfrm>
        </p:grpSpPr>
        <p:grpSp>
          <p:nvGrpSpPr>
            <p:cNvPr id="364" name="Group 646"/>
            <p:cNvGrpSpPr/>
            <p:nvPr/>
          </p:nvGrpSpPr>
          <p:grpSpPr>
            <a:xfrm>
              <a:off x="3243240" y="1481040"/>
              <a:ext cx="2528640" cy="1979280"/>
              <a:chOff x="3243240" y="1481040"/>
              <a:chExt cx="2528640" cy="1979280"/>
            </a:xfrm>
          </p:grpSpPr>
          <p:sp>
            <p:nvSpPr>
              <p:cNvPr id="365" name="AutoShape 647"/>
              <p:cNvSpPr/>
              <p:nvPr/>
            </p:nvSpPr>
            <p:spPr>
              <a:xfrm>
                <a:off x="3243240" y="1481040"/>
                <a:ext cx="2528640" cy="1979280"/>
              </a:xfrm>
              <a:prstGeom prst="hexagon">
                <a:avLst>
                  <a:gd name="adj" fmla="val 31939"/>
                  <a:gd name="vf" fmla="val 115470"/>
                </a:avLst>
              </a:prstGeom>
              <a:gradFill rotWithShape="0">
                <a:gsLst>
                  <a:gs pos="0">
                    <a:srgbClr val="005c9a"/>
                  </a:gs>
                  <a:gs pos="50000">
                    <a:srgbClr val="649cc2"/>
                  </a:gs>
                  <a:gs pos="100000">
                    <a:srgbClr val="005c9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6" name="AutoShape 648"/>
              <p:cNvSpPr/>
              <p:nvPr/>
            </p:nvSpPr>
            <p:spPr>
              <a:xfrm>
                <a:off x="3243240" y="1481040"/>
                <a:ext cx="2526120" cy="1976760"/>
              </a:xfrm>
              <a:prstGeom prst="hexagon">
                <a:avLst>
                  <a:gd name="adj" fmla="val 31948"/>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67" name="Group 649"/>
            <p:cNvGrpSpPr/>
            <p:nvPr/>
          </p:nvGrpSpPr>
          <p:grpSpPr>
            <a:xfrm>
              <a:off x="5154480" y="2468520"/>
              <a:ext cx="2528640" cy="1979280"/>
              <a:chOff x="5154480" y="2468520"/>
              <a:chExt cx="2528640" cy="1979280"/>
            </a:xfrm>
          </p:grpSpPr>
          <p:sp>
            <p:nvSpPr>
              <p:cNvPr id="368" name="AutoShape 650"/>
              <p:cNvSpPr/>
              <p:nvPr/>
            </p:nvSpPr>
            <p:spPr>
              <a:xfrm>
                <a:off x="5154480" y="2468520"/>
                <a:ext cx="2528640" cy="1979280"/>
              </a:xfrm>
              <a:prstGeom prst="hexagon">
                <a:avLst>
                  <a:gd name="adj" fmla="val 31939"/>
                  <a:gd name="vf" fmla="val 115470"/>
                </a:avLst>
              </a:prstGeom>
              <a:gradFill rotWithShape="0">
                <a:gsLst>
                  <a:gs pos="0">
                    <a:srgbClr val="00009a"/>
                  </a:gs>
                  <a:gs pos="50000">
                    <a:srgbClr val="6464c2"/>
                  </a:gs>
                  <a:gs pos="100000">
                    <a:srgbClr val="00009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9" name="AutoShape 651"/>
              <p:cNvSpPr/>
              <p:nvPr/>
            </p:nvSpPr>
            <p:spPr>
              <a:xfrm>
                <a:off x="5154480" y="2468520"/>
                <a:ext cx="2526120" cy="1976760"/>
              </a:xfrm>
              <a:prstGeom prst="hexagon">
                <a:avLst>
                  <a:gd name="adj" fmla="val 31948"/>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70" name="Group 652"/>
            <p:cNvGrpSpPr/>
            <p:nvPr/>
          </p:nvGrpSpPr>
          <p:grpSpPr>
            <a:xfrm>
              <a:off x="1332000" y="2468520"/>
              <a:ext cx="2525400" cy="1976040"/>
              <a:chOff x="1332000" y="2468520"/>
              <a:chExt cx="2525400" cy="1976040"/>
            </a:xfrm>
          </p:grpSpPr>
          <p:sp>
            <p:nvSpPr>
              <p:cNvPr id="371" name="AutoShape 653"/>
              <p:cNvSpPr/>
              <p:nvPr/>
            </p:nvSpPr>
            <p:spPr>
              <a:xfrm>
                <a:off x="1332000" y="2468520"/>
                <a:ext cx="2525400" cy="1976040"/>
              </a:xfrm>
              <a:prstGeom prst="hexagon">
                <a:avLst>
                  <a:gd name="adj" fmla="val 31950"/>
                  <a:gd name="vf" fmla="val 115470"/>
                </a:avLst>
              </a:prstGeom>
              <a:gradFill rotWithShape="0">
                <a:gsLst>
                  <a:gs pos="0">
                    <a:srgbClr val="009a93"/>
                  </a:gs>
                  <a:gs pos="50000">
                    <a:srgbClr val="64c2bd"/>
                  </a:gs>
                  <a:gs pos="100000">
                    <a:srgbClr val="009a9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2" name="AutoShape 654"/>
              <p:cNvSpPr/>
              <p:nvPr/>
            </p:nvSpPr>
            <p:spPr>
              <a:xfrm>
                <a:off x="1332000" y="2468520"/>
                <a:ext cx="2525400" cy="1976040"/>
              </a:xfrm>
              <a:prstGeom prst="hexagon">
                <a:avLst>
                  <a:gd name="adj" fmla="val 3195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73" name="Group 655"/>
            <p:cNvGrpSpPr/>
            <p:nvPr/>
          </p:nvGrpSpPr>
          <p:grpSpPr>
            <a:xfrm>
              <a:off x="2873520" y="3144960"/>
              <a:ext cx="3268080" cy="2588760"/>
              <a:chOff x="2873520" y="3144960"/>
              <a:chExt cx="3268080" cy="2588760"/>
            </a:xfrm>
          </p:grpSpPr>
          <p:sp>
            <p:nvSpPr>
              <p:cNvPr id="374" name="AutoShape 656"/>
              <p:cNvSpPr/>
              <p:nvPr/>
            </p:nvSpPr>
            <p:spPr>
              <a:xfrm>
                <a:off x="2873520" y="3144960"/>
                <a:ext cx="3268080" cy="2588760"/>
              </a:xfrm>
              <a:prstGeom prst="hexagon">
                <a:avLst>
                  <a:gd name="adj" fmla="val 31560"/>
                  <a:gd name="vf" fmla="val 115470"/>
                </a:avLst>
              </a:prstGeom>
              <a:gradFill rotWithShape="0">
                <a:gsLst>
                  <a:gs pos="0">
                    <a:srgbClr val="0006fe"/>
                  </a:gs>
                  <a:gs pos="50000">
                    <a:srgbClr val="00befa"/>
                  </a:gs>
                  <a:gs pos="100000">
                    <a:srgbClr val="0006f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5" name="AutoShape 657"/>
              <p:cNvSpPr/>
              <p:nvPr/>
            </p:nvSpPr>
            <p:spPr>
              <a:xfrm>
                <a:off x="2873520" y="3144960"/>
                <a:ext cx="3268080" cy="2588760"/>
              </a:xfrm>
              <a:prstGeom prst="hexagon">
                <a:avLst>
                  <a:gd name="adj" fmla="val 3156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76" name="Group 658"/>
            <p:cNvGrpSpPr/>
            <p:nvPr/>
          </p:nvGrpSpPr>
          <p:grpSpPr>
            <a:xfrm>
              <a:off x="3492360" y="4218120"/>
              <a:ext cx="2089080" cy="431280"/>
              <a:chOff x="3492360" y="4218120"/>
              <a:chExt cx="2089080" cy="431280"/>
            </a:xfrm>
          </p:grpSpPr>
          <p:sp>
            <p:nvSpPr>
              <p:cNvPr id="377" name="WordArt 659"/>
              <p:cNvSpPr txBox="1"/>
              <p:nvPr/>
            </p:nvSpPr>
            <p:spPr>
              <a:xfrm>
                <a:off x="3636720" y="421812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78" name="WordArt 660"/>
              <p:cNvSpPr txBox="1"/>
              <p:nvPr/>
            </p:nvSpPr>
            <p:spPr>
              <a:xfrm>
                <a:off x="3492360" y="45162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379" name="Group 661"/>
            <p:cNvGrpSpPr/>
            <p:nvPr/>
          </p:nvGrpSpPr>
          <p:grpSpPr>
            <a:xfrm>
              <a:off x="3851280" y="2057400"/>
              <a:ext cx="1298520" cy="576000"/>
              <a:chOff x="3851280" y="2057400"/>
              <a:chExt cx="1298520" cy="576000"/>
            </a:xfrm>
          </p:grpSpPr>
          <p:sp>
            <p:nvSpPr>
              <p:cNvPr id="380" name="WordArt 662"/>
              <p:cNvSpPr txBox="1"/>
              <p:nvPr/>
            </p:nvSpPr>
            <p:spPr>
              <a:xfrm>
                <a:off x="4068720" y="20574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1" name="WordArt 663"/>
              <p:cNvSpPr txBox="1"/>
              <p:nvPr/>
            </p:nvSpPr>
            <p:spPr>
              <a:xfrm>
                <a:off x="4140360" y="235584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82" name="WordArt 664"/>
              <p:cNvSpPr txBox="1"/>
              <p:nvPr/>
            </p:nvSpPr>
            <p:spPr>
              <a:xfrm>
                <a:off x="3851280" y="250020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383" name="Group 665"/>
            <p:cNvGrpSpPr/>
            <p:nvPr/>
          </p:nvGrpSpPr>
          <p:grpSpPr>
            <a:xfrm>
              <a:off x="5867280" y="3137040"/>
              <a:ext cx="1298520" cy="576000"/>
              <a:chOff x="5867280" y="3137040"/>
              <a:chExt cx="1298520" cy="576000"/>
            </a:xfrm>
          </p:grpSpPr>
          <p:sp>
            <p:nvSpPr>
              <p:cNvPr id="384" name="WordArt 666"/>
              <p:cNvSpPr txBox="1"/>
              <p:nvPr/>
            </p:nvSpPr>
            <p:spPr>
              <a:xfrm>
                <a:off x="6084720" y="31370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5" name="WordArt 667"/>
              <p:cNvSpPr txBox="1"/>
              <p:nvPr/>
            </p:nvSpPr>
            <p:spPr>
              <a:xfrm>
                <a:off x="6156360" y="34354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86" name="WordArt 668"/>
              <p:cNvSpPr txBox="1"/>
              <p:nvPr/>
            </p:nvSpPr>
            <p:spPr>
              <a:xfrm>
                <a:off x="5867280" y="357984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387" name="Group 669"/>
            <p:cNvGrpSpPr/>
            <p:nvPr/>
          </p:nvGrpSpPr>
          <p:grpSpPr>
            <a:xfrm>
              <a:off x="1835280" y="3137040"/>
              <a:ext cx="1298520" cy="576000"/>
              <a:chOff x="1835280" y="3137040"/>
              <a:chExt cx="1298520" cy="576000"/>
            </a:xfrm>
          </p:grpSpPr>
          <p:sp>
            <p:nvSpPr>
              <p:cNvPr id="388" name="WordArt 670"/>
              <p:cNvSpPr txBox="1"/>
              <p:nvPr/>
            </p:nvSpPr>
            <p:spPr>
              <a:xfrm>
                <a:off x="2052720" y="31370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9" name="WordArt 671"/>
              <p:cNvSpPr txBox="1"/>
              <p:nvPr/>
            </p:nvSpPr>
            <p:spPr>
              <a:xfrm>
                <a:off x="2124360" y="34354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90" name="WordArt 672"/>
              <p:cNvSpPr txBox="1"/>
              <p:nvPr/>
            </p:nvSpPr>
            <p:spPr>
              <a:xfrm>
                <a:off x="1835280" y="357984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sp>
        <p:nvSpPr>
          <p:cNvPr id="391" name="矩形 30"/>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8:40Z</dcterms:created>
  <dc:creator>빌 게이츠</dc:creator>
  <dc:description/>
  <dc:language>en-US</dc:language>
  <cp:lastModifiedBy>陈魁</cp:lastModifiedBy>
  <dcterms:modified xsi:type="dcterms:W3CDTF">2012-08-19T16:19:40Z</dcterms:modified>
  <cp:revision>2</cp:revision>
  <dc:subject/>
  <dc:title>P.P.Template Korea</dc:title>
</cp:coreProperties>
</file>