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43D-5F43-4230-B97E-E09BE0FE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C53-2A96-4C5A-A8AB-F7058CB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4D5-DD78-4F43-9CE6-EAD6D723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CBD-8399-4BC3-A33F-3F1DEACB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DE3-518F-4FA0-930B-2E58AE9A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476F-464D-40A3-9590-954DB1C8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46C-8DB7-42E1-BEB6-021F4FA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256E-FD62-4E9A-B0AF-4C135C18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C75C-8167-489F-A029-18CC781D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2427-10AB-423D-8E04-81EC2DC2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68B9-40C6-45A3-A2DE-6F2312C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97E-AECD-4E81-99A5-D506504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2158-E4C4-40E4-964D-3331DFA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0DC-2759-4658-99DA-9A12806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FC2-2CA4-46EE-9433-0EA4A08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44C2-BA6F-4E42-ABB5-2D99D4B6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BD45-F23E-4800-A677-8BB51EBD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3450-C4E9-4711-BEF6-8F0A22B1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AAED-1D98-43D9-9C4B-17C2928D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51AF-498D-47F8-B393-14DF3161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7563-B5B0-45E0-BEAB-87BF263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4C24-D244-4369-9F1A-99F634A6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758-4B4F-46AD-9226-0C272CF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FF12-2BA6-4A9A-99DE-738CD84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9C0C-3C39-4592-A54A-1A893E25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5BDA-1338-43B7-8D9E-5591EB9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916C-1879-46F4-8DB8-646C500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F2FC-1218-4EF1-B9D8-B643347D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D973-5DE6-43B5-B5DA-71BBB71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0261-AFBE-4AC6-8917-6D0624D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4409-1BB0-4743-8A80-A5AA9AA0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9A6C-DEC0-47AB-A03E-5C88773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F64F-C290-4E64-A61B-3D051145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E24-784A-46F7-B980-D36C413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DBB3-6A87-4DB5-A618-93E85B3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8148-49DC-4707-87CF-C86105DD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234A-74C8-409E-9F94-52FC5F22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E71F-C249-4644-8DFE-D0F1A39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F3D2-A9B0-46E4-B9F2-7F2A787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7F95-8C7E-4111-BC6B-45B8FD9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AE76-578B-4760-B0D1-36D01943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112C-AFFA-46FE-B817-C496800D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0402-EC1B-4486-8076-44A2D384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D81-6100-4A19-81D6-B0C44F84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C33-DA03-4422-A4EF-5E65072D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22D-6728-49CD-A649-125C92DF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C0D-FD9F-4834-AE92-39CD16AE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546-AE01-4222-9FB5-0DF8BD0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74E-EF32-45A8-A02B-88FCA3C1CC9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C5FB-262D-4404-9198-02ADF3137C6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6A0-FB73-48DD-A5AE-AECBAF986B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126-02A4-443D-891D-5D701A9927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580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583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585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7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588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590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593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597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01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26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31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34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37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40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43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4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45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48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50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2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53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55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7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58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60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64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66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69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71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3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74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5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76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679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696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99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0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2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3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09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0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1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2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3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31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779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76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481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483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486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488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12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14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17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19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22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6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27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29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32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3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34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37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39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1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52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53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5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56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8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61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62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7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70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71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74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6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zzf</cp:lastModifiedBy>
  <dcterms:modified xsi:type="dcterms:W3CDTF">2016-03-24T06:02:47Z</dcterms:modified>
  <cp:revision>79</cp:revision>
  <dc:subject/>
  <dc:title>PowerPoint 演示文稿</dc:title>
</cp:coreProperties>
</file>