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B7F-0323-403C-944E-1DEBDE47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054-86A6-411B-85BC-198D8569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717-FF41-43FF-BE59-75DED841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E8A-D241-4300-90E3-78F7B5E9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155-FF95-49FE-9A2F-F5F2E62D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5BC-D1F1-4DC2-A432-592FFE61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85C-B707-4E9C-872E-B6D4EEA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FFB-63FA-42D1-B606-F43D2835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7CB-2A94-4AE3-A33A-EF04F3A5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858-67FA-4AB8-9F16-A715E3B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195-9B23-499A-B746-CDB59C2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36B-94FC-4634-9446-C20568F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4D4E-0BD3-4417-A238-16B2A9C9CB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:\希言\新建文件夹\ppt-02.png"/>
          <p:cNvPicPr/>
          <p:nvPr/>
        </p:nvPicPr>
        <p:blipFill>
          <a:blip r:embed="rId3"/>
          <a:stretch/>
        </p:blipFill>
        <p:spPr>
          <a:xfrm>
            <a:off x="795240" y="1471680"/>
            <a:ext cx="7491600" cy="798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UNNY-PC</cp:lastModifiedBy>
  <dcterms:modified xsi:type="dcterms:W3CDTF">2015-01-06T16:21:49Z</dcterms:modified>
  <cp:revision>1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