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AEC-C5D4-4505-A13E-6405A045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CED-8938-450A-9DE5-BC1E8E0B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179B-2ABF-462C-8059-1254FF6C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D69-A4F1-4A2C-8699-6739A076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D8A-042B-41EF-99C0-9ED55721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016-61EB-4668-A2D4-C0570FFD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50D-2B9A-4CCA-BED0-EF41B071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6D3-2561-49B8-833E-1E641609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B27-903C-475D-AE4D-1DE89687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9C8-0A30-4929-8E0C-F0DE4512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A05-2F5B-42FA-8BAE-7DFD43BA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D73-5EA9-4351-A274-641F776F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ADC8-FF8C-44D7-B396-358F69D9117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19CA-B0EC-4209-96BA-727BAFE784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0" t="450" r="0" b="954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45" name="TextBox 19">
              <a:hlinkClick r:id="rId1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21">
              <a:hlinkClick r:id="rId2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22">
              <a:hlinkClick r:id="rId3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23">
              <a:hlinkClick r:id="rId4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24">
              <a:hlinkClick r:id="rId5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1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52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"/>
          <p:cNvPicPr/>
          <p:nvPr/>
        </p:nvPicPr>
        <p:blipFill>
          <a:blip r:embed="rId6"/>
          <a:srcRect l="0" t="17725" r="105" b="38219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燕尾形 1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燕尾形 2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燕尾形 3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燕尾形 4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燕尾形 5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燕尾形 6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燕尾形 7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燕尾形 8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燕尾形 9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燕尾形 10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燕尾形 11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燕尾形 12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5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15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15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15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1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5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1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5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1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1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1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5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1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5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29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8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32" name="TextBox 20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25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31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32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燕尾形 1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燕尾形 2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燕尾形 3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燕尾形 4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燕尾形 5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燕尾形 6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燕尾形 7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燕尾形 8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燕尾形 9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燕尾形 10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燕尾形 11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12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5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5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5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5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5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15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8" dur="15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5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15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5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15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15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5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15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5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1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15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5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1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5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5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1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5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1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5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59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3" descr=""/>
          <p:cNvPicPr/>
          <p:nvPr/>
        </p:nvPicPr>
        <p:blipFill>
          <a:blip r:embed="rId1"/>
          <a:srcRect l="0" t="17725" r="105" b="38219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63" name="燕尾形 39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燕尾形 4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燕尾形 41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燕尾形 42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燕尾形 43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燕尾形 44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燕尾形 45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燕尾形 46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燕尾形 47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燕尾形 48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燕尾形 49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燕尾形 50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76" name="TextBox 52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53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54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55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56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5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5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5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5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5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5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5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85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2" descr=""/>
          <p:cNvPicPr/>
          <p:nvPr/>
        </p:nvPicPr>
        <p:blipFill>
          <a:blip r:embed="rId1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89" name="TextBox 17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20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5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31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32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矩形 16"/>
          <p:cNvSpPr/>
          <p:nvPr/>
        </p:nvSpPr>
        <p:spPr>
          <a:xfrm>
            <a:off x="1440" y="4913280"/>
            <a:ext cx="71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99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" descr=""/>
          <p:cNvPicPr/>
          <p:nvPr/>
        </p:nvPicPr>
        <p:blipFill>
          <a:blip r:embed="rId1"/>
          <a:srcRect l="142" t="16637" r="-138" b="42012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rcRect l="215" t="23654" r="-204" b="35036"/>
          <a:stretch/>
        </p:blipFill>
        <p:spPr>
          <a:xfrm>
            <a:off x="-7920" y="1851120"/>
            <a:ext cx="9163080" cy="2520720"/>
          </a:xfrm>
          <a:prstGeom prst="rect">
            <a:avLst/>
          </a:prstGeom>
          <a:ln w="0">
            <a:noFill/>
          </a:ln>
        </p:spPr>
      </p:pic>
      <p:sp>
        <p:nvSpPr>
          <p:cNvPr id="103" name="燕尾形 17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燕尾形 2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16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45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5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25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2" descr=""/>
          <p:cNvPicPr/>
          <p:nvPr/>
        </p:nvPicPr>
        <p:blipFill>
          <a:blip r:embed="rId1"/>
          <a:srcRect l="215" t="23654" r="-204" b="35036"/>
          <a:stretch/>
        </p:blipFill>
        <p:spPr>
          <a:xfrm>
            <a:off x="-7920" y="1851120"/>
            <a:ext cx="916308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29" name="TextBox 20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25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1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32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3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38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2" descr=""/>
          <p:cNvPicPr/>
          <p:nvPr/>
        </p:nvPicPr>
        <p:blipFill>
          <a:blip r:embed="rId1"/>
          <a:srcRect l="215" t="23654" r="-204" b="35036"/>
          <a:stretch/>
        </p:blipFill>
        <p:spPr>
          <a:xfrm>
            <a:off x="-7920" y="1851120"/>
            <a:ext cx="9163080" cy="252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142" name="燕尾形 17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燕尾形 2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55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45">
              <a:hlinkClick r:id="rId7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5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15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5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1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5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1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5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64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9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68" name="TextBox 20">
              <a:hlinkClick r:id="rId2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25">
              <a:hlinkClick r:id="rId3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31">
              <a:hlinkClick r:id="rId4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32">
              <a:hlinkClick r:id="rId5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33">
              <a:hlinkClick r:id="rId6" action="ppaction://hlinksldjump"/>
            </p:cNvPr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177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rcRect l="0" t="16155" r="-9" b="49388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181" name="燕尾形 17"/>
          <p:cNvSpPr/>
          <p:nvPr/>
        </p:nvSpPr>
        <p:spPr>
          <a:xfrm>
            <a:off x="-1006560" y="1851120"/>
            <a:ext cx="1708200" cy="252072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燕尾形 20"/>
          <p:cNvSpPr/>
          <p:nvPr/>
        </p:nvSpPr>
        <p:spPr>
          <a:xfrm>
            <a:off x="-150840" y="1851120"/>
            <a:ext cx="1706760" cy="252072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燕尾形 25"/>
          <p:cNvSpPr/>
          <p:nvPr/>
        </p:nvSpPr>
        <p:spPr>
          <a:xfrm>
            <a:off x="70164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燕尾形 31"/>
          <p:cNvSpPr/>
          <p:nvPr/>
        </p:nvSpPr>
        <p:spPr>
          <a:xfrm>
            <a:off x="155592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燕尾形 32"/>
          <p:cNvSpPr/>
          <p:nvPr/>
        </p:nvSpPr>
        <p:spPr>
          <a:xfrm>
            <a:off x="241128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燕尾形 33"/>
          <p:cNvSpPr/>
          <p:nvPr/>
        </p:nvSpPr>
        <p:spPr>
          <a:xfrm>
            <a:off x="326700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燕尾形 34"/>
          <p:cNvSpPr/>
          <p:nvPr/>
        </p:nvSpPr>
        <p:spPr>
          <a:xfrm>
            <a:off x="412128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燕尾形 35"/>
          <p:cNvSpPr/>
          <p:nvPr/>
        </p:nvSpPr>
        <p:spPr>
          <a:xfrm>
            <a:off x="497664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6"/>
          <p:cNvSpPr/>
          <p:nvPr/>
        </p:nvSpPr>
        <p:spPr>
          <a:xfrm>
            <a:off x="583236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7"/>
          <p:cNvSpPr/>
          <p:nvPr/>
        </p:nvSpPr>
        <p:spPr>
          <a:xfrm>
            <a:off x="6686640" y="1851120"/>
            <a:ext cx="1711080" cy="252072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燕尾形 38"/>
          <p:cNvSpPr/>
          <p:nvPr/>
        </p:nvSpPr>
        <p:spPr>
          <a:xfrm>
            <a:off x="7542360" y="1851120"/>
            <a:ext cx="1709640" cy="252072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39"/>
          <p:cNvSpPr/>
          <p:nvPr/>
        </p:nvSpPr>
        <p:spPr>
          <a:xfrm>
            <a:off x="8397720" y="1851120"/>
            <a:ext cx="1710000" cy="2520720"/>
          </a:xfrm>
          <a:custGeom>
            <a:avLst/>
            <a:gdLst>
              <a:gd name="textAreaLeft" fmla="*/ 0 w 1710000"/>
              <a:gd name="textAreaRight" fmla="*/ 1710360 w 171000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32" y="0"/>
                </a:lnTo>
                <a:lnTo>
                  <a:pt x="21600" y="10800"/>
                </a:lnTo>
                <a:lnTo>
                  <a:pt x="10732" y="21600"/>
                </a:lnTo>
                <a:lnTo>
                  <a:pt x="0" y="21600"/>
                </a:lnTo>
                <a:lnTo>
                  <a:pt x="10868" y="10800"/>
                </a:lnTo>
                <a:close/>
              </a:path>
            </a:pathLst>
          </a:custGeom>
          <a:solidFill>
            <a:srgbClr val="3f3f3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2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194" name="TextBox 41">
              <a:hlinkClick r:id="rId3" action="ppaction://hlinksldjump"/>
            </p:cNvPr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42">
              <a:hlinkClick r:id="rId4" action="ppaction://hlinksldjump"/>
            </p:cNvPr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43">
              <a:hlinkClick r:id="rId5" action="ppaction://hlinksldjump"/>
            </p:cNvPr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44">
              <a:hlinkClick r:id="rId6" action="ppaction://hlinksldjump"/>
            </p:cNvPr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45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5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3" presetSubtype="27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5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5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3" presetSubtype="27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5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3" presetSubtype="27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3" presetSubtype="27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5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3" presetSubtype="272">
                                  <p:stCondLst>
                                    <p:cond delay="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3" presetSubtype="27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3" presetSubtype="27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5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5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3" presetSubtype="27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5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3" presetSubtype="272">
                                  <p:stCondLst>
                                    <p:cond delay="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5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5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27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272">
                                  <p:stCondLst>
                                    <p:cond delay="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5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4"/>
          <p:cNvSpPr/>
          <p:nvPr/>
        </p:nvSpPr>
        <p:spPr>
          <a:xfrm>
            <a:off x="0" y="1851120"/>
            <a:ext cx="9144000" cy="252072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18"/>
          <p:cNvSpPr/>
          <p:nvPr/>
        </p:nvSpPr>
        <p:spPr>
          <a:xfrm>
            <a:off x="914400" y="195120"/>
            <a:ext cx="1285920" cy="1285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8"/>
          <p:cNvSpPr/>
          <p:nvPr/>
        </p:nvSpPr>
        <p:spPr>
          <a:xfrm>
            <a:off x="914400" y="407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Microsoft Himalay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5"/>
          <p:cNvGrpSpPr/>
          <p:nvPr/>
        </p:nvGrpSpPr>
        <p:grpSpPr>
          <a:xfrm>
            <a:off x="914400" y="758880"/>
            <a:ext cx="1285920" cy="703800"/>
            <a:chOff x="914400" y="758880"/>
            <a:chExt cx="1285920" cy="703800"/>
          </a:xfrm>
        </p:grpSpPr>
        <p:sp>
          <p:nvSpPr>
            <p:cNvPr id="203" name="TextBox 27"/>
            <p:cNvSpPr/>
            <p:nvPr/>
          </p:nvSpPr>
          <p:spPr>
            <a:xfrm>
              <a:off x="914400" y="75888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icrosoft Himalaya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29"/>
            <p:cNvSpPr/>
            <p:nvPr/>
          </p:nvSpPr>
          <p:spPr>
            <a:xfrm>
              <a:off x="1185120" y="974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icrosoft Himalaya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Picture 2" descr=""/>
          <p:cNvPicPr/>
          <p:nvPr/>
        </p:nvPicPr>
        <p:blipFill>
          <a:blip r:embed="rId1"/>
          <a:srcRect l="532" t="6381" r="210" b="48203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2"/>
          <a:srcRect l="0" t="16155" r="-9" b="49388"/>
          <a:stretch/>
        </p:blipFill>
        <p:spPr>
          <a:xfrm>
            <a:off x="0" y="1851120"/>
            <a:ext cx="9144000" cy="25207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10"/>
          <p:cNvGrpSpPr/>
          <p:nvPr/>
        </p:nvGrpSpPr>
        <p:grpSpPr>
          <a:xfrm>
            <a:off x="3660840" y="949320"/>
            <a:ext cx="4897440" cy="947160"/>
            <a:chOff x="3660840" y="949320"/>
            <a:chExt cx="4897440" cy="947160"/>
          </a:xfrm>
        </p:grpSpPr>
        <p:sp>
          <p:nvSpPr>
            <p:cNvPr id="208" name="TextBox 20"/>
            <p:cNvSpPr/>
            <p:nvPr/>
          </p:nvSpPr>
          <p:spPr>
            <a:xfrm>
              <a:off x="366084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25"/>
            <p:cNvSpPr/>
            <p:nvPr/>
          </p:nvSpPr>
          <p:spPr>
            <a:xfrm>
              <a:off x="463968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31"/>
            <p:cNvSpPr/>
            <p:nvPr/>
          </p:nvSpPr>
          <p:spPr>
            <a:xfrm>
              <a:off x="561852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32"/>
            <p:cNvSpPr/>
            <p:nvPr/>
          </p:nvSpPr>
          <p:spPr>
            <a:xfrm>
              <a:off x="659736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fbfbf"/>
                  </a:solidFill>
                  <a:latin typeface="Microsoft Himalaya"/>
                </a:rPr>
                <a:t>Text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33"/>
            <p:cNvSpPr/>
            <p:nvPr/>
          </p:nvSpPr>
          <p:spPr>
            <a:xfrm>
              <a:off x="7576200" y="949320"/>
              <a:ext cx="98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icrosoft Himalaya"/>
                </a:rPr>
                <a:t>Text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8T13:34:00Z</dcterms:created>
  <dc:creator>微软中国</dc:creator>
  <dc:description/>
  <cp:keywords/>
  <dc:language>en-US</dc:language>
  <cp:lastModifiedBy>administrator</cp:lastModifiedBy>
  <cp:lastPrinted>1899-12-30T00:00:00Z</cp:lastPrinted>
  <dcterms:modified xsi:type="dcterms:W3CDTF">2015-10-21T12:51:58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