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216F-64C9-4F4A-A485-BD721B04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6A37-491F-4AC6-9774-3C4E66A5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1A26-45FF-4B80-BC3B-89F222B4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73E3-9D46-4606-AE50-641CFA6E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192B-4776-4FE8-9640-40468E01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424D-BB2B-4018-A37C-432E4493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5805-7535-4732-9164-0D57C1BB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915-6982-431A-BADD-9D415DDE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343F-EDDB-4181-BCBE-F1EE48A8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83CE-F4ED-4EFE-8B2A-FE882B75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2DF1-E4AA-477D-81FF-06C666FC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B989-97BE-4FC7-BB09-B5D4E125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131D-CF90-481A-95BD-B14A3D50875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9F94-C9AE-43FE-8D61-5C501F5F9B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063960" y="274968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02600" y="442584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44000" y="17175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  <a:ea typeface="Calibri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07480" y="41608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2240" y="1395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03040" y="58467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Calibri"/>
                <a:ea typeface="Calibri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2592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55940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0108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84276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271840" y="591012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044960" y="2511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3978360" y="41212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646000" y="2603520"/>
            <a:ext cx="9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Calibri"/>
                <a:ea typeface="Calibri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24680" y="281304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Calibri"/>
                <a:ea typeface="Calibri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071280" y="2700360"/>
            <a:ext cx="8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Calibri"/>
                <a:ea typeface="Calibri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226480" y="299664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93640" y="294552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90440" y="284076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900520" y="262728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Calibri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40720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802908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108520" y="177012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490240" y="410220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19160" y="25779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23984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15476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407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4903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Administrator</cp:lastModifiedBy>
  <dcterms:modified xsi:type="dcterms:W3CDTF">2016-07-26T02:14:05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