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E45CA-D2F2-416C-93F1-024CF8F3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E4F15-8644-4E69-8C6A-B727BD55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5B1D5-583F-4CD4-AA9E-B29639A8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1C0C4-CFFC-484B-9390-05FC3B2D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66D1C-CE84-42BE-B014-D6A6CE40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F82D1-7542-4FFE-8C09-2C8FF4FC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D6AB3-B296-4818-A33D-8D181CA9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F5806-D053-44A0-A7E6-17A3CFD6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A8C21-558F-43C3-AAD6-4D4D4937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21937-CAA8-42CE-9BAE-5C30D103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673E1-D9D0-454A-90C9-0B207FF8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0E2F6-4AFA-4781-80C8-A96FA6AF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F30DC-8284-4ECB-9108-A6D81EA0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13F0C-1C50-47B7-9C5C-48C28DCF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4E17B-C598-4D26-A5D3-29F4CECD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91923-8671-4097-B864-EA3DFD80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27D4F-5763-42E4-BC38-4374F488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03DCE-919C-4F98-A72C-6E5877D4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FB71A-E0E8-4D2E-9432-24CF4B79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DC0A9-BFFA-457E-91C7-8535BD3E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F9C71-8947-4C71-8084-470CA0F5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39E67-DE59-4033-A22A-8D7D0164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01537-8228-49FE-BB15-98955681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F1C06-4D8C-409F-A5D3-C7811F40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2B7F3-1A8C-4644-B599-B2EEEA32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5C0C1-6652-4D1F-8AB0-1996AEB7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19279-2D8C-4788-949D-DDC2E033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16C1D-B28A-40A2-AC11-EFA75107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5542A-77A6-482E-B832-FCB57356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ABD8E-12DE-417A-9231-AF910752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80B01-2782-4C27-9967-C509CA5A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82526-3ECC-4403-A374-DC947049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B897C-C319-4EE4-9821-B39A1D9F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605CA-1C06-40F2-8958-C7DE1110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29740-7572-4A91-99DD-C9A69BE2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A9BDD-0B56-4643-B359-DA04B645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BC7D2-A302-4461-B309-4C0EE302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6BCFE-7823-47F6-8D7C-264A7CF4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F2A45-213B-46B1-B672-DB840419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0F740-BF45-4595-9925-DF58AA7A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5562D-528A-4C0B-B108-2AAA0D1F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BB440-C0BA-4BEA-ABB0-818C81F2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E4A5B-576E-44FD-ACC6-B16F6781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A28E2-B8BD-409D-906E-ADE9159F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301F8-2893-4499-90DB-B2B6100E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3386-68F9-45CE-AD93-67C21189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18B4-E61F-411A-B82F-95BADA51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76F-C335-499E-B787-7740C886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3D50-BCA4-4E7F-BEA2-39C500C1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9D1-DB03-4001-A119-FEF9B78D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C16-81A0-4841-8DD8-9B51F967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385A-409C-49E8-A0DE-1E8FCDA0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654D-3A9F-49C9-9E19-5E27A589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E88-D0B5-472E-96BA-139D1E69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2B9-8CBD-46C6-830B-811BD504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47B-F452-437D-87FB-83BA48B9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33C-3285-4368-9EAA-68B0D9CC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369E-4D5D-48A0-9C8D-E9A27AA6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C895-911A-435B-BE00-9CB61513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AFA7-BB9C-4AC9-8B74-3BA761CD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F276-D461-425D-BD82-B1C46C23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2748-D190-4824-92F9-53912C8F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9475-080C-4739-87FD-89EE6780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69DE-7308-48F1-A983-58F1D627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BD95-8ECA-43AA-9AC4-95750BCC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F9F3-C6AE-4606-83D2-E6D3F3EF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B481-B91A-4F4E-B2BE-9BB72988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AEBC-A314-40A9-9CA1-42EE2AEC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D58B-9799-4832-809E-215AAB24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76D47-6629-4667-8088-C4D964A5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B0194-D2FF-4211-99D3-D6C8F98B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499E5-E555-4513-BE75-E235277E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FE6B1-03B5-4905-B9FD-3B8B20DB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E60EC-C71B-4E0E-8F5B-897347F3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36EBD-7B30-4EC3-8BA4-C562A765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2B3FF-0D18-4C44-8FA7-FB7986E9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78830-C395-4322-98FB-A384FFD2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2D1C5-8FEE-4FD8-A9FA-3081B799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1CAFA-5FA8-4D26-AB13-3BB2B64D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21F3D-5C21-4AA5-A2E7-853CF48E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7E0FE-4B3E-454E-8CAA-33E03971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0CADB-7522-4054-9C38-F0D3703E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2DBD9-F769-4D86-9D8F-EA9A331B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DE1E3-BACF-4E7F-8863-52D8237A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DF8DB-89E4-4071-B3CA-545E682F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BA59F-EF4D-47F4-B8A3-B8FECB72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96362-69A9-4192-92CF-6815C15F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893EC-8671-46DE-96AF-7763E8BA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081D6-4E96-491A-A85F-59E09291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A5A28-1D8B-41C7-A1C0-69C1DE31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54033-6A88-44EB-956C-33B22EFE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51449-A1C1-4724-ABB5-340E0946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EB7C5-572A-47CC-BB35-F7734873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58773-3C4A-4876-A0B4-3951E340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52505-39BD-43E8-999B-185C2ADA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5EECB-891B-4233-B849-E7C50016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15BF6-9BE3-483A-9C6D-D2853DE1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90A45-DEC1-4E40-89E4-B5B0D89D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1EE3D-C7EC-427B-8C94-D647CFE7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CC82F-964D-4380-A34B-9D62DE7D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12373-4049-4EF0-B2AB-F188735D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73C7C-BE3E-48A0-86DC-2A9472EC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E42D4-52F1-4C7F-8D41-C0009F3C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DD3F2-5E43-4242-8900-52360EA7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CE2EF-14B0-4FBC-A2AD-32B49FBB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CFB5F-EFCA-4733-9B7B-F96379B9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E0B7F-9B77-4EE7-B732-0349B3A9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4A929-0628-475B-89C7-D49D88EC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4317A-9C5F-4443-B953-EE15D8EB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11EA4-B107-404F-BAD5-6769A1E8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1F51D-9230-4660-AAD0-5EAB5844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90289-55D5-429B-941C-C0962B0A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2D0BE-3876-4FA7-BD36-37CF0295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D7C1E-C13A-47CE-93FC-BF59A4FE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81DFD-25AA-4B4F-A9D9-8B88B7BE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36634-B3B5-4EA3-AB96-C7326190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C3626-FF3C-4C06-B710-572DA8AF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D021A-F8CE-44DB-B96E-81035EA0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7D4E8-1087-4DF2-92C2-AC9C0033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0D676-1D01-49A2-89A4-7E73EDC5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2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794E-F195-4D0F-AE34-47996DA0BB5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18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419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13D1-D910-40AD-B7F4-19F474CC4AA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F4ED-BBED-4F20-BAA2-F24FC9A7BB2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41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4" descr=""/>
          <p:cNvPicPr/>
          <p:nvPr/>
        </p:nvPicPr>
        <p:blipFill>
          <a:blip r:embed="rId5"/>
          <a:srcRect l="5547" t="0" r="5547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96C8-A504-4518-8424-0B7C0885CAC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BA86-7D36-4BA1-8E6A-77A4DEE2BE7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069B-FDF5-4D7A-9D06-F18BCF82F07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2B29-B735-4167-960C-8A7FAF3D9B1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A85D-4E79-4F0C-82B3-85F2F01E03C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1FCB-6BCE-4EBA-9D60-97022FF198F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5D74-B76E-42B7-9DB5-D13231670F4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图片 4" descr=""/>
          <p:cNvPicPr/>
          <p:nvPr/>
        </p:nvPicPr>
        <p:blipFill>
          <a:blip r:embed="rId1"/>
          <a:stretch/>
        </p:blipFill>
        <p:spPr>
          <a:xfrm>
            <a:off x="3600360" y="1238400"/>
            <a:ext cx="4762440" cy="1904760"/>
          </a:xfrm>
          <a:prstGeom prst="rect">
            <a:avLst/>
          </a:prstGeom>
          <a:ln w="0">
            <a:noFill/>
          </a:ln>
        </p:spPr>
      </p:pic>
      <p:grpSp>
        <p:nvGrpSpPr>
          <p:cNvPr id="502" name="组合 8"/>
          <p:cNvGrpSpPr/>
          <p:nvPr/>
        </p:nvGrpSpPr>
        <p:grpSpPr>
          <a:xfrm>
            <a:off x="2743200" y="3562200"/>
            <a:ext cx="6705720" cy="1219320"/>
            <a:chOff x="2743200" y="3562200"/>
            <a:chExt cx="6705720" cy="1219320"/>
          </a:xfrm>
        </p:grpSpPr>
        <p:sp>
          <p:nvSpPr>
            <p:cNvPr id="503" name="直接连接符 6"/>
            <p:cNvSpPr/>
            <p:nvPr/>
          </p:nvSpPr>
          <p:spPr>
            <a:xfrm>
              <a:off x="2743200" y="3562200"/>
              <a:ext cx="6705720" cy="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直接连接符 7"/>
            <p:cNvSpPr/>
            <p:nvPr/>
          </p:nvSpPr>
          <p:spPr>
            <a:xfrm>
              <a:off x="2743200" y="4781520"/>
              <a:ext cx="6705720" cy="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5" name="矩形 9"/>
          <p:cNvSpPr/>
          <p:nvPr/>
        </p:nvSpPr>
        <p:spPr>
          <a:xfrm>
            <a:off x="2374920" y="3817800"/>
            <a:ext cx="74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多彩个人工作总结述职报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Freeform 5"/>
          <p:cNvSpPr/>
          <p:nvPr/>
        </p:nvSpPr>
        <p:spPr>
          <a:xfrm>
            <a:off x="6132600" y="2771640"/>
            <a:ext cx="1657440" cy="2333880"/>
          </a:xfrm>
          <a:custGeom>
            <a:avLst/>
            <a:gdLst/>
            <a:ahLst/>
            <a:rect l="l" t="t" r="r" b="b"/>
            <a:pathLst>
              <a:path w="1467" h="2068">
                <a:moveTo>
                  <a:pt x="1467" y="571"/>
                </a:moveTo>
                <a:cubicBezTo>
                  <a:pt x="1467" y="1909"/>
                  <a:pt x="1467" y="1909"/>
                  <a:pt x="1467" y="1909"/>
                </a:cubicBezTo>
                <a:cubicBezTo>
                  <a:pt x="1467" y="1996"/>
                  <a:pt x="1396" y="2068"/>
                  <a:pt x="1309" y="2068"/>
                </a:cubicBezTo>
                <a:cubicBezTo>
                  <a:pt x="724" y="2068"/>
                  <a:pt x="724" y="2068"/>
                  <a:pt x="724" y="2068"/>
                </a:cubicBezTo>
                <a:cubicBezTo>
                  <a:pt x="637" y="2068"/>
                  <a:pt x="566" y="1996"/>
                  <a:pt x="566" y="1909"/>
                </a:cubicBezTo>
                <a:cubicBezTo>
                  <a:pt x="566" y="571"/>
                  <a:pt x="566" y="571"/>
                  <a:pt x="566" y="571"/>
                </a:cubicBezTo>
                <a:cubicBezTo>
                  <a:pt x="566" y="568"/>
                  <a:pt x="566" y="565"/>
                  <a:pt x="566" y="562"/>
                </a:cubicBezTo>
                <a:cubicBezTo>
                  <a:pt x="556" y="262"/>
                  <a:pt x="311" y="19"/>
                  <a:pt x="3" y="1"/>
                </a:cubicBezTo>
                <a:cubicBezTo>
                  <a:pt x="2" y="1"/>
                  <a:pt x="1" y="0"/>
                  <a:pt x="0" y="0"/>
                </a:cubicBezTo>
                <a:cubicBezTo>
                  <a:pt x="896" y="0"/>
                  <a:pt x="896" y="0"/>
                  <a:pt x="896" y="0"/>
                </a:cubicBezTo>
                <a:cubicBezTo>
                  <a:pt x="1211" y="0"/>
                  <a:pt x="1467" y="256"/>
                  <a:pt x="1467" y="571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Freeform 6"/>
          <p:cNvSpPr/>
          <p:nvPr/>
        </p:nvSpPr>
        <p:spPr>
          <a:xfrm>
            <a:off x="5443560" y="1733400"/>
            <a:ext cx="2332080" cy="1656000"/>
          </a:xfrm>
          <a:custGeom>
            <a:avLst/>
            <a:gdLst/>
            <a:ahLst/>
            <a:rect l="l" t="t" r="r" b="b"/>
            <a:pathLst>
              <a:path w="2067" h="1468">
                <a:moveTo>
                  <a:pt x="571" y="0"/>
                </a:moveTo>
                <a:cubicBezTo>
                  <a:pt x="1909" y="0"/>
                  <a:pt x="1909" y="0"/>
                  <a:pt x="1909" y="0"/>
                </a:cubicBezTo>
                <a:cubicBezTo>
                  <a:pt x="1996" y="0"/>
                  <a:pt x="2067" y="71"/>
                  <a:pt x="2067" y="159"/>
                </a:cubicBezTo>
                <a:cubicBezTo>
                  <a:pt x="2067" y="743"/>
                  <a:pt x="2067" y="743"/>
                  <a:pt x="2067" y="743"/>
                </a:cubicBezTo>
                <a:cubicBezTo>
                  <a:pt x="2067" y="831"/>
                  <a:pt x="1996" y="902"/>
                  <a:pt x="1909" y="902"/>
                </a:cubicBezTo>
                <a:cubicBezTo>
                  <a:pt x="571" y="902"/>
                  <a:pt x="571" y="902"/>
                  <a:pt x="571" y="902"/>
                </a:cubicBezTo>
                <a:cubicBezTo>
                  <a:pt x="568" y="902"/>
                  <a:pt x="565" y="902"/>
                  <a:pt x="562" y="902"/>
                </a:cubicBezTo>
                <a:cubicBezTo>
                  <a:pt x="261" y="911"/>
                  <a:pt x="19" y="1156"/>
                  <a:pt x="1" y="1464"/>
                </a:cubicBezTo>
                <a:cubicBezTo>
                  <a:pt x="0" y="1465"/>
                  <a:pt x="0" y="1467"/>
                  <a:pt x="0" y="1468"/>
                </a:cubicBezTo>
                <a:cubicBezTo>
                  <a:pt x="0" y="571"/>
                  <a:pt x="0" y="571"/>
                  <a:pt x="0" y="571"/>
                </a:cubicBezTo>
                <a:cubicBezTo>
                  <a:pt x="0" y="256"/>
                  <a:pt x="256" y="0"/>
                  <a:pt x="571" y="0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7"/>
          <p:cNvSpPr/>
          <p:nvPr/>
        </p:nvSpPr>
        <p:spPr>
          <a:xfrm>
            <a:off x="4402080" y="1747800"/>
            <a:ext cx="1657440" cy="2332080"/>
          </a:xfrm>
          <a:custGeom>
            <a:avLst/>
            <a:gdLst/>
            <a:ahLst/>
            <a:rect l="l" t="t" r="r" b="b"/>
            <a:pathLst>
              <a:path w="1467" h="2068">
                <a:moveTo>
                  <a:pt x="0" y="1497"/>
                </a:moveTo>
                <a:cubicBezTo>
                  <a:pt x="0" y="159"/>
                  <a:pt x="0" y="159"/>
                  <a:pt x="0" y="159"/>
                </a:cubicBezTo>
                <a:cubicBezTo>
                  <a:pt x="0" y="72"/>
                  <a:pt x="71" y="0"/>
                  <a:pt x="158" y="0"/>
                </a:cubicBezTo>
                <a:cubicBezTo>
                  <a:pt x="743" y="0"/>
                  <a:pt x="743" y="0"/>
                  <a:pt x="743" y="0"/>
                </a:cubicBezTo>
                <a:cubicBezTo>
                  <a:pt x="830" y="0"/>
                  <a:pt x="901" y="72"/>
                  <a:pt x="901" y="159"/>
                </a:cubicBezTo>
                <a:cubicBezTo>
                  <a:pt x="901" y="1497"/>
                  <a:pt x="901" y="1497"/>
                  <a:pt x="901" y="1497"/>
                </a:cubicBezTo>
                <a:cubicBezTo>
                  <a:pt x="901" y="1500"/>
                  <a:pt x="901" y="1503"/>
                  <a:pt x="902" y="1506"/>
                </a:cubicBezTo>
                <a:cubicBezTo>
                  <a:pt x="911" y="1806"/>
                  <a:pt x="1156" y="2049"/>
                  <a:pt x="1464" y="2067"/>
                </a:cubicBezTo>
                <a:cubicBezTo>
                  <a:pt x="1465" y="2067"/>
                  <a:pt x="1466" y="2068"/>
                  <a:pt x="1467" y="2068"/>
                </a:cubicBezTo>
                <a:cubicBezTo>
                  <a:pt x="571" y="2068"/>
                  <a:pt x="571" y="2068"/>
                  <a:pt x="571" y="2068"/>
                </a:cubicBezTo>
                <a:cubicBezTo>
                  <a:pt x="256" y="2068"/>
                  <a:pt x="0" y="1812"/>
                  <a:pt x="0" y="1497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reeform 8"/>
          <p:cNvSpPr/>
          <p:nvPr/>
        </p:nvSpPr>
        <p:spPr>
          <a:xfrm>
            <a:off x="4417920" y="3463920"/>
            <a:ext cx="2333880" cy="1655640"/>
          </a:xfrm>
          <a:custGeom>
            <a:avLst/>
            <a:gdLst/>
            <a:ahLst/>
            <a:rect l="l" t="t" r="r" b="b"/>
            <a:pathLst>
              <a:path w="2068" h="1468">
                <a:moveTo>
                  <a:pt x="1497" y="1468"/>
                </a:moveTo>
                <a:cubicBezTo>
                  <a:pt x="158" y="1468"/>
                  <a:pt x="158" y="1468"/>
                  <a:pt x="158" y="1468"/>
                </a:cubicBezTo>
                <a:cubicBezTo>
                  <a:pt x="71" y="1468"/>
                  <a:pt x="0" y="1397"/>
                  <a:pt x="0" y="1309"/>
                </a:cubicBezTo>
                <a:cubicBezTo>
                  <a:pt x="0" y="725"/>
                  <a:pt x="0" y="725"/>
                  <a:pt x="0" y="725"/>
                </a:cubicBezTo>
                <a:cubicBezTo>
                  <a:pt x="0" y="637"/>
                  <a:pt x="71" y="566"/>
                  <a:pt x="158" y="566"/>
                </a:cubicBezTo>
                <a:cubicBezTo>
                  <a:pt x="1497" y="566"/>
                  <a:pt x="1497" y="566"/>
                  <a:pt x="1497" y="566"/>
                </a:cubicBezTo>
                <a:cubicBezTo>
                  <a:pt x="1500" y="566"/>
                  <a:pt x="1503" y="566"/>
                  <a:pt x="1506" y="566"/>
                </a:cubicBezTo>
                <a:cubicBezTo>
                  <a:pt x="1806" y="557"/>
                  <a:pt x="2049" y="312"/>
                  <a:pt x="2067" y="4"/>
                </a:cubicBezTo>
                <a:cubicBezTo>
                  <a:pt x="2067" y="3"/>
                  <a:pt x="2067" y="1"/>
                  <a:pt x="2068" y="0"/>
                </a:cubicBezTo>
                <a:cubicBezTo>
                  <a:pt x="2068" y="897"/>
                  <a:pt x="2068" y="897"/>
                  <a:pt x="2068" y="897"/>
                </a:cubicBezTo>
                <a:cubicBezTo>
                  <a:pt x="2068" y="1212"/>
                  <a:pt x="1811" y="1468"/>
                  <a:pt x="1497" y="1468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矩形 28"/>
          <p:cNvSpPr/>
          <p:nvPr/>
        </p:nvSpPr>
        <p:spPr>
          <a:xfrm>
            <a:off x="4629240" y="20700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Malgun Gothic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矩形 29"/>
          <p:cNvSpPr/>
          <p:nvPr/>
        </p:nvSpPr>
        <p:spPr>
          <a:xfrm>
            <a:off x="7084080" y="19875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Malgun Gothic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矩形 30"/>
          <p:cNvSpPr/>
          <p:nvPr/>
        </p:nvSpPr>
        <p:spPr>
          <a:xfrm>
            <a:off x="7020720" y="44276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Malgun Gothic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矩形 31"/>
          <p:cNvSpPr/>
          <p:nvPr/>
        </p:nvSpPr>
        <p:spPr>
          <a:xfrm>
            <a:off x="4607640" y="43480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Malgun Gothic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57"/>
          <p:cNvSpPr/>
          <p:nvPr/>
        </p:nvSpPr>
        <p:spPr>
          <a:xfrm>
            <a:off x="1465200" y="18194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Box 57"/>
          <p:cNvSpPr/>
          <p:nvPr/>
        </p:nvSpPr>
        <p:spPr>
          <a:xfrm>
            <a:off x="8039160" y="18194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Box 57"/>
          <p:cNvSpPr/>
          <p:nvPr/>
        </p:nvSpPr>
        <p:spPr>
          <a:xfrm>
            <a:off x="1465200" y="4237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Box 57"/>
          <p:cNvSpPr/>
          <p:nvPr/>
        </p:nvSpPr>
        <p:spPr>
          <a:xfrm>
            <a:off x="8039160" y="4237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文本框 13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Freeform 8"/>
          <p:cNvSpPr/>
          <p:nvPr/>
        </p:nvSpPr>
        <p:spPr>
          <a:xfrm>
            <a:off x="4465800" y="1808280"/>
            <a:ext cx="1187280" cy="1373040"/>
          </a:xfrm>
          <a:custGeom>
            <a:avLst/>
            <a:gdLst/>
            <a:ahLst/>
            <a:rect l="l" t="t" r="r" b="b"/>
            <a:pathLst>
              <a:path w="1240" h="1434">
                <a:moveTo>
                  <a:pt x="0" y="0"/>
                </a:moveTo>
                <a:lnTo>
                  <a:pt x="1240" y="718"/>
                </a:lnTo>
                <a:lnTo>
                  <a:pt x="0" y="1434"/>
                </a:lnTo>
                <a:lnTo>
                  <a:pt x="333" y="718"/>
                </a:lnTo>
                <a:lnTo>
                  <a:pt x="0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reeform 9"/>
          <p:cNvSpPr/>
          <p:nvPr/>
        </p:nvSpPr>
        <p:spPr>
          <a:xfrm>
            <a:off x="5060880" y="1808280"/>
            <a:ext cx="1187640" cy="1373040"/>
          </a:xfrm>
          <a:custGeom>
            <a:avLst/>
            <a:gdLst/>
            <a:ahLst/>
            <a:rect l="l" t="t" r="r" b="b"/>
            <a:pathLst>
              <a:path w="1240" h="1434">
                <a:moveTo>
                  <a:pt x="0" y="0"/>
                </a:moveTo>
                <a:lnTo>
                  <a:pt x="109" y="234"/>
                </a:lnTo>
                <a:lnTo>
                  <a:pt x="945" y="718"/>
                </a:lnTo>
                <a:lnTo>
                  <a:pt x="109" y="1200"/>
                </a:lnTo>
                <a:lnTo>
                  <a:pt x="0" y="1434"/>
                </a:lnTo>
                <a:lnTo>
                  <a:pt x="124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21"/>
          <p:cNvSpPr/>
          <p:nvPr/>
        </p:nvSpPr>
        <p:spPr>
          <a:xfrm>
            <a:off x="5160960" y="2398680"/>
            <a:ext cx="211320" cy="209520"/>
          </a:xfrm>
          <a:custGeom>
            <a:avLst/>
            <a:gdLst/>
            <a:ahLst/>
            <a:rect l="l" t="t" r="r" b="b"/>
            <a:pathLst>
              <a:path w="129" h="128">
                <a:moveTo>
                  <a:pt x="62" y="0"/>
                </a:moveTo>
                <a:cubicBezTo>
                  <a:pt x="48" y="1"/>
                  <a:pt x="35" y="7"/>
                  <a:pt x="24" y="18"/>
                </a:cubicBezTo>
                <a:cubicBezTo>
                  <a:pt x="0" y="42"/>
                  <a:pt x="0" y="80"/>
                  <a:pt x="24" y="104"/>
                </a:cubicBezTo>
                <a:cubicBezTo>
                  <a:pt x="48" y="128"/>
                  <a:pt x="87" y="128"/>
                  <a:pt x="111" y="104"/>
                </a:cubicBezTo>
                <a:cubicBezTo>
                  <a:pt x="122" y="94"/>
                  <a:pt x="127" y="80"/>
                  <a:pt x="129" y="66"/>
                </a:cubicBezTo>
                <a:cubicBezTo>
                  <a:pt x="62" y="66"/>
                  <a:pt x="62" y="66"/>
                  <a:pt x="62" y="66"/>
                </a:cubicBezTo>
                <a:lnTo>
                  <a:pt x="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reeform 22"/>
          <p:cNvSpPr/>
          <p:nvPr/>
        </p:nvSpPr>
        <p:spPr>
          <a:xfrm>
            <a:off x="5278320" y="2381400"/>
            <a:ext cx="109800" cy="109440"/>
          </a:xfrm>
          <a:custGeom>
            <a:avLst/>
            <a:gdLst/>
            <a:ahLst/>
            <a:rect l="l" t="t" r="r" b="b"/>
            <a:pathLst>
              <a:path w="68" h="68">
                <a:moveTo>
                  <a:pt x="49" y="20"/>
                </a:moveTo>
                <a:cubicBezTo>
                  <a:pt x="35" y="6"/>
                  <a:pt x="18" y="0"/>
                  <a:pt x="0" y="2"/>
                </a:cubicBezTo>
                <a:cubicBezTo>
                  <a:pt x="0" y="68"/>
                  <a:pt x="0" y="68"/>
                  <a:pt x="0" y="68"/>
                </a:cubicBezTo>
                <a:cubicBezTo>
                  <a:pt x="66" y="68"/>
                  <a:pt x="66" y="68"/>
                  <a:pt x="66" y="68"/>
                </a:cubicBezTo>
                <a:cubicBezTo>
                  <a:pt x="68" y="51"/>
                  <a:pt x="62" y="33"/>
                  <a:pt x="4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组合 36" descr=""/>
          <p:cNvPicPr/>
          <p:nvPr/>
        </p:nvPicPr>
        <p:blipFill>
          <a:blip r:embed="rId1"/>
          <a:stretch/>
        </p:blipFill>
        <p:spPr>
          <a:xfrm>
            <a:off x="5681520" y="3017880"/>
            <a:ext cx="695520" cy="779400"/>
          </a:xfrm>
          <a:prstGeom prst="rect">
            <a:avLst/>
          </a:prstGeom>
          <a:ln w="0">
            <a:noFill/>
          </a:ln>
        </p:spPr>
      </p:pic>
      <p:sp>
        <p:nvSpPr>
          <p:cNvPr id="732" name="Freeform 14"/>
          <p:cNvSpPr/>
          <p:nvPr/>
        </p:nvSpPr>
        <p:spPr>
          <a:xfrm>
            <a:off x="6321600" y="2362320"/>
            <a:ext cx="1415880" cy="1145880"/>
          </a:xfrm>
          <a:custGeom>
            <a:avLst/>
            <a:gdLst/>
            <a:ahLst/>
            <a:rect l="l" t="t" r="r" b="b"/>
            <a:pathLst>
              <a:path w="556" h="482">
                <a:moveTo>
                  <a:pt x="556" y="0"/>
                </a:moveTo>
                <a:lnTo>
                  <a:pt x="465" y="43"/>
                </a:lnTo>
                <a:lnTo>
                  <a:pt x="278" y="366"/>
                </a:lnTo>
                <a:lnTo>
                  <a:pt x="91" y="43"/>
                </a:lnTo>
                <a:lnTo>
                  <a:pt x="0" y="0"/>
                </a:lnTo>
                <a:lnTo>
                  <a:pt x="278" y="482"/>
                </a:lnTo>
                <a:lnTo>
                  <a:pt x="556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15"/>
          <p:cNvSpPr/>
          <p:nvPr/>
        </p:nvSpPr>
        <p:spPr>
          <a:xfrm>
            <a:off x="6321600" y="1789200"/>
            <a:ext cx="1415880" cy="1146240"/>
          </a:xfrm>
          <a:custGeom>
            <a:avLst/>
            <a:gdLst/>
            <a:ahLst/>
            <a:rect l="l" t="t" r="r" b="b"/>
            <a:pathLst>
              <a:path w="556" h="482">
                <a:moveTo>
                  <a:pt x="556" y="0"/>
                </a:moveTo>
                <a:lnTo>
                  <a:pt x="278" y="482"/>
                </a:lnTo>
                <a:lnTo>
                  <a:pt x="0" y="0"/>
                </a:lnTo>
                <a:lnTo>
                  <a:pt x="278" y="130"/>
                </a:lnTo>
                <a:lnTo>
                  <a:pt x="556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14"/>
          <p:cNvSpPr/>
          <p:nvPr/>
        </p:nvSpPr>
        <p:spPr>
          <a:xfrm rot="10800000">
            <a:off x="4409640" y="3429000"/>
            <a:ext cx="1244520" cy="1077840"/>
          </a:xfrm>
          <a:custGeom>
            <a:avLst/>
            <a:gdLst/>
            <a:ahLst/>
            <a:rect l="l" t="t" r="r" b="b"/>
            <a:pathLst>
              <a:path w="556" h="482">
                <a:moveTo>
                  <a:pt x="556" y="0"/>
                </a:moveTo>
                <a:lnTo>
                  <a:pt x="465" y="43"/>
                </a:lnTo>
                <a:lnTo>
                  <a:pt x="278" y="366"/>
                </a:lnTo>
                <a:lnTo>
                  <a:pt x="91" y="43"/>
                </a:lnTo>
                <a:lnTo>
                  <a:pt x="0" y="0"/>
                </a:lnTo>
                <a:lnTo>
                  <a:pt x="278" y="482"/>
                </a:lnTo>
                <a:lnTo>
                  <a:pt x="556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15"/>
          <p:cNvSpPr/>
          <p:nvPr/>
        </p:nvSpPr>
        <p:spPr>
          <a:xfrm rot="10800000">
            <a:off x="4409640" y="3966840"/>
            <a:ext cx="1244520" cy="1079640"/>
          </a:xfrm>
          <a:custGeom>
            <a:avLst/>
            <a:gdLst/>
            <a:ahLst/>
            <a:rect l="l" t="t" r="r" b="b"/>
            <a:pathLst>
              <a:path w="556" h="482">
                <a:moveTo>
                  <a:pt x="556" y="0"/>
                </a:moveTo>
                <a:lnTo>
                  <a:pt x="278" y="482"/>
                </a:lnTo>
                <a:lnTo>
                  <a:pt x="0" y="0"/>
                </a:lnTo>
                <a:lnTo>
                  <a:pt x="278" y="130"/>
                </a:lnTo>
                <a:lnTo>
                  <a:pt x="556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14"/>
          <p:cNvSpPr/>
          <p:nvPr/>
        </p:nvSpPr>
        <p:spPr>
          <a:xfrm rot="5400000">
            <a:off x="5762880" y="3807720"/>
            <a:ext cx="1417680" cy="1145880"/>
          </a:xfrm>
          <a:custGeom>
            <a:avLst/>
            <a:gdLst/>
            <a:ahLst/>
            <a:rect l="l" t="t" r="r" b="b"/>
            <a:pathLst>
              <a:path w="556" h="482">
                <a:moveTo>
                  <a:pt x="556" y="0"/>
                </a:moveTo>
                <a:lnTo>
                  <a:pt x="465" y="43"/>
                </a:lnTo>
                <a:lnTo>
                  <a:pt x="278" y="366"/>
                </a:lnTo>
                <a:lnTo>
                  <a:pt x="91" y="43"/>
                </a:lnTo>
                <a:lnTo>
                  <a:pt x="0" y="0"/>
                </a:lnTo>
                <a:lnTo>
                  <a:pt x="278" y="482"/>
                </a:lnTo>
                <a:lnTo>
                  <a:pt x="556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15"/>
          <p:cNvSpPr/>
          <p:nvPr/>
        </p:nvSpPr>
        <p:spPr>
          <a:xfrm rot="5400000">
            <a:off x="6336360" y="3807720"/>
            <a:ext cx="1417680" cy="1146240"/>
          </a:xfrm>
          <a:custGeom>
            <a:avLst/>
            <a:gdLst/>
            <a:ahLst/>
            <a:rect l="l" t="t" r="r" b="b"/>
            <a:pathLst>
              <a:path w="556" h="482">
                <a:moveTo>
                  <a:pt x="556" y="0"/>
                </a:moveTo>
                <a:lnTo>
                  <a:pt x="278" y="482"/>
                </a:lnTo>
                <a:lnTo>
                  <a:pt x="0" y="0"/>
                </a:lnTo>
                <a:lnTo>
                  <a:pt x="278" y="130"/>
                </a:lnTo>
                <a:lnTo>
                  <a:pt x="556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Oval 42"/>
          <p:cNvSpPr/>
          <p:nvPr/>
        </p:nvSpPr>
        <p:spPr>
          <a:xfrm>
            <a:off x="4943520" y="4213080"/>
            <a:ext cx="73080" cy="6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43"/>
          <p:cNvSpPr/>
          <p:nvPr/>
        </p:nvSpPr>
        <p:spPr>
          <a:xfrm>
            <a:off x="5030640" y="4194000"/>
            <a:ext cx="8892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44"/>
          <p:cNvSpPr/>
          <p:nvPr/>
        </p:nvSpPr>
        <p:spPr>
          <a:xfrm>
            <a:off x="4943520" y="4297320"/>
            <a:ext cx="730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45"/>
          <p:cNvSpPr/>
          <p:nvPr/>
        </p:nvSpPr>
        <p:spPr>
          <a:xfrm>
            <a:off x="5030640" y="429732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reeform 36"/>
          <p:cNvSpPr/>
          <p:nvPr/>
        </p:nvSpPr>
        <p:spPr>
          <a:xfrm>
            <a:off x="6656400" y="4259160"/>
            <a:ext cx="222120" cy="195480"/>
          </a:xfrm>
          <a:custGeom>
            <a:avLst/>
            <a:gdLst/>
            <a:ahLst/>
            <a:rect l="l" t="t" r="r" b="b"/>
            <a:pathLst>
              <a:path w="134" h="117">
                <a:moveTo>
                  <a:pt x="134" y="20"/>
                </a:moveTo>
                <a:cubicBezTo>
                  <a:pt x="134" y="9"/>
                  <a:pt x="125" y="0"/>
                  <a:pt x="114" y="0"/>
                </a:cubicBezTo>
                <a:cubicBezTo>
                  <a:pt x="103" y="0"/>
                  <a:pt x="94" y="9"/>
                  <a:pt x="94" y="20"/>
                </a:cubicBezTo>
                <a:cubicBezTo>
                  <a:pt x="94" y="26"/>
                  <a:pt x="96" y="31"/>
                  <a:pt x="100" y="34"/>
                </a:cubicBezTo>
                <a:cubicBezTo>
                  <a:pt x="77" y="89"/>
                  <a:pt x="77" y="89"/>
                  <a:pt x="77" y="89"/>
                </a:cubicBezTo>
                <a:cubicBezTo>
                  <a:pt x="58" y="47"/>
                  <a:pt x="58" y="47"/>
                  <a:pt x="58" y="47"/>
                </a:cubicBezTo>
                <a:cubicBezTo>
                  <a:pt x="42" y="45"/>
                  <a:pt x="42" y="45"/>
                  <a:pt x="42" y="45"/>
                </a:cubicBezTo>
                <a:cubicBezTo>
                  <a:pt x="27" y="63"/>
                  <a:pt x="27" y="63"/>
                  <a:pt x="27" y="63"/>
                </a:cubicBezTo>
                <a:cubicBezTo>
                  <a:pt x="25" y="62"/>
                  <a:pt x="23" y="62"/>
                  <a:pt x="21" y="62"/>
                </a:cubicBezTo>
                <a:cubicBezTo>
                  <a:pt x="9" y="62"/>
                  <a:pt x="0" y="71"/>
                  <a:pt x="0" y="82"/>
                </a:cubicBezTo>
                <a:cubicBezTo>
                  <a:pt x="0" y="93"/>
                  <a:pt x="9" y="102"/>
                  <a:pt x="21" y="102"/>
                </a:cubicBezTo>
                <a:cubicBezTo>
                  <a:pt x="32" y="102"/>
                  <a:pt x="41" y="93"/>
                  <a:pt x="41" y="82"/>
                </a:cubicBezTo>
                <a:cubicBezTo>
                  <a:pt x="41" y="81"/>
                  <a:pt x="41" y="79"/>
                  <a:pt x="40" y="78"/>
                </a:cubicBezTo>
                <a:cubicBezTo>
                  <a:pt x="47" y="70"/>
                  <a:pt x="47" y="70"/>
                  <a:pt x="47" y="70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86" y="117"/>
                  <a:pt x="86" y="117"/>
                  <a:pt x="86" y="117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28" y="37"/>
                  <a:pt x="134" y="29"/>
                  <a:pt x="13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27"/>
          <p:cNvSpPr/>
          <p:nvPr/>
        </p:nvSpPr>
        <p:spPr>
          <a:xfrm>
            <a:off x="6973920" y="2548080"/>
            <a:ext cx="223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28"/>
          <p:cNvSpPr/>
          <p:nvPr/>
        </p:nvSpPr>
        <p:spPr>
          <a:xfrm>
            <a:off x="7015320" y="2523960"/>
            <a:ext cx="20520" cy="1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7051680" y="2508120"/>
            <a:ext cx="22320" cy="19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30"/>
          <p:cNvSpPr/>
          <p:nvPr/>
        </p:nvSpPr>
        <p:spPr>
          <a:xfrm>
            <a:off x="7089840" y="2606760"/>
            <a:ext cx="237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57"/>
          <p:cNvSpPr/>
          <p:nvPr/>
        </p:nvSpPr>
        <p:spPr>
          <a:xfrm>
            <a:off x="1393920" y="2071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57"/>
          <p:cNvSpPr/>
          <p:nvPr/>
        </p:nvSpPr>
        <p:spPr>
          <a:xfrm>
            <a:off x="8080200" y="2071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57"/>
          <p:cNvSpPr/>
          <p:nvPr/>
        </p:nvSpPr>
        <p:spPr>
          <a:xfrm>
            <a:off x="1393920" y="39369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57"/>
          <p:cNvSpPr/>
          <p:nvPr/>
        </p:nvSpPr>
        <p:spPr>
          <a:xfrm>
            <a:off x="8080200" y="39369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文本框 29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Group 4" descr=""/>
          <p:cNvPicPr/>
          <p:nvPr/>
        </p:nvPicPr>
        <p:blipFill>
          <a:blip r:embed="rId1"/>
          <a:stretch/>
        </p:blipFill>
        <p:spPr>
          <a:xfrm>
            <a:off x="573120" y="1809720"/>
            <a:ext cx="5199120" cy="3921120"/>
          </a:xfrm>
          <a:prstGeom prst="rect">
            <a:avLst/>
          </a:prstGeom>
          <a:ln w="0">
            <a:noFill/>
          </a:ln>
        </p:spPr>
      </p:pic>
      <p:sp>
        <p:nvSpPr>
          <p:cNvPr id="753" name="Freeform 15"/>
          <p:cNvSpPr/>
          <p:nvPr/>
        </p:nvSpPr>
        <p:spPr>
          <a:xfrm>
            <a:off x="1487520" y="3995640"/>
            <a:ext cx="831960" cy="833400"/>
          </a:xfrm>
          <a:custGeom>
            <a:avLst/>
            <a:gdLst/>
            <a:ahLst/>
            <a:rect l="l" t="t" r="r" b="b"/>
            <a:pathLst>
              <a:path w="132" h="132">
                <a:moveTo>
                  <a:pt x="108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21"/>
                  <a:pt x="11" y="132"/>
                  <a:pt x="24" y="132"/>
                </a:cubicBezTo>
                <a:cubicBezTo>
                  <a:pt x="108" y="132"/>
                  <a:pt x="108" y="132"/>
                  <a:pt x="108" y="132"/>
                </a:cubicBezTo>
                <a:cubicBezTo>
                  <a:pt x="121" y="132"/>
                  <a:pt x="132" y="121"/>
                  <a:pt x="132" y="108"/>
                </a:cubicBezTo>
                <a:cubicBezTo>
                  <a:pt x="132" y="24"/>
                  <a:pt x="132" y="24"/>
                  <a:pt x="132" y="24"/>
                </a:cubicBezTo>
                <a:cubicBezTo>
                  <a:pt x="132" y="11"/>
                  <a:pt x="121" y="0"/>
                  <a:pt x="108" y="0"/>
                </a:cubicBezTo>
                <a:moveTo>
                  <a:pt x="108" y="78"/>
                </a:moveTo>
                <a:cubicBezTo>
                  <a:pt x="78" y="78"/>
                  <a:pt x="78" y="78"/>
                  <a:pt x="78" y="78"/>
                </a:cubicBezTo>
                <a:cubicBezTo>
                  <a:pt x="78" y="108"/>
                  <a:pt x="78" y="108"/>
                  <a:pt x="78" y="108"/>
                </a:cubicBezTo>
                <a:cubicBezTo>
                  <a:pt x="54" y="108"/>
                  <a:pt x="54" y="108"/>
                  <a:pt x="54" y="108"/>
                </a:cubicBezTo>
                <a:cubicBezTo>
                  <a:pt x="54" y="78"/>
                  <a:pt x="54" y="78"/>
                  <a:pt x="5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54"/>
                  <a:pt x="24" y="54"/>
                  <a:pt x="24" y="54"/>
                </a:cubicBezTo>
                <a:cubicBezTo>
                  <a:pt x="54" y="54"/>
                  <a:pt x="54" y="54"/>
                  <a:pt x="54" y="54"/>
                </a:cubicBezTo>
                <a:cubicBezTo>
                  <a:pt x="54" y="24"/>
                  <a:pt x="54" y="24"/>
                  <a:pt x="54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54"/>
                  <a:pt x="78" y="54"/>
                  <a:pt x="78" y="54"/>
                </a:cubicBezTo>
                <a:cubicBezTo>
                  <a:pt x="108" y="54"/>
                  <a:pt x="108" y="54"/>
                  <a:pt x="108" y="54"/>
                </a:cubicBezTo>
                <a:lnTo>
                  <a:pt x="108" y="78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4" name="组合 65" descr=""/>
          <p:cNvPicPr/>
          <p:nvPr/>
        </p:nvPicPr>
        <p:blipFill>
          <a:blip r:embed="rId2"/>
          <a:stretch/>
        </p:blipFill>
        <p:spPr>
          <a:xfrm>
            <a:off x="3224160" y="242568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755" name="组合 72" descr=""/>
          <p:cNvPicPr/>
          <p:nvPr/>
        </p:nvPicPr>
        <p:blipFill>
          <a:blip r:embed="rId3"/>
          <a:stretch/>
        </p:blipFill>
        <p:spPr>
          <a:xfrm>
            <a:off x="3780000" y="4516560"/>
            <a:ext cx="554040" cy="463320"/>
          </a:xfrm>
          <a:prstGeom prst="rect">
            <a:avLst/>
          </a:prstGeom>
          <a:ln w="0">
            <a:noFill/>
          </a:ln>
        </p:spPr>
      </p:pic>
      <p:sp>
        <p:nvSpPr>
          <p:cNvPr id="756" name="Freeform 31"/>
          <p:cNvSpPr/>
          <p:nvPr/>
        </p:nvSpPr>
        <p:spPr>
          <a:xfrm>
            <a:off x="4775040" y="3294000"/>
            <a:ext cx="509760" cy="50976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72" y="36"/>
                </a:moveTo>
                <a:cubicBezTo>
                  <a:pt x="48" y="0"/>
                  <a:pt x="0" y="21"/>
                  <a:pt x="0" y="61"/>
                </a:cubicBezTo>
                <a:cubicBezTo>
                  <a:pt x="0" y="87"/>
                  <a:pt x="24" y="106"/>
                  <a:pt x="42" y="120"/>
                </a:cubicBezTo>
                <a:cubicBezTo>
                  <a:pt x="61" y="135"/>
                  <a:pt x="66" y="138"/>
                  <a:pt x="72" y="144"/>
                </a:cubicBezTo>
                <a:cubicBezTo>
                  <a:pt x="78" y="138"/>
                  <a:pt x="83" y="135"/>
                  <a:pt x="102" y="120"/>
                </a:cubicBezTo>
                <a:cubicBezTo>
                  <a:pt x="120" y="106"/>
                  <a:pt x="144" y="87"/>
                  <a:pt x="144" y="60"/>
                </a:cubicBezTo>
                <a:cubicBezTo>
                  <a:pt x="144" y="21"/>
                  <a:pt x="96" y="0"/>
                  <a:pt x="72" y="36"/>
                </a:cubicBezTo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57"/>
          <p:cNvSpPr/>
          <p:nvPr/>
        </p:nvSpPr>
        <p:spPr>
          <a:xfrm>
            <a:off x="5537160" y="2487600"/>
            <a:ext cx="3176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57"/>
          <p:cNvSpPr/>
          <p:nvPr/>
        </p:nvSpPr>
        <p:spPr>
          <a:xfrm>
            <a:off x="5537160" y="4243320"/>
            <a:ext cx="3176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57"/>
          <p:cNvSpPr/>
          <p:nvPr/>
        </p:nvSpPr>
        <p:spPr>
          <a:xfrm>
            <a:off x="8713800" y="2487600"/>
            <a:ext cx="3176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57"/>
          <p:cNvSpPr/>
          <p:nvPr/>
        </p:nvSpPr>
        <p:spPr>
          <a:xfrm>
            <a:off x="8713800" y="4243320"/>
            <a:ext cx="3176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文本框 24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组合 30" descr=""/>
          <p:cNvPicPr/>
          <p:nvPr/>
        </p:nvPicPr>
        <p:blipFill>
          <a:blip r:embed="rId1"/>
          <a:stretch/>
        </p:blipFill>
        <p:spPr>
          <a:xfrm>
            <a:off x="8912160" y="2712960"/>
            <a:ext cx="2498760" cy="1279440"/>
          </a:xfrm>
          <a:prstGeom prst="rect">
            <a:avLst/>
          </a:prstGeom>
          <a:ln w="0">
            <a:noFill/>
          </a:ln>
        </p:spPr>
      </p:pic>
      <p:pic>
        <p:nvPicPr>
          <p:cNvPr id="763" name="组合 34" descr=""/>
          <p:cNvPicPr/>
          <p:nvPr/>
        </p:nvPicPr>
        <p:blipFill>
          <a:blip r:embed="rId2"/>
          <a:stretch/>
        </p:blipFill>
        <p:spPr>
          <a:xfrm>
            <a:off x="6967440" y="2712960"/>
            <a:ext cx="2505240" cy="1279440"/>
          </a:xfrm>
          <a:prstGeom prst="rect">
            <a:avLst/>
          </a:prstGeom>
          <a:ln w="0">
            <a:noFill/>
          </a:ln>
        </p:spPr>
      </p:pic>
      <p:pic>
        <p:nvPicPr>
          <p:cNvPr id="764" name="组合 39" descr=""/>
          <p:cNvPicPr/>
          <p:nvPr/>
        </p:nvPicPr>
        <p:blipFill>
          <a:blip r:embed="rId3"/>
          <a:stretch/>
        </p:blipFill>
        <p:spPr>
          <a:xfrm>
            <a:off x="5029200" y="2712960"/>
            <a:ext cx="2498760" cy="1279440"/>
          </a:xfrm>
          <a:prstGeom prst="rect">
            <a:avLst/>
          </a:prstGeom>
          <a:ln w="0">
            <a:noFill/>
          </a:ln>
        </p:spPr>
      </p:pic>
      <p:pic>
        <p:nvPicPr>
          <p:cNvPr id="765" name="组合 43" descr=""/>
          <p:cNvPicPr/>
          <p:nvPr/>
        </p:nvPicPr>
        <p:blipFill>
          <a:blip r:embed="rId4"/>
          <a:stretch/>
        </p:blipFill>
        <p:spPr>
          <a:xfrm>
            <a:off x="3090960" y="2712960"/>
            <a:ext cx="2498760" cy="1279440"/>
          </a:xfrm>
          <a:prstGeom prst="rect">
            <a:avLst/>
          </a:prstGeom>
          <a:ln w="0">
            <a:noFill/>
          </a:ln>
        </p:spPr>
      </p:pic>
      <p:pic>
        <p:nvPicPr>
          <p:cNvPr id="766" name="组合 47" descr=""/>
          <p:cNvPicPr/>
          <p:nvPr/>
        </p:nvPicPr>
        <p:blipFill>
          <a:blip r:embed="rId5"/>
          <a:stretch/>
        </p:blipFill>
        <p:spPr>
          <a:xfrm>
            <a:off x="1146240" y="2712960"/>
            <a:ext cx="2504880" cy="1279440"/>
          </a:xfrm>
          <a:prstGeom prst="rect">
            <a:avLst/>
          </a:prstGeom>
          <a:ln w="0">
            <a:noFill/>
          </a:ln>
        </p:spPr>
      </p:pic>
      <p:sp>
        <p:nvSpPr>
          <p:cNvPr id="767" name="TextBox 57"/>
          <p:cNvSpPr/>
          <p:nvPr/>
        </p:nvSpPr>
        <p:spPr>
          <a:xfrm>
            <a:off x="646200" y="1762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Box 57"/>
          <p:cNvSpPr/>
          <p:nvPr/>
        </p:nvSpPr>
        <p:spPr>
          <a:xfrm>
            <a:off x="2754360" y="41054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Box 57"/>
          <p:cNvSpPr/>
          <p:nvPr/>
        </p:nvSpPr>
        <p:spPr>
          <a:xfrm>
            <a:off x="5016600" y="1762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57"/>
          <p:cNvSpPr/>
          <p:nvPr/>
        </p:nvSpPr>
        <p:spPr>
          <a:xfrm>
            <a:off x="7124760" y="41054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Box 57"/>
          <p:cNvSpPr/>
          <p:nvPr/>
        </p:nvSpPr>
        <p:spPr>
          <a:xfrm>
            <a:off x="9104400" y="1762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文本框 26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Freeform 12"/>
          <p:cNvSpPr/>
          <p:nvPr/>
        </p:nvSpPr>
        <p:spPr>
          <a:xfrm>
            <a:off x="5324400" y="1484280"/>
            <a:ext cx="2651040" cy="2014560"/>
          </a:xfrm>
          <a:custGeom>
            <a:avLst/>
            <a:gdLst/>
            <a:ahLst/>
            <a:rect l="l" t="t" r="r" b="b"/>
            <a:pathLst>
              <a:path w="774" h="588">
                <a:moveTo>
                  <a:pt x="774" y="353"/>
                </a:moveTo>
                <a:cubicBezTo>
                  <a:pt x="235" y="353"/>
                  <a:pt x="235" y="353"/>
                  <a:pt x="235" y="353"/>
                </a:cubicBezTo>
                <a:cubicBezTo>
                  <a:pt x="108" y="353"/>
                  <a:pt x="5" y="453"/>
                  <a:pt x="0" y="579"/>
                </a:cubicBezTo>
                <a:cubicBezTo>
                  <a:pt x="0" y="579"/>
                  <a:pt x="0" y="579"/>
                  <a:pt x="0" y="579"/>
                </a:cubicBezTo>
                <a:cubicBezTo>
                  <a:pt x="0" y="581"/>
                  <a:pt x="0" y="583"/>
                  <a:pt x="0" y="585"/>
                </a:cubicBezTo>
                <a:cubicBezTo>
                  <a:pt x="0" y="586"/>
                  <a:pt x="0" y="587"/>
                  <a:pt x="0" y="588"/>
                </a:cubicBezTo>
                <a:cubicBezTo>
                  <a:pt x="0" y="236"/>
                  <a:pt x="0" y="236"/>
                  <a:pt x="0" y="236"/>
                </a:cubicBezTo>
                <a:cubicBezTo>
                  <a:pt x="0" y="107"/>
                  <a:pt x="103" y="2"/>
                  <a:pt x="231" y="0"/>
                </a:cubicBezTo>
                <a:cubicBezTo>
                  <a:pt x="233" y="0"/>
                  <a:pt x="234" y="0"/>
                  <a:pt x="235" y="0"/>
                </a:cubicBezTo>
                <a:cubicBezTo>
                  <a:pt x="236" y="0"/>
                  <a:pt x="237" y="0"/>
                  <a:pt x="238" y="0"/>
                </a:cubicBezTo>
                <a:cubicBezTo>
                  <a:pt x="475" y="1"/>
                  <a:pt x="679" y="143"/>
                  <a:pt x="771" y="345"/>
                </a:cubicBezTo>
                <a:cubicBezTo>
                  <a:pt x="772" y="348"/>
                  <a:pt x="773" y="350"/>
                  <a:pt x="774" y="353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Freeform 13"/>
          <p:cNvSpPr/>
          <p:nvPr/>
        </p:nvSpPr>
        <p:spPr>
          <a:xfrm>
            <a:off x="6129360" y="2693880"/>
            <a:ext cx="2014560" cy="2654280"/>
          </a:xfrm>
          <a:custGeom>
            <a:avLst/>
            <a:gdLst/>
            <a:ahLst/>
            <a:rect l="l" t="t" r="r" b="b"/>
            <a:pathLst>
              <a:path w="588" h="775">
                <a:moveTo>
                  <a:pt x="588" y="235"/>
                </a:moveTo>
                <a:cubicBezTo>
                  <a:pt x="588" y="237"/>
                  <a:pt x="588" y="238"/>
                  <a:pt x="588" y="239"/>
                </a:cubicBezTo>
                <a:cubicBezTo>
                  <a:pt x="587" y="478"/>
                  <a:pt x="442" y="684"/>
                  <a:pt x="236" y="775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36" y="105"/>
                  <a:pt x="130" y="0"/>
                  <a:pt x="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482" y="0"/>
                  <a:pt x="586" y="103"/>
                  <a:pt x="588" y="232"/>
                </a:cubicBezTo>
                <a:cubicBezTo>
                  <a:pt x="588" y="233"/>
                  <a:pt x="588" y="234"/>
                  <a:pt x="588" y="235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reeform 14"/>
          <p:cNvSpPr/>
          <p:nvPr/>
        </p:nvSpPr>
        <p:spPr>
          <a:xfrm>
            <a:off x="4282920" y="3498840"/>
            <a:ext cx="2654280" cy="2017800"/>
          </a:xfrm>
          <a:custGeom>
            <a:avLst/>
            <a:gdLst/>
            <a:ahLst/>
            <a:rect l="l" t="t" r="r" b="b"/>
            <a:pathLst>
              <a:path w="775" h="589">
                <a:moveTo>
                  <a:pt x="775" y="0"/>
                </a:moveTo>
                <a:cubicBezTo>
                  <a:pt x="775" y="353"/>
                  <a:pt x="775" y="353"/>
                  <a:pt x="775" y="353"/>
                </a:cubicBezTo>
                <a:cubicBezTo>
                  <a:pt x="775" y="482"/>
                  <a:pt x="671" y="587"/>
                  <a:pt x="543" y="589"/>
                </a:cubicBezTo>
                <a:cubicBezTo>
                  <a:pt x="542" y="589"/>
                  <a:pt x="540" y="589"/>
                  <a:pt x="539" y="589"/>
                </a:cubicBezTo>
                <a:cubicBezTo>
                  <a:pt x="538" y="589"/>
                  <a:pt x="537" y="589"/>
                  <a:pt x="536" y="589"/>
                </a:cubicBezTo>
                <a:cubicBezTo>
                  <a:pt x="296" y="587"/>
                  <a:pt x="90" y="443"/>
                  <a:pt x="0" y="236"/>
                </a:cubicBezTo>
                <a:cubicBezTo>
                  <a:pt x="539" y="236"/>
                  <a:pt x="539" y="236"/>
                  <a:pt x="539" y="236"/>
                </a:cubicBezTo>
                <a:cubicBezTo>
                  <a:pt x="669" y="236"/>
                  <a:pt x="775" y="131"/>
                  <a:pt x="775" y="0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Freeform 15"/>
          <p:cNvSpPr/>
          <p:nvPr/>
        </p:nvSpPr>
        <p:spPr>
          <a:xfrm>
            <a:off x="4114800" y="1652760"/>
            <a:ext cx="2014560" cy="2654280"/>
          </a:xfrm>
          <a:custGeom>
            <a:avLst/>
            <a:gdLst/>
            <a:ahLst/>
            <a:rect l="l" t="t" r="r" b="b"/>
            <a:pathLst>
              <a:path w="588" h="775">
                <a:moveTo>
                  <a:pt x="588" y="775"/>
                </a:moveTo>
                <a:cubicBezTo>
                  <a:pt x="235" y="775"/>
                  <a:pt x="235" y="775"/>
                  <a:pt x="235" y="775"/>
                </a:cubicBezTo>
                <a:cubicBezTo>
                  <a:pt x="107" y="775"/>
                  <a:pt x="2" y="672"/>
                  <a:pt x="0" y="543"/>
                </a:cubicBezTo>
                <a:cubicBezTo>
                  <a:pt x="0" y="542"/>
                  <a:pt x="0" y="541"/>
                  <a:pt x="0" y="539"/>
                </a:cubicBezTo>
                <a:cubicBezTo>
                  <a:pt x="0" y="538"/>
                  <a:pt x="0" y="537"/>
                  <a:pt x="0" y="536"/>
                </a:cubicBezTo>
                <a:cubicBezTo>
                  <a:pt x="1" y="297"/>
                  <a:pt x="146" y="91"/>
                  <a:pt x="353" y="0"/>
                </a:cubicBezTo>
                <a:cubicBezTo>
                  <a:pt x="353" y="539"/>
                  <a:pt x="353" y="539"/>
                  <a:pt x="353" y="539"/>
                </a:cubicBezTo>
                <a:cubicBezTo>
                  <a:pt x="353" y="670"/>
                  <a:pt x="458" y="775"/>
                  <a:pt x="588" y="775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矩形 60"/>
          <p:cNvSpPr/>
          <p:nvPr/>
        </p:nvSpPr>
        <p:spPr>
          <a:xfrm>
            <a:off x="4451040" y="27734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Malgun Gothic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矩形 61"/>
          <p:cNvSpPr/>
          <p:nvPr/>
        </p:nvSpPr>
        <p:spPr>
          <a:xfrm>
            <a:off x="5951160" y="18208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Malgun Gothic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矩形 62"/>
          <p:cNvSpPr/>
          <p:nvPr/>
        </p:nvSpPr>
        <p:spPr>
          <a:xfrm>
            <a:off x="7167960" y="3454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Malgun Gothic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矩形 63"/>
          <p:cNvSpPr/>
          <p:nvPr/>
        </p:nvSpPr>
        <p:spPr>
          <a:xfrm>
            <a:off x="5548680" y="4560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Malgun Gothic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矩形 64"/>
          <p:cNvSpPr/>
          <p:nvPr/>
        </p:nvSpPr>
        <p:spPr>
          <a:xfrm>
            <a:off x="5365800" y="33148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Impact"/>
                <a:ea typeface="Malgun Gothic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57"/>
          <p:cNvSpPr/>
          <p:nvPr/>
        </p:nvSpPr>
        <p:spPr>
          <a:xfrm>
            <a:off x="8317080" y="1854360"/>
            <a:ext cx="3176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Box 57"/>
          <p:cNvSpPr/>
          <p:nvPr/>
        </p:nvSpPr>
        <p:spPr>
          <a:xfrm>
            <a:off x="803160" y="1854360"/>
            <a:ext cx="3176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57"/>
          <p:cNvSpPr/>
          <p:nvPr/>
        </p:nvSpPr>
        <p:spPr>
          <a:xfrm>
            <a:off x="8317080" y="4394160"/>
            <a:ext cx="3176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57"/>
          <p:cNvSpPr/>
          <p:nvPr/>
        </p:nvSpPr>
        <p:spPr>
          <a:xfrm>
            <a:off x="803160" y="4394160"/>
            <a:ext cx="3176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文本框 14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Oval 5"/>
          <p:cNvSpPr/>
          <p:nvPr/>
        </p:nvSpPr>
        <p:spPr>
          <a:xfrm>
            <a:off x="5048280" y="2598840"/>
            <a:ext cx="1969920" cy="1979640"/>
          </a:xfrm>
          <a:prstGeom prst="ellipse">
            <a:avLst/>
          </a:prstGeom>
          <a:solidFill>
            <a:srgbClr val="a962a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6"/>
          <p:cNvSpPr/>
          <p:nvPr/>
        </p:nvSpPr>
        <p:spPr>
          <a:xfrm>
            <a:off x="3774960" y="1336680"/>
            <a:ext cx="2005200" cy="2389320"/>
          </a:xfrm>
          <a:custGeom>
            <a:avLst/>
            <a:gdLst/>
            <a:ahLst/>
            <a:rect l="l" t="t" r="r" b="b"/>
            <a:pathLst>
              <a:path w="414" h="493">
                <a:moveTo>
                  <a:pt x="414" y="150"/>
                </a:moveTo>
                <a:cubicBezTo>
                  <a:pt x="374" y="88"/>
                  <a:pt x="374" y="88"/>
                  <a:pt x="374" y="88"/>
                </a:cubicBezTo>
                <a:cubicBezTo>
                  <a:pt x="411" y="0"/>
                  <a:pt x="411" y="0"/>
                  <a:pt x="411" y="0"/>
                </a:cubicBezTo>
                <a:cubicBezTo>
                  <a:pt x="336" y="9"/>
                  <a:pt x="266" y="35"/>
                  <a:pt x="207" y="75"/>
                </a:cubicBezTo>
                <a:cubicBezTo>
                  <a:pt x="147" y="62"/>
                  <a:pt x="84" y="93"/>
                  <a:pt x="59" y="152"/>
                </a:cubicBezTo>
                <a:cubicBezTo>
                  <a:pt x="47" y="182"/>
                  <a:pt x="47" y="213"/>
                  <a:pt x="56" y="241"/>
                </a:cubicBezTo>
                <a:cubicBezTo>
                  <a:pt x="21" y="306"/>
                  <a:pt x="1" y="380"/>
                  <a:pt x="0" y="458"/>
                </a:cubicBezTo>
                <a:cubicBezTo>
                  <a:pt x="82" y="493"/>
                  <a:pt x="82" y="493"/>
                  <a:pt x="82" y="493"/>
                </a:cubicBezTo>
                <a:cubicBezTo>
                  <a:pt x="149" y="449"/>
                  <a:pt x="149" y="449"/>
                  <a:pt x="149" y="449"/>
                </a:cubicBezTo>
                <a:cubicBezTo>
                  <a:pt x="151" y="407"/>
                  <a:pt x="161" y="367"/>
                  <a:pt x="178" y="330"/>
                </a:cubicBezTo>
                <a:cubicBezTo>
                  <a:pt x="229" y="331"/>
                  <a:pt x="277" y="301"/>
                  <a:pt x="298" y="251"/>
                </a:cubicBezTo>
                <a:cubicBezTo>
                  <a:pt x="306" y="230"/>
                  <a:pt x="309" y="209"/>
                  <a:pt x="307" y="188"/>
                </a:cubicBezTo>
                <a:cubicBezTo>
                  <a:pt x="339" y="169"/>
                  <a:pt x="375" y="156"/>
                  <a:pt x="414" y="15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7"/>
          <p:cNvSpPr/>
          <p:nvPr/>
        </p:nvSpPr>
        <p:spPr>
          <a:xfrm>
            <a:off x="5861160" y="1317600"/>
            <a:ext cx="2392200" cy="1917720"/>
          </a:xfrm>
          <a:custGeom>
            <a:avLst/>
            <a:gdLst/>
            <a:ahLst/>
            <a:rect l="l" t="t" r="r" b="b"/>
            <a:pathLst>
              <a:path w="494" h="396">
                <a:moveTo>
                  <a:pt x="409" y="188"/>
                </a:moveTo>
                <a:cubicBezTo>
                  <a:pt x="418" y="131"/>
                  <a:pt x="387" y="72"/>
                  <a:pt x="331" y="49"/>
                </a:cubicBezTo>
                <a:cubicBezTo>
                  <a:pt x="300" y="36"/>
                  <a:pt x="267" y="36"/>
                  <a:pt x="238" y="47"/>
                </a:cubicBezTo>
                <a:cubicBezTo>
                  <a:pt x="177" y="17"/>
                  <a:pt x="108" y="1"/>
                  <a:pt x="36" y="0"/>
                </a:cubicBezTo>
                <a:cubicBezTo>
                  <a:pt x="0" y="87"/>
                  <a:pt x="0" y="87"/>
                  <a:pt x="0" y="87"/>
                </a:cubicBezTo>
                <a:cubicBezTo>
                  <a:pt x="40" y="149"/>
                  <a:pt x="40" y="149"/>
                  <a:pt x="40" y="149"/>
                </a:cubicBezTo>
                <a:cubicBezTo>
                  <a:pt x="80" y="150"/>
                  <a:pt x="117" y="158"/>
                  <a:pt x="152" y="172"/>
                </a:cubicBezTo>
                <a:cubicBezTo>
                  <a:pt x="154" y="221"/>
                  <a:pt x="183" y="268"/>
                  <a:pt x="232" y="288"/>
                </a:cubicBezTo>
                <a:cubicBezTo>
                  <a:pt x="255" y="297"/>
                  <a:pt x="279" y="300"/>
                  <a:pt x="302" y="296"/>
                </a:cubicBezTo>
                <a:cubicBezTo>
                  <a:pt x="322" y="326"/>
                  <a:pt x="336" y="360"/>
                  <a:pt x="344" y="396"/>
                </a:cubicBezTo>
                <a:cubicBezTo>
                  <a:pt x="413" y="352"/>
                  <a:pt x="413" y="352"/>
                  <a:pt x="413" y="352"/>
                </a:cubicBezTo>
                <a:cubicBezTo>
                  <a:pt x="494" y="386"/>
                  <a:pt x="494" y="386"/>
                  <a:pt x="494" y="386"/>
                </a:cubicBezTo>
                <a:cubicBezTo>
                  <a:pt x="481" y="312"/>
                  <a:pt x="451" y="245"/>
                  <a:pt x="409" y="188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8"/>
          <p:cNvSpPr/>
          <p:nvPr/>
        </p:nvSpPr>
        <p:spPr>
          <a:xfrm>
            <a:off x="6335640" y="3294000"/>
            <a:ext cx="1967040" cy="2508480"/>
          </a:xfrm>
          <a:custGeom>
            <a:avLst/>
            <a:gdLst/>
            <a:ahLst/>
            <a:rect l="l" t="t" r="r" b="b"/>
            <a:pathLst>
              <a:path w="406" h="518">
                <a:moveTo>
                  <a:pt x="370" y="330"/>
                </a:moveTo>
                <a:cubicBezTo>
                  <a:pt x="384" y="297"/>
                  <a:pt x="383" y="261"/>
                  <a:pt x="370" y="231"/>
                </a:cubicBezTo>
                <a:cubicBezTo>
                  <a:pt x="394" y="170"/>
                  <a:pt x="406" y="104"/>
                  <a:pt x="402" y="35"/>
                </a:cubicBezTo>
                <a:cubicBezTo>
                  <a:pt x="320" y="0"/>
                  <a:pt x="320" y="0"/>
                  <a:pt x="320" y="0"/>
                </a:cubicBezTo>
                <a:cubicBezTo>
                  <a:pt x="254" y="43"/>
                  <a:pt x="254" y="43"/>
                  <a:pt x="254" y="43"/>
                </a:cubicBezTo>
                <a:cubicBezTo>
                  <a:pt x="256" y="81"/>
                  <a:pt x="251" y="118"/>
                  <a:pt x="240" y="152"/>
                </a:cubicBezTo>
                <a:cubicBezTo>
                  <a:pt x="194" y="156"/>
                  <a:pt x="151" y="185"/>
                  <a:pt x="132" y="231"/>
                </a:cubicBezTo>
                <a:cubicBezTo>
                  <a:pt x="121" y="258"/>
                  <a:pt x="120" y="287"/>
                  <a:pt x="126" y="313"/>
                </a:cubicBezTo>
                <a:cubicBezTo>
                  <a:pt x="90" y="340"/>
                  <a:pt x="47" y="360"/>
                  <a:pt x="0" y="369"/>
                </a:cubicBezTo>
                <a:cubicBezTo>
                  <a:pt x="47" y="441"/>
                  <a:pt x="47" y="441"/>
                  <a:pt x="47" y="441"/>
                </a:cubicBezTo>
                <a:cubicBezTo>
                  <a:pt x="14" y="518"/>
                  <a:pt x="14" y="518"/>
                  <a:pt x="14" y="518"/>
                </a:cubicBezTo>
                <a:cubicBezTo>
                  <a:pt x="102" y="503"/>
                  <a:pt x="180" y="465"/>
                  <a:pt x="243" y="410"/>
                </a:cubicBezTo>
                <a:cubicBezTo>
                  <a:pt x="297" y="413"/>
                  <a:pt x="349" y="382"/>
                  <a:pt x="370" y="33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9"/>
          <p:cNvSpPr/>
          <p:nvPr/>
        </p:nvSpPr>
        <p:spPr>
          <a:xfrm>
            <a:off x="3789360" y="3792600"/>
            <a:ext cx="2498760" cy="2054160"/>
          </a:xfrm>
          <a:custGeom>
            <a:avLst/>
            <a:gdLst/>
            <a:ahLst/>
            <a:rect l="l" t="t" r="r" b="b"/>
            <a:pathLst>
              <a:path w="516" h="424">
                <a:moveTo>
                  <a:pt x="470" y="272"/>
                </a:moveTo>
                <a:cubicBezTo>
                  <a:pt x="424" y="273"/>
                  <a:pt x="379" y="264"/>
                  <a:pt x="339" y="247"/>
                </a:cubicBezTo>
                <a:cubicBezTo>
                  <a:pt x="336" y="199"/>
                  <a:pt x="306" y="155"/>
                  <a:pt x="259" y="136"/>
                </a:cubicBezTo>
                <a:cubicBezTo>
                  <a:pt x="239" y="127"/>
                  <a:pt x="217" y="124"/>
                  <a:pt x="196" y="127"/>
                </a:cubicBezTo>
                <a:cubicBezTo>
                  <a:pt x="172" y="89"/>
                  <a:pt x="156" y="46"/>
                  <a:pt x="149" y="0"/>
                </a:cubicBezTo>
                <a:cubicBezTo>
                  <a:pt x="84" y="42"/>
                  <a:pt x="84" y="42"/>
                  <a:pt x="84" y="42"/>
                </a:cubicBezTo>
                <a:cubicBezTo>
                  <a:pt x="0" y="7"/>
                  <a:pt x="0" y="7"/>
                  <a:pt x="0" y="7"/>
                </a:cubicBezTo>
                <a:cubicBezTo>
                  <a:pt x="9" y="89"/>
                  <a:pt x="39" y="164"/>
                  <a:pt x="84" y="227"/>
                </a:cubicBezTo>
                <a:cubicBezTo>
                  <a:pt x="71" y="287"/>
                  <a:pt x="102" y="350"/>
                  <a:pt x="161" y="374"/>
                </a:cubicBezTo>
                <a:cubicBezTo>
                  <a:pt x="194" y="388"/>
                  <a:pt x="229" y="387"/>
                  <a:pt x="259" y="374"/>
                </a:cubicBezTo>
                <a:cubicBezTo>
                  <a:pt x="327" y="407"/>
                  <a:pt x="403" y="424"/>
                  <a:pt x="483" y="421"/>
                </a:cubicBezTo>
                <a:cubicBezTo>
                  <a:pt x="516" y="343"/>
                  <a:pt x="516" y="343"/>
                  <a:pt x="516" y="343"/>
                </a:cubicBezTo>
                <a:lnTo>
                  <a:pt x="470" y="272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2" name="组合 38" descr=""/>
          <p:cNvPicPr/>
          <p:nvPr/>
        </p:nvPicPr>
        <p:blipFill>
          <a:blip r:embed="rId1"/>
          <a:stretch/>
        </p:blipFill>
        <p:spPr>
          <a:xfrm>
            <a:off x="4529160" y="4773600"/>
            <a:ext cx="530280" cy="401760"/>
          </a:xfrm>
          <a:prstGeom prst="rect">
            <a:avLst/>
          </a:prstGeom>
          <a:ln w="0">
            <a:noFill/>
          </a:ln>
        </p:spPr>
      </p:pic>
      <p:sp>
        <p:nvSpPr>
          <p:cNvPr id="793" name="Freeform 12"/>
          <p:cNvSpPr/>
          <p:nvPr/>
        </p:nvSpPr>
        <p:spPr>
          <a:xfrm>
            <a:off x="7431120" y="4284720"/>
            <a:ext cx="434880" cy="576360"/>
          </a:xfrm>
          <a:custGeom>
            <a:avLst/>
            <a:gdLst/>
            <a:ahLst/>
            <a:rect l="l" t="t" r="r" b="b"/>
            <a:pathLst>
              <a:path w="90" h="119">
                <a:moveTo>
                  <a:pt x="19" y="4"/>
                </a:moveTo>
                <a:cubicBezTo>
                  <a:pt x="31" y="2"/>
                  <a:pt x="66" y="0"/>
                  <a:pt x="76" y="5"/>
                </a:cubicBezTo>
                <a:cubicBezTo>
                  <a:pt x="89" y="13"/>
                  <a:pt x="85" y="41"/>
                  <a:pt x="85" y="61"/>
                </a:cubicBezTo>
                <a:cubicBezTo>
                  <a:pt x="85" y="81"/>
                  <a:pt x="90" y="109"/>
                  <a:pt x="74" y="115"/>
                </a:cubicBezTo>
                <a:cubicBezTo>
                  <a:pt x="65" y="119"/>
                  <a:pt x="22" y="119"/>
                  <a:pt x="14" y="115"/>
                </a:cubicBezTo>
                <a:cubicBezTo>
                  <a:pt x="0" y="109"/>
                  <a:pt x="4" y="82"/>
                  <a:pt x="4" y="61"/>
                </a:cubicBezTo>
                <a:cubicBezTo>
                  <a:pt x="4" y="51"/>
                  <a:pt x="4" y="44"/>
                  <a:pt x="4" y="37"/>
                </a:cubicBezTo>
                <a:cubicBezTo>
                  <a:pt x="4" y="20"/>
                  <a:pt x="2" y="7"/>
                  <a:pt x="19" y="4"/>
                </a:cubicBezTo>
                <a:close/>
                <a:moveTo>
                  <a:pt x="14" y="55"/>
                </a:moveTo>
                <a:cubicBezTo>
                  <a:pt x="14" y="69"/>
                  <a:pt x="13" y="85"/>
                  <a:pt x="17" y="89"/>
                </a:cubicBezTo>
                <a:cubicBezTo>
                  <a:pt x="22" y="93"/>
                  <a:pt x="38" y="91"/>
                  <a:pt x="44" y="91"/>
                </a:cubicBezTo>
                <a:cubicBezTo>
                  <a:pt x="51" y="91"/>
                  <a:pt x="67" y="93"/>
                  <a:pt x="71" y="89"/>
                </a:cubicBezTo>
                <a:cubicBezTo>
                  <a:pt x="77" y="83"/>
                  <a:pt x="74" y="66"/>
                  <a:pt x="74" y="54"/>
                </a:cubicBezTo>
                <a:cubicBezTo>
                  <a:pt x="74" y="41"/>
                  <a:pt x="77" y="24"/>
                  <a:pt x="71" y="18"/>
                </a:cubicBezTo>
                <a:cubicBezTo>
                  <a:pt x="66" y="13"/>
                  <a:pt x="33" y="13"/>
                  <a:pt x="22" y="16"/>
                </a:cubicBezTo>
                <a:cubicBezTo>
                  <a:pt x="11" y="19"/>
                  <a:pt x="14" y="36"/>
                  <a:pt x="14" y="55"/>
                </a:cubicBezTo>
                <a:close/>
                <a:moveTo>
                  <a:pt x="45" y="110"/>
                </a:moveTo>
                <a:cubicBezTo>
                  <a:pt x="53" y="109"/>
                  <a:pt x="53" y="93"/>
                  <a:pt x="42" y="97"/>
                </a:cubicBezTo>
                <a:cubicBezTo>
                  <a:pt x="34" y="100"/>
                  <a:pt x="38" y="110"/>
                  <a:pt x="45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4" name="组合 42" descr=""/>
          <p:cNvPicPr/>
          <p:nvPr/>
        </p:nvPicPr>
        <p:blipFill>
          <a:blip r:embed="rId2"/>
          <a:stretch/>
        </p:blipFill>
        <p:spPr>
          <a:xfrm>
            <a:off x="6918480" y="1816200"/>
            <a:ext cx="591840" cy="579240"/>
          </a:xfrm>
          <a:prstGeom prst="rect">
            <a:avLst/>
          </a:prstGeom>
          <a:ln w="0">
            <a:noFill/>
          </a:ln>
        </p:spPr>
      </p:pic>
      <p:sp>
        <p:nvSpPr>
          <p:cNvPr id="795" name="Freeform 29"/>
          <p:cNvSpPr/>
          <p:nvPr/>
        </p:nvSpPr>
        <p:spPr>
          <a:xfrm>
            <a:off x="4334040" y="2000160"/>
            <a:ext cx="554040" cy="561960"/>
          </a:xfrm>
          <a:custGeom>
            <a:avLst/>
            <a:gdLst/>
            <a:ahLst/>
            <a:rect l="l" t="t" r="r" b="b"/>
            <a:pathLst>
              <a:path w="114" h="116">
                <a:moveTo>
                  <a:pt x="113" y="100"/>
                </a:moveTo>
                <a:cubicBezTo>
                  <a:pt x="84" y="72"/>
                  <a:pt x="84" y="72"/>
                  <a:pt x="84" y="72"/>
                </a:cubicBezTo>
                <a:cubicBezTo>
                  <a:pt x="88" y="65"/>
                  <a:pt x="90" y="56"/>
                  <a:pt x="89" y="46"/>
                </a:cubicBezTo>
                <a:cubicBezTo>
                  <a:pt x="88" y="21"/>
                  <a:pt x="67" y="0"/>
                  <a:pt x="43" y="1"/>
                </a:cubicBezTo>
                <a:cubicBezTo>
                  <a:pt x="18" y="3"/>
                  <a:pt x="0" y="24"/>
                  <a:pt x="1" y="50"/>
                </a:cubicBezTo>
                <a:cubicBezTo>
                  <a:pt x="3" y="76"/>
                  <a:pt x="24" y="96"/>
                  <a:pt x="48" y="95"/>
                </a:cubicBezTo>
                <a:cubicBezTo>
                  <a:pt x="57" y="95"/>
                  <a:pt x="65" y="92"/>
                  <a:pt x="72" y="87"/>
                </a:cubicBezTo>
                <a:cubicBezTo>
                  <a:pt x="100" y="115"/>
                  <a:pt x="100" y="115"/>
                  <a:pt x="100" y="115"/>
                </a:cubicBezTo>
                <a:cubicBezTo>
                  <a:pt x="101" y="116"/>
                  <a:pt x="103" y="115"/>
                  <a:pt x="104" y="114"/>
                </a:cubicBezTo>
                <a:cubicBezTo>
                  <a:pt x="113" y="103"/>
                  <a:pt x="113" y="103"/>
                  <a:pt x="113" y="103"/>
                </a:cubicBezTo>
                <a:cubicBezTo>
                  <a:pt x="114" y="102"/>
                  <a:pt x="114" y="101"/>
                  <a:pt x="113" y="100"/>
                </a:cubicBezTo>
                <a:close/>
                <a:moveTo>
                  <a:pt x="15" y="50"/>
                </a:moveTo>
                <a:cubicBezTo>
                  <a:pt x="14" y="32"/>
                  <a:pt x="27" y="17"/>
                  <a:pt x="44" y="16"/>
                </a:cubicBezTo>
                <a:cubicBezTo>
                  <a:pt x="60" y="16"/>
                  <a:pt x="74" y="29"/>
                  <a:pt x="75" y="47"/>
                </a:cubicBezTo>
                <a:cubicBezTo>
                  <a:pt x="76" y="65"/>
                  <a:pt x="64" y="80"/>
                  <a:pt x="47" y="80"/>
                </a:cubicBezTo>
                <a:cubicBezTo>
                  <a:pt x="31" y="81"/>
                  <a:pt x="16" y="67"/>
                  <a:pt x="15" y="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Box 57"/>
          <p:cNvSpPr/>
          <p:nvPr/>
        </p:nvSpPr>
        <p:spPr>
          <a:xfrm>
            <a:off x="863640" y="2044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Box 57"/>
          <p:cNvSpPr/>
          <p:nvPr/>
        </p:nvSpPr>
        <p:spPr>
          <a:xfrm>
            <a:off x="8555040" y="2044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extBox 57"/>
          <p:cNvSpPr/>
          <p:nvPr/>
        </p:nvSpPr>
        <p:spPr>
          <a:xfrm>
            <a:off x="863640" y="4297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Box 57"/>
          <p:cNvSpPr/>
          <p:nvPr/>
        </p:nvSpPr>
        <p:spPr>
          <a:xfrm>
            <a:off x="8555040" y="4297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Freeform 226"/>
          <p:cNvSpPr/>
          <p:nvPr/>
        </p:nvSpPr>
        <p:spPr>
          <a:xfrm>
            <a:off x="5532480" y="3105000"/>
            <a:ext cx="930240" cy="846360"/>
          </a:xfrm>
          <a:custGeom>
            <a:avLst/>
            <a:gdLst/>
            <a:ahLst/>
            <a:rect l="l" t="t" r="r" b="b"/>
            <a:pathLst>
              <a:path w="351" h="319">
                <a:moveTo>
                  <a:pt x="311" y="111"/>
                </a:moveTo>
                <a:lnTo>
                  <a:pt x="263" y="0"/>
                </a:lnTo>
                <a:lnTo>
                  <a:pt x="0" y="115"/>
                </a:lnTo>
                <a:lnTo>
                  <a:pt x="64" y="259"/>
                </a:lnTo>
                <a:lnTo>
                  <a:pt x="64" y="319"/>
                </a:lnTo>
                <a:lnTo>
                  <a:pt x="351" y="319"/>
                </a:lnTo>
                <a:lnTo>
                  <a:pt x="351" y="111"/>
                </a:lnTo>
                <a:lnTo>
                  <a:pt x="311" y="111"/>
                </a:lnTo>
                <a:close/>
                <a:moveTo>
                  <a:pt x="64" y="131"/>
                </a:moveTo>
                <a:lnTo>
                  <a:pt x="56" y="135"/>
                </a:lnTo>
                <a:lnTo>
                  <a:pt x="64" y="157"/>
                </a:lnTo>
                <a:lnTo>
                  <a:pt x="64" y="211"/>
                </a:lnTo>
                <a:lnTo>
                  <a:pt x="28" y="125"/>
                </a:lnTo>
                <a:lnTo>
                  <a:pt x="253" y="30"/>
                </a:lnTo>
                <a:lnTo>
                  <a:pt x="287" y="111"/>
                </a:lnTo>
                <a:lnTo>
                  <a:pt x="265" y="111"/>
                </a:lnTo>
                <a:lnTo>
                  <a:pt x="242" y="58"/>
                </a:lnTo>
                <a:lnTo>
                  <a:pt x="114" y="111"/>
                </a:lnTo>
                <a:lnTo>
                  <a:pt x="64" y="111"/>
                </a:lnTo>
                <a:lnTo>
                  <a:pt x="64" y="131"/>
                </a:lnTo>
                <a:close/>
                <a:moveTo>
                  <a:pt x="329" y="297"/>
                </a:moveTo>
                <a:lnTo>
                  <a:pt x="84" y="297"/>
                </a:lnTo>
                <a:lnTo>
                  <a:pt x="84" y="131"/>
                </a:lnTo>
                <a:lnTo>
                  <a:pt x="329" y="131"/>
                </a:lnTo>
                <a:lnTo>
                  <a:pt x="329" y="297"/>
                </a:lnTo>
                <a:close/>
                <a:moveTo>
                  <a:pt x="309" y="153"/>
                </a:moveTo>
                <a:lnTo>
                  <a:pt x="106" y="153"/>
                </a:lnTo>
                <a:lnTo>
                  <a:pt x="106" y="277"/>
                </a:lnTo>
                <a:lnTo>
                  <a:pt x="309" y="277"/>
                </a:lnTo>
                <a:lnTo>
                  <a:pt x="309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文本框 65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泪滴形 20"/>
          <p:cNvSpPr/>
          <p:nvPr/>
        </p:nvSpPr>
        <p:spPr>
          <a:xfrm rot="8100000">
            <a:off x="1326960" y="2057400"/>
            <a:ext cx="165708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泪滴形 21"/>
          <p:cNvSpPr/>
          <p:nvPr/>
        </p:nvSpPr>
        <p:spPr>
          <a:xfrm rot="8100000">
            <a:off x="4043160" y="2057400"/>
            <a:ext cx="165708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泪滴形 22"/>
          <p:cNvSpPr/>
          <p:nvPr/>
        </p:nvSpPr>
        <p:spPr>
          <a:xfrm rot="8100000">
            <a:off x="6757920" y="205740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泪滴形 23"/>
          <p:cNvSpPr/>
          <p:nvPr/>
        </p:nvSpPr>
        <p:spPr>
          <a:xfrm rot="8100000">
            <a:off x="9474120" y="205740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36"/>
          <p:cNvSpPr/>
          <p:nvPr/>
        </p:nvSpPr>
        <p:spPr>
          <a:xfrm>
            <a:off x="1695600" y="2552760"/>
            <a:ext cx="876240" cy="66672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28"/>
          <p:cNvSpPr/>
          <p:nvPr/>
        </p:nvSpPr>
        <p:spPr>
          <a:xfrm>
            <a:off x="4502160" y="2496960"/>
            <a:ext cx="777960" cy="77796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12"/>
          <p:cNvSpPr/>
          <p:nvPr/>
        </p:nvSpPr>
        <p:spPr>
          <a:xfrm>
            <a:off x="7209000" y="2478240"/>
            <a:ext cx="772920" cy="81432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10"/>
          <p:cNvSpPr/>
          <p:nvPr/>
        </p:nvSpPr>
        <p:spPr>
          <a:xfrm>
            <a:off x="9969480" y="2463840"/>
            <a:ext cx="744480" cy="8445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57"/>
          <p:cNvSpPr/>
          <p:nvPr/>
        </p:nvSpPr>
        <p:spPr>
          <a:xfrm>
            <a:off x="819000" y="4324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57"/>
          <p:cNvSpPr/>
          <p:nvPr/>
        </p:nvSpPr>
        <p:spPr>
          <a:xfrm>
            <a:off x="3535200" y="4324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57"/>
          <p:cNvSpPr/>
          <p:nvPr/>
        </p:nvSpPr>
        <p:spPr>
          <a:xfrm>
            <a:off x="6249960" y="4324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extBox 57"/>
          <p:cNvSpPr/>
          <p:nvPr/>
        </p:nvSpPr>
        <p:spPr>
          <a:xfrm>
            <a:off x="8966160" y="4324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13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reeform 9"/>
          <p:cNvSpPr/>
          <p:nvPr/>
        </p:nvSpPr>
        <p:spPr>
          <a:xfrm>
            <a:off x="1600200" y="2409840"/>
            <a:ext cx="2654280" cy="2076480"/>
          </a:xfrm>
          <a:custGeom>
            <a:avLst/>
            <a:gdLst/>
            <a:ahLst/>
            <a:rect l="l" t="t" r="r" b="b"/>
            <a:pathLst>
              <a:path w="712" h="557">
                <a:moveTo>
                  <a:pt x="669" y="221"/>
                </a:moveTo>
                <a:cubicBezTo>
                  <a:pt x="454" y="63"/>
                  <a:pt x="454" y="63"/>
                  <a:pt x="454" y="63"/>
                </a:cubicBezTo>
                <a:cubicBezTo>
                  <a:pt x="447" y="57"/>
                  <a:pt x="440" y="52"/>
                  <a:pt x="432" y="47"/>
                </a:cubicBezTo>
                <a:cubicBezTo>
                  <a:pt x="388" y="17"/>
                  <a:pt x="336" y="0"/>
                  <a:pt x="279" y="0"/>
                </a:cubicBezTo>
                <a:cubicBezTo>
                  <a:pt x="255" y="0"/>
                  <a:pt x="233" y="3"/>
                  <a:pt x="211" y="9"/>
                </a:cubicBezTo>
                <a:cubicBezTo>
                  <a:pt x="90" y="39"/>
                  <a:pt x="0" y="148"/>
                  <a:pt x="0" y="279"/>
                </a:cubicBezTo>
                <a:cubicBezTo>
                  <a:pt x="0" y="409"/>
                  <a:pt x="90" y="518"/>
                  <a:pt x="211" y="549"/>
                </a:cubicBezTo>
                <a:cubicBezTo>
                  <a:pt x="233" y="554"/>
                  <a:pt x="255" y="557"/>
                  <a:pt x="279" y="557"/>
                </a:cubicBezTo>
                <a:cubicBezTo>
                  <a:pt x="336" y="557"/>
                  <a:pt x="388" y="540"/>
                  <a:pt x="432" y="511"/>
                </a:cubicBezTo>
                <a:cubicBezTo>
                  <a:pt x="440" y="506"/>
                  <a:pt x="447" y="500"/>
                  <a:pt x="454" y="495"/>
                </a:cubicBezTo>
                <a:cubicBezTo>
                  <a:pt x="669" y="337"/>
                  <a:pt x="669" y="337"/>
                  <a:pt x="669" y="337"/>
                </a:cubicBezTo>
                <a:cubicBezTo>
                  <a:pt x="712" y="305"/>
                  <a:pt x="712" y="253"/>
                  <a:pt x="669" y="221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6"/>
          <p:cNvSpPr/>
          <p:nvPr/>
        </p:nvSpPr>
        <p:spPr>
          <a:xfrm>
            <a:off x="3759120" y="2409840"/>
            <a:ext cx="2509920" cy="2076480"/>
          </a:xfrm>
          <a:custGeom>
            <a:avLst/>
            <a:gdLst/>
            <a:ahLst/>
            <a:rect l="l" t="t" r="r" b="b"/>
            <a:pathLst>
              <a:path w="673" h="557">
                <a:moveTo>
                  <a:pt x="629" y="221"/>
                </a:moveTo>
                <a:cubicBezTo>
                  <a:pt x="415" y="63"/>
                  <a:pt x="415" y="63"/>
                  <a:pt x="415" y="63"/>
                </a:cubicBezTo>
                <a:cubicBezTo>
                  <a:pt x="408" y="57"/>
                  <a:pt x="401" y="52"/>
                  <a:pt x="393" y="47"/>
                </a:cubicBezTo>
                <a:cubicBezTo>
                  <a:pt x="349" y="17"/>
                  <a:pt x="296" y="0"/>
                  <a:pt x="239" y="0"/>
                </a:cubicBezTo>
                <a:cubicBezTo>
                  <a:pt x="216" y="0"/>
                  <a:pt x="193" y="3"/>
                  <a:pt x="172" y="9"/>
                </a:cubicBezTo>
                <a:cubicBezTo>
                  <a:pt x="99" y="27"/>
                  <a:pt x="38" y="74"/>
                  <a:pt x="0" y="137"/>
                </a:cubicBezTo>
                <a:cubicBezTo>
                  <a:pt x="98" y="209"/>
                  <a:pt x="98" y="209"/>
                  <a:pt x="98" y="209"/>
                </a:cubicBezTo>
                <a:cubicBezTo>
                  <a:pt x="123" y="227"/>
                  <a:pt x="137" y="252"/>
                  <a:pt x="137" y="279"/>
                </a:cubicBezTo>
                <a:cubicBezTo>
                  <a:pt x="137" y="305"/>
                  <a:pt x="123" y="330"/>
                  <a:pt x="98" y="349"/>
                </a:cubicBezTo>
                <a:cubicBezTo>
                  <a:pt x="0" y="421"/>
                  <a:pt x="0" y="421"/>
                  <a:pt x="0" y="421"/>
                </a:cubicBezTo>
                <a:cubicBezTo>
                  <a:pt x="38" y="484"/>
                  <a:pt x="99" y="530"/>
                  <a:pt x="172" y="549"/>
                </a:cubicBezTo>
                <a:cubicBezTo>
                  <a:pt x="193" y="554"/>
                  <a:pt x="216" y="557"/>
                  <a:pt x="239" y="557"/>
                </a:cubicBezTo>
                <a:cubicBezTo>
                  <a:pt x="296" y="557"/>
                  <a:pt x="349" y="540"/>
                  <a:pt x="393" y="511"/>
                </a:cubicBezTo>
                <a:cubicBezTo>
                  <a:pt x="401" y="506"/>
                  <a:pt x="408" y="500"/>
                  <a:pt x="415" y="495"/>
                </a:cubicBezTo>
                <a:cubicBezTo>
                  <a:pt x="629" y="337"/>
                  <a:pt x="629" y="337"/>
                  <a:pt x="629" y="337"/>
                </a:cubicBezTo>
                <a:cubicBezTo>
                  <a:pt x="673" y="305"/>
                  <a:pt x="673" y="253"/>
                  <a:pt x="629" y="221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7"/>
          <p:cNvSpPr/>
          <p:nvPr/>
        </p:nvSpPr>
        <p:spPr>
          <a:xfrm>
            <a:off x="5772240" y="2409840"/>
            <a:ext cx="2509920" cy="2076480"/>
          </a:xfrm>
          <a:custGeom>
            <a:avLst/>
            <a:gdLst/>
            <a:ahLst/>
            <a:rect l="l" t="t" r="r" b="b"/>
            <a:pathLst>
              <a:path w="673" h="557">
                <a:moveTo>
                  <a:pt x="629" y="221"/>
                </a:moveTo>
                <a:cubicBezTo>
                  <a:pt x="414" y="63"/>
                  <a:pt x="414" y="63"/>
                  <a:pt x="414" y="63"/>
                </a:cubicBezTo>
                <a:cubicBezTo>
                  <a:pt x="407" y="57"/>
                  <a:pt x="400" y="52"/>
                  <a:pt x="393" y="47"/>
                </a:cubicBezTo>
                <a:cubicBezTo>
                  <a:pt x="349" y="17"/>
                  <a:pt x="296" y="0"/>
                  <a:pt x="239" y="0"/>
                </a:cubicBezTo>
                <a:cubicBezTo>
                  <a:pt x="216" y="0"/>
                  <a:pt x="193" y="3"/>
                  <a:pt x="171" y="9"/>
                </a:cubicBezTo>
                <a:cubicBezTo>
                  <a:pt x="99" y="27"/>
                  <a:pt x="37" y="74"/>
                  <a:pt x="0" y="137"/>
                </a:cubicBezTo>
                <a:cubicBezTo>
                  <a:pt x="98" y="209"/>
                  <a:pt x="98" y="209"/>
                  <a:pt x="98" y="209"/>
                </a:cubicBezTo>
                <a:cubicBezTo>
                  <a:pt x="123" y="227"/>
                  <a:pt x="137" y="252"/>
                  <a:pt x="137" y="279"/>
                </a:cubicBezTo>
                <a:cubicBezTo>
                  <a:pt x="137" y="305"/>
                  <a:pt x="123" y="330"/>
                  <a:pt x="98" y="349"/>
                </a:cubicBezTo>
                <a:cubicBezTo>
                  <a:pt x="0" y="421"/>
                  <a:pt x="0" y="421"/>
                  <a:pt x="0" y="421"/>
                </a:cubicBezTo>
                <a:cubicBezTo>
                  <a:pt x="37" y="484"/>
                  <a:pt x="99" y="530"/>
                  <a:pt x="171" y="549"/>
                </a:cubicBezTo>
                <a:cubicBezTo>
                  <a:pt x="193" y="554"/>
                  <a:pt x="216" y="557"/>
                  <a:pt x="239" y="557"/>
                </a:cubicBezTo>
                <a:cubicBezTo>
                  <a:pt x="296" y="557"/>
                  <a:pt x="349" y="540"/>
                  <a:pt x="393" y="511"/>
                </a:cubicBezTo>
                <a:cubicBezTo>
                  <a:pt x="400" y="506"/>
                  <a:pt x="407" y="500"/>
                  <a:pt x="414" y="495"/>
                </a:cubicBezTo>
                <a:cubicBezTo>
                  <a:pt x="629" y="337"/>
                  <a:pt x="629" y="337"/>
                  <a:pt x="629" y="337"/>
                </a:cubicBezTo>
                <a:cubicBezTo>
                  <a:pt x="673" y="305"/>
                  <a:pt x="673" y="253"/>
                  <a:pt x="629" y="221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8"/>
          <p:cNvSpPr/>
          <p:nvPr/>
        </p:nvSpPr>
        <p:spPr>
          <a:xfrm>
            <a:off x="7785000" y="2409840"/>
            <a:ext cx="2506680" cy="2076480"/>
          </a:xfrm>
          <a:custGeom>
            <a:avLst/>
            <a:gdLst/>
            <a:ahLst/>
            <a:rect l="l" t="t" r="r" b="b"/>
            <a:pathLst>
              <a:path w="672" h="557">
                <a:moveTo>
                  <a:pt x="629" y="221"/>
                </a:moveTo>
                <a:cubicBezTo>
                  <a:pt x="414" y="63"/>
                  <a:pt x="414" y="63"/>
                  <a:pt x="414" y="63"/>
                </a:cubicBezTo>
                <a:cubicBezTo>
                  <a:pt x="407" y="57"/>
                  <a:pt x="400" y="52"/>
                  <a:pt x="393" y="47"/>
                </a:cubicBezTo>
                <a:cubicBezTo>
                  <a:pt x="349" y="17"/>
                  <a:pt x="296" y="0"/>
                  <a:pt x="239" y="0"/>
                </a:cubicBezTo>
                <a:cubicBezTo>
                  <a:pt x="215" y="0"/>
                  <a:pt x="193" y="3"/>
                  <a:pt x="171" y="9"/>
                </a:cubicBezTo>
                <a:cubicBezTo>
                  <a:pt x="98" y="27"/>
                  <a:pt x="37" y="74"/>
                  <a:pt x="0" y="137"/>
                </a:cubicBezTo>
                <a:cubicBezTo>
                  <a:pt x="98" y="209"/>
                  <a:pt x="98" y="209"/>
                  <a:pt x="98" y="209"/>
                </a:cubicBezTo>
                <a:cubicBezTo>
                  <a:pt x="123" y="227"/>
                  <a:pt x="136" y="252"/>
                  <a:pt x="136" y="279"/>
                </a:cubicBezTo>
                <a:cubicBezTo>
                  <a:pt x="136" y="305"/>
                  <a:pt x="123" y="330"/>
                  <a:pt x="98" y="349"/>
                </a:cubicBezTo>
                <a:cubicBezTo>
                  <a:pt x="0" y="421"/>
                  <a:pt x="0" y="421"/>
                  <a:pt x="0" y="421"/>
                </a:cubicBezTo>
                <a:cubicBezTo>
                  <a:pt x="37" y="484"/>
                  <a:pt x="98" y="530"/>
                  <a:pt x="171" y="549"/>
                </a:cubicBezTo>
                <a:cubicBezTo>
                  <a:pt x="193" y="554"/>
                  <a:pt x="215" y="557"/>
                  <a:pt x="239" y="557"/>
                </a:cubicBezTo>
                <a:cubicBezTo>
                  <a:pt x="296" y="557"/>
                  <a:pt x="349" y="540"/>
                  <a:pt x="393" y="511"/>
                </a:cubicBezTo>
                <a:cubicBezTo>
                  <a:pt x="400" y="506"/>
                  <a:pt x="407" y="500"/>
                  <a:pt x="414" y="495"/>
                </a:cubicBezTo>
                <a:cubicBezTo>
                  <a:pt x="629" y="337"/>
                  <a:pt x="629" y="337"/>
                  <a:pt x="629" y="337"/>
                </a:cubicBezTo>
                <a:cubicBezTo>
                  <a:pt x="672" y="305"/>
                  <a:pt x="672" y="253"/>
                  <a:pt x="629" y="221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Oval 27"/>
          <p:cNvSpPr/>
          <p:nvPr/>
        </p:nvSpPr>
        <p:spPr>
          <a:xfrm>
            <a:off x="1906560" y="3218040"/>
            <a:ext cx="2497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Oval 27"/>
          <p:cNvSpPr/>
          <p:nvPr/>
        </p:nvSpPr>
        <p:spPr>
          <a:xfrm>
            <a:off x="3921120" y="3218040"/>
            <a:ext cx="2497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Oval 27"/>
          <p:cNvSpPr/>
          <p:nvPr/>
        </p:nvSpPr>
        <p:spPr>
          <a:xfrm>
            <a:off x="5934240" y="3218040"/>
            <a:ext cx="249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Oval 27"/>
          <p:cNvSpPr/>
          <p:nvPr/>
        </p:nvSpPr>
        <p:spPr>
          <a:xfrm>
            <a:off x="7943760" y="3218040"/>
            <a:ext cx="2497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57"/>
          <p:cNvSpPr/>
          <p:nvPr/>
        </p:nvSpPr>
        <p:spPr>
          <a:xfrm>
            <a:off x="1287360" y="47131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57"/>
          <p:cNvSpPr/>
          <p:nvPr/>
        </p:nvSpPr>
        <p:spPr>
          <a:xfrm>
            <a:off x="3370320" y="14493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57"/>
          <p:cNvSpPr/>
          <p:nvPr/>
        </p:nvSpPr>
        <p:spPr>
          <a:xfrm>
            <a:off x="5589720" y="47131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Box 57"/>
          <p:cNvSpPr/>
          <p:nvPr/>
        </p:nvSpPr>
        <p:spPr>
          <a:xfrm>
            <a:off x="7284960" y="14493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文本框 13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组合 73" descr=""/>
          <p:cNvPicPr/>
          <p:nvPr/>
        </p:nvPicPr>
        <p:blipFill>
          <a:blip r:embed="rId1"/>
          <a:stretch/>
        </p:blipFill>
        <p:spPr>
          <a:xfrm>
            <a:off x="3700440" y="1835280"/>
            <a:ext cx="3017880" cy="3017880"/>
          </a:xfrm>
          <a:prstGeom prst="rect">
            <a:avLst/>
          </a:prstGeom>
          <a:ln w="0">
            <a:noFill/>
          </a:ln>
        </p:spPr>
      </p:pic>
      <p:pic>
        <p:nvPicPr>
          <p:cNvPr id="829" name="组合 76" descr=""/>
          <p:cNvPicPr/>
          <p:nvPr/>
        </p:nvPicPr>
        <p:blipFill>
          <a:blip r:embed="rId2"/>
          <a:stretch/>
        </p:blipFill>
        <p:spPr>
          <a:xfrm>
            <a:off x="5778360" y="1407960"/>
            <a:ext cx="1927440" cy="1925640"/>
          </a:xfrm>
          <a:prstGeom prst="rect">
            <a:avLst/>
          </a:prstGeom>
          <a:ln w="0">
            <a:noFill/>
          </a:ln>
        </p:spPr>
      </p:pic>
      <p:pic>
        <p:nvPicPr>
          <p:cNvPr id="830" name="组合 83" descr=""/>
          <p:cNvPicPr/>
          <p:nvPr/>
        </p:nvPicPr>
        <p:blipFill>
          <a:blip r:embed="rId3"/>
          <a:stretch/>
        </p:blipFill>
        <p:spPr>
          <a:xfrm>
            <a:off x="6754680" y="259704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831" name="组合 86" descr=""/>
          <p:cNvPicPr/>
          <p:nvPr/>
        </p:nvPicPr>
        <p:blipFill>
          <a:blip r:embed="rId4"/>
          <a:stretch/>
        </p:blipFill>
        <p:spPr>
          <a:xfrm>
            <a:off x="5492880" y="3376440"/>
            <a:ext cx="2481120" cy="2475000"/>
          </a:xfrm>
          <a:prstGeom prst="rect">
            <a:avLst/>
          </a:prstGeom>
          <a:ln w="0">
            <a:noFill/>
          </a:ln>
        </p:spPr>
      </p:pic>
      <p:sp>
        <p:nvSpPr>
          <p:cNvPr id="832" name="TextBox 57"/>
          <p:cNvSpPr/>
          <p:nvPr/>
        </p:nvSpPr>
        <p:spPr>
          <a:xfrm>
            <a:off x="1047600" y="23637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TextBox 57"/>
          <p:cNvSpPr/>
          <p:nvPr/>
        </p:nvSpPr>
        <p:spPr>
          <a:xfrm>
            <a:off x="7661160" y="1257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TextBox 57"/>
          <p:cNvSpPr/>
          <p:nvPr/>
        </p:nvSpPr>
        <p:spPr>
          <a:xfrm>
            <a:off x="8447040" y="29732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57"/>
          <p:cNvSpPr/>
          <p:nvPr/>
        </p:nvSpPr>
        <p:spPr>
          <a:xfrm>
            <a:off x="7705800" y="49323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文本框 17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组合 23" descr=""/>
          <p:cNvPicPr/>
          <p:nvPr/>
        </p:nvPicPr>
        <p:blipFill>
          <a:blip r:embed="rId1"/>
          <a:stretch/>
        </p:blipFill>
        <p:spPr>
          <a:xfrm>
            <a:off x="1481040" y="1609560"/>
            <a:ext cx="4896000" cy="4158000"/>
          </a:xfrm>
          <a:prstGeom prst="rect">
            <a:avLst/>
          </a:prstGeom>
          <a:ln w="0">
            <a:noFill/>
          </a:ln>
        </p:spPr>
      </p:pic>
      <p:pic>
        <p:nvPicPr>
          <p:cNvPr id="838" name="组合 37" descr=""/>
          <p:cNvPicPr/>
          <p:nvPr/>
        </p:nvPicPr>
        <p:blipFill>
          <a:blip r:embed="rId2"/>
          <a:stretch/>
        </p:blipFill>
        <p:spPr>
          <a:xfrm>
            <a:off x="1700280" y="2925720"/>
            <a:ext cx="598320" cy="592200"/>
          </a:xfrm>
          <a:prstGeom prst="rect">
            <a:avLst/>
          </a:prstGeom>
          <a:ln w="0">
            <a:noFill/>
          </a:ln>
        </p:spPr>
      </p:pic>
      <p:sp>
        <p:nvSpPr>
          <p:cNvPr id="839" name="Freeform 28"/>
          <p:cNvSpPr/>
          <p:nvPr/>
        </p:nvSpPr>
        <p:spPr>
          <a:xfrm>
            <a:off x="3436920" y="1911240"/>
            <a:ext cx="792360" cy="7938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38" y="61"/>
                </a:moveTo>
                <a:cubicBezTo>
                  <a:pt x="132" y="61"/>
                  <a:pt x="132" y="61"/>
                  <a:pt x="132" y="61"/>
                </a:cubicBezTo>
                <a:cubicBezTo>
                  <a:pt x="129" y="61"/>
                  <a:pt x="126" y="59"/>
                  <a:pt x="125" y="56"/>
                </a:cubicBezTo>
                <a:cubicBezTo>
                  <a:pt x="121" y="46"/>
                  <a:pt x="121" y="46"/>
                  <a:pt x="121" y="46"/>
                </a:cubicBezTo>
                <a:cubicBezTo>
                  <a:pt x="119" y="44"/>
                  <a:pt x="120" y="40"/>
                  <a:pt x="122" y="38"/>
                </a:cubicBezTo>
                <a:cubicBezTo>
                  <a:pt x="127" y="33"/>
                  <a:pt x="127" y="33"/>
                  <a:pt x="127" y="33"/>
                </a:cubicBezTo>
                <a:cubicBezTo>
                  <a:pt x="129" y="31"/>
                  <a:pt x="129" y="27"/>
                  <a:pt x="127" y="25"/>
                </a:cubicBezTo>
                <a:cubicBezTo>
                  <a:pt x="119" y="17"/>
                  <a:pt x="119" y="17"/>
                  <a:pt x="119" y="17"/>
                </a:cubicBezTo>
                <a:cubicBezTo>
                  <a:pt x="117" y="15"/>
                  <a:pt x="113" y="15"/>
                  <a:pt x="111" y="17"/>
                </a:cubicBezTo>
                <a:cubicBezTo>
                  <a:pt x="106" y="22"/>
                  <a:pt x="106" y="22"/>
                  <a:pt x="106" y="22"/>
                </a:cubicBezTo>
                <a:cubicBezTo>
                  <a:pt x="104" y="24"/>
                  <a:pt x="100" y="25"/>
                  <a:pt x="98" y="23"/>
                </a:cubicBezTo>
                <a:cubicBezTo>
                  <a:pt x="88" y="19"/>
                  <a:pt x="88" y="19"/>
                  <a:pt x="88" y="19"/>
                </a:cubicBezTo>
                <a:cubicBezTo>
                  <a:pt x="85" y="18"/>
                  <a:pt x="83" y="15"/>
                  <a:pt x="83" y="12"/>
                </a:cubicBezTo>
                <a:cubicBezTo>
                  <a:pt x="83" y="6"/>
                  <a:pt x="83" y="6"/>
                  <a:pt x="83" y="6"/>
                </a:cubicBezTo>
                <a:cubicBezTo>
                  <a:pt x="83" y="2"/>
                  <a:pt x="81" y="0"/>
                  <a:pt x="78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3" y="0"/>
                  <a:pt x="61" y="2"/>
                  <a:pt x="61" y="6"/>
                </a:cubicBezTo>
                <a:cubicBezTo>
                  <a:pt x="61" y="12"/>
                  <a:pt x="61" y="12"/>
                  <a:pt x="61" y="12"/>
                </a:cubicBezTo>
                <a:cubicBezTo>
                  <a:pt x="61" y="15"/>
                  <a:pt x="59" y="18"/>
                  <a:pt x="56" y="19"/>
                </a:cubicBezTo>
                <a:cubicBezTo>
                  <a:pt x="46" y="23"/>
                  <a:pt x="46" y="23"/>
                  <a:pt x="46" y="23"/>
                </a:cubicBezTo>
                <a:cubicBezTo>
                  <a:pt x="44" y="25"/>
                  <a:pt x="40" y="24"/>
                  <a:pt x="38" y="22"/>
                </a:cubicBezTo>
                <a:cubicBezTo>
                  <a:pt x="33" y="17"/>
                  <a:pt x="33" y="17"/>
                  <a:pt x="33" y="17"/>
                </a:cubicBezTo>
                <a:cubicBezTo>
                  <a:pt x="31" y="15"/>
                  <a:pt x="27" y="15"/>
                  <a:pt x="25" y="17"/>
                </a:cubicBezTo>
                <a:cubicBezTo>
                  <a:pt x="17" y="25"/>
                  <a:pt x="17" y="25"/>
                  <a:pt x="17" y="25"/>
                </a:cubicBezTo>
                <a:cubicBezTo>
                  <a:pt x="15" y="27"/>
                  <a:pt x="15" y="31"/>
                  <a:pt x="17" y="33"/>
                </a:cubicBezTo>
                <a:cubicBezTo>
                  <a:pt x="22" y="38"/>
                  <a:pt x="22" y="38"/>
                  <a:pt x="22" y="38"/>
                </a:cubicBezTo>
                <a:cubicBezTo>
                  <a:pt x="24" y="40"/>
                  <a:pt x="25" y="44"/>
                  <a:pt x="23" y="46"/>
                </a:cubicBezTo>
                <a:cubicBezTo>
                  <a:pt x="19" y="56"/>
                  <a:pt x="19" y="56"/>
                  <a:pt x="19" y="56"/>
                </a:cubicBezTo>
                <a:cubicBezTo>
                  <a:pt x="18" y="59"/>
                  <a:pt x="15" y="61"/>
                  <a:pt x="12" y="61"/>
                </a:cubicBezTo>
                <a:cubicBezTo>
                  <a:pt x="6" y="61"/>
                  <a:pt x="6" y="61"/>
                  <a:pt x="6" y="61"/>
                </a:cubicBezTo>
                <a:cubicBezTo>
                  <a:pt x="2" y="61"/>
                  <a:pt x="0" y="63"/>
                  <a:pt x="0" y="66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81"/>
                  <a:pt x="2" y="83"/>
                  <a:pt x="6" y="83"/>
                </a:cubicBezTo>
                <a:cubicBezTo>
                  <a:pt x="12" y="83"/>
                  <a:pt x="12" y="83"/>
                  <a:pt x="12" y="83"/>
                </a:cubicBezTo>
                <a:cubicBezTo>
                  <a:pt x="15" y="83"/>
                  <a:pt x="18" y="85"/>
                  <a:pt x="19" y="88"/>
                </a:cubicBezTo>
                <a:cubicBezTo>
                  <a:pt x="23" y="98"/>
                  <a:pt x="23" y="98"/>
                  <a:pt x="23" y="98"/>
                </a:cubicBezTo>
                <a:cubicBezTo>
                  <a:pt x="25" y="100"/>
                  <a:pt x="24" y="104"/>
                  <a:pt x="22" y="106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5" y="113"/>
                  <a:pt x="15" y="117"/>
                  <a:pt x="17" y="119"/>
                </a:cubicBezTo>
                <a:cubicBezTo>
                  <a:pt x="25" y="127"/>
                  <a:pt x="25" y="127"/>
                  <a:pt x="25" y="127"/>
                </a:cubicBezTo>
                <a:cubicBezTo>
                  <a:pt x="27" y="129"/>
                  <a:pt x="31" y="129"/>
                  <a:pt x="33" y="127"/>
                </a:cubicBezTo>
                <a:cubicBezTo>
                  <a:pt x="38" y="122"/>
                  <a:pt x="38" y="122"/>
                  <a:pt x="38" y="122"/>
                </a:cubicBezTo>
                <a:cubicBezTo>
                  <a:pt x="40" y="120"/>
                  <a:pt x="44" y="119"/>
                  <a:pt x="46" y="121"/>
                </a:cubicBezTo>
                <a:cubicBezTo>
                  <a:pt x="56" y="125"/>
                  <a:pt x="56" y="125"/>
                  <a:pt x="56" y="125"/>
                </a:cubicBezTo>
                <a:cubicBezTo>
                  <a:pt x="59" y="126"/>
                  <a:pt x="61" y="129"/>
                  <a:pt x="61" y="132"/>
                </a:cubicBezTo>
                <a:cubicBezTo>
                  <a:pt x="61" y="138"/>
                  <a:pt x="61" y="138"/>
                  <a:pt x="61" y="138"/>
                </a:cubicBezTo>
                <a:cubicBezTo>
                  <a:pt x="61" y="142"/>
                  <a:pt x="63" y="144"/>
                  <a:pt x="66" y="144"/>
                </a:cubicBezTo>
                <a:cubicBezTo>
                  <a:pt x="78" y="144"/>
                  <a:pt x="78" y="144"/>
                  <a:pt x="78" y="144"/>
                </a:cubicBezTo>
                <a:cubicBezTo>
                  <a:pt x="81" y="144"/>
                  <a:pt x="83" y="142"/>
                  <a:pt x="83" y="138"/>
                </a:cubicBezTo>
                <a:cubicBezTo>
                  <a:pt x="83" y="132"/>
                  <a:pt x="83" y="132"/>
                  <a:pt x="83" y="132"/>
                </a:cubicBezTo>
                <a:cubicBezTo>
                  <a:pt x="83" y="129"/>
                  <a:pt x="85" y="126"/>
                  <a:pt x="88" y="125"/>
                </a:cubicBezTo>
                <a:cubicBezTo>
                  <a:pt x="98" y="121"/>
                  <a:pt x="98" y="121"/>
                  <a:pt x="98" y="121"/>
                </a:cubicBezTo>
                <a:cubicBezTo>
                  <a:pt x="100" y="119"/>
                  <a:pt x="104" y="120"/>
                  <a:pt x="106" y="122"/>
                </a:cubicBezTo>
                <a:cubicBezTo>
                  <a:pt x="111" y="127"/>
                  <a:pt x="111" y="127"/>
                  <a:pt x="111" y="127"/>
                </a:cubicBezTo>
                <a:cubicBezTo>
                  <a:pt x="113" y="129"/>
                  <a:pt x="117" y="129"/>
                  <a:pt x="119" y="127"/>
                </a:cubicBezTo>
                <a:cubicBezTo>
                  <a:pt x="127" y="119"/>
                  <a:pt x="127" y="119"/>
                  <a:pt x="127" y="119"/>
                </a:cubicBezTo>
                <a:cubicBezTo>
                  <a:pt x="129" y="117"/>
                  <a:pt x="129" y="113"/>
                  <a:pt x="127" y="111"/>
                </a:cubicBezTo>
                <a:cubicBezTo>
                  <a:pt x="122" y="106"/>
                  <a:pt x="122" y="106"/>
                  <a:pt x="122" y="106"/>
                </a:cubicBezTo>
                <a:cubicBezTo>
                  <a:pt x="120" y="104"/>
                  <a:pt x="119" y="100"/>
                  <a:pt x="121" y="9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6" y="85"/>
                  <a:pt x="129" y="83"/>
                  <a:pt x="132" y="83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42" y="83"/>
                  <a:pt x="144" y="81"/>
                  <a:pt x="144" y="78"/>
                </a:cubicBezTo>
                <a:cubicBezTo>
                  <a:pt x="144" y="66"/>
                  <a:pt x="144" y="66"/>
                  <a:pt x="144" y="66"/>
                </a:cubicBezTo>
                <a:cubicBezTo>
                  <a:pt x="144" y="63"/>
                  <a:pt x="142" y="61"/>
                  <a:pt x="138" y="61"/>
                </a:cubicBezTo>
                <a:moveTo>
                  <a:pt x="100" y="72"/>
                </a:moveTo>
                <a:cubicBezTo>
                  <a:pt x="100" y="87"/>
                  <a:pt x="87" y="100"/>
                  <a:pt x="72" y="100"/>
                </a:cubicBezTo>
                <a:cubicBezTo>
                  <a:pt x="57" y="100"/>
                  <a:pt x="44" y="87"/>
                  <a:pt x="44" y="72"/>
                </a:cubicBezTo>
                <a:cubicBezTo>
                  <a:pt x="44" y="57"/>
                  <a:pt x="57" y="44"/>
                  <a:pt x="72" y="44"/>
                </a:cubicBezTo>
                <a:cubicBezTo>
                  <a:pt x="87" y="44"/>
                  <a:pt x="100" y="57"/>
                  <a:pt x="100" y="7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70"/>
          <p:cNvSpPr/>
          <p:nvPr/>
        </p:nvSpPr>
        <p:spPr>
          <a:xfrm>
            <a:off x="5437080" y="2576520"/>
            <a:ext cx="708120" cy="669960"/>
          </a:xfrm>
          <a:custGeom>
            <a:avLst/>
            <a:gdLst/>
            <a:ahLst/>
            <a:rect l="l" t="t" r="r" b="b"/>
            <a:pathLst>
              <a:path w="348" h="330">
                <a:moveTo>
                  <a:pt x="174" y="0"/>
                </a:moveTo>
                <a:lnTo>
                  <a:pt x="216" y="123"/>
                </a:lnTo>
                <a:lnTo>
                  <a:pt x="348" y="125"/>
                </a:lnTo>
                <a:lnTo>
                  <a:pt x="243" y="205"/>
                </a:lnTo>
                <a:lnTo>
                  <a:pt x="281" y="330"/>
                </a:lnTo>
                <a:lnTo>
                  <a:pt x="174" y="257"/>
                </a:lnTo>
                <a:lnTo>
                  <a:pt x="67" y="330"/>
                </a:lnTo>
                <a:lnTo>
                  <a:pt x="105" y="205"/>
                </a:lnTo>
                <a:lnTo>
                  <a:pt x="0" y="125"/>
                </a:lnTo>
                <a:lnTo>
                  <a:pt x="132" y="123"/>
                </a:lnTo>
                <a:lnTo>
                  <a:pt x="1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57"/>
          <p:cNvSpPr/>
          <p:nvPr/>
        </p:nvSpPr>
        <p:spPr>
          <a:xfrm>
            <a:off x="7432560" y="20858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57"/>
          <p:cNvSpPr/>
          <p:nvPr/>
        </p:nvSpPr>
        <p:spPr>
          <a:xfrm>
            <a:off x="7432560" y="33130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Box 57"/>
          <p:cNvSpPr/>
          <p:nvPr/>
        </p:nvSpPr>
        <p:spPr>
          <a:xfrm>
            <a:off x="7432560" y="45417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文本框 52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6"/>
          <p:cNvSpPr/>
          <p:nvPr/>
        </p:nvSpPr>
        <p:spPr>
          <a:xfrm>
            <a:off x="1030320" y="2828880"/>
            <a:ext cx="3081240" cy="1191240"/>
          </a:xfrm>
          <a:prstGeom prst="rect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7" name="组合 7"/>
          <p:cNvGrpSpPr/>
          <p:nvPr/>
        </p:nvGrpSpPr>
        <p:grpSpPr>
          <a:xfrm>
            <a:off x="6054840" y="1271520"/>
            <a:ext cx="934920" cy="914400"/>
            <a:chOff x="6054840" y="1271520"/>
            <a:chExt cx="934920" cy="914400"/>
          </a:xfrm>
        </p:grpSpPr>
        <p:sp>
          <p:nvSpPr>
            <p:cNvPr id="508" name="Freeform 5"/>
            <p:cNvSpPr/>
            <p:nvPr/>
          </p:nvSpPr>
          <p:spPr>
            <a:xfrm>
              <a:off x="6054840" y="1271520"/>
              <a:ext cx="934920" cy="914400"/>
            </a:xfrm>
            <a:custGeom>
              <a:avLst/>
              <a:gdLst/>
              <a:ahLst/>
              <a:rect l="l" t="t" r="r" b="b"/>
              <a:pathLst>
                <a:path w="763" h="747">
                  <a:moveTo>
                    <a:pt x="748" y="419"/>
                  </a:moveTo>
                  <a:cubicBezTo>
                    <a:pt x="742" y="467"/>
                    <a:pt x="721" y="520"/>
                    <a:pt x="694" y="558"/>
                  </a:cubicBezTo>
                  <a:cubicBezTo>
                    <a:pt x="667" y="598"/>
                    <a:pt x="637" y="622"/>
                    <a:pt x="629" y="629"/>
                  </a:cubicBezTo>
                  <a:cubicBezTo>
                    <a:pt x="619" y="634"/>
                    <a:pt x="634" y="626"/>
                    <a:pt x="672" y="580"/>
                  </a:cubicBezTo>
                  <a:cubicBezTo>
                    <a:pt x="690" y="557"/>
                    <a:pt x="713" y="523"/>
                    <a:pt x="729" y="474"/>
                  </a:cubicBezTo>
                  <a:cubicBezTo>
                    <a:pt x="745" y="426"/>
                    <a:pt x="755" y="361"/>
                    <a:pt x="735" y="289"/>
                  </a:cubicBezTo>
                  <a:cubicBezTo>
                    <a:pt x="736" y="296"/>
                    <a:pt x="744" y="339"/>
                    <a:pt x="739" y="381"/>
                  </a:cubicBezTo>
                  <a:cubicBezTo>
                    <a:pt x="736" y="423"/>
                    <a:pt x="720" y="463"/>
                    <a:pt x="718" y="465"/>
                  </a:cubicBezTo>
                  <a:cubicBezTo>
                    <a:pt x="715" y="467"/>
                    <a:pt x="738" y="407"/>
                    <a:pt x="735" y="345"/>
                  </a:cubicBezTo>
                  <a:cubicBezTo>
                    <a:pt x="735" y="284"/>
                    <a:pt x="708" y="228"/>
                    <a:pt x="708" y="232"/>
                  </a:cubicBezTo>
                  <a:cubicBezTo>
                    <a:pt x="708" y="238"/>
                    <a:pt x="717" y="270"/>
                    <a:pt x="719" y="303"/>
                  </a:cubicBezTo>
                  <a:cubicBezTo>
                    <a:pt x="721" y="322"/>
                    <a:pt x="720" y="341"/>
                    <a:pt x="719" y="355"/>
                  </a:cubicBezTo>
                  <a:cubicBezTo>
                    <a:pt x="718" y="353"/>
                    <a:pt x="718" y="351"/>
                    <a:pt x="718" y="349"/>
                  </a:cubicBezTo>
                  <a:cubicBezTo>
                    <a:pt x="709" y="283"/>
                    <a:pt x="686" y="197"/>
                    <a:pt x="636" y="144"/>
                  </a:cubicBezTo>
                  <a:cubicBezTo>
                    <a:pt x="618" y="123"/>
                    <a:pt x="596" y="104"/>
                    <a:pt x="570" y="90"/>
                  </a:cubicBezTo>
                  <a:cubicBezTo>
                    <a:pt x="553" y="79"/>
                    <a:pt x="531" y="71"/>
                    <a:pt x="509" y="66"/>
                  </a:cubicBezTo>
                  <a:cubicBezTo>
                    <a:pt x="501" y="63"/>
                    <a:pt x="481" y="59"/>
                    <a:pt x="474" y="53"/>
                  </a:cubicBezTo>
                  <a:cubicBezTo>
                    <a:pt x="542" y="65"/>
                    <a:pt x="606" y="98"/>
                    <a:pt x="651" y="148"/>
                  </a:cubicBezTo>
                  <a:cubicBezTo>
                    <a:pt x="649" y="144"/>
                    <a:pt x="649" y="140"/>
                    <a:pt x="645" y="137"/>
                  </a:cubicBezTo>
                  <a:cubicBezTo>
                    <a:pt x="647" y="137"/>
                    <a:pt x="649" y="136"/>
                    <a:pt x="649" y="136"/>
                  </a:cubicBezTo>
                  <a:cubicBezTo>
                    <a:pt x="649" y="136"/>
                    <a:pt x="645" y="131"/>
                    <a:pt x="640" y="126"/>
                  </a:cubicBezTo>
                  <a:cubicBezTo>
                    <a:pt x="650" y="130"/>
                    <a:pt x="671" y="158"/>
                    <a:pt x="665" y="147"/>
                  </a:cubicBezTo>
                  <a:cubicBezTo>
                    <a:pt x="648" y="120"/>
                    <a:pt x="624" y="98"/>
                    <a:pt x="596" y="81"/>
                  </a:cubicBezTo>
                  <a:cubicBezTo>
                    <a:pt x="591" y="77"/>
                    <a:pt x="587" y="73"/>
                    <a:pt x="583" y="70"/>
                  </a:cubicBezTo>
                  <a:cubicBezTo>
                    <a:pt x="584" y="72"/>
                    <a:pt x="586" y="74"/>
                    <a:pt x="588" y="76"/>
                  </a:cubicBezTo>
                  <a:cubicBezTo>
                    <a:pt x="583" y="73"/>
                    <a:pt x="577" y="71"/>
                    <a:pt x="572" y="68"/>
                  </a:cubicBezTo>
                  <a:cubicBezTo>
                    <a:pt x="567" y="65"/>
                    <a:pt x="562" y="61"/>
                    <a:pt x="556" y="59"/>
                  </a:cubicBezTo>
                  <a:cubicBezTo>
                    <a:pt x="544" y="47"/>
                    <a:pt x="531" y="37"/>
                    <a:pt x="512" y="27"/>
                  </a:cubicBezTo>
                  <a:cubicBezTo>
                    <a:pt x="460" y="2"/>
                    <a:pt x="390" y="1"/>
                    <a:pt x="327" y="11"/>
                  </a:cubicBezTo>
                  <a:cubicBezTo>
                    <a:pt x="236" y="26"/>
                    <a:pt x="145" y="79"/>
                    <a:pt x="88" y="162"/>
                  </a:cubicBezTo>
                  <a:cubicBezTo>
                    <a:pt x="29" y="243"/>
                    <a:pt x="5" y="351"/>
                    <a:pt x="27" y="452"/>
                  </a:cubicBezTo>
                  <a:cubicBezTo>
                    <a:pt x="29" y="462"/>
                    <a:pt x="34" y="484"/>
                    <a:pt x="42" y="499"/>
                  </a:cubicBezTo>
                  <a:cubicBezTo>
                    <a:pt x="0" y="375"/>
                    <a:pt x="30" y="238"/>
                    <a:pt x="109" y="144"/>
                  </a:cubicBezTo>
                  <a:cubicBezTo>
                    <a:pt x="187" y="49"/>
                    <a:pt x="312" y="0"/>
                    <a:pt x="426" y="13"/>
                  </a:cubicBezTo>
                  <a:cubicBezTo>
                    <a:pt x="471" y="20"/>
                    <a:pt x="514" y="34"/>
                    <a:pt x="552" y="56"/>
                  </a:cubicBezTo>
                  <a:cubicBezTo>
                    <a:pt x="501" y="29"/>
                    <a:pt x="442" y="15"/>
                    <a:pt x="381" y="18"/>
                  </a:cubicBezTo>
                  <a:cubicBezTo>
                    <a:pt x="312" y="20"/>
                    <a:pt x="241" y="44"/>
                    <a:pt x="182" y="87"/>
                  </a:cubicBezTo>
                  <a:cubicBezTo>
                    <a:pt x="123" y="130"/>
                    <a:pt x="76" y="192"/>
                    <a:pt x="51" y="263"/>
                  </a:cubicBezTo>
                  <a:cubicBezTo>
                    <a:pt x="25" y="333"/>
                    <a:pt x="22" y="413"/>
                    <a:pt x="43" y="487"/>
                  </a:cubicBezTo>
                  <a:cubicBezTo>
                    <a:pt x="46" y="496"/>
                    <a:pt x="49" y="505"/>
                    <a:pt x="52" y="514"/>
                  </a:cubicBezTo>
                  <a:cubicBezTo>
                    <a:pt x="49" y="512"/>
                    <a:pt x="45" y="506"/>
                    <a:pt x="42" y="499"/>
                  </a:cubicBezTo>
                  <a:cubicBezTo>
                    <a:pt x="45" y="509"/>
                    <a:pt x="49" y="519"/>
                    <a:pt x="53" y="529"/>
                  </a:cubicBezTo>
                  <a:cubicBezTo>
                    <a:pt x="72" y="573"/>
                    <a:pt x="102" y="615"/>
                    <a:pt x="140" y="648"/>
                  </a:cubicBezTo>
                  <a:cubicBezTo>
                    <a:pt x="124" y="632"/>
                    <a:pt x="110" y="615"/>
                    <a:pt x="98" y="597"/>
                  </a:cubicBezTo>
                  <a:cubicBezTo>
                    <a:pt x="126" y="633"/>
                    <a:pt x="161" y="664"/>
                    <a:pt x="201" y="686"/>
                  </a:cubicBezTo>
                  <a:cubicBezTo>
                    <a:pt x="227" y="699"/>
                    <a:pt x="269" y="725"/>
                    <a:pt x="299" y="731"/>
                  </a:cubicBezTo>
                  <a:cubicBezTo>
                    <a:pt x="364" y="746"/>
                    <a:pt x="436" y="747"/>
                    <a:pt x="502" y="730"/>
                  </a:cubicBezTo>
                  <a:cubicBezTo>
                    <a:pt x="568" y="714"/>
                    <a:pt x="628" y="679"/>
                    <a:pt x="669" y="634"/>
                  </a:cubicBezTo>
                  <a:cubicBezTo>
                    <a:pt x="681" y="624"/>
                    <a:pt x="692" y="613"/>
                    <a:pt x="703" y="602"/>
                  </a:cubicBezTo>
                  <a:cubicBezTo>
                    <a:pt x="689" y="614"/>
                    <a:pt x="674" y="627"/>
                    <a:pt x="661" y="638"/>
                  </a:cubicBezTo>
                  <a:cubicBezTo>
                    <a:pt x="659" y="639"/>
                    <a:pt x="658" y="640"/>
                    <a:pt x="657" y="641"/>
                  </a:cubicBezTo>
                  <a:cubicBezTo>
                    <a:pt x="653" y="644"/>
                    <a:pt x="651" y="646"/>
                    <a:pt x="649" y="648"/>
                  </a:cubicBezTo>
                  <a:cubicBezTo>
                    <a:pt x="612" y="670"/>
                    <a:pt x="561" y="702"/>
                    <a:pt x="498" y="720"/>
                  </a:cubicBezTo>
                  <a:cubicBezTo>
                    <a:pt x="435" y="740"/>
                    <a:pt x="363" y="743"/>
                    <a:pt x="303" y="728"/>
                  </a:cubicBezTo>
                  <a:cubicBezTo>
                    <a:pt x="270" y="719"/>
                    <a:pt x="238" y="706"/>
                    <a:pt x="208" y="688"/>
                  </a:cubicBezTo>
                  <a:cubicBezTo>
                    <a:pt x="220" y="692"/>
                    <a:pt x="238" y="697"/>
                    <a:pt x="252" y="702"/>
                  </a:cubicBezTo>
                  <a:cubicBezTo>
                    <a:pt x="319" y="731"/>
                    <a:pt x="403" y="740"/>
                    <a:pt x="470" y="723"/>
                  </a:cubicBezTo>
                  <a:cubicBezTo>
                    <a:pt x="435" y="726"/>
                    <a:pt x="403" y="724"/>
                    <a:pt x="368" y="721"/>
                  </a:cubicBezTo>
                  <a:cubicBezTo>
                    <a:pt x="350" y="719"/>
                    <a:pt x="326" y="721"/>
                    <a:pt x="310" y="716"/>
                  </a:cubicBezTo>
                  <a:cubicBezTo>
                    <a:pt x="227" y="692"/>
                    <a:pt x="160" y="657"/>
                    <a:pt x="113" y="590"/>
                  </a:cubicBezTo>
                  <a:cubicBezTo>
                    <a:pt x="109" y="584"/>
                    <a:pt x="109" y="578"/>
                    <a:pt x="106" y="572"/>
                  </a:cubicBezTo>
                  <a:cubicBezTo>
                    <a:pt x="158" y="648"/>
                    <a:pt x="237" y="691"/>
                    <a:pt x="328" y="712"/>
                  </a:cubicBezTo>
                  <a:cubicBezTo>
                    <a:pt x="343" y="716"/>
                    <a:pt x="355" y="718"/>
                    <a:pt x="368" y="721"/>
                  </a:cubicBezTo>
                  <a:cubicBezTo>
                    <a:pt x="382" y="721"/>
                    <a:pt x="394" y="720"/>
                    <a:pt x="405" y="720"/>
                  </a:cubicBezTo>
                  <a:cubicBezTo>
                    <a:pt x="464" y="721"/>
                    <a:pt x="496" y="705"/>
                    <a:pt x="524" y="691"/>
                  </a:cubicBezTo>
                  <a:cubicBezTo>
                    <a:pt x="553" y="676"/>
                    <a:pt x="579" y="661"/>
                    <a:pt x="625" y="633"/>
                  </a:cubicBezTo>
                  <a:cubicBezTo>
                    <a:pt x="605" y="647"/>
                    <a:pt x="579" y="666"/>
                    <a:pt x="552" y="682"/>
                  </a:cubicBezTo>
                  <a:cubicBezTo>
                    <a:pt x="525" y="698"/>
                    <a:pt x="498" y="710"/>
                    <a:pt x="481" y="717"/>
                  </a:cubicBezTo>
                  <a:cubicBezTo>
                    <a:pt x="515" y="709"/>
                    <a:pt x="563" y="690"/>
                    <a:pt x="606" y="660"/>
                  </a:cubicBezTo>
                  <a:cubicBezTo>
                    <a:pt x="649" y="630"/>
                    <a:pt x="684" y="591"/>
                    <a:pt x="707" y="560"/>
                  </a:cubicBezTo>
                  <a:cubicBezTo>
                    <a:pt x="734" y="522"/>
                    <a:pt x="741" y="503"/>
                    <a:pt x="747" y="485"/>
                  </a:cubicBezTo>
                  <a:cubicBezTo>
                    <a:pt x="752" y="468"/>
                    <a:pt x="756" y="451"/>
                    <a:pt x="761" y="412"/>
                  </a:cubicBezTo>
                  <a:cubicBezTo>
                    <a:pt x="763" y="404"/>
                    <a:pt x="763" y="381"/>
                    <a:pt x="760" y="357"/>
                  </a:cubicBezTo>
                  <a:cubicBezTo>
                    <a:pt x="756" y="333"/>
                    <a:pt x="750" y="308"/>
                    <a:pt x="745" y="293"/>
                  </a:cubicBezTo>
                  <a:cubicBezTo>
                    <a:pt x="755" y="347"/>
                    <a:pt x="755" y="390"/>
                    <a:pt x="748" y="419"/>
                  </a:cubicBezTo>
                  <a:close/>
                </a:path>
              </a:pathLst>
            </a:custGeom>
            <a:solidFill>
              <a:srgbClr val="6d5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文本框 9"/>
            <p:cNvSpPr/>
            <p:nvPr/>
          </p:nvSpPr>
          <p:spPr>
            <a:xfrm>
              <a:off x="6229440" y="14670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0" name="文本框 10"/>
          <p:cNvSpPr/>
          <p:nvPr/>
        </p:nvSpPr>
        <p:spPr>
          <a:xfrm>
            <a:off x="7099200" y="148608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1" name="组合 11"/>
          <p:cNvGrpSpPr/>
          <p:nvPr/>
        </p:nvGrpSpPr>
        <p:grpSpPr>
          <a:xfrm>
            <a:off x="6054840" y="2455920"/>
            <a:ext cx="934920" cy="914400"/>
            <a:chOff x="6054840" y="2455920"/>
            <a:chExt cx="934920" cy="914400"/>
          </a:xfrm>
        </p:grpSpPr>
        <p:sp>
          <p:nvSpPr>
            <p:cNvPr id="512" name="Freeform 5"/>
            <p:cNvSpPr/>
            <p:nvPr/>
          </p:nvSpPr>
          <p:spPr>
            <a:xfrm>
              <a:off x="6054840" y="2455920"/>
              <a:ext cx="934920" cy="914400"/>
            </a:xfrm>
            <a:custGeom>
              <a:avLst/>
              <a:gdLst/>
              <a:ahLst/>
              <a:rect l="l" t="t" r="r" b="b"/>
              <a:pathLst>
                <a:path w="763" h="747">
                  <a:moveTo>
                    <a:pt x="748" y="419"/>
                  </a:moveTo>
                  <a:cubicBezTo>
                    <a:pt x="742" y="467"/>
                    <a:pt x="721" y="520"/>
                    <a:pt x="694" y="558"/>
                  </a:cubicBezTo>
                  <a:cubicBezTo>
                    <a:pt x="667" y="598"/>
                    <a:pt x="637" y="622"/>
                    <a:pt x="629" y="629"/>
                  </a:cubicBezTo>
                  <a:cubicBezTo>
                    <a:pt x="619" y="634"/>
                    <a:pt x="634" y="626"/>
                    <a:pt x="672" y="580"/>
                  </a:cubicBezTo>
                  <a:cubicBezTo>
                    <a:pt x="690" y="557"/>
                    <a:pt x="713" y="523"/>
                    <a:pt x="729" y="474"/>
                  </a:cubicBezTo>
                  <a:cubicBezTo>
                    <a:pt x="745" y="426"/>
                    <a:pt x="755" y="361"/>
                    <a:pt x="735" y="289"/>
                  </a:cubicBezTo>
                  <a:cubicBezTo>
                    <a:pt x="736" y="296"/>
                    <a:pt x="744" y="339"/>
                    <a:pt x="739" y="381"/>
                  </a:cubicBezTo>
                  <a:cubicBezTo>
                    <a:pt x="736" y="423"/>
                    <a:pt x="720" y="463"/>
                    <a:pt x="718" y="465"/>
                  </a:cubicBezTo>
                  <a:cubicBezTo>
                    <a:pt x="715" y="467"/>
                    <a:pt x="738" y="407"/>
                    <a:pt x="735" y="345"/>
                  </a:cubicBezTo>
                  <a:cubicBezTo>
                    <a:pt x="735" y="284"/>
                    <a:pt x="708" y="228"/>
                    <a:pt x="708" y="232"/>
                  </a:cubicBezTo>
                  <a:cubicBezTo>
                    <a:pt x="708" y="238"/>
                    <a:pt x="717" y="270"/>
                    <a:pt x="719" y="303"/>
                  </a:cubicBezTo>
                  <a:cubicBezTo>
                    <a:pt x="721" y="322"/>
                    <a:pt x="720" y="341"/>
                    <a:pt x="719" y="355"/>
                  </a:cubicBezTo>
                  <a:cubicBezTo>
                    <a:pt x="718" y="353"/>
                    <a:pt x="718" y="351"/>
                    <a:pt x="718" y="349"/>
                  </a:cubicBezTo>
                  <a:cubicBezTo>
                    <a:pt x="709" y="283"/>
                    <a:pt x="686" y="197"/>
                    <a:pt x="636" y="144"/>
                  </a:cubicBezTo>
                  <a:cubicBezTo>
                    <a:pt x="618" y="123"/>
                    <a:pt x="596" y="104"/>
                    <a:pt x="570" y="90"/>
                  </a:cubicBezTo>
                  <a:cubicBezTo>
                    <a:pt x="553" y="79"/>
                    <a:pt x="531" y="71"/>
                    <a:pt x="509" y="66"/>
                  </a:cubicBezTo>
                  <a:cubicBezTo>
                    <a:pt x="501" y="63"/>
                    <a:pt x="481" y="59"/>
                    <a:pt x="474" y="53"/>
                  </a:cubicBezTo>
                  <a:cubicBezTo>
                    <a:pt x="542" y="65"/>
                    <a:pt x="606" y="98"/>
                    <a:pt x="651" y="148"/>
                  </a:cubicBezTo>
                  <a:cubicBezTo>
                    <a:pt x="649" y="144"/>
                    <a:pt x="649" y="140"/>
                    <a:pt x="645" y="137"/>
                  </a:cubicBezTo>
                  <a:cubicBezTo>
                    <a:pt x="647" y="137"/>
                    <a:pt x="649" y="136"/>
                    <a:pt x="649" y="136"/>
                  </a:cubicBezTo>
                  <a:cubicBezTo>
                    <a:pt x="649" y="136"/>
                    <a:pt x="645" y="131"/>
                    <a:pt x="640" y="126"/>
                  </a:cubicBezTo>
                  <a:cubicBezTo>
                    <a:pt x="650" y="130"/>
                    <a:pt x="671" y="158"/>
                    <a:pt x="665" y="147"/>
                  </a:cubicBezTo>
                  <a:cubicBezTo>
                    <a:pt x="648" y="120"/>
                    <a:pt x="624" y="98"/>
                    <a:pt x="596" y="81"/>
                  </a:cubicBezTo>
                  <a:cubicBezTo>
                    <a:pt x="591" y="77"/>
                    <a:pt x="587" y="73"/>
                    <a:pt x="583" y="70"/>
                  </a:cubicBezTo>
                  <a:cubicBezTo>
                    <a:pt x="584" y="72"/>
                    <a:pt x="586" y="74"/>
                    <a:pt x="588" y="76"/>
                  </a:cubicBezTo>
                  <a:cubicBezTo>
                    <a:pt x="583" y="73"/>
                    <a:pt x="577" y="71"/>
                    <a:pt x="572" y="68"/>
                  </a:cubicBezTo>
                  <a:cubicBezTo>
                    <a:pt x="567" y="65"/>
                    <a:pt x="562" y="61"/>
                    <a:pt x="556" y="59"/>
                  </a:cubicBezTo>
                  <a:cubicBezTo>
                    <a:pt x="544" y="47"/>
                    <a:pt x="531" y="37"/>
                    <a:pt x="512" y="27"/>
                  </a:cubicBezTo>
                  <a:cubicBezTo>
                    <a:pt x="460" y="2"/>
                    <a:pt x="390" y="1"/>
                    <a:pt x="327" y="11"/>
                  </a:cubicBezTo>
                  <a:cubicBezTo>
                    <a:pt x="236" y="26"/>
                    <a:pt x="145" y="79"/>
                    <a:pt x="88" y="162"/>
                  </a:cubicBezTo>
                  <a:cubicBezTo>
                    <a:pt x="29" y="243"/>
                    <a:pt x="5" y="351"/>
                    <a:pt x="27" y="452"/>
                  </a:cubicBezTo>
                  <a:cubicBezTo>
                    <a:pt x="29" y="462"/>
                    <a:pt x="34" y="484"/>
                    <a:pt x="42" y="499"/>
                  </a:cubicBezTo>
                  <a:cubicBezTo>
                    <a:pt x="0" y="375"/>
                    <a:pt x="30" y="238"/>
                    <a:pt x="109" y="144"/>
                  </a:cubicBezTo>
                  <a:cubicBezTo>
                    <a:pt x="187" y="49"/>
                    <a:pt x="312" y="0"/>
                    <a:pt x="426" y="13"/>
                  </a:cubicBezTo>
                  <a:cubicBezTo>
                    <a:pt x="471" y="20"/>
                    <a:pt x="514" y="34"/>
                    <a:pt x="552" y="56"/>
                  </a:cubicBezTo>
                  <a:cubicBezTo>
                    <a:pt x="501" y="29"/>
                    <a:pt x="442" y="15"/>
                    <a:pt x="381" y="18"/>
                  </a:cubicBezTo>
                  <a:cubicBezTo>
                    <a:pt x="312" y="20"/>
                    <a:pt x="241" y="44"/>
                    <a:pt x="182" y="87"/>
                  </a:cubicBezTo>
                  <a:cubicBezTo>
                    <a:pt x="123" y="130"/>
                    <a:pt x="76" y="192"/>
                    <a:pt x="51" y="263"/>
                  </a:cubicBezTo>
                  <a:cubicBezTo>
                    <a:pt x="25" y="333"/>
                    <a:pt x="22" y="413"/>
                    <a:pt x="43" y="487"/>
                  </a:cubicBezTo>
                  <a:cubicBezTo>
                    <a:pt x="46" y="496"/>
                    <a:pt x="49" y="505"/>
                    <a:pt x="52" y="514"/>
                  </a:cubicBezTo>
                  <a:cubicBezTo>
                    <a:pt x="49" y="512"/>
                    <a:pt x="45" y="506"/>
                    <a:pt x="42" y="499"/>
                  </a:cubicBezTo>
                  <a:cubicBezTo>
                    <a:pt x="45" y="509"/>
                    <a:pt x="49" y="519"/>
                    <a:pt x="53" y="529"/>
                  </a:cubicBezTo>
                  <a:cubicBezTo>
                    <a:pt x="72" y="573"/>
                    <a:pt x="102" y="615"/>
                    <a:pt x="140" y="648"/>
                  </a:cubicBezTo>
                  <a:cubicBezTo>
                    <a:pt x="124" y="632"/>
                    <a:pt x="110" y="615"/>
                    <a:pt x="98" y="597"/>
                  </a:cubicBezTo>
                  <a:cubicBezTo>
                    <a:pt x="126" y="633"/>
                    <a:pt x="161" y="664"/>
                    <a:pt x="201" y="686"/>
                  </a:cubicBezTo>
                  <a:cubicBezTo>
                    <a:pt x="227" y="699"/>
                    <a:pt x="269" y="725"/>
                    <a:pt x="299" y="731"/>
                  </a:cubicBezTo>
                  <a:cubicBezTo>
                    <a:pt x="364" y="746"/>
                    <a:pt x="436" y="747"/>
                    <a:pt x="502" y="730"/>
                  </a:cubicBezTo>
                  <a:cubicBezTo>
                    <a:pt x="568" y="714"/>
                    <a:pt x="628" y="679"/>
                    <a:pt x="669" y="634"/>
                  </a:cubicBezTo>
                  <a:cubicBezTo>
                    <a:pt x="681" y="624"/>
                    <a:pt x="692" y="613"/>
                    <a:pt x="703" y="602"/>
                  </a:cubicBezTo>
                  <a:cubicBezTo>
                    <a:pt x="689" y="614"/>
                    <a:pt x="674" y="627"/>
                    <a:pt x="661" y="638"/>
                  </a:cubicBezTo>
                  <a:cubicBezTo>
                    <a:pt x="659" y="639"/>
                    <a:pt x="658" y="640"/>
                    <a:pt x="657" y="641"/>
                  </a:cubicBezTo>
                  <a:cubicBezTo>
                    <a:pt x="653" y="644"/>
                    <a:pt x="651" y="646"/>
                    <a:pt x="649" y="648"/>
                  </a:cubicBezTo>
                  <a:cubicBezTo>
                    <a:pt x="612" y="670"/>
                    <a:pt x="561" y="702"/>
                    <a:pt x="498" y="720"/>
                  </a:cubicBezTo>
                  <a:cubicBezTo>
                    <a:pt x="435" y="740"/>
                    <a:pt x="363" y="743"/>
                    <a:pt x="303" y="728"/>
                  </a:cubicBezTo>
                  <a:cubicBezTo>
                    <a:pt x="270" y="719"/>
                    <a:pt x="238" y="706"/>
                    <a:pt x="208" y="688"/>
                  </a:cubicBezTo>
                  <a:cubicBezTo>
                    <a:pt x="220" y="692"/>
                    <a:pt x="238" y="697"/>
                    <a:pt x="252" y="702"/>
                  </a:cubicBezTo>
                  <a:cubicBezTo>
                    <a:pt x="319" y="731"/>
                    <a:pt x="403" y="740"/>
                    <a:pt x="470" y="723"/>
                  </a:cubicBezTo>
                  <a:cubicBezTo>
                    <a:pt x="435" y="726"/>
                    <a:pt x="403" y="724"/>
                    <a:pt x="368" y="721"/>
                  </a:cubicBezTo>
                  <a:cubicBezTo>
                    <a:pt x="350" y="719"/>
                    <a:pt x="326" y="721"/>
                    <a:pt x="310" y="716"/>
                  </a:cubicBezTo>
                  <a:cubicBezTo>
                    <a:pt x="227" y="692"/>
                    <a:pt x="160" y="657"/>
                    <a:pt x="113" y="590"/>
                  </a:cubicBezTo>
                  <a:cubicBezTo>
                    <a:pt x="109" y="584"/>
                    <a:pt x="109" y="578"/>
                    <a:pt x="106" y="572"/>
                  </a:cubicBezTo>
                  <a:cubicBezTo>
                    <a:pt x="158" y="648"/>
                    <a:pt x="237" y="691"/>
                    <a:pt x="328" y="712"/>
                  </a:cubicBezTo>
                  <a:cubicBezTo>
                    <a:pt x="343" y="716"/>
                    <a:pt x="355" y="718"/>
                    <a:pt x="368" y="721"/>
                  </a:cubicBezTo>
                  <a:cubicBezTo>
                    <a:pt x="382" y="721"/>
                    <a:pt x="394" y="720"/>
                    <a:pt x="405" y="720"/>
                  </a:cubicBezTo>
                  <a:cubicBezTo>
                    <a:pt x="464" y="721"/>
                    <a:pt x="496" y="705"/>
                    <a:pt x="524" y="691"/>
                  </a:cubicBezTo>
                  <a:cubicBezTo>
                    <a:pt x="553" y="676"/>
                    <a:pt x="579" y="661"/>
                    <a:pt x="625" y="633"/>
                  </a:cubicBezTo>
                  <a:cubicBezTo>
                    <a:pt x="605" y="647"/>
                    <a:pt x="579" y="666"/>
                    <a:pt x="552" y="682"/>
                  </a:cubicBezTo>
                  <a:cubicBezTo>
                    <a:pt x="525" y="698"/>
                    <a:pt x="498" y="710"/>
                    <a:pt x="481" y="717"/>
                  </a:cubicBezTo>
                  <a:cubicBezTo>
                    <a:pt x="515" y="709"/>
                    <a:pt x="563" y="690"/>
                    <a:pt x="606" y="660"/>
                  </a:cubicBezTo>
                  <a:cubicBezTo>
                    <a:pt x="649" y="630"/>
                    <a:pt x="684" y="591"/>
                    <a:pt x="707" y="560"/>
                  </a:cubicBezTo>
                  <a:cubicBezTo>
                    <a:pt x="734" y="522"/>
                    <a:pt x="741" y="503"/>
                    <a:pt x="747" y="485"/>
                  </a:cubicBezTo>
                  <a:cubicBezTo>
                    <a:pt x="752" y="468"/>
                    <a:pt x="756" y="451"/>
                    <a:pt x="761" y="412"/>
                  </a:cubicBezTo>
                  <a:cubicBezTo>
                    <a:pt x="763" y="404"/>
                    <a:pt x="763" y="381"/>
                    <a:pt x="760" y="357"/>
                  </a:cubicBezTo>
                  <a:cubicBezTo>
                    <a:pt x="756" y="333"/>
                    <a:pt x="750" y="308"/>
                    <a:pt x="745" y="293"/>
                  </a:cubicBezTo>
                  <a:cubicBezTo>
                    <a:pt x="755" y="347"/>
                    <a:pt x="755" y="390"/>
                    <a:pt x="748" y="419"/>
                  </a:cubicBezTo>
                  <a:close/>
                </a:path>
              </a:pathLst>
            </a:custGeom>
            <a:solidFill>
              <a:srgbClr val="b84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文本框 13"/>
            <p:cNvSpPr/>
            <p:nvPr/>
          </p:nvSpPr>
          <p:spPr>
            <a:xfrm>
              <a:off x="6251040" y="2651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4" name="文本框 14"/>
          <p:cNvSpPr/>
          <p:nvPr/>
        </p:nvSpPr>
        <p:spPr>
          <a:xfrm>
            <a:off x="7099200" y="267012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5" name="组合 15"/>
          <p:cNvGrpSpPr/>
          <p:nvPr/>
        </p:nvGrpSpPr>
        <p:grpSpPr>
          <a:xfrm>
            <a:off x="6054840" y="3639960"/>
            <a:ext cx="934920" cy="914400"/>
            <a:chOff x="6054840" y="3639960"/>
            <a:chExt cx="934920" cy="914400"/>
          </a:xfrm>
        </p:grpSpPr>
        <p:sp>
          <p:nvSpPr>
            <p:cNvPr id="516" name="Freeform 5"/>
            <p:cNvSpPr/>
            <p:nvPr/>
          </p:nvSpPr>
          <p:spPr>
            <a:xfrm>
              <a:off x="6054840" y="3639960"/>
              <a:ext cx="934920" cy="914400"/>
            </a:xfrm>
            <a:custGeom>
              <a:avLst/>
              <a:gdLst/>
              <a:ahLst/>
              <a:rect l="l" t="t" r="r" b="b"/>
              <a:pathLst>
                <a:path w="763" h="747">
                  <a:moveTo>
                    <a:pt x="748" y="419"/>
                  </a:moveTo>
                  <a:cubicBezTo>
                    <a:pt x="742" y="467"/>
                    <a:pt x="721" y="520"/>
                    <a:pt x="694" y="558"/>
                  </a:cubicBezTo>
                  <a:cubicBezTo>
                    <a:pt x="667" y="598"/>
                    <a:pt x="637" y="622"/>
                    <a:pt x="629" y="629"/>
                  </a:cubicBezTo>
                  <a:cubicBezTo>
                    <a:pt x="619" y="634"/>
                    <a:pt x="634" y="626"/>
                    <a:pt x="672" y="580"/>
                  </a:cubicBezTo>
                  <a:cubicBezTo>
                    <a:pt x="690" y="557"/>
                    <a:pt x="713" y="523"/>
                    <a:pt x="729" y="474"/>
                  </a:cubicBezTo>
                  <a:cubicBezTo>
                    <a:pt x="745" y="426"/>
                    <a:pt x="755" y="361"/>
                    <a:pt x="735" y="289"/>
                  </a:cubicBezTo>
                  <a:cubicBezTo>
                    <a:pt x="736" y="296"/>
                    <a:pt x="744" y="339"/>
                    <a:pt x="739" y="381"/>
                  </a:cubicBezTo>
                  <a:cubicBezTo>
                    <a:pt x="736" y="423"/>
                    <a:pt x="720" y="463"/>
                    <a:pt x="718" y="465"/>
                  </a:cubicBezTo>
                  <a:cubicBezTo>
                    <a:pt x="715" y="467"/>
                    <a:pt x="738" y="407"/>
                    <a:pt x="735" y="345"/>
                  </a:cubicBezTo>
                  <a:cubicBezTo>
                    <a:pt x="735" y="284"/>
                    <a:pt x="708" y="228"/>
                    <a:pt x="708" y="232"/>
                  </a:cubicBezTo>
                  <a:cubicBezTo>
                    <a:pt x="708" y="238"/>
                    <a:pt x="717" y="270"/>
                    <a:pt x="719" y="303"/>
                  </a:cubicBezTo>
                  <a:cubicBezTo>
                    <a:pt x="721" y="322"/>
                    <a:pt x="720" y="341"/>
                    <a:pt x="719" y="355"/>
                  </a:cubicBezTo>
                  <a:cubicBezTo>
                    <a:pt x="718" y="353"/>
                    <a:pt x="718" y="351"/>
                    <a:pt x="718" y="349"/>
                  </a:cubicBezTo>
                  <a:cubicBezTo>
                    <a:pt x="709" y="283"/>
                    <a:pt x="686" y="197"/>
                    <a:pt x="636" y="144"/>
                  </a:cubicBezTo>
                  <a:cubicBezTo>
                    <a:pt x="618" y="123"/>
                    <a:pt x="596" y="104"/>
                    <a:pt x="570" y="90"/>
                  </a:cubicBezTo>
                  <a:cubicBezTo>
                    <a:pt x="553" y="79"/>
                    <a:pt x="531" y="71"/>
                    <a:pt x="509" y="66"/>
                  </a:cubicBezTo>
                  <a:cubicBezTo>
                    <a:pt x="501" y="63"/>
                    <a:pt x="481" y="59"/>
                    <a:pt x="474" y="53"/>
                  </a:cubicBezTo>
                  <a:cubicBezTo>
                    <a:pt x="542" y="65"/>
                    <a:pt x="606" y="98"/>
                    <a:pt x="651" y="148"/>
                  </a:cubicBezTo>
                  <a:cubicBezTo>
                    <a:pt x="649" y="144"/>
                    <a:pt x="649" y="140"/>
                    <a:pt x="645" y="137"/>
                  </a:cubicBezTo>
                  <a:cubicBezTo>
                    <a:pt x="647" y="137"/>
                    <a:pt x="649" y="136"/>
                    <a:pt x="649" y="136"/>
                  </a:cubicBezTo>
                  <a:cubicBezTo>
                    <a:pt x="649" y="136"/>
                    <a:pt x="645" y="131"/>
                    <a:pt x="640" y="126"/>
                  </a:cubicBezTo>
                  <a:cubicBezTo>
                    <a:pt x="650" y="130"/>
                    <a:pt x="671" y="158"/>
                    <a:pt x="665" y="147"/>
                  </a:cubicBezTo>
                  <a:cubicBezTo>
                    <a:pt x="648" y="120"/>
                    <a:pt x="624" y="98"/>
                    <a:pt x="596" y="81"/>
                  </a:cubicBezTo>
                  <a:cubicBezTo>
                    <a:pt x="591" y="77"/>
                    <a:pt x="587" y="73"/>
                    <a:pt x="583" y="70"/>
                  </a:cubicBezTo>
                  <a:cubicBezTo>
                    <a:pt x="584" y="72"/>
                    <a:pt x="586" y="74"/>
                    <a:pt x="588" y="76"/>
                  </a:cubicBezTo>
                  <a:cubicBezTo>
                    <a:pt x="583" y="73"/>
                    <a:pt x="577" y="71"/>
                    <a:pt x="572" y="68"/>
                  </a:cubicBezTo>
                  <a:cubicBezTo>
                    <a:pt x="567" y="65"/>
                    <a:pt x="562" y="61"/>
                    <a:pt x="556" y="59"/>
                  </a:cubicBezTo>
                  <a:cubicBezTo>
                    <a:pt x="544" y="47"/>
                    <a:pt x="531" y="37"/>
                    <a:pt x="512" y="27"/>
                  </a:cubicBezTo>
                  <a:cubicBezTo>
                    <a:pt x="460" y="2"/>
                    <a:pt x="390" y="1"/>
                    <a:pt x="327" y="11"/>
                  </a:cubicBezTo>
                  <a:cubicBezTo>
                    <a:pt x="236" y="26"/>
                    <a:pt x="145" y="79"/>
                    <a:pt x="88" y="162"/>
                  </a:cubicBezTo>
                  <a:cubicBezTo>
                    <a:pt x="29" y="243"/>
                    <a:pt x="5" y="351"/>
                    <a:pt x="27" y="452"/>
                  </a:cubicBezTo>
                  <a:cubicBezTo>
                    <a:pt x="29" y="462"/>
                    <a:pt x="34" y="484"/>
                    <a:pt x="42" y="499"/>
                  </a:cubicBezTo>
                  <a:cubicBezTo>
                    <a:pt x="0" y="375"/>
                    <a:pt x="30" y="238"/>
                    <a:pt x="109" y="144"/>
                  </a:cubicBezTo>
                  <a:cubicBezTo>
                    <a:pt x="187" y="49"/>
                    <a:pt x="312" y="0"/>
                    <a:pt x="426" y="13"/>
                  </a:cubicBezTo>
                  <a:cubicBezTo>
                    <a:pt x="471" y="20"/>
                    <a:pt x="514" y="34"/>
                    <a:pt x="552" y="56"/>
                  </a:cubicBezTo>
                  <a:cubicBezTo>
                    <a:pt x="501" y="29"/>
                    <a:pt x="442" y="15"/>
                    <a:pt x="381" y="18"/>
                  </a:cubicBezTo>
                  <a:cubicBezTo>
                    <a:pt x="312" y="20"/>
                    <a:pt x="241" y="44"/>
                    <a:pt x="182" y="87"/>
                  </a:cubicBezTo>
                  <a:cubicBezTo>
                    <a:pt x="123" y="130"/>
                    <a:pt x="76" y="192"/>
                    <a:pt x="51" y="263"/>
                  </a:cubicBezTo>
                  <a:cubicBezTo>
                    <a:pt x="25" y="333"/>
                    <a:pt x="22" y="413"/>
                    <a:pt x="43" y="487"/>
                  </a:cubicBezTo>
                  <a:cubicBezTo>
                    <a:pt x="46" y="496"/>
                    <a:pt x="49" y="505"/>
                    <a:pt x="52" y="514"/>
                  </a:cubicBezTo>
                  <a:cubicBezTo>
                    <a:pt x="49" y="512"/>
                    <a:pt x="45" y="506"/>
                    <a:pt x="42" y="499"/>
                  </a:cubicBezTo>
                  <a:cubicBezTo>
                    <a:pt x="45" y="509"/>
                    <a:pt x="49" y="519"/>
                    <a:pt x="53" y="529"/>
                  </a:cubicBezTo>
                  <a:cubicBezTo>
                    <a:pt x="72" y="573"/>
                    <a:pt x="102" y="615"/>
                    <a:pt x="140" y="648"/>
                  </a:cubicBezTo>
                  <a:cubicBezTo>
                    <a:pt x="124" y="632"/>
                    <a:pt x="110" y="615"/>
                    <a:pt x="98" y="597"/>
                  </a:cubicBezTo>
                  <a:cubicBezTo>
                    <a:pt x="126" y="633"/>
                    <a:pt x="161" y="664"/>
                    <a:pt x="201" y="686"/>
                  </a:cubicBezTo>
                  <a:cubicBezTo>
                    <a:pt x="227" y="699"/>
                    <a:pt x="269" y="725"/>
                    <a:pt x="299" y="731"/>
                  </a:cubicBezTo>
                  <a:cubicBezTo>
                    <a:pt x="364" y="746"/>
                    <a:pt x="436" y="747"/>
                    <a:pt x="502" y="730"/>
                  </a:cubicBezTo>
                  <a:cubicBezTo>
                    <a:pt x="568" y="714"/>
                    <a:pt x="628" y="679"/>
                    <a:pt x="669" y="634"/>
                  </a:cubicBezTo>
                  <a:cubicBezTo>
                    <a:pt x="681" y="624"/>
                    <a:pt x="692" y="613"/>
                    <a:pt x="703" y="602"/>
                  </a:cubicBezTo>
                  <a:cubicBezTo>
                    <a:pt x="689" y="614"/>
                    <a:pt x="674" y="627"/>
                    <a:pt x="661" y="638"/>
                  </a:cubicBezTo>
                  <a:cubicBezTo>
                    <a:pt x="659" y="639"/>
                    <a:pt x="658" y="640"/>
                    <a:pt x="657" y="641"/>
                  </a:cubicBezTo>
                  <a:cubicBezTo>
                    <a:pt x="653" y="644"/>
                    <a:pt x="651" y="646"/>
                    <a:pt x="649" y="648"/>
                  </a:cubicBezTo>
                  <a:cubicBezTo>
                    <a:pt x="612" y="670"/>
                    <a:pt x="561" y="702"/>
                    <a:pt x="498" y="720"/>
                  </a:cubicBezTo>
                  <a:cubicBezTo>
                    <a:pt x="435" y="740"/>
                    <a:pt x="363" y="743"/>
                    <a:pt x="303" y="728"/>
                  </a:cubicBezTo>
                  <a:cubicBezTo>
                    <a:pt x="270" y="719"/>
                    <a:pt x="238" y="706"/>
                    <a:pt x="208" y="688"/>
                  </a:cubicBezTo>
                  <a:cubicBezTo>
                    <a:pt x="220" y="692"/>
                    <a:pt x="238" y="697"/>
                    <a:pt x="252" y="702"/>
                  </a:cubicBezTo>
                  <a:cubicBezTo>
                    <a:pt x="319" y="731"/>
                    <a:pt x="403" y="740"/>
                    <a:pt x="470" y="723"/>
                  </a:cubicBezTo>
                  <a:cubicBezTo>
                    <a:pt x="435" y="726"/>
                    <a:pt x="403" y="724"/>
                    <a:pt x="368" y="721"/>
                  </a:cubicBezTo>
                  <a:cubicBezTo>
                    <a:pt x="350" y="719"/>
                    <a:pt x="326" y="721"/>
                    <a:pt x="310" y="716"/>
                  </a:cubicBezTo>
                  <a:cubicBezTo>
                    <a:pt x="227" y="692"/>
                    <a:pt x="160" y="657"/>
                    <a:pt x="113" y="590"/>
                  </a:cubicBezTo>
                  <a:cubicBezTo>
                    <a:pt x="109" y="584"/>
                    <a:pt x="109" y="578"/>
                    <a:pt x="106" y="572"/>
                  </a:cubicBezTo>
                  <a:cubicBezTo>
                    <a:pt x="158" y="648"/>
                    <a:pt x="237" y="691"/>
                    <a:pt x="328" y="712"/>
                  </a:cubicBezTo>
                  <a:cubicBezTo>
                    <a:pt x="343" y="716"/>
                    <a:pt x="355" y="718"/>
                    <a:pt x="368" y="721"/>
                  </a:cubicBezTo>
                  <a:cubicBezTo>
                    <a:pt x="382" y="721"/>
                    <a:pt x="394" y="720"/>
                    <a:pt x="405" y="720"/>
                  </a:cubicBezTo>
                  <a:cubicBezTo>
                    <a:pt x="464" y="721"/>
                    <a:pt x="496" y="705"/>
                    <a:pt x="524" y="691"/>
                  </a:cubicBezTo>
                  <a:cubicBezTo>
                    <a:pt x="553" y="676"/>
                    <a:pt x="579" y="661"/>
                    <a:pt x="625" y="633"/>
                  </a:cubicBezTo>
                  <a:cubicBezTo>
                    <a:pt x="605" y="647"/>
                    <a:pt x="579" y="666"/>
                    <a:pt x="552" y="682"/>
                  </a:cubicBezTo>
                  <a:cubicBezTo>
                    <a:pt x="525" y="698"/>
                    <a:pt x="498" y="710"/>
                    <a:pt x="481" y="717"/>
                  </a:cubicBezTo>
                  <a:cubicBezTo>
                    <a:pt x="515" y="709"/>
                    <a:pt x="563" y="690"/>
                    <a:pt x="606" y="660"/>
                  </a:cubicBezTo>
                  <a:cubicBezTo>
                    <a:pt x="649" y="630"/>
                    <a:pt x="684" y="591"/>
                    <a:pt x="707" y="560"/>
                  </a:cubicBezTo>
                  <a:cubicBezTo>
                    <a:pt x="734" y="522"/>
                    <a:pt x="741" y="503"/>
                    <a:pt x="747" y="485"/>
                  </a:cubicBezTo>
                  <a:cubicBezTo>
                    <a:pt x="752" y="468"/>
                    <a:pt x="756" y="451"/>
                    <a:pt x="761" y="412"/>
                  </a:cubicBezTo>
                  <a:cubicBezTo>
                    <a:pt x="763" y="404"/>
                    <a:pt x="763" y="381"/>
                    <a:pt x="760" y="357"/>
                  </a:cubicBezTo>
                  <a:cubicBezTo>
                    <a:pt x="756" y="333"/>
                    <a:pt x="750" y="308"/>
                    <a:pt x="745" y="293"/>
                  </a:cubicBezTo>
                  <a:cubicBezTo>
                    <a:pt x="755" y="347"/>
                    <a:pt x="755" y="390"/>
                    <a:pt x="748" y="419"/>
                  </a:cubicBezTo>
                  <a:close/>
                </a:path>
              </a:pathLst>
            </a:custGeom>
            <a:solidFill>
              <a:srgbClr val="a96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文本框 17"/>
            <p:cNvSpPr/>
            <p:nvPr/>
          </p:nvSpPr>
          <p:spPr>
            <a:xfrm>
              <a:off x="6256440" y="3835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8" name="文本框 18"/>
          <p:cNvSpPr/>
          <p:nvPr/>
        </p:nvSpPr>
        <p:spPr>
          <a:xfrm>
            <a:off x="7099200" y="385452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" name="组合 19"/>
          <p:cNvGrpSpPr/>
          <p:nvPr/>
        </p:nvGrpSpPr>
        <p:grpSpPr>
          <a:xfrm>
            <a:off x="6054840" y="4824360"/>
            <a:ext cx="934920" cy="914400"/>
            <a:chOff x="6054840" y="4824360"/>
            <a:chExt cx="934920" cy="914400"/>
          </a:xfrm>
        </p:grpSpPr>
        <p:sp>
          <p:nvSpPr>
            <p:cNvPr id="520" name="Freeform 5"/>
            <p:cNvSpPr/>
            <p:nvPr/>
          </p:nvSpPr>
          <p:spPr>
            <a:xfrm>
              <a:off x="6054840" y="4824360"/>
              <a:ext cx="934920" cy="914400"/>
            </a:xfrm>
            <a:custGeom>
              <a:avLst/>
              <a:gdLst/>
              <a:ahLst/>
              <a:rect l="l" t="t" r="r" b="b"/>
              <a:pathLst>
                <a:path w="763" h="747">
                  <a:moveTo>
                    <a:pt x="748" y="419"/>
                  </a:moveTo>
                  <a:cubicBezTo>
                    <a:pt x="742" y="467"/>
                    <a:pt x="721" y="520"/>
                    <a:pt x="694" y="558"/>
                  </a:cubicBezTo>
                  <a:cubicBezTo>
                    <a:pt x="667" y="598"/>
                    <a:pt x="637" y="622"/>
                    <a:pt x="629" y="629"/>
                  </a:cubicBezTo>
                  <a:cubicBezTo>
                    <a:pt x="619" y="634"/>
                    <a:pt x="634" y="626"/>
                    <a:pt x="672" y="580"/>
                  </a:cubicBezTo>
                  <a:cubicBezTo>
                    <a:pt x="690" y="557"/>
                    <a:pt x="713" y="523"/>
                    <a:pt x="729" y="474"/>
                  </a:cubicBezTo>
                  <a:cubicBezTo>
                    <a:pt x="745" y="426"/>
                    <a:pt x="755" y="361"/>
                    <a:pt x="735" y="289"/>
                  </a:cubicBezTo>
                  <a:cubicBezTo>
                    <a:pt x="736" y="296"/>
                    <a:pt x="744" y="339"/>
                    <a:pt x="739" y="381"/>
                  </a:cubicBezTo>
                  <a:cubicBezTo>
                    <a:pt x="736" y="423"/>
                    <a:pt x="720" y="463"/>
                    <a:pt x="718" y="465"/>
                  </a:cubicBezTo>
                  <a:cubicBezTo>
                    <a:pt x="715" y="467"/>
                    <a:pt x="738" y="407"/>
                    <a:pt x="735" y="345"/>
                  </a:cubicBezTo>
                  <a:cubicBezTo>
                    <a:pt x="735" y="284"/>
                    <a:pt x="708" y="228"/>
                    <a:pt x="708" y="232"/>
                  </a:cubicBezTo>
                  <a:cubicBezTo>
                    <a:pt x="708" y="238"/>
                    <a:pt x="717" y="270"/>
                    <a:pt x="719" y="303"/>
                  </a:cubicBezTo>
                  <a:cubicBezTo>
                    <a:pt x="721" y="322"/>
                    <a:pt x="720" y="341"/>
                    <a:pt x="719" y="355"/>
                  </a:cubicBezTo>
                  <a:cubicBezTo>
                    <a:pt x="718" y="353"/>
                    <a:pt x="718" y="351"/>
                    <a:pt x="718" y="349"/>
                  </a:cubicBezTo>
                  <a:cubicBezTo>
                    <a:pt x="709" y="283"/>
                    <a:pt x="686" y="197"/>
                    <a:pt x="636" y="144"/>
                  </a:cubicBezTo>
                  <a:cubicBezTo>
                    <a:pt x="618" y="123"/>
                    <a:pt x="596" y="104"/>
                    <a:pt x="570" y="90"/>
                  </a:cubicBezTo>
                  <a:cubicBezTo>
                    <a:pt x="553" y="79"/>
                    <a:pt x="531" y="71"/>
                    <a:pt x="509" y="66"/>
                  </a:cubicBezTo>
                  <a:cubicBezTo>
                    <a:pt x="501" y="63"/>
                    <a:pt x="481" y="59"/>
                    <a:pt x="474" y="53"/>
                  </a:cubicBezTo>
                  <a:cubicBezTo>
                    <a:pt x="542" y="65"/>
                    <a:pt x="606" y="98"/>
                    <a:pt x="651" y="148"/>
                  </a:cubicBezTo>
                  <a:cubicBezTo>
                    <a:pt x="649" y="144"/>
                    <a:pt x="649" y="140"/>
                    <a:pt x="645" y="137"/>
                  </a:cubicBezTo>
                  <a:cubicBezTo>
                    <a:pt x="647" y="137"/>
                    <a:pt x="649" y="136"/>
                    <a:pt x="649" y="136"/>
                  </a:cubicBezTo>
                  <a:cubicBezTo>
                    <a:pt x="649" y="136"/>
                    <a:pt x="645" y="131"/>
                    <a:pt x="640" y="126"/>
                  </a:cubicBezTo>
                  <a:cubicBezTo>
                    <a:pt x="650" y="130"/>
                    <a:pt x="671" y="158"/>
                    <a:pt x="665" y="147"/>
                  </a:cubicBezTo>
                  <a:cubicBezTo>
                    <a:pt x="648" y="120"/>
                    <a:pt x="624" y="98"/>
                    <a:pt x="596" y="81"/>
                  </a:cubicBezTo>
                  <a:cubicBezTo>
                    <a:pt x="591" y="77"/>
                    <a:pt x="587" y="73"/>
                    <a:pt x="583" y="70"/>
                  </a:cubicBezTo>
                  <a:cubicBezTo>
                    <a:pt x="584" y="72"/>
                    <a:pt x="586" y="74"/>
                    <a:pt x="588" y="76"/>
                  </a:cubicBezTo>
                  <a:cubicBezTo>
                    <a:pt x="583" y="73"/>
                    <a:pt x="577" y="71"/>
                    <a:pt x="572" y="68"/>
                  </a:cubicBezTo>
                  <a:cubicBezTo>
                    <a:pt x="567" y="65"/>
                    <a:pt x="562" y="61"/>
                    <a:pt x="556" y="59"/>
                  </a:cubicBezTo>
                  <a:cubicBezTo>
                    <a:pt x="544" y="47"/>
                    <a:pt x="531" y="37"/>
                    <a:pt x="512" y="27"/>
                  </a:cubicBezTo>
                  <a:cubicBezTo>
                    <a:pt x="460" y="2"/>
                    <a:pt x="390" y="1"/>
                    <a:pt x="327" y="11"/>
                  </a:cubicBezTo>
                  <a:cubicBezTo>
                    <a:pt x="236" y="26"/>
                    <a:pt x="145" y="79"/>
                    <a:pt x="88" y="162"/>
                  </a:cubicBezTo>
                  <a:cubicBezTo>
                    <a:pt x="29" y="243"/>
                    <a:pt x="5" y="351"/>
                    <a:pt x="27" y="452"/>
                  </a:cubicBezTo>
                  <a:cubicBezTo>
                    <a:pt x="29" y="462"/>
                    <a:pt x="34" y="484"/>
                    <a:pt x="42" y="499"/>
                  </a:cubicBezTo>
                  <a:cubicBezTo>
                    <a:pt x="0" y="375"/>
                    <a:pt x="30" y="238"/>
                    <a:pt x="109" y="144"/>
                  </a:cubicBezTo>
                  <a:cubicBezTo>
                    <a:pt x="187" y="49"/>
                    <a:pt x="312" y="0"/>
                    <a:pt x="426" y="13"/>
                  </a:cubicBezTo>
                  <a:cubicBezTo>
                    <a:pt x="471" y="20"/>
                    <a:pt x="514" y="34"/>
                    <a:pt x="552" y="56"/>
                  </a:cubicBezTo>
                  <a:cubicBezTo>
                    <a:pt x="501" y="29"/>
                    <a:pt x="442" y="15"/>
                    <a:pt x="381" y="18"/>
                  </a:cubicBezTo>
                  <a:cubicBezTo>
                    <a:pt x="312" y="20"/>
                    <a:pt x="241" y="44"/>
                    <a:pt x="182" y="87"/>
                  </a:cubicBezTo>
                  <a:cubicBezTo>
                    <a:pt x="123" y="130"/>
                    <a:pt x="76" y="192"/>
                    <a:pt x="51" y="263"/>
                  </a:cubicBezTo>
                  <a:cubicBezTo>
                    <a:pt x="25" y="333"/>
                    <a:pt x="22" y="413"/>
                    <a:pt x="43" y="487"/>
                  </a:cubicBezTo>
                  <a:cubicBezTo>
                    <a:pt x="46" y="496"/>
                    <a:pt x="49" y="505"/>
                    <a:pt x="52" y="514"/>
                  </a:cubicBezTo>
                  <a:cubicBezTo>
                    <a:pt x="49" y="512"/>
                    <a:pt x="45" y="506"/>
                    <a:pt x="42" y="499"/>
                  </a:cubicBezTo>
                  <a:cubicBezTo>
                    <a:pt x="45" y="509"/>
                    <a:pt x="49" y="519"/>
                    <a:pt x="53" y="529"/>
                  </a:cubicBezTo>
                  <a:cubicBezTo>
                    <a:pt x="72" y="573"/>
                    <a:pt x="102" y="615"/>
                    <a:pt x="140" y="648"/>
                  </a:cubicBezTo>
                  <a:cubicBezTo>
                    <a:pt x="124" y="632"/>
                    <a:pt x="110" y="615"/>
                    <a:pt x="98" y="597"/>
                  </a:cubicBezTo>
                  <a:cubicBezTo>
                    <a:pt x="126" y="633"/>
                    <a:pt x="161" y="664"/>
                    <a:pt x="201" y="686"/>
                  </a:cubicBezTo>
                  <a:cubicBezTo>
                    <a:pt x="227" y="699"/>
                    <a:pt x="269" y="725"/>
                    <a:pt x="299" y="731"/>
                  </a:cubicBezTo>
                  <a:cubicBezTo>
                    <a:pt x="364" y="746"/>
                    <a:pt x="436" y="747"/>
                    <a:pt x="502" y="730"/>
                  </a:cubicBezTo>
                  <a:cubicBezTo>
                    <a:pt x="568" y="714"/>
                    <a:pt x="628" y="679"/>
                    <a:pt x="669" y="634"/>
                  </a:cubicBezTo>
                  <a:cubicBezTo>
                    <a:pt x="681" y="624"/>
                    <a:pt x="692" y="613"/>
                    <a:pt x="703" y="602"/>
                  </a:cubicBezTo>
                  <a:cubicBezTo>
                    <a:pt x="689" y="614"/>
                    <a:pt x="674" y="627"/>
                    <a:pt x="661" y="638"/>
                  </a:cubicBezTo>
                  <a:cubicBezTo>
                    <a:pt x="659" y="639"/>
                    <a:pt x="658" y="640"/>
                    <a:pt x="657" y="641"/>
                  </a:cubicBezTo>
                  <a:cubicBezTo>
                    <a:pt x="653" y="644"/>
                    <a:pt x="651" y="646"/>
                    <a:pt x="649" y="648"/>
                  </a:cubicBezTo>
                  <a:cubicBezTo>
                    <a:pt x="612" y="670"/>
                    <a:pt x="561" y="702"/>
                    <a:pt x="498" y="720"/>
                  </a:cubicBezTo>
                  <a:cubicBezTo>
                    <a:pt x="435" y="740"/>
                    <a:pt x="363" y="743"/>
                    <a:pt x="303" y="728"/>
                  </a:cubicBezTo>
                  <a:cubicBezTo>
                    <a:pt x="270" y="719"/>
                    <a:pt x="238" y="706"/>
                    <a:pt x="208" y="688"/>
                  </a:cubicBezTo>
                  <a:cubicBezTo>
                    <a:pt x="220" y="692"/>
                    <a:pt x="238" y="697"/>
                    <a:pt x="252" y="702"/>
                  </a:cubicBezTo>
                  <a:cubicBezTo>
                    <a:pt x="319" y="731"/>
                    <a:pt x="403" y="740"/>
                    <a:pt x="470" y="723"/>
                  </a:cubicBezTo>
                  <a:cubicBezTo>
                    <a:pt x="435" y="726"/>
                    <a:pt x="403" y="724"/>
                    <a:pt x="368" y="721"/>
                  </a:cubicBezTo>
                  <a:cubicBezTo>
                    <a:pt x="350" y="719"/>
                    <a:pt x="326" y="721"/>
                    <a:pt x="310" y="716"/>
                  </a:cubicBezTo>
                  <a:cubicBezTo>
                    <a:pt x="227" y="692"/>
                    <a:pt x="160" y="657"/>
                    <a:pt x="113" y="590"/>
                  </a:cubicBezTo>
                  <a:cubicBezTo>
                    <a:pt x="109" y="584"/>
                    <a:pt x="109" y="578"/>
                    <a:pt x="106" y="572"/>
                  </a:cubicBezTo>
                  <a:cubicBezTo>
                    <a:pt x="158" y="648"/>
                    <a:pt x="237" y="691"/>
                    <a:pt x="328" y="712"/>
                  </a:cubicBezTo>
                  <a:cubicBezTo>
                    <a:pt x="343" y="716"/>
                    <a:pt x="355" y="718"/>
                    <a:pt x="368" y="721"/>
                  </a:cubicBezTo>
                  <a:cubicBezTo>
                    <a:pt x="382" y="721"/>
                    <a:pt x="394" y="720"/>
                    <a:pt x="405" y="720"/>
                  </a:cubicBezTo>
                  <a:cubicBezTo>
                    <a:pt x="464" y="721"/>
                    <a:pt x="496" y="705"/>
                    <a:pt x="524" y="691"/>
                  </a:cubicBezTo>
                  <a:cubicBezTo>
                    <a:pt x="553" y="676"/>
                    <a:pt x="579" y="661"/>
                    <a:pt x="625" y="633"/>
                  </a:cubicBezTo>
                  <a:cubicBezTo>
                    <a:pt x="605" y="647"/>
                    <a:pt x="579" y="666"/>
                    <a:pt x="552" y="682"/>
                  </a:cubicBezTo>
                  <a:cubicBezTo>
                    <a:pt x="525" y="698"/>
                    <a:pt x="498" y="710"/>
                    <a:pt x="481" y="717"/>
                  </a:cubicBezTo>
                  <a:cubicBezTo>
                    <a:pt x="515" y="709"/>
                    <a:pt x="563" y="690"/>
                    <a:pt x="606" y="660"/>
                  </a:cubicBezTo>
                  <a:cubicBezTo>
                    <a:pt x="649" y="630"/>
                    <a:pt x="684" y="591"/>
                    <a:pt x="707" y="560"/>
                  </a:cubicBezTo>
                  <a:cubicBezTo>
                    <a:pt x="734" y="522"/>
                    <a:pt x="741" y="503"/>
                    <a:pt x="747" y="485"/>
                  </a:cubicBezTo>
                  <a:cubicBezTo>
                    <a:pt x="752" y="468"/>
                    <a:pt x="756" y="451"/>
                    <a:pt x="761" y="412"/>
                  </a:cubicBezTo>
                  <a:cubicBezTo>
                    <a:pt x="763" y="404"/>
                    <a:pt x="763" y="381"/>
                    <a:pt x="760" y="357"/>
                  </a:cubicBezTo>
                  <a:cubicBezTo>
                    <a:pt x="756" y="333"/>
                    <a:pt x="750" y="308"/>
                    <a:pt x="745" y="293"/>
                  </a:cubicBezTo>
                  <a:cubicBezTo>
                    <a:pt x="755" y="347"/>
                    <a:pt x="755" y="390"/>
                    <a:pt x="748" y="419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文本框 21"/>
            <p:cNvSpPr/>
            <p:nvPr/>
          </p:nvSpPr>
          <p:spPr>
            <a:xfrm>
              <a:off x="6256440" y="50198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2" name="文本框 22"/>
          <p:cNvSpPr/>
          <p:nvPr/>
        </p:nvSpPr>
        <p:spPr>
          <a:xfrm>
            <a:off x="7099200" y="503856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椭圆 52"/>
          <p:cNvSpPr/>
          <p:nvPr/>
        </p:nvSpPr>
        <p:spPr>
          <a:xfrm>
            <a:off x="4429080" y="2009880"/>
            <a:ext cx="1790640" cy="1790640"/>
          </a:xfrm>
          <a:prstGeom prst="ellipse">
            <a:avLst/>
          </a:prstGeom>
          <a:solidFill>
            <a:srgbClr val="d9d9d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椭圆 53"/>
          <p:cNvSpPr/>
          <p:nvPr/>
        </p:nvSpPr>
        <p:spPr>
          <a:xfrm>
            <a:off x="5896080" y="2009880"/>
            <a:ext cx="1790640" cy="1790640"/>
          </a:xfrm>
          <a:prstGeom prst="ellipse">
            <a:avLst/>
          </a:prstGeom>
          <a:solidFill>
            <a:srgbClr val="d9d9d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椭圆 54"/>
          <p:cNvSpPr/>
          <p:nvPr/>
        </p:nvSpPr>
        <p:spPr>
          <a:xfrm>
            <a:off x="4429080" y="3564000"/>
            <a:ext cx="1790640" cy="1790640"/>
          </a:xfrm>
          <a:prstGeom prst="ellipse">
            <a:avLst/>
          </a:prstGeom>
          <a:solidFill>
            <a:srgbClr val="d9d9d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椭圆 55"/>
          <p:cNvSpPr/>
          <p:nvPr/>
        </p:nvSpPr>
        <p:spPr>
          <a:xfrm>
            <a:off x="5896080" y="3564000"/>
            <a:ext cx="1790640" cy="1790640"/>
          </a:xfrm>
          <a:prstGeom prst="ellipse">
            <a:avLst/>
          </a:prstGeom>
          <a:solidFill>
            <a:srgbClr val="d9d9d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TextBox 57"/>
          <p:cNvSpPr/>
          <p:nvPr/>
        </p:nvSpPr>
        <p:spPr>
          <a:xfrm>
            <a:off x="1438200" y="2486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57"/>
          <p:cNvSpPr/>
          <p:nvPr/>
        </p:nvSpPr>
        <p:spPr>
          <a:xfrm>
            <a:off x="8056440" y="2486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57"/>
          <p:cNvSpPr/>
          <p:nvPr/>
        </p:nvSpPr>
        <p:spPr>
          <a:xfrm>
            <a:off x="1438200" y="41576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TextBox 57"/>
          <p:cNvSpPr/>
          <p:nvPr/>
        </p:nvSpPr>
        <p:spPr>
          <a:xfrm>
            <a:off x="8056440" y="41576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33"/>
          <p:cNvSpPr/>
          <p:nvPr/>
        </p:nvSpPr>
        <p:spPr>
          <a:xfrm>
            <a:off x="5048280" y="2579760"/>
            <a:ext cx="542880" cy="650880"/>
          </a:xfrm>
          <a:custGeom>
            <a:avLst/>
            <a:gdLst/>
            <a:ahLst/>
            <a:rect l="l" t="t" r="r" b="b"/>
            <a:pathLst>
              <a:path w="120" h="144">
                <a:moveTo>
                  <a:pt x="102" y="60"/>
                </a:moveTo>
                <a:cubicBezTo>
                  <a:pt x="102" y="42"/>
                  <a:pt x="102" y="42"/>
                  <a:pt x="102" y="42"/>
                </a:cubicBezTo>
                <a:cubicBezTo>
                  <a:pt x="102" y="42"/>
                  <a:pt x="102" y="0"/>
                  <a:pt x="60" y="0"/>
                </a:cubicBezTo>
                <a:cubicBezTo>
                  <a:pt x="18" y="0"/>
                  <a:pt x="18" y="42"/>
                  <a:pt x="18" y="42"/>
                </a:cubicBezTo>
                <a:cubicBezTo>
                  <a:pt x="18" y="60"/>
                  <a:pt x="18" y="60"/>
                  <a:pt x="18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144"/>
                  <a:pt x="0" y="144"/>
                  <a:pt x="0" y="144"/>
                </a:cubicBezTo>
                <a:cubicBezTo>
                  <a:pt x="120" y="144"/>
                  <a:pt x="120" y="144"/>
                  <a:pt x="120" y="144"/>
                </a:cubicBezTo>
                <a:cubicBezTo>
                  <a:pt x="120" y="60"/>
                  <a:pt x="120" y="60"/>
                  <a:pt x="120" y="60"/>
                </a:cubicBezTo>
                <a:lnTo>
                  <a:pt x="102" y="60"/>
                </a:lnTo>
                <a:close/>
                <a:moveTo>
                  <a:pt x="66" y="106"/>
                </a:moveTo>
                <a:cubicBezTo>
                  <a:pt x="66" y="126"/>
                  <a:pt x="66" y="126"/>
                  <a:pt x="66" y="126"/>
                </a:cubicBezTo>
                <a:cubicBezTo>
                  <a:pt x="54" y="126"/>
                  <a:pt x="54" y="126"/>
                  <a:pt x="54" y="126"/>
                </a:cubicBezTo>
                <a:cubicBezTo>
                  <a:pt x="54" y="106"/>
                  <a:pt x="54" y="106"/>
                  <a:pt x="54" y="106"/>
                </a:cubicBezTo>
                <a:cubicBezTo>
                  <a:pt x="50" y="104"/>
                  <a:pt x="48" y="100"/>
                  <a:pt x="48" y="96"/>
                </a:cubicBezTo>
                <a:cubicBezTo>
                  <a:pt x="48" y="89"/>
                  <a:pt x="53" y="84"/>
                  <a:pt x="60" y="84"/>
                </a:cubicBezTo>
                <a:cubicBezTo>
                  <a:pt x="67" y="84"/>
                  <a:pt x="72" y="89"/>
                  <a:pt x="72" y="96"/>
                </a:cubicBezTo>
                <a:cubicBezTo>
                  <a:pt x="72" y="100"/>
                  <a:pt x="70" y="104"/>
                  <a:pt x="66" y="106"/>
                </a:cubicBezTo>
                <a:moveTo>
                  <a:pt x="90" y="60"/>
                </a:moveTo>
                <a:cubicBezTo>
                  <a:pt x="30" y="60"/>
                  <a:pt x="30" y="60"/>
                  <a:pt x="30" y="60"/>
                </a:cubicBezTo>
                <a:cubicBezTo>
                  <a:pt x="30" y="42"/>
                  <a:pt x="30" y="42"/>
                  <a:pt x="30" y="42"/>
                </a:cubicBezTo>
                <a:cubicBezTo>
                  <a:pt x="30" y="37"/>
                  <a:pt x="32" y="12"/>
                  <a:pt x="60" y="12"/>
                </a:cubicBezTo>
                <a:cubicBezTo>
                  <a:pt x="88" y="12"/>
                  <a:pt x="90" y="37"/>
                  <a:pt x="90" y="42"/>
                </a:cubicBezTo>
                <a:lnTo>
                  <a:pt x="90" y="6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4" name="组合 61" descr=""/>
          <p:cNvPicPr/>
          <p:nvPr/>
        </p:nvPicPr>
        <p:blipFill>
          <a:blip r:embed="rId1"/>
          <a:stretch/>
        </p:blipFill>
        <p:spPr>
          <a:xfrm>
            <a:off x="6413400" y="2571840"/>
            <a:ext cx="785880" cy="664920"/>
          </a:xfrm>
          <a:prstGeom prst="rect">
            <a:avLst/>
          </a:prstGeom>
          <a:ln w="0">
            <a:noFill/>
          </a:ln>
        </p:spPr>
      </p:pic>
      <p:sp>
        <p:nvSpPr>
          <p:cNvPr id="855" name="Freeform 188"/>
          <p:cNvSpPr/>
          <p:nvPr/>
        </p:nvSpPr>
        <p:spPr>
          <a:xfrm>
            <a:off x="4992840" y="4157640"/>
            <a:ext cx="661680" cy="628560"/>
          </a:xfrm>
          <a:custGeom>
            <a:avLst/>
            <a:gdLst/>
            <a:ahLst/>
            <a:rect l="l" t="t" r="r" b="b"/>
            <a:pathLst>
              <a:path w="165" h="156">
                <a:moveTo>
                  <a:pt x="164" y="131"/>
                </a:moveTo>
                <a:cubicBezTo>
                  <a:pt x="161" y="123"/>
                  <a:pt x="152" y="122"/>
                  <a:pt x="145" y="119"/>
                </a:cubicBezTo>
                <a:cubicBezTo>
                  <a:pt x="137" y="115"/>
                  <a:pt x="127" y="111"/>
                  <a:pt x="119" y="108"/>
                </a:cubicBezTo>
                <a:cubicBezTo>
                  <a:pt x="117" y="107"/>
                  <a:pt x="114" y="107"/>
                  <a:pt x="112" y="106"/>
                </a:cubicBezTo>
                <a:cubicBezTo>
                  <a:pt x="109" y="104"/>
                  <a:pt x="107" y="98"/>
                  <a:pt x="105" y="94"/>
                </a:cubicBezTo>
                <a:cubicBezTo>
                  <a:pt x="104" y="94"/>
                  <a:pt x="102" y="94"/>
                  <a:pt x="101" y="94"/>
                </a:cubicBezTo>
                <a:cubicBezTo>
                  <a:pt x="101" y="89"/>
                  <a:pt x="104" y="89"/>
                  <a:pt x="105" y="85"/>
                </a:cubicBezTo>
                <a:cubicBezTo>
                  <a:pt x="106" y="81"/>
                  <a:pt x="105" y="77"/>
                  <a:pt x="107" y="74"/>
                </a:cubicBezTo>
                <a:cubicBezTo>
                  <a:pt x="108" y="72"/>
                  <a:pt x="111" y="72"/>
                  <a:pt x="112" y="70"/>
                </a:cubicBezTo>
                <a:cubicBezTo>
                  <a:pt x="113" y="68"/>
                  <a:pt x="114" y="65"/>
                  <a:pt x="114" y="63"/>
                </a:cubicBezTo>
                <a:cubicBezTo>
                  <a:pt x="115" y="60"/>
                  <a:pt x="116" y="55"/>
                  <a:pt x="114" y="51"/>
                </a:cubicBezTo>
                <a:cubicBezTo>
                  <a:pt x="113" y="49"/>
                  <a:pt x="112" y="49"/>
                  <a:pt x="112" y="46"/>
                </a:cubicBezTo>
                <a:cubicBezTo>
                  <a:pt x="111" y="43"/>
                  <a:pt x="113" y="33"/>
                  <a:pt x="113" y="30"/>
                </a:cubicBezTo>
                <a:cubicBezTo>
                  <a:pt x="113" y="25"/>
                  <a:pt x="113" y="24"/>
                  <a:pt x="111" y="19"/>
                </a:cubicBezTo>
                <a:cubicBezTo>
                  <a:pt x="111" y="19"/>
                  <a:pt x="110" y="14"/>
                  <a:pt x="107" y="12"/>
                </a:cubicBezTo>
                <a:cubicBezTo>
                  <a:pt x="102" y="11"/>
                  <a:pt x="102" y="11"/>
                  <a:pt x="102" y="11"/>
                </a:cubicBezTo>
                <a:cubicBezTo>
                  <a:pt x="99" y="8"/>
                  <a:pt x="99" y="8"/>
                  <a:pt x="99" y="8"/>
                </a:cubicBezTo>
                <a:cubicBezTo>
                  <a:pt x="86" y="0"/>
                  <a:pt x="71" y="6"/>
                  <a:pt x="64" y="9"/>
                </a:cubicBezTo>
                <a:cubicBezTo>
                  <a:pt x="53" y="12"/>
                  <a:pt x="46" y="23"/>
                  <a:pt x="51" y="46"/>
                </a:cubicBezTo>
                <a:cubicBezTo>
                  <a:pt x="52" y="49"/>
                  <a:pt x="49" y="51"/>
                  <a:pt x="49" y="53"/>
                </a:cubicBezTo>
                <a:cubicBezTo>
                  <a:pt x="50" y="58"/>
                  <a:pt x="50" y="69"/>
                  <a:pt x="54" y="72"/>
                </a:cubicBezTo>
                <a:cubicBezTo>
                  <a:pt x="54" y="72"/>
                  <a:pt x="58" y="73"/>
                  <a:pt x="58" y="73"/>
                </a:cubicBezTo>
                <a:cubicBezTo>
                  <a:pt x="58" y="77"/>
                  <a:pt x="58" y="82"/>
                  <a:pt x="59" y="86"/>
                </a:cubicBezTo>
                <a:cubicBezTo>
                  <a:pt x="60" y="89"/>
                  <a:pt x="63" y="89"/>
                  <a:pt x="63" y="94"/>
                </a:cubicBezTo>
                <a:cubicBezTo>
                  <a:pt x="60" y="94"/>
                  <a:pt x="60" y="94"/>
                  <a:pt x="60" y="94"/>
                </a:cubicBezTo>
                <a:cubicBezTo>
                  <a:pt x="58" y="98"/>
                  <a:pt x="56" y="104"/>
                  <a:pt x="53" y="106"/>
                </a:cubicBezTo>
                <a:cubicBezTo>
                  <a:pt x="51" y="107"/>
                  <a:pt x="48" y="107"/>
                  <a:pt x="46" y="108"/>
                </a:cubicBezTo>
                <a:cubicBezTo>
                  <a:pt x="38" y="111"/>
                  <a:pt x="28" y="115"/>
                  <a:pt x="20" y="119"/>
                </a:cubicBezTo>
                <a:cubicBezTo>
                  <a:pt x="13" y="122"/>
                  <a:pt x="4" y="123"/>
                  <a:pt x="1" y="131"/>
                </a:cubicBezTo>
                <a:cubicBezTo>
                  <a:pt x="1" y="136"/>
                  <a:pt x="0" y="149"/>
                  <a:pt x="0" y="156"/>
                </a:cubicBezTo>
                <a:cubicBezTo>
                  <a:pt x="72" y="156"/>
                  <a:pt x="72" y="156"/>
                  <a:pt x="72" y="156"/>
                </a:cubicBezTo>
                <a:cubicBezTo>
                  <a:pt x="78" y="120"/>
                  <a:pt x="78" y="120"/>
                  <a:pt x="78" y="120"/>
                </a:cubicBezTo>
                <a:cubicBezTo>
                  <a:pt x="73" y="111"/>
                  <a:pt x="73" y="111"/>
                  <a:pt x="73" y="111"/>
                </a:cubicBezTo>
                <a:cubicBezTo>
                  <a:pt x="83" y="106"/>
                  <a:pt x="83" y="106"/>
                  <a:pt x="83" y="106"/>
                </a:cubicBezTo>
                <a:cubicBezTo>
                  <a:pt x="92" y="111"/>
                  <a:pt x="92" y="111"/>
                  <a:pt x="92" y="111"/>
                </a:cubicBezTo>
                <a:cubicBezTo>
                  <a:pt x="87" y="120"/>
                  <a:pt x="87" y="120"/>
                  <a:pt x="87" y="120"/>
                </a:cubicBezTo>
                <a:cubicBezTo>
                  <a:pt x="96" y="156"/>
                  <a:pt x="96" y="156"/>
                  <a:pt x="96" y="156"/>
                </a:cubicBezTo>
                <a:cubicBezTo>
                  <a:pt x="164" y="156"/>
                  <a:pt x="164" y="156"/>
                  <a:pt x="164" y="156"/>
                </a:cubicBezTo>
                <a:cubicBezTo>
                  <a:pt x="165" y="149"/>
                  <a:pt x="164" y="136"/>
                  <a:pt x="164" y="131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374"/>
          <p:cNvSpPr/>
          <p:nvPr/>
        </p:nvSpPr>
        <p:spPr>
          <a:xfrm>
            <a:off x="6461280" y="4164120"/>
            <a:ext cx="660240" cy="647640"/>
          </a:xfrm>
          <a:custGeom>
            <a:avLst/>
            <a:gdLst/>
            <a:ahLst/>
            <a:rect l="l" t="t" r="r" b="b"/>
            <a:pathLst>
              <a:path w="142" h="139">
                <a:moveTo>
                  <a:pt x="90" y="9"/>
                </a:moveTo>
                <a:cubicBezTo>
                  <a:pt x="132" y="12"/>
                  <a:pt x="142" y="38"/>
                  <a:pt x="142" y="38"/>
                </a:cubicBezTo>
                <a:cubicBezTo>
                  <a:pt x="140" y="21"/>
                  <a:pt x="140" y="21"/>
                  <a:pt x="140" y="21"/>
                </a:cubicBezTo>
                <a:cubicBezTo>
                  <a:pt x="125" y="0"/>
                  <a:pt x="96" y="1"/>
                  <a:pt x="76" y="6"/>
                </a:cubicBezTo>
                <a:cubicBezTo>
                  <a:pt x="73" y="5"/>
                  <a:pt x="70" y="5"/>
                  <a:pt x="67" y="5"/>
                </a:cubicBezTo>
                <a:cubicBezTo>
                  <a:pt x="30" y="5"/>
                  <a:pt x="0" y="35"/>
                  <a:pt x="0" y="72"/>
                </a:cubicBezTo>
                <a:cubicBezTo>
                  <a:pt x="0" y="109"/>
                  <a:pt x="30" y="139"/>
                  <a:pt x="67" y="139"/>
                </a:cubicBezTo>
                <a:cubicBezTo>
                  <a:pt x="104" y="139"/>
                  <a:pt x="134" y="109"/>
                  <a:pt x="134" y="72"/>
                </a:cubicBezTo>
                <a:cubicBezTo>
                  <a:pt x="134" y="43"/>
                  <a:pt x="116" y="18"/>
                  <a:pt x="90" y="9"/>
                </a:cubicBezTo>
                <a:close/>
                <a:moveTo>
                  <a:pt x="43" y="114"/>
                </a:moveTo>
                <a:cubicBezTo>
                  <a:pt x="33" y="114"/>
                  <a:pt x="25" y="106"/>
                  <a:pt x="25" y="96"/>
                </a:cubicBezTo>
                <a:cubicBezTo>
                  <a:pt x="25" y="86"/>
                  <a:pt x="33" y="78"/>
                  <a:pt x="43" y="78"/>
                </a:cubicBezTo>
                <a:cubicBezTo>
                  <a:pt x="53" y="78"/>
                  <a:pt x="61" y="86"/>
                  <a:pt x="61" y="96"/>
                </a:cubicBezTo>
                <a:cubicBezTo>
                  <a:pt x="61" y="106"/>
                  <a:pt x="53" y="114"/>
                  <a:pt x="43" y="114"/>
                </a:cubicBezTo>
                <a:close/>
                <a:moveTo>
                  <a:pt x="43" y="66"/>
                </a:moveTo>
                <a:cubicBezTo>
                  <a:pt x="33" y="66"/>
                  <a:pt x="25" y="58"/>
                  <a:pt x="25" y="48"/>
                </a:cubicBezTo>
                <a:cubicBezTo>
                  <a:pt x="25" y="38"/>
                  <a:pt x="33" y="29"/>
                  <a:pt x="43" y="29"/>
                </a:cubicBezTo>
                <a:cubicBezTo>
                  <a:pt x="53" y="29"/>
                  <a:pt x="61" y="38"/>
                  <a:pt x="61" y="48"/>
                </a:cubicBezTo>
                <a:cubicBezTo>
                  <a:pt x="61" y="58"/>
                  <a:pt x="53" y="66"/>
                  <a:pt x="43" y="66"/>
                </a:cubicBezTo>
                <a:close/>
                <a:moveTo>
                  <a:pt x="91" y="114"/>
                </a:moveTo>
                <a:cubicBezTo>
                  <a:pt x="81" y="114"/>
                  <a:pt x="73" y="106"/>
                  <a:pt x="73" y="96"/>
                </a:cubicBezTo>
                <a:cubicBezTo>
                  <a:pt x="73" y="86"/>
                  <a:pt x="81" y="78"/>
                  <a:pt x="91" y="78"/>
                </a:cubicBezTo>
                <a:cubicBezTo>
                  <a:pt x="101" y="78"/>
                  <a:pt x="109" y="86"/>
                  <a:pt x="109" y="96"/>
                </a:cubicBezTo>
                <a:cubicBezTo>
                  <a:pt x="109" y="106"/>
                  <a:pt x="101" y="114"/>
                  <a:pt x="91" y="114"/>
                </a:cubicBezTo>
                <a:close/>
                <a:moveTo>
                  <a:pt x="91" y="66"/>
                </a:moveTo>
                <a:cubicBezTo>
                  <a:pt x="81" y="66"/>
                  <a:pt x="73" y="58"/>
                  <a:pt x="73" y="48"/>
                </a:cubicBezTo>
                <a:cubicBezTo>
                  <a:pt x="73" y="38"/>
                  <a:pt x="81" y="29"/>
                  <a:pt x="91" y="29"/>
                </a:cubicBezTo>
                <a:cubicBezTo>
                  <a:pt x="101" y="29"/>
                  <a:pt x="109" y="38"/>
                  <a:pt x="109" y="48"/>
                </a:cubicBezTo>
                <a:cubicBezTo>
                  <a:pt x="109" y="58"/>
                  <a:pt x="101" y="66"/>
                  <a:pt x="91" y="66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文本框 15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Freeform 7"/>
          <p:cNvSpPr/>
          <p:nvPr/>
        </p:nvSpPr>
        <p:spPr>
          <a:xfrm>
            <a:off x="1422360" y="3606840"/>
            <a:ext cx="2316240" cy="1662120"/>
          </a:xfrm>
          <a:custGeom>
            <a:avLst/>
            <a:gdLst/>
            <a:ahLst/>
            <a:rect l="l" t="t" r="r" b="b"/>
            <a:pathLst>
              <a:path w="961" h="689">
                <a:moveTo>
                  <a:pt x="961" y="388"/>
                </a:moveTo>
                <a:cubicBezTo>
                  <a:pt x="947" y="405"/>
                  <a:pt x="915" y="447"/>
                  <a:pt x="863" y="495"/>
                </a:cubicBezTo>
                <a:cubicBezTo>
                  <a:pt x="811" y="543"/>
                  <a:pt x="739" y="597"/>
                  <a:pt x="652" y="633"/>
                </a:cubicBezTo>
                <a:cubicBezTo>
                  <a:pt x="565" y="670"/>
                  <a:pt x="464" y="689"/>
                  <a:pt x="368" y="676"/>
                </a:cubicBezTo>
                <a:cubicBezTo>
                  <a:pt x="273" y="664"/>
                  <a:pt x="182" y="620"/>
                  <a:pt x="119" y="554"/>
                </a:cubicBezTo>
                <a:cubicBezTo>
                  <a:pt x="116" y="551"/>
                  <a:pt x="113" y="547"/>
                  <a:pt x="109" y="544"/>
                </a:cubicBezTo>
                <a:cubicBezTo>
                  <a:pt x="68" y="499"/>
                  <a:pt x="39" y="443"/>
                  <a:pt x="22" y="386"/>
                </a:cubicBezTo>
                <a:cubicBezTo>
                  <a:pt x="5" y="328"/>
                  <a:pt x="0" y="269"/>
                  <a:pt x="5" y="217"/>
                </a:cubicBezTo>
                <a:cubicBezTo>
                  <a:pt x="10" y="164"/>
                  <a:pt x="24" y="118"/>
                  <a:pt x="44" y="83"/>
                </a:cubicBezTo>
                <a:cubicBezTo>
                  <a:pt x="64" y="48"/>
                  <a:pt x="89" y="25"/>
                  <a:pt x="117" y="12"/>
                </a:cubicBezTo>
                <a:cubicBezTo>
                  <a:pt x="145" y="0"/>
                  <a:pt x="173" y="0"/>
                  <a:pt x="201" y="6"/>
                </a:cubicBezTo>
                <a:cubicBezTo>
                  <a:pt x="228" y="12"/>
                  <a:pt x="255" y="24"/>
                  <a:pt x="280" y="39"/>
                </a:cubicBezTo>
                <a:cubicBezTo>
                  <a:pt x="306" y="53"/>
                  <a:pt x="331" y="70"/>
                  <a:pt x="354" y="89"/>
                </a:cubicBezTo>
                <a:cubicBezTo>
                  <a:pt x="377" y="107"/>
                  <a:pt x="399" y="127"/>
                  <a:pt x="420" y="150"/>
                </a:cubicBezTo>
                <a:cubicBezTo>
                  <a:pt x="422" y="152"/>
                  <a:pt x="423" y="154"/>
                  <a:pt x="425" y="155"/>
                </a:cubicBezTo>
                <a:cubicBezTo>
                  <a:pt x="457" y="189"/>
                  <a:pt x="489" y="232"/>
                  <a:pt x="531" y="270"/>
                </a:cubicBezTo>
                <a:cubicBezTo>
                  <a:pt x="572" y="309"/>
                  <a:pt x="623" y="343"/>
                  <a:pt x="679" y="366"/>
                </a:cubicBezTo>
                <a:cubicBezTo>
                  <a:pt x="735" y="388"/>
                  <a:pt x="796" y="399"/>
                  <a:pt x="848" y="399"/>
                </a:cubicBezTo>
                <a:cubicBezTo>
                  <a:pt x="900" y="400"/>
                  <a:pt x="943" y="390"/>
                  <a:pt x="961" y="388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Freeform 8"/>
          <p:cNvSpPr/>
          <p:nvPr/>
        </p:nvSpPr>
        <p:spPr>
          <a:xfrm>
            <a:off x="3675240" y="4562640"/>
            <a:ext cx="25200" cy="21960"/>
          </a:xfrm>
          <a:custGeom>
            <a:avLst/>
            <a:gdLst/>
            <a:ahLst/>
            <a:rect l="l" t="t" r="r" b="b"/>
            <a:pathLst>
              <a:path w="10" h="9">
                <a:moveTo>
                  <a:pt x="4" y="8"/>
                </a:moveTo>
                <a:cubicBezTo>
                  <a:pt x="3" y="8"/>
                  <a:pt x="3" y="8"/>
                  <a:pt x="3" y="8"/>
                </a:cubicBezTo>
                <a:cubicBezTo>
                  <a:pt x="3" y="7"/>
                  <a:pt x="3" y="6"/>
                  <a:pt x="3" y="6"/>
                </a:cubicBezTo>
                <a:cubicBezTo>
                  <a:pt x="4" y="5"/>
                  <a:pt x="4" y="5"/>
                  <a:pt x="5" y="4"/>
                </a:cubicBezTo>
                <a:cubicBezTo>
                  <a:pt x="4" y="4"/>
                  <a:pt x="3" y="4"/>
                  <a:pt x="2" y="4"/>
                </a:cubicBezTo>
                <a:cubicBezTo>
                  <a:pt x="2" y="5"/>
                  <a:pt x="1" y="4"/>
                  <a:pt x="1" y="3"/>
                </a:cubicBezTo>
                <a:cubicBezTo>
                  <a:pt x="0" y="2"/>
                  <a:pt x="1" y="1"/>
                  <a:pt x="2" y="1"/>
                </a:cubicBezTo>
                <a:cubicBezTo>
                  <a:pt x="4" y="1"/>
                  <a:pt x="6" y="1"/>
                  <a:pt x="8" y="0"/>
                </a:cubicBezTo>
                <a:cubicBezTo>
                  <a:pt x="9" y="0"/>
                  <a:pt x="10" y="0"/>
                  <a:pt x="10" y="1"/>
                </a:cubicBezTo>
                <a:cubicBezTo>
                  <a:pt x="10" y="2"/>
                  <a:pt x="10" y="2"/>
                  <a:pt x="10" y="3"/>
                </a:cubicBezTo>
                <a:cubicBezTo>
                  <a:pt x="8" y="4"/>
                  <a:pt x="7" y="6"/>
                  <a:pt x="6" y="8"/>
                </a:cubicBezTo>
                <a:cubicBezTo>
                  <a:pt x="5" y="8"/>
                  <a:pt x="4" y="9"/>
                  <a:pt x="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11"/>
          <p:cNvSpPr/>
          <p:nvPr/>
        </p:nvSpPr>
        <p:spPr>
          <a:xfrm>
            <a:off x="2482920" y="2943360"/>
            <a:ext cx="2009880" cy="1441440"/>
          </a:xfrm>
          <a:custGeom>
            <a:avLst/>
            <a:gdLst/>
            <a:ahLst/>
            <a:rect l="l" t="t" r="r" b="b"/>
            <a:pathLst>
              <a:path w="834" h="598">
                <a:moveTo>
                  <a:pt x="0" y="336"/>
                </a:moveTo>
                <a:cubicBezTo>
                  <a:pt x="12" y="352"/>
                  <a:pt x="40" y="388"/>
                  <a:pt x="85" y="430"/>
                </a:cubicBezTo>
                <a:cubicBezTo>
                  <a:pt x="130" y="471"/>
                  <a:pt x="193" y="518"/>
                  <a:pt x="269" y="550"/>
                </a:cubicBezTo>
                <a:cubicBezTo>
                  <a:pt x="343" y="581"/>
                  <a:pt x="431" y="598"/>
                  <a:pt x="514" y="587"/>
                </a:cubicBezTo>
                <a:cubicBezTo>
                  <a:pt x="597" y="576"/>
                  <a:pt x="675" y="538"/>
                  <a:pt x="731" y="481"/>
                </a:cubicBezTo>
                <a:cubicBezTo>
                  <a:pt x="733" y="478"/>
                  <a:pt x="736" y="475"/>
                  <a:pt x="739" y="472"/>
                </a:cubicBezTo>
                <a:cubicBezTo>
                  <a:pt x="774" y="433"/>
                  <a:pt x="800" y="385"/>
                  <a:pt x="815" y="335"/>
                </a:cubicBezTo>
                <a:cubicBezTo>
                  <a:pt x="829" y="285"/>
                  <a:pt x="834" y="234"/>
                  <a:pt x="829" y="188"/>
                </a:cubicBezTo>
                <a:cubicBezTo>
                  <a:pt x="825" y="143"/>
                  <a:pt x="813" y="103"/>
                  <a:pt x="796" y="72"/>
                </a:cubicBezTo>
                <a:cubicBezTo>
                  <a:pt x="778" y="42"/>
                  <a:pt x="756" y="22"/>
                  <a:pt x="732" y="11"/>
                </a:cubicBezTo>
                <a:cubicBezTo>
                  <a:pt x="708" y="0"/>
                  <a:pt x="683" y="1"/>
                  <a:pt x="660" y="6"/>
                </a:cubicBezTo>
                <a:cubicBezTo>
                  <a:pt x="636" y="11"/>
                  <a:pt x="613" y="22"/>
                  <a:pt x="590" y="34"/>
                </a:cubicBezTo>
                <a:cubicBezTo>
                  <a:pt x="568" y="47"/>
                  <a:pt x="547" y="61"/>
                  <a:pt x="527" y="77"/>
                </a:cubicBezTo>
                <a:cubicBezTo>
                  <a:pt x="507" y="93"/>
                  <a:pt x="487" y="110"/>
                  <a:pt x="469" y="130"/>
                </a:cubicBezTo>
                <a:cubicBezTo>
                  <a:pt x="468" y="132"/>
                  <a:pt x="467" y="134"/>
                  <a:pt x="465" y="135"/>
                </a:cubicBezTo>
                <a:cubicBezTo>
                  <a:pt x="438" y="165"/>
                  <a:pt x="410" y="201"/>
                  <a:pt x="373" y="235"/>
                </a:cubicBezTo>
                <a:cubicBezTo>
                  <a:pt x="337" y="268"/>
                  <a:pt x="293" y="298"/>
                  <a:pt x="244" y="317"/>
                </a:cubicBezTo>
                <a:cubicBezTo>
                  <a:pt x="196" y="337"/>
                  <a:pt x="144" y="346"/>
                  <a:pt x="98" y="346"/>
                </a:cubicBezTo>
                <a:cubicBezTo>
                  <a:pt x="53" y="347"/>
                  <a:pt x="16" y="338"/>
                  <a:pt x="0" y="336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12"/>
          <p:cNvSpPr/>
          <p:nvPr/>
        </p:nvSpPr>
        <p:spPr>
          <a:xfrm>
            <a:off x="2517840" y="3772080"/>
            <a:ext cx="19080" cy="1728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cubicBezTo>
                  <a:pt x="6" y="7"/>
                  <a:pt x="6" y="7"/>
                  <a:pt x="6" y="7"/>
                </a:cubicBezTo>
                <a:cubicBezTo>
                  <a:pt x="6" y="6"/>
                  <a:pt x="6" y="5"/>
                  <a:pt x="6" y="5"/>
                </a:cubicBezTo>
                <a:cubicBezTo>
                  <a:pt x="6" y="4"/>
                  <a:pt x="5" y="4"/>
                  <a:pt x="5" y="3"/>
                </a:cubicBezTo>
                <a:cubicBezTo>
                  <a:pt x="5" y="3"/>
                  <a:pt x="6" y="4"/>
                  <a:pt x="7" y="4"/>
                </a:cubicBezTo>
                <a:cubicBezTo>
                  <a:pt x="7" y="4"/>
                  <a:pt x="8" y="3"/>
                  <a:pt x="8" y="2"/>
                </a:cubicBezTo>
                <a:cubicBezTo>
                  <a:pt x="8" y="2"/>
                  <a:pt x="8" y="1"/>
                  <a:pt x="7" y="1"/>
                </a:cubicBezTo>
                <a:cubicBezTo>
                  <a:pt x="5" y="1"/>
                  <a:pt x="3" y="0"/>
                  <a:pt x="2" y="0"/>
                </a:cubicBezTo>
                <a:cubicBezTo>
                  <a:pt x="1" y="0"/>
                  <a:pt x="1" y="0"/>
                  <a:pt x="0" y="1"/>
                </a:cubicBezTo>
                <a:cubicBezTo>
                  <a:pt x="0" y="1"/>
                  <a:pt x="0" y="2"/>
                  <a:pt x="0" y="2"/>
                </a:cubicBezTo>
                <a:cubicBezTo>
                  <a:pt x="1" y="4"/>
                  <a:pt x="3" y="5"/>
                  <a:pt x="4" y="7"/>
                </a:cubicBezTo>
                <a:cubicBezTo>
                  <a:pt x="4" y="7"/>
                  <a:pt x="5" y="7"/>
                  <a:pt x="5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15"/>
          <p:cNvSpPr/>
          <p:nvPr/>
        </p:nvSpPr>
        <p:spPr>
          <a:xfrm>
            <a:off x="1731960" y="2278080"/>
            <a:ext cx="1876320" cy="1344600"/>
          </a:xfrm>
          <a:custGeom>
            <a:avLst/>
            <a:gdLst/>
            <a:ahLst/>
            <a:rect l="l" t="t" r="r" b="b"/>
            <a:pathLst>
              <a:path w="779" h="558">
                <a:moveTo>
                  <a:pt x="779" y="314"/>
                </a:moveTo>
                <a:cubicBezTo>
                  <a:pt x="768" y="328"/>
                  <a:pt x="742" y="362"/>
                  <a:pt x="700" y="401"/>
                </a:cubicBezTo>
                <a:cubicBezTo>
                  <a:pt x="658" y="440"/>
                  <a:pt x="599" y="484"/>
                  <a:pt x="528" y="513"/>
                </a:cubicBezTo>
                <a:cubicBezTo>
                  <a:pt x="458" y="543"/>
                  <a:pt x="376" y="558"/>
                  <a:pt x="299" y="548"/>
                </a:cubicBezTo>
                <a:cubicBezTo>
                  <a:pt x="221" y="538"/>
                  <a:pt x="148" y="502"/>
                  <a:pt x="97" y="449"/>
                </a:cubicBezTo>
                <a:cubicBezTo>
                  <a:pt x="94" y="446"/>
                  <a:pt x="91" y="444"/>
                  <a:pt x="89" y="441"/>
                </a:cubicBezTo>
                <a:cubicBezTo>
                  <a:pt x="56" y="404"/>
                  <a:pt x="32" y="359"/>
                  <a:pt x="18" y="313"/>
                </a:cubicBezTo>
                <a:cubicBezTo>
                  <a:pt x="4" y="266"/>
                  <a:pt x="0" y="218"/>
                  <a:pt x="4" y="176"/>
                </a:cubicBezTo>
                <a:cubicBezTo>
                  <a:pt x="8" y="133"/>
                  <a:pt x="20" y="95"/>
                  <a:pt x="36" y="67"/>
                </a:cubicBezTo>
                <a:cubicBezTo>
                  <a:pt x="52" y="39"/>
                  <a:pt x="72" y="20"/>
                  <a:pt x="95" y="10"/>
                </a:cubicBezTo>
                <a:cubicBezTo>
                  <a:pt x="118" y="0"/>
                  <a:pt x="141" y="0"/>
                  <a:pt x="163" y="5"/>
                </a:cubicBezTo>
                <a:cubicBezTo>
                  <a:pt x="185" y="10"/>
                  <a:pt x="207" y="20"/>
                  <a:pt x="227" y="31"/>
                </a:cubicBezTo>
                <a:cubicBezTo>
                  <a:pt x="248" y="43"/>
                  <a:pt x="268" y="57"/>
                  <a:pt x="287" y="72"/>
                </a:cubicBezTo>
                <a:cubicBezTo>
                  <a:pt x="306" y="86"/>
                  <a:pt x="324" y="103"/>
                  <a:pt x="341" y="121"/>
                </a:cubicBezTo>
                <a:cubicBezTo>
                  <a:pt x="342" y="123"/>
                  <a:pt x="343" y="124"/>
                  <a:pt x="344" y="126"/>
                </a:cubicBezTo>
                <a:cubicBezTo>
                  <a:pt x="370" y="153"/>
                  <a:pt x="397" y="188"/>
                  <a:pt x="431" y="219"/>
                </a:cubicBezTo>
                <a:cubicBezTo>
                  <a:pt x="464" y="250"/>
                  <a:pt x="505" y="278"/>
                  <a:pt x="551" y="296"/>
                </a:cubicBezTo>
                <a:cubicBezTo>
                  <a:pt x="596" y="315"/>
                  <a:pt x="645" y="323"/>
                  <a:pt x="687" y="323"/>
                </a:cubicBezTo>
                <a:cubicBezTo>
                  <a:pt x="730" y="324"/>
                  <a:pt x="765" y="316"/>
                  <a:pt x="779" y="314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16"/>
          <p:cNvSpPr/>
          <p:nvPr/>
        </p:nvSpPr>
        <p:spPr>
          <a:xfrm>
            <a:off x="3557520" y="3051000"/>
            <a:ext cx="19080" cy="1764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6"/>
                </a:moveTo>
                <a:cubicBezTo>
                  <a:pt x="3" y="6"/>
                  <a:pt x="3" y="6"/>
                  <a:pt x="3" y="6"/>
                </a:cubicBezTo>
                <a:cubicBezTo>
                  <a:pt x="2" y="6"/>
                  <a:pt x="2" y="5"/>
                  <a:pt x="3" y="4"/>
                </a:cubicBezTo>
                <a:cubicBezTo>
                  <a:pt x="3" y="4"/>
                  <a:pt x="3" y="4"/>
                  <a:pt x="4" y="3"/>
                </a:cubicBezTo>
                <a:cubicBezTo>
                  <a:pt x="3" y="3"/>
                  <a:pt x="3" y="3"/>
                  <a:pt x="2" y="3"/>
                </a:cubicBezTo>
                <a:cubicBezTo>
                  <a:pt x="1" y="3"/>
                  <a:pt x="1" y="3"/>
                  <a:pt x="1" y="2"/>
                </a:cubicBezTo>
                <a:cubicBezTo>
                  <a:pt x="0" y="2"/>
                  <a:pt x="1" y="1"/>
                  <a:pt x="2" y="1"/>
                </a:cubicBezTo>
                <a:cubicBezTo>
                  <a:pt x="3" y="1"/>
                  <a:pt x="5" y="0"/>
                  <a:pt x="7" y="0"/>
                </a:cubicBezTo>
                <a:cubicBezTo>
                  <a:pt x="7" y="0"/>
                  <a:pt x="8" y="0"/>
                  <a:pt x="8" y="1"/>
                </a:cubicBezTo>
                <a:cubicBezTo>
                  <a:pt x="8" y="1"/>
                  <a:pt x="8" y="2"/>
                  <a:pt x="8" y="2"/>
                </a:cubicBezTo>
                <a:cubicBezTo>
                  <a:pt x="7" y="3"/>
                  <a:pt x="6" y="5"/>
                  <a:pt x="5" y="6"/>
                </a:cubicBezTo>
                <a:cubicBezTo>
                  <a:pt x="4" y="7"/>
                  <a:pt x="4" y="7"/>
                  <a:pt x="3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Freeform 19"/>
          <p:cNvSpPr/>
          <p:nvPr/>
        </p:nvSpPr>
        <p:spPr>
          <a:xfrm>
            <a:off x="2639880" y="1787400"/>
            <a:ext cx="1568520" cy="1125720"/>
          </a:xfrm>
          <a:custGeom>
            <a:avLst/>
            <a:gdLst/>
            <a:ahLst/>
            <a:rect l="l" t="t" r="r" b="b"/>
            <a:pathLst>
              <a:path w="651" h="467">
                <a:moveTo>
                  <a:pt x="0" y="263"/>
                </a:moveTo>
                <a:cubicBezTo>
                  <a:pt x="9" y="275"/>
                  <a:pt x="31" y="303"/>
                  <a:pt x="66" y="336"/>
                </a:cubicBezTo>
                <a:cubicBezTo>
                  <a:pt x="101" y="368"/>
                  <a:pt x="150" y="405"/>
                  <a:pt x="209" y="430"/>
                </a:cubicBezTo>
                <a:cubicBezTo>
                  <a:pt x="268" y="455"/>
                  <a:pt x="336" y="467"/>
                  <a:pt x="401" y="459"/>
                </a:cubicBezTo>
                <a:cubicBezTo>
                  <a:pt x="466" y="450"/>
                  <a:pt x="527" y="421"/>
                  <a:pt x="570" y="376"/>
                </a:cubicBezTo>
                <a:cubicBezTo>
                  <a:pt x="573" y="374"/>
                  <a:pt x="575" y="371"/>
                  <a:pt x="577" y="369"/>
                </a:cubicBezTo>
                <a:cubicBezTo>
                  <a:pt x="605" y="339"/>
                  <a:pt x="625" y="301"/>
                  <a:pt x="636" y="262"/>
                </a:cubicBezTo>
                <a:cubicBezTo>
                  <a:pt x="648" y="223"/>
                  <a:pt x="651" y="183"/>
                  <a:pt x="648" y="147"/>
                </a:cubicBezTo>
                <a:cubicBezTo>
                  <a:pt x="644" y="112"/>
                  <a:pt x="635" y="80"/>
                  <a:pt x="621" y="57"/>
                </a:cubicBezTo>
                <a:cubicBezTo>
                  <a:pt x="608" y="33"/>
                  <a:pt x="591" y="17"/>
                  <a:pt x="572" y="9"/>
                </a:cubicBezTo>
                <a:cubicBezTo>
                  <a:pt x="553" y="0"/>
                  <a:pt x="534" y="0"/>
                  <a:pt x="515" y="5"/>
                </a:cubicBezTo>
                <a:cubicBezTo>
                  <a:pt x="496" y="9"/>
                  <a:pt x="478" y="17"/>
                  <a:pt x="461" y="27"/>
                </a:cubicBezTo>
                <a:cubicBezTo>
                  <a:pt x="444" y="36"/>
                  <a:pt x="427" y="48"/>
                  <a:pt x="411" y="60"/>
                </a:cubicBezTo>
                <a:cubicBezTo>
                  <a:pt x="395" y="73"/>
                  <a:pt x="380" y="86"/>
                  <a:pt x="366" y="102"/>
                </a:cubicBezTo>
                <a:cubicBezTo>
                  <a:pt x="365" y="103"/>
                  <a:pt x="364" y="104"/>
                  <a:pt x="363" y="106"/>
                </a:cubicBezTo>
                <a:cubicBezTo>
                  <a:pt x="342" y="129"/>
                  <a:pt x="320" y="157"/>
                  <a:pt x="291" y="183"/>
                </a:cubicBezTo>
                <a:cubicBezTo>
                  <a:pt x="263" y="210"/>
                  <a:pt x="228" y="233"/>
                  <a:pt x="191" y="248"/>
                </a:cubicBezTo>
                <a:cubicBezTo>
                  <a:pt x="153" y="264"/>
                  <a:pt x="112" y="271"/>
                  <a:pt x="76" y="271"/>
                </a:cubicBezTo>
                <a:cubicBezTo>
                  <a:pt x="41" y="271"/>
                  <a:pt x="12" y="265"/>
                  <a:pt x="0" y="263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20"/>
          <p:cNvSpPr/>
          <p:nvPr/>
        </p:nvSpPr>
        <p:spPr>
          <a:xfrm>
            <a:off x="2664000" y="2436840"/>
            <a:ext cx="15840" cy="14400"/>
          </a:xfrm>
          <a:custGeom>
            <a:avLst/>
            <a:gdLst/>
            <a:ahLst/>
            <a:rect l="l" t="t" r="r" b="b"/>
            <a:pathLst>
              <a:path w="7" h="6">
                <a:moveTo>
                  <a:pt x="5" y="5"/>
                </a:moveTo>
                <a:cubicBezTo>
                  <a:pt x="5" y="5"/>
                  <a:pt x="5" y="5"/>
                  <a:pt x="5" y="5"/>
                </a:cubicBezTo>
                <a:cubicBezTo>
                  <a:pt x="5" y="5"/>
                  <a:pt x="5" y="4"/>
                  <a:pt x="5" y="4"/>
                </a:cubicBezTo>
                <a:cubicBezTo>
                  <a:pt x="5" y="3"/>
                  <a:pt x="4" y="3"/>
                  <a:pt x="4" y="3"/>
                </a:cubicBezTo>
                <a:cubicBezTo>
                  <a:pt x="5" y="3"/>
                  <a:pt x="5" y="3"/>
                  <a:pt x="6" y="3"/>
                </a:cubicBezTo>
                <a:cubicBezTo>
                  <a:pt x="6" y="3"/>
                  <a:pt x="7" y="2"/>
                  <a:pt x="7" y="2"/>
                </a:cubicBezTo>
                <a:cubicBezTo>
                  <a:pt x="7" y="1"/>
                  <a:pt x="7" y="1"/>
                  <a:pt x="6" y="1"/>
                </a:cubicBezTo>
                <a:cubicBezTo>
                  <a:pt x="4" y="0"/>
                  <a:pt x="3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1"/>
                  <a:pt x="0" y="1"/>
                  <a:pt x="1" y="2"/>
                </a:cubicBezTo>
                <a:cubicBezTo>
                  <a:pt x="2" y="3"/>
                  <a:pt x="2" y="4"/>
                  <a:pt x="3" y="5"/>
                </a:cubicBezTo>
                <a:cubicBezTo>
                  <a:pt x="4" y="5"/>
                  <a:pt x="4" y="6"/>
                  <a:pt x="5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22"/>
          <p:cNvSpPr/>
          <p:nvPr/>
        </p:nvSpPr>
        <p:spPr>
          <a:xfrm>
            <a:off x="1758960" y="3916440"/>
            <a:ext cx="390600" cy="285840"/>
          </a:xfrm>
          <a:custGeom>
            <a:avLst/>
            <a:gdLst/>
            <a:ahLst/>
            <a:rect l="l" t="t" r="r" b="b"/>
            <a:pathLst>
              <a:path w="163" h="119">
                <a:moveTo>
                  <a:pt x="140" y="37"/>
                </a:moveTo>
                <a:cubicBezTo>
                  <a:pt x="146" y="33"/>
                  <a:pt x="150" y="27"/>
                  <a:pt x="150" y="20"/>
                </a:cubicBezTo>
                <a:cubicBezTo>
                  <a:pt x="150" y="9"/>
                  <a:pt x="141" y="0"/>
                  <a:pt x="130" y="0"/>
                </a:cubicBezTo>
                <a:cubicBezTo>
                  <a:pt x="119" y="0"/>
                  <a:pt x="110" y="9"/>
                  <a:pt x="110" y="20"/>
                </a:cubicBezTo>
                <a:cubicBezTo>
                  <a:pt x="110" y="27"/>
                  <a:pt x="114" y="33"/>
                  <a:pt x="120" y="37"/>
                </a:cubicBezTo>
                <a:cubicBezTo>
                  <a:pt x="116" y="40"/>
                  <a:pt x="113" y="46"/>
                  <a:pt x="109" y="52"/>
                </a:cubicBezTo>
                <a:cubicBezTo>
                  <a:pt x="106" y="43"/>
                  <a:pt x="102" y="35"/>
                  <a:pt x="97" y="30"/>
                </a:cubicBezTo>
                <a:cubicBezTo>
                  <a:pt x="82" y="37"/>
                  <a:pt x="82" y="37"/>
                  <a:pt x="82" y="37"/>
                </a:cubicBezTo>
                <a:cubicBezTo>
                  <a:pt x="97" y="67"/>
                  <a:pt x="97" y="67"/>
                  <a:pt x="97" y="67"/>
                </a:cubicBezTo>
                <a:cubicBezTo>
                  <a:pt x="82" y="82"/>
                  <a:pt x="82" y="82"/>
                  <a:pt x="82" y="82"/>
                </a:cubicBezTo>
                <a:cubicBezTo>
                  <a:pt x="67" y="67"/>
                  <a:pt x="67" y="67"/>
                  <a:pt x="67" y="67"/>
                </a:cubicBezTo>
                <a:cubicBezTo>
                  <a:pt x="82" y="37"/>
                  <a:pt x="82" y="37"/>
                  <a:pt x="82" y="37"/>
                </a:cubicBezTo>
                <a:cubicBezTo>
                  <a:pt x="68" y="30"/>
                  <a:pt x="68" y="30"/>
                  <a:pt x="68" y="30"/>
                </a:cubicBezTo>
                <a:cubicBezTo>
                  <a:pt x="63" y="35"/>
                  <a:pt x="58" y="43"/>
                  <a:pt x="55" y="53"/>
                </a:cubicBezTo>
                <a:cubicBezTo>
                  <a:pt x="51" y="46"/>
                  <a:pt x="48" y="40"/>
                  <a:pt x="43" y="37"/>
                </a:cubicBezTo>
                <a:cubicBezTo>
                  <a:pt x="49" y="33"/>
                  <a:pt x="53" y="27"/>
                  <a:pt x="53" y="20"/>
                </a:cubicBezTo>
                <a:cubicBezTo>
                  <a:pt x="53" y="9"/>
                  <a:pt x="44" y="0"/>
                  <a:pt x="33" y="0"/>
                </a:cubicBezTo>
                <a:cubicBezTo>
                  <a:pt x="22" y="0"/>
                  <a:pt x="13" y="9"/>
                  <a:pt x="13" y="20"/>
                </a:cubicBezTo>
                <a:cubicBezTo>
                  <a:pt x="13" y="27"/>
                  <a:pt x="17" y="33"/>
                  <a:pt x="23" y="37"/>
                </a:cubicBezTo>
                <a:cubicBezTo>
                  <a:pt x="10" y="48"/>
                  <a:pt x="0" y="81"/>
                  <a:pt x="0" y="119"/>
                </a:cubicBezTo>
                <a:cubicBezTo>
                  <a:pt x="45" y="119"/>
                  <a:pt x="45" y="119"/>
                  <a:pt x="45" y="119"/>
                </a:cubicBezTo>
                <a:cubicBezTo>
                  <a:pt x="66" y="119"/>
                  <a:pt x="66" y="119"/>
                  <a:pt x="66" y="119"/>
                </a:cubicBezTo>
                <a:cubicBezTo>
                  <a:pt x="97" y="119"/>
                  <a:pt x="97" y="119"/>
                  <a:pt x="97" y="119"/>
                </a:cubicBezTo>
                <a:cubicBezTo>
                  <a:pt x="120" y="119"/>
                  <a:pt x="120" y="119"/>
                  <a:pt x="120" y="119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63" y="81"/>
                  <a:pt x="154" y="48"/>
                  <a:pt x="140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23"/>
          <p:cNvSpPr/>
          <p:nvPr/>
        </p:nvSpPr>
        <p:spPr>
          <a:xfrm>
            <a:off x="1901880" y="3879720"/>
            <a:ext cx="109440" cy="109800"/>
          </a:xfrm>
          <a:custGeom>
            <a:avLst/>
            <a:gdLst/>
            <a:ahLst/>
            <a:rect l="l" t="t" r="r" b="b"/>
            <a:pathLst>
              <a:path w="45" h="45">
                <a:moveTo>
                  <a:pt x="11" y="42"/>
                </a:moveTo>
                <a:cubicBezTo>
                  <a:pt x="10" y="42"/>
                  <a:pt x="9" y="43"/>
                  <a:pt x="8" y="45"/>
                </a:cubicBezTo>
                <a:cubicBezTo>
                  <a:pt x="37" y="45"/>
                  <a:pt x="37" y="45"/>
                  <a:pt x="37" y="45"/>
                </a:cubicBezTo>
                <a:cubicBezTo>
                  <a:pt x="36" y="43"/>
                  <a:pt x="34" y="42"/>
                  <a:pt x="33" y="42"/>
                </a:cubicBezTo>
                <a:cubicBezTo>
                  <a:pt x="40" y="38"/>
                  <a:pt x="45" y="30"/>
                  <a:pt x="45" y="22"/>
                </a:cubicBezTo>
                <a:cubicBezTo>
                  <a:pt x="45" y="10"/>
                  <a:pt x="35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30"/>
                  <a:pt x="4" y="38"/>
                  <a:pt x="11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24"/>
          <p:cNvSpPr/>
          <p:nvPr/>
        </p:nvSpPr>
        <p:spPr>
          <a:xfrm>
            <a:off x="3925800" y="3186000"/>
            <a:ext cx="287280" cy="335160"/>
          </a:xfrm>
          <a:custGeom>
            <a:avLst/>
            <a:gdLst/>
            <a:ahLst/>
            <a:rect l="l" t="t" r="r" b="b"/>
            <a:pathLst>
              <a:path w="247" h="289">
                <a:moveTo>
                  <a:pt x="0" y="123"/>
                </a:moveTo>
                <a:lnTo>
                  <a:pt x="0" y="289"/>
                </a:lnTo>
                <a:lnTo>
                  <a:pt x="83" y="289"/>
                </a:lnTo>
                <a:lnTo>
                  <a:pt x="83" y="284"/>
                </a:lnTo>
                <a:lnTo>
                  <a:pt x="83" y="164"/>
                </a:lnTo>
                <a:lnTo>
                  <a:pt x="164" y="164"/>
                </a:lnTo>
                <a:lnTo>
                  <a:pt x="164" y="284"/>
                </a:lnTo>
                <a:lnTo>
                  <a:pt x="166" y="284"/>
                </a:lnTo>
                <a:lnTo>
                  <a:pt x="166" y="289"/>
                </a:lnTo>
                <a:lnTo>
                  <a:pt x="247" y="289"/>
                </a:lnTo>
                <a:lnTo>
                  <a:pt x="247" y="123"/>
                </a:lnTo>
                <a:lnTo>
                  <a:pt x="124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25"/>
          <p:cNvSpPr/>
          <p:nvPr/>
        </p:nvSpPr>
        <p:spPr>
          <a:xfrm>
            <a:off x="3854520" y="3117960"/>
            <a:ext cx="431640" cy="236520"/>
          </a:xfrm>
          <a:custGeom>
            <a:avLst/>
            <a:gdLst/>
            <a:ahLst/>
            <a:rect l="l" t="t" r="r" b="b"/>
            <a:pathLst>
              <a:path w="179" h="98">
                <a:moveTo>
                  <a:pt x="176" y="83"/>
                </a:moveTo>
                <a:cubicBezTo>
                  <a:pt x="96" y="3"/>
                  <a:pt x="96" y="3"/>
                  <a:pt x="96" y="3"/>
                </a:cubicBezTo>
                <a:cubicBezTo>
                  <a:pt x="93" y="0"/>
                  <a:pt x="87" y="0"/>
                  <a:pt x="83" y="3"/>
                </a:cubicBezTo>
                <a:cubicBezTo>
                  <a:pt x="4" y="83"/>
                  <a:pt x="4" y="83"/>
                  <a:pt x="4" y="83"/>
                </a:cubicBezTo>
                <a:cubicBezTo>
                  <a:pt x="0" y="86"/>
                  <a:pt x="0" y="92"/>
                  <a:pt x="4" y="95"/>
                </a:cubicBezTo>
                <a:cubicBezTo>
                  <a:pt x="7" y="98"/>
                  <a:pt x="12" y="98"/>
                  <a:pt x="16" y="95"/>
                </a:cubicBezTo>
                <a:cubicBezTo>
                  <a:pt x="17" y="95"/>
                  <a:pt x="18" y="94"/>
                  <a:pt x="19" y="94"/>
                </a:cubicBezTo>
                <a:cubicBezTo>
                  <a:pt x="90" y="22"/>
                  <a:pt x="90" y="22"/>
                  <a:pt x="90" y="22"/>
                </a:cubicBezTo>
                <a:cubicBezTo>
                  <a:pt x="161" y="94"/>
                  <a:pt x="161" y="94"/>
                  <a:pt x="161" y="94"/>
                </a:cubicBezTo>
                <a:cubicBezTo>
                  <a:pt x="162" y="94"/>
                  <a:pt x="163" y="95"/>
                  <a:pt x="164" y="95"/>
                </a:cubicBezTo>
                <a:cubicBezTo>
                  <a:pt x="165" y="97"/>
                  <a:pt x="167" y="98"/>
                  <a:pt x="169" y="98"/>
                </a:cubicBezTo>
                <a:cubicBezTo>
                  <a:pt x="172" y="98"/>
                  <a:pt x="174" y="97"/>
                  <a:pt x="176" y="95"/>
                </a:cubicBezTo>
                <a:cubicBezTo>
                  <a:pt x="179" y="92"/>
                  <a:pt x="179" y="86"/>
                  <a:pt x="176" y="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26"/>
          <p:cNvSpPr/>
          <p:nvPr/>
        </p:nvSpPr>
        <p:spPr>
          <a:xfrm>
            <a:off x="2249640" y="2560680"/>
            <a:ext cx="87120" cy="95040"/>
          </a:xfrm>
          <a:custGeom>
            <a:avLst/>
            <a:gdLst/>
            <a:ahLst/>
            <a:rect l="l" t="t" r="r" b="b"/>
            <a:pathLst>
              <a:path w="36" h="39">
                <a:moveTo>
                  <a:pt x="25" y="0"/>
                </a:moveTo>
                <a:cubicBezTo>
                  <a:pt x="11" y="0"/>
                  <a:pt x="11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4"/>
                  <a:pt x="5" y="39"/>
                  <a:pt x="11" y="39"/>
                </a:cubicBezTo>
                <a:cubicBezTo>
                  <a:pt x="25" y="39"/>
                  <a:pt x="25" y="39"/>
                  <a:pt x="25" y="39"/>
                </a:cubicBezTo>
                <a:cubicBezTo>
                  <a:pt x="31" y="39"/>
                  <a:pt x="36" y="34"/>
                  <a:pt x="36" y="28"/>
                </a:cubicBezTo>
                <a:cubicBezTo>
                  <a:pt x="36" y="11"/>
                  <a:pt x="36" y="11"/>
                  <a:pt x="36" y="11"/>
                </a:cubicBezTo>
                <a:cubicBezTo>
                  <a:pt x="36" y="5"/>
                  <a:pt x="31" y="0"/>
                  <a:pt x="25" y="0"/>
                </a:cubicBezTo>
                <a:close/>
                <a:moveTo>
                  <a:pt x="35" y="27"/>
                </a:moveTo>
                <a:cubicBezTo>
                  <a:pt x="35" y="33"/>
                  <a:pt x="30" y="37"/>
                  <a:pt x="24" y="37"/>
                </a:cubicBezTo>
                <a:cubicBezTo>
                  <a:pt x="12" y="37"/>
                  <a:pt x="12" y="37"/>
                  <a:pt x="12" y="37"/>
                </a:cubicBezTo>
                <a:cubicBezTo>
                  <a:pt x="6" y="37"/>
                  <a:pt x="2" y="33"/>
                  <a:pt x="2" y="27"/>
                </a:cubicBezTo>
                <a:cubicBezTo>
                  <a:pt x="2" y="12"/>
                  <a:pt x="2" y="12"/>
                  <a:pt x="2" y="12"/>
                </a:cubicBezTo>
                <a:cubicBezTo>
                  <a:pt x="2" y="6"/>
                  <a:pt x="6" y="2"/>
                  <a:pt x="12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30" y="2"/>
                  <a:pt x="35" y="6"/>
                  <a:pt x="35" y="12"/>
                </a:cubicBezTo>
                <a:lnTo>
                  <a:pt x="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reeform 27"/>
          <p:cNvSpPr/>
          <p:nvPr/>
        </p:nvSpPr>
        <p:spPr>
          <a:xfrm>
            <a:off x="1960560" y="2592360"/>
            <a:ext cx="398520" cy="263520"/>
          </a:xfrm>
          <a:custGeom>
            <a:avLst/>
            <a:gdLst/>
            <a:ahLst/>
            <a:rect l="l" t="t" r="r" b="b"/>
            <a:pathLst>
              <a:path w="165" h="109">
                <a:moveTo>
                  <a:pt x="154" y="0"/>
                </a:moveTo>
                <a:cubicBezTo>
                  <a:pt x="11" y="0"/>
                  <a:pt x="11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104"/>
                  <a:pt x="5" y="109"/>
                  <a:pt x="11" y="109"/>
                </a:cubicBezTo>
                <a:cubicBezTo>
                  <a:pt x="154" y="109"/>
                  <a:pt x="154" y="109"/>
                  <a:pt x="154" y="109"/>
                </a:cubicBezTo>
                <a:cubicBezTo>
                  <a:pt x="160" y="109"/>
                  <a:pt x="165" y="104"/>
                  <a:pt x="165" y="97"/>
                </a:cubicBezTo>
                <a:cubicBezTo>
                  <a:pt x="165" y="11"/>
                  <a:pt x="165" y="11"/>
                  <a:pt x="165" y="11"/>
                </a:cubicBezTo>
                <a:cubicBezTo>
                  <a:pt x="165" y="5"/>
                  <a:pt x="160" y="0"/>
                  <a:pt x="154" y="0"/>
                </a:cubicBezTo>
                <a:close/>
                <a:moveTo>
                  <a:pt x="50" y="93"/>
                </a:moveTo>
                <a:cubicBezTo>
                  <a:pt x="28" y="93"/>
                  <a:pt x="10" y="75"/>
                  <a:pt x="10" y="53"/>
                </a:cubicBezTo>
                <a:cubicBezTo>
                  <a:pt x="10" y="30"/>
                  <a:pt x="28" y="12"/>
                  <a:pt x="50" y="12"/>
                </a:cubicBezTo>
                <a:cubicBezTo>
                  <a:pt x="73" y="12"/>
                  <a:pt x="90" y="30"/>
                  <a:pt x="90" y="53"/>
                </a:cubicBezTo>
                <a:cubicBezTo>
                  <a:pt x="90" y="75"/>
                  <a:pt x="73" y="93"/>
                  <a:pt x="50" y="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28"/>
          <p:cNvSpPr/>
          <p:nvPr/>
        </p:nvSpPr>
        <p:spPr>
          <a:xfrm>
            <a:off x="3728880" y="1960560"/>
            <a:ext cx="292320" cy="365040"/>
          </a:xfrm>
          <a:custGeom>
            <a:avLst/>
            <a:gdLst/>
            <a:ahLst/>
            <a:rect l="l" t="t" r="r" b="b"/>
            <a:pathLst>
              <a:path w="121" h="151">
                <a:moveTo>
                  <a:pt x="121" y="26"/>
                </a:moveTo>
                <a:cubicBezTo>
                  <a:pt x="121" y="23"/>
                  <a:pt x="121" y="23"/>
                  <a:pt x="121" y="23"/>
                </a:cubicBezTo>
                <a:cubicBezTo>
                  <a:pt x="120" y="22"/>
                  <a:pt x="120" y="22"/>
                  <a:pt x="120" y="22"/>
                </a:cubicBezTo>
                <a:cubicBezTo>
                  <a:pt x="120" y="22"/>
                  <a:pt x="120" y="22"/>
                  <a:pt x="120" y="22"/>
                </a:cubicBezTo>
                <a:cubicBezTo>
                  <a:pt x="120" y="11"/>
                  <a:pt x="120" y="11"/>
                  <a:pt x="120" y="11"/>
                </a:cubicBezTo>
                <a:cubicBezTo>
                  <a:pt x="120" y="5"/>
                  <a:pt x="115" y="0"/>
                  <a:pt x="109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0"/>
                  <a:pt x="107" y="0"/>
                  <a:pt x="107" y="0"/>
                </a:cubicBezTo>
                <a:cubicBezTo>
                  <a:pt x="102" y="0"/>
                  <a:pt x="102" y="0"/>
                  <a:pt x="102" y="0"/>
                </a:cubicBezTo>
                <a:cubicBezTo>
                  <a:pt x="102" y="0"/>
                  <a:pt x="101" y="0"/>
                  <a:pt x="101" y="0"/>
                </a:cubicBezTo>
                <a:cubicBezTo>
                  <a:pt x="11" y="1"/>
                  <a:pt x="11" y="1"/>
                  <a:pt x="11" y="1"/>
                </a:cubicBezTo>
                <a:cubicBezTo>
                  <a:pt x="5" y="1"/>
                  <a:pt x="0" y="6"/>
                  <a:pt x="0" y="12"/>
                </a:cubicBezTo>
                <a:cubicBezTo>
                  <a:pt x="1" y="141"/>
                  <a:pt x="1" y="141"/>
                  <a:pt x="1" y="141"/>
                </a:cubicBezTo>
                <a:cubicBezTo>
                  <a:pt x="1" y="147"/>
                  <a:pt x="5" y="151"/>
                  <a:pt x="11" y="151"/>
                </a:cubicBezTo>
                <a:cubicBezTo>
                  <a:pt x="110" y="151"/>
                  <a:pt x="110" y="151"/>
                  <a:pt x="110" y="151"/>
                </a:cubicBezTo>
                <a:cubicBezTo>
                  <a:pt x="116" y="151"/>
                  <a:pt x="121" y="146"/>
                  <a:pt x="121" y="140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0" y="39"/>
                  <a:pt x="121" y="38"/>
                  <a:pt x="121" y="38"/>
                </a:cubicBezTo>
                <a:cubicBezTo>
                  <a:pt x="121" y="31"/>
                  <a:pt x="121" y="31"/>
                  <a:pt x="121" y="31"/>
                </a:cubicBezTo>
                <a:cubicBezTo>
                  <a:pt x="121" y="31"/>
                  <a:pt x="120" y="30"/>
                  <a:pt x="120" y="30"/>
                </a:cubicBezTo>
                <a:cubicBezTo>
                  <a:pt x="120" y="27"/>
                  <a:pt x="120" y="27"/>
                  <a:pt x="120" y="27"/>
                </a:cubicBezTo>
                <a:cubicBezTo>
                  <a:pt x="120" y="27"/>
                  <a:pt x="120" y="27"/>
                  <a:pt x="120" y="27"/>
                </a:cubicBezTo>
                <a:lnTo>
                  <a:pt x="121" y="26"/>
                </a:lnTo>
                <a:close/>
                <a:moveTo>
                  <a:pt x="51" y="148"/>
                </a:moveTo>
                <a:cubicBezTo>
                  <a:pt x="49" y="148"/>
                  <a:pt x="48" y="146"/>
                  <a:pt x="48" y="144"/>
                </a:cubicBezTo>
                <a:cubicBezTo>
                  <a:pt x="48" y="142"/>
                  <a:pt x="49" y="140"/>
                  <a:pt x="51" y="140"/>
                </a:cubicBezTo>
                <a:cubicBezTo>
                  <a:pt x="53" y="140"/>
                  <a:pt x="55" y="142"/>
                  <a:pt x="55" y="144"/>
                </a:cubicBezTo>
                <a:cubicBezTo>
                  <a:pt x="55" y="146"/>
                  <a:pt x="53" y="148"/>
                  <a:pt x="51" y="148"/>
                </a:cubicBezTo>
                <a:close/>
                <a:moveTo>
                  <a:pt x="60" y="148"/>
                </a:moveTo>
                <a:cubicBezTo>
                  <a:pt x="58" y="148"/>
                  <a:pt x="57" y="146"/>
                  <a:pt x="57" y="144"/>
                </a:cubicBezTo>
                <a:cubicBezTo>
                  <a:pt x="57" y="142"/>
                  <a:pt x="58" y="140"/>
                  <a:pt x="60" y="140"/>
                </a:cubicBezTo>
                <a:cubicBezTo>
                  <a:pt x="62" y="140"/>
                  <a:pt x="64" y="142"/>
                  <a:pt x="64" y="144"/>
                </a:cubicBezTo>
                <a:cubicBezTo>
                  <a:pt x="64" y="146"/>
                  <a:pt x="62" y="148"/>
                  <a:pt x="60" y="148"/>
                </a:cubicBezTo>
                <a:close/>
                <a:moveTo>
                  <a:pt x="69" y="148"/>
                </a:moveTo>
                <a:cubicBezTo>
                  <a:pt x="67" y="148"/>
                  <a:pt x="66" y="146"/>
                  <a:pt x="66" y="144"/>
                </a:cubicBezTo>
                <a:cubicBezTo>
                  <a:pt x="66" y="142"/>
                  <a:pt x="67" y="140"/>
                  <a:pt x="69" y="140"/>
                </a:cubicBezTo>
                <a:cubicBezTo>
                  <a:pt x="71" y="140"/>
                  <a:pt x="73" y="142"/>
                  <a:pt x="73" y="144"/>
                </a:cubicBezTo>
                <a:cubicBezTo>
                  <a:pt x="73" y="146"/>
                  <a:pt x="71" y="148"/>
                  <a:pt x="69" y="148"/>
                </a:cubicBezTo>
                <a:close/>
                <a:moveTo>
                  <a:pt x="16" y="139"/>
                </a:moveTo>
                <a:cubicBezTo>
                  <a:pt x="16" y="19"/>
                  <a:pt x="16" y="19"/>
                  <a:pt x="1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6" y="138"/>
                  <a:pt x="106" y="138"/>
                  <a:pt x="106" y="138"/>
                </a:cubicBezTo>
                <a:lnTo>
                  <a:pt x="16" y="1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Box 57"/>
          <p:cNvSpPr/>
          <p:nvPr/>
        </p:nvSpPr>
        <p:spPr>
          <a:xfrm>
            <a:off x="5237280" y="21607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Box 57"/>
          <p:cNvSpPr/>
          <p:nvPr/>
        </p:nvSpPr>
        <p:spPr>
          <a:xfrm>
            <a:off x="8713800" y="21607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TextBox 57"/>
          <p:cNvSpPr/>
          <p:nvPr/>
        </p:nvSpPr>
        <p:spPr>
          <a:xfrm>
            <a:off x="5237280" y="40622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TextBox 57"/>
          <p:cNvSpPr/>
          <p:nvPr/>
        </p:nvSpPr>
        <p:spPr>
          <a:xfrm>
            <a:off x="8713800" y="40622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文本框 26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空心弧 12"/>
          <p:cNvSpPr/>
          <p:nvPr/>
        </p:nvSpPr>
        <p:spPr>
          <a:xfrm flipV="1">
            <a:off x="1069920" y="2001960"/>
            <a:ext cx="1906560" cy="1906560"/>
          </a:xfrm>
          <a:custGeom>
            <a:avLst/>
            <a:gdLst/>
            <a:ahLst/>
            <a:rect l="l" t="t" r="r" b="b"/>
            <a:pathLst>
              <a:path w="1906588" h="1906587">
                <a:moveTo>
                  <a:pt x="590609" y="1834899"/>
                </a:moveTo>
                <a:cubicBezTo>
                  <a:pt x="147922" y="1652781"/>
                  <a:pt x="-91062" y="1170615"/>
                  <a:pt x="32087" y="708043"/>
                </a:cubicBezTo>
                <a:cubicBezTo>
                  <a:pt x="155236" y="245471"/>
                  <a:pt x="602325" y="-54044"/>
                  <a:pt x="1076964" y="8055"/>
                </a:cubicBezTo>
                <a:cubicBezTo>
                  <a:pt x="1551603" y="70154"/>
                  <a:pt x="1906588" y="474609"/>
                  <a:pt x="1906588" y="953293"/>
                </a:cubicBezTo>
                <a:lnTo>
                  <a:pt x="1533469" y="953294"/>
                </a:lnTo>
                <a:cubicBezTo>
                  <a:pt x="1533469" y="661967"/>
                  <a:pt x="1317425" y="415816"/>
                  <a:pt x="1028560" y="378023"/>
                </a:cubicBezTo>
                <a:cubicBezTo>
                  <a:pt x="739695" y="340229"/>
                  <a:pt x="467597" y="522514"/>
                  <a:pt x="392648" y="804035"/>
                </a:cubicBezTo>
                <a:cubicBezTo>
                  <a:pt x="317699" y="1085556"/>
                  <a:pt x="463145" y="1379003"/>
                  <a:pt x="732565" y="1489839"/>
                </a:cubicBezTo>
                <a:lnTo>
                  <a:pt x="590609" y="1834899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空心弧 13"/>
          <p:cNvSpPr/>
          <p:nvPr/>
        </p:nvSpPr>
        <p:spPr>
          <a:xfrm flipV="1">
            <a:off x="3747960" y="2001960"/>
            <a:ext cx="1906560" cy="1906560"/>
          </a:xfrm>
          <a:custGeom>
            <a:avLst/>
            <a:gdLst/>
            <a:ahLst/>
            <a:rect l="l" t="t" r="r" b="b"/>
            <a:pathLst>
              <a:path w="1906587" h="1906587">
                <a:moveTo>
                  <a:pt x="895925" y="1904859"/>
                </a:moveTo>
                <a:cubicBezTo>
                  <a:pt x="377833" y="1873624"/>
                  <a:pt x="-20063" y="1433649"/>
                  <a:pt x="767" y="915035"/>
                </a:cubicBezTo>
                <a:cubicBezTo>
                  <a:pt x="21597" y="396420"/>
                  <a:pt x="453498" y="-10226"/>
                  <a:pt x="972426" y="191"/>
                </a:cubicBezTo>
                <a:cubicBezTo>
                  <a:pt x="1491354" y="10608"/>
                  <a:pt x="1906587" y="434260"/>
                  <a:pt x="1906587" y="953293"/>
                </a:cubicBezTo>
                <a:lnTo>
                  <a:pt x="1533468" y="953294"/>
                </a:lnTo>
                <a:cubicBezTo>
                  <a:pt x="1533468" y="637411"/>
                  <a:pt x="1280758" y="379577"/>
                  <a:pt x="964938" y="373237"/>
                </a:cubicBezTo>
                <a:cubicBezTo>
                  <a:pt x="649119" y="366897"/>
                  <a:pt x="386264" y="614382"/>
                  <a:pt x="373587" y="930010"/>
                </a:cubicBezTo>
                <a:cubicBezTo>
                  <a:pt x="360910" y="1245638"/>
                  <a:pt x="603069" y="1513407"/>
                  <a:pt x="918379" y="1532416"/>
                </a:cubicBezTo>
                <a:lnTo>
                  <a:pt x="895925" y="1904859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空心弧 14"/>
          <p:cNvSpPr/>
          <p:nvPr/>
        </p:nvSpPr>
        <p:spPr>
          <a:xfrm flipV="1">
            <a:off x="6407280" y="2001960"/>
            <a:ext cx="1906560" cy="1906560"/>
          </a:xfrm>
          <a:custGeom>
            <a:avLst/>
            <a:gdLst/>
            <a:ahLst/>
            <a:rect l="l" t="t" r="r" b="b"/>
            <a:pathLst>
              <a:path w="1906588" h="1906587">
                <a:moveTo>
                  <a:pt x="1075285" y="1898749"/>
                </a:moveTo>
                <a:cubicBezTo>
                  <a:pt x="681816" y="1949518"/>
                  <a:pt x="298036" y="1751291"/>
                  <a:pt x="111696" y="1401044"/>
                </a:cubicBezTo>
                <a:cubicBezTo>
                  <a:pt x="-74644" y="1050797"/>
                  <a:pt x="-24586" y="621758"/>
                  <a:pt x="237382" y="323817"/>
                </a:cubicBezTo>
                <a:cubicBezTo>
                  <a:pt x="499349" y="25877"/>
                  <a:pt x="918456" y="-78673"/>
                  <a:pt x="1289668" y="61315"/>
                </a:cubicBezTo>
                <a:cubicBezTo>
                  <a:pt x="1660880" y="201303"/>
                  <a:pt x="1906589" y="556561"/>
                  <a:pt x="1906589" y="953292"/>
                </a:cubicBezTo>
                <a:lnTo>
                  <a:pt x="1533469" y="953294"/>
                </a:lnTo>
                <a:cubicBezTo>
                  <a:pt x="1533469" y="711844"/>
                  <a:pt x="1383931" y="495634"/>
                  <a:pt x="1158010" y="410438"/>
                </a:cubicBezTo>
                <a:cubicBezTo>
                  <a:pt x="932090" y="325242"/>
                  <a:pt x="677022" y="388871"/>
                  <a:pt x="517589" y="570197"/>
                </a:cubicBezTo>
                <a:cubicBezTo>
                  <a:pt x="358155" y="751523"/>
                  <a:pt x="327690" y="1012637"/>
                  <a:pt x="441097" y="1225797"/>
                </a:cubicBezTo>
                <a:cubicBezTo>
                  <a:pt x="554504" y="1438957"/>
                  <a:pt x="788072" y="1559597"/>
                  <a:pt x="1027537" y="1528699"/>
                </a:cubicBezTo>
                <a:lnTo>
                  <a:pt x="1075285" y="1898749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空心弧 15"/>
          <p:cNvSpPr/>
          <p:nvPr/>
        </p:nvSpPr>
        <p:spPr>
          <a:xfrm flipV="1">
            <a:off x="9086760" y="2001960"/>
            <a:ext cx="1906560" cy="1906560"/>
          </a:xfrm>
          <a:custGeom>
            <a:avLst/>
            <a:gdLst/>
            <a:ahLst/>
            <a:rect l="l" t="t" r="r" b="b"/>
            <a:pathLst>
              <a:path w="1906588" h="1906587">
                <a:moveTo>
                  <a:pt x="1492622" y="1739356"/>
                </a:moveTo>
                <a:cubicBezTo>
                  <a:pt x="1131156" y="1987362"/>
                  <a:pt x="647151" y="1956892"/>
                  <a:pt x="319642" y="1665511"/>
                </a:cubicBezTo>
                <a:cubicBezTo>
                  <a:pt x="-7867" y="1374130"/>
                  <a:pt x="-94446" y="896958"/>
                  <a:pt x="109817" y="509091"/>
                </a:cubicBezTo>
                <a:cubicBezTo>
                  <a:pt x="314080" y="121224"/>
                  <a:pt x="756528" y="-77346"/>
                  <a:pt x="1182082" y="27861"/>
                </a:cubicBezTo>
                <a:cubicBezTo>
                  <a:pt x="1607636" y="133067"/>
                  <a:pt x="1906588" y="514928"/>
                  <a:pt x="1906588" y="953294"/>
                </a:cubicBezTo>
                <a:lnTo>
                  <a:pt x="1533469" y="953294"/>
                </a:lnTo>
                <a:cubicBezTo>
                  <a:pt x="1533469" y="686505"/>
                  <a:pt x="1351526" y="454105"/>
                  <a:pt x="1092534" y="390076"/>
                </a:cubicBezTo>
                <a:cubicBezTo>
                  <a:pt x="833542" y="326048"/>
                  <a:pt x="564268" y="446897"/>
                  <a:pt x="439954" y="682952"/>
                </a:cubicBezTo>
                <a:cubicBezTo>
                  <a:pt x="315639" y="919008"/>
                  <a:pt x="368332" y="1209415"/>
                  <a:pt x="567654" y="1386749"/>
                </a:cubicBezTo>
                <a:cubicBezTo>
                  <a:pt x="766976" y="1564083"/>
                  <a:pt x="1061541" y="1582627"/>
                  <a:pt x="1281529" y="1431691"/>
                </a:cubicBezTo>
                <a:lnTo>
                  <a:pt x="1492622" y="1739356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矩形 16"/>
          <p:cNvSpPr/>
          <p:nvPr/>
        </p:nvSpPr>
        <p:spPr>
          <a:xfrm>
            <a:off x="1730160" y="273672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62aa"/>
                </a:solidFill>
                <a:latin typeface="Impact"/>
                <a:ea typeface="Malgun Gothic"/>
              </a:rPr>
              <a:t>0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矩形 17"/>
          <p:cNvSpPr/>
          <p:nvPr/>
        </p:nvSpPr>
        <p:spPr>
          <a:xfrm>
            <a:off x="4300920" y="274788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62aa"/>
                </a:solidFill>
                <a:latin typeface="Impact"/>
                <a:ea typeface="Malgun Gothic"/>
              </a:rPr>
              <a:t>0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矩形 18"/>
          <p:cNvSpPr/>
          <p:nvPr/>
        </p:nvSpPr>
        <p:spPr>
          <a:xfrm>
            <a:off x="6953040" y="273672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62aa"/>
                </a:solidFill>
                <a:latin typeface="Impact"/>
                <a:ea typeface="Malgun Gothic"/>
              </a:rPr>
              <a:t>03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矩形 19"/>
          <p:cNvSpPr/>
          <p:nvPr/>
        </p:nvSpPr>
        <p:spPr>
          <a:xfrm>
            <a:off x="9652320" y="274788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62aa"/>
                </a:solidFill>
                <a:latin typeface="Impact"/>
                <a:ea typeface="Malgun Gothic"/>
              </a:rPr>
              <a:t>04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57"/>
          <p:cNvSpPr/>
          <p:nvPr/>
        </p:nvSpPr>
        <p:spPr>
          <a:xfrm>
            <a:off x="736560" y="4222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57"/>
          <p:cNvSpPr/>
          <p:nvPr/>
        </p:nvSpPr>
        <p:spPr>
          <a:xfrm>
            <a:off x="3365640" y="4222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57"/>
          <p:cNvSpPr/>
          <p:nvPr/>
        </p:nvSpPr>
        <p:spPr>
          <a:xfrm>
            <a:off x="5959440" y="4222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57"/>
          <p:cNvSpPr/>
          <p:nvPr/>
        </p:nvSpPr>
        <p:spPr>
          <a:xfrm>
            <a:off x="8702640" y="4222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文本框 21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Freeform 10"/>
          <p:cNvSpPr/>
          <p:nvPr/>
        </p:nvSpPr>
        <p:spPr>
          <a:xfrm>
            <a:off x="1933560" y="1222200"/>
            <a:ext cx="3152880" cy="2179800"/>
          </a:xfrm>
          <a:custGeom>
            <a:avLst/>
            <a:gdLst/>
            <a:ahLst/>
            <a:rect l="l" t="t" r="r" b="b"/>
            <a:pathLst>
              <a:path w="1192" h="1156">
                <a:moveTo>
                  <a:pt x="1192" y="148"/>
                </a:moveTo>
                <a:lnTo>
                  <a:pt x="74" y="0"/>
                </a:lnTo>
                <a:lnTo>
                  <a:pt x="0" y="788"/>
                </a:lnTo>
                <a:lnTo>
                  <a:pt x="710" y="854"/>
                </a:lnTo>
                <a:lnTo>
                  <a:pt x="898" y="1156"/>
                </a:lnTo>
                <a:lnTo>
                  <a:pt x="881" y="866"/>
                </a:lnTo>
                <a:lnTo>
                  <a:pt x="1093" y="873"/>
                </a:lnTo>
                <a:lnTo>
                  <a:pt x="1192" y="148"/>
                </a:lnTo>
                <a:close/>
              </a:path>
            </a:pathLst>
          </a:custGeom>
          <a:solidFill>
            <a:srgbClr val="ef5664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Freeform 11"/>
          <p:cNvSpPr/>
          <p:nvPr/>
        </p:nvSpPr>
        <p:spPr>
          <a:xfrm>
            <a:off x="1854360" y="1384200"/>
            <a:ext cx="2970000" cy="2017800"/>
          </a:xfrm>
          <a:custGeom>
            <a:avLst/>
            <a:gdLst/>
            <a:ahLst/>
            <a:rect l="l" t="t" r="r" b="b"/>
            <a:pathLst>
              <a:path w="1123" h="1070">
                <a:moveTo>
                  <a:pt x="1123" y="0"/>
                </a:moveTo>
                <a:lnTo>
                  <a:pt x="0" y="0"/>
                </a:lnTo>
                <a:lnTo>
                  <a:pt x="0" y="787"/>
                </a:lnTo>
                <a:lnTo>
                  <a:pt x="712" y="787"/>
                </a:lnTo>
                <a:lnTo>
                  <a:pt x="928" y="1070"/>
                </a:lnTo>
                <a:lnTo>
                  <a:pt x="928" y="787"/>
                </a:lnTo>
                <a:lnTo>
                  <a:pt x="1123" y="787"/>
                </a:lnTo>
                <a:lnTo>
                  <a:pt x="1123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10"/>
          <p:cNvSpPr/>
          <p:nvPr/>
        </p:nvSpPr>
        <p:spPr>
          <a:xfrm>
            <a:off x="7085160" y="1222200"/>
            <a:ext cx="3152520" cy="2179800"/>
          </a:xfrm>
          <a:custGeom>
            <a:avLst/>
            <a:gdLst/>
            <a:ahLst/>
            <a:rect l="l" t="t" r="r" b="b"/>
            <a:pathLst>
              <a:path w="1192" h="1156">
                <a:moveTo>
                  <a:pt x="1192" y="148"/>
                </a:moveTo>
                <a:lnTo>
                  <a:pt x="74" y="0"/>
                </a:lnTo>
                <a:lnTo>
                  <a:pt x="0" y="788"/>
                </a:lnTo>
                <a:lnTo>
                  <a:pt x="710" y="854"/>
                </a:lnTo>
                <a:lnTo>
                  <a:pt x="898" y="1156"/>
                </a:lnTo>
                <a:lnTo>
                  <a:pt x="881" y="866"/>
                </a:lnTo>
                <a:lnTo>
                  <a:pt x="1093" y="873"/>
                </a:lnTo>
                <a:lnTo>
                  <a:pt x="1192" y="148"/>
                </a:lnTo>
                <a:close/>
              </a:path>
            </a:pathLst>
          </a:custGeom>
          <a:solidFill>
            <a:srgbClr val="ef5664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11"/>
          <p:cNvSpPr/>
          <p:nvPr/>
        </p:nvSpPr>
        <p:spPr>
          <a:xfrm>
            <a:off x="7005600" y="1384200"/>
            <a:ext cx="2970360" cy="2017800"/>
          </a:xfrm>
          <a:custGeom>
            <a:avLst/>
            <a:gdLst/>
            <a:ahLst/>
            <a:rect l="l" t="t" r="r" b="b"/>
            <a:pathLst>
              <a:path w="1123" h="1070">
                <a:moveTo>
                  <a:pt x="1123" y="0"/>
                </a:moveTo>
                <a:lnTo>
                  <a:pt x="0" y="0"/>
                </a:lnTo>
                <a:lnTo>
                  <a:pt x="0" y="787"/>
                </a:lnTo>
                <a:lnTo>
                  <a:pt x="712" y="787"/>
                </a:lnTo>
                <a:lnTo>
                  <a:pt x="928" y="1070"/>
                </a:lnTo>
                <a:lnTo>
                  <a:pt x="928" y="787"/>
                </a:lnTo>
                <a:lnTo>
                  <a:pt x="1123" y="787"/>
                </a:lnTo>
                <a:lnTo>
                  <a:pt x="1123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10"/>
          <p:cNvSpPr/>
          <p:nvPr/>
        </p:nvSpPr>
        <p:spPr>
          <a:xfrm>
            <a:off x="1933560" y="3835440"/>
            <a:ext cx="3152880" cy="2178000"/>
          </a:xfrm>
          <a:custGeom>
            <a:avLst/>
            <a:gdLst/>
            <a:ahLst/>
            <a:rect l="l" t="t" r="r" b="b"/>
            <a:pathLst>
              <a:path w="1192" h="1156">
                <a:moveTo>
                  <a:pt x="1192" y="148"/>
                </a:moveTo>
                <a:lnTo>
                  <a:pt x="74" y="0"/>
                </a:lnTo>
                <a:lnTo>
                  <a:pt x="0" y="788"/>
                </a:lnTo>
                <a:lnTo>
                  <a:pt x="710" y="854"/>
                </a:lnTo>
                <a:lnTo>
                  <a:pt x="898" y="1156"/>
                </a:lnTo>
                <a:lnTo>
                  <a:pt x="881" y="866"/>
                </a:lnTo>
                <a:lnTo>
                  <a:pt x="1093" y="873"/>
                </a:lnTo>
                <a:lnTo>
                  <a:pt x="1192" y="148"/>
                </a:lnTo>
                <a:close/>
              </a:path>
            </a:pathLst>
          </a:custGeom>
          <a:solidFill>
            <a:srgbClr val="ef5664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11"/>
          <p:cNvSpPr/>
          <p:nvPr/>
        </p:nvSpPr>
        <p:spPr>
          <a:xfrm>
            <a:off x="1854360" y="3997440"/>
            <a:ext cx="2970000" cy="2016000"/>
          </a:xfrm>
          <a:custGeom>
            <a:avLst/>
            <a:gdLst/>
            <a:ahLst/>
            <a:rect l="l" t="t" r="r" b="b"/>
            <a:pathLst>
              <a:path w="1123" h="1070">
                <a:moveTo>
                  <a:pt x="1123" y="0"/>
                </a:moveTo>
                <a:lnTo>
                  <a:pt x="0" y="0"/>
                </a:lnTo>
                <a:lnTo>
                  <a:pt x="0" y="787"/>
                </a:lnTo>
                <a:lnTo>
                  <a:pt x="712" y="787"/>
                </a:lnTo>
                <a:lnTo>
                  <a:pt x="928" y="1070"/>
                </a:lnTo>
                <a:lnTo>
                  <a:pt x="928" y="787"/>
                </a:lnTo>
                <a:lnTo>
                  <a:pt x="1123" y="787"/>
                </a:lnTo>
                <a:lnTo>
                  <a:pt x="1123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Freeform 10"/>
          <p:cNvSpPr/>
          <p:nvPr/>
        </p:nvSpPr>
        <p:spPr>
          <a:xfrm>
            <a:off x="7085160" y="3835440"/>
            <a:ext cx="3152520" cy="2178000"/>
          </a:xfrm>
          <a:custGeom>
            <a:avLst/>
            <a:gdLst/>
            <a:ahLst/>
            <a:rect l="l" t="t" r="r" b="b"/>
            <a:pathLst>
              <a:path w="1192" h="1156">
                <a:moveTo>
                  <a:pt x="1192" y="148"/>
                </a:moveTo>
                <a:lnTo>
                  <a:pt x="74" y="0"/>
                </a:lnTo>
                <a:lnTo>
                  <a:pt x="0" y="788"/>
                </a:lnTo>
                <a:lnTo>
                  <a:pt x="710" y="854"/>
                </a:lnTo>
                <a:lnTo>
                  <a:pt x="898" y="1156"/>
                </a:lnTo>
                <a:lnTo>
                  <a:pt x="881" y="866"/>
                </a:lnTo>
                <a:lnTo>
                  <a:pt x="1093" y="873"/>
                </a:lnTo>
                <a:lnTo>
                  <a:pt x="1192" y="148"/>
                </a:lnTo>
                <a:close/>
              </a:path>
            </a:pathLst>
          </a:custGeom>
          <a:solidFill>
            <a:srgbClr val="ef5664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11"/>
          <p:cNvSpPr/>
          <p:nvPr/>
        </p:nvSpPr>
        <p:spPr>
          <a:xfrm>
            <a:off x="7005600" y="3997440"/>
            <a:ext cx="2970360" cy="2016000"/>
          </a:xfrm>
          <a:custGeom>
            <a:avLst/>
            <a:gdLst/>
            <a:ahLst/>
            <a:rect l="l" t="t" r="r" b="b"/>
            <a:pathLst>
              <a:path w="1123" h="1070">
                <a:moveTo>
                  <a:pt x="1123" y="0"/>
                </a:moveTo>
                <a:lnTo>
                  <a:pt x="0" y="0"/>
                </a:lnTo>
                <a:lnTo>
                  <a:pt x="0" y="787"/>
                </a:lnTo>
                <a:lnTo>
                  <a:pt x="712" y="787"/>
                </a:lnTo>
                <a:lnTo>
                  <a:pt x="928" y="1070"/>
                </a:lnTo>
                <a:lnTo>
                  <a:pt x="928" y="787"/>
                </a:lnTo>
                <a:lnTo>
                  <a:pt x="1123" y="787"/>
                </a:lnTo>
                <a:lnTo>
                  <a:pt x="1123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TextBox 57"/>
          <p:cNvSpPr/>
          <p:nvPr/>
        </p:nvSpPr>
        <p:spPr>
          <a:xfrm>
            <a:off x="1947960" y="1752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TextBox 57"/>
          <p:cNvSpPr/>
          <p:nvPr/>
        </p:nvSpPr>
        <p:spPr>
          <a:xfrm>
            <a:off x="7155000" y="1752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TextBox 57"/>
          <p:cNvSpPr/>
          <p:nvPr/>
        </p:nvSpPr>
        <p:spPr>
          <a:xfrm>
            <a:off x="1947960" y="43592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TextBox 57"/>
          <p:cNvSpPr/>
          <p:nvPr/>
        </p:nvSpPr>
        <p:spPr>
          <a:xfrm>
            <a:off x="7155000" y="43592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文本框 13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Freeform 5"/>
          <p:cNvSpPr/>
          <p:nvPr/>
        </p:nvSpPr>
        <p:spPr>
          <a:xfrm>
            <a:off x="6021360" y="1832040"/>
            <a:ext cx="1614600" cy="1614600"/>
          </a:xfrm>
          <a:custGeom>
            <a:avLst/>
            <a:gdLst/>
            <a:ahLst/>
            <a:rect l="l" t="t" r="r" b="b"/>
            <a:pathLst>
              <a:path w="86" h="86">
                <a:moveTo>
                  <a:pt x="0" y="86"/>
                </a:moveTo>
                <a:cubicBezTo>
                  <a:pt x="0" y="22"/>
                  <a:pt x="0" y="22"/>
                  <a:pt x="0" y="22"/>
                </a:cubicBezTo>
                <a:cubicBezTo>
                  <a:pt x="0" y="10"/>
                  <a:pt x="10" y="0"/>
                  <a:pt x="23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76"/>
                  <a:pt x="76" y="86"/>
                  <a:pt x="64" y="86"/>
                </a:cubicBezTo>
                <a:lnTo>
                  <a:pt x="0" y="86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6"/>
          <p:cNvSpPr/>
          <p:nvPr/>
        </p:nvSpPr>
        <p:spPr>
          <a:xfrm>
            <a:off x="4314960" y="1832040"/>
            <a:ext cx="1636560" cy="1614600"/>
          </a:xfrm>
          <a:custGeom>
            <a:avLst/>
            <a:gdLst/>
            <a:ahLst/>
            <a:rect l="l" t="t" r="r" b="b"/>
            <a:pathLst>
              <a:path w="87" h="86">
                <a:moveTo>
                  <a:pt x="87" y="86"/>
                </a:moveTo>
                <a:cubicBezTo>
                  <a:pt x="23" y="86"/>
                  <a:pt x="23" y="86"/>
                  <a:pt x="23" y="86"/>
                </a:cubicBezTo>
                <a:cubicBezTo>
                  <a:pt x="10" y="86"/>
                  <a:pt x="0" y="76"/>
                  <a:pt x="0" y="63"/>
                </a:cubicBezTo>
                <a:cubicBezTo>
                  <a:pt x="0" y="0"/>
                  <a:pt x="0" y="0"/>
                  <a:pt x="0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77" y="0"/>
                  <a:pt x="87" y="10"/>
                  <a:pt x="87" y="22"/>
                </a:cubicBezTo>
                <a:lnTo>
                  <a:pt x="87" y="86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reeform 7"/>
          <p:cNvSpPr/>
          <p:nvPr/>
        </p:nvSpPr>
        <p:spPr>
          <a:xfrm>
            <a:off x="6021360" y="3524400"/>
            <a:ext cx="1614600" cy="1628640"/>
          </a:xfrm>
          <a:custGeom>
            <a:avLst/>
            <a:gdLst/>
            <a:ahLst/>
            <a:rect l="l" t="t" r="r" b="b"/>
            <a:pathLst>
              <a:path w="86" h="87">
                <a:moveTo>
                  <a:pt x="86" y="87"/>
                </a:moveTo>
                <a:cubicBezTo>
                  <a:pt x="23" y="87"/>
                  <a:pt x="23" y="87"/>
                  <a:pt x="23" y="87"/>
                </a:cubicBezTo>
                <a:cubicBezTo>
                  <a:pt x="10" y="87"/>
                  <a:pt x="0" y="76"/>
                  <a:pt x="0" y="64"/>
                </a:cubicBezTo>
                <a:cubicBezTo>
                  <a:pt x="0" y="0"/>
                  <a:pt x="0" y="0"/>
                  <a:pt x="0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76" y="0"/>
                  <a:pt x="86" y="10"/>
                  <a:pt x="86" y="23"/>
                </a:cubicBezTo>
                <a:lnTo>
                  <a:pt x="86" y="87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Freeform 8"/>
          <p:cNvSpPr/>
          <p:nvPr/>
        </p:nvSpPr>
        <p:spPr>
          <a:xfrm>
            <a:off x="4314960" y="3524400"/>
            <a:ext cx="1636560" cy="1628640"/>
          </a:xfrm>
          <a:custGeom>
            <a:avLst/>
            <a:gdLst/>
            <a:ahLst/>
            <a:rect l="l" t="t" r="r" b="b"/>
            <a:pathLst>
              <a:path w="87" h="87">
                <a:moveTo>
                  <a:pt x="0" y="87"/>
                </a:moveTo>
                <a:cubicBezTo>
                  <a:pt x="0" y="23"/>
                  <a:pt x="0" y="23"/>
                  <a:pt x="0" y="23"/>
                </a:cubicBezTo>
                <a:cubicBezTo>
                  <a:pt x="0" y="10"/>
                  <a:pt x="10" y="0"/>
                  <a:pt x="23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76"/>
                  <a:pt x="77" y="87"/>
                  <a:pt x="64" y="87"/>
                </a:cubicBezTo>
                <a:lnTo>
                  <a:pt x="0" y="87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Oval 9"/>
          <p:cNvSpPr/>
          <p:nvPr/>
        </p:nvSpPr>
        <p:spPr>
          <a:xfrm>
            <a:off x="5257800" y="2774880"/>
            <a:ext cx="1441440" cy="1427400"/>
          </a:xfrm>
          <a:prstGeom prst="ellipse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矩形 37"/>
          <p:cNvSpPr/>
          <p:nvPr/>
        </p:nvSpPr>
        <p:spPr>
          <a:xfrm>
            <a:off x="5463720" y="29415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矩形 38"/>
          <p:cNvSpPr/>
          <p:nvPr/>
        </p:nvSpPr>
        <p:spPr>
          <a:xfrm>
            <a:off x="6024960" y="29415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矩形 39"/>
          <p:cNvSpPr/>
          <p:nvPr/>
        </p:nvSpPr>
        <p:spPr>
          <a:xfrm>
            <a:off x="5461560" y="35528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矩形 40"/>
          <p:cNvSpPr/>
          <p:nvPr/>
        </p:nvSpPr>
        <p:spPr>
          <a:xfrm>
            <a:off x="5992200" y="35434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3" name="组合 41" descr=""/>
          <p:cNvPicPr/>
          <p:nvPr/>
        </p:nvPicPr>
        <p:blipFill>
          <a:blip r:embed="rId1"/>
          <a:stretch/>
        </p:blipFill>
        <p:spPr>
          <a:xfrm>
            <a:off x="6638760" y="4127400"/>
            <a:ext cx="615960" cy="620640"/>
          </a:xfrm>
          <a:prstGeom prst="rect">
            <a:avLst/>
          </a:prstGeom>
          <a:ln w="0">
            <a:noFill/>
          </a:ln>
        </p:spPr>
      </p:pic>
      <p:pic>
        <p:nvPicPr>
          <p:cNvPr id="914" name="组合 48" descr=""/>
          <p:cNvPicPr/>
          <p:nvPr/>
        </p:nvPicPr>
        <p:blipFill>
          <a:blip r:embed="rId2"/>
          <a:stretch/>
        </p:blipFill>
        <p:spPr>
          <a:xfrm>
            <a:off x="4705200" y="2212920"/>
            <a:ext cx="714600" cy="480960"/>
          </a:xfrm>
          <a:prstGeom prst="rect">
            <a:avLst/>
          </a:prstGeom>
          <a:ln w="0">
            <a:noFill/>
          </a:ln>
        </p:spPr>
      </p:pic>
      <p:pic>
        <p:nvPicPr>
          <p:cNvPr id="915" name="组合 62" descr=""/>
          <p:cNvPicPr/>
          <p:nvPr/>
        </p:nvPicPr>
        <p:blipFill>
          <a:blip r:embed="rId3"/>
          <a:stretch/>
        </p:blipFill>
        <p:spPr>
          <a:xfrm>
            <a:off x="6724800" y="2048040"/>
            <a:ext cx="633240" cy="645840"/>
          </a:xfrm>
          <a:prstGeom prst="rect">
            <a:avLst/>
          </a:prstGeom>
          <a:ln w="0">
            <a:noFill/>
          </a:ln>
        </p:spPr>
      </p:pic>
      <p:pic>
        <p:nvPicPr>
          <p:cNvPr id="916" name="组合 66" descr=""/>
          <p:cNvPicPr/>
          <p:nvPr/>
        </p:nvPicPr>
        <p:blipFill>
          <a:blip r:embed="rId4"/>
          <a:stretch/>
        </p:blipFill>
        <p:spPr>
          <a:xfrm>
            <a:off x="4705200" y="4151160"/>
            <a:ext cx="433440" cy="640080"/>
          </a:xfrm>
          <a:prstGeom prst="rect">
            <a:avLst/>
          </a:prstGeom>
          <a:ln w="0">
            <a:noFill/>
          </a:ln>
        </p:spPr>
      </p:pic>
      <p:sp>
        <p:nvSpPr>
          <p:cNvPr id="917" name="TextBox 57"/>
          <p:cNvSpPr/>
          <p:nvPr/>
        </p:nvSpPr>
        <p:spPr>
          <a:xfrm>
            <a:off x="7873920" y="20145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Box 57"/>
          <p:cNvSpPr/>
          <p:nvPr/>
        </p:nvSpPr>
        <p:spPr>
          <a:xfrm>
            <a:off x="1282680" y="20145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57"/>
          <p:cNvSpPr/>
          <p:nvPr/>
        </p:nvSpPr>
        <p:spPr>
          <a:xfrm>
            <a:off x="7873920" y="40514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57"/>
          <p:cNvSpPr/>
          <p:nvPr/>
        </p:nvSpPr>
        <p:spPr>
          <a:xfrm>
            <a:off x="1282680" y="40514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文本框 75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组合 75" descr=""/>
          <p:cNvPicPr/>
          <p:nvPr/>
        </p:nvPicPr>
        <p:blipFill>
          <a:blip r:embed="rId1"/>
          <a:stretch/>
        </p:blipFill>
        <p:spPr>
          <a:xfrm>
            <a:off x="1060560" y="1798560"/>
            <a:ext cx="2170080" cy="2859120"/>
          </a:xfrm>
          <a:prstGeom prst="rect">
            <a:avLst/>
          </a:prstGeom>
          <a:ln w="0">
            <a:noFill/>
          </a:ln>
        </p:spPr>
      </p:pic>
      <p:sp>
        <p:nvSpPr>
          <p:cNvPr id="923" name="矩形 85"/>
          <p:cNvSpPr/>
          <p:nvPr/>
        </p:nvSpPr>
        <p:spPr>
          <a:xfrm>
            <a:off x="0" y="4654440"/>
            <a:ext cx="5661000" cy="1195560"/>
          </a:xfrm>
          <a:prstGeom prst="rect">
            <a:avLst/>
          </a:prstGeom>
          <a:solidFill>
            <a:srgbClr val="ef5664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矩形 86"/>
          <p:cNvSpPr/>
          <p:nvPr/>
        </p:nvSpPr>
        <p:spPr>
          <a:xfrm>
            <a:off x="3033720" y="3624120"/>
            <a:ext cx="4817880" cy="1032120"/>
          </a:xfrm>
          <a:prstGeom prst="rect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矩形 87"/>
          <p:cNvSpPr/>
          <p:nvPr/>
        </p:nvSpPr>
        <p:spPr>
          <a:xfrm>
            <a:off x="4616280" y="2593800"/>
            <a:ext cx="4819680" cy="1030320"/>
          </a:xfrm>
          <a:prstGeom prst="rect">
            <a:avLst/>
          </a:prstGeom>
          <a:solidFill>
            <a:srgbClr val="ef5664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矩形 88"/>
          <p:cNvSpPr/>
          <p:nvPr/>
        </p:nvSpPr>
        <p:spPr>
          <a:xfrm>
            <a:off x="0" y="4844880"/>
            <a:ext cx="5661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矩形 89"/>
          <p:cNvSpPr/>
          <p:nvPr/>
        </p:nvSpPr>
        <p:spPr>
          <a:xfrm>
            <a:off x="2612880" y="3746520"/>
            <a:ext cx="5659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矩形 90"/>
          <p:cNvSpPr/>
          <p:nvPr/>
        </p:nvSpPr>
        <p:spPr>
          <a:xfrm>
            <a:off x="4195800" y="2701800"/>
            <a:ext cx="5661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矩形 91"/>
          <p:cNvSpPr/>
          <p:nvPr/>
        </p:nvSpPr>
        <p:spPr>
          <a:xfrm>
            <a:off x="6053040" y="1562040"/>
            <a:ext cx="4818240" cy="1031760"/>
          </a:xfrm>
          <a:prstGeom prst="rect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矩形 92"/>
          <p:cNvSpPr/>
          <p:nvPr/>
        </p:nvSpPr>
        <p:spPr>
          <a:xfrm>
            <a:off x="5632560" y="1684440"/>
            <a:ext cx="56592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文本框 15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Freeform 5"/>
          <p:cNvSpPr/>
          <p:nvPr/>
        </p:nvSpPr>
        <p:spPr>
          <a:xfrm>
            <a:off x="2933640" y="3343320"/>
            <a:ext cx="528840" cy="888840"/>
          </a:xfrm>
          <a:custGeom>
            <a:avLst/>
            <a:gdLst/>
            <a:ahLst/>
            <a:rect l="l" t="t" r="r" b="b"/>
            <a:pathLst>
              <a:path w="75" h="126">
                <a:moveTo>
                  <a:pt x="69" y="1"/>
                </a:moveTo>
                <a:cubicBezTo>
                  <a:pt x="68" y="1"/>
                  <a:pt x="67" y="0"/>
                  <a:pt x="65" y="0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3" y="2"/>
                  <a:pt x="2" y="4"/>
                </a:cubicBezTo>
                <a:cubicBezTo>
                  <a:pt x="0" y="5"/>
                  <a:pt x="0" y="6"/>
                  <a:pt x="0" y="8"/>
                </a:cubicBezTo>
                <a:cubicBezTo>
                  <a:pt x="0" y="9"/>
                  <a:pt x="0" y="9"/>
                  <a:pt x="0" y="9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60"/>
                  <a:pt x="2" y="63"/>
                  <a:pt x="6" y="63"/>
                </a:cubicBezTo>
                <a:cubicBezTo>
                  <a:pt x="9" y="63"/>
                  <a:pt x="12" y="60"/>
                  <a:pt x="12" y="57"/>
                </a:cubicBezTo>
                <a:cubicBezTo>
                  <a:pt x="12" y="20"/>
                  <a:pt x="12" y="20"/>
                  <a:pt x="12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65"/>
                  <a:pt x="16" y="65"/>
                  <a:pt x="16" y="65"/>
                </a:cubicBezTo>
                <a:cubicBezTo>
                  <a:pt x="16" y="65"/>
                  <a:pt x="16" y="66"/>
                  <a:pt x="16" y="66"/>
                </a:cubicBezTo>
                <a:cubicBezTo>
                  <a:pt x="16" y="66"/>
                  <a:pt x="16" y="67"/>
                  <a:pt x="16" y="67"/>
                </a:cubicBezTo>
                <a:cubicBezTo>
                  <a:pt x="16" y="118"/>
                  <a:pt x="16" y="118"/>
                  <a:pt x="16" y="118"/>
                </a:cubicBezTo>
                <a:cubicBezTo>
                  <a:pt x="16" y="123"/>
                  <a:pt x="20" y="126"/>
                  <a:pt x="24" y="126"/>
                </a:cubicBezTo>
                <a:cubicBezTo>
                  <a:pt x="29" y="126"/>
                  <a:pt x="33" y="123"/>
                  <a:pt x="33" y="118"/>
                </a:cubicBezTo>
                <a:cubicBezTo>
                  <a:pt x="33" y="74"/>
                  <a:pt x="33" y="74"/>
                  <a:pt x="33" y="74"/>
                </a:cubicBezTo>
                <a:cubicBezTo>
                  <a:pt x="42" y="74"/>
                  <a:pt x="42" y="74"/>
                  <a:pt x="42" y="74"/>
                </a:cubicBezTo>
                <a:cubicBezTo>
                  <a:pt x="42" y="118"/>
                  <a:pt x="42" y="118"/>
                  <a:pt x="42" y="118"/>
                </a:cubicBezTo>
                <a:cubicBezTo>
                  <a:pt x="42" y="123"/>
                  <a:pt x="46" y="126"/>
                  <a:pt x="51" y="126"/>
                </a:cubicBezTo>
                <a:cubicBezTo>
                  <a:pt x="56" y="126"/>
                  <a:pt x="60" y="123"/>
                  <a:pt x="60" y="118"/>
                </a:cubicBezTo>
                <a:cubicBezTo>
                  <a:pt x="60" y="67"/>
                  <a:pt x="60" y="67"/>
                  <a:pt x="60" y="67"/>
                </a:cubicBezTo>
                <a:cubicBezTo>
                  <a:pt x="60" y="66"/>
                  <a:pt x="60" y="66"/>
                  <a:pt x="60" y="66"/>
                </a:cubicBezTo>
                <a:cubicBezTo>
                  <a:pt x="60" y="66"/>
                  <a:pt x="60" y="65"/>
                  <a:pt x="60" y="65"/>
                </a:cubicBezTo>
                <a:cubicBezTo>
                  <a:pt x="60" y="20"/>
                  <a:pt x="60" y="20"/>
                  <a:pt x="60" y="20"/>
                </a:cubicBezTo>
                <a:cubicBezTo>
                  <a:pt x="63" y="20"/>
                  <a:pt x="63" y="20"/>
                  <a:pt x="63" y="20"/>
                </a:cubicBezTo>
                <a:cubicBezTo>
                  <a:pt x="63" y="56"/>
                  <a:pt x="63" y="56"/>
                  <a:pt x="63" y="56"/>
                </a:cubicBezTo>
                <a:cubicBezTo>
                  <a:pt x="63" y="60"/>
                  <a:pt x="66" y="62"/>
                  <a:pt x="69" y="62"/>
                </a:cubicBezTo>
                <a:cubicBezTo>
                  <a:pt x="73" y="62"/>
                  <a:pt x="75" y="60"/>
                  <a:pt x="75" y="56"/>
                </a:cubicBezTo>
                <a:cubicBezTo>
                  <a:pt x="75" y="7"/>
                  <a:pt x="75" y="7"/>
                  <a:pt x="75" y="7"/>
                </a:cubicBezTo>
                <a:cubicBezTo>
                  <a:pt x="75" y="4"/>
                  <a:pt x="73" y="2"/>
                  <a:pt x="69" y="1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Oval 6"/>
          <p:cNvSpPr/>
          <p:nvPr/>
        </p:nvSpPr>
        <p:spPr>
          <a:xfrm>
            <a:off x="3075120" y="3097080"/>
            <a:ext cx="231480" cy="211320"/>
          </a:xfrm>
          <a:prstGeom prst="ellipse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Freeform 7"/>
          <p:cNvSpPr/>
          <p:nvPr/>
        </p:nvSpPr>
        <p:spPr>
          <a:xfrm>
            <a:off x="1641600" y="4811760"/>
            <a:ext cx="409320" cy="550800"/>
          </a:xfrm>
          <a:custGeom>
            <a:avLst/>
            <a:gdLst/>
            <a:ahLst/>
            <a:rect l="l" t="t" r="r" b="b"/>
            <a:pathLst>
              <a:path w="58" h="78">
                <a:moveTo>
                  <a:pt x="13" y="3"/>
                </a:moveTo>
                <a:cubicBezTo>
                  <a:pt x="20" y="1"/>
                  <a:pt x="43" y="0"/>
                  <a:pt x="49" y="4"/>
                </a:cubicBezTo>
                <a:cubicBezTo>
                  <a:pt x="58" y="8"/>
                  <a:pt x="55" y="27"/>
                  <a:pt x="55" y="40"/>
                </a:cubicBezTo>
                <a:cubicBezTo>
                  <a:pt x="55" y="53"/>
                  <a:pt x="58" y="71"/>
                  <a:pt x="48" y="75"/>
                </a:cubicBezTo>
                <a:cubicBezTo>
                  <a:pt x="42" y="78"/>
                  <a:pt x="15" y="77"/>
                  <a:pt x="9" y="75"/>
                </a:cubicBezTo>
                <a:cubicBezTo>
                  <a:pt x="0" y="71"/>
                  <a:pt x="2" y="54"/>
                  <a:pt x="2" y="40"/>
                </a:cubicBezTo>
                <a:cubicBezTo>
                  <a:pt x="2" y="33"/>
                  <a:pt x="2" y="28"/>
                  <a:pt x="2" y="24"/>
                </a:cubicBezTo>
                <a:cubicBezTo>
                  <a:pt x="2" y="13"/>
                  <a:pt x="1" y="5"/>
                  <a:pt x="13" y="3"/>
                </a:cubicBezTo>
                <a:close/>
                <a:moveTo>
                  <a:pt x="9" y="36"/>
                </a:moveTo>
                <a:cubicBezTo>
                  <a:pt x="9" y="45"/>
                  <a:pt x="8" y="55"/>
                  <a:pt x="11" y="58"/>
                </a:cubicBezTo>
                <a:cubicBezTo>
                  <a:pt x="14" y="61"/>
                  <a:pt x="25" y="59"/>
                  <a:pt x="29" y="59"/>
                </a:cubicBezTo>
                <a:cubicBezTo>
                  <a:pt x="33" y="59"/>
                  <a:pt x="44" y="60"/>
                  <a:pt x="46" y="58"/>
                </a:cubicBezTo>
                <a:cubicBezTo>
                  <a:pt x="50" y="54"/>
                  <a:pt x="48" y="43"/>
                  <a:pt x="48" y="35"/>
                </a:cubicBezTo>
                <a:cubicBezTo>
                  <a:pt x="48" y="27"/>
                  <a:pt x="50" y="16"/>
                  <a:pt x="46" y="12"/>
                </a:cubicBezTo>
                <a:cubicBezTo>
                  <a:pt x="43" y="9"/>
                  <a:pt x="21" y="9"/>
                  <a:pt x="14" y="11"/>
                </a:cubicBezTo>
                <a:cubicBezTo>
                  <a:pt x="7" y="13"/>
                  <a:pt x="9" y="24"/>
                  <a:pt x="9" y="36"/>
                </a:cubicBezTo>
                <a:close/>
                <a:moveTo>
                  <a:pt x="29" y="71"/>
                </a:moveTo>
                <a:cubicBezTo>
                  <a:pt x="35" y="71"/>
                  <a:pt x="34" y="60"/>
                  <a:pt x="27" y="63"/>
                </a:cubicBezTo>
                <a:cubicBezTo>
                  <a:pt x="22" y="65"/>
                  <a:pt x="25" y="72"/>
                  <a:pt x="29" y="71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Freeform 8"/>
          <p:cNvSpPr/>
          <p:nvPr/>
        </p:nvSpPr>
        <p:spPr>
          <a:xfrm>
            <a:off x="2925720" y="5495760"/>
            <a:ext cx="608040" cy="459000"/>
          </a:xfrm>
          <a:custGeom>
            <a:avLst/>
            <a:gdLst/>
            <a:ahLst/>
            <a:rect l="l" t="t" r="r" b="b"/>
            <a:pathLst>
              <a:path w="86" h="65">
                <a:moveTo>
                  <a:pt x="80" y="0"/>
                </a:moveTo>
                <a:cubicBezTo>
                  <a:pt x="5" y="0"/>
                  <a:pt x="5" y="0"/>
                  <a:pt x="5" y="0"/>
                </a:cubicBezTo>
                <a:cubicBezTo>
                  <a:pt x="3" y="0"/>
                  <a:pt x="0" y="3"/>
                  <a:pt x="0" y="5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2"/>
                  <a:pt x="3" y="65"/>
                  <a:pt x="5" y="65"/>
                </a:cubicBezTo>
                <a:cubicBezTo>
                  <a:pt x="80" y="65"/>
                  <a:pt x="80" y="65"/>
                  <a:pt x="80" y="65"/>
                </a:cubicBezTo>
                <a:cubicBezTo>
                  <a:pt x="83" y="65"/>
                  <a:pt x="86" y="62"/>
                  <a:pt x="86" y="60"/>
                </a:cubicBezTo>
                <a:cubicBezTo>
                  <a:pt x="86" y="5"/>
                  <a:pt x="86" y="5"/>
                  <a:pt x="86" y="5"/>
                </a:cubicBezTo>
                <a:cubicBezTo>
                  <a:pt x="86" y="3"/>
                  <a:pt x="83" y="0"/>
                  <a:pt x="80" y="0"/>
                </a:cubicBezTo>
                <a:close/>
                <a:moveTo>
                  <a:pt x="48" y="58"/>
                </a:moveTo>
                <a:cubicBezTo>
                  <a:pt x="48" y="60"/>
                  <a:pt x="47" y="61"/>
                  <a:pt x="45" y="61"/>
                </a:cubicBezTo>
                <a:cubicBezTo>
                  <a:pt x="41" y="61"/>
                  <a:pt x="41" y="61"/>
                  <a:pt x="41" y="61"/>
                </a:cubicBezTo>
                <a:cubicBezTo>
                  <a:pt x="39" y="61"/>
                  <a:pt x="38" y="60"/>
                  <a:pt x="38" y="58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52"/>
                  <a:pt x="39" y="51"/>
                  <a:pt x="41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7" y="51"/>
                  <a:pt x="48" y="52"/>
                  <a:pt x="48" y="54"/>
                </a:cubicBezTo>
                <a:lnTo>
                  <a:pt x="48" y="58"/>
                </a:lnTo>
                <a:close/>
                <a:moveTo>
                  <a:pt x="78" y="45"/>
                </a:moveTo>
                <a:cubicBezTo>
                  <a:pt x="78" y="46"/>
                  <a:pt x="77" y="48"/>
                  <a:pt x="75" y="48"/>
                </a:cubicBezTo>
                <a:cubicBezTo>
                  <a:pt x="11" y="48"/>
                  <a:pt x="11" y="48"/>
                  <a:pt x="11" y="48"/>
                </a:cubicBezTo>
                <a:cubicBezTo>
                  <a:pt x="9" y="48"/>
                  <a:pt x="7" y="46"/>
                  <a:pt x="7" y="45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9"/>
                  <a:pt x="9" y="7"/>
                  <a:pt x="11" y="7"/>
                </a:cubicBezTo>
                <a:cubicBezTo>
                  <a:pt x="75" y="7"/>
                  <a:pt x="75" y="7"/>
                  <a:pt x="75" y="7"/>
                </a:cubicBezTo>
                <a:cubicBezTo>
                  <a:pt x="77" y="7"/>
                  <a:pt x="78" y="9"/>
                  <a:pt x="78" y="10"/>
                </a:cubicBezTo>
                <a:lnTo>
                  <a:pt x="78" y="45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reeform 9"/>
          <p:cNvSpPr/>
          <p:nvPr/>
        </p:nvSpPr>
        <p:spPr>
          <a:xfrm>
            <a:off x="4492800" y="4754520"/>
            <a:ext cx="374400" cy="480960"/>
          </a:xfrm>
          <a:custGeom>
            <a:avLst/>
            <a:gdLst/>
            <a:ahLst/>
            <a:rect l="l" t="t" r="r" b="b"/>
            <a:pathLst>
              <a:path w="236" h="303">
                <a:moveTo>
                  <a:pt x="0" y="0"/>
                </a:moveTo>
                <a:lnTo>
                  <a:pt x="0" y="303"/>
                </a:lnTo>
                <a:lnTo>
                  <a:pt x="236" y="303"/>
                </a:lnTo>
                <a:lnTo>
                  <a:pt x="236" y="0"/>
                </a:lnTo>
                <a:lnTo>
                  <a:pt x="0" y="0"/>
                </a:lnTo>
                <a:close/>
                <a:moveTo>
                  <a:pt x="85" y="258"/>
                </a:moveTo>
                <a:lnTo>
                  <a:pt x="36" y="258"/>
                </a:lnTo>
                <a:lnTo>
                  <a:pt x="36" y="205"/>
                </a:lnTo>
                <a:lnTo>
                  <a:pt x="85" y="205"/>
                </a:lnTo>
                <a:lnTo>
                  <a:pt x="85" y="258"/>
                </a:lnTo>
                <a:close/>
                <a:moveTo>
                  <a:pt x="85" y="183"/>
                </a:moveTo>
                <a:lnTo>
                  <a:pt x="36" y="183"/>
                </a:lnTo>
                <a:lnTo>
                  <a:pt x="36" y="129"/>
                </a:lnTo>
                <a:lnTo>
                  <a:pt x="85" y="129"/>
                </a:lnTo>
                <a:lnTo>
                  <a:pt x="85" y="183"/>
                </a:lnTo>
                <a:close/>
                <a:moveTo>
                  <a:pt x="209" y="232"/>
                </a:moveTo>
                <a:lnTo>
                  <a:pt x="107" y="232"/>
                </a:lnTo>
                <a:lnTo>
                  <a:pt x="107" y="129"/>
                </a:lnTo>
                <a:lnTo>
                  <a:pt x="209" y="129"/>
                </a:lnTo>
                <a:lnTo>
                  <a:pt x="209" y="232"/>
                </a:lnTo>
                <a:close/>
                <a:moveTo>
                  <a:pt x="209" y="98"/>
                </a:moveTo>
                <a:lnTo>
                  <a:pt x="31" y="98"/>
                </a:lnTo>
                <a:lnTo>
                  <a:pt x="31" y="36"/>
                </a:lnTo>
                <a:lnTo>
                  <a:pt x="209" y="36"/>
                </a:lnTo>
                <a:lnTo>
                  <a:pt x="209" y="98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10"/>
          <p:cNvSpPr/>
          <p:nvPr/>
        </p:nvSpPr>
        <p:spPr>
          <a:xfrm>
            <a:off x="4732200" y="2292480"/>
            <a:ext cx="92160" cy="126720"/>
          </a:xfrm>
          <a:custGeom>
            <a:avLst/>
            <a:gdLst/>
            <a:ahLst/>
            <a:rect l="l" t="t" r="r" b="b"/>
            <a:pathLst>
              <a:path w="13" h="18">
                <a:moveTo>
                  <a:pt x="0" y="0"/>
                </a:moveTo>
                <a:cubicBezTo>
                  <a:pt x="0" y="18"/>
                  <a:pt x="0" y="18"/>
                  <a:pt x="0" y="18"/>
                </a:cubicBezTo>
                <a:cubicBezTo>
                  <a:pt x="5" y="17"/>
                  <a:pt x="10" y="11"/>
                  <a:pt x="13" y="3"/>
                </a:cubicBezTo>
                <a:cubicBezTo>
                  <a:pt x="9" y="1"/>
                  <a:pt x="5" y="0"/>
                  <a:pt x="0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11"/>
          <p:cNvSpPr/>
          <p:nvPr/>
        </p:nvSpPr>
        <p:spPr>
          <a:xfrm>
            <a:off x="4732200" y="2165400"/>
            <a:ext cx="112680" cy="119160"/>
          </a:xfrm>
          <a:custGeom>
            <a:avLst/>
            <a:gdLst/>
            <a:ahLst/>
            <a:rect l="l" t="t" r="r" b="b"/>
            <a:pathLst>
              <a:path w="16" h="17">
                <a:moveTo>
                  <a:pt x="16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4"/>
                  <a:pt x="0" y="14"/>
                  <a:pt x="0" y="14"/>
                </a:cubicBezTo>
                <a:cubicBezTo>
                  <a:pt x="5" y="14"/>
                  <a:pt x="10" y="15"/>
                  <a:pt x="14" y="17"/>
                </a:cubicBezTo>
                <a:cubicBezTo>
                  <a:pt x="15" y="12"/>
                  <a:pt x="16" y="6"/>
                  <a:pt x="16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reeform 12"/>
          <p:cNvSpPr/>
          <p:nvPr/>
        </p:nvSpPr>
        <p:spPr>
          <a:xfrm>
            <a:off x="4732200" y="2016000"/>
            <a:ext cx="112680" cy="120600"/>
          </a:xfrm>
          <a:custGeom>
            <a:avLst/>
            <a:gdLst/>
            <a:ahLst/>
            <a:rect l="l" t="t" r="r" b="b"/>
            <a:pathLst>
              <a:path w="16" h="17">
                <a:moveTo>
                  <a:pt x="0" y="3"/>
                </a:moveTo>
                <a:cubicBezTo>
                  <a:pt x="0" y="17"/>
                  <a:pt x="0" y="17"/>
                  <a:pt x="0" y="17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1"/>
                  <a:pt x="15" y="5"/>
                  <a:pt x="14" y="0"/>
                </a:cubicBezTo>
                <a:cubicBezTo>
                  <a:pt x="9" y="2"/>
                  <a:pt x="5" y="3"/>
                  <a:pt x="0" y="3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Freeform 13"/>
          <p:cNvSpPr/>
          <p:nvPr/>
        </p:nvSpPr>
        <p:spPr>
          <a:xfrm>
            <a:off x="4613400" y="2292480"/>
            <a:ext cx="98280" cy="133200"/>
          </a:xfrm>
          <a:custGeom>
            <a:avLst/>
            <a:gdLst/>
            <a:ahLst/>
            <a:rect l="l" t="t" r="r" b="b"/>
            <a:pathLst>
              <a:path w="14" h="19">
                <a:moveTo>
                  <a:pt x="14" y="19"/>
                </a:moveTo>
                <a:cubicBezTo>
                  <a:pt x="14" y="0"/>
                  <a:pt x="14" y="0"/>
                  <a:pt x="14" y="0"/>
                </a:cubicBezTo>
                <a:cubicBezTo>
                  <a:pt x="9" y="0"/>
                  <a:pt x="4" y="1"/>
                  <a:pt x="0" y="3"/>
                </a:cubicBezTo>
                <a:cubicBezTo>
                  <a:pt x="3" y="11"/>
                  <a:pt x="8" y="17"/>
                  <a:pt x="14" y="19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4"/>
          <p:cNvSpPr/>
          <p:nvPr/>
        </p:nvSpPr>
        <p:spPr>
          <a:xfrm>
            <a:off x="4591080" y="2023920"/>
            <a:ext cx="120600" cy="112680"/>
          </a:xfrm>
          <a:custGeom>
            <a:avLst/>
            <a:gdLst/>
            <a:ahLst/>
            <a:rect l="l" t="t" r="r" b="b"/>
            <a:pathLst>
              <a:path w="17" h="16">
                <a:moveTo>
                  <a:pt x="0" y="16"/>
                </a:moveTo>
                <a:cubicBezTo>
                  <a:pt x="17" y="16"/>
                  <a:pt x="17" y="16"/>
                  <a:pt x="17" y="16"/>
                </a:cubicBezTo>
                <a:cubicBezTo>
                  <a:pt x="17" y="3"/>
                  <a:pt x="17" y="3"/>
                  <a:pt x="17" y="3"/>
                </a:cubicBezTo>
                <a:cubicBezTo>
                  <a:pt x="12" y="2"/>
                  <a:pt x="7" y="1"/>
                  <a:pt x="2" y="0"/>
                </a:cubicBezTo>
                <a:cubicBezTo>
                  <a:pt x="1" y="5"/>
                  <a:pt x="0" y="10"/>
                  <a:pt x="0" y="16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5"/>
          <p:cNvSpPr/>
          <p:nvPr/>
        </p:nvSpPr>
        <p:spPr>
          <a:xfrm>
            <a:off x="4732200" y="1897200"/>
            <a:ext cx="86040" cy="112680"/>
          </a:xfrm>
          <a:custGeom>
            <a:avLst/>
            <a:gdLst/>
            <a:ahLst/>
            <a:rect l="l" t="t" r="r" b="b"/>
            <a:pathLst>
              <a:path w="12" h="16">
                <a:moveTo>
                  <a:pt x="0" y="0"/>
                </a:moveTo>
                <a:cubicBezTo>
                  <a:pt x="0" y="16"/>
                  <a:pt x="0" y="16"/>
                  <a:pt x="0" y="16"/>
                </a:cubicBezTo>
                <a:cubicBezTo>
                  <a:pt x="4" y="16"/>
                  <a:pt x="8" y="15"/>
                  <a:pt x="12" y="13"/>
                </a:cubicBezTo>
                <a:cubicBezTo>
                  <a:pt x="9" y="6"/>
                  <a:pt x="5" y="1"/>
                  <a:pt x="0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Freeform 16"/>
          <p:cNvSpPr/>
          <p:nvPr/>
        </p:nvSpPr>
        <p:spPr>
          <a:xfrm>
            <a:off x="4619520" y="1889280"/>
            <a:ext cx="92160" cy="1206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17"/>
                </a:moveTo>
                <a:cubicBezTo>
                  <a:pt x="13" y="0"/>
                  <a:pt x="13" y="0"/>
                  <a:pt x="13" y="0"/>
                </a:cubicBezTo>
                <a:cubicBezTo>
                  <a:pt x="7" y="2"/>
                  <a:pt x="3" y="7"/>
                  <a:pt x="0" y="15"/>
                </a:cubicBezTo>
                <a:cubicBezTo>
                  <a:pt x="4" y="16"/>
                  <a:pt x="8" y="17"/>
                  <a:pt x="13" y="17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17"/>
          <p:cNvSpPr/>
          <p:nvPr/>
        </p:nvSpPr>
        <p:spPr>
          <a:xfrm>
            <a:off x="4591080" y="2165400"/>
            <a:ext cx="120600" cy="11916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17"/>
                </a:moveTo>
                <a:cubicBezTo>
                  <a:pt x="6" y="15"/>
                  <a:pt x="11" y="14"/>
                  <a:pt x="17" y="14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"/>
                  <a:pt x="1" y="12"/>
                  <a:pt x="2" y="17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reeform 18"/>
          <p:cNvSpPr/>
          <p:nvPr/>
        </p:nvSpPr>
        <p:spPr>
          <a:xfrm>
            <a:off x="4443480" y="2165400"/>
            <a:ext cx="135000" cy="176040"/>
          </a:xfrm>
          <a:custGeom>
            <a:avLst/>
            <a:gdLst/>
            <a:ahLst/>
            <a:rect l="l" t="t" r="r" b="b"/>
            <a:pathLst>
              <a:path w="19" h="25">
                <a:moveTo>
                  <a:pt x="19" y="19"/>
                </a:moveTo>
                <a:cubicBezTo>
                  <a:pt x="17" y="13"/>
                  <a:pt x="17" y="7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"/>
                  <a:pt x="4" y="19"/>
                  <a:pt x="10" y="25"/>
                </a:cubicBezTo>
                <a:cubicBezTo>
                  <a:pt x="12" y="23"/>
                  <a:pt x="16" y="20"/>
                  <a:pt x="19" y="19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Freeform 19"/>
          <p:cNvSpPr/>
          <p:nvPr/>
        </p:nvSpPr>
        <p:spPr>
          <a:xfrm>
            <a:off x="4781520" y="1882800"/>
            <a:ext cx="120600" cy="92160"/>
          </a:xfrm>
          <a:custGeom>
            <a:avLst/>
            <a:gdLst/>
            <a:ahLst/>
            <a:rect l="l" t="t" r="r" b="b"/>
            <a:pathLst>
              <a:path w="17" h="13">
                <a:moveTo>
                  <a:pt x="0" y="0"/>
                </a:moveTo>
                <a:cubicBezTo>
                  <a:pt x="3" y="2"/>
                  <a:pt x="7" y="7"/>
                  <a:pt x="9" y="13"/>
                </a:cubicBezTo>
                <a:cubicBezTo>
                  <a:pt x="12" y="12"/>
                  <a:pt x="15" y="10"/>
                  <a:pt x="17" y="8"/>
                </a:cubicBezTo>
                <a:cubicBezTo>
                  <a:pt x="12" y="4"/>
                  <a:pt x="6" y="1"/>
                  <a:pt x="0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20"/>
          <p:cNvSpPr/>
          <p:nvPr/>
        </p:nvSpPr>
        <p:spPr>
          <a:xfrm>
            <a:off x="4859280" y="2165400"/>
            <a:ext cx="149400" cy="182520"/>
          </a:xfrm>
          <a:custGeom>
            <a:avLst/>
            <a:gdLst/>
            <a:ahLst/>
            <a:rect l="l" t="t" r="r" b="b"/>
            <a:pathLst>
              <a:path w="21" h="26">
                <a:moveTo>
                  <a:pt x="3" y="0"/>
                </a:moveTo>
                <a:cubicBezTo>
                  <a:pt x="2" y="7"/>
                  <a:pt x="2" y="13"/>
                  <a:pt x="0" y="19"/>
                </a:cubicBezTo>
                <a:cubicBezTo>
                  <a:pt x="4" y="21"/>
                  <a:pt x="7" y="23"/>
                  <a:pt x="10" y="26"/>
                </a:cubicBezTo>
                <a:cubicBezTo>
                  <a:pt x="16" y="19"/>
                  <a:pt x="20" y="10"/>
                  <a:pt x="21" y="0"/>
                </a:cubicBezTo>
                <a:cubicBezTo>
                  <a:pt x="3" y="0"/>
                  <a:pt x="3" y="0"/>
                  <a:pt x="3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21"/>
          <p:cNvSpPr/>
          <p:nvPr/>
        </p:nvSpPr>
        <p:spPr>
          <a:xfrm>
            <a:off x="4535640" y="1882800"/>
            <a:ext cx="118800" cy="98280"/>
          </a:xfrm>
          <a:custGeom>
            <a:avLst/>
            <a:gdLst/>
            <a:ahLst/>
            <a:rect l="l" t="t" r="r" b="b"/>
            <a:pathLst>
              <a:path w="17" h="14">
                <a:moveTo>
                  <a:pt x="8" y="14"/>
                </a:moveTo>
                <a:cubicBezTo>
                  <a:pt x="10" y="8"/>
                  <a:pt x="13" y="3"/>
                  <a:pt x="17" y="0"/>
                </a:cubicBezTo>
                <a:cubicBezTo>
                  <a:pt x="11" y="1"/>
                  <a:pt x="5" y="4"/>
                  <a:pt x="0" y="8"/>
                </a:cubicBezTo>
                <a:cubicBezTo>
                  <a:pt x="3" y="10"/>
                  <a:pt x="5" y="12"/>
                  <a:pt x="8" y="14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22"/>
          <p:cNvSpPr/>
          <p:nvPr/>
        </p:nvSpPr>
        <p:spPr>
          <a:xfrm>
            <a:off x="4859280" y="1960560"/>
            <a:ext cx="141480" cy="17604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7"/>
                </a:moveTo>
                <a:cubicBezTo>
                  <a:pt x="1" y="12"/>
                  <a:pt x="2" y="18"/>
                  <a:pt x="2" y="25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15"/>
                  <a:pt x="16" y="6"/>
                  <a:pt x="9" y="0"/>
                </a:cubicBezTo>
                <a:cubicBezTo>
                  <a:pt x="6" y="2"/>
                  <a:pt x="3" y="5"/>
                  <a:pt x="0" y="7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Freeform 23"/>
          <p:cNvSpPr/>
          <p:nvPr/>
        </p:nvSpPr>
        <p:spPr>
          <a:xfrm>
            <a:off x="4443480" y="1960560"/>
            <a:ext cx="135000" cy="176040"/>
          </a:xfrm>
          <a:custGeom>
            <a:avLst/>
            <a:gdLst/>
            <a:ahLst/>
            <a:rect l="l" t="t" r="r" b="b"/>
            <a:pathLst>
              <a:path w="19" h="25">
                <a:moveTo>
                  <a:pt x="17" y="25"/>
                </a:moveTo>
                <a:cubicBezTo>
                  <a:pt x="17" y="19"/>
                  <a:pt x="18" y="12"/>
                  <a:pt x="19" y="7"/>
                </a:cubicBezTo>
                <a:cubicBezTo>
                  <a:pt x="16" y="5"/>
                  <a:pt x="13" y="3"/>
                  <a:pt x="10" y="0"/>
                </a:cubicBezTo>
                <a:cubicBezTo>
                  <a:pt x="4" y="7"/>
                  <a:pt x="0" y="16"/>
                  <a:pt x="0" y="25"/>
                </a:cubicBezTo>
                <a:cubicBezTo>
                  <a:pt x="17" y="25"/>
                  <a:pt x="17" y="25"/>
                  <a:pt x="17" y="25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Freeform 24"/>
          <p:cNvSpPr/>
          <p:nvPr/>
        </p:nvSpPr>
        <p:spPr>
          <a:xfrm>
            <a:off x="4781520" y="2327400"/>
            <a:ext cx="127080" cy="106200"/>
          </a:xfrm>
          <a:custGeom>
            <a:avLst/>
            <a:gdLst/>
            <a:ahLst/>
            <a:rect l="l" t="t" r="r" b="b"/>
            <a:pathLst>
              <a:path w="18" h="15">
                <a:moveTo>
                  <a:pt x="10" y="0"/>
                </a:moveTo>
                <a:cubicBezTo>
                  <a:pt x="7" y="7"/>
                  <a:pt x="4" y="12"/>
                  <a:pt x="0" y="15"/>
                </a:cubicBezTo>
                <a:cubicBezTo>
                  <a:pt x="7" y="13"/>
                  <a:pt x="13" y="10"/>
                  <a:pt x="18" y="6"/>
                </a:cubicBezTo>
                <a:cubicBezTo>
                  <a:pt x="15" y="4"/>
                  <a:pt x="13" y="2"/>
                  <a:pt x="10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Freeform 25"/>
          <p:cNvSpPr/>
          <p:nvPr/>
        </p:nvSpPr>
        <p:spPr>
          <a:xfrm>
            <a:off x="4535640" y="2327400"/>
            <a:ext cx="112680" cy="98280"/>
          </a:xfrm>
          <a:custGeom>
            <a:avLst/>
            <a:gdLst/>
            <a:ahLst/>
            <a:rect l="l" t="t" r="r" b="b"/>
            <a:pathLst>
              <a:path w="16" h="14">
                <a:moveTo>
                  <a:pt x="7" y="0"/>
                </a:moveTo>
                <a:cubicBezTo>
                  <a:pt x="4" y="1"/>
                  <a:pt x="2" y="3"/>
                  <a:pt x="0" y="5"/>
                </a:cubicBezTo>
                <a:cubicBezTo>
                  <a:pt x="4" y="10"/>
                  <a:pt x="10" y="13"/>
                  <a:pt x="16" y="14"/>
                </a:cubicBezTo>
                <a:cubicBezTo>
                  <a:pt x="13" y="11"/>
                  <a:pt x="9" y="6"/>
                  <a:pt x="7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Freeform 26"/>
          <p:cNvSpPr/>
          <p:nvPr/>
        </p:nvSpPr>
        <p:spPr>
          <a:xfrm>
            <a:off x="1459080" y="1854360"/>
            <a:ext cx="522000" cy="528480"/>
          </a:xfrm>
          <a:custGeom>
            <a:avLst/>
            <a:gdLst/>
            <a:ahLst/>
            <a:rect l="l" t="t" r="r" b="b"/>
            <a:pathLst>
              <a:path w="74" h="75">
                <a:moveTo>
                  <a:pt x="74" y="65"/>
                </a:moveTo>
                <a:cubicBezTo>
                  <a:pt x="55" y="47"/>
                  <a:pt x="55" y="47"/>
                  <a:pt x="55" y="47"/>
                </a:cubicBezTo>
                <a:cubicBezTo>
                  <a:pt x="57" y="42"/>
                  <a:pt x="59" y="36"/>
                  <a:pt x="58" y="30"/>
                </a:cubicBezTo>
                <a:cubicBezTo>
                  <a:pt x="57" y="13"/>
                  <a:pt x="44" y="0"/>
                  <a:pt x="28" y="1"/>
                </a:cubicBezTo>
                <a:cubicBezTo>
                  <a:pt x="12" y="2"/>
                  <a:pt x="0" y="16"/>
                  <a:pt x="1" y="33"/>
                </a:cubicBezTo>
                <a:cubicBezTo>
                  <a:pt x="2" y="49"/>
                  <a:pt x="16" y="63"/>
                  <a:pt x="32" y="62"/>
                </a:cubicBezTo>
                <a:cubicBezTo>
                  <a:pt x="37" y="62"/>
                  <a:pt x="43" y="60"/>
                  <a:pt x="47" y="56"/>
                </a:cubicBezTo>
                <a:cubicBezTo>
                  <a:pt x="66" y="74"/>
                  <a:pt x="66" y="74"/>
                  <a:pt x="66" y="74"/>
                </a:cubicBezTo>
                <a:cubicBezTo>
                  <a:pt x="66" y="75"/>
                  <a:pt x="67" y="75"/>
                  <a:pt x="68" y="74"/>
                </a:cubicBezTo>
                <a:cubicBezTo>
                  <a:pt x="74" y="67"/>
                  <a:pt x="74" y="67"/>
                  <a:pt x="74" y="67"/>
                </a:cubicBezTo>
                <a:cubicBezTo>
                  <a:pt x="74" y="67"/>
                  <a:pt x="74" y="66"/>
                  <a:pt x="74" y="65"/>
                </a:cubicBezTo>
                <a:close/>
                <a:moveTo>
                  <a:pt x="10" y="32"/>
                </a:moveTo>
                <a:cubicBezTo>
                  <a:pt x="10" y="21"/>
                  <a:pt x="18" y="11"/>
                  <a:pt x="29" y="11"/>
                </a:cubicBezTo>
                <a:cubicBezTo>
                  <a:pt x="39" y="10"/>
                  <a:pt x="49" y="19"/>
                  <a:pt x="49" y="31"/>
                </a:cubicBezTo>
                <a:cubicBezTo>
                  <a:pt x="50" y="42"/>
                  <a:pt x="42" y="52"/>
                  <a:pt x="31" y="52"/>
                </a:cubicBezTo>
                <a:cubicBezTo>
                  <a:pt x="20" y="53"/>
                  <a:pt x="11" y="44"/>
                  <a:pt x="10" y="32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Freeform 27"/>
          <p:cNvSpPr/>
          <p:nvPr/>
        </p:nvSpPr>
        <p:spPr>
          <a:xfrm>
            <a:off x="5326200" y="3548160"/>
            <a:ext cx="366480" cy="366480"/>
          </a:xfrm>
          <a:custGeom>
            <a:avLst/>
            <a:gdLst/>
            <a:ahLst/>
            <a:rect l="l" t="t" r="r" b="b"/>
            <a:pathLst>
              <a:path w="52" h="52">
                <a:moveTo>
                  <a:pt x="33" y="32"/>
                </a:moveTo>
                <a:cubicBezTo>
                  <a:pt x="33" y="31"/>
                  <a:pt x="32" y="30"/>
                  <a:pt x="32" y="29"/>
                </a:cubicBezTo>
                <a:cubicBezTo>
                  <a:pt x="33" y="26"/>
                  <a:pt x="34" y="22"/>
                  <a:pt x="34" y="22"/>
                </a:cubicBezTo>
                <a:cubicBezTo>
                  <a:pt x="34" y="22"/>
                  <a:pt x="35" y="22"/>
                  <a:pt x="36" y="21"/>
                </a:cubicBezTo>
                <a:cubicBezTo>
                  <a:pt x="37" y="19"/>
                  <a:pt x="36" y="18"/>
                  <a:pt x="36" y="18"/>
                </a:cubicBezTo>
                <a:cubicBezTo>
                  <a:pt x="36" y="18"/>
                  <a:pt x="36" y="17"/>
                  <a:pt x="36" y="17"/>
                </a:cubicBezTo>
                <a:cubicBezTo>
                  <a:pt x="36" y="15"/>
                  <a:pt x="37" y="12"/>
                  <a:pt x="37" y="9"/>
                </a:cubicBezTo>
                <a:cubicBezTo>
                  <a:pt x="36" y="4"/>
                  <a:pt x="31" y="1"/>
                  <a:pt x="29" y="1"/>
                </a:cubicBezTo>
                <a:cubicBezTo>
                  <a:pt x="27" y="0"/>
                  <a:pt x="23" y="0"/>
                  <a:pt x="19" y="2"/>
                </a:cubicBezTo>
                <a:cubicBezTo>
                  <a:pt x="16" y="4"/>
                  <a:pt x="15" y="7"/>
                  <a:pt x="15" y="9"/>
                </a:cubicBezTo>
                <a:cubicBezTo>
                  <a:pt x="15" y="12"/>
                  <a:pt x="16" y="17"/>
                  <a:pt x="16" y="17"/>
                </a:cubicBezTo>
                <a:cubicBezTo>
                  <a:pt x="16" y="17"/>
                  <a:pt x="15" y="17"/>
                  <a:pt x="15" y="19"/>
                </a:cubicBezTo>
                <a:cubicBezTo>
                  <a:pt x="15" y="21"/>
                  <a:pt x="17" y="22"/>
                  <a:pt x="17" y="22"/>
                </a:cubicBezTo>
                <a:cubicBezTo>
                  <a:pt x="17" y="22"/>
                  <a:pt x="20" y="28"/>
                  <a:pt x="19" y="31"/>
                </a:cubicBezTo>
                <a:cubicBezTo>
                  <a:pt x="18" y="33"/>
                  <a:pt x="12" y="35"/>
                  <a:pt x="7" y="39"/>
                </a:cubicBezTo>
                <a:cubicBezTo>
                  <a:pt x="1" y="42"/>
                  <a:pt x="0" y="52"/>
                  <a:pt x="0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1" y="43"/>
                  <a:pt x="48" y="39"/>
                </a:cubicBezTo>
                <a:cubicBezTo>
                  <a:pt x="44" y="36"/>
                  <a:pt x="34" y="35"/>
                  <a:pt x="33" y="32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Freeform 28"/>
          <p:cNvSpPr/>
          <p:nvPr/>
        </p:nvSpPr>
        <p:spPr>
          <a:xfrm>
            <a:off x="5326200" y="3773520"/>
            <a:ext cx="182520" cy="141120"/>
          </a:xfrm>
          <a:custGeom>
            <a:avLst/>
            <a:gdLst/>
            <a:ahLst/>
            <a:rect l="l" t="t" r="r" b="b"/>
            <a:pathLst>
              <a:path w="26" h="20">
                <a:moveTo>
                  <a:pt x="0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20"/>
                  <a:pt x="25" y="7"/>
                  <a:pt x="20" y="2"/>
                </a:cubicBezTo>
                <a:cubicBezTo>
                  <a:pt x="19" y="2"/>
                  <a:pt x="19" y="1"/>
                  <a:pt x="18" y="0"/>
                </a:cubicBezTo>
                <a:cubicBezTo>
                  <a:pt x="15" y="2"/>
                  <a:pt x="11" y="4"/>
                  <a:pt x="7" y="7"/>
                </a:cubicBezTo>
                <a:cubicBezTo>
                  <a:pt x="2" y="10"/>
                  <a:pt x="1" y="17"/>
                  <a:pt x="0" y="2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Freeform 29"/>
          <p:cNvSpPr/>
          <p:nvPr/>
        </p:nvSpPr>
        <p:spPr>
          <a:xfrm>
            <a:off x="5000760" y="3414600"/>
            <a:ext cx="417240" cy="500040"/>
          </a:xfrm>
          <a:custGeom>
            <a:avLst/>
            <a:gdLst/>
            <a:ahLst/>
            <a:rect l="l" t="t" r="r" b="b"/>
            <a:pathLst>
              <a:path w="59" h="71">
                <a:moveTo>
                  <a:pt x="51" y="54"/>
                </a:moveTo>
                <a:cubicBezTo>
                  <a:pt x="53" y="53"/>
                  <a:pt x="55" y="52"/>
                  <a:pt x="57" y="50"/>
                </a:cubicBezTo>
                <a:cubicBezTo>
                  <a:pt x="58" y="50"/>
                  <a:pt x="59" y="50"/>
                  <a:pt x="59" y="49"/>
                </a:cubicBezTo>
                <a:cubicBezTo>
                  <a:pt x="54" y="47"/>
                  <a:pt x="47" y="45"/>
                  <a:pt x="46" y="43"/>
                </a:cubicBezTo>
                <a:cubicBezTo>
                  <a:pt x="46" y="42"/>
                  <a:pt x="45" y="41"/>
                  <a:pt x="45" y="39"/>
                </a:cubicBezTo>
                <a:cubicBezTo>
                  <a:pt x="45" y="35"/>
                  <a:pt x="47" y="30"/>
                  <a:pt x="47" y="30"/>
                </a:cubicBezTo>
                <a:cubicBezTo>
                  <a:pt x="47" y="30"/>
                  <a:pt x="49" y="29"/>
                  <a:pt x="50" y="27"/>
                </a:cubicBezTo>
                <a:cubicBezTo>
                  <a:pt x="51" y="26"/>
                  <a:pt x="50" y="23"/>
                  <a:pt x="50" y="23"/>
                </a:cubicBezTo>
                <a:cubicBezTo>
                  <a:pt x="50" y="23"/>
                  <a:pt x="50" y="23"/>
                  <a:pt x="50" y="22"/>
                </a:cubicBezTo>
                <a:cubicBezTo>
                  <a:pt x="50" y="20"/>
                  <a:pt x="51" y="16"/>
                  <a:pt x="51" y="11"/>
                </a:cubicBezTo>
                <a:cubicBezTo>
                  <a:pt x="50" y="4"/>
                  <a:pt x="43" y="1"/>
                  <a:pt x="40" y="1"/>
                </a:cubicBezTo>
                <a:cubicBezTo>
                  <a:pt x="37" y="0"/>
                  <a:pt x="32" y="0"/>
                  <a:pt x="27" y="2"/>
                </a:cubicBezTo>
                <a:cubicBezTo>
                  <a:pt x="22" y="4"/>
                  <a:pt x="21" y="9"/>
                  <a:pt x="20" y="12"/>
                </a:cubicBezTo>
                <a:cubicBezTo>
                  <a:pt x="20" y="15"/>
                  <a:pt x="22" y="23"/>
                  <a:pt x="22" y="23"/>
                </a:cubicBezTo>
                <a:cubicBezTo>
                  <a:pt x="22" y="23"/>
                  <a:pt x="20" y="23"/>
                  <a:pt x="20" y="26"/>
                </a:cubicBezTo>
                <a:cubicBezTo>
                  <a:pt x="21" y="28"/>
                  <a:pt x="23" y="30"/>
                  <a:pt x="23" y="30"/>
                </a:cubicBezTo>
                <a:cubicBezTo>
                  <a:pt x="23" y="30"/>
                  <a:pt x="27" y="38"/>
                  <a:pt x="26" y="41"/>
                </a:cubicBezTo>
                <a:cubicBezTo>
                  <a:pt x="25" y="44"/>
                  <a:pt x="16" y="48"/>
                  <a:pt x="10" y="53"/>
                </a:cubicBezTo>
                <a:cubicBezTo>
                  <a:pt x="2" y="57"/>
                  <a:pt x="0" y="71"/>
                  <a:pt x="0" y="71"/>
                </a:cubicBezTo>
                <a:cubicBezTo>
                  <a:pt x="42" y="71"/>
                  <a:pt x="42" y="71"/>
                  <a:pt x="42" y="71"/>
                </a:cubicBezTo>
                <a:cubicBezTo>
                  <a:pt x="42" y="69"/>
                  <a:pt x="44" y="58"/>
                  <a:pt x="51" y="54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30"/>
          <p:cNvSpPr/>
          <p:nvPr/>
        </p:nvSpPr>
        <p:spPr>
          <a:xfrm>
            <a:off x="836640" y="3435480"/>
            <a:ext cx="558720" cy="487080"/>
          </a:xfrm>
          <a:custGeom>
            <a:avLst/>
            <a:gdLst/>
            <a:ahLst/>
            <a:rect l="l" t="t" r="r" b="b"/>
            <a:pathLst>
              <a:path w="79" h="69">
                <a:moveTo>
                  <a:pt x="0" y="26"/>
                </a:moveTo>
                <a:cubicBezTo>
                  <a:pt x="0" y="36"/>
                  <a:pt x="8" y="44"/>
                  <a:pt x="20" y="49"/>
                </a:cubicBezTo>
                <a:cubicBezTo>
                  <a:pt x="23" y="50"/>
                  <a:pt x="15" y="69"/>
                  <a:pt x="15" y="69"/>
                </a:cubicBezTo>
                <a:cubicBezTo>
                  <a:pt x="39" y="53"/>
                  <a:pt x="39" y="53"/>
                  <a:pt x="39" y="53"/>
                </a:cubicBezTo>
                <a:cubicBezTo>
                  <a:pt x="39" y="53"/>
                  <a:pt x="43" y="52"/>
                  <a:pt x="45" y="52"/>
                </a:cubicBezTo>
                <a:cubicBezTo>
                  <a:pt x="64" y="51"/>
                  <a:pt x="79" y="40"/>
                  <a:pt x="79" y="26"/>
                </a:cubicBezTo>
                <a:cubicBezTo>
                  <a:pt x="79" y="11"/>
                  <a:pt x="61" y="0"/>
                  <a:pt x="39" y="0"/>
                </a:cubicBezTo>
                <a:cubicBezTo>
                  <a:pt x="18" y="0"/>
                  <a:pt x="0" y="11"/>
                  <a:pt x="0" y="26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31"/>
          <p:cNvSpPr/>
          <p:nvPr/>
        </p:nvSpPr>
        <p:spPr>
          <a:xfrm>
            <a:off x="3243240" y="1649520"/>
            <a:ext cx="204840" cy="204840"/>
          </a:xfrm>
          <a:custGeom>
            <a:avLst/>
            <a:gdLst/>
            <a:ahLst/>
            <a:rect l="l" t="t" r="r" b="b"/>
            <a:pathLst>
              <a:path w="29" h="29">
                <a:moveTo>
                  <a:pt x="15" y="0"/>
                </a:moveTo>
                <a:cubicBezTo>
                  <a:pt x="7" y="0"/>
                  <a:pt x="0" y="6"/>
                  <a:pt x="0" y="14"/>
                </a:cubicBezTo>
                <a:cubicBezTo>
                  <a:pt x="0" y="22"/>
                  <a:pt x="7" y="29"/>
                  <a:pt x="15" y="29"/>
                </a:cubicBezTo>
                <a:cubicBezTo>
                  <a:pt x="22" y="29"/>
                  <a:pt x="29" y="22"/>
                  <a:pt x="29" y="14"/>
                </a:cubicBezTo>
                <a:cubicBezTo>
                  <a:pt x="29" y="6"/>
                  <a:pt x="22" y="0"/>
                  <a:pt x="15" y="0"/>
                </a:cubicBezTo>
                <a:close/>
                <a:moveTo>
                  <a:pt x="23" y="16"/>
                </a:moveTo>
                <a:cubicBezTo>
                  <a:pt x="17" y="16"/>
                  <a:pt x="17" y="16"/>
                  <a:pt x="17" y="16"/>
                </a:cubicBezTo>
                <a:cubicBezTo>
                  <a:pt x="17" y="23"/>
                  <a:pt x="17" y="23"/>
                  <a:pt x="17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3" y="16"/>
                  <a:pt x="13" y="16"/>
                  <a:pt x="13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2"/>
                  <a:pt x="7" y="12"/>
                  <a:pt x="7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5"/>
                  <a:pt x="13" y="5"/>
                  <a:pt x="13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12"/>
                  <a:pt x="17" y="12"/>
                  <a:pt x="17" y="12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6"/>
                  <a:pt x="23" y="16"/>
                  <a:pt x="23" y="16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Freeform 32"/>
          <p:cNvSpPr/>
          <p:nvPr/>
        </p:nvSpPr>
        <p:spPr>
          <a:xfrm>
            <a:off x="3243240" y="1712880"/>
            <a:ext cx="149400" cy="141480"/>
          </a:xfrm>
          <a:custGeom>
            <a:avLst/>
            <a:gdLst/>
            <a:ahLst/>
            <a:rect l="l" t="t" r="r" b="b"/>
            <a:pathLst>
              <a:path w="21" h="20">
                <a:moveTo>
                  <a:pt x="15" y="20"/>
                </a:moveTo>
                <a:cubicBezTo>
                  <a:pt x="17" y="20"/>
                  <a:pt x="19" y="19"/>
                  <a:pt x="21" y="18"/>
                </a:cubicBezTo>
                <a:cubicBezTo>
                  <a:pt x="20" y="15"/>
                  <a:pt x="19" y="11"/>
                  <a:pt x="17" y="9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14"/>
                  <a:pt x="17" y="14"/>
                  <a:pt x="17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7"/>
                  <a:pt x="13" y="7"/>
                  <a:pt x="1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3"/>
                  <a:pt x="7" y="3"/>
                  <a:pt x="7" y="3"/>
                </a:cubicBezTo>
                <a:cubicBezTo>
                  <a:pt x="9" y="3"/>
                  <a:pt x="9" y="3"/>
                  <a:pt x="9" y="3"/>
                </a:cubicBezTo>
                <a:cubicBezTo>
                  <a:pt x="6" y="2"/>
                  <a:pt x="3" y="1"/>
                  <a:pt x="1" y="0"/>
                </a:cubicBezTo>
                <a:cubicBezTo>
                  <a:pt x="0" y="1"/>
                  <a:pt x="0" y="3"/>
                  <a:pt x="0" y="5"/>
                </a:cubicBezTo>
                <a:cubicBezTo>
                  <a:pt x="0" y="13"/>
                  <a:pt x="7" y="20"/>
                  <a:pt x="15" y="2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Freeform 33"/>
          <p:cNvSpPr/>
          <p:nvPr/>
        </p:nvSpPr>
        <p:spPr>
          <a:xfrm>
            <a:off x="2948040" y="1395360"/>
            <a:ext cx="458640" cy="501840"/>
          </a:xfrm>
          <a:custGeom>
            <a:avLst/>
            <a:gdLst/>
            <a:ahLst/>
            <a:rect l="l" t="t" r="r" b="b"/>
            <a:pathLst>
              <a:path w="65" h="71">
                <a:moveTo>
                  <a:pt x="57" y="69"/>
                </a:moveTo>
                <a:cubicBezTo>
                  <a:pt x="46" y="69"/>
                  <a:pt x="38" y="61"/>
                  <a:pt x="38" y="50"/>
                </a:cubicBezTo>
                <a:cubicBezTo>
                  <a:pt x="38" y="47"/>
                  <a:pt x="39" y="43"/>
                  <a:pt x="40" y="41"/>
                </a:cubicBezTo>
                <a:cubicBezTo>
                  <a:pt x="40" y="40"/>
                  <a:pt x="40" y="39"/>
                  <a:pt x="40" y="39"/>
                </a:cubicBezTo>
                <a:cubicBezTo>
                  <a:pt x="40" y="34"/>
                  <a:pt x="42" y="29"/>
                  <a:pt x="42" y="29"/>
                </a:cubicBezTo>
                <a:cubicBezTo>
                  <a:pt x="42" y="29"/>
                  <a:pt x="44" y="28"/>
                  <a:pt x="44" y="26"/>
                </a:cubicBezTo>
                <a:cubicBezTo>
                  <a:pt x="45" y="25"/>
                  <a:pt x="45" y="22"/>
                  <a:pt x="45" y="22"/>
                </a:cubicBezTo>
                <a:cubicBezTo>
                  <a:pt x="45" y="22"/>
                  <a:pt x="44" y="22"/>
                  <a:pt x="44" y="21"/>
                </a:cubicBezTo>
                <a:cubicBezTo>
                  <a:pt x="44" y="19"/>
                  <a:pt x="45" y="17"/>
                  <a:pt x="45" y="14"/>
                </a:cubicBezTo>
                <a:cubicBezTo>
                  <a:pt x="45" y="12"/>
                  <a:pt x="45" y="12"/>
                  <a:pt x="45" y="10"/>
                </a:cubicBezTo>
                <a:cubicBezTo>
                  <a:pt x="45" y="3"/>
                  <a:pt x="39" y="2"/>
                  <a:pt x="36" y="1"/>
                </a:cubicBezTo>
                <a:cubicBezTo>
                  <a:pt x="31" y="1"/>
                  <a:pt x="30" y="1"/>
                  <a:pt x="26" y="2"/>
                </a:cubicBezTo>
                <a:cubicBezTo>
                  <a:pt x="22" y="2"/>
                  <a:pt x="18" y="0"/>
                  <a:pt x="18" y="0"/>
                </a:cubicBezTo>
                <a:cubicBezTo>
                  <a:pt x="18" y="0"/>
                  <a:pt x="17" y="5"/>
                  <a:pt x="18" y="11"/>
                </a:cubicBezTo>
                <a:cubicBezTo>
                  <a:pt x="18" y="16"/>
                  <a:pt x="19" y="21"/>
                  <a:pt x="19" y="21"/>
                </a:cubicBezTo>
                <a:cubicBezTo>
                  <a:pt x="19" y="21"/>
                  <a:pt x="18" y="21"/>
                  <a:pt x="18" y="24"/>
                </a:cubicBezTo>
                <a:cubicBezTo>
                  <a:pt x="18" y="27"/>
                  <a:pt x="20" y="29"/>
                  <a:pt x="20" y="29"/>
                </a:cubicBezTo>
                <a:cubicBezTo>
                  <a:pt x="20" y="29"/>
                  <a:pt x="24" y="38"/>
                  <a:pt x="23" y="41"/>
                </a:cubicBezTo>
                <a:cubicBezTo>
                  <a:pt x="23" y="44"/>
                  <a:pt x="14" y="47"/>
                  <a:pt x="9" y="52"/>
                </a:cubicBezTo>
                <a:cubicBezTo>
                  <a:pt x="1" y="57"/>
                  <a:pt x="0" y="71"/>
                  <a:pt x="0" y="71"/>
                </a:cubicBezTo>
                <a:cubicBezTo>
                  <a:pt x="65" y="71"/>
                  <a:pt x="65" y="71"/>
                  <a:pt x="65" y="71"/>
                </a:cubicBezTo>
                <a:cubicBezTo>
                  <a:pt x="65" y="71"/>
                  <a:pt x="64" y="70"/>
                  <a:pt x="64" y="67"/>
                </a:cubicBezTo>
                <a:cubicBezTo>
                  <a:pt x="62" y="68"/>
                  <a:pt x="59" y="69"/>
                  <a:pt x="57" y="69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Freeform 34"/>
          <p:cNvSpPr/>
          <p:nvPr/>
        </p:nvSpPr>
        <p:spPr>
          <a:xfrm>
            <a:off x="3970440" y="3478320"/>
            <a:ext cx="861840" cy="372960"/>
          </a:xfrm>
          <a:custGeom>
            <a:avLst/>
            <a:gdLst/>
            <a:ahLst/>
            <a:rect l="l" t="t" r="r" b="b"/>
            <a:pathLst>
              <a:path w="122" h="53">
                <a:moveTo>
                  <a:pt x="122" y="27"/>
                </a:moveTo>
                <a:cubicBezTo>
                  <a:pt x="81" y="0"/>
                  <a:pt x="81" y="0"/>
                  <a:pt x="81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2"/>
                  <a:pt x="0" y="4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1"/>
                  <a:pt x="3" y="53"/>
                  <a:pt x="7" y="53"/>
                </a:cubicBezTo>
                <a:cubicBezTo>
                  <a:pt x="83" y="53"/>
                  <a:pt x="83" y="53"/>
                  <a:pt x="83" y="53"/>
                </a:cubicBezTo>
                <a:lnTo>
                  <a:pt x="122" y="27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Freeform 35"/>
          <p:cNvSpPr/>
          <p:nvPr/>
        </p:nvSpPr>
        <p:spPr>
          <a:xfrm>
            <a:off x="1563840" y="3478320"/>
            <a:ext cx="868320" cy="372960"/>
          </a:xfrm>
          <a:custGeom>
            <a:avLst/>
            <a:gdLst/>
            <a:ahLst/>
            <a:rect l="l" t="t" r="r" b="b"/>
            <a:pathLst>
              <a:path w="123" h="53">
                <a:moveTo>
                  <a:pt x="0" y="25"/>
                </a:moveTo>
                <a:cubicBezTo>
                  <a:pt x="41" y="53"/>
                  <a:pt x="41" y="53"/>
                  <a:pt x="41" y="53"/>
                </a:cubicBezTo>
                <a:cubicBezTo>
                  <a:pt x="115" y="53"/>
                  <a:pt x="115" y="53"/>
                  <a:pt x="115" y="53"/>
                </a:cubicBezTo>
                <a:cubicBezTo>
                  <a:pt x="119" y="53"/>
                  <a:pt x="122" y="51"/>
                  <a:pt x="122" y="49"/>
                </a:cubicBezTo>
                <a:cubicBezTo>
                  <a:pt x="123" y="5"/>
                  <a:pt x="123" y="5"/>
                  <a:pt x="123" y="5"/>
                </a:cubicBezTo>
                <a:cubicBezTo>
                  <a:pt x="123" y="2"/>
                  <a:pt x="120" y="0"/>
                  <a:pt x="116" y="0"/>
                </a:cubicBezTo>
                <a:cubicBezTo>
                  <a:pt x="39" y="0"/>
                  <a:pt x="39" y="0"/>
                  <a:pt x="39" y="0"/>
                </a:cubicBezTo>
                <a:lnTo>
                  <a:pt x="0" y="25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Freeform 36"/>
          <p:cNvSpPr/>
          <p:nvPr/>
        </p:nvSpPr>
        <p:spPr>
          <a:xfrm>
            <a:off x="2997360" y="2030400"/>
            <a:ext cx="380880" cy="868320"/>
          </a:xfrm>
          <a:custGeom>
            <a:avLst/>
            <a:gdLst/>
            <a:ahLst/>
            <a:rect l="l" t="t" r="r" b="b"/>
            <a:pathLst>
              <a:path w="54" h="123">
                <a:moveTo>
                  <a:pt x="27" y="0"/>
                </a:moveTo>
                <a:cubicBezTo>
                  <a:pt x="0" y="42"/>
                  <a:pt x="0" y="42"/>
                  <a:pt x="0" y="42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20"/>
                  <a:pt x="2" y="123"/>
                  <a:pt x="5" y="123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2" y="123"/>
                  <a:pt x="54" y="119"/>
                  <a:pt x="54" y="116"/>
                </a:cubicBezTo>
                <a:cubicBezTo>
                  <a:pt x="53" y="39"/>
                  <a:pt x="53" y="39"/>
                  <a:pt x="53" y="39"/>
                </a:cubicBezTo>
                <a:lnTo>
                  <a:pt x="27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Freeform 37"/>
          <p:cNvSpPr/>
          <p:nvPr/>
        </p:nvSpPr>
        <p:spPr>
          <a:xfrm>
            <a:off x="3011400" y="4430880"/>
            <a:ext cx="373320" cy="868320"/>
          </a:xfrm>
          <a:custGeom>
            <a:avLst/>
            <a:gdLst/>
            <a:ahLst/>
            <a:rect l="l" t="t" r="r" b="b"/>
            <a:pathLst>
              <a:path w="53" h="123">
                <a:moveTo>
                  <a:pt x="26" y="123"/>
                </a:moveTo>
                <a:cubicBezTo>
                  <a:pt x="53" y="81"/>
                  <a:pt x="53" y="81"/>
                  <a:pt x="53" y="81"/>
                </a:cubicBezTo>
                <a:cubicBezTo>
                  <a:pt x="53" y="7"/>
                  <a:pt x="53" y="7"/>
                  <a:pt x="53" y="7"/>
                </a:cubicBezTo>
                <a:cubicBezTo>
                  <a:pt x="53" y="4"/>
                  <a:pt x="51" y="1"/>
                  <a:pt x="49" y="1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3"/>
                  <a:pt x="0" y="7"/>
                </a:cubicBezTo>
                <a:cubicBezTo>
                  <a:pt x="0" y="84"/>
                  <a:pt x="0" y="84"/>
                  <a:pt x="0" y="84"/>
                </a:cubicBezTo>
                <a:lnTo>
                  <a:pt x="26" y="123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38"/>
          <p:cNvSpPr/>
          <p:nvPr/>
        </p:nvSpPr>
        <p:spPr>
          <a:xfrm>
            <a:off x="3632040" y="2475000"/>
            <a:ext cx="719280" cy="749160"/>
          </a:xfrm>
          <a:custGeom>
            <a:avLst/>
            <a:gdLst/>
            <a:ahLst/>
            <a:rect l="l" t="t" r="r" b="b"/>
            <a:pathLst>
              <a:path w="102" h="106">
                <a:moveTo>
                  <a:pt x="102" y="0"/>
                </a:moveTo>
                <a:cubicBezTo>
                  <a:pt x="53" y="12"/>
                  <a:pt x="53" y="12"/>
                  <a:pt x="53" y="12"/>
                </a:cubicBezTo>
                <a:cubicBezTo>
                  <a:pt x="3" y="66"/>
                  <a:pt x="3" y="66"/>
                  <a:pt x="3" y="66"/>
                </a:cubicBezTo>
                <a:cubicBezTo>
                  <a:pt x="0" y="69"/>
                  <a:pt x="0" y="72"/>
                  <a:pt x="1" y="74"/>
                </a:cubicBezTo>
                <a:cubicBezTo>
                  <a:pt x="34" y="104"/>
                  <a:pt x="34" y="104"/>
                  <a:pt x="34" y="104"/>
                </a:cubicBezTo>
                <a:cubicBezTo>
                  <a:pt x="36" y="106"/>
                  <a:pt x="39" y="105"/>
                  <a:pt x="42" y="102"/>
                </a:cubicBezTo>
                <a:cubicBezTo>
                  <a:pt x="94" y="46"/>
                  <a:pt x="94" y="46"/>
                  <a:pt x="94" y="46"/>
                </a:cubicBezTo>
                <a:lnTo>
                  <a:pt x="102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39"/>
          <p:cNvSpPr/>
          <p:nvPr/>
        </p:nvSpPr>
        <p:spPr>
          <a:xfrm>
            <a:off x="2108160" y="4105440"/>
            <a:ext cx="725400" cy="749160"/>
          </a:xfrm>
          <a:custGeom>
            <a:avLst/>
            <a:gdLst/>
            <a:ahLst/>
            <a:rect l="l" t="t" r="r" b="b"/>
            <a:pathLst>
              <a:path w="103" h="106">
                <a:moveTo>
                  <a:pt x="0" y="106"/>
                </a:moveTo>
                <a:cubicBezTo>
                  <a:pt x="49" y="95"/>
                  <a:pt x="49" y="95"/>
                  <a:pt x="49" y="95"/>
                </a:cubicBezTo>
                <a:cubicBezTo>
                  <a:pt x="100" y="41"/>
                  <a:pt x="100" y="41"/>
                  <a:pt x="100" y="41"/>
                </a:cubicBezTo>
                <a:cubicBezTo>
                  <a:pt x="102" y="38"/>
                  <a:pt x="103" y="34"/>
                  <a:pt x="101" y="33"/>
                </a:cubicBezTo>
                <a:cubicBezTo>
                  <a:pt x="69" y="2"/>
                  <a:pt x="69" y="2"/>
                  <a:pt x="69" y="2"/>
                </a:cubicBezTo>
                <a:cubicBezTo>
                  <a:pt x="67" y="0"/>
                  <a:pt x="63" y="1"/>
                  <a:pt x="61" y="4"/>
                </a:cubicBezTo>
                <a:cubicBezTo>
                  <a:pt x="8" y="60"/>
                  <a:pt x="8" y="60"/>
                  <a:pt x="8" y="60"/>
                </a:cubicBezTo>
                <a:lnTo>
                  <a:pt x="0" y="106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40"/>
          <p:cNvSpPr/>
          <p:nvPr/>
        </p:nvSpPr>
        <p:spPr>
          <a:xfrm>
            <a:off x="3618000" y="4091040"/>
            <a:ext cx="726840" cy="741240"/>
          </a:xfrm>
          <a:custGeom>
            <a:avLst/>
            <a:gdLst/>
            <a:ahLst/>
            <a:rect l="l" t="t" r="r" b="b"/>
            <a:pathLst>
              <a:path w="103" h="105">
                <a:moveTo>
                  <a:pt x="103" y="105"/>
                </a:moveTo>
                <a:cubicBezTo>
                  <a:pt x="93" y="56"/>
                  <a:pt x="93" y="56"/>
                  <a:pt x="93" y="56"/>
                </a:cubicBezTo>
                <a:cubicBezTo>
                  <a:pt x="41" y="3"/>
                  <a:pt x="41" y="3"/>
                  <a:pt x="41" y="3"/>
                </a:cubicBezTo>
                <a:cubicBezTo>
                  <a:pt x="38" y="0"/>
                  <a:pt x="35" y="0"/>
                  <a:pt x="33" y="1"/>
                </a:cubicBezTo>
                <a:cubicBezTo>
                  <a:pt x="2" y="33"/>
                  <a:pt x="2" y="33"/>
                  <a:pt x="2" y="33"/>
                </a:cubicBezTo>
                <a:cubicBezTo>
                  <a:pt x="0" y="34"/>
                  <a:pt x="1" y="38"/>
                  <a:pt x="3" y="41"/>
                </a:cubicBezTo>
                <a:cubicBezTo>
                  <a:pt x="57" y="95"/>
                  <a:pt x="57" y="95"/>
                  <a:pt x="57" y="95"/>
                </a:cubicBezTo>
                <a:lnTo>
                  <a:pt x="103" y="105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41"/>
          <p:cNvSpPr/>
          <p:nvPr/>
        </p:nvSpPr>
        <p:spPr>
          <a:xfrm>
            <a:off x="2050920" y="2496960"/>
            <a:ext cx="727200" cy="739800"/>
          </a:xfrm>
          <a:custGeom>
            <a:avLst/>
            <a:gdLst/>
            <a:ahLst/>
            <a:rect l="l" t="t" r="r" b="b"/>
            <a:pathLst>
              <a:path w="103" h="105">
                <a:moveTo>
                  <a:pt x="0" y="0"/>
                </a:moveTo>
                <a:cubicBezTo>
                  <a:pt x="10" y="49"/>
                  <a:pt x="10" y="49"/>
                  <a:pt x="10" y="49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64" y="105"/>
                  <a:pt x="68" y="105"/>
                  <a:pt x="70" y="104"/>
                </a:cubicBezTo>
                <a:cubicBezTo>
                  <a:pt x="101" y="73"/>
                  <a:pt x="101" y="73"/>
                  <a:pt x="101" y="73"/>
                </a:cubicBezTo>
                <a:cubicBezTo>
                  <a:pt x="103" y="71"/>
                  <a:pt x="103" y="68"/>
                  <a:pt x="100" y="65"/>
                </a:cubicBezTo>
                <a:cubicBezTo>
                  <a:pt x="46" y="10"/>
                  <a:pt x="46" y="10"/>
                  <a:pt x="46" y="10"/>
                </a:cubicBezTo>
                <a:lnTo>
                  <a:pt x="0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57"/>
          <p:cNvSpPr/>
          <p:nvPr/>
        </p:nvSpPr>
        <p:spPr>
          <a:xfrm>
            <a:off x="5872320" y="1984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57"/>
          <p:cNvSpPr/>
          <p:nvPr/>
        </p:nvSpPr>
        <p:spPr>
          <a:xfrm>
            <a:off x="8920080" y="1984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57"/>
          <p:cNvSpPr/>
          <p:nvPr/>
        </p:nvSpPr>
        <p:spPr>
          <a:xfrm>
            <a:off x="5872320" y="31590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TextBox 57"/>
          <p:cNvSpPr/>
          <p:nvPr/>
        </p:nvSpPr>
        <p:spPr>
          <a:xfrm>
            <a:off x="8920080" y="31590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57"/>
          <p:cNvSpPr/>
          <p:nvPr/>
        </p:nvSpPr>
        <p:spPr>
          <a:xfrm>
            <a:off x="5872320" y="43340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57"/>
          <p:cNvSpPr/>
          <p:nvPr/>
        </p:nvSpPr>
        <p:spPr>
          <a:xfrm>
            <a:off x="8920080" y="43340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文本框 65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矩形 65"/>
          <p:cNvSpPr/>
          <p:nvPr/>
        </p:nvSpPr>
        <p:spPr>
          <a:xfrm>
            <a:off x="1096920" y="1281240"/>
            <a:ext cx="3240000" cy="501480"/>
          </a:xfrm>
          <a:prstGeom prst="rect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矩形 66"/>
          <p:cNvSpPr/>
          <p:nvPr/>
        </p:nvSpPr>
        <p:spPr>
          <a:xfrm>
            <a:off x="1096920" y="1782720"/>
            <a:ext cx="3240000" cy="1658880"/>
          </a:xfrm>
          <a:prstGeom prst="rect">
            <a:avLst/>
          </a:prstGeom>
          <a:solidFill>
            <a:srgbClr val="ef5664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矩形 67"/>
          <p:cNvSpPr/>
          <p:nvPr/>
        </p:nvSpPr>
        <p:spPr>
          <a:xfrm>
            <a:off x="4448160" y="1281240"/>
            <a:ext cx="3240000" cy="501480"/>
          </a:xfrm>
          <a:prstGeom prst="rect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矩形 68"/>
          <p:cNvSpPr/>
          <p:nvPr/>
        </p:nvSpPr>
        <p:spPr>
          <a:xfrm>
            <a:off x="4448160" y="1782720"/>
            <a:ext cx="3240000" cy="1658880"/>
          </a:xfrm>
          <a:prstGeom prst="rect">
            <a:avLst/>
          </a:prstGeom>
          <a:solidFill>
            <a:srgbClr val="ef5664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矩形 69"/>
          <p:cNvSpPr/>
          <p:nvPr/>
        </p:nvSpPr>
        <p:spPr>
          <a:xfrm>
            <a:off x="7800840" y="1281240"/>
            <a:ext cx="3240360" cy="501480"/>
          </a:xfrm>
          <a:prstGeom prst="rect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矩形 70"/>
          <p:cNvSpPr/>
          <p:nvPr/>
        </p:nvSpPr>
        <p:spPr>
          <a:xfrm>
            <a:off x="7800840" y="1782720"/>
            <a:ext cx="3240360" cy="1658880"/>
          </a:xfrm>
          <a:prstGeom prst="rect">
            <a:avLst/>
          </a:prstGeom>
          <a:solidFill>
            <a:srgbClr val="ef5664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矩形 71"/>
          <p:cNvSpPr/>
          <p:nvPr/>
        </p:nvSpPr>
        <p:spPr>
          <a:xfrm>
            <a:off x="1096920" y="3666960"/>
            <a:ext cx="3240000" cy="501840"/>
          </a:xfrm>
          <a:prstGeom prst="rect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矩形 72"/>
          <p:cNvSpPr/>
          <p:nvPr/>
        </p:nvSpPr>
        <p:spPr>
          <a:xfrm>
            <a:off x="1096920" y="4168800"/>
            <a:ext cx="3240000" cy="1658880"/>
          </a:xfrm>
          <a:prstGeom prst="rect">
            <a:avLst/>
          </a:prstGeom>
          <a:solidFill>
            <a:srgbClr val="ef5664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矩形 73"/>
          <p:cNvSpPr/>
          <p:nvPr/>
        </p:nvSpPr>
        <p:spPr>
          <a:xfrm>
            <a:off x="4448160" y="3666960"/>
            <a:ext cx="3240000" cy="501840"/>
          </a:xfrm>
          <a:prstGeom prst="rect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矩形 74"/>
          <p:cNvSpPr/>
          <p:nvPr/>
        </p:nvSpPr>
        <p:spPr>
          <a:xfrm>
            <a:off x="4448160" y="4168800"/>
            <a:ext cx="3240000" cy="1658880"/>
          </a:xfrm>
          <a:prstGeom prst="rect">
            <a:avLst/>
          </a:prstGeom>
          <a:solidFill>
            <a:srgbClr val="ef5664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矩形 75"/>
          <p:cNvSpPr/>
          <p:nvPr/>
        </p:nvSpPr>
        <p:spPr>
          <a:xfrm>
            <a:off x="7800840" y="3666960"/>
            <a:ext cx="3240360" cy="501840"/>
          </a:xfrm>
          <a:prstGeom prst="rect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矩形 76"/>
          <p:cNvSpPr/>
          <p:nvPr/>
        </p:nvSpPr>
        <p:spPr>
          <a:xfrm>
            <a:off x="7800840" y="4168800"/>
            <a:ext cx="3240360" cy="1658880"/>
          </a:xfrm>
          <a:prstGeom prst="rect">
            <a:avLst/>
          </a:prstGeom>
          <a:solidFill>
            <a:srgbClr val="ef5664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文本框 13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图片 19" descr=""/>
          <p:cNvPicPr/>
          <p:nvPr/>
        </p:nvPicPr>
        <p:blipFill>
          <a:blip r:embed="rId1"/>
          <a:stretch/>
        </p:blipFill>
        <p:spPr>
          <a:xfrm>
            <a:off x="10077480" y="2462040"/>
            <a:ext cx="1187280" cy="1195560"/>
          </a:xfrm>
          <a:prstGeom prst="rect">
            <a:avLst/>
          </a:prstGeom>
          <a:ln w="0">
            <a:noFill/>
          </a:ln>
        </p:spPr>
      </p:pic>
      <p:pic>
        <p:nvPicPr>
          <p:cNvPr id="990" name="图片 20" descr=""/>
          <p:cNvPicPr/>
          <p:nvPr/>
        </p:nvPicPr>
        <p:blipFill>
          <a:blip r:embed="rId2"/>
          <a:stretch/>
        </p:blipFill>
        <p:spPr>
          <a:xfrm>
            <a:off x="8594640" y="4108320"/>
            <a:ext cx="1762200" cy="1768680"/>
          </a:xfrm>
          <a:prstGeom prst="rect">
            <a:avLst/>
          </a:prstGeom>
          <a:ln w="0">
            <a:noFill/>
          </a:ln>
        </p:spPr>
      </p:pic>
      <p:pic>
        <p:nvPicPr>
          <p:cNvPr id="991" name="图片 21" descr=""/>
          <p:cNvPicPr/>
          <p:nvPr/>
        </p:nvPicPr>
        <p:blipFill>
          <a:blip r:embed="rId3"/>
          <a:stretch/>
        </p:blipFill>
        <p:spPr>
          <a:xfrm>
            <a:off x="6864480" y="1231920"/>
            <a:ext cx="2608200" cy="2608200"/>
          </a:xfrm>
          <a:prstGeom prst="rect">
            <a:avLst/>
          </a:prstGeom>
          <a:ln w="0">
            <a:noFill/>
          </a:ln>
        </p:spPr>
      </p:pic>
      <p:sp>
        <p:nvSpPr>
          <p:cNvPr id="992" name="椭圆 22"/>
          <p:cNvSpPr/>
          <p:nvPr/>
        </p:nvSpPr>
        <p:spPr>
          <a:xfrm>
            <a:off x="9439200" y="3284640"/>
            <a:ext cx="755640" cy="753840"/>
          </a:xfrm>
          <a:prstGeom prst="ellipse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椭圆 23"/>
          <p:cNvSpPr/>
          <p:nvPr/>
        </p:nvSpPr>
        <p:spPr>
          <a:xfrm>
            <a:off x="10861560" y="3730680"/>
            <a:ext cx="378000" cy="37764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椭圆 24"/>
          <p:cNvSpPr/>
          <p:nvPr/>
        </p:nvSpPr>
        <p:spPr>
          <a:xfrm>
            <a:off x="8040600" y="4119480"/>
            <a:ext cx="552600" cy="55080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椭圆 25"/>
          <p:cNvSpPr/>
          <p:nvPr/>
        </p:nvSpPr>
        <p:spPr>
          <a:xfrm>
            <a:off x="9626760" y="1760400"/>
            <a:ext cx="804600" cy="80496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TextBox 57"/>
          <p:cNvSpPr/>
          <p:nvPr/>
        </p:nvSpPr>
        <p:spPr>
          <a:xfrm>
            <a:off x="711360" y="2044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TextBox 57"/>
          <p:cNvSpPr/>
          <p:nvPr/>
        </p:nvSpPr>
        <p:spPr>
          <a:xfrm>
            <a:off x="3759120" y="2044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57"/>
          <p:cNvSpPr/>
          <p:nvPr/>
        </p:nvSpPr>
        <p:spPr>
          <a:xfrm>
            <a:off x="711360" y="3219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57"/>
          <p:cNvSpPr/>
          <p:nvPr/>
        </p:nvSpPr>
        <p:spPr>
          <a:xfrm>
            <a:off x="3759120" y="3219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57"/>
          <p:cNvSpPr/>
          <p:nvPr/>
        </p:nvSpPr>
        <p:spPr>
          <a:xfrm>
            <a:off x="711360" y="4394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57"/>
          <p:cNvSpPr/>
          <p:nvPr/>
        </p:nvSpPr>
        <p:spPr>
          <a:xfrm>
            <a:off x="3759120" y="4394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文本框 14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组合 65" descr=""/>
          <p:cNvPicPr/>
          <p:nvPr/>
        </p:nvPicPr>
        <p:blipFill>
          <a:blip r:embed="rId1"/>
          <a:stretch/>
        </p:blipFill>
        <p:spPr>
          <a:xfrm>
            <a:off x="993600" y="1987560"/>
            <a:ext cx="6901200" cy="3078000"/>
          </a:xfrm>
          <a:prstGeom prst="rect">
            <a:avLst/>
          </a:prstGeom>
          <a:ln w="0">
            <a:noFill/>
          </a:ln>
        </p:spPr>
      </p:pic>
      <p:pic>
        <p:nvPicPr>
          <p:cNvPr id="1004" name="组合 85" descr=""/>
          <p:cNvPicPr/>
          <p:nvPr/>
        </p:nvPicPr>
        <p:blipFill>
          <a:blip r:embed="rId2"/>
          <a:stretch/>
        </p:blipFill>
        <p:spPr>
          <a:xfrm>
            <a:off x="4578480" y="3730680"/>
            <a:ext cx="3322440" cy="1341360"/>
          </a:xfrm>
          <a:prstGeom prst="rect">
            <a:avLst/>
          </a:prstGeom>
          <a:ln w="0">
            <a:noFill/>
          </a:ln>
        </p:spPr>
      </p:pic>
      <p:sp>
        <p:nvSpPr>
          <p:cNvPr id="1005" name="TextBox 57"/>
          <p:cNvSpPr/>
          <p:nvPr/>
        </p:nvSpPr>
        <p:spPr>
          <a:xfrm>
            <a:off x="8562960" y="19890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57"/>
          <p:cNvSpPr/>
          <p:nvPr/>
        </p:nvSpPr>
        <p:spPr>
          <a:xfrm>
            <a:off x="8562960" y="3111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TextBox 57"/>
          <p:cNvSpPr/>
          <p:nvPr/>
        </p:nvSpPr>
        <p:spPr>
          <a:xfrm>
            <a:off x="8562960" y="42354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文本框 26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矩形 32"/>
          <p:cNvSpPr/>
          <p:nvPr/>
        </p:nvSpPr>
        <p:spPr>
          <a:xfrm>
            <a:off x="1274760" y="3724200"/>
            <a:ext cx="1474920" cy="669960"/>
          </a:xfrm>
          <a:prstGeom prst="rect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矩形 33"/>
          <p:cNvSpPr/>
          <p:nvPr/>
        </p:nvSpPr>
        <p:spPr>
          <a:xfrm>
            <a:off x="4000680" y="3724200"/>
            <a:ext cx="1476360" cy="669960"/>
          </a:xfrm>
          <a:prstGeom prst="rect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 34"/>
          <p:cNvSpPr/>
          <p:nvPr/>
        </p:nvSpPr>
        <p:spPr>
          <a:xfrm>
            <a:off x="6726240" y="3724200"/>
            <a:ext cx="1476360" cy="669960"/>
          </a:xfrm>
          <a:prstGeom prst="rect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矩形 35"/>
          <p:cNvSpPr/>
          <p:nvPr/>
        </p:nvSpPr>
        <p:spPr>
          <a:xfrm>
            <a:off x="9453600" y="3724200"/>
            <a:ext cx="1474920" cy="669960"/>
          </a:xfrm>
          <a:prstGeom prst="rect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36"/>
          <p:cNvSpPr/>
          <p:nvPr/>
        </p:nvSpPr>
        <p:spPr>
          <a:xfrm>
            <a:off x="1719720" y="3848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8" name="直接箭头连接符 40"/>
          <p:cNvCxnSpPr>
            <a:stCxn id="529" idx="2"/>
            <a:endCxn id="523" idx="0"/>
          </p:cNvCxnSpPr>
          <p:nvPr/>
        </p:nvCxnSpPr>
        <p:spPr>
          <a:xfrm flipH="1">
            <a:off x="2012760" y="2053800"/>
            <a:ext cx="3302640" cy="167076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530" name="直接箭头连接符 41"/>
          <p:cNvCxnSpPr>
            <a:endCxn id="524" idx="0"/>
          </p:cNvCxnSpPr>
          <p:nvPr/>
        </p:nvCxnSpPr>
        <p:spPr>
          <a:xfrm flipH="1">
            <a:off x="4738320" y="2625480"/>
            <a:ext cx="923040" cy="109908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531" name="直接箭头连接符 42"/>
          <p:cNvCxnSpPr/>
          <p:nvPr/>
        </p:nvCxnSpPr>
        <p:spPr>
          <a:xfrm>
            <a:off x="6626160" y="2053800"/>
            <a:ext cx="3302640" cy="167076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532" name="直接箭头连接符 43"/>
          <p:cNvCxnSpPr/>
          <p:nvPr/>
        </p:nvCxnSpPr>
        <p:spPr>
          <a:xfrm>
            <a:off x="6280200" y="2595240"/>
            <a:ext cx="923040" cy="109908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529" name="椭圆 51"/>
          <p:cNvSpPr/>
          <p:nvPr/>
        </p:nvSpPr>
        <p:spPr>
          <a:xfrm>
            <a:off x="5315040" y="1398600"/>
            <a:ext cx="1312920" cy="1312920"/>
          </a:xfrm>
          <a:prstGeom prst="ellipse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24"/>
          <p:cNvSpPr/>
          <p:nvPr/>
        </p:nvSpPr>
        <p:spPr>
          <a:xfrm>
            <a:off x="5748480" y="1687680"/>
            <a:ext cx="444240" cy="734760"/>
          </a:xfrm>
          <a:custGeom>
            <a:avLst/>
            <a:gdLst/>
            <a:ahLst/>
            <a:rect l="l" t="t" r="r" b="b"/>
            <a:pathLst>
              <a:path w="62" h="102">
                <a:moveTo>
                  <a:pt x="58" y="58"/>
                </a:moveTo>
                <a:cubicBezTo>
                  <a:pt x="56" y="55"/>
                  <a:pt x="53" y="52"/>
                  <a:pt x="48" y="50"/>
                </a:cubicBezTo>
                <a:cubicBezTo>
                  <a:pt x="45" y="48"/>
                  <a:pt x="40" y="47"/>
                  <a:pt x="31" y="45"/>
                </a:cubicBezTo>
                <a:cubicBezTo>
                  <a:pt x="23" y="43"/>
                  <a:pt x="18" y="41"/>
                  <a:pt x="16" y="39"/>
                </a:cubicBezTo>
                <a:cubicBezTo>
                  <a:pt x="14" y="38"/>
                  <a:pt x="13" y="35"/>
                  <a:pt x="13" y="32"/>
                </a:cubicBezTo>
                <a:cubicBezTo>
                  <a:pt x="13" y="29"/>
                  <a:pt x="14" y="26"/>
                  <a:pt x="17" y="24"/>
                </a:cubicBezTo>
                <a:cubicBezTo>
                  <a:pt x="20" y="22"/>
                  <a:pt x="24" y="21"/>
                  <a:pt x="31" y="21"/>
                </a:cubicBezTo>
                <a:cubicBezTo>
                  <a:pt x="36" y="21"/>
                  <a:pt x="41" y="22"/>
                  <a:pt x="44" y="25"/>
                </a:cubicBezTo>
                <a:cubicBezTo>
                  <a:pt x="47" y="27"/>
                  <a:pt x="49" y="31"/>
                  <a:pt x="49" y="36"/>
                </a:cubicBezTo>
                <a:cubicBezTo>
                  <a:pt x="59" y="35"/>
                  <a:pt x="59" y="35"/>
                  <a:pt x="59" y="35"/>
                </a:cubicBezTo>
                <a:cubicBezTo>
                  <a:pt x="59" y="30"/>
                  <a:pt x="58" y="26"/>
                  <a:pt x="55" y="23"/>
                </a:cubicBezTo>
                <a:cubicBezTo>
                  <a:pt x="53" y="19"/>
                  <a:pt x="50" y="16"/>
                  <a:pt x="45" y="15"/>
                </a:cubicBezTo>
                <a:cubicBezTo>
                  <a:pt x="43" y="14"/>
                  <a:pt x="41" y="13"/>
                  <a:pt x="39" y="13"/>
                </a:cubicBezTo>
                <a:cubicBezTo>
                  <a:pt x="39" y="0"/>
                  <a:pt x="39" y="0"/>
                  <a:pt x="39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2"/>
                  <a:pt x="22" y="12"/>
                  <a:pt x="22" y="12"/>
                </a:cubicBezTo>
                <a:cubicBezTo>
                  <a:pt x="20" y="13"/>
                  <a:pt x="18" y="14"/>
                  <a:pt x="16" y="14"/>
                </a:cubicBezTo>
                <a:cubicBezTo>
                  <a:pt x="12" y="16"/>
                  <a:pt x="8" y="19"/>
                  <a:pt x="6" y="22"/>
                </a:cubicBezTo>
                <a:cubicBezTo>
                  <a:pt x="4" y="26"/>
                  <a:pt x="3" y="29"/>
                  <a:pt x="3" y="33"/>
                </a:cubicBezTo>
                <a:cubicBezTo>
                  <a:pt x="3" y="37"/>
                  <a:pt x="4" y="40"/>
                  <a:pt x="6" y="43"/>
                </a:cubicBezTo>
                <a:cubicBezTo>
                  <a:pt x="7" y="46"/>
                  <a:pt x="10" y="48"/>
                  <a:pt x="14" y="50"/>
                </a:cubicBezTo>
                <a:cubicBezTo>
                  <a:pt x="17" y="52"/>
                  <a:pt x="22" y="53"/>
                  <a:pt x="29" y="55"/>
                </a:cubicBezTo>
                <a:cubicBezTo>
                  <a:pt x="36" y="57"/>
                  <a:pt x="41" y="58"/>
                  <a:pt x="43" y="59"/>
                </a:cubicBezTo>
                <a:cubicBezTo>
                  <a:pt x="46" y="60"/>
                  <a:pt x="48" y="61"/>
                  <a:pt x="50" y="63"/>
                </a:cubicBezTo>
                <a:cubicBezTo>
                  <a:pt x="51" y="65"/>
                  <a:pt x="52" y="67"/>
                  <a:pt x="52" y="70"/>
                </a:cubicBezTo>
                <a:cubicBezTo>
                  <a:pt x="52" y="72"/>
                  <a:pt x="51" y="74"/>
                  <a:pt x="49" y="76"/>
                </a:cubicBezTo>
                <a:cubicBezTo>
                  <a:pt x="48" y="78"/>
                  <a:pt x="46" y="80"/>
                  <a:pt x="43" y="81"/>
                </a:cubicBezTo>
                <a:cubicBezTo>
                  <a:pt x="40" y="82"/>
                  <a:pt x="36" y="83"/>
                  <a:pt x="32" y="83"/>
                </a:cubicBezTo>
                <a:cubicBezTo>
                  <a:pt x="28" y="83"/>
                  <a:pt x="24" y="82"/>
                  <a:pt x="21" y="80"/>
                </a:cubicBezTo>
                <a:cubicBezTo>
                  <a:pt x="17" y="79"/>
                  <a:pt x="14" y="77"/>
                  <a:pt x="13" y="74"/>
                </a:cubicBezTo>
                <a:cubicBezTo>
                  <a:pt x="11" y="72"/>
                  <a:pt x="10" y="69"/>
                  <a:pt x="10" y="65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71"/>
                  <a:pt x="1" y="76"/>
                  <a:pt x="4" y="80"/>
                </a:cubicBezTo>
                <a:cubicBezTo>
                  <a:pt x="7" y="84"/>
                  <a:pt x="11" y="87"/>
                  <a:pt x="15" y="89"/>
                </a:cubicBezTo>
                <a:cubicBezTo>
                  <a:pt x="17" y="90"/>
                  <a:pt x="20" y="90"/>
                  <a:pt x="22" y="91"/>
                </a:cubicBezTo>
                <a:cubicBezTo>
                  <a:pt x="22" y="102"/>
                  <a:pt x="22" y="102"/>
                  <a:pt x="22" y="102"/>
                </a:cubicBezTo>
                <a:cubicBezTo>
                  <a:pt x="39" y="102"/>
                  <a:pt x="39" y="102"/>
                  <a:pt x="39" y="102"/>
                </a:cubicBezTo>
                <a:cubicBezTo>
                  <a:pt x="39" y="91"/>
                  <a:pt x="39" y="91"/>
                  <a:pt x="39" y="91"/>
                </a:cubicBezTo>
                <a:cubicBezTo>
                  <a:pt x="42" y="91"/>
                  <a:pt x="45" y="90"/>
                  <a:pt x="48" y="89"/>
                </a:cubicBezTo>
                <a:cubicBezTo>
                  <a:pt x="52" y="87"/>
                  <a:pt x="56" y="84"/>
                  <a:pt x="58" y="80"/>
                </a:cubicBezTo>
                <a:cubicBezTo>
                  <a:pt x="60" y="77"/>
                  <a:pt x="62" y="73"/>
                  <a:pt x="62" y="69"/>
                </a:cubicBezTo>
                <a:cubicBezTo>
                  <a:pt x="62" y="65"/>
                  <a:pt x="60" y="61"/>
                  <a:pt x="5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矩形 53"/>
          <p:cNvSpPr/>
          <p:nvPr/>
        </p:nvSpPr>
        <p:spPr>
          <a:xfrm>
            <a:off x="4465440" y="3848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矩形 54"/>
          <p:cNvSpPr/>
          <p:nvPr/>
        </p:nvSpPr>
        <p:spPr>
          <a:xfrm>
            <a:off x="7191000" y="3848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矩形 55"/>
          <p:cNvSpPr/>
          <p:nvPr/>
        </p:nvSpPr>
        <p:spPr>
          <a:xfrm>
            <a:off x="9916920" y="3848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57"/>
          <p:cNvSpPr/>
          <p:nvPr/>
        </p:nvSpPr>
        <p:spPr>
          <a:xfrm>
            <a:off x="676440" y="4556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57"/>
          <p:cNvSpPr/>
          <p:nvPr/>
        </p:nvSpPr>
        <p:spPr>
          <a:xfrm>
            <a:off x="3402000" y="4556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57"/>
          <p:cNvSpPr/>
          <p:nvPr/>
        </p:nvSpPr>
        <p:spPr>
          <a:xfrm>
            <a:off x="6127920" y="4556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57"/>
          <p:cNvSpPr/>
          <p:nvPr/>
        </p:nvSpPr>
        <p:spPr>
          <a:xfrm>
            <a:off x="8853480" y="4556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19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图片 4" descr=""/>
          <p:cNvPicPr/>
          <p:nvPr/>
        </p:nvPicPr>
        <p:blipFill>
          <a:blip r:embed="rId1"/>
          <a:stretch/>
        </p:blipFill>
        <p:spPr>
          <a:xfrm>
            <a:off x="3600360" y="1238400"/>
            <a:ext cx="4762440" cy="1904760"/>
          </a:xfrm>
          <a:prstGeom prst="rect">
            <a:avLst/>
          </a:prstGeom>
          <a:ln w="0">
            <a:noFill/>
          </a:ln>
        </p:spPr>
      </p:pic>
      <p:grpSp>
        <p:nvGrpSpPr>
          <p:cNvPr id="1010" name="组合 8"/>
          <p:cNvGrpSpPr/>
          <p:nvPr/>
        </p:nvGrpSpPr>
        <p:grpSpPr>
          <a:xfrm>
            <a:off x="2743200" y="3562200"/>
            <a:ext cx="6705720" cy="1219320"/>
            <a:chOff x="2743200" y="3562200"/>
            <a:chExt cx="6705720" cy="1219320"/>
          </a:xfrm>
        </p:grpSpPr>
        <p:sp>
          <p:nvSpPr>
            <p:cNvPr id="1011" name="直接连接符 6"/>
            <p:cNvSpPr/>
            <p:nvPr/>
          </p:nvSpPr>
          <p:spPr>
            <a:xfrm>
              <a:off x="2743200" y="3562200"/>
              <a:ext cx="6705720" cy="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直接连接符 7"/>
            <p:cNvSpPr/>
            <p:nvPr/>
          </p:nvSpPr>
          <p:spPr>
            <a:xfrm>
              <a:off x="2743200" y="4781520"/>
              <a:ext cx="6705720" cy="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3" name="矩形 9"/>
          <p:cNvSpPr/>
          <p:nvPr/>
        </p:nvSpPr>
        <p:spPr>
          <a:xfrm>
            <a:off x="2743200" y="38178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聆听 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组合 28" descr=""/>
          <p:cNvPicPr/>
          <p:nvPr/>
        </p:nvPicPr>
        <p:blipFill>
          <a:blip r:embed="rId1"/>
          <a:stretch/>
        </p:blipFill>
        <p:spPr>
          <a:xfrm>
            <a:off x="1816200" y="4687920"/>
            <a:ext cx="585720" cy="536400"/>
          </a:xfrm>
          <a:prstGeom prst="rect">
            <a:avLst/>
          </a:prstGeom>
          <a:ln w="0">
            <a:noFill/>
          </a:ln>
        </p:spPr>
      </p:pic>
      <p:sp>
        <p:nvSpPr>
          <p:cNvPr id="543" name="Freeform 234"/>
          <p:cNvSpPr/>
          <p:nvPr/>
        </p:nvSpPr>
        <p:spPr>
          <a:xfrm>
            <a:off x="1479600" y="2803680"/>
            <a:ext cx="1314360" cy="1665000"/>
          </a:xfrm>
          <a:custGeom>
            <a:avLst/>
            <a:gdLst/>
            <a:ahLst/>
            <a:rect l="l" t="t" r="r" b="b"/>
            <a:pathLst>
              <a:path w="426" h="540">
                <a:moveTo>
                  <a:pt x="381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1" y="426"/>
                  <a:pt x="381" y="426"/>
                  <a:pt x="381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1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"/>
          <p:cNvSpPr/>
          <p:nvPr/>
        </p:nvSpPr>
        <p:spPr>
          <a:xfrm>
            <a:off x="1492560" y="302724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30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232"/>
          <p:cNvSpPr/>
          <p:nvPr/>
        </p:nvSpPr>
        <p:spPr>
          <a:xfrm>
            <a:off x="4465800" y="4665600"/>
            <a:ext cx="614160" cy="584280"/>
          </a:xfrm>
          <a:custGeom>
            <a:avLst/>
            <a:gdLst/>
            <a:ahLst/>
            <a:rect l="l" t="t" r="r" b="b"/>
            <a:pathLst>
              <a:path w="387" h="368">
                <a:moveTo>
                  <a:pt x="124" y="300"/>
                </a:moveTo>
                <a:lnTo>
                  <a:pt x="262" y="300"/>
                </a:lnTo>
                <a:lnTo>
                  <a:pt x="262" y="257"/>
                </a:lnTo>
                <a:lnTo>
                  <a:pt x="124" y="257"/>
                </a:lnTo>
                <a:lnTo>
                  <a:pt x="124" y="300"/>
                </a:lnTo>
                <a:close/>
                <a:moveTo>
                  <a:pt x="124" y="241"/>
                </a:moveTo>
                <a:lnTo>
                  <a:pt x="262" y="241"/>
                </a:lnTo>
                <a:lnTo>
                  <a:pt x="262" y="199"/>
                </a:lnTo>
                <a:lnTo>
                  <a:pt x="124" y="199"/>
                </a:lnTo>
                <a:lnTo>
                  <a:pt x="124" y="241"/>
                </a:lnTo>
                <a:close/>
                <a:moveTo>
                  <a:pt x="381" y="148"/>
                </a:moveTo>
                <a:lnTo>
                  <a:pt x="373" y="140"/>
                </a:lnTo>
                <a:lnTo>
                  <a:pt x="192" y="0"/>
                </a:lnTo>
                <a:lnTo>
                  <a:pt x="14" y="140"/>
                </a:lnTo>
                <a:lnTo>
                  <a:pt x="6" y="148"/>
                </a:lnTo>
                <a:lnTo>
                  <a:pt x="0" y="152"/>
                </a:lnTo>
                <a:lnTo>
                  <a:pt x="0" y="187"/>
                </a:lnTo>
                <a:lnTo>
                  <a:pt x="31" y="187"/>
                </a:lnTo>
                <a:lnTo>
                  <a:pt x="31" y="368"/>
                </a:lnTo>
                <a:lnTo>
                  <a:pt x="356" y="368"/>
                </a:lnTo>
                <a:lnTo>
                  <a:pt x="356" y="187"/>
                </a:lnTo>
                <a:lnTo>
                  <a:pt x="387" y="187"/>
                </a:lnTo>
                <a:lnTo>
                  <a:pt x="387" y="152"/>
                </a:lnTo>
                <a:lnTo>
                  <a:pt x="381" y="148"/>
                </a:lnTo>
                <a:close/>
                <a:moveTo>
                  <a:pt x="313" y="325"/>
                </a:moveTo>
                <a:lnTo>
                  <a:pt x="72" y="325"/>
                </a:lnTo>
                <a:lnTo>
                  <a:pt x="72" y="148"/>
                </a:lnTo>
                <a:lnTo>
                  <a:pt x="192" y="53"/>
                </a:lnTo>
                <a:lnTo>
                  <a:pt x="313" y="148"/>
                </a:lnTo>
                <a:lnTo>
                  <a:pt x="313" y="325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235"/>
          <p:cNvSpPr/>
          <p:nvPr/>
        </p:nvSpPr>
        <p:spPr>
          <a:xfrm>
            <a:off x="4119480" y="2803680"/>
            <a:ext cx="1314360" cy="1665000"/>
          </a:xfrm>
          <a:custGeom>
            <a:avLst/>
            <a:gdLst/>
            <a:ahLst/>
            <a:rect l="l" t="t" r="r" b="b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0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68"/>
          <p:cNvSpPr/>
          <p:nvPr/>
        </p:nvSpPr>
        <p:spPr>
          <a:xfrm>
            <a:off x="4143600" y="304488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50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233"/>
          <p:cNvSpPr/>
          <p:nvPr/>
        </p:nvSpPr>
        <p:spPr>
          <a:xfrm>
            <a:off x="7223040" y="4638600"/>
            <a:ext cx="414360" cy="638280"/>
          </a:xfrm>
          <a:custGeom>
            <a:avLst/>
            <a:gdLst/>
            <a:ahLst/>
            <a:rect l="l" t="t" r="r" b="b"/>
            <a:pathLst>
              <a:path w="134" h="207">
                <a:moveTo>
                  <a:pt x="120" y="97"/>
                </a:moveTo>
                <a:cubicBezTo>
                  <a:pt x="120" y="94"/>
                  <a:pt x="120" y="89"/>
                  <a:pt x="121" y="81"/>
                </a:cubicBezTo>
                <a:cubicBezTo>
                  <a:pt x="121" y="74"/>
                  <a:pt x="121" y="69"/>
                  <a:pt x="121" y="66"/>
                </a:cubicBezTo>
                <a:cubicBezTo>
                  <a:pt x="121" y="43"/>
                  <a:pt x="115" y="26"/>
                  <a:pt x="104" y="16"/>
                </a:cubicBezTo>
                <a:cubicBezTo>
                  <a:pt x="94" y="5"/>
                  <a:pt x="81" y="0"/>
                  <a:pt x="66" y="0"/>
                </a:cubicBezTo>
                <a:cubicBezTo>
                  <a:pt x="52" y="0"/>
                  <a:pt x="39" y="5"/>
                  <a:pt x="28" y="16"/>
                </a:cubicBezTo>
                <a:cubicBezTo>
                  <a:pt x="18" y="26"/>
                  <a:pt x="13" y="39"/>
                  <a:pt x="13" y="53"/>
                </a:cubicBezTo>
                <a:cubicBezTo>
                  <a:pt x="13" y="97"/>
                  <a:pt x="13" y="97"/>
                  <a:pt x="13" y="97"/>
                </a:cubicBezTo>
                <a:cubicBezTo>
                  <a:pt x="4" y="97"/>
                  <a:pt x="0" y="100"/>
                  <a:pt x="0" y="106"/>
                </a:cubicBezTo>
                <a:cubicBezTo>
                  <a:pt x="0" y="198"/>
                  <a:pt x="0" y="198"/>
                  <a:pt x="0" y="198"/>
                </a:cubicBezTo>
                <a:cubicBezTo>
                  <a:pt x="0" y="200"/>
                  <a:pt x="1" y="203"/>
                  <a:pt x="3" y="204"/>
                </a:cubicBezTo>
                <a:cubicBezTo>
                  <a:pt x="5" y="206"/>
                  <a:pt x="7" y="207"/>
                  <a:pt x="9" y="207"/>
                </a:cubicBezTo>
                <a:cubicBezTo>
                  <a:pt x="125" y="207"/>
                  <a:pt x="125" y="207"/>
                  <a:pt x="125" y="207"/>
                </a:cubicBezTo>
                <a:cubicBezTo>
                  <a:pt x="127" y="207"/>
                  <a:pt x="129" y="206"/>
                  <a:pt x="131" y="204"/>
                </a:cubicBezTo>
                <a:cubicBezTo>
                  <a:pt x="133" y="203"/>
                  <a:pt x="134" y="200"/>
                  <a:pt x="134" y="198"/>
                </a:cubicBezTo>
                <a:cubicBezTo>
                  <a:pt x="134" y="106"/>
                  <a:pt x="134" y="106"/>
                  <a:pt x="134" y="106"/>
                </a:cubicBezTo>
                <a:cubicBezTo>
                  <a:pt x="134" y="100"/>
                  <a:pt x="129" y="97"/>
                  <a:pt x="120" y="97"/>
                </a:cubicBezTo>
                <a:close/>
                <a:moveTo>
                  <a:pt x="33" y="54"/>
                </a:moveTo>
                <a:cubicBezTo>
                  <a:pt x="33" y="44"/>
                  <a:pt x="37" y="37"/>
                  <a:pt x="43" y="30"/>
                </a:cubicBezTo>
                <a:cubicBezTo>
                  <a:pt x="50" y="24"/>
                  <a:pt x="57" y="21"/>
                  <a:pt x="66" y="21"/>
                </a:cubicBezTo>
                <a:cubicBezTo>
                  <a:pt x="75" y="21"/>
                  <a:pt x="83" y="24"/>
                  <a:pt x="90" y="30"/>
                </a:cubicBezTo>
                <a:cubicBezTo>
                  <a:pt x="96" y="37"/>
                  <a:pt x="99" y="44"/>
                  <a:pt x="99" y="54"/>
                </a:cubicBezTo>
                <a:cubicBezTo>
                  <a:pt x="99" y="97"/>
                  <a:pt x="99" y="97"/>
                  <a:pt x="99" y="97"/>
                </a:cubicBezTo>
                <a:cubicBezTo>
                  <a:pt x="33" y="97"/>
                  <a:pt x="33" y="97"/>
                  <a:pt x="33" y="97"/>
                </a:cubicBezTo>
                <a:lnTo>
                  <a:pt x="33" y="54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236"/>
          <p:cNvSpPr/>
          <p:nvPr/>
        </p:nvSpPr>
        <p:spPr>
          <a:xfrm>
            <a:off x="6757920" y="2803680"/>
            <a:ext cx="1314360" cy="1665000"/>
          </a:xfrm>
          <a:custGeom>
            <a:avLst/>
            <a:gdLst/>
            <a:ahLst/>
            <a:rect l="l" t="t" r="r" b="b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0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69"/>
          <p:cNvSpPr/>
          <p:nvPr/>
        </p:nvSpPr>
        <p:spPr>
          <a:xfrm>
            <a:off x="6773400" y="306216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70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197"/>
          <p:cNvSpPr/>
          <p:nvPr/>
        </p:nvSpPr>
        <p:spPr>
          <a:xfrm>
            <a:off x="9788400" y="4672080"/>
            <a:ext cx="595440" cy="59508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96"/>
                </a:moveTo>
                <a:cubicBezTo>
                  <a:pt x="0" y="43"/>
                  <a:pt x="43" y="0"/>
                  <a:pt x="96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150" y="0"/>
                  <a:pt x="193" y="43"/>
                  <a:pt x="193" y="96"/>
                </a:cubicBezTo>
                <a:cubicBezTo>
                  <a:pt x="193" y="96"/>
                  <a:pt x="193" y="96"/>
                  <a:pt x="193" y="96"/>
                </a:cubicBezTo>
                <a:cubicBezTo>
                  <a:pt x="193" y="150"/>
                  <a:pt x="150" y="193"/>
                  <a:pt x="96" y="193"/>
                </a:cubicBezTo>
                <a:cubicBezTo>
                  <a:pt x="96" y="193"/>
                  <a:pt x="96" y="193"/>
                  <a:pt x="96" y="193"/>
                </a:cubicBezTo>
                <a:cubicBezTo>
                  <a:pt x="43" y="193"/>
                  <a:pt x="0" y="150"/>
                  <a:pt x="0" y="96"/>
                </a:cubicBezTo>
                <a:close/>
                <a:moveTo>
                  <a:pt x="11" y="96"/>
                </a:moveTo>
                <a:cubicBezTo>
                  <a:pt x="11" y="143"/>
                  <a:pt x="49" y="182"/>
                  <a:pt x="96" y="182"/>
                </a:cubicBezTo>
                <a:cubicBezTo>
                  <a:pt x="96" y="182"/>
                  <a:pt x="96" y="182"/>
                  <a:pt x="96" y="182"/>
                </a:cubicBezTo>
                <a:cubicBezTo>
                  <a:pt x="144" y="182"/>
                  <a:pt x="182" y="143"/>
                  <a:pt x="182" y="96"/>
                </a:cubicBezTo>
                <a:cubicBezTo>
                  <a:pt x="182" y="96"/>
                  <a:pt x="182" y="96"/>
                  <a:pt x="182" y="96"/>
                </a:cubicBezTo>
                <a:cubicBezTo>
                  <a:pt x="182" y="49"/>
                  <a:pt x="144" y="11"/>
                  <a:pt x="96" y="11"/>
                </a:cubicBezTo>
                <a:cubicBezTo>
                  <a:pt x="96" y="11"/>
                  <a:pt x="96" y="11"/>
                  <a:pt x="96" y="11"/>
                </a:cubicBezTo>
                <a:cubicBezTo>
                  <a:pt x="49" y="11"/>
                  <a:pt x="11" y="49"/>
                  <a:pt x="11" y="96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198"/>
          <p:cNvSpPr/>
          <p:nvPr/>
        </p:nvSpPr>
        <p:spPr>
          <a:xfrm>
            <a:off x="10086840" y="4745160"/>
            <a:ext cx="360" cy="58680"/>
          </a:xfrm>
          <a:custGeom>
            <a:avLst/>
            <a:gdLst/>
            <a:ahLst/>
            <a:rect l="l" t="t" r="r" b="b"/>
            <a:pathLst>
              <a:path w="0" h="37">
                <a:moveTo>
                  <a:pt x="0" y="0"/>
                </a:moveTo>
                <a:lnTo>
                  <a:pt x="0" y="37"/>
                </a:lnTo>
                <a:lnTo>
                  <a:pt x="0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Line 199"/>
          <p:cNvSpPr/>
          <p:nvPr/>
        </p:nvSpPr>
        <p:spPr>
          <a:xfrm>
            <a:off x="10086840" y="4745160"/>
            <a:ext cx="0" cy="58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200"/>
          <p:cNvSpPr/>
          <p:nvPr/>
        </p:nvSpPr>
        <p:spPr>
          <a:xfrm>
            <a:off x="10076040" y="4729320"/>
            <a:ext cx="20520" cy="90360"/>
          </a:xfrm>
          <a:custGeom>
            <a:avLst/>
            <a:gdLst/>
            <a:ahLst/>
            <a:rect l="l" t="t" r="r" b="b"/>
            <a:pathLst>
              <a:path w="7" h="29">
                <a:moveTo>
                  <a:pt x="0" y="5"/>
                </a:moveTo>
                <a:cubicBezTo>
                  <a:pt x="0" y="11"/>
                  <a:pt x="0" y="18"/>
                  <a:pt x="0" y="24"/>
                </a:cubicBezTo>
                <a:cubicBezTo>
                  <a:pt x="0" y="29"/>
                  <a:pt x="7" y="29"/>
                  <a:pt x="7" y="24"/>
                </a:cubicBezTo>
                <a:cubicBezTo>
                  <a:pt x="7" y="18"/>
                  <a:pt x="7" y="11"/>
                  <a:pt x="7" y="5"/>
                </a:cubicBezTo>
                <a:cubicBezTo>
                  <a:pt x="7" y="0"/>
                  <a:pt x="0" y="0"/>
                  <a:pt x="0" y="5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201"/>
          <p:cNvSpPr/>
          <p:nvPr/>
        </p:nvSpPr>
        <p:spPr>
          <a:xfrm>
            <a:off x="10086840" y="5143680"/>
            <a:ext cx="360" cy="58680"/>
          </a:xfrm>
          <a:custGeom>
            <a:avLst/>
            <a:gdLst/>
            <a:ahLst/>
            <a:rect l="l" t="t" r="r" b="b"/>
            <a:pathLst>
              <a:path w="0" h="37">
                <a:moveTo>
                  <a:pt x="0" y="0"/>
                </a:moveTo>
                <a:lnTo>
                  <a:pt x="0" y="37"/>
                </a:lnTo>
                <a:lnTo>
                  <a:pt x="0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Line 202"/>
          <p:cNvSpPr/>
          <p:nvPr/>
        </p:nvSpPr>
        <p:spPr>
          <a:xfrm>
            <a:off x="10086840" y="5143680"/>
            <a:ext cx="0" cy="58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203"/>
          <p:cNvSpPr/>
          <p:nvPr/>
        </p:nvSpPr>
        <p:spPr>
          <a:xfrm>
            <a:off x="10076040" y="5127480"/>
            <a:ext cx="20520" cy="88920"/>
          </a:xfrm>
          <a:custGeom>
            <a:avLst/>
            <a:gdLst/>
            <a:ahLst/>
            <a:rect l="l" t="t" r="r" b="b"/>
            <a:pathLst>
              <a:path w="7" h="29">
                <a:moveTo>
                  <a:pt x="0" y="5"/>
                </a:moveTo>
                <a:cubicBezTo>
                  <a:pt x="0" y="11"/>
                  <a:pt x="0" y="17"/>
                  <a:pt x="0" y="24"/>
                </a:cubicBezTo>
                <a:cubicBezTo>
                  <a:pt x="0" y="29"/>
                  <a:pt x="7" y="29"/>
                  <a:pt x="7" y="24"/>
                </a:cubicBezTo>
                <a:cubicBezTo>
                  <a:pt x="7" y="17"/>
                  <a:pt x="7" y="11"/>
                  <a:pt x="7" y="5"/>
                </a:cubicBezTo>
                <a:cubicBezTo>
                  <a:pt x="7" y="0"/>
                  <a:pt x="0" y="0"/>
                  <a:pt x="0" y="5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204"/>
          <p:cNvSpPr/>
          <p:nvPr/>
        </p:nvSpPr>
        <p:spPr>
          <a:xfrm>
            <a:off x="10253520" y="4967280"/>
            <a:ext cx="59040" cy="360"/>
          </a:xfrm>
          <a:custGeom>
            <a:avLst/>
            <a:gdLst/>
            <a:ahLst/>
            <a:rect l="l" t="t" r="r" b="b"/>
            <a:pathLst>
              <a:path w="37" h="0">
                <a:moveTo>
                  <a:pt x="37" y="0"/>
                </a:moveTo>
                <a:lnTo>
                  <a:pt x="0" y="0"/>
                </a:lnTo>
                <a:lnTo>
                  <a:pt x="37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Line 205"/>
          <p:cNvSpPr/>
          <p:nvPr/>
        </p:nvSpPr>
        <p:spPr>
          <a:xfrm flipH="1">
            <a:off x="10253520" y="4967280"/>
            <a:ext cx="59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207"/>
          <p:cNvSpPr/>
          <p:nvPr/>
        </p:nvSpPr>
        <p:spPr>
          <a:xfrm>
            <a:off x="10244160" y="4943520"/>
            <a:ext cx="88920" cy="25200"/>
          </a:xfrm>
          <a:custGeom>
            <a:avLst/>
            <a:gdLst/>
            <a:ahLst/>
            <a:rect l="l" t="t" r="r" b="b"/>
            <a:pathLst>
              <a:path w="29" h="8">
                <a:moveTo>
                  <a:pt x="24" y="0"/>
                </a:moveTo>
                <a:cubicBezTo>
                  <a:pt x="17" y="0"/>
                  <a:pt x="11" y="0"/>
                  <a:pt x="5" y="0"/>
                </a:cubicBezTo>
                <a:cubicBezTo>
                  <a:pt x="0" y="0"/>
                  <a:pt x="0" y="8"/>
                  <a:pt x="5" y="8"/>
                </a:cubicBezTo>
                <a:cubicBezTo>
                  <a:pt x="11" y="8"/>
                  <a:pt x="17" y="8"/>
                  <a:pt x="24" y="8"/>
                </a:cubicBezTo>
                <a:cubicBezTo>
                  <a:pt x="29" y="8"/>
                  <a:pt x="29" y="0"/>
                  <a:pt x="24" y="0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208"/>
          <p:cNvSpPr/>
          <p:nvPr/>
        </p:nvSpPr>
        <p:spPr>
          <a:xfrm>
            <a:off x="9861480" y="4956120"/>
            <a:ext cx="58680" cy="360"/>
          </a:xfrm>
          <a:custGeom>
            <a:avLst/>
            <a:gdLst/>
            <a:ahLst/>
            <a:rect l="l" t="t" r="r" b="b"/>
            <a:pathLst>
              <a:path w="37" h="0">
                <a:moveTo>
                  <a:pt x="37" y="0"/>
                </a:moveTo>
                <a:lnTo>
                  <a:pt x="0" y="0"/>
                </a:lnTo>
                <a:lnTo>
                  <a:pt x="37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Line 209"/>
          <p:cNvSpPr/>
          <p:nvPr/>
        </p:nvSpPr>
        <p:spPr>
          <a:xfrm flipH="1">
            <a:off x="9861120" y="4956120"/>
            <a:ext cx="58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210"/>
          <p:cNvSpPr/>
          <p:nvPr/>
        </p:nvSpPr>
        <p:spPr>
          <a:xfrm>
            <a:off x="9845640" y="4943520"/>
            <a:ext cx="88920" cy="25200"/>
          </a:xfrm>
          <a:custGeom>
            <a:avLst/>
            <a:gdLst/>
            <a:ahLst/>
            <a:rect l="l" t="t" r="r" b="b"/>
            <a:pathLst>
              <a:path w="29" h="8">
                <a:moveTo>
                  <a:pt x="24" y="0"/>
                </a:moveTo>
                <a:cubicBezTo>
                  <a:pt x="18" y="0"/>
                  <a:pt x="11" y="0"/>
                  <a:pt x="5" y="0"/>
                </a:cubicBezTo>
                <a:cubicBezTo>
                  <a:pt x="0" y="0"/>
                  <a:pt x="0" y="8"/>
                  <a:pt x="5" y="8"/>
                </a:cubicBezTo>
                <a:cubicBezTo>
                  <a:pt x="11" y="8"/>
                  <a:pt x="18" y="8"/>
                  <a:pt x="24" y="8"/>
                </a:cubicBezTo>
                <a:cubicBezTo>
                  <a:pt x="29" y="8"/>
                  <a:pt x="29" y="0"/>
                  <a:pt x="24" y="0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211"/>
          <p:cNvSpPr/>
          <p:nvPr/>
        </p:nvSpPr>
        <p:spPr>
          <a:xfrm>
            <a:off x="9928080" y="4795920"/>
            <a:ext cx="41400" cy="39600"/>
          </a:xfrm>
          <a:custGeom>
            <a:avLst/>
            <a:gdLst/>
            <a:ahLst/>
            <a:rect l="l" t="t" r="r" b="b"/>
            <a:pathLst>
              <a:path w="26" h="25">
                <a:moveTo>
                  <a:pt x="0" y="0"/>
                </a:moveTo>
                <a:lnTo>
                  <a:pt x="26" y="25"/>
                </a:lnTo>
                <a:lnTo>
                  <a:pt x="0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Line 212"/>
          <p:cNvSpPr/>
          <p:nvPr/>
        </p:nvSpPr>
        <p:spPr>
          <a:xfrm>
            <a:off x="9928080" y="4795920"/>
            <a:ext cx="41400" cy="39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213"/>
          <p:cNvSpPr/>
          <p:nvPr/>
        </p:nvSpPr>
        <p:spPr>
          <a:xfrm>
            <a:off x="9917280" y="4782960"/>
            <a:ext cx="60120" cy="61920"/>
          </a:xfrm>
          <a:custGeom>
            <a:avLst/>
            <a:gdLst/>
            <a:ahLst/>
            <a:rect l="l" t="t" r="r" b="b"/>
            <a:pathLst>
              <a:path w="20" h="20">
                <a:moveTo>
                  <a:pt x="2" y="5"/>
                </a:moveTo>
                <a:cubicBezTo>
                  <a:pt x="7" y="9"/>
                  <a:pt x="11" y="14"/>
                  <a:pt x="16" y="18"/>
                </a:cubicBezTo>
                <a:cubicBezTo>
                  <a:pt x="17" y="20"/>
                  <a:pt x="20" y="17"/>
                  <a:pt x="18" y="16"/>
                </a:cubicBezTo>
                <a:cubicBezTo>
                  <a:pt x="14" y="11"/>
                  <a:pt x="9" y="7"/>
                  <a:pt x="5" y="2"/>
                </a:cubicBezTo>
                <a:cubicBezTo>
                  <a:pt x="3" y="0"/>
                  <a:pt x="0" y="3"/>
                  <a:pt x="2" y="5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214"/>
          <p:cNvSpPr/>
          <p:nvPr/>
        </p:nvSpPr>
        <p:spPr>
          <a:xfrm>
            <a:off x="10209240" y="5076720"/>
            <a:ext cx="39600" cy="39960"/>
          </a:xfrm>
          <a:custGeom>
            <a:avLst/>
            <a:gdLst/>
            <a:ahLst/>
            <a:rect l="l" t="t" r="r" b="b"/>
            <a:pathLst>
              <a:path w="25" h="25">
                <a:moveTo>
                  <a:pt x="0" y="0"/>
                </a:moveTo>
                <a:lnTo>
                  <a:pt x="25" y="25"/>
                </a:lnTo>
                <a:lnTo>
                  <a:pt x="0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Line 215"/>
          <p:cNvSpPr/>
          <p:nvPr/>
        </p:nvSpPr>
        <p:spPr>
          <a:xfrm>
            <a:off x="10209240" y="5076720"/>
            <a:ext cx="39600" cy="39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216"/>
          <p:cNvSpPr/>
          <p:nvPr/>
        </p:nvSpPr>
        <p:spPr>
          <a:xfrm>
            <a:off x="10196640" y="5064120"/>
            <a:ext cx="61920" cy="61920"/>
          </a:xfrm>
          <a:custGeom>
            <a:avLst/>
            <a:gdLst/>
            <a:ahLst/>
            <a:rect l="l" t="t" r="r" b="b"/>
            <a:pathLst>
              <a:path w="20" h="20">
                <a:moveTo>
                  <a:pt x="2" y="5"/>
                </a:moveTo>
                <a:cubicBezTo>
                  <a:pt x="7" y="9"/>
                  <a:pt x="11" y="14"/>
                  <a:pt x="16" y="18"/>
                </a:cubicBezTo>
                <a:cubicBezTo>
                  <a:pt x="17" y="20"/>
                  <a:pt x="20" y="17"/>
                  <a:pt x="18" y="16"/>
                </a:cubicBezTo>
                <a:cubicBezTo>
                  <a:pt x="14" y="11"/>
                  <a:pt x="10" y="7"/>
                  <a:pt x="5" y="2"/>
                </a:cubicBezTo>
                <a:cubicBezTo>
                  <a:pt x="3" y="0"/>
                  <a:pt x="0" y="3"/>
                  <a:pt x="2" y="5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217"/>
          <p:cNvSpPr/>
          <p:nvPr/>
        </p:nvSpPr>
        <p:spPr>
          <a:xfrm>
            <a:off x="10209240" y="4795920"/>
            <a:ext cx="39600" cy="396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5" y="0"/>
                </a:moveTo>
                <a:lnTo>
                  <a:pt x="0" y="25"/>
                </a:lnTo>
                <a:lnTo>
                  <a:pt x="25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Line 218"/>
          <p:cNvSpPr/>
          <p:nvPr/>
        </p:nvSpPr>
        <p:spPr>
          <a:xfrm flipH="1">
            <a:off x="10209240" y="4795920"/>
            <a:ext cx="39600" cy="39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219"/>
          <p:cNvSpPr/>
          <p:nvPr/>
        </p:nvSpPr>
        <p:spPr>
          <a:xfrm>
            <a:off x="10196640" y="4782960"/>
            <a:ext cx="61920" cy="61920"/>
          </a:xfrm>
          <a:custGeom>
            <a:avLst/>
            <a:gdLst/>
            <a:ahLst/>
            <a:rect l="l" t="t" r="r" b="b"/>
            <a:pathLst>
              <a:path w="20" h="20">
                <a:moveTo>
                  <a:pt x="16" y="2"/>
                </a:moveTo>
                <a:cubicBezTo>
                  <a:pt x="11" y="7"/>
                  <a:pt x="7" y="11"/>
                  <a:pt x="2" y="16"/>
                </a:cubicBezTo>
                <a:cubicBezTo>
                  <a:pt x="0" y="17"/>
                  <a:pt x="3" y="20"/>
                  <a:pt x="5" y="18"/>
                </a:cubicBezTo>
                <a:cubicBezTo>
                  <a:pt x="10" y="14"/>
                  <a:pt x="14" y="9"/>
                  <a:pt x="18" y="5"/>
                </a:cubicBezTo>
                <a:cubicBezTo>
                  <a:pt x="20" y="3"/>
                  <a:pt x="17" y="0"/>
                  <a:pt x="16" y="2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220"/>
          <p:cNvSpPr/>
          <p:nvPr/>
        </p:nvSpPr>
        <p:spPr>
          <a:xfrm>
            <a:off x="9928080" y="5076720"/>
            <a:ext cx="41400" cy="39960"/>
          </a:xfrm>
          <a:custGeom>
            <a:avLst/>
            <a:gdLst/>
            <a:ahLst/>
            <a:rect l="l" t="t" r="r" b="b"/>
            <a:pathLst>
              <a:path w="26" h="25">
                <a:moveTo>
                  <a:pt x="26" y="0"/>
                </a:moveTo>
                <a:lnTo>
                  <a:pt x="0" y="25"/>
                </a:lnTo>
                <a:lnTo>
                  <a:pt x="26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Line 221"/>
          <p:cNvSpPr/>
          <p:nvPr/>
        </p:nvSpPr>
        <p:spPr>
          <a:xfrm flipH="1">
            <a:off x="9927720" y="5076720"/>
            <a:ext cx="41400" cy="39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222"/>
          <p:cNvSpPr/>
          <p:nvPr/>
        </p:nvSpPr>
        <p:spPr>
          <a:xfrm>
            <a:off x="9917280" y="5064120"/>
            <a:ext cx="60120" cy="61920"/>
          </a:xfrm>
          <a:custGeom>
            <a:avLst/>
            <a:gdLst/>
            <a:ahLst/>
            <a:rect l="l" t="t" r="r" b="b"/>
            <a:pathLst>
              <a:path w="20" h="20">
                <a:moveTo>
                  <a:pt x="16" y="2"/>
                </a:moveTo>
                <a:cubicBezTo>
                  <a:pt x="11" y="7"/>
                  <a:pt x="7" y="11"/>
                  <a:pt x="2" y="16"/>
                </a:cubicBezTo>
                <a:cubicBezTo>
                  <a:pt x="0" y="17"/>
                  <a:pt x="3" y="20"/>
                  <a:pt x="5" y="18"/>
                </a:cubicBezTo>
                <a:cubicBezTo>
                  <a:pt x="9" y="14"/>
                  <a:pt x="14" y="9"/>
                  <a:pt x="18" y="5"/>
                </a:cubicBezTo>
                <a:cubicBezTo>
                  <a:pt x="20" y="3"/>
                  <a:pt x="17" y="0"/>
                  <a:pt x="16" y="2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223"/>
          <p:cNvSpPr/>
          <p:nvPr/>
        </p:nvSpPr>
        <p:spPr>
          <a:xfrm>
            <a:off x="10085400" y="4743360"/>
            <a:ext cx="61920" cy="222480"/>
          </a:xfrm>
          <a:custGeom>
            <a:avLst/>
            <a:gdLst/>
            <a:ahLst/>
            <a:rect l="l" t="t" r="r" b="b"/>
            <a:pathLst>
              <a:path w="39" h="140">
                <a:moveTo>
                  <a:pt x="39" y="0"/>
                </a:moveTo>
                <a:lnTo>
                  <a:pt x="0" y="140"/>
                </a:lnTo>
                <a:lnTo>
                  <a:pt x="39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Line 224"/>
          <p:cNvSpPr/>
          <p:nvPr/>
        </p:nvSpPr>
        <p:spPr>
          <a:xfrm flipH="1">
            <a:off x="10085400" y="4743360"/>
            <a:ext cx="61920" cy="222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225"/>
          <p:cNvSpPr/>
          <p:nvPr/>
        </p:nvSpPr>
        <p:spPr>
          <a:xfrm>
            <a:off x="10071000" y="4724280"/>
            <a:ext cx="95400" cy="260640"/>
          </a:xfrm>
          <a:custGeom>
            <a:avLst/>
            <a:gdLst/>
            <a:ahLst/>
            <a:rect l="l" t="t" r="r" b="b"/>
            <a:pathLst>
              <a:path w="31" h="84">
                <a:moveTo>
                  <a:pt x="22" y="5"/>
                </a:moveTo>
                <a:cubicBezTo>
                  <a:pt x="15" y="29"/>
                  <a:pt x="8" y="53"/>
                  <a:pt x="1" y="77"/>
                </a:cubicBezTo>
                <a:cubicBezTo>
                  <a:pt x="0" y="82"/>
                  <a:pt x="7" y="84"/>
                  <a:pt x="9" y="79"/>
                </a:cubicBezTo>
                <a:cubicBezTo>
                  <a:pt x="16" y="55"/>
                  <a:pt x="22" y="31"/>
                  <a:pt x="29" y="7"/>
                </a:cubicBezTo>
                <a:cubicBezTo>
                  <a:pt x="31" y="2"/>
                  <a:pt x="23" y="0"/>
                  <a:pt x="22" y="5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226"/>
          <p:cNvSpPr/>
          <p:nvPr/>
        </p:nvSpPr>
        <p:spPr>
          <a:xfrm>
            <a:off x="10085400" y="4965840"/>
            <a:ext cx="127080" cy="360"/>
          </a:xfrm>
          <a:custGeom>
            <a:avLst/>
            <a:gdLst/>
            <a:ahLst/>
            <a:rect l="l" t="t" r="r" b="b"/>
            <a:pathLst>
              <a:path w="80" h="0">
                <a:moveTo>
                  <a:pt x="0" y="0"/>
                </a:moveTo>
                <a:lnTo>
                  <a:pt x="80" y="0"/>
                </a:lnTo>
                <a:lnTo>
                  <a:pt x="0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Line 227"/>
          <p:cNvSpPr/>
          <p:nvPr/>
        </p:nvSpPr>
        <p:spPr>
          <a:xfrm>
            <a:off x="10085400" y="4965840"/>
            <a:ext cx="127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reeform 228"/>
          <p:cNvSpPr/>
          <p:nvPr/>
        </p:nvSpPr>
        <p:spPr>
          <a:xfrm>
            <a:off x="10071000" y="4952880"/>
            <a:ext cx="157320" cy="25560"/>
          </a:xfrm>
          <a:custGeom>
            <a:avLst/>
            <a:gdLst/>
            <a:ahLst/>
            <a:rect l="l" t="t" r="r" b="b"/>
            <a:pathLst>
              <a:path w="51" h="8">
                <a:moveTo>
                  <a:pt x="5" y="8"/>
                </a:moveTo>
                <a:cubicBezTo>
                  <a:pt x="19" y="8"/>
                  <a:pt x="32" y="8"/>
                  <a:pt x="46" y="8"/>
                </a:cubicBezTo>
                <a:cubicBezTo>
                  <a:pt x="51" y="8"/>
                  <a:pt x="51" y="0"/>
                  <a:pt x="46" y="0"/>
                </a:cubicBezTo>
                <a:cubicBezTo>
                  <a:pt x="32" y="0"/>
                  <a:pt x="19" y="0"/>
                  <a:pt x="5" y="0"/>
                </a:cubicBezTo>
                <a:cubicBezTo>
                  <a:pt x="0" y="0"/>
                  <a:pt x="0" y="8"/>
                  <a:pt x="5" y="8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reeform 237"/>
          <p:cNvSpPr/>
          <p:nvPr/>
        </p:nvSpPr>
        <p:spPr>
          <a:xfrm>
            <a:off x="9398160" y="2803680"/>
            <a:ext cx="1314360" cy="1665000"/>
          </a:xfrm>
          <a:custGeom>
            <a:avLst/>
            <a:gdLst/>
            <a:ahLst/>
            <a:rect l="l" t="t" r="r" b="b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0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0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3" y="426"/>
                  <a:pt x="263" y="426"/>
                  <a:pt x="263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5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5" y="0"/>
                  <a:pt x="380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70"/>
          <p:cNvSpPr/>
          <p:nvPr/>
        </p:nvSpPr>
        <p:spPr>
          <a:xfrm>
            <a:off x="9413280" y="306216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80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57"/>
          <p:cNvSpPr/>
          <p:nvPr/>
        </p:nvSpPr>
        <p:spPr>
          <a:xfrm>
            <a:off x="798480" y="1741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57"/>
          <p:cNvSpPr/>
          <p:nvPr/>
        </p:nvSpPr>
        <p:spPr>
          <a:xfrm>
            <a:off x="3449520" y="1741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57"/>
          <p:cNvSpPr/>
          <p:nvPr/>
        </p:nvSpPr>
        <p:spPr>
          <a:xfrm>
            <a:off x="6078600" y="1741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57"/>
          <p:cNvSpPr/>
          <p:nvPr/>
        </p:nvSpPr>
        <p:spPr>
          <a:xfrm>
            <a:off x="8718480" y="1741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77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reeform 42"/>
          <p:cNvSpPr/>
          <p:nvPr/>
        </p:nvSpPr>
        <p:spPr>
          <a:xfrm>
            <a:off x="990720" y="1806480"/>
            <a:ext cx="6610320" cy="3573720"/>
          </a:xfrm>
          <a:custGeom>
            <a:avLst/>
            <a:gdLst/>
            <a:ahLst/>
            <a:rect l="l" t="t" r="r" b="b"/>
            <a:pathLst>
              <a:path w="3458" h="1870">
                <a:moveTo>
                  <a:pt x="956" y="1870"/>
                </a:moveTo>
                <a:lnTo>
                  <a:pt x="909" y="1870"/>
                </a:lnTo>
                <a:lnTo>
                  <a:pt x="909" y="1823"/>
                </a:lnTo>
                <a:lnTo>
                  <a:pt x="956" y="1823"/>
                </a:lnTo>
                <a:lnTo>
                  <a:pt x="956" y="1870"/>
                </a:lnTo>
                <a:close/>
                <a:moveTo>
                  <a:pt x="3230" y="1794"/>
                </a:moveTo>
                <a:lnTo>
                  <a:pt x="3181" y="1794"/>
                </a:lnTo>
                <a:lnTo>
                  <a:pt x="3181" y="1747"/>
                </a:lnTo>
                <a:lnTo>
                  <a:pt x="3230" y="1747"/>
                </a:lnTo>
                <a:lnTo>
                  <a:pt x="3230" y="1794"/>
                </a:lnTo>
                <a:close/>
                <a:moveTo>
                  <a:pt x="956" y="1794"/>
                </a:moveTo>
                <a:lnTo>
                  <a:pt x="909" y="1794"/>
                </a:lnTo>
                <a:lnTo>
                  <a:pt x="909" y="1747"/>
                </a:lnTo>
                <a:lnTo>
                  <a:pt x="956" y="1747"/>
                </a:lnTo>
                <a:lnTo>
                  <a:pt x="956" y="1794"/>
                </a:lnTo>
                <a:close/>
                <a:moveTo>
                  <a:pt x="3306" y="1719"/>
                </a:moveTo>
                <a:lnTo>
                  <a:pt x="3257" y="1719"/>
                </a:lnTo>
                <a:lnTo>
                  <a:pt x="3257" y="1671"/>
                </a:lnTo>
                <a:lnTo>
                  <a:pt x="3306" y="1671"/>
                </a:lnTo>
                <a:lnTo>
                  <a:pt x="3306" y="1719"/>
                </a:lnTo>
                <a:close/>
                <a:moveTo>
                  <a:pt x="3003" y="1719"/>
                </a:moveTo>
                <a:lnTo>
                  <a:pt x="2954" y="1719"/>
                </a:lnTo>
                <a:lnTo>
                  <a:pt x="2954" y="1671"/>
                </a:lnTo>
                <a:lnTo>
                  <a:pt x="3003" y="1671"/>
                </a:lnTo>
                <a:lnTo>
                  <a:pt x="3003" y="1719"/>
                </a:lnTo>
                <a:close/>
                <a:moveTo>
                  <a:pt x="1032" y="1719"/>
                </a:moveTo>
                <a:lnTo>
                  <a:pt x="985" y="1719"/>
                </a:lnTo>
                <a:lnTo>
                  <a:pt x="985" y="1671"/>
                </a:lnTo>
                <a:lnTo>
                  <a:pt x="1032" y="1671"/>
                </a:lnTo>
                <a:lnTo>
                  <a:pt x="1032" y="1719"/>
                </a:lnTo>
                <a:close/>
                <a:moveTo>
                  <a:pt x="956" y="1719"/>
                </a:moveTo>
                <a:lnTo>
                  <a:pt x="909" y="1719"/>
                </a:lnTo>
                <a:lnTo>
                  <a:pt x="909" y="1671"/>
                </a:lnTo>
                <a:lnTo>
                  <a:pt x="956" y="1671"/>
                </a:lnTo>
                <a:lnTo>
                  <a:pt x="956" y="1719"/>
                </a:lnTo>
                <a:close/>
                <a:moveTo>
                  <a:pt x="3382" y="1643"/>
                </a:moveTo>
                <a:lnTo>
                  <a:pt x="3332" y="1643"/>
                </a:lnTo>
                <a:lnTo>
                  <a:pt x="3332" y="1596"/>
                </a:lnTo>
                <a:lnTo>
                  <a:pt x="3382" y="1596"/>
                </a:lnTo>
                <a:lnTo>
                  <a:pt x="3382" y="1643"/>
                </a:lnTo>
                <a:close/>
                <a:moveTo>
                  <a:pt x="3306" y="1643"/>
                </a:moveTo>
                <a:lnTo>
                  <a:pt x="3257" y="1643"/>
                </a:lnTo>
                <a:lnTo>
                  <a:pt x="3257" y="1596"/>
                </a:lnTo>
                <a:lnTo>
                  <a:pt x="3306" y="1596"/>
                </a:lnTo>
                <a:lnTo>
                  <a:pt x="3306" y="1643"/>
                </a:lnTo>
                <a:close/>
                <a:moveTo>
                  <a:pt x="3079" y="1643"/>
                </a:moveTo>
                <a:lnTo>
                  <a:pt x="3029" y="1643"/>
                </a:lnTo>
                <a:lnTo>
                  <a:pt x="3029" y="1596"/>
                </a:lnTo>
                <a:lnTo>
                  <a:pt x="3079" y="1596"/>
                </a:lnTo>
                <a:lnTo>
                  <a:pt x="3079" y="1643"/>
                </a:lnTo>
                <a:close/>
                <a:moveTo>
                  <a:pt x="3003" y="1643"/>
                </a:moveTo>
                <a:lnTo>
                  <a:pt x="2954" y="1643"/>
                </a:lnTo>
                <a:lnTo>
                  <a:pt x="2954" y="1596"/>
                </a:lnTo>
                <a:lnTo>
                  <a:pt x="3003" y="1596"/>
                </a:lnTo>
                <a:lnTo>
                  <a:pt x="3003" y="1643"/>
                </a:lnTo>
                <a:close/>
                <a:moveTo>
                  <a:pt x="2928" y="1643"/>
                </a:moveTo>
                <a:lnTo>
                  <a:pt x="2878" y="1643"/>
                </a:lnTo>
                <a:lnTo>
                  <a:pt x="2878" y="1596"/>
                </a:lnTo>
                <a:lnTo>
                  <a:pt x="2928" y="1596"/>
                </a:lnTo>
                <a:lnTo>
                  <a:pt x="2928" y="1643"/>
                </a:lnTo>
                <a:close/>
                <a:moveTo>
                  <a:pt x="2776" y="1643"/>
                </a:moveTo>
                <a:lnTo>
                  <a:pt x="2726" y="1643"/>
                </a:lnTo>
                <a:lnTo>
                  <a:pt x="2726" y="1596"/>
                </a:lnTo>
                <a:lnTo>
                  <a:pt x="2776" y="1596"/>
                </a:lnTo>
                <a:lnTo>
                  <a:pt x="2776" y="1643"/>
                </a:lnTo>
                <a:close/>
                <a:moveTo>
                  <a:pt x="1032" y="1643"/>
                </a:moveTo>
                <a:lnTo>
                  <a:pt x="985" y="1643"/>
                </a:lnTo>
                <a:lnTo>
                  <a:pt x="985" y="1596"/>
                </a:lnTo>
                <a:lnTo>
                  <a:pt x="1032" y="1596"/>
                </a:lnTo>
                <a:lnTo>
                  <a:pt x="1032" y="1643"/>
                </a:lnTo>
                <a:close/>
                <a:moveTo>
                  <a:pt x="956" y="1643"/>
                </a:moveTo>
                <a:lnTo>
                  <a:pt x="909" y="1643"/>
                </a:lnTo>
                <a:lnTo>
                  <a:pt x="909" y="1596"/>
                </a:lnTo>
                <a:lnTo>
                  <a:pt x="956" y="1596"/>
                </a:lnTo>
                <a:lnTo>
                  <a:pt x="956" y="1643"/>
                </a:lnTo>
                <a:close/>
                <a:moveTo>
                  <a:pt x="3079" y="1567"/>
                </a:moveTo>
                <a:lnTo>
                  <a:pt x="3029" y="1567"/>
                </a:lnTo>
                <a:lnTo>
                  <a:pt x="3029" y="1517"/>
                </a:lnTo>
                <a:lnTo>
                  <a:pt x="3079" y="1517"/>
                </a:lnTo>
                <a:lnTo>
                  <a:pt x="3079" y="1567"/>
                </a:lnTo>
                <a:close/>
                <a:moveTo>
                  <a:pt x="3003" y="1567"/>
                </a:moveTo>
                <a:lnTo>
                  <a:pt x="2954" y="1567"/>
                </a:lnTo>
                <a:lnTo>
                  <a:pt x="2954" y="1517"/>
                </a:lnTo>
                <a:lnTo>
                  <a:pt x="3003" y="1517"/>
                </a:lnTo>
                <a:lnTo>
                  <a:pt x="3003" y="1567"/>
                </a:lnTo>
                <a:close/>
                <a:moveTo>
                  <a:pt x="2928" y="1567"/>
                </a:moveTo>
                <a:lnTo>
                  <a:pt x="2878" y="1567"/>
                </a:lnTo>
                <a:lnTo>
                  <a:pt x="2878" y="1517"/>
                </a:lnTo>
                <a:lnTo>
                  <a:pt x="2928" y="1517"/>
                </a:lnTo>
                <a:lnTo>
                  <a:pt x="2928" y="1567"/>
                </a:lnTo>
                <a:close/>
                <a:moveTo>
                  <a:pt x="2852" y="1567"/>
                </a:moveTo>
                <a:lnTo>
                  <a:pt x="2802" y="1567"/>
                </a:lnTo>
                <a:lnTo>
                  <a:pt x="2802" y="1517"/>
                </a:lnTo>
                <a:lnTo>
                  <a:pt x="2852" y="1517"/>
                </a:lnTo>
                <a:lnTo>
                  <a:pt x="2852" y="1567"/>
                </a:lnTo>
                <a:close/>
                <a:moveTo>
                  <a:pt x="2776" y="1567"/>
                </a:moveTo>
                <a:lnTo>
                  <a:pt x="2726" y="1567"/>
                </a:lnTo>
                <a:lnTo>
                  <a:pt x="2726" y="1517"/>
                </a:lnTo>
                <a:lnTo>
                  <a:pt x="2776" y="1517"/>
                </a:lnTo>
                <a:lnTo>
                  <a:pt x="2776" y="1567"/>
                </a:lnTo>
                <a:close/>
                <a:moveTo>
                  <a:pt x="1865" y="1567"/>
                </a:moveTo>
                <a:lnTo>
                  <a:pt x="1818" y="1567"/>
                </a:lnTo>
                <a:lnTo>
                  <a:pt x="1818" y="1517"/>
                </a:lnTo>
                <a:lnTo>
                  <a:pt x="1865" y="1517"/>
                </a:lnTo>
                <a:lnTo>
                  <a:pt x="1865" y="1567"/>
                </a:lnTo>
                <a:close/>
                <a:moveTo>
                  <a:pt x="1789" y="1567"/>
                </a:moveTo>
                <a:lnTo>
                  <a:pt x="1742" y="1567"/>
                </a:lnTo>
                <a:lnTo>
                  <a:pt x="1742" y="1517"/>
                </a:lnTo>
                <a:lnTo>
                  <a:pt x="1789" y="1517"/>
                </a:lnTo>
                <a:lnTo>
                  <a:pt x="1789" y="1567"/>
                </a:lnTo>
                <a:close/>
                <a:moveTo>
                  <a:pt x="1108" y="1567"/>
                </a:moveTo>
                <a:lnTo>
                  <a:pt x="1060" y="1567"/>
                </a:lnTo>
                <a:lnTo>
                  <a:pt x="1060" y="1517"/>
                </a:lnTo>
                <a:lnTo>
                  <a:pt x="1108" y="1517"/>
                </a:lnTo>
                <a:lnTo>
                  <a:pt x="1108" y="1567"/>
                </a:lnTo>
                <a:close/>
                <a:moveTo>
                  <a:pt x="1032" y="1567"/>
                </a:moveTo>
                <a:lnTo>
                  <a:pt x="985" y="1567"/>
                </a:lnTo>
                <a:lnTo>
                  <a:pt x="985" y="1517"/>
                </a:lnTo>
                <a:lnTo>
                  <a:pt x="1032" y="1517"/>
                </a:lnTo>
                <a:lnTo>
                  <a:pt x="1032" y="1567"/>
                </a:lnTo>
                <a:close/>
                <a:moveTo>
                  <a:pt x="956" y="1567"/>
                </a:moveTo>
                <a:lnTo>
                  <a:pt x="909" y="1567"/>
                </a:lnTo>
                <a:lnTo>
                  <a:pt x="909" y="1517"/>
                </a:lnTo>
                <a:lnTo>
                  <a:pt x="956" y="1517"/>
                </a:lnTo>
                <a:lnTo>
                  <a:pt x="956" y="1567"/>
                </a:lnTo>
                <a:close/>
                <a:moveTo>
                  <a:pt x="3079" y="1491"/>
                </a:moveTo>
                <a:lnTo>
                  <a:pt x="3029" y="1491"/>
                </a:lnTo>
                <a:lnTo>
                  <a:pt x="3029" y="1442"/>
                </a:lnTo>
                <a:lnTo>
                  <a:pt x="3079" y="1442"/>
                </a:lnTo>
                <a:lnTo>
                  <a:pt x="3079" y="1491"/>
                </a:lnTo>
                <a:close/>
                <a:moveTo>
                  <a:pt x="3003" y="1491"/>
                </a:moveTo>
                <a:lnTo>
                  <a:pt x="2954" y="1491"/>
                </a:lnTo>
                <a:lnTo>
                  <a:pt x="2954" y="1442"/>
                </a:lnTo>
                <a:lnTo>
                  <a:pt x="3003" y="1442"/>
                </a:lnTo>
                <a:lnTo>
                  <a:pt x="3003" y="1491"/>
                </a:lnTo>
                <a:close/>
                <a:moveTo>
                  <a:pt x="2928" y="1491"/>
                </a:moveTo>
                <a:lnTo>
                  <a:pt x="2878" y="1491"/>
                </a:lnTo>
                <a:lnTo>
                  <a:pt x="2878" y="1442"/>
                </a:lnTo>
                <a:lnTo>
                  <a:pt x="2928" y="1442"/>
                </a:lnTo>
                <a:lnTo>
                  <a:pt x="2928" y="1491"/>
                </a:lnTo>
                <a:close/>
                <a:moveTo>
                  <a:pt x="2852" y="1491"/>
                </a:moveTo>
                <a:lnTo>
                  <a:pt x="2802" y="1491"/>
                </a:lnTo>
                <a:lnTo>
                  <a:pt x="2802" y="1442"/>
                </a:lnTo>
                <a:lnTo>
                  <a:pt x="2852" y="1442"/>
                </a:lnTo>
                <a:lnTo>
                  <a:pt x="2852" y="1491"/>
                </a:lnTo>
                <a:close/>
                <a:moveTo>
                  <a:pt x="2776" y="1491"/>
                </a:moveTo>
                <a:lnTo>
                  <a:pt x="2726" y="1491"/>
                </a:lnTo>
                <a:lnTo>
                  <a:pt x="2726" y="1442"/>
                </a:lnTo>
                <a:lnTo>
                  <a:pt x="2776" y="1442"/>
                </a:lnTo>
                <a:lnTo>
                  <a:pt x="2776" y="1491"/>
                </a:lnTo>
                <a:close/>
                <a:moveTo>
                  <a:pt x="2700" y="1491"/>
                </a:moveTo>
                <a:lnTo>
                  <a:pt x="2651" y="1491"/>
                </a:lnTo>
                <a:lnTo>
                  <a:pt x="2651" y="1442"/>
                </a:lnTo>
                <a:lnTo>
                  <a:pt x="2700" y="1442"/>
                </a:lnTo>
                <a:lnTo>
                  <a:pt x="2700" y="1491"/>
                </a:lnTo>
                <a:close/>
                <a:moveTo>
                  <a:pt x="2092" y="1491"/>
                </a:moveTo>
                <a:lnTo>
                  <a:pt x="2045" y="1491"/>
                </a:lnTo>
                <a:lnTo>
                  <a:pt x="2045" y="1442"/>
                </a:lnTo>
                <a:lnTo>
                  <a:pt x="2092" y="1442"/>
                </a:lnTo>
                <a:lnTo>
                  <a:pt x="2092" y="1491"/>
                </a:lnTo>
                <a:close/>
                <a:moveTo>
                  <a:pt x="1941" y="1491"/>
                </a:moveTo>
                <a:lnTo>
                  <a:pt x="1893" y="1491"/>
                </a:lnTo>
                <a:lnTo>
                  <a:pt x="1893" y="1442"/>
                </a:lnTo>
                <a:lnTo>
                  <a:pt x="1941" y="1442"/>
                </a:lnTo>
                <a:lnTo>
                  <a:pt x="1941" y="1491"/>
                </a:lnTo>
                <a:close/>
                <a:moveTo>
                  <a:pt x="1865" y="1491"/>
                </a:moveTo>
                <a:lnTo>
                  <a:pt x="1818" y="1491"/>
                </a:lnTo>
                <a:lnTo>
                  <a:pt x="1818" y="1442"/>
                </a:lnTo>
                <a:lnTo>
                  <a:pt x="1865" y="1442"/>
                </a:lnTo>
                <a:lnTo>
                  <a:pt x="1865" y="1491"/>
                </a:lnTo>
                <a:close/>
                <a:moveTo>
                  <a:pt x="1789" y="1491"/>
                </a:moveTo>
                <a:lnTo>
                  <a:pt x="1742" y="1491"/>
                </a:lnTo>
                <a:lnTo>
                  <a:pt x="1742" y="1442"/>
                </a:lnTo>
                <a:lnTo>
                  <a:pt x="1789" y="1442"/>
                </a:lnTo>
                <a:lnTo>
                  <a:pt x="1789" y="1491"/>
                </a:lnTo>
                <a:close/>
                <a:moveTo>
                  <a:pt x="1184" y="1491"/>
                </a:moveTo>
                <a:lnTo>
                  <a:pt x="1136" y="1491"/>
                </a:lnTo>
                <a:lnTo>
                  <a:pt x="1136" y="1442"/>
                </a:lnTo>
                <a:lnTo>
                  <a:pt x="1184" y="1442"/>
                </a:lnTo>
                <a:lnTo>
                  <a:pt x="1184" y="1491"/>
                </a:lnTo>
                <a:close/>
                <a:moveTo>
                  <a:pt x="1108" y="1491"/>
                </a:moveTo>
                <a:lnTo>
                  <a:pt x="1060" y="1491"/>
                </a:lnTo>
                <a:lnTo>
                  <a:pt x="1060" y="1442"/>
                </a:lnTo>
                <a:lnTo>
                  <a:pt x="1108" y="1442"/>
                </a:lnTo>
                <a:lnTo>
                  <a:pt x="1108" y="1491"/>
                </a:lnTo>
                <a:close/>
                <a:moveTo>
                  <a:pt x="1032" y="1491"/>
                </a:moveTo>
                <a:lnTo>
                  <a:pt x="985" y="1491"/>
                </a:lnTo>
                <a:lnTo>
                  <a:pt x="985" y="1442"/>
                </a:lnTo>
                <a:lnTo>
                  <a:pt x="1032" y="1442"/>
                </a:lnTo>
                <a:lnTo>
                  <a:pt x="1032" y="1491"/>
                </a:lnTo>
                <a:close/>
                <a:moveTo>
                  <a:pt x="956" y="1491"/>
                </a:moveTo>
                <a:lnTo>
                  <a:pt x="909" y="1491"/>
                </a:lnTo>
                <a:lnTo>
                  <a:pt x="909" y="1442"/>
                </a:lnTo>
                <a:lnTo>
                  <a:pt x="956" y="1442"/>
                </a:lnTo>
                <a:lnTo>
                  <a:pt x="956" y="1491"/>
                </a:lnTo>
                <a:close/>
                <a:moveTo>
                  <a:pt x="3003" y="1413"/>
                </a:moveTo>
                <a:lnTo>
                  <a:pt x="2954" y="1413"/>
                </a:lnTo>
                <a:lnTo>
                  <a:pt x="2954" y="1366"/>
                </a:lnTo>
                <a:lnTo>
                  <a:pt x="3003" y="1366"/>
                </a:lnTo>
                <a:lnTo>
                  <a:pt x="3003" y="1413"/>
                </a:lnTo>
                <a:close/>
                <a:moveTo>
                  <a:pt x="2928" y="1413"/>
                </a:moveTo>
                <a:lnTo>
                  <a:pt x="2878" y="1413"/>
                </a:lnTo>
                <a:lnTo>
                  <a:pt x="2878" y="1366"/>
                </a:lnTo>
                <a:lnTo>
                  <a:pt x="2928" y="1366"/>
                </a:lnTo>
                <a:lnTo>
                  <a:pt x="2928" y="1413"/>
                </a:lnTo>
                <a:close/>
                <a:moveTo>
                  <a:pt x="2852" y="1413"/>
                </a:moveTo>
                <a:lnTo>
                  <a:pt x="2802" y="1413"/>
                </a:lnTo>
                <a:lnTo>
                  <a:pt x="2802" y="1366"/>
                </a:lnTo>
                <a:lnTo>
                  <a:pt x="2852" y="1366"/>
                </a:lnTo>
                <a:lnTo>
                  <a:pt x="2852" y="1413"/>
                </a:lnTo>
                <a:close/>
                <a:moveTo>
                  <a:pt x="2092" y="1413"/>
                </a:moveTo>
                <a:lnTo>
                  <a:pt x="2045" y="1413"/>
                </a:lnTo>
                <a:lnTo>
                  <a:pt x="2045" y="1366"/>
                </a:lnTo>
                <a:lnTo>
                  <a:pt x="2092" y="1366"/>
                </a:lnTo>
                <a:lnTo>
                  <a:pt x="2092" y="1413"/>
                </a:lnTo>
                <a:close/>
                <a:moveTo>
                  <a:pt x="2016" y="1413"/>
                </a:moveTo>
                <a:lnTo>
                  <a:pt x="1969" y="1413"/>
                </a:lnTo>
                <a:lnTo>
                  <a:pt x="1969" y="1366"/>
                </a:lnTo>
                <a:lnTo>
                  <a:pt x="2016" y="1366"/>
                </a:lnTo>
                <a:lnTo>
                  <a:pt x="2016" y="1413"/>
                </a:lnTo>
                <a:close/>
                <a:moveTo>
                  <a:pt x="1941" y="1413"/>
                </a:moveTo>
                <a:lnTo>
                  <a:pt x="1893" y="1413"/>
                </a:lnTo>
                <a:lnTo>
                  <a:pt x="1893" y="1366"/>
                </a:lnTo>
                <a:lnTo>
                  <a:pt x="1941" y="1366"/>
                </a:lnTo>
                <a:lnTo>
                  <a:pt x="1941" y="1413"/>
                </a:lnTo>
                <a:close/>
                <a:moveTo>
                  <a:pt x="1865" y="1413"/>
                </a:moveTo>
                <a:lnTo>
                  <a:pt x="1818" y="1413"/>
                </a:lnTo>
                <a:lnTo>
                  <a:pt x="1818" y="1366"/>
                </a:lnTo>
                <a:lnTo>
                  <a:pt x="1865" y="1366"/>
                </a:lnTo>
                <a:lnTo>
                  <a:pt x="1865" y="1413"/>
                </a:lnTo>
                <a:close/>
                <a:moveTo>
                  <a:pt x="1789" y="1413"/>
                </a:moveTo>
                <a:lnTo>
                  <a:pt x="1742" y="1413"/>
                </a:lnTo>
                <a:lnTo>
                  <a:pt x="1742" y="1366"/>
                </a:lnTo>
                <a:lnTo>
                  <a:pt x="1789" y="1366"/>
                </a:lnTo>
                <a:lnTo>
                  <a:pt x="1789" y="1413"/>
                </a:lnTo>
                <a:close/>
                <a:moveTo>
                  <a:pt x="1259" y="1413"/>
                </a:moveTo>
                <a:lnTo>
                  <a:pt x="1212" y="1413"/>
                </a:lnTo>
                <a:lnTo>
                  <a:pt x="1212" y="1366"/>
                </a:lnTo>
                <a:lnTo>
                  <a:pt x="1259" y="1366"/>
                </a:lnTo>
                <a:lnTo>
                  <a:pt x="1259" y="1413"/>
                </a:lnTo>
                <a:close/>
                <a:moveTo>
                  <a:pt x="1184" y="1413"/>
                </a:moveTo>
                <a:lnTo>
                  <a:pt x="1136" y="1413"/>
                </a:lnTo>
                <a:lnTo>
                  <a:pt x="1136" y="1366"/>
                </a:lnTo>
                <a:lnTo>
                  <a:pt x="1184" y="1366"/>
                </a:lnTo>
                <a:lnTo>
                  <a:pt x="1184" y="1413"/>
                </a:lnTo>
                <a:close/>
                <a:moveTo>
                  <a:pt x="1108" y="1413"/>
                </a:moveTo>
                <a:lnTo>
                  <a:pt x="1060" y="1413"/>
                </a:lnTo>
                <a:lnTo>
                  <a:pt x="1060" y="1366"/>
                </a:lnTo>
                <a:lnTo>
                  <a:pt x="1108" y="1366"/>
                </a:lnTo>
                <a:lnTo>
                  <a:pt x="1108" y="1413"/>
                </a:lnTo>
                <a:close/>
                <a:moveTo>
                  <a:pt x="1032" y="1413"/>
                </a:moveTo>
                <a:lnTo>
                  <a:pt x="985" y="1413"/>
                </a:lnTo>
                <a:lnTo>
                  <a:pt x="985" y="1366"/>
                </a:lnTo>
                <a:lnTo>
                  <a:pt x="1032" y="1366"/>
                </a:lnTo>
                <a:lnTo>
                  <a:pt x="1032" y="1413"/>
                </a:lnTo>
                <a:close/>
                <a:moveTo>
                  <a:pt x="956" y="1413"/>
                </a:moveTo>
                <a:lnTo>
                  <a:pt x="909" y="1413"/>
                </a:lnTo>
                <a:lnTo>
                  <a:pt x="909" y="1366"/>
                </a:lnTo>
                <a:lnTo>
                  <a:pt x="956" y="1366"/>
                </a:lnTo>
                <a:lnTo>
                  <a:pt x="956" y="1413"/>
                </a:lnTo>
                <a:close/>
                <a:moveTo>
                  <a:pt x="3079" y="1338"/>
                </a:moveTo>
                <a:lnTo>
                  <a:pt x="3029" y="1338"/>
                </a:lnTo>
                <a:lnTo>
                  <a:pt x="3029" y="1290"/>
                </a:lnTo>
                <a:lnTo>
                  <a:pt x="3079" y="1290"/>
                </a:lnTo>
                <a:lnTo>
                  <a:pt x="3079" y="1338"/>
                </a:lnTo>
                <a:close/>
                <a:moveTo>
                  <a:pt x="3003" y="1338"/>
                </a:moveTo>
                <a:lnTo>
                  <a:pt x="2954" y="1338"/>
                </a:lnTo>
                <a:lnTo>
                  <a:pt x="2954" y="1290"/>
                </a:lnTo>
                <a:lnTo>
                  <a:pt x="3003" y="1290"/>
                </a:lnTo>
                <a:lnTo>
                  <a:pt x="3003" y="1338"/>
                </a:lnTo>
                <a:close/>
                <a:moveTo>
                  <a:pt x="2016" y="1338"/>
                </a:moveTo>
                <a:lnTo>
                  <a:pt x="1969" y="1338"/>
                </a:lnTo>
                <a:lnTo>
                  <a:pt x="1969" y="1290"/>
                </a:lnTo>
                <a:lnTo>
                  <a:pt x="2016" y="1290"/>
                </a:lnTo>
                <a:lnTo>
                  <a:pt x="2016" y="1338"/>
                </a:lnTo>
                <a:close/>
                <a:moveTo>
                  <a:pt x="1941" y="1338"/>
                </a:moveTo>
                <a:lnTo>
                  <a:pt x="1893" y="1338"/>
                </a:lnTo>
                <a:lnTo>
                  <a:pt x="1893" y="1290"/>
                </a:lnTo>
                <a:lnTo>
                  <a:pt x="1941" y="1290"/>
                </a:lnTo>
                <a:lnTo>
                  <a:pt x="1941" y="1338"/>
                </a:lnTo>
                <a:close/>
                <a:moveTo>
                  <a:pt x="1865" y="1338"/>
                </a:moveTo>
                <a:lnTo>
                  <a:pt x="1818" y="1338"/>
                </a:lnTo>
                <a:lnTo>
                  <a:pt x="1818" y="1290"/>
                </a:lnTo>
                <a:lnTo>
                  <a:pt x="1865" y="1290"/>
                </a:lnTo>
                <a:lnTo>
                  <a:pt x="1865" y="1338"/>
                </a:lnTo>
                <a:close/>
                <a:moveTo>
                  <a:pt x="1789" y="1338"/>
                </a:moveTo>
                <a:lnTo>
                  <a:pt x="1742" y="1338"/>
                </a:lnTo>
                <a:lnTo>
                  <a:pt x="1742" y="1290"/>
                </a:lnTo>
                <a:lnTo>
                  <a:pt x="1789" y="1290"/>
                </a:lnTo>
                <a:lnTo>
                  <a:pt x="1789" y="1338"/>
                </a:lnTo>
                <a:close/>
                <a:moveTo>
                  <a:pt x="1259" y="1338"/>
                </a:moveTo>
                <a:lnTo>
                  <a:pt x="1212" y="1338"/>
                </a:lnTo>
                <a:lnTo>
                  <a:pt x="1212" y="1290"/>
                </a:lnTo>
                <a:lnTo>
                  <a:pt x="1259" y="1290"/>
                </a:lnTo>
                <a:lnTo>
                  <a:pt x="1259" y="1338"/>
                </a:lnTo>
                <a:close/>
                <a:moveTo>
                  <a:pt x="1184" y="1338"/>
                </a:moveTo>
                <a:lnTo>
                  <a:pt x="1136" y="1338"/>
                </a:lnTo>
                <a:lnTo>
                  <a:pt x="1136" y="1290"/>
                </a:lnTo>
                <a:lnTo>
                  <a:pt x="1184" y="1290"/>
                </a:lnTo>
                <a:lnTo>
                  <a:pt x="1184" y="1338"/>
                </a:lnTo>
                <a:close/>
                <a:moveTo>
                  <a:pt x="1108" y="1338"/>
                </a:moveTo>
                <a:lnTo>
                  <a:pt x="1060" y="1338"/>
                </a:lnTo>
                <a:lnTo>
                  <a:pt x="1060" y="1290"/>
                </a:lnTo>
                <a:lnTo>
                  <a:pt x="1108" y="1290"/>
                </a:lnTo>
                <a:lnTo>
                  <a:pt x="1108" y="1338"/>
                </a:lnTo>
                <a:close/>
                <a:moveTo>
                  <a:pt x="1032" y="1338"/>
                </a:moveTo>
                <a:lnTo>
                  <a:pt x="985" y="1338"/>
                </a:lnTo>
                <a:lnTo>
                  <a:pt x="985" y="1290"/>
                </a:lnTo>
                <a:lnTo>
                  <a:pt x="1032" y="1290"/>
                </a:lnTo>
                <a:lnTo>
                  <a:pt x="1032" y="1338"/>
                </a:lnTo>
                <a:close/>
                <a:moveTo>
                  <a:pt x="956" y="1338"/>
                </a:moveTo>
                <a:lnTo>
                  <a:pt x="909" y="1338"/>
                </a:lnTo>
                <a:lnTo>
                  <a:pt x="909" y="1290"/>
                </a:lnTo>
                <a:lnTo>
                  <a:pt x="956" y="1290"/>
                </a:lnTo>
                <a:lnTo>
                  <a:pt x="956" y="1338"/>
                </a:lnTo>
                <a:close/>
                <a:moveTo>
                  <a:pt x="881" y="1338"/>
                </a:moveTo>
                <a:lnTo>
                  <a:pt x="833" y="1338"/>
                </a:lnTo>
                <a:lnTo>
                  <a:pt x="833" y="1290"/>
                </a:lnTo>
                <a:lnTo>
                  <a:pt x="881" y="1290"/>
                </a:lnTo>
                <a:lnTo>
                  <a:pt x="881" y="1338"/>
                </a:lnTo>
                <a:close/>
                <a:moveTo>
                  <a:pt x="3003" y="1262"/>
                </a:moveTo>
                <a:lnTo>
                  <a:pt x="2954" y="1262"/>
                </a:lnTo>
                <a:lnTo>
                  <a:pt x="2954" y="1215"/>
                </a:lnTo>
                <a:lnTo>
                  <a:pt x="3003" y="1215"/>
                </a:lnTo>
                <a:lnTo>
                  <a:pt x="3003" y="1262"/>
                </a:lnTo>
                <a:close/>
                <a:moveTo>
                  <a:pt x="2928" y="1262"/>
                </a:moveTo>
                <a:lnTo>
                  <a:pt x="2878" y="1262"/>
                </a:lnTo>
                <a:lnTo>
                  <a:pt x="2878" y="1215"/>
                </a:lnTo>
                <a:lnTo>
                  <a:pt x="2928" y="1215"/>
                </a:lnTo>
                <a:lnTo>
                  <a:pt x="2928" y="1262"/>
                </a:lnTo>
                <a:close/>
                <a:moveTo>
                  <a:pt x="2776" y="1262"/>
                </a:moveTo>
                <a:lnTo>
                  <a:pt x="2726" y="1262"/>
                </a:lnTo>
                <a:lnTo>
                  <a:pt x="2726" y="1215"/>
                </a:lnTo>
                <a:lnTo>
                  <a:pt x="2776" y="1215"/>
                </a:lnTo>
                <a:lnTo>
                  <a:pt x="2776" y="1262"/>
                </a:lnTo>
                <a:close/>
                <a:moveTo>
                  <a:pt x="2700" y="1262"/>
                </a:moveTo>
                <a:lnTo>
                  <a:pt x="2651" y="1262"/>
                </a:lnTo>
                <a:lnTo>
                  <a:pt x="2651" y="1215"/>
                </a:lnTo>
                <a:lnTo>
                  <a:pt x="2700" y="1215"/>
                </a:lnTo>
                <a:lnTo>
                  <a:pt x="2700" y="1262"/>
                </a:lnTo>
                <a:close/>
                <a:moveTo>
                  <a:pt x="2622" y="1262"/>
                </a:moveTo>
                <a:lnTo>
                  <a:pt x="2575" y="1262"/>
                </a:lnTo>
                <a:lnTo>
                  <a:pt x="2575" y="1215"/>
                </a:lnTo>
                <a:lnTo>
                  <a:pt x="2622" y="1215"/>
                </a:lnTo>
                <a:lnTo>
                  <a:pt x="2622" y="1262"/>
                </a:lnTo>
                <a:close/>
                <a:moveTo>
                  <a:pt x="2016" y="1262"/>
                </a:moveTo>
                <a:lnTo>
                  <a:pt x="1969" y="1262"/>
                </a:lnTo>
                <a:lnTo>
                  <a:pt x="1969" y="1215"/>
                </a:lnTo>
                <a:lnTo>
                  <a:pt x="2016" y="1215"/>
                </a:lnTo>
                <a:lnTo>
                  <a:pt x="2016" y="1262"/>
                </a:lnTo>
                <a:close/>
                <a:moveTo>
                  <a:pt x="1941" y="1262"/>
                </a:moveTo>
                <a:lnTo>
                  <a:pt x="1893" y="1262"/>
                </a:lnTo>
                <a:lnTo>
                  <a:pt x="1893" y="1215"/>
                </a:lnTo>
                <a:lnTo>
                  <a:pt x="1941" y="1215"/>
                </a:lnTo>
                <a:lnTo>
                  <a:pt x="1941" y="1262"/>
                </a:lnTo>
                <a:close/>
                <a:moveTo>
                  <a:pt x="1865" y="1262"/>
                </a:moveTo>
                <a:lnTo>
                  <a:pt x="1818" y="1262"/>
                </a:lnTo>
                <a:lnTo>
                  <a:pt x="1818" y="1215"/>
                </a:lnTo>
                <a:lnTo>
                  <a:pt x="1865" y="1215"/>
                </a:lnTo>
                <a:lnTo>
                  <a:pt x="1865" y="1262"/>
                </a:lnTo>
                <a:close/>
                <a:moveTo>
                  <a:pt x="1789" y="1262"/>
                </a:moveTo>
                <a:lnTo>
                  <a:pt x="1742" y="1262"/>
                </a:lnTo>
                <a:lnTo>
                  <a:pt x="1742" y="1215"/>
                </a:lnTo>
                <a:lnTo>
                  <a:pt x="1789" y="1215"/>
                </a:lnTo>
                <a:lnTo>
                  <a:pt x="1789" y="1262"/>
                </a:lnTo>
                <a:close/>
                <a:moveTo>
                  <a:pt x="1259" y="1262"/>
                </a:moveTo>
                <a:lnTo>
                  <a:pt x="1212" y="1262"/>
                </a:lnTo>
                <a:lnTo>
                  <a:pt x="1212" y="1215"/>
                </a:lnTo>
                <a:lnTo>
                  <a:pt x="1259" y="1215"/>
                </a:lnTo>
                <a:lnTo>
                  <a:pt x="1259" y="1262"/>
                </a:lnTo>
                <a:close/>
                <a:moveTo>
                  <a:pt x="1184" y="1262"/>
                </a:moveTo>
                <a:lnTo>
                  <a:pt x="1136" y="1262"/>
                </a:lnTo>
                <a:lnTo>
                  <a:pt x="1136" y="1215"/>
                </a:lnTo>
                <a:lnTo>
                  <a:pt x="1184" y="1215"/>
                </a:lnTo>
                <a:lnTo>
                  <a:pt x="1184" y="1262"/>
                </a:lnTo>
                <a:close/>
                <a:moveTo>
                  <a:pt x="1108" y="1262"/>
                </a:moveTo>
                <a:lnTo>
                  <a:pt x="1060" y="1262"/>
                </a:lnTo>
                <a:lnTo>
                  <a:pt x="1060" y="1215"/>
                </a:lnTo>
                <a:lnTo>
                  <a:pt x="1108" y="1215"/>
                </a:lnTo>
                <a:lnTo>
                  <a:pt x="1108" y="1262"/>
                </a:lnTo>
                <a:close/>
                <a:moveTo>
                  <a:pt x="1032" y="1262"/>
                </a:moveTo>
                <a:lnTo>
                  <a:pt x="985" y="1262"/>
                </a:lnTo>
                <a:lnTo>
                  <a:pt x="985" y="1215"/>
                </a:lnTo>
                <a:lnTo>
                  <a:pt x="1032" y="1215"/>
                </a:lnTo>
                <a:lnTo>
                  <a:pt x="1032" y="1262"/>
                </a:lnTo>
                <a:close/>
                <a:moveTo>
                  <a:pt x="956" y="1262"/>
                </a:moveTo>
                <a:lnTo>
                  <a:pt x="909" y="1262"/>
                </a:lnTo>
                <a:lnTo>
                  <a:pt x="909" y="1215"/>
                </a:lnTo>
                <a:lnTo>
                  <a:pt x="956" y="1215"/>
                </a:lnTo>
                <a:lnTo>
                  <a:pt x="956" y="1262"/>
                </a:lnTo>
                <a:close/>
                <a:moveTo>
                  <a:pt x="881" y="1262"/>
                </a:moveTo>
                <a:lnTo>
                  <a:pt x="833" y="1262"/>
                </a:lnTo>
                <a:lnTo>
                  <a:pt x="833" y="1215"/>
                </a:lnTo>
                <a:lnTo>
                  <a:pt x="881" y="1215"/>
                </a:lnTo>
                <a:lnTo>
                  <a:pt x="881" y="1262"/>
                </a:lnTo>
                <a:close/>
                <a:moveTo>
                  <a:pt x="2700" y="1186"/>
                </a:moveTo>
                <a:lnTo>
                  <a:pt x="2651" y="1186"/>
                </a:lnTo>
                <a:lnTo>
                  <a:pt x="2651" y="1139"/>
                </a:lnTo>
                <a:lnTo>
                  <a:pt x="2700" y="1139"/>
                </a:lnTo>
                <a:lnTo>
                  <a:pt x="2700" y="1186"/>
                </a:lnTo>
                <a:close/>
                <a:moveTo>
                  <a:pt x="2622" y="1186"/>
                </a:moveTo>
                <a:lnTo>
                  <a:pt x="2575" y="1186"/>
                </a:lnTo>
                <a:lnTo>
                  <a:pt x="2575" y="1139"/>
                </a:lnTo>
                <a:lnTo>
                  <a:pt x="2622" y="1139"/>
                </a:lnTo>
                <a:lnTo>
                  <a:pt x="2622" y="1186"/>
                </a:lnTo>
                <a:close/>
                <a:moveTo>
                  <a:pt x="2547" y="1186"/>
                </a:moveTo>
                <a:lnTo>
                  <a:pt x="2499" y="1186"/>
                </a:lnTo>
                <a:lnTo>
                  <a:pt x="2499" y="1139"/>
                </a:lnTo>
                <a:lnTo>
                  <a:pt x="2547" y="1139"/>
                </a:lnTo>
                <a:lnTo>
                  <a:pt x="2547" y="1186"/>
                </a:lnTo>
                <a:close/>
                <a:moveTo>
                  <a:pt x="2092" y="1186"/>
                </a:moveTo>
                <a:lnTo>
                  <a:pt x="2045" y="1186"/>
                </a:lnTo>
                <a:lnTo>
                  <a:pt x="2045" y="1139"/>
                </a:lnTo>
                <a:lnTo>
                  <a:pt x="2092" y="1139"/>
                </a:lnTo>
                <a:lnTo>
                  <a:pt x="2092" y="1186"/>
                </a:lnTo>
                <a:close/>
                <a:moveTo>
                  <a:pt x="2016" y="1186"/>
                </a:moveTo>
                <a:lnTo>
                  <a:pt x="1969" y="1186"/>
                </a:lnTo>
                <a:lnTo>
                  <a:pt x="1969" y="1139"/>
                </a:lnTo>
                <a:lnTo>
                  <a:pt x="2016" y="1139"/>
                </a:lnTo>
                <a:lnTo>
                  <a:pt x="2016" y="1186"/>
                </a:lnTo>
                <a:close/>
                <a:moveTo>
                  <a:pt x="1941" y="1186"/>
                </a:moveTo>
                <a:lnTo>
                  <a:pt x="1893" y="1186"/>
                </a:lnTo>
                <a:lnTo>
                  <a:pt x="1893" y="1139"/>
                </a:lnTo>
                <a:lnTo>
                  <a:pt x="1941" y="1139"/>
                </a:lnTo>
                <a:lnTo>
                  <a:pt x="1941" y="1186"/>
                </a:lnTo>
                <a:close/>
                <a:moveTo>
                  <a:pt x="1865" y="1186"/>
                </a:moveTo>
                <a:lnTo>
                  <a:pt x="1818" y="1186"/>
                </a:lnTo>
                <a:lnTo>
                  <a:pt x="1818" y="1139"/>
                </a:lnTo>
                <a:lnTo>
                  <a:pt x="1865" y="1139"/>
                </a:lnTo>
                <a:lnTo>
                  <a:pt x="1865" y="1186"/>
                </a:lnTo>
                <a:close/>
                <a:moveTo>
                  <a:pt x="1789" y="1186"/>
                </a:moveTo>
                <a:lnTo>
                  <a:pt x="1742" y="1186"/>
                </a:lnTo>
                <a:lnTo>
                  <a:pt x="1742" y="1139"/>
                </a:lnTo>
                <a:lnTo>
                  <a:pt x="1789" y="1139"/>
                </a:lnTo>
                <a:lnTo>
                  <a:pt x="1789" y="1186"/>
                </a:lnTo>
                <a:close/>
                <a:moveTo>
                  <a:pt x="1714" y="1186"/>
                </a:moveTo>
                <a:lnTo>
                  <a:pt x="1666" y="1186"/>
                </a:lnTo>
                <a:lnTo>
                  <a:pt x="1666" y="1139"/>
                </a:lnTo>
                <a:lnTo>
                  <a:pt x="1714" y="1139"/>
                </a:lnTo>
                <a:lnTo>
                  <a:pt x="1714" y="1186"/>
                </a:lnTo>
                <a:close/>
                <a:moveTo>
                  <a:pt x="1638" y="1186"/>
                </a:moveTo>
                <a:lnTo>
                  <a:pt x="1591" y="1186"/>
                </a:lnTo>
                <a:lnTo>
                  <a:pt x="1591" y="1139"/>
                </a:lnTo>
                <a:lnTo>
                  <a:pt x="1638" y="1139"/>
                </a:lnTo>
                <a:lnTo>
                  <a:pt x="1638" y="1186"/>
                </a:lnTo>
                <a:close/>
                <a:moveTo>
                  <a:pt x="1562" y="1186"/>
                </a:moveTo>
                <a:lnTo>
                  <a:pt x="1515" y="1186"/>
                </a:lnTo>
                <a:lnTo>
                  <a:pt x="1515" y="1139"/>
                </a:lnTo>
                <a:lnTo>
                  <a:pt x="1562" y="1139"/>
                </a:lnTo>
                <a:lnTo>
                  <a:pt x="1562" y="1186"/>
                </a:lnTo>
                <a:close/>
                <a:moveTo>
                  <a:pt x="1108" y="1186"/>
                </a:moveTo>
                <a:lnTo>
                  <a:pt x="1060" y="1186"/>
                </a:lnTo>
                <a:lnTo>
                  <a:pt x="1060" y="1139"/>
                </a:lnTo>
                <a:lnTo>
                  <a:pt x="1108" y="1139"/>
                </a:lnTo>
                <a:lnTo>
                  <a:pt x="1108" y="1186"/>
                </a:lnTo>
                <a:close/>
                <a:moveTo>
                  <a:pt x="1032" y="1186"/>
                </a:moveTo>
                <a:lnTo>
                  <a:pt x="985" y="1186"/>
                </a:lnTo>
                <a:lnTo>
                  <a:pt x="985" y="1139"/>
                </a:lnTo>
                <a:lnTo>
                  <a:pt x="1032" y="1139"/>
                </a:lnTo>
                <a:lnTo>
                  <a:pt x="1032" y="1186"/>
                </a:lnTo>
                <a:close/>
                <a:moveTo>
                  <a:pt x="956" y="1186"/>
                </a:moveTo>
                <a:lnTo>
                  <a:pt x="909" y="1186"/>
                </a:lnTo>
                <a:lnTo>
                  <a:pt x="909" y="1139"/>
                </a:lnTo>
                <a:lnTo>
                  <a:pt x="956" y="1139"/>
                </a:lnTo>
                <a:lnTo>
                  <a:pt x="956" y="1186"/>
                </a:lnTo>
                <a:close/>
                <a:moveTo>
                  <a:pt x="881" y="1186"/>
                </a:moveTo>
                <a:lnTo>
                  <a:pt x="833" y="1186"/>
                </a:lnTo>
                <a:lnTo>
                  <a:pt x="833" y="1139"/>
                </a:lnTo>
                <a:lnTo>
                  <a:pt x="881" y="1139"/>
                </a:lnTo>
                <a:lnTo>
                  <a:pt x="881" y="1186"/>
                </a:lnTo>
                <a:close/>
                <a:moveTo>
                  <a:pt x="2852" y="1110"/>
                </a:moveTo>
                <a:lnTo>
                  <a:pt x="2802" y="1110"/>
                </a:lnTo>
                <a:lnTo>
                  <a:pt x="2802" y="1063"/>
                </a:lnTo>
                <a:lnTo>
                  <a:pt x="2852" y="1063"/>
                </a:lnTo>
                <a:lnTo>
                  <a:pt x="2852" y="1110"/>
                </a:lnTo>
                <a:close/>
                <a:moveTo>
                  <a:pt x="2622" y="1110"/>
                </a:moveTo>
                <a:lnTo>
                  <a:pt x="2575" y="1110"/>
                </a:lnTo>
                <a:lnTo>
                  <a:pt x="2575" y="1063"/>
                </a:lnTo>
                <a:lnTo>
                  <a:pt x="2622" y="1063"/>
                </a:lnTo>
                <a:lnTo>
                  <a:pt x="2622" y="1110"/>
                </a:lnTo>
                <a:close/>
                <a:moveTo>
                  <a:pt x="2395" y="1110"/>
                </a:moveTo>
                <a:lnTo>
                  <a:pt x="2348" y="1110"/>
                </a:lnTo>
                <a:lnTo>
                  <a:pt x="2348" y="1063"/>
                </a:lnTo>
                <a:lnTo>
                  <a:pt x="2395" y="1063"/>
                </a:lnTo>
                <a:lnTo>
                  <a:pt x="2395" y="1110"/>
                </a:lnTo>
                <a:close/>
                <a:moveTo>
                  <a:pt x="2016" y="1110"/>
                </a:moveTo>
                <a:lnTo>
                  <a:pt x="1969" y="1110"/>
                </a:lnTo>
                <a:lnTo>
                  <a:pt x="1969" y="1063"/>
                </a:lnTo>
                <a:lnTo>
                  <a:pt x="2016" y="1063"/>
                </a:lnTo>
                <a:lnTo>
                  <a:pt x="2016" y="1110"/>
                </a:lnTo>
                <a:close/>
                <a:moveTo>
                  <a:pt x="1941" y="1110"/>
                </a:moveTo>
                <a:lnTo>
                  <a:pt x="1893" y="1110"/>
                </a:lnTo>
                <a:lnTo>
                  <a:pt x="1893" y="1063"/>
                </a:lnTo>
                <a:lnTo>
                  <a:pt x="1941" y="1063"/>
                </a:lnTo>
                <a:lnTo>
                  <a:pt x="1941" y="1110"/>
                </a:lnTo>
                <a:close/>
                <a:moveTo>
                  <a:pt x="1865" y="1110"/>
                </a:moveTo>
                <a:lnTo>
                  <a:pt x="1818" y="1110"/>
                </a:lnTo>
                <a:lnTo>
                  <a:pt x="1818" y="1063"/>
                </a:lnTo>
                <a:lnTo>
                  <a:pt x="1865" y="1063"/>
                </a:lnTo>
                <a:lnTo>
                  <a:pt x="1865" y="1110"/>
                </a:lnTo>
                <a:close/>
                <a:moveTo>
                  <a:pt x="1789" y="1110"/>
                </a:moveTo>
                <a:lnTo>
                  <a:pt x="1742" y="1110"/>
                </a:lnTo>
                <a:lnTo>
                  <a:pt x="1742" y="1063"/>
                </a:lnTo>
                <a:lnTo>
                  <a:pt x="1789" y="1063"/>
                </a:lnTo>
                <a:lnTo>
                  <a:pt x="1789" y="1110"/>
                </a:lnTo>
                <a:close/>
                <a:moveTo>
                  <a:pt x="1714" y="1110"/>
                </a:moveTo>
                <a:lnTo>
                  <a:pt x="1666" y="1110"/>
                </a:lnTo>
                <a:lnTo>
                  <a:pt x="1666" y="1063"/>
                </a:lnTo>
                <a:lnTo>
                  <a:pt x="1714" y="1063"/>
                </a:lnTo>
                <a:lnTo>
                  <a:pt x="1714" y="1110"/>
                </a:lnTo>
                <a:close/>
                <a:moveTo>
                  <a:pt x="1638" y="1110"/>
                </a:moveTo>
                <a:lnTo>
                  <a:pt x="1591" y="1110"/>
                </a:lnTo>
                <a:lnTo>
                  <a:pt x="1591" y="1063"/>
                </a:lnTo>
                <a:lnTo>
                  <a:pt x="1638" y="1063"/>
                </a:lnTo>
                <a:lnTo>
                  <a:pt x="1638" y="1110"/>
                </a:lnTo>
                <a:close/>
                <a:moveTo>
                  <a:pt x="1562" y="1110"/>
                </a:moveTo>
                <a:lnTo>
                  <a:pt x="1515" y="1110"/>
                </a:lnTo>
                <a:lnTo>
                  <a:pt x="1515" y="1063"/>
                </a:lnTo>
                <a:lnTo>
                  <a:pt x="1562" y="1063"/>
                </a:lnTo>
                <a:lnTo>
                  <a:pt x="1562" y="1110"/>
                </a:lnTo>
                <a:close/>
                <a:moveTo>
                  <a:pt x="1486" y="1110"/>
                </a:moveTo>
                <a:lnTo>
                  <a:pt x="1439" y="1110"/>
                </a:lnTo>
                <a:lnTo>
                  <a:pt x="1439" y="1063"/>
                </a:lnTo>
                <a:lnTo>
                  <a:pt x="1486" y="1063"/>
                </a:lnTo>
                <a:lnTo>
                  <a:pt x="1486" y="1110"/>
                </a:lnTo>
                <a:close/>
                <a:moveTo>
                  <a:pt x="1032" y="1110"/>
                </a:moveTo>
                <a:lnTo>
                  <a:pt x="985" y="1110"/>
                </a:lnTo>
                <a:lnTo>
                  <a:pt x="985" y="1063"/>
                </a:lnTo>
                <a:lnTo>
                  <a:pt x="1032" y="1063"/>
                </a:lnTo>
                <a:lnTo>
                  <a:pt x="1032" y="1110"/>
                </a:lnTo>
                <a:close/>
                <a:moveTo>
                  <a:pt x="956" y="1110"/>
                </a:moveTo>
                <a:lnTo>
                  <a:pt x="909" y="1110"/>
                </a:lnTo>
                <a:lnTo>
                  <a:pt x="909" y="1063"/>
                </a:lnTo>
                <a:lnTo>
                  <a:pt x="956" y="1063"/>
                </a:lnTo>
                <a:lnTo>
                  <a:pt x="956" y="1110"/>
                </a:lnTo>
                <a:close/>
                <a:moveTo>
                  <a:pt x="881" y="1110"/>
                </a:moveTo>
                <a:lnTo>
                  <a:pt x="833" y="1110"/>
                </a:lnTo>
                <a:lnTo>
                  <a:pt x="833" y="1063"/>
                </a:lnTo>
                <a:lnTo>
                  <a:pt x="881" y="1063"/>
                </a:lnTo>
                <a:lnTo>
                  <a:pt x="881" y="1110"/>
                </a:lnTo>
                <a:close/>
                <a:moveTo>
                  <a:pt x="805" y="1110"/>
                </a:moveTo>
                <a:lnTo>
                  <a:pt x="758" y="1110"/>
                </a:lnTo>
                <a:lnTo>
                  <a:pt x="758" y="1063"/>
                </a:lnTo>
                <a:lnTo>
                  <a:pt x="805" y="1063"/>
                </a:lnTo>
                <a:lnTo>
                  <a:pt x="805" y="1110"/>
                </a:lnTo>
                <a:close/>
                <a:moveTo>
                  <a:pt x="2622" y="1035"/>
                </a:moveTo>
                <a:lnTo>
                  <a:pt x="2575" y="1035"/>
                </a:lnTo>
                <a:lnTo>
                  <a:pt x="2575" y="987"/>
                </a:lnTo>
                <a:lnTo>
                  <a:pt x="2622" y="987"/>
                </a:lnTo>
                <a:lnTo>
                  <a:pt x="2622" y="1035"/>
                </a:lnTo>
                <a:close/>
                <a:moveTo>
                  <a:pt x="2547" y="1035"/>
                </a:moveTo>
                <a:lnTo>
                  <a:pt x="2499" y="1035"/>
                </a:lnTo>
                <a:lnTo>
                  <a:pt x="2499" y="987"/>
                </a:lnTo>
                <a:lnTo>
                  <a:pt x="2547" y="987"/>
                </a:lnTo>
                <a:lnTo>
                  <a:pt x="2547" y="1035"/>
                </a:lnTo>
                <a:close/>
                <a:moveTo>
                  <a:pt x="2471" y="1035"/>
                </a:moveTo>
                <a:lnTo>
                  <a:pt x="2424" y="1035"/>
                </a:lnTo>
                <a:lnTo>
                  <a:pt x="2424" y="987"/>
                </a:lnTo>
                <a:lnTo>
                  <a:pt x="2471" y="987"/>
                </a:lnTo>
                <a:lnTo>
                  <a:pt x="2471" y="1035"/>
                </a:lnTo>
                <a:close/>
                <a:moveTo>
                  <a:pt x="2395" y="1035"/>
                </a:moveTo>
                <a:lnTo>
                  <a:pt x="2348" y="1035"/>
                </a:lnTo>
                <a:lnTo>
                  <a:pt x="2348" y="987"/>
                </a:lnTo>
                <a:lnTo>
                  <a:pt x="2395" y="987"/>
                </a:lnTo>
                <a:lnTo>
                  <a:pt x="2395" y="1035"/>
                </a:lnTo>
                <a:close/>
                <a:moveTo>
                  <a:pt x="2319" y="1035"/>
                </a:moveTo>
                <a:lnTo>
                  <a:pt x="2272" y="1035"/>
                </a:lnTo>
                <a:lnTo>
                  <a:pt x="2272" y="987"/>
                </a:lnTo>
                <a:lnTo>
                  <a:pt x="2319" y="987"/>
                </a:lnTo>
                <a:lnTo>
                  <a:pt x="2319" y="1035"/>
                </a:lnTo>
                <a:close/>
                <a:moveTo>
                  <a:pt x="2168" y="1035"/>
                </a:moveTo>
                <a:lnTo>
                  <a:pt x="2121" y="1035"/>
                </a:lnTo>
                <a:lnTo>
                  <a:pt x="2121" y="987"/>
                </a:lnTo>
                <a:lnTo>
                  <a:pt x="2168" y="987"/>
                </a:lnTo>
                <a:lnTo>
                  <a:pt x="2168" y="1035"/>
                </a:lnTo>
                <a:close/>
                <a:moveTo>
                  <a:pt x="2092" y="1035"/>
                </a:moveTo>
                <a:lnTo>
                  <a:pt x="2045" y="1035"/>
                </a:lnTo>
                <a:lnTo>
                  <a:pt x="2045" y="987"/>
                </a:lnTo>
                <a:lnTo>
                  <a:pt x="2092" y="987"/>
                </a:lnTo>
                <a:lnTo>
                  <a:pt x="2092" y="1035"/>
                </a:lnTo>
                <a:close/>
                <a:moveTo>
                  <a:pt x="2016" y="1035"/>
                </a:moveTo>
                <a:lnTo>
                  <a:pt x="1969" y="1035"/>
                </a:lnTo>
                <a:lnTo>
                  <a:pt x="1969" y="987"/>
                </a:lnTo>
                <a:lnTo>
                  <a:pt x="2016" y="987"/>
                </a:lnTo>
                <a:lnTo>
                  <a:pt x="2016" y="1035"/>
                </a:lnTo>
                <a:close/>
                <a:moveTo>
                  <a:pt x="1941" y="1035"/>
                </a:moveTo>
                <a:lnTo>
                  <a:pt x="1893" y="1035"/>
                </a:lnTo>
                <a:lnTo>
                  <a:pt x="1893" y="987"/>
                </a:lnTo>
                <a:lnTo>
                  <a:pt x="1941" y="987"/>
                </a:lnTo>
                <a:lnTo>
                  <a:pt x="1941" y="1035"/>
                </a:lnTo>
                <a:close/>
                <a:moveTo>
                  <a:pt x="1865" y="1035"/>
                </a:moveTo>
                <a:lnTo>
                  <a:pt x="1818" y="1035"/>
                </a:lnTo>
                <a:lnTo>
                  <a:pt x="1818" y="987"/>
                </a:lnTo>
                <a:lnTo>
                  <a:pt x="1865" y="987"/>
                </a:lnTo>
                <a:lnTo>
                  <a:pt x="1865" y="1035"/>
                </a:lnTo>
                <a:close/>
                <a:moveTo>
                  <a:pt x="1789" y="1035"/>
                </a:moveTo>
                <a:lnTo>
                  <a:pt x="1742" y="1035"/>
                </a:lnTo>
                <a:lnTo>
                  <a:pt x="1742" y="987"/>
                </a:lnTo>
                <a:lnTo>
                  <a:pt x="1789" y="987"/>
                </a:lnTo>
                <a:lnTo>
                  <a:pt x="1789" y="1035"/>
                </a:lnTo>
                <a:close/>
                <a:moveTo>
                  <a:pt x="1714" y="1035"/>
                </a:moveTo>
                <a:lnTo>
                  <a:pt x="1666" y="1035"/>
                </a:lnTo>
                <a:lnTo>
                  <a:pt x="1666" y="987"/>
                </a:lnTo>
                <a:lnTo>
                  <a:pt x="1714" y="987"/>
                </a:lnTo>
                <a:lnTo>
                  <a:pt x="1714" y="1035"/>
                </a:lnTo>
                <a:close/>
                <a:moveTo>
                  <a:pt x="1638" y="1035"/>
                </a:moveTo>
                <a:lnTo>
                  <a:pt x="1591" y="1035"/>
                </a:lnTo>
                <a:lnTo>
                  <a:pt x="1591" y="987"/>
                </a:lnTo>
                <a:lnTo>
                  <a:pt x="1638" y="987"/>
                </a:lnTo>
                <a:lnTo>
                  <a:pt x="1638" y="1035"/>
                </a:lnTo>
                <a:close/>
                <a:moveTo>
                  <a:pt x="1562" y="1035"/>
                </a:moveTo>
                <a:lnTo>
                  <a:pt x="1515" y="1035"/>
                </a:lnTo>
                <a:lnTo>
                  <a:pt x="1515" y="987"/>
                </a:lnTo>
                <a:lnTo>
                  <a:pt x="1562" y="987"/>
                </a:lnTo>
                <a:lnTo>
                  <a:pt x="1562" y="1035"/>
                </a:lnTo>
                <a:close/>
                <a:moveTo>
                  <a:pt x="1486" y="1035"/>
                </a:moveTo>
                <a:lnTo>
                  <a:pt x="1439" y="1035"/>
                </a:lnTo>
                <a:lnTo>
                  <a:pt x="1439" y="987"/>
                </a:lnTo>
                <a:lnTo>
                  <a:pt x="1486" y="987"/>
                </a:lnTo>
                <a:lnTo>
                  <a:pt x="1486" y="1035"/>
                </a:lnTo>
                <a:close/>
                <a:moveTo>
                  <a:pt x="805" y="1035"/>
                </a:moveTo>
                <a:lnTo>
                  <a:pt x="758" y="1035"/>
                </a:lnTo>
                <a:lnTo>
                  <a:pt x="758" y="987"/>
                </a:lnTo>
                <a:lnTo>
                  <a:pt x="805" y="987"/>
                </a:lnTo>
                <a:lnTo>
                  <a:pt x="805" y="1035"/>
                </a:lnTo>
                <a:close/>
                <a:moveTo>
                  <a:pt x="729" y="1035"/>
                </a:moveTo>
                <a:lnTo>
                  <a:pt x="682" y="1035"/>
                </a:lnTo>
                <a:lnTo>
                  <a:pt x="682" y="987"/>
                </a:lnTo>
                <a:lnTo>
                  <a:pt x="729" y="987"/>
                </a:lnTo>
                <a:lnTo>
                  <a:pt x="729" y="1035"/>
                </a:lnTo>
                <a:close/>
                <a:moveTo>
                  <a:pt x="653" y="1035"/>
                </a:moveTo>
                <a:lnTo>
                  <a:pt x="606" y="1035"/>
                </a:lnTo>
                <a:lnTo>
                  <a:pt x="606" y="987"/>
                </a:lnTo>
                <a:lnTo>
                  <a:pt x="653" y="987"/>
                </a:lnTo>
                <a:lnTo>
                  <a:pt x="653" y="1035"/>
                </a:lnTo>
                <a:close/>
                <a:moveTo>
                  <a:pt x="2776" y="959"/>
                </a:moveTo>
                <a:lnTo>
                  <a:pt x="2726" y="959"/>
                </a:lnTo>
                <a:lnTo>
                  <a:pt x="2726" y="912"/>
                </a:lnTo>
                <a:lnTo>
                  <a:pt x="2776" y="912"/>
                </a:lnTo>
                <a:lnTo>
                  <a:pt x="2776" y="959"/>
                </a:lnTo>
                <a:close/>
                <a:moveTo>
                  <a:pt x="2700" y="959"/>
                </a:moveTo>
                <a:lnTo>
                  <a:pt x="2651" y="959"/>
                </a:lnTo>
                <a:lnTo>
                  <a:pt x="2651" y="912"/>
                </a:lnTo>
                <a:lnTo>
                  <a:pt x="2700" y="912"/>
                </a:lnTo>
                <a:lnTo>
                  <a:pt x="2700" y="959"/>
                </a:lnTo>
                <a:close/>
                <a:moveTo>
                  <a:pt x="2622" y="959"/>
                </a:moveTo>
                <a:lnTo>
                  <a:pt x="2575" y="959"/>
                </a:lnTo>
                <a:lnTo>
                  <a:pt x="2575" y="912"/>
                </a:lnTo>
                <a:lnTo>
                  <a:pt x="2622" y="912"/>
                </a:lnTo>
                <a:lnTo>
                  <a:pt x="2622" y="959"/>
                </a:lnTo>
                <a:close/>
                <a:moveTo>
                  <a:pt x="2547" y="959"/>
                </a:moveTo>
                <a:lnTo>
                  <a:pt x="2499" y="959"/>
                </a:lnTo>
                <a:lnTo>
                  <a:pt x="2499" y="912"/>
                </a:lnTo>
                <a:lnTo>
                  <a:pt x="2547" y="912"/>
                </a:lnTo>
                <a:lnTo>
                  <a:pt x="2547" y="959"/>
                </a:lnTo>
                <a:close/>
                <a:moveTo>
                  <a:pt x="2471" y="959"/>
                </a:moveTo>
                <a:lnTo>
                  <a:pt x="2424" y="959"/>
                </a:lnTo>
                <a:lnTo>
                  <a:pt x="2424" y="912"/>
                </a:lnTo>
                <a:lnTo>
                  <a:pt x="2471" y="912"/>
                </a:lnTo>
                <a:lnTo>
                  <a:pt x="2471" y="959"/>
                </a:lnTo>
                <a:close/>
                <a:moveTo>
                  <a:pt x="2395" y="959"/>
                </a:moveTo>
                <a:lnTo>
                  <a:pt x="2348" y="959"/>
                </a:lnTo>
                <a:lnTo>
                  <a:pt x="2348" y="912"/>
                </a:lnTo>
                <a:lnTo>
                  <a:pt x="2395" y="912"/>
                </a:lnTo>
                <a:lnTo>
                  <a:pt x="2395" y="959"/>
                </a:lnTo>
                <a:close/>
                <a:moveTo>
                  <a:pt x="2319" y="959"/>
                </a:moveTo>
                <a:lnTo>
                  <a:pt x="2272" y="959"/>
                </a:lnTo>
                <a:lnTo>
                  <a:pt x="2272" y="912"/>
                </a:lnTo>
                <a:lnTo>
                  <a:pt x="2319" y="912"/>
                </a:lnTo>
                <a:lnTo>
                  <a:pt x="2319" y="959"/>
                </a:lnTo>
                <a:close/>
                <a:moveTo>
                  <a:pt x="2168" y="959"/>
                </a:moveTo>
                <a:lnTo>
                  <a:pt x="2121" y="959"/>
                </a:lnTo>
                <a:lnTo>
                  <a:pt x="2121" y="912"/>
                </a:lnTo>
                <a:lnTo>
                  <a:pt x="2168" y="912"/>
                </a:lnTo>
                <a:lnTo>
                  <a:pt x="2168" y="959"/>
                </a:lnTo>
                <a:close/>
                <a:moveTo>
                  <a:pt x="2092" y="959"/>
                </a:moveTo>
                <a:lnTo>
                  <a:pt x="2045" y="959"/>
                </a:lnTo>
                <a:lnTo>
                  <a:pt x="2045" y="912"/>
                </a:lnTo>
                <a:lnTo>
                  <a:pt x="2092" y="912"/>
                </a:lnTo>
                <a:lnTo>
                  <a:pt x="2092" y="959"/>
                </a:lnTo>
                <a:close/>
                <a:moveTo>
                  <a:pt x="2016" y="959"/>
                </a:moveTo>
                <a:lnTo>
                  <a:pt x="1969" y="959"/>
                </a:lnTo>
                <a:lnTo>
                  <a:pt x="1969" y="912"/>
                </a:lnTo>
                <a:lnTo>
                  <a:pt x="2016" y="912"/>
                </a:lnTo>
                <a:lnTo>
                  <a:pt x="2016" y="959"/>
                </a:lnTo>
                <a:close/>
                <a:moveTo>
                  <a:pt x="1941" y="959"/>
                </a:moveTo>
                <a:lnTo>
                  <a:pt x="1893" y="959"/>
                </a:lnTo>
                <a:lnTo>
                  <a:pt x="1893" y="912"/>
                </a:lnTo>
                <a:lnTo>
                  <a:pt x="1941" y="912"/>
                </a:lnTo>
                <a:lnTo>
                  <a:pt x="1941" y="959"/>
                </a:lnTo>
                <a:close/>
                <a:moveTo>
                  <a:pt x="1865" y="959"/>
                </a:moveTo>
                <a:lnTo>
                  <a:pt x="1818" y="959"/>
                </a:lnTo>
                <a:lnTo>
                  <a:pt x="1818" y="912"/>
                </a:lnTo>
                <a:lnTo>
                  <a:pt x="1865" y="912"/>
                </a:lnTo>
                <a:lnTo>
                  <a:pt x="1865" y="959"/>
                </a:lnTo>
                <a:close/>
                <a:moveTo>
                  <a:pt x="1789" y="959"/>
                </a:moveTo>
                <a:lnTo>
                  <a:pt x="1742" y="959"/>
                </a:lnTo>
                <a:lnTo>
                  <a:pt x="1742" y="912"/>
                </a:lnTo>
                <a:lnTo>
                  <a:pt x="1789" y="912"/>
                </a:lnTo>
                <a:lnTo>
                  <a:pt x="1789" y="959"/>
                </a:lnTo>
                <a:close/>
                <a:moveTo>
                  <a:pt x="1714" y="959"/>
                </a:moveTo>
                <a:lnTo>
                  <a:pt x="1666" y="959"/>
                </a:lnTo>
                <a:lnTo>
                  <a:pt x="1666" y="912"/>
                </a:lnTo>
                <a:lnTo>
                  <a:pt x="1714" y="912"/>
                </a:lnTo>
                <a:lnTo>
                  <a:pt x="1714" y="959"/>
                </a:lnTo>
                <a:close/>
                <a:moveTo>
                  <a:pt x="1638" y="959"/>
                </a:moveTo>
                <a:lnTo>
                  <a:pt x="1591" y="959"/>
                </a:lnTo>
                <a:lnTo>
                  <a:pt x="1591" y="912"/>
                </a:lnTo>
                <a:lnTo>
                  <a:pt x="1638" y="912"/>
                </a:lnTo>
                <a:lnTo>
                  <a:pt x="1638" y="959"/>
                </a:lnTo>
                <a:close/>
                <a:moveTo>
                  <a:pt x="1562" y="959"/>
                </a:moveTo>
                <a:lnTo>
                  <a:pt x="1515" y="959"/>
                </a:lnTo>
                <a:lnTo>
                  <a:pt x="1515" y="912"/>
                </a:lnTo>
                <a:lnTo>
                  <a:pt x="1562" y="912"/>
                </a:lnTo>
                <a:lnTo>
                  <a:pt x="1562" y="959"/>
                </a:lnTo>
                <a:close/>
                <a:moveTo>
                  <a:pt x="1486" y="959"/>
                </a:moveTo>
                <a:lnTo>
                  <a:pt x="1439" y="959"/>
                </a:lnTo>
                <a:lnTo>
                  <a:pt x="1439" y="912"/>
                </a:lnTo>
                <a:lnTo>
                  <a:pt x="1486" y="912"/>
                </a:lnTo>
                <a:lnTo>
                  <a:pt x="1486" y="959"/>
                </a:lnTo>
                <a:close/>
                <a:moveTo>
                  <a:pt x="881" y="959"/>
                </a:moveTo>
                <a:lnTo>
                  <a:pt x="833" y="959"/>
                </a:lnTo>
                <a:lnTo>
                  <a:pt x="833" y="912"/>
                </a:lnTo>
                <a:lnTo>
                  <a:pt x="881" y="912"/>
                </a:lnTo>
                <a:lnTo>
                  <a:pt x="881" y="959"/>
                </a:lnTo>
                <a:close/>
                <a:moveTo>
                  <a:pt x="653" y="959"/>
                </a:moveTo>
                <a:lnTo>
                  <a:pt x="606" y="959"/>
                </a:lnTo>
                <a:lnTo>
                  <a:pt x="606" y="912"/>
                </a:lnTo>
                <a:lnTo>
                  <a:pt x="653" y="912"/>
                </a:lnTo>
                <a:lnTo>
                  <a:pt x="653" y="959"/>
                </a:lnTo>
                <a:close/>
                <a:moveTo>
                  <a:pt x="578" y="959"/>
                </a:moveTo>
                <a:lnTo>
                  <a:pt x="530" y="959"/>
                </a:lnTo>
                <a:lnTo>
                  <a:pt x="530" y="912"/>
                </a:lnTo>
                <a:lnTo>
                  <a:pt x="578" y="912"/>
                </a:lnTo>
                <a:lnTo>
                  <a:pt x="578" y="959"/>
                </a:lnTo>
                <a:close/>
                <a:moveTo>
                  <a:pt x="2928" y="883"/>
                </a:moveTo>
                <a:lnTo>
                  <a:pt x="2878" y="883"/>
                </a:lnTo>
                <a:lnTo>
                  <a:pt x="2878" y="836"/>
                </a:lnTo>
                <a:lnTo>
                  <a:pt x="2928" y="836"/>
                </a:lnTo>
                <a:lnTo>
                  <a:pt x="2928" y="883"/>
                </a:lnTo>
                <a:close/>
                <a:moveTo>
                  <a:pt x="2776" y="883"/>
                </a:moveTo>
                <a:lnTo>
                  <a:pt x="2726" y="883"/>
                </a:lnTo>
                <a:lnTo>
                  <a:pt x="2726" y="836"/>
                </a:lnTo>
                <a:lnTo>
                  <a:pt x="2776" y="836"/>
                </a:lnTo>
                <a:lnTo>
                  <a:pt x="2776" y="883"/>
                </a:lnTo>
                <a:close/>
                <a:moveTo>
                  <a:pt x="2700" y="883"/>
                </a:moveTo>
                <a:lnTo>
                  <a:pt x="2651" y="883"/>
                </a:lnTo>
                <a:lnTo>
                  <a:pt x="2651" y="836"/>
                </a:lnTo>
                <a:lnTo>
                  <a:pt x="2700" y="836"/>
                </a:lnTo>
                <a:lnTo>
                  <a:pt x="2700" y="883"/>
                </a:lnTo>
                <a:close/>
                <a:moveTo>
                  <a:pt x="2622" y="883"/>
                </a:moveTo>
                <a:lnTo>
                  <a:pt x="2575" y="883"/>
                </a:lnTo>
                <a:lnTo>
                  <a:pt x="2575" y="836"/>
                </a:lnTo>
                <a:lnTo>
                  <a:pt x="2622" y="836"/>
                </a:lnTo>
                <a:lnTo>
                  <a:pt x="2622" y="883"/>
                </a:lnTo>
                <a:close/>
                <a:moveTo>
                  <a:pt x="2547" y="883"/>
                </a:moveTo>
                <a:lnTo>
                  <a:pt x="2499" y="883"/>
                </a:lnTo>
                <a:lnTo>
                  <a:pt x="2499" y="836"/>
                </a:lnTo>
                <a:lnTo>
                  <a:pt x="2547" y="836"/>
                </a:lnTo>
                <a:lnTo>
                  <a:pt x="2547" y="883"/>
                </a:lnTo>
                <a:close/>
                <a:moveTo>
                  <a:pt x="2471" y="883"/>
                </a:moveTo>
                <a:lnTo>
                  <a:pt x="2424" y="883"/>
                </a:lnTo>
                <a:lnTo>
                  <a:pt x="2424" y="836"/>
                </a:lnTo>
                <a:lnTo>
                  <a:pt x="2471" y="836"/>
                </a:lnTo>
                <a:lnTo>
                  <a:pt x="2471" y="883"/>
                </a:lnTo>
                <a:close/>
                <a:moveTo>
                  <a:pt x="2395" y="883"/>
                </a:moveTo>
                <a:lnTo>
                  <a:pt x="2348" y="883"/>
                </a:lnTo>
                <a:lnTo>
                  <a:pt x="2348" y="836"/>
                </a:lnTo>
                <a:lnTo>
                  <a:pt x="2395" y="836"/>
                </a:lnTo>
                <a:lnTo>
                  <a:pt x="2395" y="883"/>
                </a:lnTo>
                <a:close/>
                <a:moveTo>
                  <a:pt x="2319" y="883"/>
                </a:moveTo>
                <a:lnTo>
                  <a:pt x="2272" y="883"/>
                </a:lnTo>
                <a:lnTo>
                  <a:pt x="2272" y="836"/>
                </a:lnTo>
                <a:lnTo>
                  <a:pt x="2319" y="836"/>
                </a:lnTo>
                <a:lnTo>
                  <a:pt x="2319" y="883"/>
                </a:lnTo>
                <a:close/>
                <a:moveTo>
                  <a:pt x="2244" y="883"/>
                </a:moveTo>
                <a:lnTo>
                  <a:pt x="2196" y="883"/>
                </a:lnTo>
                <a:lnTo>
                  <a:pt x="2196" y="836"/>
                </a:lnTo>
                <a:lnTo>
                  <a:pt x="2244" y="836"/>
                </a:lnTo>
                <a:lnTo>
                  <a:pt x="2244" y="883"/>
                </a:lnTo>
                <a:close/>
                <a:moveTo>
                  <a:pt x="2168" y="883"/>
                </a:moveTo>
                <a:lnTo>
                  <a:pt x="2121" y="883"/>
                </a:lnTo>
                <a:lnTo>
                  <a:pt x="2121" y="836"/>
                </a:lnTo>
                <a:lnTo>
                  <a:pt x="2168" y="836"/>
                </a:lnTo>
                <a:lnTo>
                  <a:pt x="2168" y="883"/>
                </a:lnTo>
                <a:close/>
                <a:moveTo>
                  <a:pt x="2092" y="883"/>
                </a:moveTo>
                <a:lnTo>
                  <a:pt x="2045" y="883"/>
                </a:lnTo>
                <a:lnTo>
                  <a:pt x="2045" y="836"/>
                </a:lnTo>
                <a:lnTo>
                  <a:pt x="2092" y="836"/>
                </a:lnTo>
                <a:lnTo>
                  <a:pt x="2092" y="883"/>
                </a:lnTo>
                <a:close/>
                <a:moveTo>
                  <a:pt x="2016" y="883"/>
                </a:moveTo>
                <a:lnTo>
                  <a:pt x="1969" y="883"/>
                </a:lnTo>
                <a:lnTo>
                  <a:pt x="1969" y="836"/>
                </a:lnTo>
                <a:lnTo>
                  <a:pt x="2016" y="836"/>
                </a:lnTo>
                <a:lnTo>
                  <a:pt x="2016" y="883"/>
                </a:lnTo>
                <a:close/>
                <a:moveTo>
                  <a:pt x="1865" y="883"/>
                </a:moveTo>
                <a:lnTo>
                  <a:pt x="1818" y="883"/>
                </a:lnTo>
                <a:lnTo>
                  <a:pt x="1818" y="836"/>
                </a:lnTo>
                <a:lnTo>
                  <a:pt x="1865" y="836"/>
                </a:lnTo>
                <a:lnTo>
                  <a:pt x="1865" y="883"/>
                </a:lnTo>
                <a:close/>
                <a:moveTo>
                  <a:pt x="1789" y="883"/>
                </a:moveTo>
                <a:lnTo>
                  <a:pt x="1742" y="883"/>
                </a:lnTo>
                <a:lnTo>
                  <a:pt x="1742" y="836"/>
                </a:lnTo>
                <a:lnTo>
                  <a:pt x="1789" y="836"/>
                </a:lnTo>
                <a:lnTo>
                  <a:pt x="1789" y="883"/>
                </a:lnTo>
                <a:close/>
                <a:moveTo>
                  <a:pt x="1714" y="883"/>
                </a:moveTo>
                <a:lnTo>
                  <a:pt x="1666" y="883"/>
                </a:lnTo>
                <a:lnTo>
                  <a:pt x="1666" y="836"/>
                </a:lnTo>
                <a:lnTo>
                  <a:pt x="1714" y="836"/>
                </a:lnTo>
                <a:lnTo>
                  <a:pt x="1714" y="883"/>
                </a:lnTo>
                <a:close/>
                <a:moveTo>
                  <a:pt x="1638" y="883"/>
                </a:moveTo>
                <a:lnTo>
                  <a:pt x="1591" y="883"/>
                </a:lnTo>
                <a:lnTo>
                  <a:pt x="1591" y="836"/>
                </a:lnTo>
                <a:lnTo>
                  <a:pt x="1638" y="836"/>
                </a:lnTo>
                <a:lnTo>
                  <a:pt x="1638" y="883"/>
                </a:lnTo>
                <a:close/>
                <a:moveTo>
                  <a:pt x="1562" y="883"/>
                </a:moveTo>
                <a:lnTo>
                  <a:pt x="1515" y="883"/>
                </a:lnTo>
                <a:lnTo>
                  <a:pt x="1515" y="836"/>
                </a:lnTo>
                <a:lnTo>
                  <a:pt x="1562" y="836"/>
                </a:lnTo>
                <a:lnTo>
                  <a:pt x="1562" y="883"/>
                </a:lnTo>
                <a:close/>
                <a:moveTo>
                  <a:pt x="805" y="883"/>
                </a:moveTo>
                <a:lnTo>
                  <a:pt x="758" y="883"/>
                </a:lnTo>
                <a:lnTo>
                  <a:pt x="758" y="836"/>
                </a:lnTo>
                <a:lnTo>
                  <a:pt x="805" y="836"/>
                </a:lnTo>
                <a:lnTo>
                  <a:pt x="805" y="883"/>
                </a:lnTo>
                <a:close/>
                <a:moveTo>
                  <a:pt x="729" y="883"/>
                </a:moveTo>
                <a:lnTo>
                  <a:pt x="682" y="883"/>
                </a:lnTo>
                <a:lnTo>
                  <a:pt x="682" y="836"/>
                </a:lnTo>
                <a:lnTo>
                  <a:pt x="729" y="836"/>
                </a:lnTo>
                <a:lnTo>
                  <a:pt x="729" y="883"/>
                </a:lnTo>
                <a:close/>
                <a:moveTo>
                  <a:pt x="653" y="883"/>
                </a:moveTo>
                <a:lnTo>
                  <a:pt x="606" y="883"/>
                </a:lnTo>
                <a:lnTo>
                  <a:pt x="606" y="836"/>
                </a:lnTo>
                <a:lnTo>
                  <a:pt x="653" y="836"/>
                </a:lnTo>
                <a:lnTo>
                  <a:pt x="653" y="883"/>
                </a:lnTo>
                <a:close/>
                <a:moveTo>
                  <a:pt x="578" y="883"/>
                </a:moveTo>
                <a:lnTo>
                  <a:pt x="530" y="883"/>
                </a:lnTo>
                <a:lnTo>
                  <a:pt x="530" y="836"/>
                </a:lnTo>
                <a:lnTo>
                  <a:pt x="578" y="836"/>
                </a:lnTo>
                <a:lnTo>
                  <a:pt x="578" y="883"/>
                </a:lnTo>
                <a:close/>
                <a:moveTo>
                  <a:pt x="502" y="883"/>
                </a:moveTo>
                <a:lnTo>
                  <a:pt x="455" y="883"/>
                </a:lnTo>
                <a:lnTo>
                  <a:pt x="455" y="836"/>
                </a:lnTo>
                <a:lnTo>
                  <a:pt x="502" y="836"/>
                </a:lnTo>
                <a:lnTo>
                  <a:pt x="502" y="883"/>
                </a:lnTo>
                <a:close/>
                <a:moveTo>
                  <a:pt x="3003" y="807"/>
                </a:moveTo>
                <a:lnTo>
                  <a:pt x="2954" y="807"/>
                </a:lnTo>
                <a:lnTo>
                  <a:pt x="2954" y="760"/>
                </a:lnTo>
                <a:lnTo>
                  <a:pt x="3003" y="760"/>
                </a:lnTo>
                <a:lnTo>
                  <a:pt x="3003" y="807"/>
                </a:lnTo>
                <a:close/>
                <a:moveTo>
                  <a:pt x="2852" y="807"/>
                </a:moveTo>
                <a:lnTo>
                  <a:pt x="2802" y="807"/>
                </a:lnTo>
                <a:lnTo>
                  <a:pt x="2802" y="760"/>
                </a:lnTo>
                <a:lnTo>
                  <a:pt x="2852" y="760"/>
                </a:lnTo>
                <a:lnTo>
                  <a:pt x="2852" y="807"/>
                </a:lnTo>
                <a:close/>
                <a:moveTo>
                  <a:pt x="2776" y="807"/>
                </a:moveTo>
                <a:lnTo>
                  <a:pt x="2726" y="807"/>
                </a:lnTo>
                <a:lnTo>
                  <a:pt x="2726" y="760"/>
                </a:lnTo>
                <a:lnTo>
                  <a:pt x="2776" y="760"/>
                </a:lnTo>
                <a:lnTo>
                  <a:pt x="2776" y="807"/>
                </a:lnTo>
                <a:close/>
                <a:moveTo>
                  <a:pt x="2700" y="807"/>
                </a:moveTo>
                <a:lnTo>
                  <a:pt x="2651" y="807"/>
                </a:lnTo>
                <a:lnTo>
                  <a:pt x="2651" y="760"/>
                </a:lnTo>
                <a:lnTo>
                  <a:pt x="2700" y="760"/>
                </a:lnTo>
                <a:lnTo>
                  <a:pt x="2700" y="807"/>
                </a:lnTo>
                <a:close/>
                <a:moveTo>
                  <a:pt x="2622" y="807"/>
                </a:moveTo>
                <a:lnTo>
                  <a:pt x="2575" y="807"/>
                </a:lnTo>
                <a:lnTo>
                  <a:pt x="2575" y="760"/>
                </a:lnTo>
                <a:lnTo>
                  <a:pt x="2622" y="760"/>
                </a:lnTo>
                <a:lnTo>
                  <a:pt x="2622" y="807"/>
                </a:lnTo>
                <a:close/>
                <a:moveTo>
                  <a:pt x="2547" y="807"/>
                </a:moveTo>
                <a:lnTo>
                  <a:pt x="2499" y="807"/>
                </a:lnTo>
                <a:lnTo>
                  <a:pt x="2499" y="760"/>
                </a:lnTo>
                <a:lnTo>
                  <a:pt x="2547" y="760"/>
                </a:lnTo>
                <a:lnTo>
                  <a:pt x="2547" y="807"/>
                </a:lnTo>
                <a:close/>
                <a:moveTo>
                  <a:pt x="2471" y="807"/>
                </a:moveTo>
                <a:lnTo>
                  <a:pt x="2424" y="807"/>
                </a:lnTo>
                <a:lnTo>
                  <a:pt x="2424" y="760"/>
                </a:lnTo>
                <a:lnTo>
                  <a:pt x="2471" y="760"/>
                </a:lnTo>
                <a:lnTo>
                  <a:pt x="2471" y="807"/>
                </a:lnTo>
                <a:close/>
                <a:moveTo>
                  <a:pt x="2395" y="807"/>
                </a:moveTo>
                <a:lnTo>
                  <a:pt x="2348" y="807"/>
                </a:lnTo>
                <a:lnTo>
                  <a:pt x="2348" y="760"/>
                </a:lnTo>
                <a:lnTo>
                  <a:pt x="2395" y="760"/>
                </a:lnTo>
                <a:lnTo>
                  <a:pt x="2395" y="807"/>
                </a:lnTo>
                <a:close/>
                <a:moveTo>
                  <a:pt x="2319" y="807"/>
                </a:moveTo>
                <a:lnTo>
                  <a:pt x="2272" y="807"/>
                </a:lnTo>
                <a:lnTo>
                  <a:pt x="2272" y="760"/>
                </a:lnTo>
                <a:lnTo>
                  <a:pt x="2319" y="760"/>
                </a:lnTo>
                <a:lnTo>
                  <a:pt x="2319" y="807"/>
                </a:lnTo>
                <a:close/>
                <a:moveTo>
                  <a:pt x="2244" y="807"/>
                </a:moveTo>
                <a:lnTo>
                  <a:pt x="2196" y="807"/>
                </a:lnTo>
                <a:lnTo>
                  <a:pt x="2196" y="760"/>
                </a:lnTo>
                <a:lnTo>
                  <a:pt x="2244" y="760"/>
                </a:lnTo>
                <a:lnTo>
                  <a:pt x="2244" y="807"/>
                </a:lnTo>
                <a:close/>
                <a:moveTo>
                  <a:pt x="2168" y="807"/>
                </a:moveTo>
                <a:lnTo>
                  <a:pt x="2121" y="807"/>
                </a:lnTo>
                <a:lnTo>
                  <a:pt x="2121" y="760"/>
                </a:lnTo>
                <a:lnTo>
                  <a:pt x="2168" y="760"/>
                </a:lnTo>
                <a:lnTo>
                  <a:pt x="2168" y="807"/>
                </a:lnTo>
                <a:close/>
                <a:moveTo>
                  <a:pt x="2092" y="807"/>
                </a:moveTo>
                <a:lnTo>
                  <a:pt x="2045" y="807"/>
                </a:lnTo>
                <a:lnTo>
                  <a:pt x="2045" y="760"/>
                </a:lnTo>
                <a:lnTo>
                  <a:pt x="2092" y="760"/>
                </a:lnTo>
                <a:lnTo>
                  <a:pt x="2092" y="807"/>
                </a:lnTo>
                <a:close/>
                <a:moveTo>
                  <a:pt x="2016" y="807"/>
                </a:moveTo>
                <a:lnTo>
                  <a:pt x="1969" y="807"/>
                </a:lnTo>
                <a:lnTo>
                  <a:pt x="1969" y="760"/>
                </a:lnTo>
                <a:lnTo>
                  <a:pt x="2016" y="760"/>
                </a:lnTo>
                <a:lnTo>
                  <a:pt x="2016" y="807"/>
                </a:lnTo>
                <a:close/>
                <a:moveTo>
                  <a:pt x="1941" y="807"/>
                </a:moveTo>
                <a:lnTo>
                  <a:pt x="1893" y="807"/>
                </a:lnTo>
                <a:lnTo>
                  <a:pt x="1893" y="760"/>
                </a:lnTo>
                <a:lnTo>
                  <a:pt x="1941" y="760"/>
                </a:lnTo>
                <a:lnTo>
                  <a:pt x="1941" y="807"/>
                </a:lnTo>
                <a:close/>
                <a:moveTo>
                  <a:pt x="1789" y="807"/>
                </a:moveTo>
                <a:lnTo>
                  <a:pt x="1742" y="807"/>
                </a:lnTo>
                <a:lnTo>
                  <a:pt x="1742" y="760"/>
                </a:lnTo>
                <a:lnTo>
                  <a:pt x="1789" y="760"/>
                </a:lnTo>
                <a:lnTo>
                  <a:pt x="1789" y="807"/>
                </a:lnTo>
                <a:close/>
                <a:moveTo>
                  <a:pt x="1638" y="807"/>
                </a:moveTo>
                <a:lnTo>
                  <a:pt x="1591" y="807"/>
                </a:lnTo>
                <a:lnTo>
                  <a:pt x="1591" y="760"/>
                </a:lnTo>
                <a:lnTo>
                  <a:pt x="1638" y="760"/>
                </a:lnTo>
                <a:lnTo>
                  <a:pt x="1638" y="807"/>
                </a:lnTo>
                <a:close/>
                <a:moveTo>
                  <a:pt x="1562" y="807"/>
                </a:moveTo>
                <a:lnTo>
                  <a:pt x="1515" y="807"/>
                </a:lnTo>
                <a:lnTo>
                  <a:pt x="1515" y="760"/>
                </a:lnTo>
                <a:lnTo>
                  <a:pt x="1562" y="760"/>
                </a:lnTo>
                <a:lnTo>
                  <a:pt x="1562" y="807"/>
                </a:lnTo>
                <a:close/>
                <a:moveTo>
                  <a:pt x="881" y="807"/>
                </a:moveTo>
                <a:lnTo>
                  <a:pt x="833" y="807"/>
                </a:lnTo>
                <a:lnTo>
                  <a:pt x="833" y="760"/>
                </a:lnTo>
                <a:lnTo>
                  <a:pt x="881" y="760"/>
                </a:lnTo>
                <a:lnTo>
                  <a:pt x="881" y="807"/>
                </a:lnTo>
                <a:close/>
                <a:moveTo>
                  <a:pt x="805" y="807"/>
                </a:moveTo>
                <a:lnTo>
                  <a:pt x="758" y="807"/>
                </a:lnTo>
                <a:lnTo>
                  <a:pt x="758" y="760"/>
                </a:lnTo>
                <a:lnTo>
                  <a:pt x="805" y="760"/>
                </a:lnTo>
                <a:lnTo>
                  <a:pt x="805" y="807"/>
                </a:lnTo>
                <a:close/>
                <a:moveTo>
                  <a:pt x="729" y="807"/>
                </a:moveTo>
                <a:lnTo>
                  <a:pt x="682" y="807"/>
                </a:lnTo>
                <a:lnTo>
                  <a:pt x="682" y="760"/>
                </a:lnTo>
                <a:lnTo>
                  <a:pt x="729" y="760"/>
                </a:lnTo>
                <a:lnTo>
                  <a:pt x="729" y="807"/>
                </a:lnTo>
                <a:close/>
                <a:moveTo>
                  <a:pt x="653" y="807"/>
                </a:moveTo>
                <a:lnTo>
                  <a:pt x="606" y="807"/>
                </a:lnTo>
                <a:lnTo>
                  <a:pt x="606" y="760"/>
                </a:lnTo>
                <a:lnTo>
                  <a:pt x="653" y="760"/>
                </a:lnTo>
                <a:lnTo>
                  <a:pt x="653" y="807"/>
                </a:lnTo>
                <a:close/>
                <a:moveTo>
                  <a:pt x="578" y="807"/>
                </a:moveTo>
                <a:lnTo>
                  <a:pt x="530" y="807"/>
                </a:lnTo>
                <a:lnTo>
                  <a:pt x="530" y="760"/>
                </a:lnTo>
                <a:lnTo>
                  <a:pt x="578" y="760"/>
                </a:lnTo>
                <a:lnTo>
                  <a:pt x="578" y="807"/>
                </a:lnTo>
                <a:close/>
                <a:moveTo>
                  <a:pt x="502" y="807"/>
                </a:moveTo>
                <a:lnTo>
                  <a:pt x="455" y="807"/>
                </a:lnTo>
                <a:lnTo>
                  <a:pt x="455" y="760"/>
                </a:lnTo>
                <a:lnTo>
                  <a:pt x="502" y="760"/>
                </a:lnTo>
                <a:lnTo>
                  <a:pt x="502" y="807"/>
                </a:lnTo>
                <a:close/>
                <a:moveTo>
                  <a:pt x="3003" y="732"/>
                </a:moveTo>
                <a:lnTo>
                  <a:pt x="2954" y="732"/>
                </a:lnTo>
                <a:lnTo>
                  <a:pt x="2954" y="682"/>
                </a:lnTo>
                <a:lnTo>
                  <a:pt x="3003" y="682"/>
                </a:lnTo>
                <a:lnTo>
                  <a:pt x="3003" y="732"/>
                </a:lnTo>
                <a:close/>
                <a:moveTo>
                  <a:pt x="2928" y="732"/>
                </a:moveTo>
                <a:lnTo>
                  <a:pt x="2878" y="732"/>
                </a:lnTo>
                <a:lnTo>
                  <a:pt x="2878" y="682"/>
                </a:lnTo>
                <a:lnTo>
                  <a:pt x="2928" y="682"/>
                </a:lnTo>
                <a:lnTo>
                  <a:pt x="2928" y="732"/>
                </a:lnTo>
                <a:close/>
                <a:moveTo>
                  <a:pt x="2852" y="732"/>
                </a:moveTo>
                <a:lnTo>
                  <a:pt x="2802" y="732"/>
                </a:lnTo>
                <a:lnTo>
                  <a:pt x="2802" y="682"/>
                </a:lnTo>
                <a:lnTo>
                  <a:pt x="2852" y="682"/>
                </a:lnTo>
                <a:lnTo>
                  <a:pt x="2852" y="732"/>
                </a:lnTo>
                <a:close/>
                <a:moveTo>
                  <a:pt x="2776" y="732"/>
                </a:moveTo>
                <a:lnTo>
                  <a:pt x="2726" y="732"/>
                </a:lnTo>
                <a:lnTo>
                  <a:pt x="2726" y="682"/>
                </a:lnTo>
                <a:lnTo>
                  <a:pt x="2776" y="682"/>
                </a:lnTo>
                <a:lnTo>
                  <a:pt x="2776" y="732"/>
                </a:lnTo>
                <a:close/>
                <a:moveTo>
                  <a:pt x="2700" y="732"/>
                </a:moveTo>
                <a:lnTo>
                  <a:pt x="2651" y="732"/>
                </a:lnTo>
                <a:lnTo>
                  <a:pt x="2651" y="682"/>
                </a:lnTo>
                <a:lnTo>
                  <a:pt x="2700" y="682"/>
                </a:lnTo>
                <a:lnTo>
                  <a:pt x="2700" y="732"/>
                </a:lnTo>
                <a:close/>
                <a:moveTo>
                  <a:pt x="2622" y="732"/>
                </a:moveTo>
                <a:lnTo>
                  <a:pt x="2575" y="732"/>
                </a:lnTo>
                <a:lnTo>
                  <a:pt x="2575" y="682"/>
                </a:lnTo>
                <a:lnTo>
                  <a:pt x="2622" y="682"/>
                </a:lnTo>
                <a:lnTo>
                  <a:pt x="2622" y="732"/>
                </a:lnTo>
                <a:close/>
                <a:moveTo>
                  <a:pt x="2547" y="732"/>
                </a:moveTo>
                <a:lnTo>
                  <a:pt x="2499" y="732"/>
                </a:lnTo>
                <a:lnTo>
                  <a:pt x="2499" y="682"/>
                </a:lnTo>
                <a:lnTo>
                  <a:pt x="2547" y="682"/>
                </a:lnTo>
                <a:lnTo>
                  <a:pt x="2547" y="732"/>
                </a:lnTo>
                <a:close/>
                <a:moveTo>
                  <a:pt x="2471" y="732"/>
                </a:moveTo>
                <a:lnTo>
                  <a:pt x="2424" y="732"/>
                </a:lnTo>
                <a:lnTo>
                  <a:pt x="2424" y="682"/>
                </a:lnTo>
                <a:lnTo>
                  <a:pt x="2471" y="682"/>
                </a:lnTo>
                <a:lnTo>
                  <a:pt x="2471" y="732"/>
                </a:lnTo>
                <a:close/>
                <a:moveTo>
                  <a:pt x="2395" y="732"/>
                </a:moveTo>
                <a:lnTo>
                  <a:pt x="2348" y="732"/>
                </a:lnTo>
                <a:lnTo>
                  <a:pt x="2348" y="682"/>
                </a:lnTo>
                <a:lnTo>
                  <a:pt x="2395" y="682"/>
                </a:lnTo>
                <a:lnTo>
                  <a:pt x="2395" y="732"/>
                </a:lnTo>
                <a:close/>
                <a:moveTo>
                  <a:pt x="2319" y="732"/>
                </a:moveTo>
                <a:lnTo>
                  <a:pt x="2272" y="732"/>
                </a:lnTo>
                <a:lnTo>
                  <a:pt x="2272" y="682"/>
                </a:lnTo>
                <a:lnTo>
                  <a:pt x="2319" y="682"/>
                </a:lnTo>
                <a:lnTo>
                  <a:pt x="2319" y="732"/>
                </a:lnTo>
                <a:close/>
                <a:moveTo>
                  <a:pt x="2244" y="732"/>
                </a:moveTo>
                <a:lnTo>
                  <a:pt x="2196" y="732"/>
                </a:lnTo>
                <a:lnTo>
                  <a:pt x="2196" y="682"/>
                </a:lnTo>
                <a:lnTo>
                  <a:pt x="2244" y="682"/>
                </a:lnTo>
                <a:lnTo>
                  <a:pt x="2244" y="732"/>
                </a:lnTo>
                <a:close/>
                <a:moveTo>
                  <a:pt x="2092" y="732"/>
                </a:moveTo>
                <a:lnTo>
                  <a:pt x="2045" y="732"/>
                </a:lnTo>
                <a:lnTo>
                  <a:pt x="2045" y="682"/>
                </a:lnTo>
                <a:lnTo>
                  <a:pt x="2092" y="682"/>
                </a:lnTo>
                <a:lnTo>
                  <a:pt x="2092" y="732"/>
                </a:lnTo>
                <a:close/>
                <a:moveTo>
                  <a:pt x="1865" y="732"/>
                </a:moveTo>
                <a:lnTo>
                  <a:pt x="1818" y="732"/>
                </a:lnTo>
                <a:lnTo>
                  <a:pt x="1818" y="682"/>
                </a:lnTo>
                <a:lnTo>
                  <a:pt x="1865" y="682"/>
                </a:lnTo>
                <a:lnTo>
                  <a:pt x="1865" y="732"/>
                </a:lnTo>
                <a:close/>
                <a:moveTo>
                  <a:pt x="1789" y="732"/>
                </a:moveTo>
                <a:lnTo>
                  <a:pt x="1742" y="732"/>
                </a:lnTo>
                <a:lnTo>
                  <a:pt x="1742" y="682"/>
                </a:lnTo>
                <a:lnTo>
                  <a:pt x="1789" y="682"/>
                </a:lnTo>
                <a:lnTo>
                  <a:pt x="1789" y="732"/>
                </a:lnTo>
                <a:close/>
                <a:moveTo>
                  <a:pt x="1714" y="732"/>
                </a:moveTo>
                <a:lnTo>
                  <a:pt x="1666" y="732"/>
                </a:lnTo>
                <a:lnTo>
                  <a:pt x="1666" y="682"/>
                </a:lnTo>
                <a:lnTo>
                  <a:pt x="1714" y="682"/>
                </a:lnTo>
                <a:lnTo>
                  <a:pt x="1714" y="732"/>
                </a:lnTo>
                <a:close/>
                <a:moveTo>
                  <a:pt x="1638" y="732"/>
                </a:moveTo>
                <a:lnTo>
                  <a:pt x="1591" y="732"/>
                </a:lnTo>
                <a:lnTo>
                  <a:pt x="1591" y="682"/>
                </a:lnTo>
                <a:lnTo>
                  <a:pt x="1638" y="682"/>
                </a:lnTo>
                <a:lnTo>
                  <a:pt x="1638" y="732"/>
                </a:lnTo>
                <a:close/>
                <a:moveTo>
                  <a:pt x="956" y="732"/>
                </a:moveTo>
                <a:lnTo>
                  <a:pt x="909" y="732"/>
                </a:lnTo>
                <a:lnTo>
                  <a:pt x="909" y="682"/>
                </a:lnTo>
                <a:lnTo>
                  <a:pt x="956" y="682"/>
                </a:lnTo>
                <a:lnTo>
                  <a:pt x="956" y="732"/>
                </a:lnTo>
                <a:close/>
                <a:moveTo>
                  <a:pt x="881" y="732"/>
                </a:moveTo>
                <a:lnTo>
                  <a:pt x="833" y="732"/>
                </a:lnTo>
                <a:lnTo>
                  <a:pt x="833" y="682"/>
                </a:lnTo>
                <a:lnTo>
                  <a:pt x="881" y="682"/>
                </a:lnTo>
                <a:lnTo>
                  <a:pt x="881" y="732"/>
                </a:lnTo>
                <a:close/>
                <a:moveTo>
                  <a:pt x="805" y="732"/>
                </a:moveTo>
                <a:lnTo>
                  <a:pt x="758" y="732"/>
                </a:lnTo>
                <a:lnTo>
                  <a:pt x="758" y="682"/>
                </a:lnTo>
                <a:lnTo>
                  <a:pt x="805" y="682"/>
                </a:lnTo>
                <a:lnTo>
                  <a:pt x="805" y="732"/>
                </a:lnTo>
                <a:close/>
                <a:moveTo>
                  <a:pt x="729" y="732"/>
                </a:moveTo>
                <a:lnTo>
                  <a:pt x="682" y="732"/>
                </a:lnTo>
                <a:lnTo>
                  <a:pt x="682" y="682"/>
                </a:lnTo>
                <a:lnTo>
                  <a:pt x="729" y="682"/>
                </a:lnTo>
                <a:lnTo>
                  <a:pt x="729" y="732"/>
                </a:lnTo>
                <a:close/>
                <a:moveTo>
                  <a:pt x="653" y="732"/>
                </a:moveTo>
                <a:lnTo>
                  <a:pt x="606" y="732"/>
                </a:lnTo>
                <a:lnTo>
                  <a:pt x="606" y="682"/>
                </a:lnTo>
                <a:lnTo>
                  <a:pt x="653" y="682"/>
                </a:lnTo>
                <a:lnTo>
                  <a:pt x="653" y="732"/>
                </a:lnTo>
                <a:close/>
                <a:moveTo>
                  <a:pt x="578" y="732"/>
                </a:moveTo>
                <a:lnTo>
                  <a:pt x="530" y="732"/>
                </a:lnTo>
                <a:lnTo>
                  <a:pt x="530" y="682"/>
                </a:lnTo>
                <a:lnTo>
                  <a:pt x="578" y="682"/>
                </a:lnTo>
                <a:lnTo>
                  <a:pt x="578" y="732"/>
                </a:lnTo>
                <a:close/>
                <a:moveTo>
                  <a:pt x="502" y="732"/>
                </a:moveTo>
                <a:lnTo>
                  <a:pt x="455" y="732"/>
                </a:lnTo>
                <a:lnTo>
                  <a:pt x="455" y="682"/>
                </a:lnTo>
                <a:lnTo>
                  <a:pt x="502" y="682"/>
                </a:lnTo>
                <a:lnTo>
                  <a:pt x="502" y="732"/>
                </a:lnTo>
                <a:close/>
                <a:moveTo>
                  <a:pt x="3003" y="656"/>
                </a:moveTo>
                <a:lnTo>
                  <a:pt x="2954" y="656"/>
                </a:lnTo>
                <a:lnTo>
                  <a:pt x="2954" y="606"/>
                </a:lnTo>
                <a:lnTo>
                  <a:pt x="3003" y="606"/>
                </a:lnTo>
                <a:lnTo>
                  <a:pt x="3003" y="656"/>
                </a:lnTo>
                <a:close/>
                <a:moveTo>
                  <a:pt x="2928" y="656"/>
                </a:moveTo>
                <a:lnTo>
                  <a:pt x="2878" y="656"/>
                </a:lnTo>
                <a:lnTo>
                  <a:pt x="2878" y="606"/>
                </a:lnTo>
                <a:lnTo>
                  <a:pt x="2928" y="606"/>
                </a:lnTo>
                <a:lnTo>
                  <a:pt x="2928" y="656"/>
                </a:lnTo>
                <a:close/>
                <a:moveTo>
                  <a:pt x="2852" y="656"/>
                </a:moveTo>
                <a:lnTo>
                  <a:pt x="2802" y="656"/>
                </a:lnTo>
                <a:lnTo>
                  <a:pt x="2802" y="606"/>
                </a:lnTo>
                <a:lnTo>
                  <a:pt x="2852" y="606"/>
                </a:lnTo>
                <a:lnTo>
                  <a:pt x="2852" y="656"/>
                </a:lnTo>
                <a:close/>
                <a:moveTo>
                  <a:pt x="2776" y="656"/>
                </a:moveTo>
                <a:lnTo>
                  <a:pt x="2726" y="656"/>
                </a:lnTo>
                <a:lnTo>
                  <a:pt x="2726" y="606"/>
                </a:lnTo>
                <a:lnTo>
                  <a:pt x="2776" y="606"/>
                </a:lnTo>
                <a:lnTo>
                  <a:pt x="2776" y="656"/>
                </a:lnTo>
                <a:close/>
                <a:moveTo>
                  <a:pt x="2700" y="656"/>
                </a:moveTo>
                <a:lnTo>
                  <a:pt x="2651" y="656"/>
                </a:lnTo>
                <a:lnTo>
                  <a:pt x="2651" y="606"/>
                </a:lnTo>
                <a:lnTo>
                  <a:pt x="2700" y="606"/>
                </a:lnTo>
                <a:lnTo>
                  <a:pt x="2700" y="656"/>
                </a:lnTo>
                <a:close/>
                <a:moveTo>
                  <a:pt x="2622" y="656"/>
                </a:moveTo>
                <a:lnTo>
                  <a:pt x="2575" y="656"/>
                </a:lnTo>
                <a:lnTo>
                  <a:pt x="2575" y="606"/>
                </a:lnTo>
                <a:lnTo>
                  <a:pt x="2622" y="606"/>
                </a:lnTo>
                <a:lnTo>
                  <a:pt x="2622" y="656"/>
                </a:lnTo>
                <a:close/>
                <a:moveTo>
                  <a:pt x="2547" y="656"/>
                </a:moveTo>
                <a:lnTo>
                  <a:pt x="2499" y="656"/>
                </a:lnTo>
                <a:lnTo>
                  <a:pt x="2499" y="606"/>
                </a:lnTo>
                <a:lnTo>
                  <a:pt x="2547" y="606"/>
                </a:lnTo>
                <a:lnTo>
                  <a:pt x="2547" y="656"/>
                </a:lnTo>
                <a:close/>
                <a:moveTo>
                  <a:pt x="2471" y="656"/>
                </a:moveTo>
                <a:lnTo>
                  <a:pt x="2424" y="656"/>
                </a:lnTo>
                <a:lnTo>
                  <a:pt x="2424" y="606"/>
                </a:lnTo>
                <a:lnTo>
                  <a:pt x="2471" y="606"/>
                </a:lnTo>
                <a:lnTo>
                  <a:pt x="2471" y="656"/>
                </a:lnTo>
                <a:close/>
                <a:moveTo>
                  <a:pt x="2395" y="656"/>
                </a:moveTo>
                <a:lnTo>
                  <a:pt x="2348" y="656"/>
                </a:lnTo>
                <a:lnTo>
                  <a:pt x="2348" y="606"/>
                </a:lnTo>
                <a:lnTo>
                  <a:pt x="2395" y="606"/>
                </a:lnTo>
                <a:lnTo>
                  <a:pt x="2395" y="656"/>
                </a:lnTo>
                <a:close/>
                <a:moveTo>
                  <a:pt x="2319" y="656"/>
                </a:moveTo>
                <a:lnTo>
                  <a:pt x="2272" y="656"/>
                </a:lnTo>
                <a:lnTo>
                  <a:pt x="2272" y="606"/>
                </a:lnTo>
                <a:lnTo>
                  <a:pt x="2319" y="606"/>
                </a:lnTo>
                <a:lnTo>
                  <a:pt x="2319" y="656"/>
                </a:lnTo>
                <a:close/>
                <a:moveTo>
                  <a:pt x="2244" y="656"/>
                </a:moveTo>
                <a:lnTo>
                  <a:pt x="2196" y="656"/>
                </a:lnTo>
                <a:lnTo>
                  <a:pt x="2196" y="606"/>
                </a:lnTo>
                <a:lnTo>
                  <a:pt x="2244" y="606"/>
                </a:lnTo>
                <a:lnTo>
                  <a:pt x="2244" y="656"/>
                </a:lnTo>
                <a:close/>
                <a:moveTo>
                  <a:pt x="2168" y="656"/>
                </a:moveTo>
                <a:lnTo>
                  <a:pt x="2121" y="656"/>
                </a:lnTo>
                <a:lnTo>
                  <a:pt x="2121" y="606"/>
                </a:lnTo>
                <a:lnTo>
                  <a:pt x="2168" y="606"/>
                </a:lnTo>
                <a:lnTo>
                  <a:pt x="2168" y="656"/>
                </a:lnTo>
                <a:close/>
                <a:moveTo>
                  <a:pt x="2092" y="656"/>
                </a:moveTo>
                <a:lnTo>
                  <a:pt x="2045" y="656"/>
                </a:lnTo>
                <a:lnTo>
                  <a:pt x="2045" y="606"/>
                </a:lnTo>
                <a:lnTo>
                  <a:pt x="2092" y="606"/>
                </a:lnTo>
                <a:lnTo>
                  <a:pt x="2092" y="656"/>
                </a:lnTo>
                <a:close/>
                <a:moveTo>
                  <a:pt x="2016" y="656"/>
                </a:moveTo>
                <a:lnTo>
                  <a:pt x="1969" y="656"/>
                </a:lnTo>
                <a:lnTo>
                  <a:pt x="1969" y="606"/>
                </a:lnTo>
                <a:lnTo>
                  <a:pt x="2016" y="606"/>
                </a:lnTo>
                <a:lnTo>
                  <a:pt x="2016" y="656"/>
                </a:lnTo>
                <a:close/>
                <a:moveTo>
                  <a:pt x="1941" y="656"/>
                </a:moveTo>
                <a:lnTo>
                  <a:pt x="1893" y="656"/>
                </a:lnTo>
                <a:lnTo>
                  <a:pt x="1893" y="606"/>
                </a:lnTo>
                <a:lnTo>
                  <a:pt x="1941" y="606"/>
                </a:lnTo>
                <a:lnTo>
                  <a:pt x="1941" y="656"/>
                </a:lnTo>
                <a:close/>
                <a:moveTo>
                  <a:pt x="1865" y="656"/>
                </a:moveTo>
                <a:lnTo>
                  <a:pt x="1818" y="656"/>
                </a:lnTo>
                <a:lnTo>
                  <a:pt x="1818" y="606"/>
                </a:lnTo>
                <a:lnTo>
                  <a:pt x="1865" y="606"/>
                </a:lnTo>
                <a:lnTo>
                  <a:pt x="1865" y="656"/>
                </a:lnTo>
                <a:close/>
                <a:moveTo>
                  <a:pt x="1789" y="656"/>
                </a:moveTo>
                <a:lnTo>
                  <a:pt x="1742" y="656"/>
                </a:lnTo>
                <a:lnTo>
                  <a:pt x="1742" y="606"/>
                </a:lnTo>
                <a:lnTo>
                  <a:pt x="1789" y="606"/>
                </a:lnTo>
                <a:lnTo>
                  <a:pt x="1789" y="656"/>
                </a:lnTo>
                <a:close/>
                <a:moveTo>
                  <a:pt x="1714" y="656"/>
                </a:moveTo>
                <a:lnTo>
                  <a:pt x="1666" y="656"/>
                </a:lnTo>
                <a:lnTo>
                  <a:pt x="1666" y="606"/>
                </a:lnTo>
                <a:lnTo>
                  <a:pt x="1714" y="606"/>
                </a:lnTo>
                <a:lnTo>
                  <a:pt x="1714" y="656"/>
                </a:lnTo>
                <a:close/>
                <a:moveTo>
                  <a:pt x="1638" y="656"/>
                </a:moveTo>
                <a:lnTo>
                  <a:pt x="1591" y="656"/>
                </a:lnTo>
                <a:lnTo>
                  <a:pt x="1591" y="606"/>
                </a:lnTo>
                <a:lnTo>
                  <a:pt x="1638" y="606"/>
                </a:lnTo>
                <a:lnTo>
                  <a:pt x="1638" y="656"/>
                </a:lnTo>
                <a:close/>
                <a:moveTo>
                  <a:pt x="1108" y="656"/>
                </a:moveTo>
                <a:lnTo>
                  <a:pt x="1060" y="656"/>
                </a:lnTo>
                <a:lnTo>
                  <a:pt x="1060" y="606"/>
                </a:lnTo>
                <a:lnTo>
                  <a:pt x="1108" y="606"/>
                </a:lnTo>
                <a:lnTo>
                  <a:pt x="1108" y="656"/>
                </a:lnTo>
                <a:close/>
                <a:moveTo>
                  <a:pt x="1032" y="656"/>
                </a:moveTo>
                <a:lnTo>
                  <a:pt x="985" y="656"/>
                </a:lnTo>
                <a:lnTo>
                  <a:pt x="985" y="606"/>
                </a:lnTo>
                <a:lnTo>
                  <a:pt x="1032" y="606"/>
                </a:lnTo>
                <a:lnTo>
                  <a:pt x="1032" y="656"/>
                </a:lnTo>
                <a:close/>
                <a:moveTo>
                  <a:pt x="956" y="656"/>
                </a:moveTo>
                <a:lnTo>
                  <a:pt x="909" y="656"/>
                </a:lnTo>
                <a:lnTo>
                  <a:pt x="909" y="606"/>
                </a:lnTo>
                <a:lnTo>
                  <a:pt x="956" y="606"/>
                </a:lnTo>
                <a:lnTo>
                  <a:pt x="956" y="656"/>
                </a:lnTo>
                <a:close/>
                <a:moveTo>
                  <a:pt x="881" y="656"/>
                </a:moveTo>
                <a:lnTo>
                  <a:pt x="833" y="656"/>
                </a:lnTo>
                <a:lnTo>
                  <a:pt x="833" y="606"/>
                </a:lnTo>
                <a:lnTo>
                  <a:pt x="881" y="606"/>
                </a:lnTo>
                <a:lnTo>
                  <a:pt x="881" y="656"/>
                </a:lnTo>
                <a:close/>
                <a:moveTo>
                  <a:pt x="805" y="656"/>
                </a:moveTo>
                <a:lnTo>
                  <a:pt x="758" y="656"/>
                </a:lnTo>
                <a:lnTo>
                  <a:pt x="758" y="606"/>
                </a:lnTo>
                <a:lnTo>
                  <a:pt x="805" y="606"/>
                </a:lnTo>
                <a:lnTo>
                  <a:pt x="805" y="656"/>
                </a:lnTo>
                <a:close/>
                <a:moveTo>
                  <a:pt x="729" y="656"/>
                </a:moveTo>
                <a:lnTo>
                  <a:pt x="682" y="656"/>
                </a:lnTo>
                <a:lnTo>
                  <a:pt x="682" y="606"/>
                </a:lnTo>
                <a:lnTo>
                  <a:pt x="729" y="606"/>
                </a:lnTo>
                <a:lnTo>
                  <a:pt x="729" y="656"/>
                </a:lnTo>
                <a:close/>
                <a:moveTo>
                  <a:pt x="653" y="656"/>
                </a:moveTo>
                <a:lnTo>
                  <a:pt x="606" y="656"/>
                </a:lnTo>
                <a:lnTo>
                  <a:pt x="606" y="606"/>
                </a:lnTo>
                <a:lnTo>
                  <a:pt x="653" y="606"/>
                </a:lnTo>
                <a:lnTo>
                  <a:pt x="653" y="656"/>
                </a:lnTo>
                <a:close/>
                <a:moveTo>
                  <a:pt x="578" y="656"/>
                </a:moveTo>
                <a:lnTo>
                  <a:pt x="530" y="656"/>
                </a:lnTo>
                <a:lnTo>
                  <a:pt x="530" y="606"/>
                </a:lnTo>
                <a:lnTo>
                  <a:pt x="578" y="606"/>
                </a:lnTo>
                <a:lnTo>
                  <a:pt x="578" y="656"/>
                </a:lnTo>
                <a:close/>
                <a:moveTo>
                  <a:pt x="502" y="656"/>
                </a:moveTo>
                <a:lnTo>
                  <a:pt x="455" y="656"/>
                </a:lnTo>
                <a:lnTo>
                  <a:pt x="455" y="606"/>
                </a:lnTo>
                <a:lnTo>
                  <a:pt x="502" y="606"/>
                </a:lnTo>
                <a:lnTo>
                  <a:pt x="502" y="656"/>
                </a:lnTo>
                <a:close/>
                <a:moveTo>
                  <a:pt x="426" y="656"/>
                </a:moveTo>
                <a:lnTo>
                  <a:pt x="379" y="656"/>
                </a:lnTo>
                <a:lnTo>
                  <a:pt x="379" y="606"/>
                </a:lnTo>
                <a:lnTo>
                  <a:pt x="426" y="606"/>
                </a:lnTo>
                <a:lnTo>
                  <a:pt x="426" y="656"/>
                </a:lnTo>
                <a:close/>
                <a:moveTo>
                  <a:pt x="3155" y="578"/>
                </a:moveTo>
                <a:lnTo>
                  <a:pt x="3105" y="578"/>
                </a:lnTo>
                <a:lnTo>
                  <a:pt x="3105" y="531"/>
                </a:lnTo>
                <a:lnTo>
                  <a:pt x="3155" y="531"/>
                </a:lnTo>
                <a:lnTo>
                  <a:pt x="3155" y="578"/>
                </a:lnTo>
                <a:close/>
                <a:moveTo>
                  <a:pt x="3003" y="578"/>
                </a:moveTo>
                <a:lnTo>
                  <a:pt x="2954" y="578"/>
                </a:lnTo>
                <a:lnTo>
                  <a:pt x="2954" y="531"/>
                </a:lnTo>
                <a:lnTo>
                  <a:pt x="3003" y="531"/>
                </a:lnTo>
                <a:lnTo>
                  <a:pt x="3003" y="578"/>
                </a:lnTo>
                <a:close/>
                <a:moveTo>
                  <a:pt x="2928" y="578"/>
                </a:moveTo>
                <a:lnTo>
                  <a:pt x="2878" y="578"/>
                </a:lnTo>
                <a:lnTo>
                  <a:pt x="2878" y="531"/>
                </a:lnTo>
                <a:lnTo>
                  <a:pt x="2928" y="531"/>
                </a:lnTo>
                <a:lnTo>
                  <a:pt x="2928" y="578"/>
                </a:lnTo>
                <a:close/>
                <a:moveTo>
                  <a:pt x="2852" y="578"/>
                </a:moveTo>
                <a:lnTo>
                  <a:pt x="2802" y="578"/>
                </a:lnTo>
                <a:lnTo>
                  <a:pt x="2802" y="531"/>
                </a:lnTo>
                <a:lnTo>
                  <a:pt x="2852" y="531"/>
                </a:lnTo>
                <a:lnTo>
                  <a:pt x="2852" y="578"/>
                </a:lnTo>
                <a:close/>
                <a:moveTo>
                  <a:pt x="2776" y="578"/>
                </a:moveTo>
                <a:lnTo>
                  <a:pt x="2726" y="578"/>
                </a:lnTo>
                <a:lnTo>
                  <a:pt x="2726" y="531"/>
                </a:lnTo>
                <a:lnTo>
                  <a:pt x="2776" y="531"/>
                </a:lnTo>
                <a:lnTo>
                  <a:pt x="2776" y="578"/>
                </a:lnTo>
                <a:close/>
                <a:moveTo>
                  <a:pt x="2700" y="578"/>
                </a:moveTo>
                <a:lnTo>
                  <a:pt x="2651" y="578"/>
                </a:lnTo>
                <a:lnTo>
                  <a:pt x="2651" y="531"/>
                </a:lnTo>
                <a:lnTo>
                  <a:pt x="2700" y="531"/>
                </a:lnTo>
                <a:lnTo>
                  <a:pt x="2700" y="578"/>
                </a:lnTo>
                <a:close/>
                <a:moveTo>
                  <a:pt x="2622" y="578"/>
                </a:moveTo>
                <a:lnTo>
                  <a:pt x="2575" y="578"/>
                </a:lnTo>
                <a:lnTo>
                  <a:pt x="2575" y="531"/>
                </a:lnTo>
                <a:lnTo>
                  <a:pt x="2622" y="531"/>
                </a:lnTo>
                <a:lnTo>
                  <a:pt x="2622" y="578"/>
                </a:lnTo>
                <a:close/>
                <a:moveTo>
                  <a:pt x="2547" y="578"/>
                </a:moveTo>
                <a:lnTo>
                  <a:pt x="2499" y="578"/>
                </a:lnTo>
                <a:lnTo>
                  <a:pt x="2499" y="531"/>
                </a:lnTo>
                <a:lnTo>
                  <a:pt x="2547" y="531"/>
                </a:lnTo>
                <a:lnTo>
                  <a:pt x="2547" y="578"/>
                </a:lnTo>
                <a:close/>
                <a:moveTo>
                  <a:pt x="2471" y="578"/>
                </a:moveTo>
                <a:lnTo>
                  <a:pt x="2424" y="578"/>
                </a:lnTo>
                <a:lnTo>
                  <a:pt x="2424" y="531"/>
                </a:lnTo>
                <a:lnTo>
                  <a:pt x="2471" y="531"/>
                </a:lnTo>
                <a:lnTo>
                  <a:pt x="2471" y="578"/>
                </a:lnTo>
                <a:close/>
                <a:moveTo>
                  <a:pt x="2395" y="578"/>
                </a:moveTo>
                <a:lnTo>
                  <a:pt x="2348" y="578"/>
                </a:lnTo>
                <a:lnTo>
                  <a:pt x="2348" y="531"/>
                </a:lnTo>
                <a:lnTo>
                  <a:pt x="2395" y="531"/>
                </a:lnTo>
                <a:lnTo>
                  <a:pt x="2395" y="578"/>
                </a:lnTo>
                <a:close/>
                <a:moveTo>
                  <a:pt x="2319" y="578"/>
                </a:moveTo>
                <a:lnTo>
                  <a:pt x="2272" y="578"/>
                </a:lnTo>
                <a:lnTo>
                  <a:pt x="2272" y="531"/>
                </a:lnTo>
                <a:lnTo>
                  <a:pt x="2319" y="531"/>
                </a:lnTo>
                <a:lnTo>
                  <a:pt x="2319" y="578"/>
                </a:lnTo>
                <a:close/>
                <a:moveTo>
                  <a:pt x="2244" y="578"/>
                </a:moveTo>
                <a:lnTo>
                  <a:pt x="2196" y="578"/>
                </a:lnTo>
                <a:lnTo>
                  <a:pt x="2196" y="531"/>
                </a:lnTo>
                <a:lnTo>
                  <a:pt x="2244" y="531"/>
                </a:lnTo>
                <a:lnTo>
                  <a:pt x="2244" y="578"/>
                </a:lnTo>
                <a:close/>
                <a:moveTo>
                  <a:pt x="2168" y="578"/>
                </a:moveTo>
                <a:lnTo>
                  <a:pt x="2121" y="578"/>
                </a:lnTo>
                <a:lnTo>
                  <a:pt x="2121" y="531"/>
                </a:lnTo>
                <a:lnTo>
                  <a:pt x="2168" y="531"/>
                </a:lnTo>
                <a:lnTo>
                  <a:pt x="2168" y="578"/>
                </a:lnTo>
                <a:close/>
                <a:moveTo>
                  <a:pt x="2092" y="578"/>
                </a:moveTo>
                <a:lnTo>
                  <a:pt x="2045" y="578"/>
                </a:lnTo>
                <a:lnTo>
                  <a:pt x="2045" y="531"/>
                </a:lnTo>
                <a:lnTo>
                  <a:pt x="2092" y="531"/>
                </a:lnTo>
                <a:lnTo>
                  <a:pt x="2092" y="578"/>
                </a:lnTo>
                <a:close/>
                <a:moveTo>
                  <a:pt x="2016" y="578"/>
                </a:moveTo>
                <a:lnTo>
                  <a:pt x="1969" y="578"/>
                </a:lnTo>
                <a:lnTo>
                  <a:pt x="1969" y="531"/>
                </a:lnTo>
                <a:lnTo>
                  <a:pt x="2016" y="531"/>
                </a:lnTo>
                <a:lnTo>
                  <a:pt x="2016" y="578"/>
                </a:lnTo>
                <a:close/>
                <a:moveTo>
                  <a:pt x="1941" y="578"/>
                </a:moveTo>
                <a:lnTo>
                  <a:pt x="1893" y="578"/>
                </a:lnTo>
                <a:lnTo>
                  <a:pt x="1893" y="531"/>
                </a:lnTo>
                <a:lnTo>
                  <a:pt x="1941" y="531"/>
                </a:lnTo>
                <a:lnTo>
                  <a:pt x="1941" y="578"/>
                </a:lnTo>
                <a:close/>
                <a:moveTo>
                  <a:pt x="1865" y="578"/>
                </a:moveTo>
                <a:lnTo>
                  <a:pt x="1818" y="578"/>
                </a:lnTo>
                <a:lnTo>
                  <a:pt x="1818" y="531"/>
                </a:lnTo>
                <a:lnTo>
                  <a:pt x="1865" y="531"/>
                </a:lnTo>
                <a:lnTo>
                  <a:pt x="1865" y="578"/>
                </a:lnTo>
                <a:close/>
                <a:moveTo>
                  <a:pt x="1789" y="578"/>
                </a:moveTo>
                <a:lnTo>
                  <a:pt x="1742" y="578"/>
                </a:lnTo>
                <a:lnTo>
                  <a:pt x="1742" y="531"/>
                </a:lnTo>
                <a:lnTo>
                  <a:pt x="1789" y="531"/>
                </a:lnTo>
                <a:lnTo>
                  <a:pt x="1789" y="578"/>
                </a:lnTo>
                <a:close/>
                <a:moveTo>
                  <a:pt x="1638" y="578"/>
                </a:moveTo>
                <a:lnTo>
                  <a:pt x="1591" y="578"/>
                </a:lnTo>
                <a:lnTo>
                  <a:pt x="1591" y="531"/>
                </a:lnTo>
                <a:lnTo>
                  <a:pt x="1638" y="531"/>
                </a:lnTo>
                <a:lnTo>
                  <a:pt x="1638" y="578"/>
                </a:lnTo>
                <a:close/>
                <a:moveTo>
                  <a:pt x="1562" y="578"/>
                </a:moveTo>
                <a:lnTo>
                  <a:pt x="1515" y="578"/>
                </a:lnTo>
                <a:lnTo>
                  <a:pt x="1515" y="531"/>
                </a:lnTo>
                <a:lnTo>
                  <a:pt x="1562" y="531"/>
                </a:lnTo>
                <a:lnTo>
                  <a:pt x="1562" y="578"/>
                </a:lnTo>
                <a:close/>
                <a:moveTo>
                  <a:pt x="1032" y="578"/>
                </a:moveTo>
                <a:lnTo>
                  <a:pt x="985" y="578"/>
                </a:lnTo>
                <a:lnTo>
                  <a:pt x="985" y="531"/>
                </a:lnTo>
                <a:lnTo>
                  <a:pt x="1032" y="531"/>
                </a:lnTo>
                <a:lnTo>
                  <a:pt x="1032" y="578"/>
                </a:lnTo>
                <a:close/>
                <a:moveTo>
                  <a:pt x="956" y="578"/>
                </a:moveTo>
                <a:lnTo>
                  <a:pt x="909" y="578"/>
                </a:lnTo>
                <a:lnTo>
                  <a:pt x="909" y="531"/>
                </a:lnTo>
                <a:lnTo>
                  <a:pt x="956" y="531"/>
                </a:lnTo>
                <a:lnTo>
                  <a:pt x="956" y="578"/>
                </a:lnTo>
                <a:close/>
                <a:moveTo>
                  <a:pt x="881" y="578"/>
                </a:moveTo>
                <a:lnTo>
                  <a:pt x="833" y="578"/>
                </a:lnTo>
                <a:lnTo>
                  <a:pt x="833" y="531"/>
                </a:lnTo>
                <a:lnTo>
                  <a:pt x="881" y="531"/>
                </a:lnTo>
                <a:lnTo>
                  <a:pt x="881" y="578"/>
                </a:lnTo>
                <a:close/>
                <a:moveTo>
                  <a:pt x="805" y="578"/>
                </a:moveTo>
                <a:lnTo>
                  <a:pt x="758" y="578"/>
                </a:lnTo>
                <a:lnTo>
                  <a:pt x="758" y="531"/>
                </a:lnTo>
                <a:lnTo>
                  <a:pt x="805" y="531"/>
                </a:lnTo>
                <a:lnTo>
                  <a:pt x="805" y="578"/>
                </a:lnTo>
                <a:close/>
                <a:moveTo>
                  <a:pt x="729" y="578"/>
                </a:moveTo>
                <a:lnTo>
                  <a:pt x="682" y="578"/>
                </a:lnTo>
                <a:lnTo>
                  <a:pt x="682" y="531"/>
                </a:lnTo>
                <a:lnTo>
                  <a:pt x="729" y="531"/>
                </a:lnTo>
                <a:lnTo>
                  <a:pt x="729" y="578"/>
                </a:lnTo>
                <a:close/>
                <a:moveTo>
                  <a:pt x="653" y="578"/>
                </a:moveTo>
                <a:lnTo>
                  <a:pt x="606" y="578"/>
                </a:lnTo>
                <a:lnTo>
                  <a:pt x="606" y="531"/>
                </a:lnTo>
                <a:lnTo>
                  <a:pt x="653" y="531"/>
                </a:lnTo>
                <a:lnTo>
                  <a:pt x="653" y="578"/>
                </a:lnTo>
                <a:close/>
                <a:moveTo>
                  <a:pt x="578" y="578"/>
                </a:moveTo>
                <a:lnTo>
                  <a:pt x="530" y="578"/>
                </a:lnTo>
                <a:lnTo>
                  <a:pt x="530" y="531"/>
                </a:lnTo>
                <a:lnTo>
                  <a:pt x="578" y="531"/>
                </a:lnTo>
                <a:lnTo>
                  <a:pt x="578" y="578"/>
                </a:lnTo>
                <a:close/>
                <a:moveTo>
                  <a:pt x="502" y="578"/>
                </a:moveTo>
                <a:lnTo>
                  <a:pt x="455" y="578"/>
                </a:lnTo>
                <a:lnTo>
                  <a:pt x="455" y="531"/>
                </a:lnTo>
                <a:lnTo>
                  <a:pt x="502" y="531"/>
                </a:lnTo>
                <a:lnTo>
                  <a:pt x="502" y="578"/>
                </a:lnTo>
                <a:close/>
                <a:moveTo>
                  <a:pt x="426" y="578"/>
                </a:moveTo>
                <a:lnTo>
                  <a:pt x="379" y="578"/>
                </a:lnTo>
                <a:lnTo>
                  <a:pt x="379" y="531"/>
                </a:lnTo>
                <a:lnTo>
                  <a:pt x="426" y="531"/>
                </a:lnTo>
                <a:lnTo>
                  <a:pt x="426" y="578"/>
                </a:lnTo>
                <a:close/>
                <a:moveTo>
                  <a:pt x="351" y="578"/>
                </a:moveTo>
                <a:lnTo>
                  <a:pt x="303" y="578"/>
                </a:lnTo>
                <a:lnTo>
                  <a:pt x="303" y="531"/>
                </a:lnTo>
                <a:lnTo>
                  <a:pt x="351" y="531"/>
                </a:lnTo>
                <a:lnTo>
                  <a:pt x="351" y="578"/>
                </a:lnTo>
                <a:close/>
                <a:moveTo>
                  <a:pt x="48" y="578"/>
                </a:moveTo>
                <a:lnTo>
                  <a:pt x="0" y="578"/>
                </a:lnTo>
                <a:lnTo>
                  <a:pt x="0" y="531"/>
                </a:lnTo>
                <a:lnTo>
                  <a:pt x="48" y="531"/>
                </a:lnTo>
                <a:lnTo>
                  <a:pt x="48" y="578"/>
                </a:lnTo>
                <a:close/>
                <a:moveTo>
                  <a:pt x="3306" y="502"/>
                </a:moveTo>
                <a:lnTo>
                  <a:pt x="3257" y="502"/>
                </a:lnTo>
                <a:lnTo>
                  <a:pt x="3257" y="455"/>
                </a:lnTo>
                <a:lnTo>
                  <a:pt x="3306" y="455"/>
                </a:lnTo>
                <a:lnTo>
                  <a:pt x="3306" y="502"/>
                </a:lnTo>
                <a:close/>
                <a:moveTo>
                  <a:pt x="3230" y="502"/>
                </a:moveTo>
                <a:lnTo>
                  <a:pt x="3181" y="502"/>
                </a:lnTo>
                <a:lnTo>
                  <a:pt x="3181" y="455"/>
                </a:lnTo>
                <a:lnTo>
                  <a:pt x="3230" y="455"/>
                </a:lnTo>
                <a:lnTo>
                  <a:pt x="3230" y="502"/>
                </a:lnTo>
                <a:close/>
                <a:moveTo>
                  <a:pt x="3155" y="502"/>
                </a:moveTo>
                <a:lnTo>
                  <a:pt x="3105" y="502"/>
                </a:lnTo>
                <a:lnTo>
                  <a:pt x="3105" y="455"/>
                </a:lnTo>
                <a:lnTo>
                  <a:pt x="3155" y="455"/>
                </a:lnTo>
                <a:lnTo>
                  <a:pt x="3155" y="502"/>
                </a:lnTo>
                <a:close/>
                <a:moveTo>
                  <a:pt x="3079" y="502"/>
                </a:moveTo>
                <a:lnTo>
                  <a:pt x="3029" y="502"/>
                </a:lnTo>
                <a:lnTo>
                  <a:pt x="3029" y="455"/>
                </a:lnTo>
                <a:lnTo>
                  <a:pt x="3079" y="455"/>
                </a:lnTo>
                <a:lnTo>
                  <a:pt x="3079" y="502"/>
                </a:lnTo>
                <a:close/>
                <a:moveTo>
                  <a:pt x="3003" y="502"/>
                </a:moveTo>
                <a:lnTo>
                  <a:pt x="2954" y="502"/>
                </a:lnTo>
                <a:lnTo>
                  <a:pt x="2954" y="455"/>
                </a:lnTo>
                <a:lnTo>
                  <a:pt x="3003" y="455"/>
                </a:lnTo>
                <a:lnTo>
                  <a:pt x="3003" y="502"/>
                </a:lnTo>
                <a:close/>
                <a:moveTo>
                  <a:pt x="2928" y="502"/>
                </a:moveTo>
                <a:lnTo>
                  <a:pt x="2878" y="502"/>
                </a:lnTo>
                <a:lnTo>
                  <a:pt x="2878" y="455"/>
                </a:lnTo>
                <a:lnTo>
                  <a:pt x="2928" y="455"/>
                </a:lnTo>
                <a:lnTo>
                  <a:pt x="2928" y="502"/>
                </a:lnTo>
                <a:close/>
                <a:moveTo>
                  <a:pt x="2852" y="502"/>
                </a:moveTo>
                <a:lnTo>
                  <a:pt x="2802" y="502"/>
                </a:lnTo>
                <a:lnTo>
                  <a:pt x="2802" y="455"/>
                </a:lnTo>
                <a:lnTo>
                  <a:pt x="2852" y="455"/>
                </a:lnTo>
                <a:lnTo>
                  <a:pt x="2852" y="502"/>
                </a:lnTo>
                <a:close/>
                <a:moveTo>
                  <a:pt x="2776" y="502"/>
                </a:moveTo>
                <a:lnTo>
                  <a:pt x="2726" y="502"/>
                </a:lnTo>
                <a:lnTo>
                  <a:pt x="2726" y="455"/>
                </a:lnTo>
                <a:lnTo>
                  <a:pt x="2776" y="455"/>
                </a:lnTo>
                <a:lnTo>
                  <a:pt x="2776" y="502"/>
                </a:lnTo>
                <a:close/>
                <a:moveTo>
                  <a:pt x="2700" y="502"/>
                </a:moveTo>
                <a:lnTo>
                  <a:pt x="2651" y="502"/>
                </a:lnTo>
                <a:lnTo>
                  <a:pt x="2651" y="455"/>
                </a:lnTo>
                <a:lnTo>
                  <a:pt x="2700" y="455"/>
                </a:lnTo>
                <a:lnTo>
                  <a:pt x="2700" y="502"/>
                </a:lnTo>
                <a:close/>
                <a:moveTo>
                  <a:pt x="2622" y="502"/>
                </a:moveTo>
                <a:lnTo>
                  <a:pt x="2575" y="502"/>
                </a:lnTo>
                <a:lnTo>
                  <a:pt x="2575" y="455"/>
                </a:lnTo>
                <a:lnTo>
                  <a:pt x="2622" y="455"/>
                </a:lnTo>
                <a:lnTo>
                  <a:pt x="2622" y="502"/>
                </a:lnTo>
                <a:close/>
                <a:moveTo>
                  <a:pt x="2547" y="502"/>
                </a:moveTo>
                <a:lnTo>
                  <a:pt x="2499" y="502"/>
                </a:lnTo>
                <a:lnTo>
                  <a:pt x="2499" y="455"/>
                </a:lnTo>
                <a:lnTo>
                  <a:pt x="2547" y="455"/>
                </a:lnTo>
                <a:lnTo>
                  <a:pt x="2547" y="502"/>
                </a:lnTo>
                <a:close/>
                <a:moveTo>
                  <a:pt x="2471" y="502"/>
                </a:moveTo>
                <a:lnTo>
                  <a:pt x="2424" y="502"/>
                </a:lnTo>
                <a:lnTo>
                  <a:pt x="2424" y="455"/>
                </a:lnTo>
                <a:lnTo>
                  <a:pt x="2471" y="455"/>
                </a:lnTo>
                <a:lnTo>
                  <a:pt x="2471" y="502"/>
                </a:lnTo>
                <a:close/>
                <a:moveTo>
                  <a:pt x="2395" y="502"/>
                </a:moveTo>
                <a:lnTo>
                  <a:pt x="2348" y="502"/>
                </a:lnTo>
                <a:lnTo>
                  <a:pt x="2348" y="455"/>
                </a:lnTo>
                <a:lnTo>
                  <a:pt x="2395" y="455"/>
                </a:lnTo>
                <a:lnTo>
                  <a:pt x="2395" y="502"/>
                </a:lnTo>
                <a:close/>
                <a:moveTo>
                  <a:pt x="2319" y="502"/>
                </a:moveTo>
                <a:lnTo>
                  <a:pt x="2272" y="502"/>
                </a:lnTo>
                <a:lnTo>
                  <a:pt x="2272" y="455"/>
                </a:lnTo>
                <a:lnTo>
                  <a:pt x="2319" y="455"/>
                </a:lnTo>
                <a:lnTo>
                  <a:pt x="2319" y="502"/>
                </a:lnTo>
                <a:close/>
                <a:moveTo>
                  <a:pt x="2244" y="502"/>
                </a:moveTo>
                <a:lnTo>
                  <a:pt x="2196" y="502"/>
                </a:lnTo>
                <a:lnTo>
                  <a:pt x="2196" y="455"/>
                </a:lnTo>
                <a:lnTo>
                  <a:pt x="2244" y="455"/>
                </a:lnTo>
                <a:lnTo>
                  <a:pt x="2244" y="502"/>
                </a:lnTo>
                <a:close/>
                <a:moveTo>
                  <a:pt x="2168" y="502"/>
                </a:moveTo>
                <a:lnTo>
                  <a:pt x="2121" y="502"/>
                </a:lnTo>
                <a:lnTo>
                  <a:pt x="2121" y="455"/>
                </a:lnTo>
                <a:lnTo>
                  <a:pt x="2168" y="455"/>
                </a:lnTo>
                <a:lnTo>
                  <a:pt x="2168" y="502"/>
                </a:lnTo>
                <a:close/>
                <a:moveTo>
                  <a:pt x="2092" y="502"/>
                </a:moveTo>
                <a:lnTo>
                  <a:pt x="2045" y="502"/>
                </a:lnTo>
                <a:lnTo>
                  <a:pt x="2045" y="455"/>
                </a:lnTo>
                <a:lnTo>
                  <a:pt x="2092" y="455"/>
                </a:lnTo>
                <a:lnTo>
                  <a:pt x="2092" y="502"/>
                </a:lnTo>
                <a:close/>
                <a:moveTo>
                  <a:pt x="2016" y="502"/>
                </a:moveTo>
                <a:lnTo>
                  <a:pt x="1969" y="502"/>
                </a:lnTo>
                <a:lnTo>
                  <a:pt x="1969" y="455"/>
                </a:lnTo>
                <a:lnTo>
                  <a:pt x="2016" y="455"/>
                </a:lnTo>
                <a:lnTo>
                  <a:pt x="2016" y="502"/>
                </a:lnTo>
                <a:close/>
                <a:moveTo>
                  <a:pt x="1941" y="502"/>
                </a:moveTo>
                <a:lnTo>
                  <a:pt x="1893" y="502"/>
                </a:lnTo>
                <a:lnTo>
                  <a:pt x="1893" y="455"/>
                </a:lnTo>
                <a:lnTo>
                  <a:pt x="1941" y="455"/>
                </a:lnTo>
                <a:lnTo>
                  <a:pt x="1941" y="502"/>
                </a:lnTo>
                <a:close/>
                <a:moveTo>
                  <a:pt x="1789" y="502"/>
                </a:moveTo>
                <a:lnTo>
                  <a:pt x="1742" y="502"/>
                </a:lnTo>
                <a:lnTo>
                  <a:pt x="1742" y="455"/>
                </a:lnTo>
                <a:lnTo>
                  <a:pt x="1789" y="455"/>
                </a:lnTo>
                <a:lnTo>
                  <a:pt x="1789" y="502"/>
                </a:lnTo>
                <a:close/>
                <a:moveTo>
                  <a:pt x="1714" y="502"/>
                </a:moveTo>
                <a:lnTo>
                  <a:pt x="1666" y="502"/>
                </a:lnTo>
                <a:lnTo>
                  <a:pt x="1666" y="455"/>
                </a:lnTo>
                <a:lnTo>
                  <a:pt x="1714" y="455"/>
                </a:lnTo>
                <a:lnTo>
                  <a:pt x="1714" y="502"/>
                </a:lnTo>
                <a:close/>
                <a:moveTo>
                  <a:pt x="1562" y="502"/>
                </a:moveTo>
                <a:lnTo>
                  <a:pt x="1515" y="502"/>
                </a:lnTo>
                <a:lnTo>
                  <a:pt x="1515" y="455"/>
                </a:lnTo>
                <a:lnTo>
                  <a:pt x="1562" y="455"/>
                </a:lnTo>
                <a:lnTo>
                  <a:pt x="1562" y="502"/>
                </a:lnTo>
                <a:close/>
                <a:moveTo>
                  <a:pt x="1184" y="502"/>
                </a:moveTo>
                <a:lnTo>
                  <a:pt x="1136" y="502"/>
                </a:lnTo>
                <a:lnTo>
                  <a:pt x="1136" y="455"/>
                </a:lnTo>
                <a:lnTo>
                  <a:pt x="1184" y="455"/>
                </a:lnTo>
                <a:lnTo>
                  <a:pt x="1184" y="502"/>
                </a:lnTo>
                <a:close/>
                <a:moveTo>
                  <a:pt x="956" y="502"/>
                </a:moveTo>
                <a:lnTo>
                  <a:pt x="909" y="502"/>
                </a:lnTo>
                <a:lnTo>
                  <a:pt x="909" y="455"/>
                </a:lnTo>
                <a:lnTo>
                  <a:pt x="956" y="455"/>
                </a:lnTo>
                <a:lnTo>
                  <a:pt x="956" y="502"/>
                </a:lnTo>
                <a:close/>
                <a:moveTo>
                  <a:pt x="881" y="502"/>
                </a:moveTo>
                <a:lnTo>
                  <a:pt x="833" y="502"/>
                </a:lnTo>
                <a:lnTo>
                  <a:pt x="833" y="455"/>
                </a:lnTo>
                <a:lnTo>
                  <a:pt x="881" y="455"/>
                </a:lnTo>
                <a:lnTo>
                  <a:pt x="881" y="502"/>
                </a:lnTo>
                <a:close/>
                <a:moveTo>
                  <a:pt x="729" y="502"/>
                </a:moveTo>
                <a:lnTo>
                  <a:pt x="682" y="502"/>
                </a:lnTo>
                <a:lnTo>
                  <a:pt x="682" y="455"/>
                </a:lnTo>
                <a:lnTo>
                  <a:pt x="729" y="455"/>
                </a:lnTo>
                <a:lnTo>
                  <a:pt x="729" y="502"/>
                </a:lnTo>
                <a:close/>
                <a:moveTo>
                  <a:pt x="653" y="502"/>
                </a:moveTo>
                <a:lnTo>
                  <a:pt x="606" y="502"/>
                </a:lnTo>
                <a:lnTo>
                  <a:pt x="606" y="455"/>
                </a:lnTo>
                <a:lnTo>
                  <a:pt x="653" y="455"/>
                </a:lnTo>
                <a:lnTo>
                  <a:pt x="653" y="502"/>
                </a:lnTo>
                <a:close/>
                <a:moveTo>
                  <a:pt x="578" y="502"/>
                </a:moveTo>
                <a:lnTo>
                  <a:pt x="530" y="502"/>
                </a:lnTo>
                <a:lnTo>
                  <a:pt x="530" y="455"/>
                </a:lnTo>
                <a:lnTo>
                  <a:pt x="578" y="455"/>
                </a:lnTo>
                <a:lnTo>
                  <a:pt x="578" y="502"/>
                </a:lnTo>
                <a:close/>
                <a:moveTo>
                  <a:pt x="502" y="502"/>
                </a:moveTo>
                <a:lnTo>
                  <a:pt x="455" y="502"/>
                </a:lnTo>
                <a:lnTo>
                  <a:pt x="455" y="455"/>
                </a:lnTo>
                <a:lnTo>
                  <a:pt x="502" y="455"/>
                </a:lnTo>
                <a:lnTo>
                  <a:pt x="502" y="502"/>
                </a:lnTo>
                <a:close/>
                <a:moveTo>
                  <a:pt x="426" y="502"/>
                </a:moveTo>
                <a:lnTo>
                  <a:pt x="379" y="502"/>
                </a:lnTo>
                <a:lnTo>
                  <a:pt x="379" y="455"/>
                </a:lnTo>
                <a:lnTo>
                  <a:pt x="426" y="455"/>
                </a:lnTo>
                <a:lnTo>
                  <a:pt x="426" y="502"/>
                </a:lnTo>
                <a:close/>
                <a:moveTo>
                  <a:pt x="351" y="502"/>
                </a:moveTo>
                <a:lnTo>
                  <a:pt x="303" y="502"/>
                </a:lnTo>
                <a:lnTo>
                  <a:pt x="303" y="455"/>
                </a:lnTo>
                <a:lnTo>
                  <a:pt x="351" y="455"/>
                </a:lnTo>
                <a:lnTo>
                  <a:pt x="351" y="502"/>
                </a:lnTo>
                <a:close/>
                <a:moveTo>
                  <a:pt x="275" y="502"/>
                </a:moveTo>
                <a:lnTo>
                  <a:pt x="227" y="502"/>
                </a:lnTo>
                <a:lnTo>
                  <a:pt x="227" y="455"/>
                </a:lnTo>
                <a:lnTo>
                  <a:pt x="275" y="455"/>
                </a:lnTo>
                <a:lnTo>
                  <a:pt x="275" y="502"/>
                </a:lnTo>
                <a:close/>
                <a:moveTo>
                  <a:pt x="123" y="502"/>
                </a:moveTo>
                <a:lnTo>
                  <a:pt x="76" y="502"/>
                </a:lnTo>
                <a:lnTo>
                  <a:pt x="76" y="455"/>
                </a:lnTo>
                <a:lnTo>
                  <a:pt x="123" y="455"/>
                </a:lnTo>
                <a:lnTo>
                  <a:pt x="123" y="502"/>
                </a:lnTo>
                <a:close/>
                <a:moveTo>
                  <a:pt x="3458" y="426"/>
                </a:moveTo>
                <a:lnTo>
                  <a:pt x="3408" y="426"/>
                </a:lnTo>
                <a:lnTo>
                  <a:pt x="3408" y="379"/>
                </a:lnTo>
                <a:lnTo>
                  <a:pt x="3458" y="379"/>
                </a:lnTo>
                <a:lnTo>
                  <a:pt x="3458" y="426"/>
                </a:lnTo>
                <a:close/>
                <a:moveTo>
                  <a:pt x="3382" y="426"/>
                </a:moveTo>
                <a:lnTo>
                  <a:pt x="3332" y="426"/>
                </a:lnTo>
                <a:lnTo>
                  <a:pt x="3332" y="379"/>
                </a:lnTo>
                <a:lnTo>
                  <a:pt x="3382" y="379"/>
                </a:lnTo>
                <a:lnTo>
                  <a:pt x="3382" y="426"/>
                </a:lnTo>
                <a:close/>
                <a:moveTo>
                  <a:pt x="3306" y="426"/>
                </a:moveTo>
                <a:lnTo>
                  <a:pt x="3257" y="426"/>
                </a:lnTo>
                <a:lnTo>
                  <a:pt x="3257" y="379"/>
                </a:lnTo>
                <a:lnTo>
                  <a:pt x="3306" y="379"/>
                </a:lnTo>
                <a:lnTo>
                  <a:pt x="3306" y="426"/>
                </a:lnTo>
                <a:close/>
                <a:moveTo>
                  <a:pt x="3230" y="426"/>
                </a:moveTo>
                <a:lnTo>
                  <a:pt x="3181" y="426"/>
                </a:lnTo>
                <a:lnTo>
                  <a:pt x="3181" y="379"/>
                </a:lnTo>
                <a:lnTo>
                  <a:pt x="3230" y="379"/>
                </a:lnTo>
                <a:lnTo>
                  <a:pt x="3230" y="426"/>
                </a:lnTo>
                <a:close/>
                <a:moveTo>
                  <a:pt x="3155" y="426"/>
                </a:moveTo>
                <a:lnTo>
                  <a:pt x="3105" y="426"/>
                </a:lnTo>
                <a:lnTo>
                  <a:pt x="3105" y="379"/>
                </a:lnTo>
                <a:lnTo>
                  <a:pt x="3155" y="379"/>
                </a:lnTo>
                <a:lnTo>
                  <a:pt x="3155" y="426"/>
                </a:lnTo>
                <a:close/>
                <a:moveTo>
                  <a:pt x="3079" y="426"/>
                </a:moveTo>
                <a:lnTo>
                  <a:pt x="3029" y="426"/>
                </a:lnTo>
                <a:lnTo>
                  <a:pt x="3029" y="379"/>
                </a:lnTo>
                <a:lnTo>
                  <a:pt x="3079" y="379"/>
                </a:lnTo>
                <a:lnTo>
                  <a:pt x="3079" y="426"/>
                </a:lnTo>
                <a:close/>
                <a:moveTo>
                  <a:pt x="3003" y="426"/>
                </a:moveTo>
                <a:lnTo>
                  <a:pt x="2954" y="426"/>
                </a:lnTo>
                <a:lnTo>
                  <a:pt x="2954" y="379"/>
                </a:lnTo>
                <a:lnTo>
                  <a:pt x="3003" y="379"/>
                </a:lnTo>
                <a:lnTo>
                  <a:pt x="3003" y="426"/>
                </a:lnTo>
                <a:close/>
                <a:moveTo>
                  <a:pt x="2928" y="426"/>
                </a:moveTo>
                <a:lnTo>
                  <a:pt x="2878" y="426"/>
                </a:lnTo>
                <a:lnTo>
                  <a:pt x="2878" y="379"/>
                </a:lnTo>
                <a:lnTo>
                  <a:pt x="2928" y="379"/>
                </a:lnTo>
                <a:lnTo>
                  <a:pt x="2928" y="426"/>
                </a:lnTo>
                <a:close/>
                <a:moveTo>
                  <a:pt x="2852" y="426"/>
                </a:moveTo>
                <a:lnTo>
                  <a:pt x="2802" y="426"/>
                </a:lnTo>
                <a:lnTo>
                  <a:pt x="2802" y="379"/>
                </a:lnTo>
                <a:lnTo>
                  <a:pt x="2852" y="379"/>
                </a:lnTo>
                <a:lnTo>
                  <a:pt x="2852" y="426"/>
                </a:lnTo>
                <a:close/>
                <a:moveTo>
                  <a:pt x="2776" y="426"/>
                </a:moveTo>
                <a:lnTo>
                  <a:pt x="2726" y="426"/>
                </a:lnTo>
                <a:lnTo>
                  <a:pt x="2726" y="379"/>
                </a:lnTo>
                <a:lnTo>
                  <a:pt x="2776" y="379"/>
                </a:lnTo>
                <a:lnTo>
                  <a:pt x="2776" y="426"/>
                </a:lnTo>
                <a:close/>
                <a:moveTo>
                  <a:pt x="2700" y="426"/>
                </a:moveTo>
                <a:lnTo>
                  <a:pt x="2651" y="426"/>
                </a:lnTo>
                <a:lnTo>
                  <a:pt x="2651" y="379"/>
                </a:lnTo>
                <a:lnTo>
                  <a:pt x="2700" y="379"/>
                </a:lnTo>
                <a:lnTo>
                  <a:pt x="2700" y="426"/>
                </a:lnTo>
                <a:close/>
                <a:moveTo>
                  <a:pt x="2622" y="426"/>
                </a:moveTo>
                <a:lnTo>
                  <a:pt x="2575" y="426"/>
                </a:lnTo>
                <a:lnTo>
                  <a:pt x="2575" y="379"/>
                </a:lnTo>
                <a:lnTo>
                  <a:pt x="2622" y="379"/>
                </a:lnTo>
                <a:lnTo>
                  <a:pt x="2622" y="426"/>
                </a:lnTo>
                <a:close/>
                <a:moveTo>
                  <a:pt x="2547" y="426"/>
                </a:moveTo>
                <a:lnTo>
                  <a:pt x="2499" y="426"/>
                </a:lnTo>
                <a:lnTo>
                  <a:pt x="2499" y="379"/>
                </a:lnTo>
                <a:lnTo>
                  <a:pt x="2547" y="379"/>
                </a:lnTo>
                <a:lnTo>
                  <a:pt x="2547" y="426"/>
                </a:lnTo>
                <a:close/>
                <a:moveTo>
                  <a:pt x="2471" y="426"/>
                </a:moveTo>
                <a:lnTo>
                  <a:pt x="2424" y="426"/>
                </a:lnTo>
                <a:lnTo>
                  <a:pt x="2424" y="379"/>
                </a:lnTo>
                <a:lnTo>
                  <a:pt x="2471" y="379"/>
                </a:lnTo>
                <a:lnTo>
                  <a:pt x="2471" y="426"/>
                </a:lnTo>
                <a:close/>
                <a:moveTo>
                  <a:pt x="2395" y="426"/>
                </a:moveTo>
                <a:lnTo>
                  <a:pt x="2348" y="426"/>
                </a:lnTo>
                <a:lnTo>
                  <a:pt x="2348" y="379"/>
                </a:lnTo>
                <a:lnTo>
                  <a:pt x="2395" y="379"/>
                </a:lnTo>
                <a:lnTo>
                  <a:pt x="2395" y="426"/>
                </a:lnTo>
                <a:close/>
                <a:moveTo>
                  <a:pt x="2319" y="426"/>
                </a:moveTo>
                <a:lnTo>
                  <a:pt x="2272" y="426"/>
                </a:lnTo>
                <a:lnTo>
                  <a:pt x="2272" y="379"/>
                </a:lnTo>
                <a:lnTo>
                  <a:pt x="2319" y="379"/>
                </a:lnTo>
                <a:lnTo>
                  <a:pt x="2319" y="426"/>
                </a:lnTo>
                <a:close/>
                <a:moveTo>
                  <a:pt x="2244" y="426"/>
                </a:moveTo>
                <a:lnTo>
                  <a:pt x="2196" y="426"/>
                </a:lnTo>
                <a:lnTo>
                  <a:pt x="2196" y="379"/>
                </a:lnTo>
                <a:lnTo>
                  <a:pt x="2244" y="379"/>
                </a:lnTo>
                <a:lnTo>
                  <a:pt x="2244" y="426"/>
                </a:lnTo>
                <a:close/>
                <a:moveTo>
                  <a:pt x="2168" y="426"/>
                </a:moveTo>
                <a:lnTo>
                  <a:pt x="2121" y="426"/>
                </a:lnTo>
                <a:lnTo>
                  <a:pt x="2121" y="379"/>
                </a:lnTo>
                <a:lnTo>
                  <a:pt x="2168" y="379"/>
                </a:lnTo>
                <a:lnTo>
                  <a:pt x="2168" y="426"/>
                </a:lnTo>
                <a:close/>
                <a:moveTo>
                  <a:pt x="2092" y="426"/>
                </a:moveTo>
                <a:lnTo>
                  <a:pt x="2045" y="426"/>
                </a:lnTo>
                <a:lnTo>
                  <a:pt x="2045" y="379"/>
                </a:lnTo>
                <a:lnTo>
                  <a:pt x="2092" y="379"/>
                </a:lnTo>
                <a:lnTo>
                  <a:pt x="2092" y="426"/>
                </a:lnTo>
                <a:close/>
                <a:moveTo>
                  <a:pt x="2016" y="426"/>
                </a:moveTo>
                <a:lnTo>
                  <a:pt x="1969" y="426"/>
                </a:lnTo>
                <a:lnTo>
                  <a:pt x="1969" y="379"/>
                </a:lnTo>
                <a:lnTo>
                  <a:pt x="2016" y="379"/>
                </a:lnTo>
                <a:lnTo>
                  <a:pt x="2016" y="426"/>
                </a:lnTo>
                <a:close/>
                <a:moveTo>
                  <a:pt x="1941" y="426"/>
                </a:moveTo>
                <a:lnTo>
                  <a:pt x="1893" y="426"/>
                </a:lnTo>
                <a:lnTo>
                  <a:pt x="1893" y="379"/>
                </a:lnTo>
                <a:lnTo>
                  <a:pt x="1941" y="379"/>
                </a:lnTo>
                <a:lnTo>
                  <a:pt x="1941" y="426"/>
                </a:lnTo>
                <a:close/>
                <a:moveTo>
                  <a:pt x="1865" y="426"/>
                </a:moveTo>
                <a:lnTo>
                  <a:pt x="1818" y="426"/>
                </a:lnTo>
                <a:lnTo>
                  <a:pt x="1818" y="379"/>
                </a:lnTo>
                <a:lnTo>
                  <a:pt x="1865" y="379"/>
                </a:lnTo>
                <a:lnTo>
                  <a:pt x="1865" y="426"/>
                </a:lnTo>
                <a:close/>
                <a:moveTo>
                  <a:pt x="1789" y="426"/>
                </a:moveTo>
                <a:lnTo>
                  <a:pt x="1742" y="426"/>
                </a:lnTo>
                <a:lnTo>
                  <a:pt x="1742" y="379"/>
                </a:lnTo>
                <a:lnTo>
                  <a:pt x="1789" y="379"/>
                </a:lnTo>
                <a:lnTo>
                  <a:pt x="1789" y="426"/>
                </a:lnTo>
                <a:close/>
                <a:moveTo>
                  <a:pt x="1486" y="426"/>
                </a:moveTo>
                <a:lnTo>
                  <a:pt x="1439" y="426"/>
                </a:lnTo>
                <a:lnTo>
                  <a:pt x="1439" y="379"/>
                </a:lnTo>
                <a:lnTo>
                  <a:pt x="1486" y="379"/>
                </a:lnTo>
                <a:lnTo>
                  <a:pt x="1486" y="426"/>
                </a:lnTo>
                <a:close/>
                <a:moveTo>
                  <a:pt x="1411" y="426"/>
                </a:moveTo>
                <a:lnTo>
                  <a:pt x="1363" y="426"/>
                </a:lnTo>
                <a:lnTo>
                  <a:pt x="1363" y="379"/>
                </a:lnTo>
                <a:lnTo>
                  <a:pt x="1411" y="379"/>
                </a:lnTo>
                <a:lnTo>
                  <a:pt x="1411" y="426"/>
                </a:lnTo>
                <a:close/>
                <a:moveTo>
                  <a:pt x="1259" y="426"/>
                </a:moveTo>
                <a:lnTo>
                  <a:pt x="1212" y="426"/>
                </a:lnTo>
                <a:lnTo>
                  <a:pt x="1212" y="379"/>
                </a:lnTo>
                <a:lnTo>
                  <a:pt x="1259" y="379"/>
                </a:lnTo>
                <a:lnTo>
                  <a:pt x="1259" y="426"/>
                </a:lnTo>
                <a:close/>
                <a:moveTo>
                  <a:pt x="1184" y="426"/>
                </a:moveTo>
                <a:lnTo>
                  <a:pt x="1136" y="426"/>
                </a:lnTo>
                <a:lnTo>
                  <a:pt x="1136" y="379"/>
                </a:lnTo>
                <a:lnTo>
                  <a:pt x="1184" y="379"/>
                </a:lnTo>
                <a:lnTo>
                  <a:pt x="1184" y="426"/>
                </a:lnTo>
                <a:close/>
                <a:moveTo>
                  <a:pt x="956" y="426"/>
                </a:moveTo>
                <a:lnTo>
                  <a:pt x="909" y="426"/>
                </a:lnTo>
                <a:lnTo>
                  <a:pt x="909" y="379"/>
                </a:lnTo>
                <a:lnTo>
                  <a:pt x="956" y="379"/>
                </a:lnTo>
                <a:lnTo>
                  <a:pt x="956" y="426"/>
                </a:lnTo>
                <a:close/>
                <a:moveTo>
                  <a:pt x="881" y="426"/>
                </a:moveTo>
                <a:lnTo>
                  <a:pt x="833" y="426"/>
                </a:lnTo>
                <a:lnTo>
                  <a:pt x="833" y="379"/>
                </a:lnTo>
                <a:lnTo>
                  <a:pt x="881" y="379"/>
                </a:lnTo>
                <a:lnTo>
                  <a:pt x="881" y="426"/>
                </a:lnTo>
                <a:close/>
                <a:moveTo>
                  <a:pt x="805" y="426"/>
                </a:moveTo>
                <a:lnTo>
                  <a:pt x="758" y="426"/>
                </a:lnTo>
                <a:lnTo>
                  <a:pt x="758" y="379"/>
                </a:lnTo>
                <a:lnTo>
                  <a:pt x="805" y="379"/>
                </a:lnTo>
                <a:lnTo>
                  <a:pt x="805" y="426"/>
                </a:lnTo>
                <a:close/>
                <a:moveTo>
                  <a:pt x="729" y="426"/>
                </a:moveTo>
                <a:lnTo>
                  <a:pt x="682" y="426"/>
                </a:lnTo>
                <a:lnTo>
                  <a:pt x="682" y="379"/>
                </a:lnTo>
                <a:lnTo>
                  <a:pt x="729" y="379"/>
                </a:lnTo>
                <a:lnTo>
                  <a:pt x="729" y="426"/>
                </a:lnTo>
                <a:close/>
                <a:moveTo>
                  <a:pt x="653" y="426"/>
                </a:moveTo>
                <a:lnTo>
                  <a:pt x="606" y="426"/>
                </a:lnTo>
                <a:lnTo>
                  <a:pt x="606" y="379"/>
                </a:lnTo>
                <a:lnTo>
                  <a:pt x="653" y="379"/>
                </a:lnTo>
                <a:lnTo>
                  <a:pt x="653" y="426"/>
                </a:lnTo>
                <a:close/>
                <a:moveTo>
                  <a:pt x="578" y="426"/>
                </a:moveTo>
                <a:lnTo>
                  <a:pt x="530" y="426"/>
                </a:lnTo>
                <a:lnTo>
                  <a:pt x="530" y="379"/>
                </a:lnTo>
                <a:lnTo>
                  <a:pt x="578" y="379"/>
                </a:lnTo>
                <a:lnTo>
                  <a:pt x="578" y="426"/>
                </a:lnTo>
                <a:close/>
                <a:moveTo>
                  <a:pt x="502" y="426"/>
                </a:moveTo>
                <a:lnTo>
                  <a:pt x="455" y="426"/>
                </a:lnTo>
                <a:lnTo>
                  <a:pt x="455" y="379"/>
                </a:lnTo>
                <a:lnTo>
                  <a:pt x="502" y="379"/>
                </a:lnTo>
                <a:lnTo>
                  <a:pt x="502" y="426"/>
                </a:lnTo>
                <a:close/>
                <a:moveTo>
                  <a:pt x="426" y="426"/>
                </a:moveTo>
                <a:lnTo>
                  <a:pt x="379" y="426"/>
                </a:lnTo>
                <a:lnTo>
                  <a:pt x="379" y="379"/>
                </a:lnTo>
                <a:lnTo>
                  <a:pt x="426" y="379"/>
                </a:lnTo>
                <a:lnTo>
                  <a:pt x="426" y="426"/>
                </a:lnTo>
                <a:close/>
                <a:moveTo>
                  <a:pt x="351" y="426"/>
                </a:moveTo>
                <a:lnTo>
                  <a:pt x="303" y="426"/>
                </a:lnTo>
                <a:lnTo>
                  <a:pt x="303" y="379"/>
                </a:lnTo>
                <a:lnTo>
                  <a:pt x="351" y="379"/>
                </a:lnTo>
                <a:lnTo>
                  <a:pt x="351" y="426"/>
                </a:lnTo>
                <a:close/>
                <a:moveTo>
                  <a:pt x="275" y="426"/>
                </a:moveTo>
                <a:lnTo>
                  <a:pt x="227" y="426"/>
                </a:lnTo>
                <a:lnTo>
                  <a:pt x="227" y="379"/>
                </a:lnTo>
                <a:lnTo>
                  <a:pt x="275" y="379"/>
                </a:lnTo>
                <a:lnTo>
                  <a:pt x="275" y="426"/>
                </a:lnTo>
                <a:close/>
                <a:moveTo>
                  <a:pt x="199" y="426"/>
                </a:moveTo>
                <a:lnTo>
                  <a:pt x="152" y="426"/>
                </a:lnTo>
                <a:lnTo>
                  <a:pt x="152" y="379"/>
                </a:lnTo>
                <a:lnTo>
                  <a:pt x="199" y="379"/>
                </a:lnTo>
                <a:lnTo>
                  <a:pt x="199" y="426"/>
                </a:lnTo>
                <a:close/>
                <a:moveTo>
                  <a:pt x="123" y="426"/>
                </a:moveTo>
                <a:lnTo>
                  <a:pt x="76" y="426"/>
                </a:lnTo>
                <a:lnTo>
                  <a:pt x="76" y="379"/>
                </a:lnTo>
                <a:lnTo>
                  <a:pt x="123" y="379"/>
                </a:lnTo>
                <a:lnTo>
                  <a:pt x="123" y="426"/>
                </a:lnTo>
                <a:close/>
                <a:moveTo>
                  <a:pt x="48" y="426"/>
                </a:moveTo>
                <a:lnTo>
                  <a:pt x="0" y="426"/>
                </a:lnTo>
                <a:lnTo>
                  <a:pt x="0" y="379"/>
                </a:lnTo>
                <a:lnTo>
                  <a:pt x="48" y="379"/>
                </a:lnTo>
                <a:lnTo>
                  <a:pt x="48" y="426"/>
                </a:lnTo>
                <a:close/>
                <a:moveTo>
                  <a:pt x="3382" y="351"/>
                </a:moveTo>
                <a:lnTo>
                  <a:pt x="3332" y="351"/>
                </a:lnTo>
                <a:lnTo>
                  <a:pt x="3332" y="303"/>
                </a:lnTo>
                <a:lnTo>
                  <a:pt x="3382" y="303"/>
                </a:lnTo>
                <a:lnTo>
                  <a:pt x="3382" y="351"/>
                </a:lnTo>
                <a:close/>
                <a:moveTo>
                  <a:pt x="3306" y="351"/>
                </a:moveTo>
                <a:lnTo>
                  <a:pt x="3257" y="351"/>
                </a:lnTo>
                <a:lnTo>
                  <a:pt x="3257" y="303"/>
                </a:lnTo>
                <a:lnTo>
                  <a:pt x="3306" y="303"/>
                </a:lnTo>
                <a:lnTo>
                  <a:pt x="3306" y="351"/>
                </a:lnTo>
                <a:close/>
                <a:moveTo>
                  <a:pt x="3230" y="351"/>
                </a:moveTo>
                <a:lnTo>
                  <a:pt x="3181" y="351"/>
                </a:lnTo>
                <a:lnTo>
                  <a:pt x="3181" y="303"/>
                </a:lnTo>
                <a:lnTo>
                  <a:pt x="3230" y="303"/>
                </a:lnTo>
                <a:lnTo>
                  <a:pt x="3230" y="351"/>
                </a:lnTo>
                <a:close/>
                <a:moveTo>
                  <a:pt x="3155" y="351"/>
                </a:moveTo>
                <a:lnTo>
                  <a:pt x="3105" y="351"/>
                </a:lnTo>
                <a:lnTo>
                  <a:pt x="3105" y="303"/>
                </a:lnTo>
                <a:lnTo>
                  <a:pt x="3155" y="303"/>
                </a:lnTo>
                <a:lnTo>
                  <a:pt x="3155" y="351"/>
                </a:lnTo>
                <a:close/>
                <a:moveTo>
                  <a:pt x="3079" y="351"/>
                </a:moveTo>
                <a:lnTo>
                  <a:pt x="3029" y="351"/>
                </a:lnTo>
                <a:lnTo>
                  <a:pt x="3029" y="303"/>
                </a:lnTo>
                <a:lnTo>
                  <a:pt x="3079" y="303"/>
                </a:lnTo>
                <a:lnTo>
                  <a:pt x="3079" y="351"/>
                </a:lnTo>
                <a:close/>
                <a:moveTo>
                  <a:pt x="3003" y="351"/>
                </a:moveTo>
                <a:lnTo>
                  <a:pt x="2954" y="351"/>
                </a:lnTo>
                <a:lnTo>
                  <a:pt x="2954" y="303"/>
                </a:lnTo>
                <a:lnTo>
                  <a:pt x="3003" y="303"/>
                </a:lnTo>
                <a:lnTo>
                  <a:pt x="3003" y="351"/>
                </a:lnTo>
                <a:close/>
                <a:moveTo>
                  <a:pt x="2928" y="351"/>
                </a:moveTo>
                <a:lnTo>
                  <a:pt x="2878" y="351"/>
                </a:lnTo>
                <a:lnTo>
                  <a:pt x="2878" y="303"/>
                </a:lnTo>
                <a:lnTo>
                  <a:pt x="2928" y="303"/>
                </a:lnTo>
                <a:lnTo>
                  <a:pt x="2928" y="351"/>
                </a:lnTo>
                <a:close/>
                <a:moveTo>
                  <a:pt x="2852" y="351"/>
                </a:moveTo>
                <a:lnTo>
                  <a:pt x="2802" y="351"/>
                </a:lnTo>
                <a:lnTo>
                  <a:pt x="2802" y="303"/>
                </a:lnTo>
                <a:lnTo>
                  <a:pt x="2852" y="303"/>
                </a:lnTo>
                <a:lnTo>
                  <a:pt x="2852" y="351"/>
                </a:lnTo>
                <a:close/>
                <a:moveTo>
                  <a:pt x="2776" y="351"/>
                </a:moveTo>
                <a:lnTo>
                  <a:pt x="2726" y="351"/>
                </a:lnTo>
                <a:lnTo>
                  <a:pt x="2726" y="303"/>
                </a:lnTo>
                <a:lnTo>
                  <a:pt x="2776" y="303"/>
                </a:lnTo>
                <a:lnTo>
                  <a:pt x="2776" y="351"/>
                </a:lnTo>
                <a:close/>
                <a:moveTo>
                  <a:pt x="2700" y="351"/>
                </a:moveTo>
                <a:lnTo>
                  <a:pt x="2651" y="351"/>
                </a:lnTo>
                <a:lnTo>
                  <a:pt x="2651" y="303"/>
                </a:lnTo>
                <a:lnTo>
                  <a:pt x="2700" y="303"/>
                </a:lnTo>
                <a:lnTo>
                  <a:pt x="2700" y="351"/>
                </a:lnTo>
                <a:close/>
                <a:moveTo>
                  <a:pt x="2622" y="351"/>
                </a:moveTo>
                <a:lnTo>
                  <a:pt x="2575" y="351"/>
                </a:lnTo>
                <a:lnTo>
                  <a:pt x="2575" y="303"/>
                </a:lnTo>
                <a:lnTo>
                  <a:pt x="2622" y="303"/>
                </a:lnTo>
                <a:lnTo>
                  <a:pt x="2622" y="351"/>
                </a:lnTo>
                <a:close/>
                <a:moveTo>
                  <a:pt x="2547" y="351"/>
                </a:moveTo>
                <a:lnTo>
                  <a:pt x="2499" y="351"/>
                </a:lnTo>
                <a:lnTo>
                  <a:pt x="2499" y="303"/>
                </a:lnTo>
                <a:lnTo>
                  <a:pt x="2547" y="303"/>
                </a:lnTo>
                <a:lnTo>
                  <a:pt x="2547" y="351"/>
                </a:lnTo>
                <a:close/>
                <a:moveTo>
                  <a:pt x="2471" y="351"/>
                </a:moveTo>
                <a:lnTo>
                  <a:pt x="2424" y="351"/>
                </a:lnTo>
                <a:lnTo>
                  <a:pt x="2424" y="303"/>
                </a:lnTo>
                <a:lnTo>
                  <a:pt x="2471" y="303"/>
                </a:lnTo>
                <a:lnTo>
                  <a:pt x="2471" y="351"/>
                </a:lnTo>
                <a:close/>
                <a:moveTo>
                  <a:pt x="2395" y="351"/>
                </a:moveTo>
                <a:lnTo>
                  <a:pt x="2348" y="351"/>
                </a:lnTo>
                <a:lnTo>
                  <a:pt x="2348" y="303"/>
                </a:lnTo>
                <a:lnTo>
                  <a:pt x="2395" y="303"/>
                </a:lnTo>
                <a:lnTo>
                  <a:pt x="2395" y="351"/>
                </a:lnTo>
                <a:close/>
                <a:moveTo>
                  <a:pt x="2319" y="351"/>
                </a:moveTo>
                <a:lnTo>
                  <a:pt x="2272" y="351"/>
                </a:lnTo>
                <a:lnTo>
                  <a:pt x="2272" y="303"/>
                </a:lnTo>
                <a:lnTo>
                  <a:pt x="2319" y="303"/>
                </a:lnTo>
                <a:lnTo>
                  <a:pt x="2319" y="351"/>
                </a:lnTo>
                <a:close/>
                <a:moveTo>
                  <a:pt x="2244" y="351"/>
                </a:moveTo>
                <a:lnTo>
                  <a:pt x="2196" y="351"/>
                </a:lnTo>
                <a:lnTo>
                  <a:pt x="2196" y="303"/>
                </a:lnTo>
                <a:lnTo>
                  <a:pt x="2244" y="303"/>
                </a:lnTo>
                <a:lnTo>
                  <a:pt x="2244" y="351"/>
                </a:lnTo>
                <a:close/>
                <a:moveTo>
                  <a:pt x="2168" y="351"/>
                </a:moveTo>
                <a:lnTo>
                  <a:pt x="2121" y="351"/>
                </a:lnTo>
                <a:lnTo>
                  <a:pt x="2121" y="303"/>
                </a:lnTo>
                <a:lnTo>
                  <a:pt x="2168" y="303"/>
                </a:lnTo>
                <a:lnTo>
                  <a:pt x="2168" y="351"/>
                </a:lnTo>
                <a:close/>
                <a:moveTo>
                  <a:pt x="2016" y="351"/>
                </a:moveTo>
                <a:lnTo>
                  <a:pt x="1969" y="351"/>
                </a:lnTo>
                <a:lnTo>
                  <a:pt x="1969" y="303"/>
                </a:lnTo>
                <a:lnTo>
                  <a:pt x="2016" y="303"/>
                </a:lnTo>
                <a:lnTo>
                  <a:pt x="2016" y="351"/>
                </a:lnTo>
                <a:close/>
                <a:moveTo>
                  <a:pt x="1941" y="351"/>
                </a:moveTo>
                <a:lnTo>
                  <a:pt x="1893" y="351"/>
                </a:lnTo>
                <a:lnTo>
                  <a:pt x="1893" y="303"/>
                </a:lnTo>
                <a:lnTo>
                  <a:pt x="1941" y="303"/>
                </a:lnTo>
                <a:lnTo>
                  <a:pt x="1941" y="351"/>
                </a:lnTo>
                <a:close/>
                <a:moveTo>
                  <a:pt x="1865" y="351"/>
                </a:moveTo>
                <a:lnTo>
                  <a:pt x="1818" y="351"/>
                </a:lnTo>
                <a:lnTo>
                  <a:pt x="1818" y="303"/>
                </a:lnTo>
                <a:lnTo>
                  <a:pt x="1865" y="303"/>
                </a:lnTo>
                <a:lnTo>
                  <a:pt x="1865" y="351"/>
                </a:lnTo>
                <a:close/>
                <a:moveTo>
                  <a:pt x="1335" y="351"/>
                </a:moveTo>
                <a:lnTo>
                  <a:pt x="1288" y="351"/>
                </a:lnTo>
                <a:lnTo>
                  <a:pt x="1288" y="303"/>
                </a:lnTo>
                <a:lnTo>
                  <a:pt x="1335" y="303"/>
                </a:lnTo>
                <a:lnTo>
                  <a:pt x="1335" y="351"/>
                </a:lnTo>
                <a:close/>
                <a:moveTo>
                  <a:pt x="1259" y="351"/>
                </a:moveTo>
                <a:lnTo>
                  <a:pt x="1212" y="351"/>
                </a:lnTo>
                <a:lnTo>
                  <a:pt x="1212" y="303"/>
                </a:lnTo>
                <a:lnTo>
                  <a:pt x="1259" y="303"/>
                </a:lnTo>
                <a:lnTo>
                  <a:pt x="1259" y="351"/>
                </a:lnTo>
                <a:close/>
                <a:moveTo>
                  <a:pt x="1184" y="351"/>
                </a:moveTo>
                <a:lnTo>
                  <a:pt x="1136" y="351"/>
                </a:lnTo>
                <a:lnTo>
                  <a:pt x="1136" y="303"/>
                </a:lnTo>
                <a:lnTo>
                  <a:pt x="1184" y="303"/>
                </a:lnTo>
                <a:lnTo>
                  <a:pt x="1184" y="351"/>
                </a:lnTo>
                <a:close/>
                <a:moveTo>
                  <a:pt x="1032" y="351"/>
                </a:moveTo>
                <a:lnTo>
                  <a:pt x="985" y="351"/>
                </a:lnTo>
                <a:lnTo>
                  <a:pt x="985" y="303"/>
                </a:lnTo>
                <a:lnTo>
                  <a:pt x="1032" y="303"/>
                </a:lnTo>
                <a:lnTo>
                  <a:pt x="1032" y="351"/>
                </a:lnTo>
                <a:close/>
                <a:moveTo>
                  <a:pt x="956" y="351"/>
                </a:moveTo>
                <a:lnTo>
                  <a:pt x="909" y="351"/>
                </a:lnTo>
                <a:lnTo>
                  <a:pt x="909" y="303"/>
                </a:lnTo>
                <a:lnTo>
                  <a:pt x="956" y="303"/>
                </a:lnTo>
                <a:lnTo>
                  <a:pt x="956" y="351"/>
                </a:lnTo>
                <a:close/>
                <a:moveTo>
                  <a:pt x="805" y="351"/>
                </a:moveTo>
                <a:lnTo>
                  <a:pt x="758" y="351"/>
                </a:lnTo>
                <a:lnTo>
                  <a:pt x="758" y="303"/>
                </a:lnTo>
                <a:lnTo>
                  <a:pt x="805" y="303"/>
                </a:lnTo>
                <a:lnTo>
                  <a:pt x="805" y="351"/>
                </a:lnTo>
                <a:close/>
                <a:moveTo>
                  <a:pt x="729" y="351"/>
                </a:moveTo>
                <a:lnTo>
                  <a:pt x="682" y="351"/>
                </a:lnTo>
                <a:lnTo>
                  <a:pt x="682" y="303"/>
                </a:lnTo>
                <a:lnTo>
                  <a:pt x="729" y="303"/>
                </a:lnTo>
                <a:lnTo>
                  <a:pt x="729" y="351"/>
                </a:lnTo>
                <a:close/>
                <a:moveTo>
                  <a:pt x="653" y="351"/>
                </a:moveTo>
                <a:lnTo>
                  <a:pt x="606" y="351"/>
                </a:lnTo>
                <a:lnTo>
                  <a:pt x="606" y="303"/>
                </a:lnTo>
                <a:lnTo>
                  <a:pt x="653" y="303"/>
                </a:lnTo>
                <a:lnTo>
                  <a:pt x="653" y="351"/>
                </a:lnTo>
                <a:close/>
                <a:moveTo>
                  <a:pt x="578" y="351"/>
                </a:moveTo>
                <a:lnTo>
                  <a:pt x="530" y="351"/>
                </a:lnTo>
                <a:lnTo>
                  <a:pt x="530" y="303"/>
                </a:lnTo>
                <a:lnTo>
                  <a:pt x="578" y="303"/>
                </a:lnTo>
                <a:lnTo>
                  <a:pt x="578" y="351"/>
                </a:lnTo>
                <a:close/>
                <a:moveTo>
                  <a:pt x="502" y="351"/>
                </a:moveTo>
                <a:lnTo>
                  <a:pt x="455" y="351"/>
                </a:lnTo>
                <a:lnTo>
                  <a:pt x="455" y="303"/>
                </a:lnTo>
                <a:lnTo>
                  <a:pt x="502" y="303"/>
                </a:lnTo>
                <a:lnTo>
                  <a:pt x="502" y="351"/>
                </a:lnTo>
                <a:close/>
                <a:moveTo>
                  <a:pt x="426" y="351"/>
                </a:moveTo>
                <a:lnTo>
                  <a:pt x="379" y="351"/>
                </a:lnTo>
                <a:lnTo>
                  <a:pt x="379" y="303"/>
                </a:lnTo>
                <a:lnTo>
                  <a:pt x="426" y="303"/>
                </a:lnTo>
                <a:lnTo>
                  <a:pt x="426" y="351"/>
                </a:lnTo>
                <a:close/>
                <a:moveTo>
                  <a:pt x="351" y="351"/>
                </a:moveTo>
                <a:lnTo>
                  <a:pt x="303" y="351"/>
                </a:lnTo>
                <a:lnTo>
                  <a:pt x="303" y="303"/>
                </a:lnTo>
                <a:lnTo>
                  <a:pt x="351" y="303"/>
                </a:lnTo>
                <a:lnTo>
                  <a:pt x="351" y="351"/>
                </a:lnTo>
                <a:close/>
                <a:moveTo>
                  <a:pt x="275" y="351"/>
                </a:moveTo>
                <a:lnTo>
                  <a:pt x="227" y="351"/>
                </a:lnTo>
                <a:lnTo>
                  <a:pt x="227" y="303"/>
                </a:lnTo>
                <a:lnTo>
                  <a:pt x="275" y="303"/>
                </a:lnTo>
                <a:lnTo>
                  <a:pt x="275" y="351"/>
                </a:lnTo>
                <a:close/>
                <a:moveTo>
                  <a:pt x="199" y="351"/>
                </a:moveTo>
                <a:lnTo>
                  <a:pt x="152" y="351"/>
                </a:lnTo>
                <a:lnTo>
                  <a:pt x="152" y="303"/>
                </a:lnTo>
                <a:lnTo>
                  <a:pt x="199" y="303"/>
                </a:lnTo>
                <a:lnTo>
                  <a:pt x="199" y="351"/>
                </a:lnTo>
                <a:close/>
                <a:moveTo>
                  <a:pt x="123" y="351"/>
                </a:moveTo>
                <a:lnTo>
                  <a:pt x="76" y="351"/>
                </a:lnTo>
                <a:lnTo>
                  <a:pt x="76" y="303"/>
                </a:lnTo>
                <a:lnTo>
                  <a:pt x="123" y="303"/>
                </a:lnTo>
                <a:lnTo>
                  <a:pt x="123" y="351"/>
                </a:lnTo>
                <a:close/>
                <a:moveTo>
                  <a:pt x="48" y="351"/>
                </a:moveTo>
                <a:lnTo>
                  <a:pt x="0" y="351"/>
                </a:lnTo>
                <a:lnTo>
                  <a:pt x="0" y="303"/>
                </a:lnTo>
                <a:lnTo>
                  <a:pt x="48" y="303"/>
                </a:lnTo>
                <a:lnTo>
                  <a:pt x="48" y="351"/>
                </a:lnTo>
                <a:close/>
                <a:moveTo>
                  <a:pt x="3079" y="275"/>
                </a:moveTo>
                <a:lnTo>
                  <a:pt x="3029" y="275"/>
                </a:lnTo>
                <a:lnTo>
                  <a:pt x="3029" y="228"/>
                </a:lnTo>
                <a:lnTo>
                  <a:pt x="3079" y="228"/>
                </a:lnTo>
                <a:lnTo>
                  <a:pt x="3079" y="275"/>
                </a:lnTo>
                <a:close/>
                <a:moveTo>
                  <a:pt x="3003" y="275"/>
                </a:moveTo>
                <a:lnTo>
                  <a:pt x="2954" y="275"/>
                </a:lnTo>
                <a:lnTo>
                  <a:pt x="2954" y="228"/>
                </a:lnTo>
                <a:lnTo>
                  <a:pt x="3003" y="228"/>
                </a:lnTo>
                <a:lnTo>
                  <a:pt x="3003" y="275"/>
                </a:lnTo>
                <a:close/>
                <a:moveTo>
                  <a:pt x="2852" y="275"/>
                </a:moveTo>
                <a:lnTo>
                  <a:pt x="2802" y="275"/>
                </a:lnTo>
                <a:lnTo>
                  <a:pt x="2802" y="228"/>
                </a:lnTo>
                <a:lnTo>
                  <a:pt x="2852" y="228"/>
                </a:lnTo>
                <a:lnTo>
                  <a:pt x="2852" y="275"/>
                </a:lnTo>
                <a:close/>
                <a:moveTo>
                  <a:pt x="2776" y="275"/>
                </a:moveTo>
                <a:lnTo>
                  <a:pt x="2726" y="275"/>
                </a:lnTo>
                <a:lnTo>
                  <a:pt x="2726" y="228"/>
                </a:lnTo>
                <a:lnTo>
                  <a:pt x="2776" y="228"/>
                </a:lnTo>
                <a:lnTo>
                  <a:pt x="2776" y="275"/>
                </a:lnTo>
                <a:close/>
                <a:moveTo>
                  <a:pt x="2700" y="275"/>
                </a:moveTo>
                <a:lnTo>
                  <a:pt x="2651" y="275"/>
                </a:lnTo>
                <a:lnTo>
                  <a:pt x="2651" y="228"/>
                </a:lnTo>
                <a:lnTo>
                  <a:pt x="2700" y="228"/>
                </a:lnTo>
                <a:lnTo>
                  <a:pt x="2700" y="275"/>
                </a:lnTo>
                <a:close/>
                <a:moveTo>
                  <a:pt x="2622" y="275"/>
                </a:moveTo>
                <a:lnTo>
                  <a:pt x="2575" y="275"/>
                </a:lnTo>
                <a:lnTo>
                  <a:pt x="2575" y="228"/>
                </a:lnTo>
                <a:lnTo>
                  <a:pt x="2622" y="228"/>
                </a:lnTo>
                <a:lnTo>
                  <a:pt x="2622" y="275"/>
                </a:lnTo>
                <a:close/>
                <a:moveTo>
                  <a:pt x="2547" y="275"/>
                </a:moveTo>
                <a:lnTo>
                  <a:pt x="2499" y="275"/>
                </a:lnTo>
                <a:lnTo>
                  <a:pt x="2499" y="228"/>
                </a:lnTo>
                <a:lnTo>
                  <a:pt x="2547" y="228"/>
                </a:lnTo>
                <a:lnTo>
                  <a:pt x="2547" y="275"/>
                </a:lnTo>
                <a:close/>
                <a:moveTo>
                  <a:pt x="2471" y="275"/>
                </a:moveTo>
                <a:lnTo>
                  <a:pt x="2424" y="275"/>
                </a:lnTo>
                <a:lnTo>
                  <a:pt x="2424" y="228"/>
                </a:lnTo>
                <a:lnTo>
                  <a:pt x="2471" y="228"/>
                </a:lnTo>
                <a:lnTo>
                  <a:pt x="2471" y="275"/>
                </a:lnTo>
                <a:close/>
                <a:moveTo>
                  <a:pt x="2395" y="275"/>
                </a:moveTo>
                <a:lnTo>
                  <a:pt x="2348" y="275"/>
                </a:lnTo>
                <a:lnTo>
                  <a:pt x="2348" y="228"/>
                </a:lnTo>
                <a:lnTo>
                  <a:pt x="2395" y="228"/>
                </a:lnTo>
                <a:lnTo>
                  <a:pt x="2395" y="275"/>
                </a:lnTo>
                <a:close/>
                <a:moveTo>
                  <a:pt x="2319" y="275"/>
                </a:moveTo>
                <a:lnTo>
                  <a:pt x="2272" y="275"/>
                </a:lnTo>
                <a:lnTo>
                  <a:pt x="2272" y="228"/>
                </a:lnTo>
                <a:lnTo>
                  <a:pt x="2319" y="228"/>
                </a:lnTo>
                <a:lnTo>
                  <a:pt x="2319" y="275"/>
                </a:lnTo>
                <a:close/>
                <a:moveTo>
                  <a:pt x="2168" y="275"/>
                </a:moveTo>
                <a:lnTo>
                  <a:pt x="2121" y="275"/>
                </a:lnTo>
                <a:lnTo>
                  <a:pt x="2121" y="228"/>
                </a:lnTo>
                <a:lnTo>
                  <a:pt x="2168" y="228"/>
                </a:lnTo>
                <a:lnTo>
                  <a:pt x="2168" y="275"/>
                </a:lnTo>
                <a:close/>
                <a:moveTo>
                  <a:pt x="1411" y="275"/>
                </a:moveTo>
                <a:lnTo>
                  <a:pt x="1363" y="275"/>
                </a:lnTo>
                <a:lnTo>
                  <a:pt x="1363" y="228"/>
                </a:lnTo>
                <a:lnTo>
                  <a:pt x="1411" y="228"/>
                </a:lnTo>
                <a:lnTo>
                  <a:pt x="1411" y="275"/>
                </a:lnTo>
                <a:close/>
                <a:moveTo>
                  <a:pt x="1335" y="275"/>
                </a:moveTo>
                <a:lnTo>
                  <a:pt x="1288" y="275"/>
                </a:lnTo>
                <a:lnTo>
                  <a:pt x="1288" y="228"/>
                </a:lnTo>
                <a:lnTo>
                  <a:pt x="1335" y="228"/>
                </a:lnTo>
                <a:lnTo>
                  <a:pt x="1335" y="275"/>
                </a:lnTo>
                <a:close/>
                <a:moveTo>
                  <a:pt x="1259" y="275"/>
                </a:moveTo>
                <a:lnTo>
                  <a:pt x="1212" y="275"/>
                </a:lnTo>
                <a:lnTo>
                  <a:pt x="1212" y="228"/>
                </a:lnTo>
                <a:lnTo>
                  <a:pt x="1259" y="228"/>
                </a:lnTo>
                <a:lnTo>
                  <a:pt x="1259" y="275"/>
                </a:lnTo>
                <a:close/>
                <a:moveTo>
                  <a:pt x="1184" y="275"/>
                </a:moveTo>
                <a:lnTo>
                  <a:pt x="1136" y="275"/>
                </a:lnTo>
                <a:lnTo>
                  <a:pt x="1136" y="228"/>
                </a:lnTo>
                <a:lnTo>
                  <a:pt x="1184" y="228"/>
                </a:lnTo>
                <a:lnTo>
                  <a:pt x="1184" y="275"/>
                </a:lnTo>
                <a:close/>
                <a:moveTo>
                  <a:pt x="1108" y="275"/>
                </a:moveTo>
                <a:lnTo>
                  <a:pt x="1060" y="275"/>
                </a:lnTo>
                <a:lnTo>
                  <a:pt x="1060" y="228"/>
                </a:lnTo>
                <a:lnTo>
                  <a:pt x="1108" y="228"/>
                </a:lnTo>
                <a:lnTo>
                  <a:pt x="1108" y="275"/>
                </a:lnTo>
                <a:close/>
                <a:moveTo>
                  <a:pt x="881" y="275"/>
                </a:moveTo>
                <a:lnTo>
                  <a:pt x="833" y="275"/>
                </a:lnTo>
                <a:lnTo>
                  <a:pt x="833" y="228"/>
                </a:lnTo>
                <a:lnTo>
                  <a:pt x="881" y="228"/>
                </a:lnTo>
                <a:lnTo>
                  <a:pt x="881" y="275"/>
                </a:lnTo>
                <a:close/>
                <a:moveTo>
                  <a:pt x="805" y="275"/>
                </a:moveTo>
                <a:lnTo>
                  <a:pt x="758" y="275"/>
                </a:lnTo>
                <a:lnTo>
                  <a:pt x="758" y="228"/>
                </a:lnTo>
                <a:lnTo>
                  <a:pt x="805" y="228"/>
                </a:lnTo>
                <a:lnTo>
                  <a:pt x="805" y="275"/>
                </a:lnTo>
                <a:close/>
                <a:moveTo>
                  <a:pt x="729" y="275"/>
                </a:moveTo>
                <a:lnTo>
                  <a:pt x="682" y="275"/>
                </a:lnTo>
                <a:lnTo>
                  <a:pt x="682" y="228"/>
                </a:lnTo>
                <a:lnTo>
                  <a:pt x="729" y="228"/>
                </a:lnTo>
                <a:lnTo>
                  <a:pt x="729" y="275"/>
                </a:lnTo>
                <a:close/>
                <a:moveTo>
                  <a:pt x="578" y="275"/>
                </a:moveTo>
                <a:lnTo>
                  <a:pt x="530" y="275"/>
                </a:lnTo>
                <a:lnTo>
                  <a:pt x="530" y="228"/>
                </a:lnTo>
                <a:lnTo>
                  <a:pt x="578" y="228"/>
                </a:lnTo>
                <a:lnTo>
                  <a:pt x="578" y="275"/>
                </a:lnTo>
                <a:close/>
                <a:moveTo>
                  <a:pt x="502" y="275"/>
                </a:moveTo>
                <a:lnTo>
                  <a:pt x="455" y="275"/>
                </a:lnTo>
                <a:lnTo>
                  <a:pt x="455" y="228"/>
                </a:lnTo>
                <a:lnTo>
                  <a:pt x="502" y="228"/>
                </a:lnTo>
                <a:lnTo>
                  <a:pt x="502" y="275"/>
                </a:lnTo>
                <a:close/>
                <a:moveTo>
                  <a:pt x="426" y="275"/>
                </a:moveTo>
                <a:lnTo>
                  <a:pt x="379" y="275"/>
                </a:lnTo>
                <a:lnTo>
                  <a:pt x="379" y="228"/>
                </a:lnTo>
                <a:lnTo>
                  <a:pt x="426" y="228"/>
                </a:lnTo>
                <a:lnTo>
                  <a:pt x="426" y="275"/>
                </a:lnTo>
                <a:close/>
                <a:moveTo>
                  <a:pt x="123" y="275"/>
                </a:moveTo>
                <a:lnTo>
                  <a:pt x="76" y="275"/>
                </a:lnTo>
                <a:lnTo>
                  <a:pt x="76" y="228"/>
                </a:lnTo>
                <a:lnTo>
                  <a:pt x="123" y="228"/>
                </a:lnTo>
                <a:lnTo>
                  <a:pt x="123" y="275"/>
                </a:lnTo>
                <a:close/>
                <a:moveTo>
                  <a:pt x="3003" y="199"/>
                </a:moveTo>
                <a:lnTo>
                  <a:pt x="2954" y="199"/>
                </a:lnTo>
                <a:lnTo>
                  <a:pt x="2954" y="152"/>
                </a:lnTo>
                <a:lnTo>
                  <a:pt x="3003" y="152"/>
                </a:lnTo>
                <a:lnTo>
                  <a:pt x="3003" y="199"/>
                </a:lnTo>
                <a:close/>
                <a:moveTo>
                  <a:pt x="2700" y="199"/>
                </a:moveTo>
                <a:lnTo>
                  <a:pt x="2651" y="199"/>
                </a:lnTo>
                <a:lnTo>
                  <a:pt x="2651" y="152"/>
                </a:lnTo>
                <a:lnTo>
                  <a:pt x="2700" y="152"/>
                </a:lnTo>
                <a:lnTo>
                  <a:pt x="2700" y="199"/>
                </a:lnTo>
                <a:close/>
                <a:moveTo>
                  <a:pt x="2622" y="199"/>
                </a:moveTo>
                <a:lnTo>
                  <a:pt x="2575" y="199"/>
                </a:lnTo>
                <a:lnTo>
                  <a:pt x="2575" y="152"/>
                </a:lnTo>
                <a:lnTo>
                  <a:pt x="2622" y="152"/>
                </a:lnTo>
                <a:lnTo>
                  <a:pt x="2622" y="199"/>
                </a:lnTo>
                <a:close/>
                <a:moveTo>
                  <a:pt x="2547" y="199"/>
                </a:moveTo>
                <a:lnTo>
                  <a:pt x="2499" y="199"/>
                </a:lnTo>
                <a:lnTo>
                  <a:pt x="2499" y="152"/>
                </a:lnTo>
                <a:lnTo>
                  <a:pt x="2547" y="152"/>
                </a:lnTo>
                <a:lnTo>
                  <a:pt x="2547" y="199"/>
                </a:lnTo>
                <a:close/>
                <a:moveTo>
                  <a:pt x="2244" y="199"/>
                </a:moveTo>
                <a:lnTo>
                  <a:pt x="2196" y="199"/>
                </a:lnTo>
                <a:lnTo>
                  <a:pt x="2196" y="152"/>
                </a:lnTo>
                <a:lnTo>
                  <a:pt x="2244" y="152"/>
                </a:lnTo>
                <a:lnTo>
                  <a:pt x="2244" y="199"/>
                </a:lnTo>
                <a:close/>
                <a:moveTo>
                  <a:pt x="1865" y="199"/>
                </a:moveTo>
                <a:lnTo>
                  <a:pt x="1818" y="199"/>
                </a:lnTo>
                <a:lnTo>
                  <a:pt x="1818" y="152"/>
                </a:lnTo>
                <a:lnTo>
                  <a:pt x="1865" y="152"/>
                </a:lnTo>
                <a:lnTo>
                  <a:pt x="1865" y="199"/>
                </a:lnTo>
                <a:close/>
                <a:moveTo>
                  <a:pt x="1411" y="199"/>
                </a:moveTo>
                <a:lnTo>
                  <a:pt x="1363" y="199"/>
                </a:lnTo>
                <a:lnTo>
                  <a:pt x="1363" y="152"/>
                </a:lnTo>
                <a:lnTo>
                  <a:pt x="1411" y="152"/>
                </a:lnTo>
                <a:lnTo>
                  <a:pt x="1411" y="199"/>
                </a:lnTo>
                <a:close/>
                <a:moveTo>
                  <a:pt x="1335" y="199"/>
                </a:moveTo>
                <a:lnTo>
                  <a:pt x="1288" y="199"/>
                </a:lnTo>
                <a:lnTo>
                  <a:pt x="1288" y="152"/>
                </a:lnTo>
                <a:lnTo>
                  <a:pt x="1335" y="152"/>
                </a:lnTo>
                <a:lnTo>
                  <a:pt x="1335" y="199"/>
                </a:lnTo>
                <a:close/>
                <a:moveTo>
                  <a:pt x="1259" y="199"/>
                </a:moveTo>
                <a:lnTo>
                  <a:pt x="1212" y="199"/>
                </a:lnTo>
                <a:lnTo>
                  <a:pt x="1212" y="152"/>
                </a:lnTo>
                <a:lnTo>
                  <a:pt x="1259" y="152"/>
                </a:lnTo>
                <a:lnTo>
                  <a:pt x="1259" y="199"/>
                </a:lnTo>
                <a:close/>
                <a:moveTo>
                  <a:pt x="1184" y="199"/>
                </a:moveTo>
                <a:lnTo>
                  <a:pt x="1136" y="199"/>
                </a:lnTo>
                <a:lnTo>
                  <a:pt x="1136" y="152"/>
                </a:lnTo>
                <a:lnTo>
                  <a:pt x="1184" y="152"/>
                </a:lnTo>
                <a:lnTo>
                  <a:pt x="1184" y="199"/>
                </a:lnTo>
                <a:close/>
                <a:moveTo>
                  <a:pt x="1108" y="199"/>
                </a:moveTo>
                <a:lnTo>
                  <a:pt x="1060" y="199"/>
                </a:lnTo>
                <a:lnTo>
                  <a:pt x="1060" y="152"/>
                </a:lnTo>
                <a:lnTo>
                  <a:pt x="1108" y="152"/>
                </a:lnTo>
                <a:lnTo>
                  <a:pt x="1108" y="199"/>
                </a:lnTo>
                <a:close/>
                <a:moveTo>
                  <a:pt x="1032" y="199"/>
                </a:moveTo>
                <a:lnTo>
                  <a:pt x="985" y="199"/>
                </a:lnTo>
                <a:lnTo>
                  <a:pt x="985" y="152"/>
                </a:lnTo>
                <a:lnTo>
                  <a:pt x="1032" y="152"/>
                </a:lnTo>
                <a:lnTo>
                  <a:pt x="1032" y="199"/>
                </a:lnTo>
                <a:close/>
                <a:moveTo>
                  <a:pt x="805" y="199"/>
                </a:moveTo>
                <a:lnTo>
                  <a:pt x="758" y="199"/>
                </a:lnTo>
                <a:lnTo>
                  <a:pt x="758" y="152"/>
                </a:lnTo>
                <a:lnTo>
                  <a:pt x="805" y="152"/>
                </a:lnTo>
                <a:lnTo>
                  <a:pt x="805" y="199"/>
                </a:lnTo>
                <a:close/>
                <a:moveTo>
                  <a:pt x="729" y="199"/>
                </a:moveTo>
                <a:lnTo>
                  <a:pt x="682" y="199"/>
                </a:lnTo>
                <a:lnTo>
                  <a:pt x="682" y="152"/>
                </a:lnTo>
                <a:lnTo>
                  <a:pt x="729" y="152"/>
                </a:lnTo>
                <a:lnTo>
                  <a:pt x="729" y="199"/>
                </a:lnTo>
                <a:close/>
                <a:moveTo>
                  <a:pt x="653" y="199"/>
                </a:moveTo>
                <a:lnTo>
                  <a:pt x="606" y="199"/>
                </a:lnTo>
                <a:lnTo>
                  <a:pt x="606" y="152"/>
                </a:lnTo>
                <a:lnTo>
                  <a:pt x="653" y="152"/>
                </a:lnTo>
                <a:lnTo>
                  <a:pt x="653" y="199"/>
                </a:lnTo>
                <a:close/>
                <a:moveTo>
                  <a:pt x="578" y="199"/>
                </a:moveTo>
                <a:lnTo>
                  <a:pt x="530" y="199"/>
                </a:lnTo>
                <a:lnTo>
                  <a:pt x="530" y="152"/>
                </a:lnTo>
                <a:lnTo>
                  <a:pt x="578" y="152"/>
                </a:lnTo>
                <a:lnTo>
                  <a:pt x="578" y="199"/>
                </a:lnTo>
                <a:close/>
                <a:moveTo>
                  <a:pt x="502" y="199"/>
                </a:moveTo>
                <a:lnTo>
                  <a:pt x="455" y="199"/>
                </a:lnTo>
                <a:lnTo>
                  <a:pt x="455" y="152"/>
                </a:lnTo>
                <a:lnTo>
                  <a:pt x="502" y="152"/>
                </a:lnTo>
                <a:lnTo>
                  <a:pt x="502" y="199"/>
                </a:lnTo>
                <a:close/>
                <a:moveTo>
                  <a:pt x="2622" y="123"/>
                </a:moveTo>
                <a:lnTo>
                  <a:pt x="2575" y="123"/>
                </a:lnTo>
                <a:lnTo>
                  <a:pt x="2575" y="76"/>
                </a:lnTo>
                <a:lnTo>
                  <a:pt x="2622" y="76"/>
                </a:lnTo>
                <a:lnTo>
                  <a:pt x="2622" y="123"/>
                </a:lnTo>
                <a:close/>
                <a:moveTo>
                  <a:pt x="1865" y="123"/>
                </a:moveTo>
                <a:lnTo>
                  <a:pt x="1818" y="123"/>
                </a:lnTo>
                <a:lnTo>
                  <a:pt x="1818" y="76"/>
                </a:lnTo>
                <a:lnTo>
                  <a:pt x="1865" y="76"/>
                </a:lnTo>
                <a:lnTo>
                  <a:pt x="1865" y="123"/>
                </a:lnTo>
                <a:close/>
                <a:moveTo>
                  <a:pt x="1789" y="123"/>
                </a:moveTo>
                <a:lnTo>
                  <a:pt x="1742" y="123"/>
                </a:lnTo>
                <a:lnTo>
                  <a:pt x="1742" y="76"/>
                </a:lnTo>
                <a:lnTo>
                  <a:pt x="1789" y="76"/>
                </a:lnTo>
                <a:lnTo>
                  <a:pt x="1789" y="123"/>
                </a:lnTo>
                <a:close/>
                <a:moveTo>
                  <a:pt x="1411" y="123"/>
                </a:moveTo>
                <a:lnTo>
                  <a:pt x="1363" y="123"/>
                </a:lnTo>
                <a:lnTo>
                  <a:pt x="1363" y="76"/>
                </a:lnTo>
                <a:lnTo>
                  <a:pt x="1411" y="76"/>
                </a:lnTo>
                <a:lnTo>
                  <a:pt x="1411" y="123"/>
                </a:lnTo>
                <a:close/>
                <a:moveTo>
                  <a:pt x="1335" y="123"/>
                </a:moveTo>
                <a:lnTo>
                  <a:pt x="1288" y="123"/>
                </a:lnTo>
                <a:lnTo>
                  <a:pt x="1288" y="76"/>
                </a:lnTo>
                <a:lnTo>
                  <a:pt x="1335" y="76"/>
                </a:lnTo>
                <a:lnTo>
                  <a:pt x="1335" y="123"/>
                </a:lnTo>
                <a:close/>
                <a:moveTo>
                  <a:pt x="1259" y="123"/>
                </a:moveTo>
                <a:lnTo>
                  <a:pt x="1212" y="123"/>
                </a:lnTo>
                <a:lnTo>
                  <a:pt x="1212" y="76"/>
                </a:lnTo>
                <a:lnTo>
                  <a:pt x="1259" y="76"/>
                </a:lnTo>
                <a:lnTo>
                  <a:pt x="1259" y="123"/>
                </a:lnTo>
                <a:close/>
                <a:moveTo>
                  <a:pt x="1184" y="123"/>
                </a:moveTo>
                <a:lnTo>
                  <a:pt x="1136" y="123"/>
                </a:lnTo>
                <a:lnTo>
                  <a:pt x="1136" y="76"/>
                </a:lnTo>
                <a:lnTo>
                  <a:pt x="1184" y="76"/>
                </a:lnTo>
                <a:lnTo>
                  <a:pt x="1184" y="123"/>
                </a:lnTo>
                <a:close/>
                <a:moveTo>
                  <a:pt x="1108" y="123"/>
                </a:moveTo>
                <a:lnTo>
                  <a:pt x="1060" y="123"/>
                </a:lnTo>
                <a:lnTo>
                  <a:pt x="1060" y="76"/>
                </a:lnTo>
                <a:lnTo>
                  <a:pt x="1108" y="76"/>
                </a:lnTo>
                <a:lnTo>
                  <a:pt x="1108" y="123"/>
                </a:lnTo>
                <a:close/>
                <a:moveTo>
                  <a:pt x="1032" y="123"/>
                </a:moveTo>
                <a:lnTo>
                  <a:pt x="985" y="123"/>
                </a:lnTo>
                <a:lnTo>
                  <a:pt x="985" y="76"/>
                </a:lnTo>
                <a:lnTo>
                  <a:pt x="1032" y="76"/>
                </a:lnTo>
                <a:lnTo>
                  <a:pt x="1032" y="123"/>
                </a:lnTo>
                <a:close/>
                <a:moveTo>
                  <a:pt x="881" y="123"/>
                </a:moveTo>
                <a:lnTo>
                  <a:pt x="833" y="123"/>
                </a:lnTo>
                <a:lnTo>
                  <a:pt x="833" y="76"/>
                </a:lnTo>
                <a:lnTo>
                  <a:pt x="881" y="76"/>
                </a:lnTo>
                <a:lnTo>
                  <a:pt x="881" y="123"/>
                </a:lnTo>
                <a:close/>
                <a:moveTo>
                  <a:pt x="805" y="123"/>
                </a:moveTo>
                <a:lnTo>
                  <a:pt x="758" y="123"/>
                </a:lnTo>
                <a:lnTo>
                  <a:pt x="758" y="76"/>
                </a:lnTo>
                <a:lnTo>
                  <a:pt x="805" y="76"/>
                </a:lnTo>
                <a:lnTo>
                  <a:pt x="805" y="123"/>
                </a:lnTo>
                <a:close/>
                <a:moveTo>
                  <a:pt x="729" y="123"/>
                </a:moveTo>
                <a:lnTo>
                  <a:pt x="682" y="123"/>
                </a:lnTo>
                <a:lnTo>
                  <a:pt x="682" y="76"/>
                </a:lnTo>
                <a:lnTo>
                  <a:pt x="729" y="76"/>
                </a:lnTo>
                <a:lnTo>
                  <a:pt x="729" y="123"/>
                </a:lnTo>
                <a:close/>
                <a:moveTo>
                  <a:pt x="578" y="123"/>
                </a:moveTo>
                <a:lnTo>
                  <a:pt x="530" y="123"/>
                </a:lnTo>
                <a:lnTo>
                  <a:pt x="530" y="76"/>
                </a:lnTo>
                <a:lnTo>
                  <a:pt x="578" y="76"/>
                </a:lnTo>
                <a:lnTo>
                  <a:pt x="578" y="123"/>
                </a:lnTo>
                <a:close/>
                <a:moveTo>
                  <a:pt x="2547" y="48"/>
                </a:moveTo>
                <a:lnTo>
                  <a:pt x="2499" y="48"/>
                </a:lnTo>
                <a:lnTo>
                  <a:pt x="2499" y="0"/>
                </a:lnTo>
                <a:lnTo>
                  <a:pt x="2547" y="0"/>
                </a:lnTo>
                <a:lnTo>
                  <a:pt x="2547" y="48"/>
                </a:lnTo>
                <a:close/>
                <a:moveTo>
                  <a:pt x="2244" y="48"/>
                </a:moveTo>
                <a:lnTo>
                  <a:pt x="2196" y="48"/>
                </a:lnTo>
                <a:lnTo>
                  <a:pt x="2196" y="0"/>
                </a:lnTo>
                <a:lnTo>
                  <a:pt x="2244" y="0"/>
                </a:lnTo>
                <a:lnTo>
                  <a:pt x="2244" y="48"/>
                </a:lnTo>
                <a:close/>
                <a:moveTo>
                  <a:pt x="2168" y="48"/>
                </a:moveTo>
                <a:lnTo>
                  <a:pt x="2121" y="48"/>
                </a:lnTo>
                <a:lnTo>
                  <a:pt x="2121" y="0"/>
                </a:lnTo>
                <a:lnTo>
                  <a:pt x="2168" y="0"/>
                </a:lnTo>
                <a:lnTo>
                  <a:pt x="2168" y="48"/>
                </a:lnTo>
                <a:close/>
                <a:moveTo>
                  <a:pt x="1335" y="48"/>
                </a:moveTo>
                <a:lnTo>
                  <a:pt x="1288" y="48"/>
                </a:lnTo>
                <a:lnTo>
                  <a:pt x="1288" y="0"/>
                </a:lnTo>
                <a:lnTo>
                  <a:pt x="1335" y="0"/>
                </a:lnTo>
                <a:lnTo>
                  <a:pt x="1335" y="48"/>
                </a:lnTo>
                <a:close/>
                <a:moveTo>
                  <a:pt x="1259" y="48"/>
                </a:moveTo>
                <a:lnTo>
                  <a:pt x="1212" y="48"/>
                </a:lnTo>
                <a:lnTo>
                  <a:pt x="1212" y="0"/>
                </a:lnTo>
                <a:lnTo>
                  <a:pt x="1259" y="0"/>
                </a:lnTo>
                <a:lnTo>
                  <a:pt x="1259" y="48"/>
                </a:lnTo>
                <a:close/>
                <a:moveTo>
                  <a:pt x="1184" y="48"/>
                </a:moveTo>
                <a:lnTo>
                  <a:pt x="1136" y="48"/>
                </a:lnTo>
                <a:lnTo>
                  <a:pt x="1136" y="0"/>
                </a:lnTo>
                <a:lnTo>
                  <a:pt x="1184" y="0"/>
                </a:lnTo>
                <a:lnTo>
                  <a:pt x="1184" y="48"/>
                </a:lnTo>
                <a:close/>
                <a:moveTo>
                  <a:pt x="1032" y="48"/>
                </a:moveTo>
                <a:lnTo>
                  <a:pt x="985" y="48"/>
                </a:lnTo>
                <a:lnTo>
                  <a:pt x="985" y="0"/>
                </a:lnTo>
                <a:lnTo>
                  <a:pt x="1032" y="0"/>
                </a:lnTo>
                <a:lnTo>
                  <a:pt x="1032" y="48"/>
                </a:lnTo>
                <a:close/>
                <a:moveTo>
                  <a:pt x="956" y="48"/>
                </a:moveTo>
                <a:lnTo>
                  <a:pt x="909" y="48"/>
                </a:lnTo>
                <a:lnTo>
                  <a:pt x="909" y="0"/>
                </a:lnTo>
                <a:lnTo>
                  <a:pt x="956" y="0"/>
                </a:lnTo>
                <a:lnTo>
                  <a:pt x="956" y="48"/>
                </a:lnTo>
                <a:close/>
                <a:moveTo>
                  <a:pt x="881" y="48"/>
                </a:moveTo>
                <a:lnTo>
                  <a:pt x="833" y="48"/>
                </a:lnTo>
                <a:lnTo>
                  <a:pt x="833" y="0"/>
                </a:lnTo>
                <a:lnTo>
                  <a:pt x="881" y="0"/>
                </a:lnTo>
                <a:lnTo>
                  <a:pt x="881" y="48"/>
                </a:lnTo>
                <a:close/>
                <a:moveTo>
                  <a:pt x="805" y="48"/>
                </a:moveTo>
                <a:lnTo>
                  <a:pt x="758" y="48"/>
                </a:lnTo>
                <a:lnTo>
                  <a:pt x="758" y="0"/>
                </a:lnTo>
                <a:lnTo>
                  <a:pt x="805" y="0"/>
                </a:lnTo>
                <a:lnTo>
                  <a:pt x="805" y="48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57"/>
          <p:cNvSpPr/>
          <p:nvPr/>
        </p:nvSpPr>
        <p:spPr>
          <a:xfrm>
            <a:off x="8059680" y="1519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57"/>
          <p:cNvSpPr/>
          <p:nvPr/>
        </p:nvSpPr>
        <p:spPr>
          <a:xfrm>
            <a:off x="8059680" y="25290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57"/>
          <p:cNvSpPr/>
          <p:nvPr/>
        </p:nvSpPr>
        <p:spPr>
          <a:xfrm>
            <a:off x="8059680" y="35384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57"/>
          <p:cNvSpPr/>
          <p:nvPr/>
        </p:nvSpPr>
        <p:spPr>
          <a:xfrm>
            <a:off x="8059680" y="45482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文本框 6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椭圆 81"/>
          <p:cNvSpPr/>
          <p:nvPr/>
        </p:nvSpPr>
        <p:spPr>
          <a:xfrm>
            <a:off x="6091200" y="3916440"/>
            <a:ext cx="914400" cy="91440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椭圆 82"/>
          <p:cNvSpPr/>
          <p:nvPr/>
        </p:nvSpPr>
        <p:spPr>
          <a:xfrm>
            <a:off x="6886440" y="2905200"/>
            <a:ext cx="914400" cy="91440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椭圆 83"/>
          <p:cNvSpPr/>
          <p:nvPr/>
        </p:nvSpPr>
        <p:spPr>
          <a:xfrm>
            <a:off x="7683480" y="4468680"/>
            <a:ext cx="914400" cy="91440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椭圆 84"/>
          <p:cNvSpPr/>
          <p:nvPr/>
        </p:nvSpPr>
        <p:spPr>
          <a:xfrm>
            <a:off x="8478720" y="3116160"/>
            <a:ext cx="914400" cy="91440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椭圆 85"/>
          <p:cNvSpPr/>
          <p:nvPr/>
        </p:nvSpPr>
        <p:spPr>
          <a:xfrm>
            <a:off x="9274320" y="2030400"/>
            <a:ext cx="914400" cy="914400"/>
          </a:xfrm>
          <a:prstGeom prst="ellipse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椭圆 86"/>
          <p:cNvSpPr/>
          <p:nvPr/>
        </p:nvSpPr>
        <p:spPr>
          <a:xfrm>
            <a:off x="10069560" y="4181400"/>
            <a:ext cx="914400" cy="91440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椭圆 87"/>
          <p:cNvSpPr/>
          <p:nvPr/>
        </p:nvSpPr>
        <p:spPr>
          <a:xfrm>
            <a:off x="10864800" y="2905200"/>
            <a:ext cx="914400" cy="91440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直接连接符 88"/>
          <p:cNvSpPr/>
          <p:nvPr/>
        </p:nvSpPr>
        <p:spPr>
          <a:xfrm>
            <a:off x="6548400" y="0"/>
            <a:ext cx="0" cy="390996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直接连接符 89"/>
          <p:cNvSpPr/>
          <p:nvPr/>
        </p:nvSpPr>
        <p:spPr>
          <a:xfrm>
            <a:off x="7343640" y="0"/>
            <a:ext cx="0" cy="29052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接连接符 90"/>
          <p:cNvSpPr/>
          <p:nvPr/>
        </p:nvSpPr>
        <p:spPr>
          <a:xfrm>
            <a:off x="8140680" y="0"/>
            <a:ext cx="0" cy="44640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直接连接符 91"/>
          <p:cNvSpPr/>
          <p:nvPr/>
        </p:nvSpPr>
        <p:spPr>
          <a:xfrm>
            <a:off x="8935920" y="0"/>
            <a:ext cx="0" cy="311616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直接连接符 92"/>
          <p:cNvSpPr/>
          <p:nvPr/>
        </p:nvSpPr>
        <p:spPr>
          <a:xfrm>
            <a:off x="9731520" y="0"/>
            <a:ext cx="0" cy="20304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直接连接符 93"/>
          <p:cNvSpPr/>
          <p:nvPr/>
        </p:nvSpPr>
        <p:spPr>
          <a:xfrm>
            <a:off x="10526760" y="0"/>
            <a:ext cx="0" cy="41814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直接连接符 94"/>
          <p:cNvSpPr/>
          <p:nvPr/>
        </p:nvSpPr>
        <p:spPr>
          <a:xfrm>
            <a:off x="11345760" y="0"/>
            <a:ext cx="0" cy="29052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组合 95" descr=""/>
          <p:cNvPicPr/>
          <p:nvPr/>
        </p:nvPicPr>
        <p:blipFill>
          <a:blip r:embed="rId1"/>
          <a:stretch/>
        </p:blipFill>
        <p:spPr>
          <a:xfrm>
            <a:off x="7931160" y="4724280"/>
            <a:ext cx="407880" cy="360360"/>
          </a:xfrm>
          <a:prstGeom prst="rect">
            <a:avLst/>
          </a:prstGeom>
          <a:ln w="0">
            <a:noFill/>
          </a:ln>
        </p:spPr>
      </p:pic>
      <p:sp>
        <p:nvSpPr>
          <p:cNvPr id="610" name="Freeform 16"/>
          <p:cNvSpPr/>
          <p:nvPr/>
        </p:nvSpPr>
        <p:spPr>
          <a:xfrm>
            <a:off x="11101320" y="3176640"/>
            <a:ext cx="441360" cy="360360"/>
          </a:xfrm>
          <a:custGeom>
            <a:avLst/>
            <a:gdLst/>
            <a:ahLst/>
            <a:rect l="l" t="t" r="r" b="b"/>
            <a:pathLst>
              <a:path w="197" h="160">
                <a:moveTo>
                  <a:pt x="197" y="19"/>
                </a:moveTo>
                <a:cubicBezTo>
                  <a:pt x="190" y="22"/>
                  <a:pt x="182" y="24"/>
                  <a:pt x="174" y="25"/>
                </a:cubicBezTo>
                <a:cubicBezTo>
                  <a:pt x="182" y="20"/>
                  <a:pt x="189" y="12"/>
                  <a:pt x="192" y="3"/>
                </a:cubicBezTo>
                <a:cubicBezTo>
                  <a:pt x="184" y="8"/>
                  <a:pt x="175" y="11"/>
                  <a:pt x="166" y="13"/>
                </a:cubicBezTo>
                <a:cubicBezTo>
                  <a:pt x="158" y="5"/>
                  <a:pt x="148" y="0"/>
                  <a:pt x="136" y="0"/>
                </a:cubicBezTo>
                <a:cubicBezTo>
                  <a:pt x="114" y="0"/>
                  <a:pt x="96" y="18"/>
                  <a:pt x="96" y="40"/>
                </a:cubicBezTo>
                <a:cubicBezTo>
                  <a:pt x="96" y="44"/>
                  <a:pt x="96" y="47"/>
                  <a:pt x="97" y="50"/>
                </a:cubicBezTo>
                <a:cubicBezTo>
                  <a:pt x="63" y="48"/>
                  <a:pt x="34" y="32"/>
                  <a:pt x="14" y="7"/>
                </a:cubicBezTo>
                <a:cubicBezTo>
                  <a:pt x="10" y="13"/>
                  <a:pt x="8" y="20"/>
                  <a:pt x="8" y="28"/>
                </a:cubicBezTo>
                <a:cubicBezTo>
                  <a:pt x="8" y="42"/>
                  <a:pt x="15" y="54"/>
                  <a:pt x="26" y="61"/>
                </a:cubicBezTo>
                <a:cubicBezTo>
                  <a:pt x="20" y="61"/>
                  <a:pt x="13" y="59"/>
                  <a:pt x="8" y="56"/>
                </a:cubicBezTo>
                <a:cubicBezTo>
                  <a:pt x="8" y="56"/>
                  <a:pt x="8" y="57"/>
                  <a:pt x="8" y="57"/>
                </a:cubicBezTo>
                <a:cubicBezTo>
                  <a:pt x="8" y="76"/>
                  <a:pt x="22" y="93"/>
                  <a:pt x="40" y="96"/>
                </a:cubicBezTo>
                <a:cubicBezTo>
                  <a:pt x="37" y="97"/>
                  <a:pt x="33" y="98"/>
                  <a:pt x="30" y="98"/>
                </a:cubicBezTo>
                <a:cubicBezTo>
                  <a:pt x="27" y="98"/>
                  <a:pt x="24" y="98"/>
                  <a:pt x="22" y="97"/>
                </a:cubicBezTo>
                <a:cubicBezTo>
                  <a:pt x="27" y="113"/>
                  <a:pt x="42" y="125"/>
                  <a:pt x="60" y="125"/>
                </a:cubicBezTo>
                <a:cubicBezTo>
                  <a:pt x="46" y="136"/>
                  <a:pt x="29" y="142"/>
                  <a:pt x="10" y="142"/>
                </a:cubicBezTo>
                <a:cubicBezTo>
                  <a:pt x="6" y="142"/>
                  <a:pt x="3" y="142"/>
                  <a:pt x="0" y="142"/>
                </a:cubicBezTo>
                <a:cubicBezTo>
                  <a:pt x="18" y="153"/>
                  <a:pt x="39" y="160"/>
                  <a:pt x="62" y="160"/>
                </a:cubicBezTo>
                <a:cubicBezTo>
                  <a:pt x="136" y="160"/>
                  <a:pt x="177" y="98"/>
                  <a:pt x="177" y="45"/>
                </a:cubicBezTo>
                <a:cubicBezTo>
                  <a:pt x="177" y="43"/>
                  <a:pt x="177" y="42"/>
                  <a:pt x="177" y="40"/>
                </a:cubicBezTo>
                <a:cubicBezTo>
                  <a:pt x="185" y="34"/>
                  <a:pt x="192" y="27"/>
                  <a:pt x="197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reeform 24"/>
          <p:cNvSpPr/>
          <p:nvPr/>
        </p:nvSpPr>
        <p:spPr>
          <a:xfrm>
            <a:off x="7259760" y="3203640"/>
            <a:ext cx="169920" cy="360360"/>
          </a:xfrm>
          <a:custGeom>
            <a:avLst/>
            <a:gdLst/>
            <a:ahLst/>
            <a:rect l="l" t="t" r="r" b="b"/>
            <a:pathLst>
              <a:path w="89" h="193">
                <a:moveTo>
                  <a:pt x="89" y="63"/>
                </a:moveTo>
                <a:cubicBezTo>
                  <a:pt x="59" y="63"/>
                  <a:pt x="59" y="63"/>
                  <a:pt x="59" y="63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35"/>
                  <a:pt x="64" y="33"/>
                  <a:pt x="67" y="33"/>
                </a:cubicBezTo>
                <a:cubicBezTo>
                  <a:pt x="71" y="33"/>
                  <a:pt x="89" y="33"/>
                  <a:pt x="89" y="33"/>
                </a:cubicBezTo>
                <a:cubicBezTo>
                  <a:pt x="89" y="0"/>
                  <a:pt x="89" y="0"/>
                  <a:pt x="8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26" y="0"/>
                  <a:pt x="19" y="25"/>
                  <a:pt x="19" y="40"/>
                </a:cubicBezTo>
                <a:cubicBezTo>
                  <a:pt x="19" y="63"/>
                  <a:pt x="19" y="63"/>
                  <a:pt x="19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97"/>
                  <a:pt x="0" y="97"/>
                  <a:pt x="0" y="97"/>
                </a:cubicBezTo>
                <a:cubicBezTo>
                  <a:pt x="19" y="97"/>
                  <a:pt x="19" y="97"/>
                  <a:pt x="19" y="97"/>
                </a:cubicBezTo>
                <a:cubicBezTo>
                  <a:pt x="19" y="140"/>
                  <a:pt x="19" y="193"/>
                  <a:pt x="19" y="193"/>
                </a:cubicBezTo>
                <a:cubicBezTo>
                  <a:pt x="59" y="193"/>
                  <a:pt x="59" y="193"/>
                  <a:pt x="59" y="193"/>
                </a:cubicBezTo>
                <a:cubicBezTo>
                  <a:pt x="59" y="193"/>
                  <a:pt x="59" y="140"/>
                  <a:pt x="59" y="97"/>
                </a:cubicBezTo>
                <a:cubicBezTo>
                  <a:pt x="86" y="97"/>
                  <a:pt x="86" y="97"/>
                  <a:pt x="86" y="97"/>
                </a:cubicBezTo>
                <a:lnTo>
                  <a:pt x="89" y="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36"/>
          <p:cNvSpPr/>
          <p:nvPr/>
        </p:nvSpPr>
        <p:spPr>
          <a:xfrm>
            <a:off x="10312560" y="4397400"/>
            <a:ext cx="420480" cy="539640"/>
          </a:xfrm>
          <a:custGeom>
            <a:avLst/>
            <a:gdLst/>
            <a:ahLst/>
            <a:rect l="l" t="t" r="r" b="b"/>
            <a:pathLst>
              <a:path w="155" h="200">
                <a:moveTo>
                  <a:pt x="82" y="0"/>
                </a:moveTo>
                <a:cubicBezTo>
                  <a:pt x="28" y="0"/>
                  <a:pt x="0" y="39"/>
                  <a:pt x="0" y="72"/>
                </a:cubicBezTo>
                <a:cubicBezTo>
                  <a:pt x="0" y="91"/>
                  <a:pt x="8" y="109"/>
                  <a:pt x="24" y="115"/>
                </a:cubicBezTo>
                <a:cubicBezTo>
                  <a:pt x="26" y="116"/>
                  <a:pt x="29" y="115"/>
                  <a:pt x="30" y="112"/>
                </a:cubicBezTo>
                <a:cubicBezTo>
                  <a:pt x="30" y="110"/>
                  <a:pt x="31" y="105"/>
                  <a:pt x="32" y="103"/>
                </a:cubicBezTo>
                <a:cubicBezTo>
                  <a:pt x="33" y="100"/>
                  <a:pt x="32" y="99"/>
                  <a:pt x="30" y="97"/>
                </a:cubicBezTo>
                <a:cubicBezTo>
                  <a:pt x="26" y="91"/>
                  <a:pt x="23" y="84"/>
                  <a:pt x="23" y="74"/>
                </a:cubicBezTo>
                <a:cubicBezTo>
                  <a:pt x="23" y="45"/>
                  <a:pt x="44" y="20"/>
                  <a:pt x="79" y="20"/>
                </a:cubicBezTo>
                <a:cubicBezTo>
                  <a:pt x="110" y="20"/>
                  <a:pt x="127" y="38"/>
                  <a:pt x="127" y="63"/>
                </a:cubicBezTo>
                <a:cubicBezTo>
                  <a:pt x="127" y="96"/>
                  <a:pt x="112" y="124"/>
                  <a:pt x="90" y="124"/>
                </a:cubicBezTo>
                <a:cubicBezTo>
                  <a:pt x="78" y="124"/>
                  <a:pt x="69" y="114"/>
                  <a:pt x="72" y="102"/>
                </a:cubicBezTo>
                <a:cubicBezTo>
                  <a:pt x="76" y="88"/>
                  <a:pt x="82" y="72"/>
                  <a:pt x="82" y="62"/>
                </a:cubicBezTo>
                <a:cubicBezTo>
                  <a:pt x="82" y="52"/>
                  <a:pt x="77" y="44"/>
                  <a:pt x="67" y="44"/>
                </a:cubicBezTo>
                <a:cubicBezTo>
                  <a:pt x="55" y="44"/>
                  <a:pt x="45" y="57"/>
                  <a:pt x="45" y="74"/>
                </a:cubicBezTo>
                <a:cubicBezTo>
                  <a:pt x="45" y="85"/>
                  <a:pt x="49" y="92"/>
                  <a:pt x="49" y="92"/>
                </a:cubicBezTo>
                <a:cubicBezTo>
                  <a:pt x="49" y="92"/>
                  <a:pt x="36" y="145"/>
                  <a:pt x="34" y="155"/>
                </a:cubicBezTo>
                <a:cubicBezTo>
                  <a:pt x="29" y="173"/>
                  <a:pt x="33" y="196"/>
                  <a:pt x="33" y="198"/>
                </a:cubicBezTo>
                <a:cubicBezTo>
                  <a:pt x="34" y="199"/>
                  <a:pt x="35" y="200"/>
                  <a:pt x="36" y="199"/>
                </a:cubicBezTo>
                <a:cubicBezTo>
                  <a:pt x="37" y="197"/>
                  <a:pt x="52" y="179"/>
                  <a:pt x="57" y="161"/>
                </a:cubicBezTo>
                <a:cubicBezTo>
                  <a:pt x="58" y="156"/>
                  <a:pt x="65" y="130"/>
                  <a:pt x="65" y="130"/>
                </a:cubicBezTo>
                <a:cubicBezTo>
                  <a:pt x="69" y="137"/>
                  <a:pt x="80" y="144"/>
                  <a:pt x="93" y="144"/>
                </a:cubicBezTo>
                <a:cubicBezTo>
                  <a:pt x="130" y="144"/>
                  <a:pt x="155" y="110"/>
                  <a:pt x="155" y="66"/>
                </a:cubicBezTo>
                <a:cubicBezTo>
                  <a:pt x="155" y="32"/>
                  <a:pt x="126" y="0"/>
                  <a:pt x="8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Group 56" descr=""/>
          <p:cNvPicPr/>
          <p:nvPr/>
        </p:nvPicPr>
        <p:blipFill>
          <a:blip r:embed="rId2"/>
          <a:stretch/>
        </p:blipFill>
        <p:spPr>
          <a:xfrm>
            <a:off x="6340320" y="4164120"/>
            <a:ext cx="420840" cy="414360"/>
          </a:xfrm>
          <a:prstGeom prst="rect">
            <a:avLst/>
          </a:prstGeom>
          <a:ln w="0">
            <a:noFill/>
          </a:ln>
        </p:spPr>
      </p:pic>
      <p:pic>
        <p:nvPicPr>
          <p:cNvPr id="614" name="组合 108" descr=""/>
          <p:cNvPicPr/>
          <p:nvPr/>
        </p:nvPicPr>
        <p:blipFill>
          <a:blip r:embed="rId3"/>
          <a:stretch/>
        </p:blipFill>
        <p:spPr>
          <a:xfrm>
            <a:off x="9515520" y="2309760"/>
            <a:ext cx="433440" cy="347760"/>
          </a:xfrm>
          <a:prstGeom prst="rect">
            <a:avLst/>
          </a:prstGeom>
          <a:ln w="0">
            <a:noFill/>
          </a:ln>
        </p:spPr>
      </p:pic>
      <p:sp>
        <p:nvSpPr>
          <p:cNvPr id="615" name="Freeform 85"/>
          <p:cNvSpPr/>
          <p:nvPr/>
        </p:nvSpPr>
        <p:spPr>
          <a:xfrm>
            <a:off x="8755200" y="3392640"/>
            <a:ext cx="361800" cy="360360"/>
          </a:xfrm>
          <a:custGeom>
            <a:avLst/>
            <a:gdLst/>
            <a:ahLst/>
            <a:rect l="l" t="t" r="r" b="b"/>
            <a:pathLst>
              <a:path w="199" h="198">
                <a:moveTo>
                  <a:pt x="160" y="0"/>
                </a:moveTo>
                <a:cubicBezTo>
                  <a:pt x="39" y="0"/>
                  <a:pt x="39" y="0"/>
                  <a:pt x="39" y="0"/>
                </a:cubicBezTo>
                <a:cubicBezTo>
                  <a:pt x="17" y="0"/>
                  <a:pt x="0" y="17"/>
                  <a:pt x="0" y="38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160"/>
                  <a:pt x="0" y="160"/>
                  <a:pt x="0" y="160"/>
                </a:cubicBezTo>
                <a:cubicBezTo>
                  <a:pt x="0" y="181"/>
                  <a:pt x="17" y="198"/>
                  <a:pt x="39" y="198"/>
                </a:cubicBezTo>
                <a:cubicBezTo>
                  <a:pt x="160" y="198"/>
                  <a:pt x="160" y="198"/>
                  <a:pt x="160" y="198"/>
                </a:cubicBezTo>
                <a:cubicBezTo>
                  <a:pt x="181" y="198"/>
                  <a:pt x="199" y="181"/>
                  <a:pt x="199" y="160"/>
                </a:cubicBezTo>
                <a:cubicBezTo>
                  <a:pt x="199" y="79"/>
                  <a:pt x="199" y="79"/>
                  <a:pt x="199" y="79"/>
                </a:cubicBezTo>
                <a:cubicBezTo>
                  <a:pt x="199" y="38"/>
                  <a:pt x="199" y="38"/>
                  <a:pt x="199" y="38"/>
                </a:cubicBezTo>
                <a:cubicBezTo>
                  <a:pt x="199" y="17"/>
                  <a:pt x="181" y="0"/>
                  <a:pt x="160" y="0"/>
                </a:cubicBezTo>
                <a:close/>
                <a:moveTo>
                  <a:pt x="171" y="23"/>
                </a:moveTo>
                <a:cubicBezTo>
                  <a:pt x="176" y="23"/>
                  <a:pt x="176" y="23"/>
                  <a:pt x="176" y="23"/>
                </a:cubicBezTo>
                <a:cubicBezTo>
                  <a:pt x="176" y="27"/>
                  <a:pt x="176" y="27"/>
                  <a:pt x="176" y="27"/>
                </a:cubicBezTo>
                <a:cubicBezTo>
                  <a:pt x="176" y="56"/>
                  <a:pt x="176" y="56"/>
                  <a:pt x="176" y="56"/>
                </a:cubicBezTo>
                <a:cubicBezTo>
                  <a:pt x="142" y="56"/>
                  <a:pt x="142" y="56"/>
                  <a:pt x="142" y="56"/>
                </a:cubicBezTo>
                <a:cubicBezTo>
                  <a:pt x="142" y="23"/>
                  <a:pt x="142" y="23"/>
                  <a:pt x="142" y="23"/>
                </a:cubicBezTo>
                <a:lnTo>
                  <a:pt x="171" y="23"/>
                </a:lnTo>
                <a:close/>
                <a:moveTo>
                  <a:pt x="71" y="79"/>
                </a:moveTo>
                <a:cubicBezTo>
                  <a:pt x="77" y="70"/>
                  <a:pt x="88" y="64"/>
                  <a:pt x="99" y="64"/>
                </a:cubicBezTo>
                <a:cubicBezTo>
                  <a:pt x="111" y="64"/>
                  <a:pt x="121" y="70"/>
                  <a:pt x="128" y="79"/>
                </a:cubicBezTo>
                <a:cubicBezTo>
                  <a:pt x="132" y="84"/>
                  <a:pt x="134" y="91"/>
                  <a:pt x="134" y="99"/>
                </a:cubicBezTo>
                <a:cubicBezTo>
                  <a:pt x="134" y="118"/>
                  <a:pt x="119" y="134"/>
                  <a:pt x="99" y="134"/>
                </a:cubicBezTo>
                <a:cubicBezTo>
                  <a:pt x="80" y="134"/>
                  <a:pt x="65" y="118"/>
                  <a:pt x="65" y="99"/>
                </a:cubicBezTo>
                <a:cubicBezTo>
                  <a:pt x="65" y="91"/>
                  <a:pt x="67" y="84"/>
                  <a:pt x="71" y="79"/>
                </a:cubicBezTo>
                <a:close/>
                <a:moveTo>
                  <a:pt x="179" y="160"/>
                </a:moveTo>
                <a:cubicBezTo>
                  <a:pt x="179" y="170"/>
                  <a:pt x="171" y="179"/>
                  <a:pt x="160" y="179"/>
                </a:cubicBezTo>
                <a:cubicBezTo>
                  <a:pt x="39" y="179"/>
                  <a:pt x="39" y="179"/>
                  <a:pt x="39" y="179"/>
                </a:cubicBezTo>
                <a:cubicBezTo>
                  <a:pt x="28" y="179"/>
                  <a:pt x="20" y="170"/>
                  <a:pt x="20" y="160"/>
                </a:cubicBezTo>
                <a:cubicBezTo>
                  <a:pt x="20" y="79"/>
                  <a:pt x="20" y="79"/>
                  <a:pt x="20" y="79"/>
                </a:cubicBezTo>
                <a:cubicBezTo>
                  <a:pt x="49" y="79"/>
                  <a:pt x="49" y="79"/>
                  <a:pt x="49" y="79"/>
                </a:cubicBezTo>
                <a:cubicBezTo>
                  <a:pt x="47" y="85"/>
                  <a:pt x="45" y="92"/>
                  <a:pt x="45" y="99"/>
                </a:cubicBezTo>
                <a:cubicBezTo>
                  <a:pt x="45" y="129"/>
                  <a:pt x="70" y="153"/>
                  <a:pt x="99" y="153"/>
                </a:cubicBezTo>
                <a:cubicBezTo>
                  <a:pt x="129" y="153"/>
                  <a:pt x="154" y="129"/>
                  <a:pt x="154" y="99"/>
                </a:cubicBezTo>
                <a:cubicBezTo>
                  <a:pt x="154" y="92"/>
                  <a:pt x="152" y="85"/>
                  <a:pt x="150" y="79"/>
                </a:cubicBezTo>
                <a:cubicBezTo>
                  <a:pt x="179" y="79"/>
                  <a:pt x="179" y="79"/>
                  <a:pt x="179" y="79"/>
                </a:cubicBezTo>
                <a:lnTo>
                  <a:pt x="179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57"/>
          <p:cNvSpPr/>
          <p:nvPr/>
        </p:nvSpPr>
        <p:spPr>
          <a:xfrm>
            <a:off x="434880" y="21240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57"/>
          <p:cNvSpPr/>
          <p:nvPr/>
        </p:nvSpPr>
        <p:spPr>
          <a:xfrm>
            <a:off x="434880" y="31561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57"/>
          <p:cNvSpPr/>
          <p:nvPr/>
        </p:nvSpPr>
        <p:spPr>
          <a:xfrm>
            <a:off x="434880" y="41860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57"/>
          <p:cNvSpPr/>
          <p:nvPr/>
        </p:nvSpPr>
        <p:spPr>
          <a:xfrm>
            <a:off x="3179880" y="21240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57"/>
          <p:cNvSpPr/>
          <p:nvPr/>
        </p:nvSpPr>
        <p:spPr>
          <a:xfrm>
            <a:off x="3179880" y="31561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57"/>
          <p:cNvSpPr/>
          <p:nvPr/>
        </p:nvSpPr>
        <p:spPr>
          <a:xfrm>
            <a:off x="3179880" y="41860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文本框 40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组合 46"/>
          <p:cNvGrpSpPr/>
          <p:nvPr/>
        </p:nvGrpSpPr>
        <p:grpSpPr>
          <a:xfrm>
            <a:off x="2286000" y="3478320"/>
            <a:ext cx="7338960" cy="1119240"/>
            <a:chOff x="2286000" y="3478320"/>
            <a:chExt cx="7338960" cy="1119240"/>
          </a:xfrm>
        </p:grpSpPr>
        <p:sp>
          <p:nvSpPr>
            <p:cNvPr id="624" name="Freeform 12"/>
            <p:cNvSpPr/>
            <p:nvPr/>
          </p:nvSpPr>
          <p:spPr>
            <a:xfrm>
              <a:off x="2286000" y="3478320"/>
              <a:ext cx="1875240" cy="1113840"/>
            </a:xfrm>
            <a:custGeom>
              <a:avLst/>
              <a:gdLst/>
              <a:ahLst/>
              <a:rect l="l" t="t" r="r" b="b"/>
              <a:pathLst>
                <a:path w="981" h="583">
                  <a:moveTo>
                    <a:pt x="981" y="24"/>
                  </a:moveTo>
                  <a:lnTo>
                    <a:pt x="14" y="583"/>
                  </a:lnTo>
                  <a:lnTo>
                    <a:pt x="0" y="559"/>
                  </a:lnTo>
                  <a:lnTo>
                    <a:pt x="967" y="0"/>
                  </a:lnTo>
                  <a:lnTo>
                    <a:pt x="981" y="24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3"/>
            <p:cNvSpPr/>
            <p:nvPr/>
          </p:nvSpPr>
          <p:spPr>
            <a:xfrm>
              <a:off x="7747920" y="3478320"/>
              <a:ext cx="1877040" cy="1113840"/>
            </a:xfrm>
            <a:custGeom>
              <a:avLst/>
              <a:gdLst/>
              <a:ahLst/>
              <a:rect l="l" t="t" r="r" b="b"/>
              <a:pathLst>
                <a:path w="982" h="583">
                  <a:moveTo>
                    <a:pt x="0" y="24"/>
                  </a:moveTo>
                  <a:lnTo>
                    <a:pt x="968" y="583"/>
                  </a:lnTo>
                  <a:lnTo>
                    <a:pt x="982" y="559"/>
                  </a:lnTo>
                  <a:lnTo>
                    <a:pt x="12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4111560" y="3481920"/>
              <a:ext cx="1877040" cy="1115640"/>
            </a:xfrm>
            <a:custGeom>
              <a:avLst/>
              <a:gdLst/>
              <a:ahLst/>
              <a:rect l="l" t="t" r="r" b="b"/>
              <a:pathLst>
                <a:path w="982" h="584">
                  <a:moveTo>
                    <a:pt x="0" y="24"/>
                  </a:moveTo>
                  <a:lnTo>
                    <a:pt x="970" y="584"/>
                  </a:lnTo>
                  <a:lnTo>
                    <a:pt x="982" y="560"/>
                  </a:lnTo>
                  <a:lnTo>
                    <a:pt x="15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5"/>
            <p:cNvSpPr/>
            <p:nvPr/>
          </p:nvSpPr>
          <p:spPr>
            <a:xfrm>
              <a:off x="5916240" y="3481920"/>
              <a:ext cx="1877040" cy="1115640"/>
            </a:xfrm>
            <a:custGeom>
              <a:avLst/>
              <a:gdLst/>
              <a:ahLst/>
              <a:rect l="l" t="t" r="r" b="b"/>
              <a:pathLst>
                <a:path w="982" h="584">
                  <a:moveTo>
                    <a:pt x="982" y="24"/>
                  </a:moveTo>
                  <a:lnTo>
                    <a:pt x="14" y="584"/>
                  </a:lnTo>
                  <a:lnTo>
                    <a:pt x="0" y="560"/>
                  </a:lnTo>
                  <a:lnTo>
                    <a:pt x="970" y="0"/>
                  </a:lnTo>
                  <a:lnTo>
                    <a:pt x="982" y="24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8" name="矩形 51"/>
          <p:cNvSpPr/>
          <p:nvPr/>
        </p:nvSpPr>
        <p:spPr>
          <a:xfrm>
            <a:off x="1285920" y="5419800"/>
            <a:ext cx="101408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里添加您需要的说明文字，根据需要修改字体大小，根据需要修改字体大小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根据需要修改字体大小，根据需要修改字体大小，这里添加您需要的说明文字，根据需要修改字体大小这里添加您需要的说明文字，根据需要修改字体大小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52"/>
          <p:cNvSpPr/>
          <p:nvPr/>
        </p:nvSpPr>
        <p:spPr>
          <a:xfrm>
            <a:off x="1935000" y="4840200"/>
            <a:ext cx="8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微软雅黑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矩形 53"/>
          <p:cNvSpPr/>
          <p:nvPr/>
        </p:nvSpPr>
        <p:spPr>
          <a:xfrm>
            <a:off x="3762360" y="3822840"/>
            <a:ext cx="8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微软雅黑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54"/>
          <p:cNvSpPr/>
          <p:nvPr/>
        </p:nvSpPr>
        <p:spPr>
          <a:xfrm>
            <a:off x="5599080" y="4849920"/>
            <a:ext cx="8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微软雅黑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矩形 55"/>
          <p:cNvSpPr/>
          <p:nvPr/>
        </p:nvSpPr>
        <p:spPr>
          <a:xfrm>
            <a:off x="7426440" y="3832200"/>
            <a:ext cx="8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微软雅黑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56"/>
          <p:cNvSpPr/>
          <p:nvPr/>
        </p:nvSpPr>
        <p:spPr>
          <a:xfrm>
            <a:off x="9188280" y="4832280"/>
            <a:ext cx="8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微软雅黑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4" name="组合 57"/>
          <p:cNvGrpSpPr/>
          <p:nvPr/>
        </p:nvGrpSpPr>
        <p:grpSpPr>
          <a:xfrm>
            <a:off x="1508040" y="2230560"/>
            <a:ext cx="1636920" cy="2655720"/>
            <a:chOff x="1508040" y="2230560"/>
            <a:chExt cx="1636920" cy="2655720"/>
          </a:xfrm>
        </p:grpSpPr>
        <p:sp>
          <p:nvSpPr>
            <p:cNvPr id="635" name="Freeform 5"/>
            <p:cNvSpPr/>
            <p:nvPr/>
          </p:nvSpPr>
          <p:spPr>
            <a:xfrm>
              <a:off x="1508040" y="2230560"/>
              <a:ext cx="1636920" cy="1101240"/>
            </a:xfrm>
            <a:custGeom>
              <a:avLst/>
              <a:gdLst/>
              <a:ahLst/>
              <a:rect l="l" t="t" r="r" b="b"/>
              <a:pathLst>
                <a:path w="362" h="243">
                  <a:moveTo>
                    <a:pt x="276" y="44"/>
                  </a:moveTo>
                  <a:cubicBezTo>
                    <a:pt x="281" y="46"/>
                    <a:pt x="281" y="46"/>
                    <a:pt x="281" y="46"/>
                  </a:cubicBezTo>
                  <a:cubicBezTo>
                    <a:pt x="289" y="51"/>
                    <a:pt x="295" y="55"/>
                    <a:pt x="300" y="62"/>
                  </a:cubicBezTo>
                  <a:cubicBezTo>
                    <a:pt x="304" y="67"/>
                    <a:pt x="304" y="67"/>
                    <a:pt x="304" y="67"/>
                  </a:cubicBezTo>
                  <a:cubicBezTo>
                    <a:pt x="310" y="75"/>
                    <a:pt x="313" y="84"/>
                    <a:pt x="315" y="94"/>
                  </a:cubicBezTo>
                  <a:cubicBezTo>
                    <a:pt x="321" y="97"/>
                    <a:pt x="321" y="97"/>
                    <a:pt x="321" y="97"/>
                  </a:cubicBezTo>
                  <a:cubicBezTo>
                    <a:pt x="329" y="102"/>
                    <a:pt x="336" y="107"/>
                    <a:pt x="342" y="114"/>
                  </a:cubicBezTo>
                  <a:cubicBezTo>
                    <a:pt x="347" y="119"/>
                    <a:pt x="347" y="119"/>
                    <a:pt x="347" y="119"/>
                  </a:cubicBezTo>
                  <a:cubicBezTo>
                    <a:pt x="352" y="127"/>
                    <a:pt x="356" y="135"/>
                    <a:pt x="359" y="144"/>
                  </a:cubicBezTo>
                  <a:cubicBezTo>
                    <a:pt x="360" y="148"/>
                    <a:pt x="361" y="151"/>
                    <a:pt x="361" y="155"/>
                  </a:cubicBezTo>
                  <a:cubicBezTo>
                    <a:pt x="362" y="161"/>
                    <a:pt x="362" y="167"/>
                    <a:pt x="362" y="173"/>
                  </a:cubicBezTo>
                  <a:cubicBezTo>
                    <a:pt x="361" y="177"/>
                    <a:pt x="360" y="181"/>
                    <a:pt x="359" y="185"/>
                  </a:cubicBezTo>
                  <a:cubicBezTo>
                    <a:pt x="358" y="191"/>
                    <a:pt x="355" y="197"/>
                    <a:pt x="353" y="202"/>
                  </a:cubicBezTo>
                  <a:cubicBezTo>
                    <a:pt x="351" y="206"/>
                    <a:pt x="349" y="209"/>
                    <a:pt x="346" y="212"/>
                  </a:cubicBezTo>
                  <a:cubicBezTo>
                    <a:pt x="343" y="217"/>
                    <a:pt x="339" y="221"/>
                    <a:pt x="334" y="225"/>
                  </a:cubicBezTo>
                  <a:cubicBezTo>
                    <a:pt x="331" y="228"/>
                    <a:pt x="328" y="230"/>
                    <a:pt x="325" y="232"/>
                  </a:cubicBezTo>
                  <a:cubicBezTo>
                    <a:pt x="319" y="235"/>
                    <a:pt x="314" y="237"/>
                    <a:pt x="307" y="239"/>
                  </a:cubicBezTo>
                  <a:cubicBezTo>
                    <a:pt x="304" y="240"/>
                    <a:pt x="300" y="241"/>
                    <a:pt x="296" y="242"/>
                  </a:cubicBezTo>
                  <a:cubicBezTo>
                    <a:pt x="292" y="243"/>
                    <a:pt x="289" y="243"/>
                    <a:pt x="285" y="243"/>
                  </a:cubicBezTo>
                  <a:cubicBezTo>
                    <a:pt x="73" y="243"/>
                    <a:pt x="73" y="243"/>
                    <a:pt x="73" y="243"/>
                  </a:cubicBezTo>
                  <a:cubicBezTo>
                    <a:pt x="69" y="243"/>
                    <a:pt x="66" y="242"/>
                    <a:pt x="62" y="241"/>
                  </a:cubicBezTo>
                  <a:cubicBezTo>
                    <a:pt x="55" y="240"/>
                    <a:pt x="50" y="238"/>
                    <a:pt x="44" y="235"/>
                  </a:cubicBezTo>
                  <a:cubicBezTo>
                    <a:pt x="40" y="234"/>
                    <a:pt x="37" y="232"/>
                    <a:pt x="34" y="230"/>
                  </a:cubicBezTo>
                  <a:cubicBezTo>
                    <a:pt x="29" y="226"/>
                    <a:pt x="24" y="222"/>
                    <a:pt x="20" y="218"/>
                  </a:cubicBezTo>
                  <a:cubicBezTo>
                    <a:pt x="18" y="215"/>
                    <a:pt x="15" y="212"/>
                    <a:pt x="13" y="209"/>
                  </a:cubicBezTo>
                  <a:cubicBezTo>
                    <a:pt x="10" y="203"/>
                    <a:pt x="7" y="198"/>
                    <a:pt x="5" y="192"/>
                  </a:cubicBezTo>
                  <a:cubicBezTo>
                    <a:pt x="3" y="188"/>
                    <a:pt x="2" y="185"/>
                    <a:pt x="2" y="181"/>
                  </a:cubicBezTo>
                  <a:cubicBezTo>
                    <a:pt x="0" y="175"/>
                    <a:pt x="0" y="168"/>
                    <a:pt x="0" y="162"/>
                  </a:cubicBezTo>
                  <a:cubicBezTo>
                    <a:pt x="0" y="158"/>
                    <a:pt x="1" y="155"/>
                    <a:pt x="1" y="151"/>
                  </a:cubicBezTo>
                  <a:cubicBezTo>
                    <a:pt x="3" y="144"/>
                    <a:pt x="5" y="138"/>
                    <a:pt x="8" y="131"/>
                  </a:cubicBezTo>
                  <a:cubicBezTo>
                    <a:pt x="11" y="125"/>
                    <a:pt x="11" y="125"/>
                    <a:pt x="11" y="125"/>
                  </a:cubicBezTo>
                  <a:cubicBezTo>
                    <a:pt x="17" y="117"/>
                    <a:pt x="22" y="111"/>
                    <a:pt x="30" y="105"/>
                  </a:cubicBezTo>
                  <a:cubicBezTo>
                    <a:pt x="34" y="101"/>
                    <a:pt x="39" y="98"/>
                    <a:pt x="44" y="96"/>
                  </a:cubicBezTo>
                  <a:cubicBezTo>
                    <a:pt x="47" y="94"/>
                    <a:pt x="47" y="94"/>
                    <a:pt x="47" y="94"/>
                  </a:cubicBezTo>
                  <a:cubicBezTo>
                    <a:pt x="49" y="83"/>
                    <a:pt x="53" y="73"/>
                    <a:pt x="60" y="64"/>
                  </a:cubicBezTo>
                  <a:cubicBezTo>
                    <a:pt x="63" y="60"/>
                    <a:pt x="63" y="60"/>
                    <a:pt x="63" y="60"/>
                  </a:cubicBezTo>
                  <a:cubicBezTo>
                    <a:pt x="69" y="53"/>
                    <a:pt x="75" y="49"/>
                    <a:pt x="83" y="45"/>
                  </a:cubicBezTo>
                  <a:cubicBezTo>
                    <a:pt x="89" y="42"/>
                    <a:pt x="89" y="42"/>
                    <a:pt x="89" y="42"/>
                  </a:cubicBezTo>
                  <a:cubicBezTo>
                    <a:pt x="97" y="39"/>
                    <a:pt x="106" y="38"/>
                    <a:pt x="115" y="39"/>
                  </a:cubicBezTo>
                  <a:cubicBezTo>
                    <a:pt x="120" y="31"/>
                    <a:pt x="126" y="24"/>
                    <a:pt x="133" y="18"/>
                  </a:cubicBezTo>
                  <a:cubicBezTo>
                    <a:pt x="138" y="14"/>
                    <a:pt x="138" y="14"/>
                    <a:pt x="138" y="14"/>
                  </a:cubicBezTo>
                  <a:cubicBezTo>
                    <a:pt x="145" y="9"/>
                    <a:pt x="153" y="6"/>
                    <a:pt x="161" y="3"/>
                  </a:cubicBezTo>
                  <a:cubicBezTo>
                    <a:pt x="168" y="2"/>
                    <a:pt x="168" y="2"/>
                    <a:pt x="168" y="2"/>
                  </a:cubicBezTo>
                  <a:cubicBezTo>
                    <a:pt x="177" y="0"/>
                    <a:pt x="185" y="0"/>
                    <a:pt x="194" y="2"/>
                  </a:cubicBezTo>
                  <a:cubicBezTo>
                    <a:pt x="201" y="3"/>
                    <a:pt x="201" y="3"/>
                    <a:pt x="201" y="3"/>
                  </a:cubicBezTo>
                  <a:cubicBezTo>
                    <a:pt x="209" y="6"/>
                    <a:pt x="216" y="9"/>
                    <a:pt x="224" y="14"/>
                  </a:cubicBezTo>
                  <a:cubicBezTo>
                    <a:pt x="229" y="18"/>
                    <a:pt x="229" y="18"/>
                    <a:pt x="229" y="18"/>
                  </a:cubicBezTo>
                  <a:cubicBezTo>
                    <a:pt x="236" y="24"/>
                    <a:pt x="242" y="31"/>
                    <a:pt x="247" y="39"/>
                  </a:cubicBezTo>
                  <a:cubicBezTo>
                    <a:pt x="257" y="38"/>
                    <a:pt x="266" y="40"/>
                    <a:pt x="276" y="44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6"/>
            <p:cNvSpPr/>
            <p:nvPr/>
          </p:nvSpPr>
          <p:spPr>
            <a:xfrm>
              <a:off x="1557720" y="2286000"/>
              <a:ext cx="1537560" cy="992160"/>
            </a:xfrm>
            <a:custGeom>
              <a:avLst/>
              <a:gdLst/>
              <a:ahLst/>
              <a:rect l="l" t="t" r="r" b="b"/>
              <a:pathLst>
                <a:path w="340" h="219">
                  <a:moveTo>
                    <a:pt x="129" y="15"/>
                  </a:moveTo>
                  <a:cubicBezTo>
                    <a:pt x="133" y="12"/>
                    <a:pt x="133" y="12"/>
                    <a:pt x="133" y="12"/>
                  </a:cubicBezTo>
                  <a:cubicBezTo>
                    <a:pt x="141" y="6"/>
                    <a:pt x="149" y="3"/>
                    <a:pt x="159" y="1"/>
                  </a:cubicBezTo>
                  <a:cubicBezTo>
                    <a:pt x="164" y="1"/>
                    <a:pt x="164" y="1"/>
                    <a:pt x="164" y="1"/>
                  </a:cubicBezTo>
                  <a:cubicBezTo>
                    <a:pt x="174" y="0"/>
                    <a:pt x="183" y="1"/>
                    <a:pt x="192" y="4"/>
                  </a:cubicBezTo>
                  <a:cubicBezTo>
                    <a:pt x="197" y="6"/>
                    <a:pt x="197" y="6"/>
                    <a:pt x="197" y="6"/>
                  </a:cubicBezTo>
                  <a:cubicBezTo>
                    <a:pt x="211" y="13"/>
                    <a:pt x="223" y="24"/>
                    <a:pt x="229" y="39"/>
                  </a:cubicBezTo>
                  <a:cubicBezTo>
                    <a:pt x="240" y="37"/>
                    <a:pt x="250" y="38"/>
                    <a:pt x="260" y="42"/>
                  </a:cubicBezTo>
                  <a:cubicBezTo>
                    <a:pt x="265" y="44"/>
                    <a:pt x="265" y="44"/>
                    <a:pt x="265" y="44"/>
                  </a:cubicBezTo>
                  <a:cubicBezTo>
                    <a:pt x="273" y="49"/>
                    <a:pt x="278" y="54"/>
                    <a:pt x="284" y="61"/>
                  </a:cubicBezTo>
                  <a:cubicBezTo>
                    <a:pt x="286" y="66"/>
                    <a:pt x="286" y="66"/>
                    <a:pt x="286" y="66"/>
                  </a:cubicBezTo>
                  <a:cubicBezTo>
                    <a:pt x="290" y="74"/>
                    <a:pt x="292" y="81"/>
                    <a:pt x="293" y="90"/>
                  </a:cubicBezTo>
                  <a:cubicBezTo>
                    <a:pt x="304" y="94"/>
                    <a:pt x="314" y="101"/>
                    <a:pt x="323" y="110"/>
                  </a:cubicBezTo>
                  <a:cubicBezTo>
                    <a:pt x="326" y="114"/>
                    <a:pt x="326" y="114"/>
                    <a:pt x="326" y="114"/>
                  </a:cubicBezTo>
                  <a:cubicBezTo>
                    <a:pt x="331" y="121"/>
                    <a:pt x="334" y="127"/>
                    <a:pt x="337" y="135"/>
                  </a:cubicBezTo>
                  <a:cubicBezTo>
                    <a:pt x="338" y="141"/>
                    <a:pt x="338" y="141"/>
                    <a:pt x="338" y="141"/>
                  </a:cubicBezTo>
                  <a:cubicBezTo>
                    <a:pt x="340" y="150"/>
                    <a:pt x="340" y="158"/>
                    <a:pt x="338" y="167"/>
                  </a:cubicBezTo>
                  <a:cubicBezTo>
                    <a:pt x="336" y="173"/>
                    <a:pt x="336" y="173"/>
                    <a:pt x="336" y="173"/>
                  </a:cubicBezTo>
                  <a:cubicBezTo>
                    <a:pt x="334" y="182"/>
                    <a:pt x="330" y="188"/>
                    <a:pt x="324" y="195"/>
                  </a:cubicBezTo>
                  <a:cubicBezTo>
                    <a:pt x="320" y="200"/>
                    <a:pt x="320" y="200"/>
                    <a:pt x="320" y="200"/>
                  </a:cubicBezTo>
                  <a:cubicBezTo>
                    <a:pt x="314" y="206"/>
                    <a:pt x="307" y="211"/>
                    <a:pt x="299" y="214"/>
                  </a:cubicBezTo>
                  <a:cubicBezTo>
                    <a:pt x="294" y="216"/>
                    <a:pt x="289" y="218"/>
                    <a:pt x="283" y="219"/>
                  </a:cubicBezTo>
                  <a:cubicBezTo>
                    <a:pt x="280" y="219"/>
                    <a:pt x="277" y="219"/>
                    <a:pt x="274" y="219"/>
                  </a:cubicBezTo>
                  <a:cubicBezTo>
                    <a:pt x="63" y="219"/>
                    <a:pt x="63" y="219"/>
                    <a:pt x="63" y="219"/>
                  </a:cubicBezTo>
                  <a:cubicBezTo>
                    <a:pt x="60" y="219"/>
                    <a:pt x="56" y="219"/>
                    <a:pt x="53" y="218"/>
                  </a:cubicBezTo>
                  <a:cubicBezTo>
                    <a:pt x="47" y="217"/>
                    <a:pt x="41" y="214"/>
                    <a:pt x="35" y="211"/>
                  </a:cubicBezTo>
                  <a:cubicBezTo>
                    <a:pt x="30" y="208"/>
                    <a:pt x="30" y="208"/>
                    <a:pt x="30" y="208"/>
                  </a:cubicBezTo>
                  <a:cubicBezTo>
                    <a:pt x="22" y="203"/>
                    <a:pt x="17" y="198"/>
                    <a:pt x="12" y="190"/>
                  </a:cubicBezTo>
                  <a:cubicBezTo>
                    <a:pt x="9" y="186"/>
                    <a:pt x="6" y="181"/>
                    <a:pt x="4" y="176"/>
                  </a:cubicBezTo>
                  <a:cubicBezTo>
                    <a:pt x="3" y="173"/>
                    <a:pt x="3" y="170"/>
                    <a:pt x="2" y="167"/>
                  </a:cubicBezTo>
                  <a:cubicBezTo>
                    <a:pt x="1" y="160"/>
                    <a:pt x="0" y="154"/>
                    <a:pt x="1" y="147"/>
                  </a:cubicBezTo>
                  <a:cubicBezTo>
                    <a:pt x="2" y="141"/>
                    <a:pt x="2" y="141"/>
                    <a:pt x="2" y="141"/>
                  </a:cubicBezTo>
                  <a:cubicBezTo>
                    <a:pt x="3" y="133"/>
                    <a:pt x="6" y="126"/>
                    <a:pt x="10" y="119"/>
                  </a:cubicBezTo>
                  <a:cubicBezTo>
                    <a:pt x="13" y="114"/>
                    <a:pt x="13" y="114"/>
                    <a:pt x="13" y="114"/>
                  </a:cubicBezTo>
                  <a:cubicBezTo>
                    <a:pt x="22" y="103"/>
                    <a:pt x="33" y="94"/>
                    <a:pt x="47" y="90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9" y="76"/>
                    <a:pt x="51" y="69"/>
                    <a:pt x="56" y="61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65" y="50"/>
                    <a:pt x="71" y="46"/>
                    <a:pt x="79" y="42"/>
                  </a:cubicBezTo>
                  <a:cubicBezTo>
                    <a:pt x="90" y="38"/>
                    <a:pt x="100" y="37"/>
                    <a:pt x="111" y="39"/>
                  </a:cubicBezTo>
                  <a:cubicBezTo>
                    <a:pt x="115" y="29"/>
                    <a:pt x="121" y="22"/>
                    <a:pt x="129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7"/>
            <p:cNvSpPr/>
            <p:nvPr/>
          </p:nvSpPr>
          <p:spPr>
            <a:xfrm>
              <a:off x="1611000" y="2340000"/>
              <a:ext cx="1430640" cy="888840"/>
            </a:xfrm>
            <a:custGeom>
              <a:avLst/>
              <a:gdLst/>
              <a:ahLst/>
              <a:rect l="l" t="t" r="r" b="b"/>
              <a:pathLst>
                <a:path w="316" h="196">
                  <a:moveTo>
                    <a:pt x="54" y="196"/>
                  </a:moveTo>
                  <a:cubicBezTo>
                    <a:pt x="24" y="196"/>
                    <a:pt x="0" y="171"/>
                    <a:pt x="0" y="141"/>
                  </a:cubicBezTo>
                  <a:cubicBezTo>
                    <a:pt x="0" y="114"/>
                    <a:pt x="21" y="91"/>
                    <a:pt x="48" y="88"/>
                  </a:cubicBezTo>
                  <a:cubicBezTo>
                    <a:pt x="47" y="85"/>
                    <a:pt x="47" y="82"/>
                    <a:pt x="47" y="79"/>
                  </a:cubicBezTo>
                  <a:cubicBezTo>
                    <a:pt x="47" y="56"/>
                    <a:pt x="65" y="37"/>
                    <a:pt x="88" y="37"/>
                  </a:cubicBezTo>
                  <a:cubicBezTo>
                    <a:pt x="94" y="37"/>
                    <a:pt x="101" y="39"/>
                    <a:pt x="106" y="42"/>
                  </a:cubicBezTo>
                  <a:cubicBezTo>
                    <a:pt x="111" y="18"/>
                    <a:pt x="133" y="0"/>
                    <a:pt x="158" y="0"/>
                  </a:cubicBezTo>
                  <a:cubicBezTo>
                    <a:pt x="183" y="0"/>
                    <a:pt x="205" y="18"/>
                    <a:pt x="210" y="42"/>
                  </a:cubicBezTo>
                  <a:cubicBezTo>
                    <a:pt x="215" y="39"/>
                    <a:pt x="221" y="37"/>
                    <a:pt x="228" y="37"/>
                  </a:cubicBezTo>
                  <a:cubicBezTo>
                    <a:pt x="251" y="37"/>
                    <a:pt x="269" y="56"/>
                    <a:pt x="269" y="79"/>
                  </a:cubicBezTo>
                  <a:cubicBezTo>
                    <a:pt x="269" y="82"/>
                    <a:pt x="269" y="85"/>
                    <a:pt x="268" y="88"/>
                  </a:cubicBezTo>
                  <a:cubicBezTo>
                    <a:pt x="295" y="91"/>
                    <a:pt x="316" y="114"/>
                    <a:pt x="316" y="141"/>
                  </a:cubicBezTo>
                  <a:cubicBezTo>
                    <a:pt x="316" y="171"/>
                    <a:pt x="291" y="196"/>
                    <a:pt x="261" y="196"/>
                  </a:cubicBezTo>
                  <a:cubicBezTo>
                    <a:pt x="54" y="196"/>
                    <a:pt x="54" y="196"/>
                    <a:pt x="54" y="196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8"/>
            <p:cNvSpPr/>
            <p:nvPr/>
          </p:nvSpPr>
          <p:spPr>
            <a:xfrm>
              <a:off x="2299680" y="3308760"/>
              <a:ext cx="53280" cy="1319400"/>
            </a:xfrm>
            <a:custGeom>
              <a:avLst/>
              <a:gdLst/>
              <a:ahLst/>
              <a:rect l="l" t="t" r="r" b="b"/>
              <a:pathLst>
                <a:path w="28" h="690">
                  <a:moveTo>
                    <a:pt x="28" y="0"/>
                  </a:moveTo>
                  <a:lnTo>
                    <a:pt x="28" y="690"/>
                  </a:lnTo>
                  <a:lnTo>
                    <a:pt x="0" y="690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Oval 9"/>
            <p:cNvSpPr/>
            <p:nvPr/>
          </p:nvSpPr>
          <p:spPr>
            <a:xfrm>
              <a:off x="2037600" y="4261320"/>
              <a:ext cx="577440" cy="585000"/>
            </a:xfrm>
            <a:prstGeom prst="ellipse">
              <a:avLst/>
            </a:pr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Oval 10"/>
            <p:cNvSpPr/>
            <p:nvPr/>
          </p:nvSpPr>
          <p:spPr>
            <a:xfrm>
              <a:off x="2087280" y="4311000"/>
              <a:ext cx="478080" cy="479880"/>
            </a:xfrm>
            <a:prstGeom prst="ellipse">
              <a:avLst/>
            </a:pr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Oval 11"/>
            <p:cNvSpPr/>
            <p:nvPr/>
          </p:nvSpPr>
          <p:spPr>
            <a:xfrm>
              <a:off x="2140920" y="4366440"/>
              <a:ext cx="370800" cy="374760"/>
            </a:xfrm>
            <a:prstGeom prst="ellipse">
              <a:avLst/>
            </a:pr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16"/>
            <p:cNvSpPr/>
            <p:nvPr/>
          </p:nvSpPr>
          <p:spPr>
            <a:xfrm>
              <a:off x="1991880" y="4221000"/>
              <a:ext cx="665280" cy="665280"/>
            </a:xfrm>
            <a:custGeom>
              <a:avLst/>
              <a:gdLst/>
              <a:ahLst/>
              <a:rect l="l" t="t" r="r" b="b"/>
              <a:pathLst>
                <a:path w="147" h="147">
                  <a:moveTo>
                    <a:pt x="130" y="41"/>
                  </a:moveTo>
                  <a:cubicBezTo>
                    <a:pt x="147" y="72"/>
                    <a:pt x="137" y="111"/>
                    <a:pt x="106" y="129"/>
                  </a:cubicBezTo>
                  <a:cubicBezTo>
                    <a:pt x="75" y="147"/>
                    <a:pt x="36" y="136"/>
                    <a:pt x="18" y="105"/>
                  </a:cubicBezTo>
                  <a:cubicBezTo>
                    <a:pt x="0" y="75"/>
                    <a:pt x="11" y="35"/>
                    <a:pt x="42" y="18"/>
                  </a:cubicBezTo>
                  <a:cubicBezTo>
                    <a:pt x="72" y="0"/>
                    <a:pt x="112" y="10"/>
                    <a:pt x="130" y="41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17"/>
            <p:cNvSpPr/>
            <p:nvPr/>
          </p:nvSpPr>
          <p:spPr>
            <a:xfrm>
              <a:off x="2054880" y="4280400"/>
              <a:ext cx="542880" cy="54684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06" y="34"/>
                  </a:moveTo>
                  <a:cubicBezTo>
                    <a:pt x="120" y="59"/>
                    <a:pt x="111" y="91"/>
                    <a:pt x="86" y="106"/>
                  </a:cubicBezTo>
                  <a:cubicBezTo>
                    <a:pt x="61" y="121"/>
                    <a:pt x="29" y="112"/>
                    <a:pt x="14" y="87"/>
                  </a:cubicBezTo>
                  <a:cubicBezTo>
                    <a:pt x="0" y="61"/>
                    <a:pt x="8" y="29"/>
                    <a:pt x="33" y="14"/>
                  </a:cubicBezTo>
                  <a:cubicBezTo>
                    <a:pt x="59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18"/>
            <p:cNvSpPr/>
            <p:nvPr/>
          </p:nvSpPr>
          <p:spPr>
            <a:xfrm>
              <a:off x="2114640" y="4337280"/>
              <a:ext cx="423720" cy="42696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83" y="27"/>
                  </a:moveTo>
                  <a:cubicBezTo>
                    <a:pt x="94" y="46"/>
                    <a:pt x="87" y="72"/>
                    <a:pt x="68" y="83"/>
                  </a:cubicBezTo>
                  <a:cubicBezTo>
                    <a:pt x="48" y="94"/>
                    <a:pt x="22" y="88"/>
                    <a:pt x="11" y="68"/>
                  </a:cubicBezTo>
                  <a:cubicBezTo>
                    <a:pt x="0" y="48"/>
                    <a:pt x="6" y="23"/>
                    <a:pt x="26" y="11"/>
                  </a:cubicBezTo>
                  <a:cubicBezTo>
                    <a:pt x="46" y="0"/>
                    <a:pt x="71" y="7"/>
                    <a:pt x="83" y="27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矩形 68"/>
            <p:cNvSpPr/>
            <p:nvPr/>
          </p:nvSpPr>
          <p:spPr>
            <a:xfrm>
              <a:off x="1978560" y="26294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1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组合 69"/>
          <p:cNvGrpSpPr/>
          <p:nvPr/>
        </p:nvGrpSpPr>
        <p:grpSpPr>
          <a:xfrm>
            <a:off x="3321000" y="1203480"/>
            <a:ext cx="1638360" cy="2608200"/>
            <a:chOff x="3321000" y="1203480"/>
            <a:chExt cx="1638360" cy="2608200"/>
          </a:xfrm>
        </p:grpSpPr>
        <p:sp>
          <p:nvSpPr>
            <p:cNvPr id="647" name="Freeform 19"/>
            <p:cNvSpPr/>
            <p:nvPr/>
          </p:nvSpPr>
          <p:spPr>
            <a:xfrm>
              <a:off x="3321000" y="1203480"/>
              <a:ext cx="1638360" cy="1096920"/>
            </a:xfrm>
            <a:custGeom>
              <a:avLst/>
              <a:gdLst/>
              <a:ahLst/>
              <a:rect l="l" t="t" r="r" b="b"/>
              <a:pathLst>
                <a:path w="362" h="242">
                  <a:moveTo>
                    <a:pt x="276" y="43"/>
                  </a:moveTo>
                  <a:cubicBezTo>
                    <a:pt x="278" y="43"/>
                    <a:pt x="280" y="44"/>
                    <a:pt x="282" y="45"/>
                  </a:cubicBezTo>
                  <a:cubicBezTo>
                    <a:pt x="289" y="50"/>
                    <a:pt x="295" y="54"/>
                    <a:pt x="301" y="61"/>
                  </a:cubicBezTo>
                  <a:cubicBezTo>
                    <a:pt x="302" y="63"/>
                    <a:pt x="303" y="64"/>
                    <a:pt x="304" y="66"/>
                  </a:cubicBezTo>
                  <a:cubicBezTo>
                    <a:pt x="310" y="74"/>
                    <a:pt x="313" y="83"/>
                    <a:pt x="315" y="93"/>
                  </a:cubicBezTo>
                  <a:cubicBezTo>
                    <a:pt x="317" y="94"/>
                    <a:pt x="319" y="95"/>
                    <a:pt x="321" y="96"/>
                  </a:cubicBezTo>
                  <a:cubicBezTo>
                    <a:pt x="329" y="101"/>
                    <a:pt x="336" y="106"/>
                    <a:pt x="342" y="113"/>
                  </a:cubicBezTo>
                  <a:cubicBezTo>
                    <a:pt x="344" y="115"/>
                    <a:pt x="345" y="117"/>
                    <a:pt x="347" y="118"/>
                  </a:cubicBezTo>
                  <a:cubicBezTo>
                    <a:pt x="352" y="126"/>
                    <a:pt x="356" y="134"/>
                    <a:pt x="359" y="143"/>
                  </a:cubicBezTo>
                  <a:cubicBezTo>
                    <a:pt x="360" y="147"/>
                    <a:pt x="361" y="150"/>
                    <a:pt x="361" y="154"/>
                  </a:cubicBezTo>
                  <a:cubicBezTo>
                    <a:pt x="362" y="160"/>
                    <a:pt x="362" y="166"/>
                    <a:pt x="362" y="172"/>
                  </a:cubicBezTo>
                  <a:cubicBezTo>
                    <a:pt x="361" y="176"/>
                    <a:pt x="360" y="180"/>
                    <a:pt x="360" y="184"/>
                  </a:cubicBezTo>
                  <a:cubicBezTo>
                    <a:pt x="358" y="190"/>
                    <a:pt x="356" y="196"/>
                    <a:pt x="353" y="201"/>
                  </a:cubicBezTo>
                  <a:cubicBezTo>
                    <a:pt x="351" y="205"/>
                    <a:pt x="349" y="208"/>
                    <a:pt x="347" y="211"/>
                  </a:cubicBezTo>
                  <a:cubicBezTo>
                    <a:pt x="343" y="216"/>
                    <a:pt x="339" y="220"/>
                    <a:pt x="334" y="224"/>
                  </a:cubicBezTo>
                  <a:cubicBezTo>
                    <a:pt x="331" y="227"/>
                    <a:pt x="328" y="229"/>
                    <a:pt x="325" y="231"/>
                  </a:cubicBezTo>
                  <a:cubicBezTo>
                    <a:pt x="319" y="234"/>
                    <a:pt x="314" y="236"/>
                    <a:pt x="308" y="238"/>
                  </a:cubicBezTo>
                  <a:cubicBezTo>
                    <a:pt x="304" y="240"/>
                    <a:pt x="300" y="240"/>
                    <a:pt x="296" y="241"/>
                  </a:cubicBezTo>
                  <a:cubicBezTo>
                    <a:pt x="292" y="242"/>
                    <a:pt x="289" y="242"/>
                    <a:pt x="285" y="242"/>
                  </a:cubicBezTo>
                  <a:cubicBezTo>
                    <a:pt x="214" y="242"/>
                    <a:pt x="144" y="242"/>
                    <a:pt x="73" y="242"/>
                  </a:cubicBezTo>
                  <a:cubicBezTo>
                    <a:pt x="70" y="242"/>
                    <a:pt x="66" y="241"/>
                    <a:pt x="62" y="240"/>
                  </a:cubicBezTo>
                  <a:cubicBezTo>
                    <a:pt x="56" y="239"/>
                    <a:pt x="50" y="237"/>
                    <a:pt x="44" y="234"/>
                  </a:cubicBezTo>
                  <a:cubicBezTo>
                    <a:pt x="41" y="233"/>
                    <a:pt x="37" y="231"/>
                    <a:pt x="34" y="229"/>
                  </a:cubicBezTo>
                  <a:cubicBezTo>
                    <a:pt x="29" y="225"/>
                    <a:pt x="25" y="221"/>
                    <a:pt x="20" y="217"/>
                  </a:cubicBezTo>
                  <a:cubicBezTo>
                    <a:pt x="18" y="214"/>
                    <a:pt x="15" y="211"/>
                    <a:pt x="13" y="208"/>
                  </a:cubicBezTo>
                  <a:cubicBezTo>
                    <a:pt x="10" y="202"/>
                    <a:pt x="7" y="197"/>
                    <a:pt x="5" y="191"/>
                  </a:cubicBezTo>
                  <a:cubicBezTo>
                    <a:pt x="4" y="187"/>
                    <a:pt x="2" y="184"/>
                    <a:pt x="2" y="180"/>
                  </a:cubicBezTo>
                  <a:cubicBezTo>
                    <a:pt x="0" y="174"/>
                    <a:pt x="0" y="168"/>
                    <a:pt x="0" y="161"/>
                  </a:cubicBezTo>
                  <a:cubicBezTo>
                    <a:pt x="0" y="157"/>
                    <a:pt x="1" y="154"/>
                    <a:pt x="1" y="150"/>
                  </a:cubicBezTo>
                  <a:cubicBezTo>
                    <a:pt x="3" y="143"/>
                    <a:pt x="5" y="137"/>
                    <a:pt x="8" y="130"/>
                  </a:cubicBezTo>
                  <a:cubicBezTo>
                    <a:pt x="9" y="128"/>
                    <a:pt x="10" y="126"/>
                    <a:pt x="11" y="124"/>
                  </a:cubicBezTo>
                  <a:cubicBezTo>
                    <a:pt x="17" y="116"/>
                    <a:pt x="22" y="110"/>
                    <a:pt x="30" y="104"/>
                  </a:cubicBezTo>
                  <a:cubicBezTo>
                    <a:pt x="34" y="100"/>
                    <a:pt x="39" y="97"/>
                    <a:pt x="44" y="95"/>
                  </a:cubicBezTo>
                  <a:cubicBezTo>
                    <a:pt x="45" y="94"/>
                    <a:pt x="46" y="94"/>
                    <a:pt x="47" y="93"/>
                  </a:cubicBezTo>
                  <a:cubicBezTo>
                    <a:pt x="49" y="82"/>
                    <a:pt x="53" y="72"/>
                    <a:pt x="60" y="63"/>
                  </a:cubicBezTo>
                  <a:cubicBezTo>
                    <a:pt x="61" y="62"/>
                    <a:pt x="62" y="60"/>
                    <a:pt x="64" y="59"/>
                  </a:cubicBezTo>
                  <a:cubicBezTo>
                    <a:pt x="69" y="52"/>
                    <a:pt x="76" y="48"/>
                    <a:pt x="83" y="44"/>
                  </a:cubicBezTo>
                  <a:cubicBezTo>
                    <a:pt x="85" y="43"/>
                    <a:pt x="87" y="42"/>
                    <a:pt x="89" y="41"/>
                  </a:cubicBezTo>
                  <a:cubicBezTo>
                    <a:pt x="98" y="38"/>
                    <a:pt x="106" y="37"/>
                    <a:pt x="115" y="38"/>
                  </a:cubicBezTo>
                  <a:cubicBezTo>
                    <a:pt x="120" y="30"/>
                    <a:pt x="126" y="23"/>
                    <a:pt x="133" y="17"/>
                  </a:cubicBezTo>
                  <a:cubicBezTo>
                    <a:pt x="135" y="16"/>
                    <a:pt x="136" y="14"/>
                    <a:pt x="138" y="13"/>
                  </a:cubicBezTo>
                  <a:cubicBezTo>
                    <a:pt x="145" y="8"/>
                    <a:pt x="153" y="5"/>
                    <a:pt x="161" y="2"/>
                  </a:cubicBezTo>
                  <a:cubicBezTo>
                    <a:pt x="163" y="2"/>
                    <a:pt x="166" y="1"/>
                    <a:pt x="168" y="1"/>
                  </a:cubicBezTo>
                  <a:cubicBezTo>
                    <a:pt x="177" y="0"/>
                    <a:pt x="185" y="0"/>
                    <a:pt x="194" y="1"/>
                  </a:cubicBezTo>
                  <a:cubicBezTo>
                    <a:pt x="196" y="1"/>
                    <a:pt x="199" y="2"/>
                    <a:pt x="201" y="2"/>
                  </a:cubicBezTo>
                  <a:cubicBezTo>
                    <a:pt x="209" y="5"/>
                    <a:pt x="217" y="8"/>
                    <a:pt x="224" y="13"/>
                  </a:cubicBezTo>
                  <a:cubicBezTo>
                    <a:pt x="226" y="14"/>
                    <a:pt x="227" y="16"/>
                    <a:pt x="229" y="17"/>
                  </a:cubicBezTo>
                  <a:cubicBezTo>
                    <a:pt x="236" y="23"/>
                    <a:pt x="242" y="30"/>
                    <a:pt x="247" y="38"/>
                  </a:cubicBezTo>
                  <a:cubicBezTo>
                    <a:pt x="257" y="37"/>
                    <a:pt x="267" y="39"/>
                    <a:pt x="276" y="43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20"/>
            <p:cNvSpPr/>
            <p:nvPr/>
          </p:nvSpPr>
          <p:spPr>
            <a:xfrm>
              <a:off x="3372480" y="1253160"/>
              <a:ext cx="1537200" cy="991800"/>
            </a:xfrm>
            <a:custGeom>
              <a:avLst/>
              <a:gdLst/>
              <a:ahLst/>
              <a:rect l="l" t="t" r="r" b="b"/>
              <a:pathLst>
                <a:path w="340" h="219">
                  <a:moveTo>
                    <a:pt x="129" y="15"/>
                  </a:moveTo>
                  <a:cubicBezTo>
                    <a:pt x="131" y="14"/>
                    <a:pt x="132" y="13"/>
                    <a:pt x="134" y="12"/>
                  </a:cubicBezTo>
                  <a:cubicBezTo>
                    <a:pt x="141" y="6"/>
                    <a:pt x="149" y="3"/>
                    <a:pt x="159" y="1"/>
                  </a:cubicBezTo>
                  <a:cubicBezTo>
                    <a:pt x="161" y="1"/>
                    <a:pt x="162" y="1"/>
                    <a:pt x="164" y="1"/>
                  </a:cubicBezTo>
                  <a:cubicBezTo>
                    <a:pt x="174" y="0"/>
                    <a:pt x="183" y="1"/>
                    <a:pt x="192" y="4"/>
                  </a:cubicBezTo>
                  <a:cubicBezTo>
                    <a:pt x="194" y="5"/>
                    <a:pt x="195" y="6"/>
                    <a:pt x="197" y="6"/>
                  </a:cubicBezTo>
                  <a:cubicBezTo>
                    <a:pt x="211" y="13"/>
                    <a:pt x="223" y="24"/>
                    <a:pt x="229" y="39"/>
                  </a:cubicBezTo>
                  <a:cubicBezTo>
                    <a:pt x="240" y="37"/>
                    <a:pt x="250" y="38"/>
                    <a:pt x="260" y="42"/>
                  </a:cubicBezTo>
                  <a:cubicBezTo>
                    <a:pt x="262" y="43"/>
                    <a:pt x="264" y="44"/>
                    <a:pt x="265" y="44"/>
                  </a:cubicBezTo>
                  <a:cubicBezTo>
                    <a:pt x="273" y="49"/>
                    <a:pt x="279" y="54"/>
                    <a:pt x="284" y="61"/>
                  </a:cubicBezTo>
                  <a:cubicBezTo>
                    <a:pt x="285" y="63"/>
                    <a:pt x="285" y="64"/>
                    <a:pt x="286" y="66"/>
                  </a:cubicBezTo>
                  <a:cubicBezTo>
                    <a:pt x="290" y="74"/>
                    <a:pt x="292" y="81"/>
                    <a:pt x="293" y="90"/>
                  </a:cubicBezTo>
                  <a:cubicBezTo>
                    <a:pt x="304" y="94"/>
                    <a:pt x="314" y="101"/>
                    <a:pt x="323" y="110"/>
                  </a:cubicBezTo>
                  <a:cubicBezTo>
                    <a:pt x="324" y="111"/>
                    <a:pt x="325" y="113"/>
                    <a:pt x="326" y="114"/>
                  </a:cubicBezTo>
                  <a:cubicBezTo>
                    <a:pt x="331" y="121"/>
                    <a:pt x="334" y="128"/>
                    <a:pt x="337" y="135"/>
                  </a:cubicBezTo>
                  <a:cubicBezTo>
                    <a:pt x="337" y="137"/>
                    <a:pt x="338" y="139"/>
                    <a:pt x="338" y="141"/>
                  </a:cubicBezTo>
                  <a:cubicBezTo>
                    <a:pt x="340" y="150"/>
                    <a:pt x="340" y="158"/>
                    <a:pt x="338" y="167"/>
                  </a:cubicBezTo>
                  <a:cubicBezTo>
                    <a:pt x="338" y="169"/>
                    <a:pt x="337" y="171"/>
                    <a:pt x="337" y="173"/>
                  </a:cubicBezTo>
                  <a:cubicBezTo>
                    <a:pt x="334" y="182"/>
                    <a:pt x="330" y="188"/>
                    <a:pt x="324" y="195"/>
                  </a:cubicBezTo>
                  <a:cubicBezTo>
                    <a:pt x="323" y="197"/>
                    <a:pt x="322" y="199"/>
                    <a:pt x="320" y="200"/>
                  </a:cubicBezTo>
                  <a:cubicBezTo>
                    <a:pt x="314" y="206"/>
                    <a:pt x="307" y="211"/>
                    <a:pt x="299" y="214"/>
                  </a:cubicBezTo>
                  <a:cubicBezTo>
                    <a:pt x="294" y="216"/>
                    <a:pt x="289" y="218"/>
                    <a:pt x="284" y="219"/>
                  </a:cubicBezTo>
                  <a:cubicBezTo>
                    <a:pt x="280" y="219"/>
                    <a:pt x="277" y="219"/>
                    <a:pt x="274" y="219"/>
                  </a:cubicBezTo>
                  <a:cubicBezTo>
                    <a:pt x="204" y="219"/>
                    <a:pt x="133" y="219"/>
                    <a:pt x="63" y="219"/>
                  </a:cubicBezTo>
                  <a:cubicBezTo>
                    <a:pt x="60" y="219"/>
                    <a:pt x="57" y="219"/>
                    <a:pt x="53" y="218"/>
                  </a:cubicBezTo>
                  <a:cubicBezTo>
                    <a:pt x="47" y="217"/>
                    <a:pt x="41" y="215"/>
                    <a:pt x="35" y="211"/>
                  </a:cubicBezTo>
                  <a:cubicBezTo>
                    <a:pt x="33" y="210"/>
                    <a:pt x="31" y="209"/>
                    <a:pt x="30" y="208"/>
                  </a:cubicBezTo>
                  <a:cubicBezTo>
                    <a:pt x="22" y="203"/>
                    <a:pt x="17" y="198"/>
                    <a:pt x="12" y="190"/>
                  </a:cubicBezTo>
                  <a:cubicBezTo>
                    <a:pt x="9" y="186"/>
                    <a:pt x="7" y="181"/>
                    <a:pt x="5" y="176"/>
                  </a:cubicBezTo>
                  <a:cubicBezTo>
                    <a:pt x="3" y="173"/>
                    <a:pt x="3" y="170"/>
                    <a:pt x="2" y="167"/>
                  </a:cubicBezTo>
                  <a:cubicBezTo>
                    <a:pt x="1" y="160"/>
                    <a:pt x="0" y="154"/>
                    <a:pt x="1" y="147"/>
                  </a:cubicBezTo>
                  <a:cubicBezTo>
                    <a:pt x="1" y="145"/>
                    <a:pt x="1" y="143"/>
                    <a:pt x="2" y="141"/>
                  </a:cubicBezTo>
                  <a:cubicBezTo>
                    <a:pt x="3" y="133"/>
                    <a:pt x="6" y="126"/>
                    <a:pt x="10" y="119"/>
                  </a:cubicBezTo>
                  <a:cubicBezTo>
                    <a:pt x="11" y="118"/>
                    <a:pt x="12" y="116"/>
                    <a:pt x="14" y="114"/>
                  </a:cubicBezTo>
                  <a:cubicBezTo>
                    <a:pt x="22" y="103"/>
                    <a:pt x="34" y="95"/>
                    <a:pt x="47" y="90"/>
                  </a:cubicBezTo>
                  <a:cubicBezTo>
                    <a:pt x="47" y="89"/>
                    <a:pt x="48" y="87"/>
                    <a:pt x="48" y="85"/>
                  </a:cubicBezTo>
                  <a:cubicBezTo>
                    <a:pt x="49" y="76"/>
                    <a:pt x="51" y="69"/>
                    <a:pt x="56" y="61"/>
                  </a:cubicBezTo>
                  <a:cubicBezTo>
                    <a:pt x="57" y="60"/>
                    <a:pt x="58" y="59"/>
                    <a:pt x="59" y="57"/>
                  </a:cubicBezTo>
                  <a:cubicBezTo>
                    <a:pt x="65" y="50"/>
                    <a:pt x="71" y="46"/>
                    <a:pt x="80" y="42"/>
                  </a:cubicBezTo>
                  <a:cubicBezTo>
                    <a:pt x="90" y="38"/>
                    <a:pt x="100" y="37"/>
                    <a:pt x="111" y="39"/>
                  </a:cubicBezTo>
                  <a:cubicBezTo>
                    <a:pt x="115" y="29"/>
                    <a:pt x="121" y="22"/>
                    <a:pt x="129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21"/>
            <p:cNvSpPr/>
            <p:nvPr/>
          </p:nvSpPr>
          <p:spPr>
            <a:xfrm>
              <a:off x="3426120" y="1306440"/>
              <a:ext cx="1428120" cy="888480"/>
            </a:xfrm>
            <a:custGeom>
              <a:avLst/>
              <a:gdLst/>
              <a:ahLst/>
              <a:rect l="l" t="t" r="r" b="b"/>
              <a:pathLst>
                <a:path w="316" h="196">
                  <a:moveTo>
                    <a:pt x="54" y="196"/>
                  </a:moveTo>
                  <a:cubicBezTo>
                    <a:pt x="24" y="196"/>
                    <a:pt x="0" y="172"/>
                    <a:pt x="0" y="142"/>
                  </a:cubicBezTo>
                  <a:cubicBezTo>
                    <a:pt x="0" y="114"/>
                    <a:pt x="21" y="91"/>
                    <a:pt x="48" y="88"/>
                  </a:cubicBezTo>
                  <a:cubicBezTo>
                    <a:pt x="47" y="85"/>
                    <a:pt x="47" y="82"/>
                    <a:pt x="47" y="79"/>
                  </a:cubicBezTo>
                  <a:cubicBezTo>
                    <a:pt x="47" y="56"/>
                    <a:pt x="65" y="38"/>
                    <a:pt x="88" y="38"/>
                  </a:cubicBezTo>
                  <a:cubicBezTo>
                    <a:pt x="95" y="38"/>
                    <a:pt x="101" y="39"/>
                    <a:pt x="106" y="42"/>
                  </a:cubicBezTo>
                  <a:cubicBezTo>
                    <a:pt x="111" y="18"/>
                    <a:pt x="133" y="0"/>
                    <a:pt x="158" y="0"/>
                  </a:cubicBezTo>
                  <a:cubicBezTo>
                    <a:pt x="183" y="0"/>
                    <a:pt x="205" y="18"/>
                    <a:pt x="210" y="42"/>
                  </a:cubicBezTo>
                  <a:cubicBezTo>
                    <a:pt x="215" y="39"/>
                    <a:pt x="222" y="38"/>
                    <a:pt x="228" y="38"/>
                  </a:cubicBezTo>
                  <a:cubicBezTo>
                    <a:pt x="251" y="38"/>
                    <a:pt x="269" y="56"/>
                    <a:pt x="269" y="79"/>
                  </a:cubicBezTo>
                  <a:cubicBezTo>
                    <a:pt x="269" y="82"/>
                    <a:pt x="269" y="85"/>
                    <a:pt x="268" y="88"/>
                  </a:cubicBezTo>
                  <a:cubicBezTo>
                    <a:pt x="295" y="91"/>
                    <a:pt x="316" y="114"/>
                    <a:pt x="316" y="142"/>
                  </a:cubicBezTo>
                  <a:cubicBezTo>
                    <a:pt x="316" y="172"/>
                    <a:pt x="292" y="196"/>
                    <a:pt x="262" y="196"/>
                  </a:cubicBezTo>
                  <a:cubicBezTo>
                    <a:pt x="193" y="196"/>
                    <a:pt x="123" y="196"/>
                    <a:pt x="54" y="196"/>
                  </a:cubicBezTo>
                  <a:close/>
                </a:path>
              </a:pathLst>
            </a:custGeom>
            <a:solidFill>
              <a:srgbClr val="a96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22"/>
            <p:cNvSpPr/>
            <p:nvPr/>
          </p:nvSpPr>
          <p:spPr>
            <a:xfrm>
              <a:off x="4112280" y="2277360"/>
              <a:ext cx="55440" cy="1339560"/>
            </a:xfrm>
            <a:custGeom>
              <a:avLst/>
              <a:gdLst/>
              <a:ahLst/>
              <a:rect l="l" t="t" r="r" b="b"/>
              <a:pathLst>
                <a:path w="12" h="296">
                  <a:moveTo>
                    <a:pt x="12" y="0"/>
                  </a:moveTo>
                  <a:cubicBezTo>
                    <a:pt x="12" y="98"/>
                    <a:pt x="12" y="197"/>
                    <a:pt x="12" y="296"/>
                  </a:cubicBezTo>
                  <a:cubicBezTo>
                    <a:pt x="8" y="296"/>
                    <a:pt x="4" y="296"/>
                    <a:pt x="0" y="296"/>
                  </a:cubicBezTo>
                  <a:cubicBezTo>
                    <a:pt x="0" y="197"/>
                    <a:pt x="0" y="98"/>
                    <a:pt x="0" y="0"/>
                  </a:cubicBezTo>
                  <a:cubicBezTo>
                    <a:pt x="4" y="0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Oval 23"/>
            <p:cNvSpPr/>
            <p:nvPr/>
          </p:nvSpPr>
          <p:spPr>
            <a:xfrm>
              <a:off x="3850560" y="3228840"/>
              <a:ext cx="579240" cy="582840"/>
            </a:xfrm>
            <a:prstGeom prst="ellipse">
              <a:avLst/>
            </a:pr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Oval 24"/>
            <p:cNvSpPr/>
            <p:nvPr/>
          </p:nvSpPr>
          <p:spPr>
            <a:xfrm>
              <a:off x="3900240" y="3278520"/>
              <a:ext cx="479880" cy="479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Oval 25"/>
            <p:cNvSpPr/>
            <p:nvPr/>
          </p:nvSpPr>
          <p:spPr>
            <a:xfrm>
              <a:off x="3955680" y="3332160"/>
              <a:ext cx="370800" cy="376200"/>
            </a:xfrm>
            <a:prstGeom prst="ellipse">
              <a:avLst/>
            </a:prstGeom>
            <a:solidFill>
              <a:srgbClr val="a96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矩形 120"/>
            <p:cNvSpPr/>
            <p:nvPr/>
          </p:nvSpPr>
          <p:spPr>
            <a:xfrm>
              <a:off x="3796560" y="155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2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组合 121"/>
          <p:cNvGrpSpPr/>
          <p:nvPr/>
        </p:nvGrpSpPr>
        <p:grpSpPr>
          <a:xfrm>
            <a:off x="5135400" y="2230560"/>
            <a:ext cx="1635120" cy="2616120"/>
            <a:chOff x="5135400" y="2230560"/>
            <a:chExt cx="1635120" cy="2616120"/>
          </a:xfrm>
        </p:grpSpPr>
        <p:sp>
          <p:nvSpPr>
            <p:cNvPr id="656" name="Freeform 26"/>
            <p:cNvSpPr/>
            <p:nvPr/>
          </p:nvSpPr>
          <p:spPr>
            <a:xfrm>
              <a:off x="5135400" y="2230560"/>
              <a:ext cx="1635120" cy="1101600"/>
            </a:xfrm>
            <a:custGeom>
              <a:avLst/>
              <a:gdLst/>
              <a:ahLst/>
              <a:rect l="l" t="t" r="r" b="b"/>
              <a:pathLst>
                <a:path w="362" h="243">
                  <a:moveTo>
                    <a:pt x="276" y="44"/>
                  </a:moveTo>
                  <a:cubicBezTo>
                    <a:pt x="278" y="44"/>
                    <a:pt x="280" y="45"/>
                    <a:pt x="282" y="46"/>
                  </a:cubicBezTo>
                  <a:cubicBezTo>
                    <a:pt x="289" y="51"/>
                    <a:pt x="295" y="55"/>
                    <a:pt x="301" y="62"/>
                  </a:cubicBezTo>
                  <a:cubicBezTo>
                    <a:pt x="302" y="63"/>
                    <a:pt x="303" y="65"/>
                    <a:pt x="304" y="67"/>
                  </a:cubicBezTo>
                  <a:cubicBezTo>
                    <a:pt x="310" y="75"/>
                    <a:pt x="313" y="84"/>
                    <a:pt x="315" y="94"/>
                  </a:cubicBezTo>
                  <a:cubicBezTo>
                    <a:pt x="317" y="95"/>
                    <a:pt x="319" y="96"/>
                    <a:pt x="321" y="97"/>
                  </a:cubicBezTo>
                  <a:cubicBezTo>
                    <a:pt x="329" y="102"/>
                    <a:pt x="336" y="107"/>
                    <a:pt x="342" y="114"/>
                  </a:cubicBezTo>
                  <a:cubicBezTo>
                    <a:pt x="344" y="116"/>
                    <a:pt x="345" y="118"/>
                    <a:pt x="347" y="119"/>
                  </a:cubicBezTo>
                  <a:cubicBezTo>
                    <a:pt x="352" y="127"/>
                    <a:pt x="356" y="135"/>
                    <a:pt x="359" y="144"/>
                  </a:cubicBezTo>
                  <a:cubicBezTo>
                    <a:pt x="360" y="148"/>
                    <a:pt x="361" y="151"/>
                    <a:pt x="361" y="155"/>
                  </a:cubicBezTo>
                  <a:cubicBezTo>
                    <a:pt x="362" y="161"/>
                    <a:pt x="362" y="167"/>
                    <a:pt x="362" y="173"/>
                  </a:cubicBezTo>
                  <a:cubicBezTo>
                    <a:pt x="361" y="177"/>
                    <a:pt x="361" y="181"/>
                    <a:pt x="360" y="185"/>
                  </a:cubicBezTo>
                  <a:cubicBezTo>
                    <a:pt x="358" y="191"/>
                    <a:pt x="356" y="197"/>
                    <a:pt x="353" y="202"/>
                  </a:cubicBezTo>
                  <a:cubicBezTo>
                    <a:pt x="351" y="206"/>
                    <a:pt x="349" y="209"/>
                    <a:pt x="347" y="212"/>
                  </a:cubicBezTo>
                  <a:cubicBezTo>
                    <a:pt x="343" y="217"/>
                    <a:pt x="339" y="221"/>
                    <a:pt x="334" y="225"/>
                  </a:cubicBezTo>
                  <a:cubicBezTo>
                    <a:pt x="331" y="228"/>
                    <a:pt x="328" y="230"/>
                    <a:pt x="325" y="232"/>
                  </a:cubicBezTo>
                  <a:cubicBezTo>
                    <a:pt x="319" y="235"/>
                    <a:pt x="314" y="237"/>
                    <a:pt x="308" y="239"/>
                  </a:cubicBezTo>
                  <a:cubicBezTo>
                    <a:pt x="304" y="240"/>
                    <a:pt x="300" y="241"/>
                    <a:pt x="296" y="242"/>
                  </a:cubicBezTo>
                  <a:cubicBezTo>
                    <a:pt x="293" y="243"/>
                    <a:pt x="289" y="243"/>
                    <a:pt x="285" y="243"/>
                  </a:cubicBezTo>
                  <a:cubicBezTo>
                    <a:pt x="215" y="243"/>
                    <a:pt x="144" y="243"/>
                    <a:pt x="74" y="243"/>
                  </a:cubicBezTo>
                  <a:cubicBezTo>
                    <a:pt x="70" y="243"/>
                    <a:pt x="66" y="242"/>
                    <a:pt x="62" y="241"/>
                  </a:cubicBezTo>
                  <a:cubicBezTo>
                    <a:pt x="56" y="240"/>
                    <a:pt x="50" y="238"/>
                    <a:pt x="44" y="235"/>
                  </a:cubicBezTo>
                  <a:cubicBezTo>
                    <a:pt x="41" y="234"/>
                    <a:pt x="37" y="232"/>
                    <a:pt x="34" y="230"/>
                  </a:cubicBezTo>
                  <a:cubicBezTo>
                    <a:pt x="29" y="226"/>
                    <a:pt x="25" y="222"/>
                    <a:pt x="20" y="218"/>
                  </a:cubicBezTo>
                  <a:cubicBezTo>
                    <a:pt x="18" y="215"/>
                    <a:pt x="16" y="212"/>
                    <a:pt x="13" y="209"/>
                  </a:cubicBezTo>
                  <a:cubicBezTo>
                    <a:pt x="10" y="203"/>
                    <a:pt x="7" y="198"/>
                    <a:pt x="5" y="192"/>
                  </a:cubicBezTo>
                  <a:cubicBezTo>
                    <a:pt x="4" y="188"/>
                    <a:pt x="3" y="185"/>
                    <a:pt x="2" y="181"/>
                  </a:cubicBezTo>
                  <a:cubicBezTo>
                    <a:pt x="1" y="175"/>
                    <a:pt x="0" y="168"/>
                    <a:pt x="0" y="162"/>
                  </a:cubicBezTo>
                  <a:cubicBezTo>
                    <a:pt x="0" y="158"/>
                    <a:pt x="1" y="155"/>
                    <a:pt x="1" y="151"/>
                  </a:cubicBezTo>
                  <a:cubicBezTo>
                    <a:pt x="3" y="144"/>
                    <a:pt x="5" y="138"/>
                    <a:pt x="8" y="131"/>
                  </a:cubicBezTo>
                  <a:cubicBezTo>
                    <a:pt x="9" y="129"/>
                    <a:pt x="10" y="127"/>
                    <a:pt x="12" y="125"/>
                  </a:cubicBezTo>
                  <a:cubicBezTo>
                    <a:pt x="17" y="117"/>
                    <a:pt x="22" y="111"/>
                    <a:pt x="30" y="105"/>
                  </a:cubicBezTo>
                  <a:cubicBezTo>
                    <a:pt x="34" y="101"/>
                    <a:pt x="39" y="98"/>
                    <a:pt x="44" y="96"/>
                  </a:cubicBezTo>
                  <a:cubicBezTo>
                    <a:pt x="45" y="95"/>
                    <a:pt x="46" y="95"/>
                    <a:pt x="47" y="94"/>
                  </a:cubicBezTo>
                  <a:cubicBezTo>
                    <a:pt x="49" y="83"/>
                    <a:pt x="53" y="73"/>
                    <a:pt x="60" y="64"/>
                  </a:cubicBezTo>
                  <a:cubicBezTo>
                    <a:pt x="61" y="63"/>
                    <a:pt x="62" y="61"/>
                    <a:pt x="64" y="60"/>
                  </a:cubicBezTo>
                  <a:cubicBezTo>
                    <a:pt x="70" y="53"/>
                    <a:pt x="76" y="49"/>
                    <a:pt x="83" y="45"/>
                  </a:cubicBezTo>
                  <a:cubicBezTo>
                    <a:pt x="85" y="44"/>
                    <a:pt x="87" y="43"/>
                    <a:pt x="89" y="42"/>
                  </a:cubicBezTo>
                  <a:cubicBezTo>
                    <a:pt x="98" y="39"/>
                    <a:pt x="106" y="38"/>
                    <a:pt x="115" y="39"/>
                  </a:cubicBezTo>
                  <a:cubicBezTo>
                    <a:pt x="120" y="31"/>
                    <a:pt x="126" y="24"/>
                    <a:pt x="133" y="18"/>
                  </a:cubicBezTo>
                  <a:cubicBezTo>
                    <a:pt x="135" y="17"/>
                    <a:pt x="136" y="15"/>
                    <a:pt x="138" y="14"/>
                  </a:cubicBezTo>
                  <a:cubicBezTo>
                    <a:pt x="146" y="9"/>
                    <a:pt x="153" y="6"/>
                    <a:pt x="161" y="3"/>
                  </a:cubicBezTo>
                  <a:cubicBezTo>
                    <a:pt x="163" y="3"/>
                    <a:pt x="166" y="2"/>
                    <a:pt x="168" y="2"/>
                  </a:cubicBezTo>
                  <a:cubicBezTo>
                    <a:pt x="177" y="0"/>
                    <a:pt x="185" y="0"/>
                    <a:pt x="194" y="2"/>
                  </a:cubicBezTo>
                  <a:cubicBezTo>
                    <a:pt x="197" y="2"/>
                    <a:pt x="199" y="3"/>
                    <a:pt x="201" y="3"/>
                  </a:cubicBezTo>
                  <a:cubicBezTo>
                    <a:pt x="209" y="6"/>
                    <a:pt x="217" y="9"/>
                    <a:pt x="224" y="14"/>
                  </a:cubicBezTo>
                  <a:cubicBezTo>
                    <a:pt x="226" y="15"/>
                    <a:pt x="228" y="17"/>
                    <a:pt x="229" y="18"/>
                  </a:cubicBezTo>
                  <a:cubicBezTo>
                    <a:pt x="236" y="24"/>
                    <a:pt x="242" y="31"/>
                    <a:pt x="247" y="39"/>
                  </a:cubicBezTo>
                  <a:cubicBezTo>
                    <a:pt x="257" y="38"/>
                    <a:pt x="267" y="40"/>
                    <a:pt x="276" y="44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27"/>
            <p:cNvSpPr/>
            <p:nvPr/>
          </p:nvSpPr>
          <p:spPr>
            <a:xfrm>
              <a:off x="5184720" y="2286000"/>
              <a:ext cx="1536120" cy="992520"/>
            </a:xfrm>
            <a:custGeom>
              <a:avLst/>
              <a:gdLst/>
              <a:ahLst/>
              <a:rect l="l" t="t" r="r" b="b"/>
              <a:pathLst>
                <a:path w="340" h="219">
                  <a:moveTo>
                    <a:pt x="129" y="15"/>
                  </a:moveTo>
                  <a:cubicBezTo>
                    <a:pt x="131" y="14"/>
                    <a:pt x="132" y="13"/>
                    <a:pt x="134" y="12"/>
                  </a:cubicBezTo>
                  <a:cubicBezTo>
                    <a:pt x="142" y="6"/>
                    <a:pt x="149" y="3"/>
                    <a:pt x="159" y="1"/>
                  </a:cubicBezTo>
                  <a:cubicBezTo>
                    <a:pt x="161" y="1"/>
                    <a:pt x="163" y="1"/>
                    <a:pt x="164" y="1"/>
                  </a:cubicBezTo>
                  <a:cubicBezTo>
                    <a:pt x="174" y="0"/>
                    <a:pt x="183" y="1"/>
                    <a:pt x="192" y="4"/>
                  </a:cubicBezTo>
                  <a:cubicBezTo>
                    <a:pt x="194" y="5"/>
                    <a:pt x="196" y="6"/>
                    <a:pt x="197" y="6"/>
                  </a:cubicBezTo>
                  <a:cubicBezTo>
                    <a:pt x="212" y="13"/>
                    <a:pt x="223" y="24"/>
                    <a:pt x="229" y="39"/>
                  </a:cubicBezTo>
                  <a:cubicBezTo>
                    <a:pt x="240" y="37"/>
                    <a:pt x="251" y="38"/>
                    <a:pt x="261" y="42"/>
                  </a:cubicBezTo>
                  <a:cubicBezTo>
                    <a:pt x="262" y="43"/>
                    <a:pt x="264" y="44"/>
                    <a:pt x="265" y="44"/>
                  </a:cubicBezTo>
                  <a:cubicBezTo>
                    <a:pt x="273" y="49"/>
                    <a:pt x="279" y="54"/>
                    <a:pt x="284" y="61"/>
                  </a:cubicBezTo>
                  <a:cubicBezTo>
                    <a:pt x="285" y="63"/>
                    <a:pt x="286" y="64"/>
                    <a:pt x="286" y="66"/>
                  </a:cubicBezTo>
                  <a:cubicBezTo>
                    <a:pt x="291" y="74"/>
                    <a:pt x="293" y="81"/>
                    <a:pt x="293" y="90"/>
                  </a:cubicBezTo>
                  <a:cubicBezTo>
                    <a:pt x="305" y="94"/>
                    <a:pt x="315" y="101"/>
                    <a:pt x="323" y="110"/>
                  </a:cubicBezTo>
                  <a:cubicBezTo>
                    <a:pt x="324" y="111"/>
                    <a:pt x="325" y="113"/>
                    <a:pt x="327" y="114"/>
                  </a:cubicBezTo>
                  <a:cubicBezTo>
                    <a:pt x="331" y="121"/>
                    <a:pt x="335" y="127"/>
                    <a:pt x="337" y="135"/>
                  </a:cubicBezTo>
                  <a:cubicBezTo>
                    <a:pt x="337" y="137"/>
                    <a:pt x="338" y="139"/>
                    <a:pt x="338" y="141"/>
                  </a:cubicBezTo>
                  <a:cubicBezTo>
                    <a:pt x="340" y="150"/>
                    <a:pt x="340" y="158"/>
                    <a:pt x="338" y="167"/>
                  </a:cubicBezTo>
                  <a:cubicBezTo>
                    <a:pt x="338" y="169"/>
                    <a:pt x="337" y="171"/>
                    <a:pt x="337" y="173"/>
                  </a:cubicBezTo>
                  <a:cubicBezTo>
                    <a:pt x="334" y="182"/>
                    <a:pt x="330" y="188"/>
                    <a:pt x="324" y="195"/>
                  </a:cubicBezTo>
                  <a:cubicBezTo>
                    <a:pt x="323" y="197"/>
                    <a:pt x="322" y="199"/>
                    <a:pt x="320" y="200"/>
                  </a:cubicBezTo>
                  <a:cubicBezTo>
                    <a:pt x="314" y="206"/>
                    <a:pt x="307" y="211"/>
                    <a:pt x="299" y="214"/>
                  </a:cubicBezTo>
                  <a:cubicBezTo>
                    <a:pt x="294" y="216"/>
                    <a:pt x="289" y="218"/>
                    <a:pt x="284" y="219"/>
                  </a:cubicBezTo>
                  <a:cubicBezTo>
                    <a:pt x="280" y="219"/>
                    <a:pt x="277" y="219"/>
                    <a:pt x="274" y="219"/>
                  </a:cubicBezTo>
                  <a:cubicBezTo>
                    <a:pt x="204" y="219"/>
                    <a:pt x="133" y="219"/>
                    <a:pt x="63" y="219"/>
                  </a:cubicBezTo>
                  <a:cubicBezTo>
                    <a:pt x="60" y="219"/>
                    <a:pt x="57" y="219"/>
                    <a:pt x="53" y="218"/>
                  </a:cubicBezTo>
                  <a:cubicBezTo>
                    <a:pt x="47" y="217"/>
                    <a:pt x="41" y="214"/>
                    <a:pt x="35" y="211"/>
                  </a:cubicBezTo>
                  <a:cubicBezTo>
                    <a:pt x="33" y="210"/>
                    <a:pt x="32" y="209"/>
                    <a:pt x="30" y="208"/>
                  </a:cubicBezTo>
                  <a:cubicBezTo>
                    <a:pt x="23" y="203"/>
                    <a:pt x="17" y="198"/>
                    <a:pt x="12" y="190"/>
                  </a:cubicBezTo>
                  <a:cubicBezTo>
                    <a:pt x="9" y="186"/>
                    <a:pt x="7" y="181"/>
                    <a:pt x="5" y="176"/>
                  </a:cubicBezTo>
                  <a:cubicBezTo>
                    <a:pt x="4" y="173"/>
                    <a:pt x="3" y="170"/>
                    <a:pt x="2" y="167"/>
                  </a:cubicBezTo>
                  <a:cubicBezTo>
                    <a:pt x="1" y="160"/>
                    <a:pt x="0" y="154"/>
                    <a:pt x="1" y="147"/>
                  </a:cubicBezTo>
                  <a:cubicBezTo>
                    <a:pt x="1" y="145"/>
                    <a:pt x="2" y="143"/>
                    <a:pt x="2" y="141"/>
                  </a:cubicBezTo>
                  <a:cubicBezTo>
                    <a:pt x="4" y="133"/>
                    <a:pt x="6" y="126"/>
                    <a:pt x="10" y="119"/>
                  </a:cubicBezTo>
                  <a:cubicBezTo>
                    <a:pt x="11" y="117"/>
                    <a:pt x="13" y="116"/>
                    <a:pt x="14" y="114"/>
                  </a:cubicBezTo>
                  <a:cubicBezTo>
                    <a:pt x="22" y="103"/>
                    <a:pt x="34" y="94"/>
                    <a:pt x="47" y="90"/>
                  </a:cubicBezTo>
                  <a:cubicBezTo>
                    <a:pt x="48" y="89"/>
                    <a:pt x="48" y="87"/>
                    <a:pt x="48" y="85"/>
                  </a:cubicBezTo>
                  <a:cubicBezTo>
                    <a:pt x="49" y="76"/>
                    <a:pt x="52" y="69"/>
                    <a:pt x="56" y="61"/>
                  </a:cubicBezTo>
                  <a:cubicBezTo>
                    <a:pt x="57" y="60"/>
                    <a:pt x="58" y="59"/>
                    <a:pt x="59" y="57"/>
                  </a:cubicBezTo>
                  <a:cubicBezTo>
                    <a:pt x="65" y="50"/>
                    <a:pt x="72" y="46"/>
                    <a:pt x="80" y="42"/>
                  </a:cubicBezTo>
                  <a:cubicBezTo>
                    <a:pt x="90" y="38"/>
                    <a:pt x="100" y="37"/>
                    <a:pt x="111" y="39"/>
                  </a:cubicBezTo>
                  <a:cubicBezTo>
                    <a:pt x="115" y="29"/>
                    <a:pt x="121" y="22"/>
                    <a:pt x="129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28"/>
            <p:cNvSpPr/>
            <p:nvPr/>
          </p:nvSpPr>
          <p:spPr>
            <a:xfrm>
              <a:off x="5238360" y="2340000"/>
              <a:ext cx="1428840" cy="888840"/>
            </a:xfrm>
            <a:custGeom>
              <a:avLst/>
              <a:gdLst/>
              <a:ahLst/>
              <a:rect l="l" t="t" r="r" b="b"/>
              <a:pathLst>
                <a:path w="316" h="196">
                  <a:moveTo>
                    <a:pt x="55" y="196"/>
                  </a:moveTo>
                  <a:cubicBezTo>
                    <a:pt x="25" y="196"/>
                    <a:pt x="0" y="171"/>
                    <a:pt x="0" y="141"/>
                  </a:cubicBezTo>
                  <a:cubicBezTo>
                    <a:pt x="0" y="114"/>
                    <a:pt x="21" y="91"/>
                    <a:pt x="48" y="88"/>
                  </a:cubicBezTo>
                  <a:cubicBezTo>
                    <a:pt x="47" y="85"/>
                    <a:pt x="47" y="82"/>
                    <a:pt x="47" y="79"/>
                  </a:cubicBezTo>
                  <a:cubicBezTo>
                    <a:pt x="47" y="56"/>
                    <a:pt x="65" y="37"/>
                    <a:pt x="88" y="37"/>
                  </a:cubicBezTo>
                  <a:cubicBezTo>
                    <a:pt x="95" y="37"/>
                    <a:pt x="101" y="39"/>
                    <a:pt x="106" y="42"/>
                  </a:cubicBezTo>
                  <a:cubicBezTo>
                    <a:pt x="111" y="18"/>
                    <a:pt x="133" y="0"/>
                    <a:pt x="158" y="0"/>
                  </a:cubicBezTo>
                  <a:cubicBezTo>
                    <a:pt x="184" y="0"/>
                    <a:pt x="205" y="18"/>
                    <a:pt x="210" y="42"/>
                  </a:cubicBezTo>
                  <a:cubicBezTo>
                    <a:pt x="216" y="39"/>
                    <a:pt x="222" y="37"/>
                    <a:pt x="228" y="37"/>
                  </a:cubicBezTo>
                  <a:cubicBezTo>
                    <a:pt x="251" y="37"/>
                    <a:pt x="269" y="56"/>
                    <a:pt x="269" y="79"/>
                  </a:cubicBezTo>
                  <a:cubicBezTo>
                    <a:pt x="269" y="82"/>
                    <a:pt x="269" y="85"/>
                    <a:pt x="268" y="88"/>
                  </a:cubicBezTo>
                  <a:cubicBezTo>
                    <a:pt x="295" y="91"/>
                    <a:pt x="316" y="114"/>
                    <a:pt x="316" y="141"/>
                  </a:cubicBezTo>
                  <a:cubicBezTo>
                    <a:pt x="316" y="171"/>
                    <a:pt x="292" y="196"/>
                    <a:pt x="262" y="196"/>
                  </a:cubicBezTo>
                  <a:cubicBezTo>
                    <a:pt x="193" y="196"/>
                    <a:pt x="124" y="196"/>
                    <a:pt x="55" y="196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29"/>
            <p:cNvSpPr/>
            <p:nvPr/>
          </p:nvSpPr>
          <p:spPr>
            <a:xfrm>
              <a:off x="5926320" y="3309120"/>
              <a:ext cx="53280" cy="1319400"/>
            </a:xfrm>
            <a:custGeom>
              <a:avLst/>
              <a:gdLst/>
              <a:ahLst/>
              <a:rect l="l" t="t" r="r" b="b"/>
              <a:pathLst>
                <a:path w="12" h="291">
                  <a:moveTo>
                    <a:pt x="12" y="0"/>
                  </a:moveTo>
                  <a:cubicBezTo>
                    <a:pt x="12" y="97"/>
                    <a:pt x="12" y="194"/>
                    <a:pt x="12" y="291"/>
                  </a:cubicBezTo>
                  <a:cubicBezTo>
                    <a:pt x="8" y="291"/>
                    <a:pt x="4" y="291"/>
                    <a:pt x="0" y="291"/>
                  </a:cubicBezTo>
                  <a:cubicBezTo>
                    <a:pt x="0" y="194"/>
                    <a:pt x="0" y="97"/>
                    <a:pt x="0" y="0"/>
                  </a:cubicBezTo>
                  <a:cubicBezTo>
                    <a:pt x="4" y="0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Oval 30"/>
            <p:cNvSpPr/>
            <p:nvPr/>
          </p:nvSpPr>
          <p:spPr>
            <a:xfrm>
              <a:off x="5664600" y="4261680"/>
              <a:ext cx="578880" cy="585000"/>
            </a:xfrm>
            <a:prstGeom prst="ellipse">
              <a:avLst/>
            </a:pr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Oval 31"/>
            <p:cNvSpPr/>
            <p:nvPr/>
          </p:nvSpPr>
          <p:spPr>
            <a:xfrm>
              <a:off x="5714280" y="4311360"/>
              <a:ext cx="479520" cy="47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Oval 32"/>
            <p:cNvSpPr/>
            <p:nvPr/>
          </p:nvSpPr>
          <p:spPr>
            <a:xfrm>
              <a:off x="5767200" y="4367520"/>
              <a:ext cx="371520" cy="374400"/>
            </a:xfrm>
            <a:prstGeom prst="ellipse">
              <a:avLst/>
            </a:pr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矩形 129"/>
            <p:cNvSpPr/>
            <p:nvPr/>
          </p:nvSpPr>
          <p:spPr>
            <a:xfrm>
              <a:off x="5616360" y="25999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3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4" name="组合 130"/>
          <p:cNvGrpSpPr/>
          <p:nvPr/>
        </p:nvGrpSpPr>
        <p:grpSpPr>
          <a:xfrm>
            <a:off x="6948360" y="1203480"/>
            <a:ext cx="1636920" cy="2608200"/>
            <a:chOff x="6948360" y="1203480"/>
            <a:chExt cx="1636920" cy="2608200"/>
          </a:xfrm>
        </p:grpSpPr>
        <p:sp>
          <p:nvSpPr>
            <p:cNvPr id="665" name="Freeform 33"/>
            <p:cNvSpPr/>
            <p:nvPr/>
          </p:nvSpPr>
          <p:spPr>
            <a:xfrm>
              <a:off x="6948360" y="1203480"/>
              <a:ext cx="1636920" cy="1096920"/>
            </a:xfrm>
            <a:custGeom>
              <a:avLst/>
              <a:gdLst/>
              <a:ahLst/>
              <a:rect l="l" t="t" r="r" b="b"/>
              <a:pathLst>
                <a:path w="362" h="242">
                  <a:moveTo>
                    <a:pt x="276" y="43"/>
                  </a:moveTo>
                  <a:cubicBezTo>
                    <a:pt x="278" y="43"/>
                    <a:pt x="280" y="44"/>
                    <a:pt x="282" y="45"/>
                  </a:cubicBezTo>
                  <a:cubicBezTo>
                    <a:pt x="289" y="50"/>
                    <a:pt x="295" y="54"/>
                    <a:pt x="301" y="61"/>
                  </a:cubicBezTo>
                  <a:cubicBezTo>
                    <a:pt x="302" y="63"/>
                    <a:pt x="303" y="64"/>
                    <a:pt x="304" y="66"/>
                  </a:cubicBezTo>
                  <a:cubicBezTo>
                    <a:pt x="310" y="74"/>
                    <a:pt x="314" y="83"/>
                    <a:pt x="315" y="93"/>
                  </a:cubicBezTo>
                  <a:cubicBezTo>
                    <a:pt x="317" y="94"/>
                    <a:pt x="319" y="95"/>
                    <a:pt x="321" y="96"/>
                  </a:cubicBezTo>
                  <a:cubicBezTo>
                    <a:pt x="329" y="101"/>
                    <a:pt x="336" y="106"/>
                    <a:pt x="343" y="113"/>
                  </a:cubicBezTo>
                  <a:cubicBezTo>
                    <a:pt x="344" y="115"/>
                    <a:pt x="345" y="117"/>
                    <a:pt x="347" y="118"/>
                  </a:cubicBezTo>
                  <a:cubicBezTo>
                    <a:pt x="352" y="126"/>
                    <a:pt x="356" y="134"/>
                    <a:pt x="359" y="143"/>
                  </a:cubicBezTo>
                  <a:cubicBezTo>
                    <a:pt x="360" y="147"/>
                    <a:pt x="361" y="150"/>
                    <a:pt x="361" y="154"/>
                  </a:cubicBezTo>
                  <a:cubicBezTo>
                    <a:pt x="362" y="160"/>
                    <a:pt x="362" y="166"/>
                    <a:pt x="362" y="172"/>
                  </a:cubicBezTo>
                  <a:cubicBezTo>
                    <a:pt x="361" y="176"/>
                    <a:pt x="361" y="180"/>
                    <a:pt x="360" y="184"/>
                  </a:cubicBezTo>
                  <a:cubicBezTo>
                    <a:pt x="358" y="190"/>
                    <a:pt x="356" y="196"/>
                    <a:pt x="353" y="201"/>
                  </a:cubicBezTo>
                  <a:cubicBezTo>
                    <a:pt x="351" y="205"/>
                    <a:pt x="349" y="208"/>
                    <a:pt x="347" y="211"/>
                  </a:cubicBezTo>
                  <a:cubicBezTo>
                    <a:pt x="343" y="216"/>
                    <a:pt x="339" y="220"/>
                    <a:pt x="334" y="224"/>
                  </a:cubicBezTo>
                  <a:cubicBezTo>
                    <a:pt x="331" y="227"/>
                    <a:pt x="328" y="229"/>
                    <a:pt x="325" y="231"/>
                  </a:cubicBezTo>
                  <a:cubicBezTo>
                    <a:pt x="319" y="234"/>
                    <a:pt x="314" y="236"/>
                    <a:pt x="308" y="238"/>
                  </a:cubicBezTo>
                  <a:cubicBezTo>
                    <a:pt x="304" y="240"/>
                    <a:pt x="300" y="240"/>
                    <a:pt x="297" y="241"/>
                  </a:cubicBezTo>
                  <a:cubicBezTo>
                    <a:pt x="293" y="242"/>
                    <a:pt x="289" y="242"/>
                    <a:pt x="285" y="242"/>
                  </a:cubicBezTo>
                  <a:cubicBezTo>
                    <a:pt x="215" y="242"/>
                    <a:pt x="144" y="242"/>
                    <a:pt x="74" y="242"/>
                  </a:cubicBezTo>
                  <a:cubicBezTo>
                    <a:pt x="70" y="242"/>
                    <a:pt x="66" y="241"/>
                    <a:pt x="62" y="240"/>
                  </a:cubicBezTo>
                  <a:cubicBezTo>
                    <a:pt x="56" y="239"/>
                    <a:pt x="50" y="237"/>
                    <a:pt x="44" y="234"/>
                  </a:cubicBezTo>
                  <a:cubicBezTo>
                    <a:pt x="41" y="233"/>
                    <a:pt x="38" y="231"/>
                    <a:pt x="34" y="229"/>
                  </a:cubicBezTo>
                  <a:cubicBezTo>
                    <a:pt x="29" y="225"/>
                    <a:pt x="25" y="221"/>
                    <a:pt x="20" y="217"/>
                  </a:cubicBezTo>
                  <a:cubicBezTo>
                    <a:pt x="18" y="214"/>
                    <a:pt x="16" y="211"/>
                    <a:pt x="13" y="208"/>
                  </a:cubicBezTo>
                  <a:cubicBezTo>
                    <a:pt x="10" y="202"/>
                    <a:pt x="7" y="197"/>
                    <a:pt x="5" y="191"/>
                  </a:cubicBezTo>
                  <a:cubicBezTo>
                    <a:pt x="4" y="187"/>
                    <a:pt x="3" y="184"/>
                    <a:pt x="2" y="180"/>
                  </a:cubicBezTo>
                  <a:cubicBezTo>
                    <a:pt x="1" y="174"/>
                    <a:pt x="0" y="168"/>
                    <a:pt x="0" y="161"/>
                  </a:cubicBezTo>
                  <a:cubicBezTo>
                    <a:pt x="1" y="157"/>
                    <a:pt x="1" y="154"/>
                    <a:pt x="2" y="150"/>
                  </a:cubicBezTo>
                  <a:cubicBezTo>
                    <a:pt x="3" y="143"/>
                    <a:pt x="5" y="137"/>
                    <a:pt x="8" y="130"/>
                  </a:cubicBezTo>
                  <a:cubicBezTo>
                    <a:pt x="9" y="128"/>
                    <a:pt x="11" y="126"/>
                    <a:pt x="12" y="124"/>
                  </a:cubicBezTo>
                  <a:cubicBezTo>
                    <a:pt x="17" y="116"/>
                    <a:pt x="22" y="110"/>
                    <a:pt x="30" y="104"/>
                  </a:cubicBezTo>
                  <a:cubicBezTo>
                    <a:pt x="35" y="100"/>
                    <a:pt x="39" y="97"/>
                    <a:pt x="44" y="95"/>
                  </a:cubicBezTo>
                  <a:cubicBezTo>
                    <a:pt x="45" y="94"/>
                    <a:pt x="47" y="94"/>
                    <a:pt x="48" y="93"/>
                  </a:cubicBezTo>
                  <a:cubicBezTo>
                    <a:pt x="49" y="82"/>
                    <a:pt x="53" y="72"/>
                    <a:pt x="60" y="63"/>
                  </a:cubicBezTo>
                  <a:cubicBezTo>
                    <a:pt x="61" y="62"/>
                    <a:pt x="62" y="60"/>
                    <a:pt x="64" y="59"/>
                  </a:cubicBezTo>
                  <a:cubicBezTo>
                    <a:pt x="70" y="52"/>
                    <a:pt x="76" y="48"/>
                    <a:pt x="83" y="44"/>
                  </a:cubicBezTo>
                  <a:cubicBezTo>
                    <a:pt x="85" y="43"/>
                    <a:pt x="87" y="42"/>
                    <a:pt x="89" y="41"/>
                  </a:cubicBezTo>
                  <a:cubicBezTo>
                    <a:pt x="98" y="38"/>
                    <a:pt x="106" y="37"/>
                    <a:pt x="115" y="38"/>
                  </a:cubicBezTo>
                  <a:cubicBezTo>
                    <a:pt x="120" y="30"/>
                    <a:pt x="126" y="23"/>
                    <a:pt x="133" y="17"/>
                  </a:cubicBezTo>
                  <a:cubicBezTo>
                    <a:pt x="135" y="16"/>
                    <a:pt x="136" y="14"/>
                    <a:pt x="138" y="13"/>
                  </a:cubicBezTo>
                  <a:cubicBezTo>
                    <a:pt x="146" y="8"/>
                    <a:pt x="153" y="5"/>
                    <a:pt x="161" y="2"/>
                  </a:cubicBezTo>
                  <a:cubicBezTo>
                    <a:pt x="164" y="2"/>
                    <a:pt x="166" y="1"/>
                    <a:pt x="168" y="1"/>
                  </a:cubicBezTo>
                  <a:cubicBezTo>
                    <a:pt x="177" y="0"/>
                    <a:pt x="185" y="0"/>
                    <a:pt x="195" y="1"/>
                  </a:cubicBezTo>
                  <a:cubicBezTo>
                    <a:pt x="197" y="1"/>
                    <a:pt x="199" y="2"/>
                    <a:pt x="201" y="2"/>
                  </a:cubicBezTo>
                  <a:cubicBezTo>
                    <a:pt x="210" y="5"/>
                    <a:pt x="217" y="8"/>
                    <a:pt x="224" y="13"/>
                  </a:cubicBezTo>
                  <a:cubicBezTo>
                    <a:pt x="226" y="14"/>
                    <a:pt x="228" y="16"/>
                    <a:pt x="229" y="17"/>
                  </a:cubicBezTo>
                  <a:cubicBezTo>
                    <a:pt x="236" y="23"/>
                    <a:pt x="242" y="30"/>
                    <a:pt x="247" y="38"/>
                  </a:cubicBezTo>
                  <a:cubicBezTo>
                    <a:pt x="257" y="37"/>
                    <a:pt x="267" y="39"/>
                    <a:pt x="276" y="43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34"/>
            <p:cNvSpPr/>
            <p:nvPr/>
          </p:nvSpPr>
          <p:spPr>
            <a:xfrm>
              <a:off x="7001640" y="1253160"/>
              <a:ext cx="1533960" cy="991800"/>
            </a:xfrm>
            <a:custGeom>
              <a:avLst/>
              <a:gdLst/>
              <a:ahLst/>
              <a:rect l="l" t="t" r="r" b="b"/>
              <a:pathLst>
                <a:path w="339" h="219">
                  <a:moveTo>
                    <a:pt x="128" y="15"/>
                  </a:moveTo>
                  <a:cubicBezTo>
                    <a:pt x="130" y="14"/>
                    <a:pt x="131" y="13"/>
                    <a:pt x="133" y="12"/>
                  </a:cubicBezTo>
                  <a:cubicBezTo>
                    <a:pt x="141" y="6"/>
                    <a:pt x="148" y="3"/>
                    <a:pt x="158" y="1"/>
                  </a:cubicBezTo>
                  <a:cubicBezTo>
                    <a:pt x="160" y="1"/>
                    <a:pt x="162" y="1"/>
                    <a:pt x="163" y="1"/>
                  </a:cubicBezTo>
                  <a:cubicBezTo>
                    <a:pt x="173" y="0"/>
                    <a:pt x="182" y="1"/>
                    <a:pt x="191" y="4"/>
                  </a:cubicBezTo>
                  <a:cubicBezTo>
                    <a:pt x="193" y="5"/>
                    <a:pt x="195" y="6"/>
                    <a:pt x="196" y="6"/>
                  </a:cubicBezTo>
                  <a:cubicBezTo>
                    <a:pt x="211" y="13"/>
                    <a:pt x="222" y="24"/>
                    <a:pt x="228" y="39"/>
                  </a:cubicBezTo>
                  <a:cubicBezTo>
                    <a:pt x="239" y="37"/>
                    <a:pt x="250" y="38"/>
                    <a:pt x="260" y="42"/>
                  </a:cubicBezTo>
                  <a:cubicBezTo>
                    <a:pt x="261" y="43"/>
                    <a:pt x="263" y="44"/>
                    <a:pt x="264" y="44"/>
                  </a:cubicBezTo>
                  <a:cubicBezTo>
                    <a:pt x="272" y="49"/>
                    <a:pt x="278" y="54"/>
                    <a:pt x="283" y="61"/>
                  </a:cubicBezTo>
                  <a:cubicBezTo>
                    <a:pt x="284" y="63"/>
                    <a:pt x="285" y="64"/>
                    <a:pt x="286" y="66"/>
                  </a:cubicBezTo>
                  <a:cubicBezTo>
                    <a:pt x="290" y="74"/>
                    <a:pt x="292" y="81"/>
                    <a:pt x="292" y="90"/>
                  </a:cubicBezTo>
                  <a:cubicBezTo>
                    <a:pt x="304" y="94"/>
                    <a:pt x="314" y="101"/>
                    <a:pt x="322" y="110"/>
                  </a:cubicBezTo>
                  <a:cubicBezTo>
                    <a:pt x="323" y="111"/>
                    <a:pt x="324" y="113"/>
                    <a:pt x="326" y="114"/>
                  </a:cubicBezTo>
                  <a:cubicBezTo>
                    <a:pt x="330" y="121"/>
                    <a:pt x="334" y="128"/>
                    <a:pt x="336" y="135"/>
                  </a:cubicBezTo>
                  <a:cubicBezTo>
                    <a:pt x="337" y="137"/>
                    <a:pt x="337" y="139"/>
                    <a:pt x="338" y="141"/>
                  </a:cubicBezTo>
                  <a:cubicBezTo>
                    <a:pt x="339" y="150"/>
                    <a:pt x="339" y="158"/>
                    <a:pt x="337" y="167"/>
                  </a:cubicBezTo>
                  <a:cubicBezTo>
                    <a:pt x="337" y="169"/>
                    <a:pt x="336" y="171"/>
                    <a:pt x="336" y="173"/>
                  </a:cubicBezTo>
                  <a:cubicBezTo>
                    <a:pt x="333" y="182"/>
                    <a:pt x="329" y="188"/>
                    <a:pt x="324" y="195"/>
                  </a:cubicBezTo>
                  <a:cubicBezTo>
                    <a:pt x="322" y="197"/>
                    <a:pt x="321" y="199"/>
                    <a:pt x="319" y="200"/>
                  </a:cubicBezTo>
                  <a:cubicBezTo>
                    <a:pt x="313" y="206"/>
                    <a:pt x="306" y="211"/>
                    <a:pt x="298" y="214"/>
                  </a:cubicBezTo>
                  <a:cubicBezTo>
                    <a:pt x="293" y="216"/>
                    <a:pt x="288" y="218"/>
                    <a:pt x="283" y="219"/>
                  </a:cubicBezTo>
                  <a:cubicBezTo>
                    <a:pt x="279" y="219"/>
                    <a:pt x="276" y="219"/>
                    <a:pt x="273" y="219"/>
                  </a:cubicBezTo>
                  <a:cubicBezTo>
                    <a:pt x="203" y="219"/>
                    <a:pt x="132" y="219"/>
                    <a:pt x="62" y="219"/>
                  </a:cubicBezTo>
                  <a:cubicBezTo>
                    <a:pt x="59" y="219"/>
                    <a:pt x="56" y="219"/>
                    <a:pt x="52" y="218"/>
                  </a:cubicBezTo>
                  <a:cubicBezTo>
                    <a:pt x="46" y="217"/>
                    <a:pt x="40" y="215"/>
                    <a:pt x="34" y="211"/>
                  </a:cubicBezTo>
                  <a:cubicBezTo>
                    <a:pt x="32" y="210"/>
                    <a:pt x="31" y="209"/>
                    <a:pt x="29" y="208"/>
                  </a:cubicBezTo>
                  <a:cubicBezTo>
                    <a:pt x="22" y="203"/>
                    <a:pt x="16" y="198"/>
                    <a:pt x="11" y="190"/>
                  </a:cubicBezTo>
                  <a:cubicBezTo>
                    <a:pt x="8" y="186"/>
                    <a:pt x="6" y="181"/>
                    <a:pt x="4" y="176"/>
                  </a:cubicBezTo>
                  <a:cubicBezTo>
                    <a:pt x="3" y="173"/>
                    <a:pt x="2" y="170"/>
                    <a:pt x="1" y="167"/>
                  </a:cubicBezTo>
                  <a:cubicBezTo>
                    <a:pt x="0" y="160"/>
                    <a:pt x="0" y="154"/>
                    <a:pt x="0" y="147"/>
                  </a:cubicBezTo>
                  <a:cubicBezTo>
                    <a:pt x="0" y="145"/>
                    <a:pt x="1" y="143"/>
                    <a:pt x="1" y="141"/>
                  </a:cubicBezTo>
                  <a:cubicBezTo>
                    <a:pt x="3" y="133"/>
                    <a:pt x="5" y="126"/>
                    <a:pt x="9" y="119"/>
                  </a:cubicBezTo>
                  <a:cubicBezTo>
                    <a:pt x="11" y="118"/>
                    <a:pt x="12" y="116"/>
                    <a:pt x="13" y="114"/>
                  </a:cubicBezTo>
                  <a:cubicBezTo>
                    <a:pt x="21" y="103"/>
                    <a:pt x="33" y="95"/>
                    <a:pt x="47" y="90"/>
                  </a:cubicBezTo>
                  <a:cubicBezTo>
                    <a:pt x="47" y="89"/>
                    <a:pt x="47" y="87"/>
                    <a:pt x="47" y="85"/>
                  </a:cubicBezTo>
                  <a:cubicBezTo>
                    <a:pt x="48" y="76"/>
                    <a:pt x="51" y="69"/>
                    <a:pt x="56" y="61"/>
                  </a:cubicBezTo>
                  <a:cubicBezTo>
                    <a:pt x="57" y="60"/>
                    <a:pt x="58" y="59"/>
                    <a:pt x="59" y="57"/>
                  </a:cubicBezTo>
                  <a:cubicBezTo>
                    <a:pt x="64" y="50"/>
                    <a:pt x="71" y="46"/>
                    <a:pt x="79" y="42"/>
                  </a:cubicBezTo>
                  <a:cubicBezTo>
                    <a:pt x="89" y="38"/>
                    <a:pt x="99" y="37"/>
                    <a:pt x="110" y="39"/>
                  </a:cubicBezTo>
                  <a:cubicBezTo>
                    <a:pt x="114" y="29"/>
                    <a:pt x="120" y="22"/>
                    <a:pt x="12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35"/>
            <p:cNvSpPr/>
            <p:nvPr/>
          </p:nvSpPr>
          <p:spPr>
            <a:xfrm>
              <a:off x="7051320" y="1306440"/>
              <a:ext cx="1428480" cy="888480"/>
            </a:xfrm>
            <a:custGeom>
              <a:avLst/>
              <a:gdLst/>
              <a:ahLst/>
              <a:rect l="l" t="t" r="r" b="b"/>
              <a:pathLst>
                <a:path w="316" h="196">
                  <a:moveTo>
                    <a:pt x="55" y="196"/>
                  </a:moveTo>
                  <a:cubicBezTo>
                    <a:pt x="25" y="196"/>
                    <a:pt x="0" y="172"/>
                    <a:pt x="0" y="142"/>
                  </a:cubicBezTo>
                  <a:cubicBezTo>
                    <a:pt x="0" y="114"/>
                    <a:pt x="21" y="91"/>
                    <a:pt x="48" y="88"/>
                  </a:cubicBezTo>
                  <a:cubicBezTo>
                    <a:pt x="47" y="85"/>
                    <a:pt x="47" y="82"/>
                    <a:pt x="47" y="79"/>
                  </a:cubicBezTo>
                  <a:cubicBezTo>
                    <a:pt x="47" y="56"/>
                    <a:pt x="66" y="38"/>
                    <a:pt x="88" y="38"/>
                  </a:cubicBezTo>
                  <a:cubicBezTo>
                    <a:pt x="95" y="38"/>
                    <a:pt x="101" y="39"/>
                    <a:pt x="106" y="42"/>
                  </a:cubicBezTo>
                  <a:cubicBezTo>
                    <a:pt x="111" y="18"/>
                    <a:pt x="133" y="0"/>
                    <a:pt x="158" y="0"/>
                  </a:cubicBezTo>
                  <a:cubicBezTo>
                    <a:pt x="184" y="0"/>
                    <a:pt x="205" y="18"/>
                    <a:pt x="210" y="42"/>
                  </a:cubicBezTo>
                  <a:cubicBezTo>
                    <a:pt x="216" y="39"/>
                    <a:pt x="222" y="38"/>
                    <a:pt x="228" y="38"/>
                  </a:cubicBezTo>
                  <a:cubicBezTo>
                    <a:pt x="251" y="38"/>
                    <a:pt x="269" y="56"/>
                    <a:pt x="269" y="79"/>
                  </a:cubicBezTo>
                  <a:cubicBezTo>
                    <a:pt x="269" y="82"/>
                    <a:pt x="269" y="85"/>
                    <a:pt x="268" y="88"/>
                  </a:cubicBezTo>
                  <a:cubicBezTo>
                    <a:pt x="295" y="91"/>
                    <a:pt x="316" y="114"/>
                    <a:pt x="316" y="142"/>
                  </a:cubicBezTo>
                  <a:cubicBezTo>
                    <a:pt x="316" y="172"/>
                    <a:pt x="292" y="196"/>
                    <a:pt x="262" y="196"/>
                  </a:cubicBezTo>
                  <a:cubicBezTo>
                    <a:pt x="193" y="196"/>
                    <a:pt x="124" y="196"/>
                    <a:pt x="55" y="196"/>
                  </a:cubicBezTo>
                  <a:close/>
                </a:path>
              </a:pathLst>
            </a:custGeom>
            <a:solidFill>
              <a:srgbClr val="a96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36"/>
            <p:cNvSpPr/>
            <p:nvPr/>
          </p:nvSpPr>
          <p:spPr>
            <a:xfrm>
              <a:off x="7738200" y="2277360"/>
              <a:ext cx="55440" cy="1368000"/>
            </a:xfrm>
            <a:custGeom>
              <a:avLst/>
              <a:gdLst/>
              <a:ahLst/>
              <a:rect l="l" t="t" r="r" b="b"/>
              <a:pathLst>
                <a:path w="12" h="302">
                  <a:moveTo>
                    <a:pt x="12" y="0"/>
                  </a:moveTo>
                  <a:cubicBezTo>
                    <a:pt x="12" y="100"/>
                    <a:pt x="12" y="201"/>
                    <a:pt x="12" y="302"/>
                  </a:cubicBezTo>
                  <a:cubicBezTo>
                    <a:pt x="8" y="302"/>
                    <a:pt x="4" y="302"/>
                    <a:pt x="0" y="302"/>
                  </a:cubicBezTo>
                  <a:cubicBezTo>
                    <a:pt x="0" y="201"/>
                    <a:pt x="0" y="100"/>
                    <a:pt x="0" y="0"/>
                  </a:cubicBezTo>
                  <a:cubicBezTo>
                    <a:pt x="4" y="0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Oval 37"/>
            <p:cNvSpPr/>
            <p:nvPr/>
          </p:nvSpPr>
          <p:spPr>
            <a:xfrm>
              <a:off x="7476120" y="3228840"/>
              <a:ext cx="583200" cy="582840"/>
            </a:xfrm>
            <a:prstGeom prst="ellipse">
              <a:avLst/>
            </a:pr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Oval 38"/>
            <p:cNvSpPr/>
            <p:nvPr/>
          </p:nvSpPr>
          <p:spPr>
            <a:xfrm>
              <a:off x="7525800" y="3278520"/>
              <a:ext cx="479880" cy="479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Oval 39"/>
            <p:cNvSpPr/>
            <p:nvPr/>
          </p:nvSpPr>
          <p:spPr>
            <a:xfrm>
              <a:off x="7581240" y="3332160"/>
              <a:ext cx="374760" cy="376200"/>
            </a:xfrm>
            <a:prstGeom prst="ellipse">
              <a:avLst/>
            </a:prstGeom>
            <a:solidFill>
              <a:srgbClr val="a96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矩形 138"/>
            <p:cNvSpPr/>
            <p:nvPr/>
          </p:nvSpPr>
          <p:spPr>
            <a:xfrm>
              <a:off x="7387560" y="15519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4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3" name="组合 139"/>
          <p:cNvGrpSpPr/>
          <p:nvPr/>
        </p:nvGrpSpPr>
        <p:grpSpPr>
          <a:xfrm>
            <a:off x="8761320" y="2230560"/>
            <a:ext cx="1636920" cy="2616120"/>
            <a:chOff x="8761320" y="2230560"/>
            <a:chExt cx="1636920" cy="2616120"/>
          </a:xfrm>
        </p:grpSpPr>
        <p:sp>
          <p:nvSpPr>
            <p:cNvPr id="674" name="Freeform 40"/>
            <p:cNvSpPr/>
            <p:nvPr/>
          </p:nvSpPr>
          <p:spPr>
            <a:xfrm>
              <a:off x="8761320" y="2230560"/>
              <a:ext cx="1636920" cy="1101600"/>
            </a:xfrm>
            <a:custGeom>
              <a:avLst/>
              <a:gdLst/>
              <a:ahLst/>
              <a:rect l="l" t="t" r="r" b="b"/>
              <a:pathLst>
                <a:path w="362" h="243">
                  <a:moveTo>
                    <a:pt x="276" y="44"/>
                  </a:moveTo>
                  <a:cubicBezTo>
                    <a:pt x="282" y="46"/>
                    <a:pt x="282" y="46"/>
                    <a:pt x="282" y="46"/>
                  </a:cubicBezTo>
                  <a:cubicBezTo>
                    <a:pt x="289" y="51"/>
                    <a:pt x="295" y="55"/>
                    <a:pt x="301" y="62"/>
                  </a:cubicBezTo>
                  <a:cubicBezTo>
                    <a:pt x="304" y="67"/>
                    <a:pt x="304" y="67"/>
                    <a:pt x="304" y="67"/>
                  </a:cubicBezTo>
                  <a:cubicBezTo>
                    <a:pt x="310" y="75"/>
                    <a:pt x="314" y="84"/>
                    <a:pt x="315" y="94"/>
                  </a:cubicBezTo>
                  <a:cubicBezTo>
                    <a:pt x="321" y="97"/>
                    <a:pt x="321" y="97"/>
                    <a:pt x="321" y="97"/>
                  </a:cubicBezTo>
                  <a:cubicBezTo>
                    <a:pt x="329" y="102"/>
                    <a:pt x="336" y="107"/>
                    <a:pt x="343" y="114"/>
                  </a:cubicBezTo>
                  <a:cubicBezTo>
                    <a:pt x="347" y="119"/>
                    <a:pt x="347" y="119"/>
                    <a:pt x="347" y="119"/>
                  </a:cubicBezTo>
                  <a:cubicBezTo>
                    <a:pt x="353" y="127"/>
                    <a:pt x="356" y="135"/>
                    <a:pt x="359" y="144"/>
                  </a:cubicBezTo>
                  <a:cubicBezTo>
                    <a:pt x="360" y="148"/>
                    <a:pt x="361" y="151"/>
                    <a:pt x="362" y="155"/>
                  </a:cubicBezTo>
                  <a:cubicBezTo>
                    <a:pt x="362" y="161"/>
                    <a:pt x="362" y="167"/>
                    <a:pt x="362" y="173"/>
                  </a:cubicBezTo>
                  <a:cubicBezTo>
                    <a:pt x="361" y="177"/>
                    <a:pt x="361" y="181"/>
                    <a:pt x="360" y="185"/>
                  </a:cubicBezTo>
                  <a:cubicBezTo>
                    <a:pt x="358" y="191"/>
                    <a:pt x="356" y="197"/>
                    <a:pt x="353" y="202"/>
                  </a:cubicBezTo>
                  <a:cubicBezTo>
                    <a:pt x="351" y="206"/>
                    <a:pt x="349" y="209"/>
                    <a:pt x="347" y="212"/>
                  </a:cubicBezTo>
                  <a:cubicBezTo>
                    <a:pt x="343" y="217"/>
                    <a:pt x="339" y="221"/>
                    <a:pt x="334" y="225"/>
                  </a:cubicBezTo>
                  <a:cubicBezTo>
                    <a:pt x="331" y="228"/>
                    <a:pt x="328" y="230"/>
                    <a:pt x="325" y="232"/>
                  </a:cubicBezTo>
                  <a:cubicBezTo>
                    <a:pt x="319" y="235"/>
                    <a:pt x="314" y="237"/>
                    <a:pt x="308" y="239"/>
                  </a:cubicBezTo>
                  <a:cubicBezTo>
                    <a:pt x="304" y="240"/>
                    <a:pt x="300" y="241"/>
                    <a:pt x="297" y="242"/>
                  </a:cubicBezTo>
                  <a:cubicBezTo>
                    <a:pt x="293" y="243"/>
                    <a:pt x="289" y="243"/>
                    <a:pt x="285" y="243"/>
                  </a:cubicBezTo>
                  <a:cubicBezTo>
                    <a:pt x="74" y="243"/>
                    <a:pt x="74" y="243"/>
                    <a:pt x="74" y="243"/>
                  </a:cubicBezTo>
                  <a:cubicBezTo>
                    <a:pt x="70" y="243"/>
                    <a:pt x="66" y="242"/>
                    <a:pt x="62" y="241"/>
                  </a:cubicBezTo>
                  <a:cubicBezTo>
                    <a:pt x="56" y="240"/>
                    <a:pt x="50" y="238"/>
                    <a:pt x="44" y="235"/>
                  </a:cubicBezTo>
                  <a:cubicBezTo>
                    <a:pt x="41" y="234"/>
                    <a:pt x="38" y="232"/>
                    <a:pt x="34" y="230"/>
                  </a:cubicBezTo>
                  <a:cubicBezTo>
                    <a:pt x="29" y="226"/>
                    <a:pt x="25" y="222"/>
                    <a:pt x="20" y="218"/>
                  </a:cubicBezTo>
                  <a:cubicBezTo>
                    <a:pt x="18" y="215"/>
                    <a:pt x="16" y="212"/>
                    <a:pt x="14" y="209"/>
                  </a:cubicBezTo>
                  <a:cubicBezTo>
                    <a:pt x="10" y="203"/>
                    <a:pt x="7" y="198"/>
                    <a:pt x="5" y="192"/>
                  </a:cubicBezTo>
                  <a:cubicBezTo>
                    <a:pt x="4" y="188"/>
                    <a:pt x="3" y="185"/>
                    <a:pt x="2" y="181"/>
                  </a:cubicBezTo>
                  <a:cubicBezTo>
                    <a:pt x="1" y="175"/>
                    <a:pt x="0" y="168"/>
                    <a:pt x="0" y="162"/>
                  </a:cubicBezTo>
                  <a:cubicBezTo>
                    <a:pt x="1" y="158"/>
                    <a:pt x="1" y="155"/>
                    <a:pt x="2" y="151"/>
                  </a:cubicBezTo>
                  <a:cubicBezTo>
                    <a:pt x="3" y="144"/>
                    <a:pt x="5" y="138"/>
                    <a:pt x="8" y="131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17" y="117"/>
                    <a:pt x="23" y="111"/>
                    <a:pt x="30" y="105"/>
                  </a:cubicBezTo>
                  <a:cubicBezTo>
                    <a:pt x="35" y="101"/>
                    <a:pt x="39" y="98"/>
                    <a:pt x="45" y="96"/>
                  </a:cubicBezTo>
                  <a:cubicBezTo>
                    <a:pt x="48" y="94"/>
                    <a:pt x="48" y="94"/>
                    <a:pt x="48" y="94"/>
                  </a:cubicBezTo>
                  <a:cubicBezTo>
                    <a:pt x="49" y="83"/>
                    <a:pt x="53" y="73"/>
                    <a:pt x="60" y="64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70" y="53"/>
                    <a:pt x="76" y="49"/>
                    <a:pt x="83" y="45"/>
                  </a:cubicBezTo>
                  <a:cubicBezTo>
                    <a:pt x="89" y="42"/>
                    <a:pt x="89" y="42"/>
                    <a:pt x="89" y="42"/>
                  </a:cubicBezTo>
                  <a:cubicBezTo>
                    <a:pt x="98" y="39"/>
                    <a:pt x="106" y="38"/>
                    <a:pt x="115" y="39"/>
                  </a:cubicBezTo>
                  <a:cubicBezTo>
                    <a:pt x="120" y="31"/>
                    <a:pt x="126" y="24"/>
                    <a:pt x="133" y="18"/>
                  </a:cubicBezTo>
                  <a:cubicBezTo>
                    <a:pt x="138" y="14"/>
                    <a:pt x="138" y="14"/>
                    <a:pt x="138" y="14"/>
                  </a:cubicBezTo>
                  <a:cubicBezTo>
                    <a:pt x="146" y="9"/>
                    <a:pt x="153" y="6"/>
                    <a:pt x="162" y="3"/>
                  </a:cubicBezTo>
                  <a:cubicBezTo>
                    <a:pt x="168" y="2"/>
                    <a:pt x="168" y="2"/>
                    <a:pt x="168" y="2"/>
                  </a:cubicBezTo>
                  <a:cubicBezTo>
                    <a:pt x="177" y="0"/>
                    <a:pt x="185" y="0"/>
                    <a:pt x="195" y="2"/>
                  </a:cubicBezTo>
                  <a:cubicBezTo>
                    <a:pt x="201" y="3"/>
                    <a:pt x="201" y="3"/>
                    <a:pt x="201" y="3"/>
                  </a:cubicBezTo>
                  <a:cubicBezTo>
                    <a:pt x="210" y="6"/>
                    <a:pt x="217" y="9"/>
                    <a:pt x="224" y="14"/>
                  </a:cubicBezTo>
                  <a:cubicBezTo>
                    <a:pt x="229" y="18"/>
                    <a:pt x="229" y="18"/>
                    <a:pt x="229" y="18"/>
                  </a:cubicBezTo>
                  <a:cubicBezTo>
                    <a:pt x="237" y="24"/>
                    <a:pt x="242" y="31"/>
                    <a:pt x="247" y="39"/>
                  </a:cubicBezTo>
                  <a:cubicBezTo>
                    <a:pt x="257" y="38"/>
                    <a:pt x="267" y="40"/>
                    <a:pt x="276" y="44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41"/>
            <p:cNvSpPr/>
            <p:nvPr/>
          </p:nvSpPr>
          <p:spPr>
            <a:xfrm>
              <a:off x="8814600" y="2286000"/>
              <a:ext cx="1533960" cy="992520"/>
            </a:xfrm>
            <a:custGeom>
              <a:avLst/>
              <a:gdLst/>
              <a:ahLst/>
              <a:rect l="l" t="t" r="r" b="b"/>
              <a:pathLst>
                <a:path w="339" h="219">
                  <a:moveTo>
                    <a:pt x="128" y="15"/>
                  </a:moveTo>
                  <a:cubicBezTo>
                    <a:pt x="133" y="12"/>
                    <a:pt x="133" y="12"/>
                    <a:pt x="133" y="12"/>
                  </a:cubicBezTo>
                  <a:cubicBezTo>
                    <a:pt x="141" y="6"/>
                    <a:pt x="149" y="3"/>
                    <a:pt x="158" y="1"/>
                  </a:cubicBezTo>
                  <a:cubicBezTo>
                    <a:pt x="164" y="1"/>
                    <a:pt x="164" y="1"/>
                    <a:pt x="164" y="1"/>
                  </a:cubicBezTo>
                  <a:cubicBezTo>
                    <a:pt x="173" y="0"/>
                    <a:pt x="182" y="1"/>
                    <a:pt x="191" y="4"/>
                  </a:cubicBezTo>
                  <a:cubicBezTo>
                    <a:pt x="196" y="6"/>
                    <a:pt x="196" y="6"/>
                    <a:pt x="196" y="6"/>
                  </a:cubicBezTo>
                  <a:cubicBezTo>
                    <a:pt x="211" y="13"/>
                    <a:pt x="222" y="24"/>
                    <a:pt x="229" y="39"/>
                  </a:cubicBezTo>
                  <a:cubicBezTo>
                    <a:pt x="239" y="37"/>
                    <a:pt x="250" y="38"/>
                    <a:pt x="260" y="42"/>
                  </a:cubicBezTo>
                  <a:cubicBezTo>
                    <a:pt x="264" y="44"/>
                    <a:pt x="264" y="44"/>
                    <a:pt x="264" y="44"/>
                  </a:cubicBezTo>
                  <a:cubicBezTo>
                    <a:pt x="272" y="49"/>
                    <a:pt x="278" y="54"/>
                    <a:pt x="283" y="61"/>
                  </a:cubicBezTo>
                  <a:cubicBezTo>
                    <a:pt x="286" y="66"/>
                    <a:pt x="286" y="66"/>
                    <a:pt x="286" y="66"/>
                  </a:cubicBezTo>
                  <a:cubicBezTo>
                    <a:pt x="290" y="74"/>
                    <a:pt x="292" y="81"/>
                    <a:pt x="292" y="90"/>
                  </a:cubicBezTo>
                  <a:cubicBezTo>
                    <a:pt x="304" y="94"/>
                    <a:pt x="314" y="101"/>
                    <a:pt x="322" y="110"/>
                  </a:cubicBezTo>
                  <a:cubicBezTo>
                    <a:pt x="326" y="114"/>
                    <a:pt x="326" y="114"/>
                    <a:pt x="326" y="114"/>
                  </a:cubicBezTo>
                  <a:cubicBezTo>
                    <a:pt x="331" y="121"/>
                    <a:pt x="334" y="127"/>
                    <a:pt x="336" y="135"/>
                  </a:cubicBezTo>
                  <a:cubicBezTo>
                    <a:pt x="338" y="141"/>
                    <a:pt x="338" y="141"/>
                    <a:pt x="338" y="141"/>
                  </a:cubicBezTo>
                  <a:cubicBezTo>
                    <a:pt x="339" y="150"/>
                    <a:pt x="339" y="158"/>
                    <a:pt x="337" y="167"/>
                  </a:cubicBezTo>
                  <a:cubicBezTo>
                    <a:pt x="336" y="173"/>
                    <a:pt x="336" y="173"/>
                    <a:pt x="336" y="173"/>
                  </a:cubicBezTo>
                  <a:cubicBezTo>
                    <a:pt x="333" y="182"/>
                    <a:pt x="329" y="188"/>
                    <a:pt x="324" y="195"/>
                  </a:cubicBezTo>
                  <a:cubicBezTo>
                    <a:pt x="319" y="200"/>
                    <a:pt x="319" y="200"/>
                    <a:pt x="319" y="200"/>
                  </a:cubicBezTo>
                  <a:cubicBezTo>
                    <a:pt x="313" y="206"/>
                    <a:pt x="307" y="211"/>
                    <a:pt x="298" y="214"/>
                  </a:cubicBezTo>
                  <a:cubicBezTo>
                    <a:pt x="293" y="216"/>
                    <a:pt x="288" y="218"/>
                    <a:pt x="283" y="219"/>
                  </a:cubicBezTo>
                  <a:cubicBezTo>
                    <a:pt x="280" y="219"/>
                    <a:pt x="276" y="219"/>
                    <a:pt x="273" y="219"/>
                  </a:cubicBezTo>
                  <a:cubicBezTo>
                    <a:pt x="62" y="219"/>
                    <a:pt x="62" y="219"/>
                    <a:pt x="62" y="219"/>
                  </a:cubicBezTo>
                  <a:cubicBezTo>
                    <a:pt x="59" y="219"/>
                    <a:pt x="56" y="219"/>
                    <a:pt x="52" y="218"/>
                  </a:cubicBezTo>
                  <a:cubicBezTo>
                    <a:pt x="46" y="217"/>
                    <a:pt x="40" y="214"/>
                    <a:pt x="34" y="211"/>
                  </a:cubicBezTo>
                  <a:cubicBezTo>
                    <a:pt x="29" y="208"/>
                    <a:pt x="29" y="208"/>
                    <a:pt x="29" y="208"/>
                  </a:cubicBezTo>
                  <a:cubicBezTo>
                    <a:pt x="22" y="203"/>
                    <a:pt x="16" y="198"/>
                    <a:pt x="11" y="190"/>
                  </a:cubicBezTo>
                  <a:cubicBezTo>
                    <a:pt x="8" y="186"/>
                    <a:pt x="6" y="181"/>
                    <a:pt x="4" y="176"/>
                  </a:cubicBezTo>
                  <a:cubicBezTo>
                    <a:pt x="3" y="173"/>
                    <a:pt x="2" y="170"/>
                    <a:pt x="1" y="167"/>
                  </a:cubicBezTo>
                  <a:cubicBezTo>
                    <a:pt x="0" y="160"/>
                    <a:pt x="0" y="154"/>
                    <a:pt x="0" y="147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3" y="133"/>
                    <a:pt x="5" y="126"/>
                    <a:pt x="10" y="119"/>
                  </a:cubicBezTo>
                  <a:cubicBezTo>
                    <a:pt x="13" y="114"/>
                    <a:pt x="13" y="114"/>
                    <a:pt x="13" y="114"/>
                  </a:cubicBezTo>
                  <a:cubicBezTo>
                    <a:pt x="22" y="103"/>
                    <a:pt x="33" y="94"/>
                    <a:pt x="47" y="90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76"/>
                    <a:pt x="51" y="69"/>
                    <a:pt x="56" y="61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65" y="50"/>
                    <a:pt x="71" y="46"/>
                    <a:pt x="79" y="42"/>
                  </a:cubicBezTo>
                  <a:cubicBezTo>
                    <a:pt x="89" y="38"/>
                    <a:pt x="99" y="37"/>
                    <a:pt x="110" y="39"/>
                  </a:cubicBezTo>
                  <a:cubicBezTo>
                    <a:pt x="114" y="29"/>
                    <a:pt x="121" y="22"/>
                    <a:pt x="12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42"/>
            <p:cNvSpPr/>
            <p:nvPr/>
          </p:nvSpPr>
          <p:spPr>
            <a:xfrm>
              <a:off x="8864280" y="2340000"/>
              <a:ext cx="1430640" cy="888840"/>
            </a:xfrm>
            <a:custGeom>
              <a:avLst/>
              <a:gdLst/>
              <a:ahLst/>
              <a:rect l="l" t="t" r="r" b="b"/>
              <a:pathLst>
                <a:path w="316" h="196">
                  <a:moveTo>
                    <a:pt x="55" y="196"/>
                  </a:moveTo>
                  <a:cubicBezTo>
                    <a:pt x="25" y="196"/>
                    <a:pt x="0" y="171"/>
                    <a:pt x="0" y="141"/>
                  </a:cubicBezTo>
                  <a:cubicBezTo>
                    <a:pt x="0" y="114"/>
                    <a:pt x="21" y="91"/>
                    <a:pt x="48" y="88"/>
                  </a:cubicBezTo>
                  <a:cubicBezTo>
                    <a:pt x="47" y="85"/>
                    <a:pt x="47" y="82"/>
                    <a:pt x="47" y="79"/>
                  </a:cubicBezTo>
                  <a:cubicBezTo>
                    <a:pt x="47" y="56"/>
                    <a:pt x="66" y="37"/>
                    <a:pt x="88" y="37"/>
                  </a:cubicBezTo>
                  <a:cubicBezTo>
                    <a:pt x="95" y="37"/>
                    <a:pt x="101" y="39"/>
                    <a:pt x="106" y="42"/>
                  </a:cubicBezTo>
                  <a:cubicBezTo>
                    <a:pt x="112" y="18"/>
                    <a:pt x="133" y="0"/>
                    <a:pt x="158" y="0"/>
                  </a:cubicBezTo>
                  <a:cubicBezTo>
                    <a:pt x="184" y="0"/>
                    <a:pt x="205" y="18"/>
                    <a:pt x="210" y="42"/>
                  </a:cubicBezTo>
                  <a:cubicBezTo>
                    <a:pt x="216" y="39"/>
                    <a:pt x="222" y="37"/>
                    <a:pt x="228" y="37"/>
                  </a:cubicBezTo>
                  <a:cubicBezTo>
                    <a:pt x="251" y="37"/>
                    <a:pt x="269" y="56"/>
                    <a:pt x="269" y="79"/>
                  </a:cubicBezTo>
                  <a:cubicBezTo>
                    <a:pt x="269" y="82"/>
                    <a:pt x="269" y="85"/>
                    <a:pt x="269" y="88"/>
                  </a:cubicBezTo>
                  <a:cubicBezTo>
                    <a:pt x="295" y="91"/>
                    <a:pt x="316" y="114"/>
                    <a:pt x="316" y="141"/>
                  </a:cubicBezTo>
                  <a:cubicBezTo>
                    <a:pt x="316" y="171"/>
                    <a:pt x="292" y="196"/>
                    <a:pt x="262" y="196"/>
                  </a:cubicBezTo>
                  <a:cubicBezTo>
                    <a:pt x="55" y="196"/>
                    <a:pt x="55" y="196"/>
                    <a:pt x="55" y="196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43"/>
            <p:cNvSpPr/>
            <p:nvPr/>
          </p:nvSpPr>
          <p:spPr>
            <a:xfrm>
              <a:off x="9552960" y="3309120"/>
              <a:ext cx="53280" cy="1310040"/>
            </a:xfrm>
            <a:custGeom>
              <a:avLst/>
              <a:gdLst/>
              <a:ahLst/>
              <a:rect l="l" t="t" r="r" b="b"/>
              <a:pathLst>
                <a:path w="28" h="685">
                  <a:moveTo>
                    <a:pt x="28" y="0"/>
                  </a:moveTo>
                  <a:lnTo>
                    <a:pt x="28" y="685"/>
                  </a:lnTo>
                  <a:lnTo>
                    <a:pt x="0" y="685"/>
                  </a:lnTo>
                  <a:lnTo>
                    <a:pt x="2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Oval 44"/>
            <p:cNvSpPr/>
            <p:nvPr/>
          </p:nvSpPr>
          <p:spPr>
            <a:xfrm>
              <a:off x="9290880" y="4261680"/>
              <a:ext cx="583200" cy="585000"/>
            </a:xfrm>
            <a:prstGeom prst="ellipse">
              <a:avLst/>
            </a:pr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Oval 45"/>
            <p:cNvSpPr/>
            <p:nvPr/>
          </p:nvSpPr>
          <p:spPr>
            <a:xfrm>
              <a:off x="9340560" y="4311360"/>
              <a:ext cx="479880" cy="47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Oval 46"/>
            <p:cNvSpPr/>
            <p:nvPr/>
          </p:nvSpPr>
          <p:spPr>
            <a:xfrm>
              <a:off x="9394920" y="4367520"/>
              <a:ext cx="376200" cy="374400"/>
            </a:xfrm>
            <a:prstGeom prst="ellipse">
              <a:avLst/>
            </a:pr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矩形 147"/>
            <p:cNvSpPr/>
            <p:nvPr/>
          </p:nvSpPr>
          <p:spPr>
            <a:xfrm>
              <a:off x="9182520" y="26071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2" name="文本框 77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组合 81" descr=""/>
          <p:cNvPicPr/>
          <p:nvPr/>
        </p:nvPicPr>
        <p:blipFill>
          <a:blip r:embed="rId1"/>
          <a:stretch/>
        </p:blipFill>
        <p:spPr>
          <a:xfrm>
            <a:off x="974880" y="1401840"/>
            <a:ext cx="5029200" cy="4157640"/>
          </a:xfrm>
          <a:prstGeom prst="rect">
            <a:avLst/>
          </a:prstGeom>
          <a:ln w="0">
            <a:noFill/>
          </a:ln>
        </p:spPr>
      </p:pic>
      <p:sp>
        <p:nvSpPr>
          <p:cNvPr id="684" name="矩形 40"/>
          <p:cNvSpPr/>
          <p:nvPr/>
        </p:nvSpPr>
        <p:spPr>
          <a:xfrm>
            <a:off x="6767640" y="3179880"/>
            <a:ext cx="44323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Supporters say that the ease of use of presentation software can save a lot of time for people who otherwise would have used other types of visual aid—hand-drawn or mechanically typeset slides, blackboards or whiteboard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or overhead projections. Ease of use also encourages those who otherwise would not have used visual aids, or would not have given a presentation at all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the difference in needs and desires of presenters and audiences has become more notice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5" name="组合 41"/>
          <p:cNvGrpSpPr/>
          <p:nvPr/>
        </p:nvGrpSpPr>
        <p:grpSpPr>
          <a:xfrm>
            <a:off x="6815160" y="1752480"/>
            <a:ext cx="4384800" cy="1243080"/>
            <a:chOff x="6815160" y="1752480"/>
            <a:chExt cx="4384800" cy="1243080"/>
          </a:xfrm>
        </p:grpSpPr>
        <p:sp>
          <p:nvSpPr>
            <p:cNvPr id="686" name="文本框 39"/>
            <p:cNvSpPr/>
            <p:nvPr/>
          </p:nvSpPr>
          <p:spPr>
            <a:xfrm>
              <a:off x="6960240" y="247500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Calibri"/>
                </a:rPr>
                <a:t>23,45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文本框 62"/>
            <p:cNvSpPr/>
            <p:nvPr/>
          </p:nvSpPr>
          <p:spPr>
            <a:xfrm>
              <a:off x="8546040" y="247500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Calibri"/>
                </a:rPr>
                <a:t>6,45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文本框 118"/>
            <p:cNvSpPr/>
            <p:nvPr/>
          </p:nvSpPr>
          <p:spPr>
            <a:xfrm>
              <a:off x="9883440" y="247500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Calibri"/>
                </a:rPr>
                <a:t>83,45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直接连接符 119"/>
            <p:cNvSpPr/>
            <p:nvPr/>
          </p:nvSpPr>
          <p:spPr>
            <a:xfrm>
              <a:off x="6815160" y="1752480"/>
              <a:ext cx="0" cy="1222560"/>
            </a:xfrm>
            <a:prstGeom prst="line">
              <a:avLst/>
            </a:prstGeom>
            <a:ln w="6480">
              <a:solidFill>
                <a:srgbClr val="0940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直接连接符 148"/>
            <p:cNvSpPr/>
            <p:nvPr/>
          </p:nvSpPr>
          <p:spPr>
            <a:xfrm>
              <a:off x="8277120" y="1752480"/>
              <a:ext cx="0" cy="1222560"/>
            </a:xfrm>
            <a:prstGeom prst="line">
              <a:avLst/>
            </a:prstGeom>
            <a:ln w="6480">
              <a:solidFill>
                <a:srgbClr val="0940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直接连接符 149"/>
            <p:cNvSpPr/>
            <p:nvPr/>
          </p:nvSpPr>
          <p:spPr>
            <a:xfrm>
              <a:off x="9738000" y="1752480"/>
              <a:ext cx="0" cy="1222560"/>
            </a:xfrm>
            <a:prstGeom prst="line">
              <a:avLst/>
            </a:prstGeom>
            <a:ln w="6480">
              <a:solidFill>
                <a:srgbClr val="0940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直接连接符 150"/>
            <p:cNvSpPr/>
            <p:nvPr/>
          </p:nvSpPr>
          <p:spPr>
            <a:xfrm>
              <a:off x="11199960" y="1752480"/>
              <a:ext cx="0" cy="1222560"/>
            </a:xfrm>
            <a:prstGeom prst="line">
              <a:avLst/>
            </a:prstGeom>
            <a:ln w="6480">
              <a:solidFill>
                <a:srgbClr val="0940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24"/>
            <p:cNvSpPr/>
            <p:nvPr/>
          </p:nvSpPr>
          <p:spPr>
            <a:xfrm>
              <a:off x="7267320" y="1898280"/>
              <a:ext cx="556920" cy="576360"/>
            </a:xfrm>
            <a:custGeom>
              <a:avLst/>
              <a:gdLst/>
              <a:ahLst/>
              <a:rect l="l" t="t" r="r" b="b"/>
              <a:pathLst>
                <a:path w="89" h="92">
                  <a:moveTo>
                    <a:pt x="45" y="0"/>
                  </a:moveTo>
                  <a:cubicBezTo>
                    <a:pt x="40" y="0"/>
                    <a:pt x="35" y="5"/>
                    <a:pt x="35" y="11"/>
                  </a:cubicBezTo>
                  <a:cubicBezTo>
                    <a:pt x="35" y="16"/>
                    <a:pt x="40" y="21"/>
                    <a:pt x="45" y="21"/>
                  </a:cubicBezTo>
                  <a:cubicBezTo>
                    <a:pt x="51" y="21"/>
                    <a:pt x="56" y="16"/>
                    <a:pt x="56" y="11"/>
                  </a:cubicBezTo>
                  <a:cubicBezTo>
                    <a:pt x="56" y="5"/>
                    <a:pt x="51" y="0"/>
                    <a:pt x="45" y="0"/>
                  </a:cubicBezTo>
                  <a:close/>
                  <a:moveTo>
                    <a:pt x="70" y="10"/>
                  </a:moveTo>
                  <a:cubicBezTo>
                    <a:pt x="65" y="10"/>
                    <a:pt x="61" y="14"/>
                    <a:pt x="61" y="18"/>
                  </a:cubicBezTo>
                  <a:cubicBezTo>
                    <a:pt x="61" y="23"/>
                    <a:pt x="65" y="27"/>
                    <a:pt x="70" y="27"/>
                  </a:cubicBezTo>
                  <a:cubicBezTo>
                    <a:pt x="74" y="27"/>
                    <a:pt x="78" y="23"/>
                    <a:pt x="78" y="18"/>
                  </a:cubicBezTo>
                  <a:cubicBezTo>
                    <a:pt x="78" y="14"/>
                    <a:pt x="74" y="10"/>
                    <a:pt x="70" y="10"/>
                  </a:cubicBezTo>
                  <a:close/>
                  <a:moveTo>
                    <a:pt x="30" y="52"/>
                  </a:moveTo>
                  <a:cubicBezTo>
                    <a:pt x="30" y="55"/>
                    <a:pt x="30" y="55"/>
                    <a:pt x="30" y="55"/>
                  </a:cubicBezTo>
                  <a:cubicBezTo>
                    <a:pt x="30" y="55"/>
                    <a:pt x="30" y="55"/>
                    <a:pt x="30" y="55"/>
                  </a:cubicBezTo>
                  <a:cubicBezTo>
                    <a:pt x="32" y="85"/>
                    <a:pt x="32" y="85"/>
                    <a:pt x="32" y="85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19" y="59"/>
                    <a:pt x="19" y="59"/>
                    <a:pt x="19" y="59"/>
                  </a:cubicBezTo>
                  <a:cubicBezTo>
                    <a:pt x="17" y="85"/>
                    <a:pt x="17" y="85"/>
                    <a:pt x="17" y="85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1" y="55"/>
                    <a:pt x="11" y="55"/>
                    <a:pt x="11" y="55"/>
                  </a:cubicBezTo>
                  <a:cubicBezTo>
                    <a:pt x="10" y="43"/>
                    <a:pt x="10" y="43"/>
                    <a:pt x="10" y="43"/>
                  </a:cubicBezTo>
                  <a:cubicBezTo>
                    <a:pt x="4" y="53"/>
                    <a:pt x="4" y="53"/>
                    <a:pt x="4" y="53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0" y="28"/>
                    <a:pt x="10" y="28"/>
                    <a:pt x="10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1" y="28"/>
                    <a:pt x="31" y="28"/>
                    <a:pt x="31" y="28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4" y="27"/>
                    <a:pt x="44" y="27"/>
                    <a:pt x="44" y="27"/>
                  </a:cubicBezTo>
                  <a:cubicBezTo>
                    <a:pt x="41" y="44"/>
                    <a:pt x="41" y="44"/>
                    <a:pt x="41" y="44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9" y="44"/>
                    <a:pt x="49" y="44"/>
                    <a:pt x="49" y="44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7" y="24"/>
                    <a:pt x="47" y="24"/>
                    <a:pt x="47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9" y="28"/>
                    <a:pt x="59" y="28"/>
                    <a:pt x="59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70" y="35"/>
                    <a:pt x="70" y="35"/>
                    <a:pt x="70" y="35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80" y="28"/>
                    <a:pt x="80" y="28"/>
                    <a:pt x="80" y="28"/>
                  </a:cubicBezTo>
                  <a:cubicBezTo>
                    <a:pt x="89" y="48"/>
                    <a:pt x="89" y="48"/>
                    <a:pt x="89" y="48"/>
                  </a:cubicBezTo>
                  <a:cubicBezTo>
                    <a:pt x="85" y="51"/>
                    <a:pt x="85" y="51"/>
                    <a:pt x="85" y="51"/>
                  </a:cubicBezTo>
                  <a:cubicBezTo>
                    <a:pt x="79" y="41"/>
                    <a:pt x="79" y="41"/>
                    <a:pt x="79" y="41"/>
                  </a:cubicBezTo>
                  <a:cubicBezTo>
                    <a:pt x="79" y="55"/>
                    <a:pt x="79" y="55"/>
                    <a:pt x="79" y="55"/>
                  </a:cubicBezTo>
                  <a:cubicBezTo>
                    <a:pt x="79" y="55"/>
                    <a:pt x="79" y="55"/>
                    <a:pt x="79" y="55"/>
                  </a:cubicBezTo>
                  <a:cubicBezTo>
                    <a:pt x="80" y="85"/>
                    <a:pt x="80" y="85"/>
                    <a:pt x="80" y="85"/>
                  </a:cubicBezTo>
                  <a:cubicBezTo>
                    <a:pt x="72" y="85"/>
                    <a:pt x="72" y="85"/>
                    <a:pt x="72" y="85"/>
                  </a:cubicBezTo>
                  <a:cubicBezTo>
                    <a:pt x="71" y="59"/>
                    <a:pt x="71" y="59"/>
                    <a:pt x="71" y="59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66" y="85"/>
                    <a:pt x="66" y="85"/>
                    <a:pt x="66" y="85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60" y="55"/>
                    <a:pt x="60" y="55"/>
                    <a:pt x="60" y="55"/>
                  </a:cubicBezTo>
                  <a:cubicBezTo>
                    <a:pt x="60" y="53"/>
                    <a:pt x="60" y="53"/>
                    <a:pt x="60" y="53"/>
                  </a:cubicBezTo>
                  <a:cubicBezTo>
                    <a:pt x="57" y="55"/>
                    <a:pt x="57" y="55"/>
                    <a:pt x="57" y="55"/>
                  </a:cubicBezTo>
                  <a:cubicBezTo>
                    <a:pt x="58" y="92"/>
                    <a:pt x="58" y="92"/>
                    <a:pt x="58" y="92"/>
                  </a:cubicBezTo>
                  <a:cubicBezTo>
                    <a:pt x="49" y="92"/>
                    <a:pt x="49" y="92"/>
                    <a:pt x="49" y="92"/>
                  </a:cubicBezTo>
                  <a:cubicBezTo>
                    <a:pt x="47" y="61"/>
                    <a:pt x="47" y="61"/>
                    <a:pt x="47" y="61"/>
                  </a:cubicBezTo>
                  <a:cubicBezTo>
                    <a:pt x="43" y="61"/>
                    <a:pt x="43" y="61"/>
                    <a:pt x="43" y="61"/>
                  </a:cubicBezTo>
                  <a:cubicBezTo>
                    <a:pt x="42" y="92"/>
                    <a:pt x="42" y="92"/>
                    <a:pt x="42" y="92"/>
                  </a:cubicBezTo>
                  <a:cubicBezTo>
                    <a:pt x="32" y="92"/>
                    <a:pt x="32" y="92"/>
                    <a:pt x="32" y="92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0" y="52"/>
                    <a:pt x="30" y="52"/>
                    <a:pt x="30" y="52"/>
                  </a:cubicBezTo>
                  <a:close/>
                  <a:moveTo>
                    <a:pt x="21" y="10"/>
                  </a:moveTo>
                  <a:cubicBezTo>
                    <a:pt x="16" y="10"/>
                    <a:pt x="13" y="14"/>
                    <a:pt x="13" y="18"/>
                  </a:cubicBezTo>
                  <a:cubicBezTo>
                    <a:pt x="13" y="23"/>
                    <a:pt x="16" y="27"/>
                    <a:pt x="21" y="27"/>
                  </a:cubicBezTo>
                  <a:cubicBezTo>
                    <a:pt x="25" y="27"/>
                    <a:pt x="29" y="23"/>
                    <a:pt x="29" y="18"/>
                  </a:cubicBezTo>
                  <a:cubicBezTo>
                    <a:pt x="29" y="14"/>
                    <a:pt x="25" y="10"/>
                    <a:pt x="21" y="10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27"/>
            <p:cNvSpPr/>
            <p:nvPr/>
          </p:nvSpPr>
          <p:spPr>
            <a:xfrm>
              <a:off x="8647200" y="1920600"/>
              <a:ext cx="720720" cy="554040"/>
            </a:xfrm>
            <a:custGeom>
              <a:avLst/>
              <a:gdLst/>
              <a:ahLst/>
              <a:rect l="l" t="t" r="r" b="b"/>
              <a:pathLst>
                <a:path w="97" h="75">
                  <a:moveTo>
                    <a:pt x="33" y="75"/>
                  </a:moveTo>
                  <a:cubicBezTo>
                    <a:pt x="37" y="75"/>
                    <a:pt x="40" y="75"/>
                    <a:pt x="44" y="75"/>
                  </a:cubicBezTo>
                  <a:cubicBezTo>
                    <a:pt x="45" y="75"/>
                    <a:pt x="47" y="74"/>
                    <a:pt x="47" y="73"/>
                  </a:cubicBezTo>
                  <a:cubicBezTo>
                    <a:pt x="47" y="49"/>
                    <a:pt x="47" y="49"/>
                    <a:pt x="47" y="49"/>
                  </a:cubicBezTo>
                  <a:cubicBezTo>
                    <a:pt x="39" y="45"/>
                    <a:pt x="39" y="45"/>
                    <a:pt x="39" y="45"/>
                  </a:cubicBezTo>
                  <a:cubicBezTo>
                    <a:pt x="30" y="50"/>
                    <a:pt x="30" y="50"/>
                    <a:pt x="30" y="50"/>
                  </a:cubicBezTo>
                  <a:cubicBezTo>
                    <a:pt x="30" y="73"/>
                    <a:pt x="30" y="73"/>
                    <a:pt x="30" y="73"/>
                  </a:cubicBezTo>
                  <a:cubicBezTo>
                    <a:pt x="30" y="74"/>
                    <a:pt x="31" y="75"/>
                    <a:pt x="33" y="75"/>
                  </a:cubicBezTo>
                  <a:close/>
                  <a:moveTo>
                    <a:pt x="0" y="49"/>
                  </a:moveTo>
                  <a:cubicBezTo>
                    <a:pt x="37" y="28"/>
                    <a:pt x="37" y="28"/>
                    <a:pt x="37" y="28"/>
                  </a:cubicBezTo>
                  <a:cubicBezTo>
                    <a:pt x="39" y="26"/>
                    <a:pt x="39" y="26"/>
                    <a:pt x="39" y="26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81" y="9"/>
                    <a:pt x="81" y="9"/>
                    <a:pt x="81" y="9"/>
                  </a:cubicBezTo>
                  <a:cubicBezTo>
                    <a:pt x="77" y="4"/>
                    <a:pt x="77" y="4"/>
                    <a:pt x="77" y="4"/>
                  </a:cubicBezTo>
                  <a:cubicBezTo>
                    <a:pt x="87" y="2"/>
                    <a:pt x="87" y="2"/>
                    <a:pt x="87" y="2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4" y="10"/>
                    <a:pt x="94" y="10"/>
                    <a:pt x="94" y="10"/>
                  </a:cubicBezTo>
                  <a:cubicBezTo>
                    <a:pt x="91" y="19"/>
                    <a:pt x="91" y="19"/>
                    <a:pt x="91" y="19"/>
                  </a:cubicBezTo>
                  <a:cubicBezTo>
                    <a:pt x="87" y="15"/>
                    <a:pt x="87" y="15"/>
                    <a:pt x="87" y="15"/>
                  </a:cubicBezTo>
                  <a:cubicBezTo>
                    <a:pt x="55" y="42"/>
                    <a:pt x="55" y="42"/>
                    <a:pt x="55" y="42"/>
                  </a:cubicBezTo>
                  <a:cubicBezTo>
                    <a:pt x="53" y="44"/>
                    <a:pt x="53" y="44"/>
                    <a:pt x="53" y="44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39" y="36"/>
                    <a:pt x="39" y="36"/>
                    <a:pt x="39" y="36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0" y="49"/>
                    <a:pt x="0" y="49"/>
                    <a:pt x="0" y="49"/>
                  </a:cubicBezTo>
                  <a:close/>
                  <a:moveTo>
                    <a:pt x="10" y="75"/>
                  </a:moveTo>
                  <a:cubicBezTo>
                    <a:pt x="21" y="75"/>
                    <a:pt x="21" y="75"/>
                    <a:pt x="21" y="75"/>
                  </a:cubicBezTo>
                  <a:cubicBezTo>
                    <a:pt x="22" y="75"/>
                    <a:pt x="23" y="74"/>
                    <a:pt x="23" y="73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7" y="64"/>
                    <a:pt x="7" y="64"/>
                    <a:pt x="7" y="64"/>
                  </a:cubicBezTo>
                  <a:cubicBezTo>
                    <a:pt x="7" y="73"/>
                    <a:pt x="7" y="73"/>
                    <a:pt x="7" y="73"/>
                  </a:cubicBezTo>
                  <a:cubicBezTo>
                    <a:pt x="7" y="74"/>
                    <a:pt x="8" y="75"/>
                    <a:pt x="10" y="75"/>
                  </a:cubicBezTo>
                  <a:close/>
                  <a:moveTo>
                    <a:pt x="56" y="75"/>
                  </a:moveTo>
                  <a:cubicBezTo>
                    <a:pt x="60" y="75"/>
                    <a:pt x="63" y="75"/>
                    <a:pt x="67" y="75"/>
                  </a:cubicBezTo>
                  <a:cubicBezTo>
                    <a:pt x="69" y="75"/>
                    <a:pt x="70" y="74"/>
                    <a:pt x="70" y="73"/>
                  </a:cubicBezTo>
                  <a:cubicBezTo>
                    <a:pt x="70" y="62"/>
                    <a:pt x="70" y="50"/>
                    <a:pt x="70" y="39"/>
                  </a:cubicBezTo>
                  <a:cubicBezTo>
                    <a:pt x="70" y="39"/>
                    <a:pt x="70" y="39"/>
                    <a:pt x="70" y="39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73"/>
                    <a:pt x="53" y="73"/>
                    <a:pt x="53" y="73"/>
                  </a:cubicBezTo>
                  <a:cubicBezTo>
                    <a:pt x="53" y="74"/>
                    <a:pt x="55" y="75"/>
                    <a:pt x="56" y="75"/>
                  </a:cubicBezTo>
                  <a:close/>
                  <a:moveTo>
                    <a:pt x="79" y="75"/>
                  </a:moveTo>
                  <a:cubicBezTo>
                    <a:pt x="90" y="75"/>
                    <a:pt x="90" y="75"/>
                    <a:pt x="90" y="75"/>
                  </a:cubicBezTo>
                  <a:cubicBezTo>
                    <a:pt x="92" y="75"/>
                    <a:pt x="93" y="74"/>
                    <a:pt x="93" y="73"/>
                  </a:cubicBezTo>
                  <a:cubicBezTo>
                    <a:pt x="93" y="32"/>
                    <a:pt x="93" y="32"/>
                    <a:pt x="93" y="32"/>
                  </a:cubicBezTo>
                  <a:cubicBezTo>
                    <a:pt x="86" y="24"/>
                    <a:pt x="86" y="24"/>
                    <a:pt x="86" y="24"/>
                  </a:cubicBezTo>
                  <a:cubicBezTo>
                    <a:pt x="77" y="33"/>
                    <a:pt x="77" y="33"/>
                    <a:pt x="77" y="33"/>
                  </a:cubicBezTo>
                  <a:cubicBezTo>
                    <a:pt x="77" y="73"/>
                    <a:pt x="77" y="73"/>
                    <a:pt x="77" y="73"/>
                  </a:cubicBezTo>
                  <a:cubicBezTo>
                    <a:pt x="77" y="74"/>
                    <a:pt x="78" y="75"/>
                    <a:pt x="79" y="75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10206360" y="1898280"/>
              <a:ext cx="453960" cy="576360"/>
            </a:xfrm>
            <a:custGeom>
              <a:avLst/>
              <a:gdLst/>
              <a:ahLst/>
              <a:rect l="l" t="t" r="r" b="b"/>
              <a:pathLst>
                <a:path w="77" h="98">
                  <a:moveTo>
                    <a:pt x="22" y="33"/>
                  </a:moveTo>
                  <a:cubicBezTo>
                    <a:pt x="11" y="49"/>
                    <a:pt x="4" y="66"/>
                    <a:pt x="0" y="85"/>
                  </a:cubicBezTo>
                  <a:cubicBezTo>
                    <a:pt x="1" y="91"/>
                    <a:pt x="5" y="96"/>
                    <a:pt x="11" y="98"/>
                  </a:cubicBezTo>
                  <a:cubicBezTo>
                    <a:pt x="29" y="98"/>
                    <a:pt x="29" y="98"/>
                    <a:pt x="29" y="98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31" y="98"/>
                    <a:pt x="31" y="98"/>
                    <a:pt x="31" y="98"/>
                  </a:cubicBezTo>
                  <a:cubicBezTo>
                    <a:pt x="31" y="98"/>
                    <a:pt x="31" y="98"/>
                    <a:pt x="31" y="98"/>
                  </a:cubicBezTo>
                  <a:cubicBezTo>
                    <a:pt x="32" y="98"/>
                    <a:pt x="32" y="98"/>
                    <a:pt x="32" y="98"/>
                  </a:cubicBezTo>
                  <a:cubicBezTo>
                    <a:pt x="33" y="98"/>
                    <a:pt x="33" y="98"/>
                    <a:pt x="33" y="98"/>
                  </a:cubicBezTo>
                  <a:cubicBezTo>
                    <a:pt x="33" y="98"/>
                    <a:pt x="33" y="98"/>
                    <a:pt x="33" y="98"/>
                  </a:cubicBezTo>
                  <a:cubicBezTo>
                    <a:pt x="33" y="98"/>
                    <a:pt x="33" y="98"/>
                    <a:pt x="33" y="98"/>
                  </a:cubicBezTo>
                  <a:cubicBezTo>
                    <a:pt x="34" y="98"/>
                    <a:pt x="34" y="98"/>
                    <a:pt x="34" y="98"/>
                  </a:cubicBezTo>
                  <a:cubicBezTo>
                    <a:pt x="34" y="98"/>
                    <a:pt x="34" y="98"/>
                    <a:pt x="34" y="98"/>
                  </a:cubicBezTo>
                  <a:cubicBezTo>
                    <a:pt x="34" y="98"/>
                    <a:pt x="34" y="98"/>
                    <a:pt x="34" y="98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6" y="98"/>
                    <a:pt x="36" y="98"/>
                    <a:pt x="36" y="98"/>
                  </a:cubicBezTo>
                  <a:cubicBezTo>
                    <a:pt x="37" y="98"/>
                    <a:pt x="37" y="98"/>
                    <a:pt x="37" y="98"/>
                  </a:cubicBezTo>
                  <a:cubicBezTo>
                    <a:pt x="37" y="98"/>
                    <a:pt x="37" y="98"/>
                    <a:pt x="37" y="98"/>
                  </a:cubicBezTo>
                  <a:cubicBezTo>
                    <a:pt x="37" y="98"/>
                    <a:pt x="37" y="98"/>
                    <a:pt x="37" y="98"/>
                  </a:cubicBezTo>
                  <a:cubicBezTo>
                    <a:pt x="38" y="98"/>
                    <a:pt x="38" y="98"/>
                    <a:pt x="38" y="98"/>
                  </a:cubicBezTo>
                  <a:cubicBezTo>
                    <a:pt x="38" y="98"/>
                    <a:pt x="38" y="98"/>
                    <a:pt x="38" y="98"/>
                  </a:cubicBezTo>
                  <a:cubicBezTo>
                    <a:pt x="39" y="98"/>
                    <a:pt x="39" y="98"/>
                    <a:pt x="39" y="98"/>
                  </a:cubicBezTo>
                  <a:cubicBezTo>
                    <a:pt x="39" y="98"/>
                    <a:pt x="39" y="98"/>
                    <a:pt x="39" y="98"/>
                  </a:cubicBezTo>
                  <a:cubicBezTo>
                    <a:pt x="40" y="98"/>
                    <a:pt x="40" y="98"/>
                    <a:pt x="40" y="98"/>
                  </a:cubicBezTo>
                  <a:cubicBezTo>
                    <a:pt x="40" y="98"/>
                    <a:pt x="40" y="98"/>
                    <a:pt x="40" y="98"/>
                  </a:cubicBezTo>
                  <a:cubicBezTo>
                    <a:pt x="41" y="98"/>
                    <a:pt x="41" y="98"/>
                    <a:pt x="41" y="98"/>
                  </a:cubicBezTo>
                  <a:cubicBezTo>
                    <a:pt x="41" y="98"/>
                    <a:pt x="41" y="98"/>
                    <a:pt x="41" y="98"/>
                  </a:cubicBezTo>
                  <a:cubicBezTo>
                    <a:pt x="42" y="98"/>
                    <a:pt x="42" y="98"/>
                    <a:pt x="42" y="98"/>
                  </a:cubicBezTo>
                  <a:cubicBezTo>
                    <a:pt x="42" y="98"/>
                    <a:pt x="42" y="98"/>
                    <a:pt x="42" y="98"/>
                  </a:cubicBezTo>
                  <a:cubicBezTo>
                    <a:pt x="43" y="98"/>
                    <a:pt x="43" y="98"/>
                    <a:pt x="43" y="98"/>
                  </a:cubicBezTo>
                  <a:cubicBezTo>
                    <a:pt x="43" y="98"/>
                    <a:pt x="43" y="98"/>
                    <a:pt x="43" y="98"/>
                  </a:cubicBezTo>
                  <a:cubicBezTo>
                    <a:pt x="43" y="98"/>
                    <a:pt x="43" y="98"/>
                    <a:pt x="43" y="98"/>
                  </a:cubicBezTo>
                  <a:cubicBezTo>
                    <a:pt x="43" y="98"/>
                    <a:pt x="43" y="98"/>
                    <a:pt x="43" y="98"/>
                  </a:cubicBezTo>
                  <a:cubicBezTo>
                    <a:pt x="44" y="98"/>
                    <a:pt x="44" y="98"/>
                    <a:pt x="44" y="98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7" y="98"/>
                    <a:pt x="47" y="98"/>
                    <a:pt x="47" y="98"/>
                  </a:cubicBezTo>
                  <a:cubicBezTo>
                    <a:pt x="47" y="98"/>
                    <a:pt x="47" y="98"/>
                    <a:pt x="47" y="98"/>
                  </a:cubicBezTo>
                  <a:cubicBezTo>
                    <a:pt x="47" y="98"/>
                    <a:pt x="47" y="98"/>
                    <a:pt x="47" y="98"/>
                  </a:cubicBezTo>
                  <a:cubicBezTo>
                    <a:pt x="66" y="98"/>
                    <a:pt x="66" y="98"/>
                    <a:pt x="66" y="98"/>
                  </a:cubicBezTo>
                  <a:cubicBezTo>
                    <a:pt x="72" y="96"/>
                    <a:pt x="75" y="91"/>
                    <a:pt x="77" y="85"/>
                  </a:cubicBezTo>
                  <a:cubicBezTo>
                    <a:pt x="72" y="66"/>
                    <a:pt x="66" y="49"/>
                    <a:pt x="55" y="33"/>
                  </a:cubicBezTo>
                  <a:cubicBezTo>
                    <a:pt x="44" y="33"/>
                    <a:pt x="33" y="33"/>
                    <a:pt x="22" y="33"/>
                  </a:cubicBezTo>
                  <a:close/>
                  <a:moveTo>
                    <a:pt x="50" y="20"/>
                  </a:moveTo>
                  <a:cubicBezTo>
                    <a:pt x="42" y="20"/>
                    <a:pt x="34" y="20"/>
                    <a:pt x="25" y="2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8" y="6"/>
                    <a:pt x="48" y="6"/>
                    <a:pt x="48" y="6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0" y="20"/>
                    <a:pt x="50" y="20"/>
                    <a:pt x="50" y="20"/>
                  </a:cubicBezTo>
                  <a:close/>
                  <a:moveTo>
                    <a:pt x="18" y="31"/>
                  </a:moveTo>
                  <a:cubicBezTo>
                    <a:pt x="16" y="31"/>
                    <a:pt x="14" y="29"/>
                    <a:pt x="14" y="26"/>
                  </a:cubicBezTo>
                  <a:cubicBezTo>
                    <a:pt x="14" y="24"/>
                    <a:pt x="16" y="22"/>
                    <a:pt x="18" y="22"/>
                  </a:cubicBezTo>
                  <a:cubicBezTo>
                    <a:pt x="59" y="22"/>
                    <a:pt x="59" y="22"/>
                    <a:pt x="59" y="22"/>
                  </a:cubicBezTo>
                  <a:cubicBezTo>
                    <a:pt x="61" y="22"/>
                    <a:pt x="63" y="24"/>
                    <a:pt x="63" y="26"/>
                  </a:cubicBezTo>
                  <a:cubicBezTo>
                    <a:pt x="63" y="29"/>
                    <a:pt x="61" y="31"/>
                    <a:pt x="59" y="31"/>
                  </a:cubicBezTo>
                  <a:cubicBezTo>
                    <a:pt x="18" y="31"/>
                    <a:pt x="18" y="31"/>
                    <a:pt x="18" y="31"/>
                  </a:cubicBezTo>
                  <a:close/>
                  <a:moveTo>
                    <a:pt x="43" y="84"/>
                  </a:moveTo>
                  <a:cubicBezTo>
                    <a:pt x="43" y="86"/>
                    <a:pt x="43" y="86"/>
                    <a:pt x="43" y="86"/>
                  </a:cubicBezTo>
                  <a:cubicBezTo>
                    <a:pt x="35" y="86"/>
                    <a:pt x="35" y="86"/>
                    <a:pt x="35" y="86"/>
                  </a:cubicBezTo>
                  <a:cubicBezTo>
                    <a:pt x="35" y="84"/>
                    <a:pt x="35" y="84"/>
                    <a:pt x="35" y="84"/>
                  </a:cubicBezTo>
                  <a:cubicBezTo>
                    <a:pt x="32" y="83"/>
                    <a:pt x="30" y="81"/>
                    <a:pt x="30" y="77"/>
                  </a:cubicBezTo>
                  <a:cubicBezTo>
                    <a:pt x="30" y="69"/>
                    <a:pt x="30" y="69"/>
                    <a:pt x="30" y="69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37" y="78"/>
                    <a:pt x="37" y="78"/>
                    <a:pt x="37" y="78"/>
                  </a:cubicBezTo>
                  <a:cubicBezTo>
                    <a:pt x="37" y="78"/>
                    <a:pt x="38" y="79"/>
                    <a:pt x="39" y="79"/>
                  </a:cubicBezTo>
                  <a:cubicBezTo>
                    <a:pt x="40" y="79"/>
                    <a:pt x="40" y="78"/>
                    <a:pt x="40" y="78"/>
                  </a:cubicBezTo>
                  <a:cubicBezTo>
                    <a:pt x="40" y="73"/>
                    <a:pt x="40" y="73"/>
                    <a:pt x="40" y="73"/>
                  </a:cubicBezTo>
                  <a:cubicBezTo>
                    <a:pt x="40" y="72"/>
                    <a:pt x="40" y="71"/>
                    <a:pt x="39" y="70"/>
                  </a:cubicBezTo>
                  <a:cubicBezTo>
                    <a:pt x="38" y="69"/>
                    <a:pt x="36" y="67"/>
                    <a:pt x="32" y="63"/>
                  </a:cubicBezTo>
                  <a:cubicBezTo>
                    <a:pt x="31" y="61"/>
                    <a:pt x="30" y="59"/>
                    <a:pt x="30" y="57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0" y="49"/>
                    <a:pt x="32" y="47"/>
                    <a:pt x="35" y="46"/>
                  </a:cubicBezTo>
                  <a:cubicBezTo>
                    <a:pt x="35" y="44"/>
                    <a:pt x="35" y="44"/>
                    <a:pt x="35" y="44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43" y="46"/>
                    <a:pt x="43" y="46"/>
                    <a:pt x="43" y="46"/>
                  </a:cubicBezTo>
                  <a:cubicBezTo>
                    <a:pt x="46" y="47"/>
                    <a:pt x="48" y="49"/>
                    <a:pt x="48" y="53"/>
                  </a:cubicBezTo>
                  <a:cubicBezTo>
                    <a:pt x="48" y="59"/>
                    <a:pt x="48" y="59"/>
                    <a:pt x="48" y="59"/>
                  </a:cubicBezTo>
                  <a:cubicBezTo>
                    <a:pt x="40" y="59"/>
                    <a:pt x="40" y="59"/>
                    <a:pt x="40" y="59"/>
                  </a:cubicBezTo>
                  <a:cubicBezTo>
                    <a:pt x="40" y="52"/>
                    <a:pt x="40" y="52"/>
                    <a:pt x="40" y="52"/>
                  </a:cubicBezTo>
                  <a:cubicBezTo>
                    <a:pt x="40" y="51"/>
                    <a:pt x="40" y="51"/>
                    <a:pt x="39" y="51"/>
                  </a:cubicBezTo>
                  <a:cubicBezTo>
                    <a:pt x="38" y="51"/>
                    <a:pt x="38" y="52"/>
                    <a:pt x="38" y="53"/>
                  </a:cubicBezTo>
                  <a:cubicBezTo>
                    <a:pt x="38" y="56"/>
                    <a:pt x="38" y="56"/>
                    <a:pt x="38" y="56"/>
                  </a:cubicBezTo>
                  <a:cubicBezTo>
                    <a:pt x="38" y="57"/>
                    <a:pt x="39" y="59"/>
                    <a:pt x="41" y="61"/>
                  </a:cubicBezTo>
                  <a:cubicBezTo>
                    <a:pt x="44" y="64"/>
                    <a:pt x="47" y="67"/>
                    <a:pt x="47" y="68"/>
                  </a:cubicBezTo>
                  <a:cubicBezTo>
                    <a:pt x="48" y="69"/>
                    <a:pt x="49" y="71"/>
                    <a:pt x="49" y="72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9" y="81"/>
                    <a:pt x="47" y="83"/>
                    <a:pt x="43" y="84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6" name="文本框 46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reeform 17"/>
          <p:cNvSpPr/>
          <p:nvPr/>
        </p:nvSpPr>
        <p:spPr>
          <a:xfrm>
            <a:off x="5859360" y="2433600"/>
            <a:ext cx="2081160" cy="2049480"/>
          </a:xfrm>
          <a:prstGeom prst="pie">
            <a:avLst/>
          </a:prstGeom>
          <a:solidFill>
            <a:srgbClr val="a962aa"/>
          </a:solidFill>
          <a:ln w="0">
            <a:noFill/>
          </a:ln>
          <a:effectLst>
            <a:outerShdw dist="25455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32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Freeform 18"/>
          <p:cNvSpPr/>
          <p:nvPr/>
        </p:nvSpPr>
        <p:spPr>
          <a:xfrm>
            <a:off x="3960720" y="2568600"/>
            <a:ext cx="1819440" cy="1778040"/>
          </a:xfrm>
          <a:prstGeom prst="pie">
            <a:avLst/>
          </a:prstGeom>
          <a:solidFill>
            <a:srgbClr val="ef5664"/>
          </a:solidFill>
          <a:ln w="0">
            <a:noFill/>
          </a:ln>
          <a:effectLst>
            <a:outerShdw dist="25455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Freeform 19"/>
          <p:cNvSpPr/>
          <p:nvPr/>
        </p:nvSpPr>
        <p:spPr>
          <a:xfrm>
            <a:off x="2452680" y="2725560"/>
            <a:ext cx="1444680" cy="1463760"/>
          </a:xfrm>
          <a:prstGeom prst="pie">
            <a:avLst/>
          </a:prstGeom>
          <a:solidFill>
            <a:srgbClr val="a962aa"/>
          </a:solidFill>
          <a:ln w="0">
            <a:noFill/>
          </a:ln>
          <a:effectLst>
            <a:outerShdw dist="25455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Freeform 17"/>
          <p:cNvSpPr/>
          <p:nvPr/>
        </p:nvSpPr>
        <p:spPr>
          <a:xfrm>
            <a:off x="7651800" y="2166840"/>
            <a:ext cx="2620800" cy="2579760"/>
          </a:xfrm>
          <a:prstGeom prst="pie">
            <a:avLst/>
          </a:prstGeom>
          <a:solidFill>
            <a:srgbClr val="ef5664"/>
          </a:solidFill>
          <a:ln w="0">
            <a:noFill/>
          </a:ln>
          <a:effectLst>
            <a:outerShdw dist="25455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1" name="直接箭头连接符 56"/>
          <p:cNvCxnSpPr/>
          <p:nvPr/>
        </p:nvCxnSpPr>
        <p:spPr>
          <a:xfrm flipV="1">
            <a:off x="2877840" y="2033280"/>
            <a:ext cx="1080" cy="813600"/>
          </a:xfrm>
          <a:prstGeom prst="straightConnector1">
            <a:avLst/>
          </a:prstGeom>
          <a:ln w="12600">
            <a:solidFill>
              <a:srgbClr val="ffc000"/>
            </a:solidFill>
            <a:prstDash val="sysDash"/>
            <a:miter/>
            <a:tailEnd len="med" type="triangle" w="med"/>
          </a:ln>
        </p:spPr>
      </p:cxnSp>
      <p:cxnSp>
        <p:nvCxnSpPr>
          <p:cNvPr id="702" name="直接箭头连接符 57"/>
          <p:cNvCxnSpPr/>
          <p:nvPr/>
        </p:nvCxnSpPr>
        <p:spPr>
          <a:xfrm flipV="1">
            <a:off x="6435360" y="1793520"/>
            <a:ext cx="1080" cy="813600"/>
          </a:xfrm>
          <a:prstGeom prst="straightConnector1">
            <a:avLst/>
          </a:prstGeom>
          <a:ln w="12600">
            <a:solidFill>
              <a:srgbClr val="ffc000"/>
            </a:solidFill>
            <a:prstDash val="sysDash"/>
            <a:miter/>
            <a:tailEnd len="med" type="triangle" w="med"/>
          </a:ln>
        </p:spPr>
      </p:cxnSp>
      <p:cxnSp>
        <p:nvCxnSpPr>
          <p:cNvPr id="703" name="直接箭头连接符 58"/>
          <p:cNvCxnSpPr/>
          <p:nvPr/>
        </p:nvCxnSpPr>
        <p:spPr>
          <a:xfrm>
            <a:off x="4138200" y="4181400"/>
            <a:ext cx="1080" cy="812160"/>
          </a:xfrm>
          <a:prstGeom prst="straightConnector1">
            <a:avLst/>
          </a:prstGeom>
          <a:ln w="12600">
            <a:solidFill>
              <a:srgbClr val="ffc000"/>
            </a:solidFill>
            <a:prstDash val="sysDash"/>
            <a:miter/>
            <a:tailEnd len="med" type="triangle" w="med"/>
          </a:ln>
        </p:spPr>
      </p:cxnSp>
      <p:cxnSp>
        <p:nvCxnSpPr>
          <p:cNvPr id="704" name="直接箭头连接符 59"/>
          <p:cNvCxnSpPr/>
          <p:nvPr/>
        </p:nvCxnSpPr>
        <p:spPr>
          <a:xfrm>
            <a:off x="7833960" y="4538160"/>
            <a:ext cx="1080" cy="810360"/>
          </a:xfrm>
          <a:prstGeom prst="straightConnector1">
            <a:avLst/>
          </a:prstGeom>
          <a:ln w="12600">
            <a:solidFill>
              <a:srgbClr val="ffc000"/>
            </a:solidFill>
            <a:prstDash val="sysDash"/>
            <a:miter/>
            <a:tailEnd len="med" type="triangle" w="med"/>
          </a:ln>
        </p:spPr>
      </p:cxnSp>
      <p:sp>
        <p:nvSpPr>
          <p:cNvPr id="705" name="椭圆 60"/>
          <p:cNvSpPr/>
          <p:nvPr/>
        </p:nvSpPr>
        <p:spPr>
          <a:xfrm>
            <a:off x="2809800" y="2846520"/>
            <a:ext cx="157320" cy="156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椭圆 61"/>
          <p:cNvSpPr/>
          <p:nvPr/>
        </p:nvSpPr>
        <p:spPr>
          <a:xfrm>
            <a:off x="4062240" y="4064040"/>
            <a:ext cx="157320" cy="156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椭圆 62"/>
          <p:cNvSpPr/>
          <p:nvPr/>
        </p:nvSpPr>
        <p:spPr>
          <a:xfrm>
            <a:off x="6356520" y="2573280"/>
            <a:ext cx="158760" cy="157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椭圆 63"/>
          <p:cNvSpPr/>
          <p:nvPr/>
        </p:nvSpPr>
        <p:spPr>
          <a:xfrm>
            <a:off x="7758000" y="4484520"/>
            <a:ext cx="15732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57"/>
          <p:cNvSpPr/>
          <p:nvPr/>
        </p:nvSpPr>
        <p:spPr>
          <a:xfrm>
            <a:off x="1550880" y="987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57"/>
          <p:cNvSpPr/>
          <p:nvPr/>
        </p:nvSpPr>
        <p:spPr>
          <a:xfrm>
            <a:off x="2809800" y="5245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57"/>
          <p:cNvSpPr/>
          <p:nvPr/>
        </p:nvSpPr>
        <p:spPr>
          <a:xfrm>
            <a:off x="5095800" y="987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57"/>
          <p:cNvSpPr/>
          <p:nvPr/>
        </p:nvSpPr>
        <p:spPr>
          <a:xfrm>
            <a:off x="6603840" y="5245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文本框 17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10:15:07Z</dcterms:created>
  <dc:creator>哎呀小小草</dc:creator>
  <dc:description/>
  <cp:keywords/>
  <dc:language>en-US</dc:language>
  <cp:lastModifiedBy>my</cp:lastModifiedBy>
  <dcterms:modified xsi:type="dcterms:W3CDTF">2015-11-24T10:14:24Z</dcterms:modified>
  <cp:revision>32</cp:revision>
  <dc:subject/>
  <dc:title>PowerPoint 演示文稿</dc:title>
</cp:coreProperties>
</file>