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0918-B4DD-450A-9F86-7A3E22A5AD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C161-13D4-499B-A368-3A1DEF28AA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595-C698-402B-A593-8EFF99FB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9A0-F33A-4742-9EBB-FCA8E617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FC9-A108-4AA9-A5F1-7B61982A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95F-D4FF-476D-A189-D4D2B158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4CE-D268-432D-9397-B2835BD6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214-CD21-4CE2-A541-E6A31B7E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494-F0F0-419E-9140-D812BF04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849B-5F52-473B-8B8B-3BA919BE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9C5-CB76-4DDE-81A3-B4220B9F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F45-0DF7-445A-A949-AFB221D6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C6B-F2AC-4D56-B75D-C956F2D5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CA1-6F67-4AE5-80F3-E4AE45D4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25E2-DCCC-435C-A2F8-6B18FEF8DBB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9BFC-DB97-4460-8C00-9D97760F6B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9744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2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1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空心弧 3"/>
          <p:cNvSpPr/>
          <p:nvPr/>
        </p:nvSpPr>
        <p:spPr>
          <a:xfrm rot="5400000">
            <a:off x="940680" y="1736640"/>
            <a:ext cx="1098720" cy="10983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空心弧 6"/>
          <p:cNvSpPr/>
          <p:nvPr/>
        </p:nvSpPr>
        <p:spPr>
          <a:xfrm rot="5400000">
            <a:off x="2158920" y="3219120"/>
            <a:ext cx="1098360" cy="109872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720"/>
              <a:gd name="textAreaBottom" fmla="*/ 392400 h 109872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空心弧 8"/>
          <p:cNvSpPr/>
          <p:nvPr/>
        </p:nvSpPr>
        <p:spPr>
          <a:xfrm rot="5400000">
            <a:off x="3384360" y="4718160"/>
            <a:ext cx="1098360" cy="10983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6"/>
          <p:cNvSpPr/>
          <p:nvPr/>
        </p:nvSpPr>
        <p:spPr>
          <a:xfrm>
            <a:off x="4800600" y="61920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8360 w 109440"/>
              <a:gd name="textAreaRight" fmla="*/ 91080 w 109440"/>
              <a:gd name="textAreaTop" fmla="*/ 100080 h 590400"/>
              <a:gd name="textAreaBottom" fmla="*/ 49032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8000 w 107640"/>
              <a:gd name="textAreaRight" fmla="*/ 89640 w 107640"/>
              <a:gd name="textAreaTop" fmla="*/ 100440 h 592200"/>
              <a:gd name="textAreaBottom" fmla="*/ 4917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8360 w 108000"/>
              <a:gd name="textAreaRight" fmla="*/ 89640 w 108000"/>
              <a:gd name="textAreaTop" fmla="*/ 85320 h 503280"/>
              <a:gd name="textAreaBottom" fmla="*/ 417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8360 w 109440"/>
              <a:gd name="textAreaRight" fmla="*/ 91080 w 109440"/>
              <a:gd name="textAreaTop" fmla="*/ 85680 h 504720"/>
              <a:gd name="textAreaBottom" fmla="*/ 4190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6520 w 354240"/>
              <a:gd name="textAreaRight" fmla="*/ 297720 w 354240"/>
              <a:gd name="textAreaTop" fmla="*/ 34200 h 216000"/>
              <a:gd name="textAreaBottom" fmla="*/ 1818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99" y="21600"/>
                </a:lnTo>
                <a:lnTo>
                  <a:pt x="183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>
            <a:off x="6529320" y="789120"/>
            <a:ext cx="2392560" cy="2989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>
            <a:off x="6608880" y="878040"/>
            <a:ext cx="2247840" cy="2809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7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4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27" descr=""/>
          <p:cNvPicPr/>
          <p:nvPr/>
        </p:nvPicPr>
        <p:blipFill>
          <a:blip r:embed="rId4"/>
          <a:stretch/>
        </p:blipFill>
        <p:spPr>
          <a:xfrm>
            <a:off x="1225440" y="4054320"/>
            <a:ext cx="30844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任意多边形 20"/>
          <p:cNvSpPr/>
          <p:nvPr/>
        </p:nvSpPr>
        <p:spPr>
          <a:xfrm flipH="1">
            <a:off x="1628640" y="3627360"/>
            <a:ext cx="3230640" cy="1990800"/>
          </a:xfrm>
          <a:custGeom>
            <a:avLst/>
            <a:gdLst>
              <a:gd name="textAreaLeft" fmla="*/ 360 w 3230640"/>
              <a:gd name="textAreaRight" fmla="*/ 3231360 w 323064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21"/>
          <p:cNvSpPr/>
          <p:nvPr/>
        </p:nvSpPr>
        <p:spPr>
          <a:xfrm>
            <a:off x="5105520" y="3941640"/>
            <a:ext cx="2354040" cy="145116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9"/>
          <p:cNvSpPr/>
          <p:nvPr/>
        </p:nvSpPr>
        <p:spPr>
          <a:xfrm flipH="1">
            <a:off x="3000240" y="2781360"/>
            <a:ext cx="3229200" cy="1992240"/>
          </a:xfrm>
          <a:custGeom>
            <a:avLst/>
            <a:gdLst>
              <a:gd name="textAreaLeft" fmla="*/ 360 w 3229200"/>
              <a:gd name="textAreaRight" fmla="*/ 3229920 w 322920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 flipH="1">
            <a:off x="1525680" y="1467000"/>
            <a:ext cx="1612800" cy="995040"/>
          </a:xfrm>
          <a:custGeom>
            <a:avLst/>
            <a:gdLst>
              <a:gd name="textAreaLeft" fmla="*/ 360 w 1612800"/>
              <a:gd name="textAreaRight" fmla="*/ 1613520 w 16128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0"/>
          <p:cNvSpPr/>
          <p:nvPr/>
        </p:nvSpPr>
        <p:spPr>
          <a:xfrm>
            <a:off x="-511200" y="1119240"/>
            <a:ext cx="1611360" cy="993600"/>
          </a:xfrm>
          <a:custGeom>
            <a:avLst/>
            <a:gdLst>
              <a:gd name="textAreaLeft" fmla="*/ 0 w 1611360"/>
              <a:gd name="textAreaRight" fmla="*/ 1611720 w 16113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9"/>
          <p:cNvSpPr/>
          <p:nvPr/>
        </p:nvSpPr>
        <p:spPr>
          <a:xfrm>
            <a:off x="-169920" y="1467000"/>
            <a:ext cx="2502000" cy="154440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4"/>
          <p:cNvSpPr/>
          <p:nvPr/>
        </p:nvSpPr>
        <p:spPr>
          <a:xfrm flipH="1">
            <a:off x="365040" y="5175360"/>
            <a:ext cx="2230560" cy="1374840"/>
          </a:xfrm>
          <a:custGeom>
            <a:avLst/>
            <a:gdLst>
              <a:gd name="textAreaLeft" fmla="*/ 360 w 2230560"/>
              <a:gd name="textAreaRight" fmla="*/ 2231280 w 223056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3"/>
          <p:cNvSpPr/>
          <p:nvPr/>
        </p:nvSpPr>
        <p:spPr>
          <a:xfrm flipH="1">
            <a:off x="932760" y="5175360"/>
            <a:ext cx="5457960" cy="33652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3365280"/>
              <a:gd name="textAreaBottom" fmla="*/ 3365640 h 33652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15"/>
          <p:cNvSpPr/>
          <p:nvPr/>
        </p:nvSpPr>
        <p:spPr>
          <a:xfrm flipH="1">
            <a:off x="5508000" y="6006960"/>
            <a:ext cx="1763640" cy="108756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16"/>
          <p:cNvSpPr/>
          <p:nvPr/>
        </p:nvSpPr>
        <p:spPr>
          <a:xfrm>
            <a:off x="6994440" y="5657760"/>
            <a:ext cx="2791080" cy="172260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3"/>
          <p:cNvSpPr/>
          <p:nvPr/>
        </p:nvSpPr>
        <p:spPr>
          <a:xfrm flipH="1">
            <a:off x="10779840" y="2506680"/>
            <a:ext cx="1411560" cy="869760"/>
          </a:xfrm>
          <a:custGeom>
            <a:avLst/>
            <a:gdLst>
              <a:gd name="textAreaLeft" fmla="*/ -360 w 1411560"/>
              <a:gd name="textAreaRight" fmla="*/ 1411560 w 14115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4"/>
          <p:cNvSpPr/>
          <p:nvPr/>
        </p:nvSpPr>
        <p:spPr>
          <a:xfrm>
            <a:off x="8996400" y="2200320"/>
            <a:ext cx="1411200" cy="86976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5"/>
          <p:cNvSpPr/>
          <p:nvPr/>
        </p:nvSpPr>
        <p:spPr>
          <a:xfrm>
            <a:off x="9294840" y="2506680"/>
            <a:ext cx="2192400" cy="13510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146" dur="50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148" dur="50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150" dur="50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52" dur="50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154" dur="50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6" dur="50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158" dur="50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160" dur="50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162" dur="50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164" dur="4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6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65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1" descr=""/>
          <p:cNvPicPr/>
          <p:nvPr/>
        </p:nvPicPr>
        <p:blipFill>
          <a:blip r:embed="rId1">
            <a:biLevel thresh="50000"/>
          </a:blip>
          <a:srcRect l="17428" t="9335" r="20063" b="2298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63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24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56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88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183" dur="1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185" dur="1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0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0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9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9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9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3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7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1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9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3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nodeType="clickEffect" fill="hold">
                      <p:stCondLst>
                        <p:cond delay="0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nodeType="clickEffect" fill="hold">
                      <p:stCondLst>
                        <p:cond delay="0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9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9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3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1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5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3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7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5"/>
          <p:cNvGrpSpPr/>
          <p:nvPr/>
        </p:nvGrpSpPr>
        <p:grpSpPr>
          <a:xfrm>
            <a:off x="752400" y="1268280"/>
            <a:ext cx="1059480" cy="4686480"/>
            <a:chOff x="752400" y="1268280"/>
            <a:chExt cx="1059480" cy="4686480"/>
          </a:xfrm>
        </p:grpSpPr>
        <p:sp>
          <p:nvSpPr>
            <p:cNvPr id="346" name="直接连接符 6"/>
            <p:cNvSpPr/>
            <p:nvPr/>
          </p:nvSpPr>
          <p:spPr>
            <a:xfrm>
              <a:off x="752400" y="1268280"/>
              <a:ext cx="1059480" cy="46864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9"/>
          <p:cNvGrpSpPr/>
          <p:nvPr/>
        </p:nvGrpSpPr>
        <p:grpSpPr>
          <a:xfrm>
            <a:off x="2155680" y="1268280"/>
            <a:ext cx="1059480" cy="2976840"/>
            <a:chOff x="2155680" y="1268280"/>
            <a:chExt cx="1059480" cy="2976840"/>
          </a:xfrm>
        </p:grpSpPr>
        <p:sp>
          <p:nvSpPr>
            <p:cNvPr id="349" name="直接连接符 10"/>
            <p:cNvSpPr/>
            <p:nvPr/>
          </p:nvSpPr>
          <p:spPr>
            <a:xfrm>
              <a:off x="2155680" y="1268280"/>
              <a:ext cx="1059480" cy="29768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组合 13"/>
          <p:cNvGrpSpPr/>
          <p:nvPr/>
        </p:nvGrpSpPr>
        <p:grpSpPr>
          <a:xfrm>
            <a:off x="3684600" y="1268280"/>
            <a:ext cx="1059480" cy="3706920"/>
            <a:chOff x="3684600" y="1268280"/>
            <a:chExt cx="1059480" cy="3706920"/>
          </a:xfrm>
        </p:grpSpPr>
        <p:sp>
          <p:nvSpPr>
            <p:cNvPr id="352" name="直接连接符 14"/>
            <p:cNvSpPr/>
            <p:nvPr/>
          </p:nvSpPr>
          <p:spPr>
            <a:xfrm>
              <a:off x="3684600" y="1268280"/>
              <a:ext cx="1059480" cy="37069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17"/>
          <p:cNvGrpSpPr/>
          <p:nvPr/>
        </p:nvGrpSpPr>
        <p:grpSpPr>
          <a:xfrm>
            <a:off x="5079960" y="1279440"/>
            <a:ext cx="1059480" cy="2502000"/>
            <a:chOff x="5079960" y="1279440"/>
            <a:chExt cx="1059480" cy="2502000"/>
          </a:xfrm>
        </p:grpSpPr>
        <p:sp>
          <p:nvSpPr>
            <p:cNvPr id="355" name="直接连接符 18"/>
            <p:cNvSpPr/>
            <p:nvPr/>
          </p:nvSpPr>
          <p:spPr>
            <a:xfrm>
              <a:off x="5079960" y="1279440"/>
              <a:ext cx="1059480" cy="250200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nodeType="clickEffect" fill="hold">
                      <p:stCondLst>
                        <p:cond delay="0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19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9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7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7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9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6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9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5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6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9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69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5" dur="8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8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3" dur="indefinite" restart="never" nodeType="tmRoot">
          <p:childTnLst>
            <p:seq>
              <p:cTn id="1744" dur="indefinite" nodeType="mainSeq">
                <p:childTnLst>
                  <p:par>
                    <p:cTn id="1745" nodeType="clickEffect" fill="hold">
                      <p:stCondLst>
                        <p:cond delay="0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9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9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3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7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1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9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空心弧 11"/>
          <p:cNvSpPr/>
          <p:nvPr/>
        </p:nvSpPr>
        <p:spPr>
          <a:xfrm rot="5400000">
            <a:off x="8609760" y="3310560"/>
            <a:ext cx="2555640" cy="255744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2557440"/>
              <a:gd name="textAreaBottom" fmla="*/ 913320 h 2557440"/>
            </a:gdLst>
            <a:ahLst/>
            <a:rect l="textAreaLeft" t="textAreaTop" r="textAreaRight" b="textAreaBottom"/>
            <a:pathLst>
              <a:path w="21600" h="21600">
                <a:moveTo>
                  <a:pt x="2527" y="10800"/>
                </a:moveTo>
                <a:cubicBezTo>
                  <a:pt x="2527" y="6230"/>
                  <a:pt x="6230" y="2527"/>
                  <a:pt x="10800" y="2527"/>
                </a:cubicBezTo>
                <a:cubicBezTo>
                  <a:pt x="15369" y="2526"/>
                  <a:pt x="19072" y="6230"/>
                  <a:pt x="19073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2527" y="108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4"/>
          <p:cNvSpPr/>
          <p:nvPr/>
        </p:nvSpPr>
        <p:spPr>
          <a:xfrm>
            <a:off x="853524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roadway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nodeType="clickEffect" fill="hold">
                      <p:stCondLst>
                        <p:cond delay="0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1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81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81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nodeType="clickEffect" fill="hold">
                      <p:stCondLst>
                        <p:cond delay="0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9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4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2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6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8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4"/>
          <p:cNvGrpSpPr/>
          <p:nvPr/>
        </p:nvGrpSpPr>
        <p:grpSpPr>
          <a:xfrm>
            <a:off x="6606000" y="4605480"/>
            <a:ext cx="2600640" cy="459720"/>
            <a:chOff x="6606000" y="4605480"/>
            <a:chExt cx="2600640" cy="459720"/>
          </a:xfrm>
        </p:grpSpPr>
        <p:sp>
          <p:nvSpPr>
            <p:cNvPr id="69" name="文本框 5"/>
            <p:cNvSpPr/>
            <p:nvPr/>
          </p:nvSpPr>
          <p:spPr>
            <a:xfrm>
              <a:off x="6606000" y="460548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04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custGeom>
              <a:avLst/>
              <a:gdLst>
                <a:gd name="textAreaLeft" fmla="*/ 254160 w 1736640"/>
                <a:gd name="textAreaRight" fmla="*/ 1482480 w 1736640"/>
                <a:gd name="textAreaTop" fmla="*/ 254160 h 1736640"/>
                <a:gd name="textAreaBottom" fmla="*/ 148248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383" y="10800"/>
                  </a:moveTo>
                  <a:cubicBezTo>
                    <a:pt x="2383" y="15449"/>
                    <a:pt x="6151" y="19217"/>
                    <a:pt x="10800" y="19217"/>
                  </a:cubicBezTo>
                  <a:cubicBezTo>
                    <a:pt x="15449" y="19217"/>
                    <a:pt x="19217" y="15449"/>
                    <a:pt x="19217" y="10800"/>
                  </a:cubicBezTo>
                  <a:cubicBezTo>
                    <a:pt x="19217" y="6151"/>
                    <a:pt x="15449" y="2383"/>
                    <a:pt x="10800" y="2383"/>
                  </a:cubicBezTo>
                  <a:cubicBezTo>
                    <a:pt x="6151" y="2383"/>
                    <a:pt x="2383" y="6151"/>
                    <a:pt x="2383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07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custGeom>
              <a:avLst/>
              <a:gdLst>
                <a:gd name="textAreaLeft" fmla="*/ 388440 w 2654280"/>
                <a:gd name="textAreaRight" fmla="*/ 2265840 w 2654280"/>
                <a:gd name="textAreaTop" fmla="*/ 388440 h 2654280"/>
                <a:gd name="textAreaBottom" fmla="*/ 2265840 h 26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50" y="10800"/>
                  </a:moveTo>
                  <a:cubicBezTo>
                    <a:pt x="2450" y="15412"/>
                    <a:pt x="6188" y="19150"/>
                    <a:pt x="10800" y="19150"/>
                  </a:cubicBezTo>
                  <a:cubicBezTo>
                    <a:pt x="15412" y="19150"/>
                    <a:pt x="19150" y="15412"/>
                    <a:pt x="19150" y="10800"/>
                  </a:cubicBezTo>
                  <a:cubicBezTo>
                    <a:pt x="19150" y="6188"/>
                    <a:pt x="15412" y="2450"/>
                    <a:pt x="10800" y="2450"/>
                  </a:cubicBezTo>
                  <a:cubicBezTo>
                    <a:pt x="6188" y="2450"/>
                    <a:pt x="2450" y="6188"/>
                    <a:pt x="245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1" dur="indefinite" restart="never" nodeType="tmRoot">
          <p:childTnLst>
            <p:seq>
              <p:cTn id="1912" dur="indefinite" nodeType="mainSeq">
                <p:childTnLst>
                  <p:par>
                    <p:cTn id="1913" nodeType="clickEffect" fill="hold">
                      <p:stCondLst>
                        <p:cond delay="0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nodeType="clickEffect" fill="hold">
                      <p:stCondLst>
                        <p:cond delay="0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0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6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8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3"/>
          <p:cNvSpPr/>
          <p:nvPr/>
        </p:nvSpPr>
        <p:spPr>
          <a:xfrm>
            <a:off x="44892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77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0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3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17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1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18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6"/>
          <p:cNvSpPr/>
          <p:nvPr/>
        </p:nvSpPr>
        <p:spPr>
          <a:xfrm>
            <a:off x="3952800" y="812880"/>
            <a:ext cx="3797280" cy="3797280"/>
          </a:xfrm>
          <a:custGeom>
            <a:avLst/>
            <a:gdLst>
              <a:gd name="textAreaLeft" fmla="*/ 555840 w 3797280"/>
              <a:gd name="textAreaRight" fmla="*/ 3241440 w 3797280"/>
              <a:gd name="textAreaTop" fmla="*/ 555840 h 3797280"/>
              <a:gd name="textAreaBottom" fmla="*/ 3241440 h 379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566" y="10800"/>
                </a:moveTo>
                <a:cubicBezTo>
                  <a:pt x="1566" y="15900"/>
                  <a:pt x="5700" y="20034"/>
                  <a:pt x="10800" y="20034"/>
                </a:cubicBezTo>
                <a:cubicBezTo>
                  <a:pt x="15900" y="20034"/>
                  <a:pt x="20034" y="15900"/>
                  <a:pt x="20034" y="10800"/>
                </a:cubicBezTo>
                <a:cubicBezTo>
                  <a:pt x="20034" y="5700"/>
                  <a:pt x="15900" y="1566"/>
                  <a:pt x="10800" y="1566"/>
                </a:cubicBezTo>
                <a:cubicBezTo>
                  <a:pt x="5700" y="1566"/>
                  <a:pt x="1566" y="5700"/>
                  <a:pt x="1566" y="10800"/>
                </a:cubicBezTo>
                <a:close/>
              </a:path>
            </a:pathLst>
          </a:cu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7"/>
          <p:cNvSpPr/>
          <p:nvPr/>
        </p:nvSpPr>
        <p:spPr>
          <a:xfrm>
            <a:off x="4667400" y="1514520"/>
            <a:ext cx="2395440" cy="2394000"/>
          </a:xfrm>
          <a:custGeom>
            <a:avLst/>
            <a:gdLst>
              <a:gd name="textAreaLeft" fmla="*/ 350640 w 2395440"/>
              <a:gd name="textAreaRight" fmla="*/ 2044800 w 2395440"/>
              <a:gd name="textAreaTop" fmla="*/ 350280 h 2394000"/>
              <a:gd name="textAreaBottom" fmla="*/ 204372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60" y="10800"/>
                </a:moveTo>
                <a:cubicBezTo>
                  <a:pt x="3460" y="14854"/>
                  <a:pt x="6746" y="18140"/>
                  <a:pt x="10800" y="18140"/>
                </a:cubicBezTo>
                <a:cubicBezTo>
                  <a:pt x="14854" y="18140"/>
                  <a:pt x="18140" y="14854"/>
                  <a:pt x="18140" y="10800"/>
                </a:cubicBezTo>
                <a:cubicBezTo>
                  <a:pt x="18140" y="6746"/>
                  <a:pt x="14854" y="3460"/>
                  <a:pt x="10800" y="3460"/>
                </a:cubicBezTo>
                <a:cubicBezTo>
                  <a:pt x="6746" y="3460"/>
                  <a:pt x="3460" y="6746"/>
                  <a:pt x="3460" y="10800"/>
                </a:cubicBezTo>
                <a:close/>
              </a:path>
            </a:pathLst>
          </a:cu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心圆 9"/>
          <p:cNvSpPr/>
          <p:nvPr/>
        </p:nvSpPr>
        <p:spPr>
          <a:xfrm>
            <a:off x="3808440" y="655560"/>
            <a:ext cx="4113360" cy="4111560"/>
          </a:xfrm>
          <a:custGeom>
            <a:avLst/>
            <a:gdLst>
              <a:gd name="textAreaLeft" fmla="*/ 602280 w 4113360"/>
              <a:gd name="textAreaRight" fmla="*/ 3511080 w 4113360"/>
              <a:gd name="textAreaTop" fmla="*/ 601920 h 4111560"/>
              <a:gd name="textAreaBottom" fmla="*/ 3509640 h 411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11" y="10800"/>
                </a:moveTo>
                <a:cubicBezTo>
                  <a:pt x="811" y="16317"/>
                  <a:pt x="5283" y="20789"/>
                  <a:pt x="10800" y="20789"/>
                </a:cubicBezTo>
                <a:cubicBezTo>
                  <a:pt x="16317" y="20789"/>
                  <a:pt x="20789" y="16317"/>
                  <a:pt x="20789" y="10800"/>
                </a:cubicBezTo>
                <a:cubicBezTo>
                  <a:pt x="20789" y="5283"/>
                  <a:pt x="16317" y="811"/>
                  <a:pt x="10800" y="811"/>
                </a:cubicBezTo>
                <a:cubicBezTo>
                  <a:pt x="5283" y="811"/>
                  <a:pt x="811" y="5283"/>
                  <a:pt x="811" y="10800"/>
                </a:cubicBez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8969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907056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3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cp:keywords/>
  <dc:language>en-US</dc:language>
  <cp:lastModifiedBy>Administrator</cp:lastModifiedBy>
  <dcterms:modified xsi:type="dcterms:W3CDTF">2016-07-26T02:03:17Z</dcterms:modified>
  <cp:revision>1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