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5A0-6A1B-4BAE-AA6B-235507F5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63B-FAFC-4347-8363-2C5D56AE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407-CC14-49A8-835B-BE0C2188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B79-A137-44F2-8ADE-9A85C7BF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D0B-1BE8-4347-B6FE-4CE36796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DEA-81AB-4EA9-AF91-221AD096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DD7-7463-4D05-AE65-DE8AC6A4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49EC-9B86-4A39-AE00-02F79A68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387-42C0-4A16-B26E-D67F9B18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D22-9201-49D6-B31E-B91D2718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C43-1DF2-4580-9D4E-D69A7928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B85-8D32-43CB-8728-1F3158D4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D4B9-F07F-4AD2-89F0-4B2571C71E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2761560" y="711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文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1422000" y="357120"/>
            <a:ext cx="39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黑体"/>
              </a:rPr>
              <a:t>HI-HO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BatangChe"/>
              </a:rPr>
              <a:t> 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7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081080" y="207324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16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175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7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179" name="组合 65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180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9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84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0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88" name="组合 60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89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6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6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5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95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41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99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2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203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3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207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4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211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0" y="518319"/>
                  </a:moveTo>
                  <a:cubicBezTo>
                    <a:pt x="0" y="232059"/>
                    <a:pt x="232059" y="0"/>
                    <a:pt x="518319" y="0"/>
                  </a:cubicBezTo>
                  <a:cubicBezTo>
                    <a:pt x="804579" y="0"/>
                    <a:pt x="1036638" y="232059"/>
                    <a:pt x="1036638" y="518319"/>
                  </a:cubicBezTo>
                  <a:cubicBezTo>
                    <a:pt x="1036638" y="804579"/>
                    <a:pt x="804579" y="1036638"/>
                    <a:pt x="518319" y="1036638"/>
                  </a:cubicBezTo>
                  <a:cubicBezTo>
                    <a:pt x="232059" y="1036638"/>
                    <a:pt x="0" y="804579"/>
                    <a:pt x="0" y="518319"/>
                  </a:cubicBezTo>
                  <a:close/>
                  <a:moveTo>
                    <a:pt x="259159" y="518319"/>
                  </a:moveTo>
                  <a:cubicBezTo>
                    <a:pt x="259159" y="661449"/>
                    <a:pt x="375189" y="777478"/>
                    <a:pt x="518319" y="777478"/>
                  </a:cubicBezTo>
                  <a:cubicBezTo>
                    <a:pt x="661449" y="777478"/>
                    <a:pt x="777479" y="661449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cubicBezTo>
                    <a:pt x="375189" y="259160"/>
                    <a:pt x="259159" y="375189"/>
                    <a:pt x="259159" y="518319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3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214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7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217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21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220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25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223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45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226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6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231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47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236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48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241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7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247" name="组合 1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248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1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252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32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256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33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260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8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264" name="组合 1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265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9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269" name="组合 7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270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0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274" name="组合 13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275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70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280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2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82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11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91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25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305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69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30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27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350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26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359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25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366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527672" y="692188"/>
                  </a:moveTo>
                  <a:cubicBezTo>
                    <a:pt x="2639417" y="892534"/>
                    <a:pt x="2698295" y="1118069"/>
                    <a:pt x="2698747" y="1347503"/>
                  </a:cubicBezTo>
                  <a:lnTo>
                    <a:pt x="1349375" y="1350169"/>
                  </a:lnTo>
                  <a:lnTo>
                    <a:pt x="2527672" y="692188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98748" y="1347766"/>
                  </a:moveTo>
                  <a:cubicBezTo>
                    <a:pt x="2699317" y="1667776"/>
                    <a:pt x="2586271" y="1977586"/>
                    <a:pt x="2379767" y="2221948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379817" y="2221888"/>
                  </a:moveTo>
                  <a:cubicBezTo>
                    <a:pt x="2121317" y="2527815"/>
                    <a:pt x="1740389" y="2703083"/>
                    <a:pt x="1340019" y="2700305"/>
                  </a:cubicBezTo>
                  <a:cubicBezTo>
                    <a:pt x="1343138" y="2250260"/>
                    <a:pt x="1346256" y="1800214"/>
                    <a:pt x="1349375" y="1350169"/>
                  </a:cubicBez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3158" y="2700323"/>
                  </a:moveTo>
                  <a:cubicBezTo>
                    <a:pt x="917762" y="2698362"/>
                    <a:pt x="518197" y="2495797"/>
                    <a:pt x="265013" y="2153743"/>
                  </a:cubicBezTo>
                  <a:lnTo>
                    <a:pt x="1349375" y="1350169"/>
                  </a:lnTo>
                  <a:cubicBezTo>
                    <a:pt x="1347303" y="1800220"/>
                    <a:pt x="1345230" y="2250272"/>
                    <a:pt x="1343158" y="2700323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8728" y="2158737"/>
                  </a:moveTo>
                  <a:cubicBezTo>
                    <a:pt x="11565" y="1814635"/>
                    <a:pt x="-66560" y="1368605"/>
                    <a:pt x="58325" y="957506"/>
                  </a:cubicBezTo>
                  <a:lnTo>
                    <a:pt x="1349375" y="1350169"/>
                  </a:lnTo>
                  <a:lnTo>
                    <a:pt x="268728" y="215873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59938" y="952236"/>
                  </a:moveTo>
                  <a:cubicBezTo>
                    <a:pt x="234431" y="386154"/>
                    <a:pt x="757328" y="-1"/>
                    <a:pt x="1349376" y="-1"/>
                  </a:cubicBezTo>
                  <a:cubicBezTo>
                    <a:pt x="1349376" y="450056"/>
                    <a:pt x="1349375" y="900112"/>
                    <a:pt x="1349375" y="1350169"/>
                  </a:cubicBez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8134" y="1"/>
                  </a:moveTo>
                  <a:cubicBezTo>
                    <a:pt x="1839103" y="-451"/>
                    <a:pt x="2291574" y="265962"/>
                    <a:pt x="2529586" y="695634"/>
                  </a:cubicBezTo>
                  <a:lnTo>
                    <a:pt x="1349375" y="1350169"/>
                  </a:lnTo>
                  <a:cubicBezTo>
                    <a:pt x="1348961" y="900113"/>
                    <a:pt x="1348548" y="450057"/>
                    <a:pt x="1348134" y="1"/>
                  </a:cubicBez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7" name="组合 8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378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3500280" y="3513240"/>
              <a:ext cx="51440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美乐辰旗舰店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/>
  <dc:language>en-US</dc:language>
  <cp:lastModifiedBy>Administrator</cp:lastModifiedBy>
  <dcterms:modified xsi:type="dcterms:W3CDTF">2016-07-26T01:48:37Z</dcterms:modified>
  <cp:revision>25</cp:revision>
  <dc:subject/>
  <dc:title>PowerPoint 演示文稿</dc:title>
</cp:coreProperties>
</file>