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AF8-F873-4897-A92F-4BC23837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AC0-35AD-4055-821F-3C2E77D4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627-38C0-4EC9-B9C2-56170B91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EFB-C347-42F2-88C2-B90979A4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9DD-D8E1-432A-80B1-14D14B6C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6DA-DB38-4D13-B6B8-957F210C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3F9-85C9-4904-8E59-CE7B75EE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312-2A2A-4731-962B-120EAB11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BDC-D9EB-40C0-B87B-3EE01E4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F92-A65C-4A40-9582-66919950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FBA-9C2C-4473-B43B-30D373B1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0AD-4E4A-46DC-8DCE-C887D8B2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9BEF-ADB5-4107-B301-6F097842DA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761560" y="711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7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081080" y="207324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5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9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80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4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8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9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6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6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5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9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3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7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1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4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7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20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3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6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1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6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1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7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8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2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6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60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4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5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9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70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4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80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2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1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5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30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50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9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6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7" name="组合 8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8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500280" y="3513240"/>
              <a:ext cx="51440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美乐辰旗舰店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dministrator</cp:lastModifiedBy>
  <dcterms:modified xsi:type="dcterms:W3CDTF">2016-07-26T01:48:37Z</dcterms:modified>
  <cp:revision>25</cp:revision>
  <dc:subject/>
  <dc:title>PowerPoint 演示文稿</dc:title>
</cp:coreProperties>
</file>