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8F4-670F-4328-945C-A17BF888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D65-96AE-4796-9633-E5295FF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A03-2D5B-4357-A7ED-14E3563E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003-D7A0-47F4-96A3-8451653D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9E7-7337-4B69-ACB7-562CAFF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5BA-6ED1-4F14-A871-04CB041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21C-FB46-4659-8C92-6512452F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D1E-B1DD-4B49-B8CC-FEB2C80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7B3-BF2E-47FB-9C96-75367E9D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922-5AD2-49C8-BF96-F3530A2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75F-EFBB-4AEA-AE42-ED2A1F4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BF4-21CF-45F7-96DE-975E4B1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8D44-845F-4894-AD27-2251BC04C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7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4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8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79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3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7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8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6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4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8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2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6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0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3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6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19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2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5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0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5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0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6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7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1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5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59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3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4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8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69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3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4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79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0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4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29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49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8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5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6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7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3"/>
            <p:cNvSpPr/>
            <p:nvPr/>
          </p:nvSpPr>
          <p:spPr>
            <a:xfrm>
              <a:off x="3500280" y="3513240"/>
              <a:ext cx="5144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0:35:51Z</dcterms:modified>
  <cp:revision>26</cp:revision>
  <dc:subject/>
  <dc:title>幻灯片 1</dc:title>
</cp:coreProperties>
</file>