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18.png" ContentType="image/png"/>
  <Override PartName="/ppt/media/image20.png" ContentType="image/png"/>
  <Override PartName="/ppt/media/image44.png" ContentType="image/png"/>
  <Override PartName="/ppt/media/image56.png" ContentType="image/png"/>
  <Override PartName="/ppt/media/image41.png" ContentType="image/png"/>
  <Override PartName="/ppt/media/image40.png" ContentType="image/png"/>
  <Override PartName="/ppt/media/image37.png" ContentType="image/png"/>
  <Override PartName="/ppt/media/image33.png" ContentType="image/png"/>
  <Override PartName="/ppt/media/image38.png" ContentType="image/png"/>
  <Override PartName="/ppt/media/image8.png" ContentType="image/png"/>
  <Override PartName="/ppt/media/image31.png" ContentType="image/png"/>
  <Override PartName="/ppt/media/image49.png" ContentType="image/png"/>
  <Override PartName="/ppt/media/image12.png" ContentType="image/png"/>
  <Override PartName="/ppt/media/image39.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B6458-D949-47A1-B5CF-150E0FD26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80BEE-F01B-47DF-B25F-8C95DD5D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22CB2-F0F2-456E-9D7E-B932BFBA6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DA64E-3D42-46C7-A0D4-0EC674CF3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A5E7B-6DF9-4F89-8906-0DC23B135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5855C-FA59-420F-B919-47C812121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394FE-B873-45DB-A1AC-E54E2B266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368F4-DA84-467A-AFD2-ECC1FE493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38554-B7C7-4292-BF23-71AB41D5F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E38B9-DBAB-4815-8A58-2FE8CFFA4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E5106-AC95-45B6-AE6E-60DE8DF0D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3A9A-53DF-4445-A411-5875A6673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DD63C-1F4F-47A5-AB0A-5AAC82992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09C8-AD84-498A-826B-864516EAB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AA0A2-024B-4B15-9AE6-443E9BCE0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F8202-B2E4-44C0-9FEC-E587A8540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DDC31-D862-4E1A-99EF-BC461B411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BED48-1893-4EE1-AD09-121A47E469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2FECC-45DA-4174-8E8C-D89C433F6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20E6D-A234-4C4F-8259-98B9EA01F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18673-EECA-41B4-AE87-1B6012AF7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3F388-9635-4B55-87BE-2343BCFB9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AAB36-A2F9-4EFC-9873-F0AF309CA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42373-374E-44E4-BFB2-302D4BA97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958A7-DCBD-432B-91D3-73364F1B1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FDCA8-DC28-4A84-B0A4-E45FAAB54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C13FF-038E-424E-B5B9-6B90EC793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FEC4D-EE35-4ECA-B180-9DDE17ADA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E9C96-1FCB-4D0C-9591-02DB1B3B6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097E4-EBFA-4CEC-B6E2-5B98FB2A2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91D634-174B-46B8-BFB9-D164ADA5FA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5A42B-81B3-4E06-8283-3145DD123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87463-9285-4F35-A0BD-6C5919863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C304-8D0A-4472-97C2-858745D9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A518B-348C-4D87-9D71-D623BE6BA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29DEB-5E27-4B58-AE4D-53D2F2CA9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080E6-9150-4DD1-A18F-C06C88D4A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95E03-25D4-4030-A94B-D7692BDFB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C4B18-286B-4D28-9CDD-92BC30EE6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0D695-B443-41E8-8FBE-C6F2F92C7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721A6-6BD5-4C40-B3F3-44283DBF22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E3DAF3-2D87-496D-BA5B-644F26F9B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FE3A94-8601-46C8-8ADB-E30AF53001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5EBE7-F101-479D-8F70-0507EB2A83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9F1B-04C7-49F0-85AF-765BFFDE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3B671-DA89-406E-8191-92B0693C5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ED7741-F55B-4AE6-ACEC-464BDA77D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05FA67-144D-4A33-A9B9-C4A0D54B5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A26E0-DE57-482A-B88E-D673F1559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ABF80-EA79-4996-B3EC-EEA9C3C43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0A4B2-9AAD-4DFA-8B6B-11F4113B5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36AD8-F0DA-4819-939A-278C79CAA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56023-F45F-462D-85DC-D8994BA017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E0550-63D4-4DE6-A8EA-233AB6307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8D5791-B961-4CAB-8BDF-B352199F68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1DF46-059D-4B92-87B6-F89A2B22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00358-B9DF-46D0-994D-4F7248FBC5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F9C4-BD34-485F-8B2E-7D12ED178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9719-E775-44EC-B822-E2C972FA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8842-8F1B-4CA0-8A73-194AFEDA3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B483-1A94-4F93-8460-B2757FFE823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3E24-0FA3-45C5-9853-344EC3E51B2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6D35-4FD4-4266-BF02-F31118D650A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1EF1-9BB2-45CF-9A83-DEB3CA34551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0ED5-47B0-4BAF-932D-EFAB8038AD0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64000" y="226368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par>
                                <p:cTn id="553" nodeType="withEffect" fill="hold" presetClass="entr" presetID="12" presetSubtype="8">
                                  <p:stCondLst>
                                    <p:cond delay="0"/>
                                  </p:stCondLst>
                                  <p:childTnLst>
                                    <p:set>
                                      <p:cBhvr>
                                        <p:cTn id="554" dur="1" fill="hold">
                                          <p:stCondLst>
                                            <p:cond delay="0"/>
                                          </p:stCondLst>
                                        </p:cTn>
                                        <p:tgtEl>
                                          <p:spTgt spid="349"/>
                                        </p:tgtEl>
                                        <p:attrNameLst>
                                          <p:attrName>style.visibility</p:attrName>
                                        </p:attrNameLst>
                                      </p:cBhvr>
                                      <p:to>
                                        <p:strVal val="visible"/>
                                      </p:to>
                                    </p:set>
                                    <p:animEffect filter="slide(fromLeft)" transition="in">
                                      <p:cBhvr additive="repl">
                                        <p:cTn id="55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39600" y="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6-07-26T02:47:3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