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E53-1919-490A-A8F9-A7507EC3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4B3-866B-4282-AE81-EA8EA99C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DB2-E664-4F41-9936-4C11AF3E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778-869A-4865-B0A5-27DDE432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9375-DC52-4940-87CC-1BE28647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E6CA-9BC3-427E-A7A0-CA3B0348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8A52-073D-4ABD-92D6-83C3A5BF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5DFF-9FF5-4D0C-8637-7BB67F5E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8F87-E887-4173-8B92-462C7E6A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1073-48FD-457B-8D3F-0DB731F5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A7FA-80C4-4E63-94DD-8DED491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06F-7165-4764-B8ED-062FEC8A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AADC-C3F9-41F2-8FEB-B4C7A1C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5F5-9255-43AA-B158-0FF21D1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DAA9-B3B3-4DD5-961F-528CF2F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31F1-2B60-45DC-A12C-0A0DA721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B892-81F0-42AC-BC62-70D4D4E8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264-889E-4E79-8C23-E50C356A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173-2612-4CE6-9542-C3DF01A7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330-D611-4E76-9C8A-0CB6FDB4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AAD-4338-46A2-9346-3EE6E8A1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0FD-6177-479A-ABD8-066A602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1DF-DB5D-47E2-A508-DB099D8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D3B-BF4A-4969-806B-583ACD3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AB0C-7DA4-460E-B418-C2590E273A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0B8-4CED-4EC7-A39E-B56DE04C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-1764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 Placeholder 2" descr="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asus</dc:creator>
  <dc:description/>
  <dc:language>en-US</dc:language>
  <cp:lastModifiedBy>zuazua W</cp:lastModifiedBy>
  <dcterms:modified xsi:type="dcterms:W3CDTF">2015-01-07T08:5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