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57F-7189-42EE-8D65-48AA30DC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0A4-BF7E-4C2B-B5A0-57495D8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41A-8151-45E8-9E6F-51E6E054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2F5-6740-4157-A706-98CD42B8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0DD-AB06-44F2-A2A0-2E8CE19D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AE8-6935-4FE8-8BC3-32B10D7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729A-301E-4AFA-B87F-26E398D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712-7A69-4511-941C-F151CDA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B066-2EAA-4BB2-ADEA-50EF377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9993-4CED-4E83-BAB7-9D0BC931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3A32-435F-4D75-A48F-4C1A5A0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BD5-DD35-4C15-9D97-2D8E5EAE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2638-0D40-46C2-965D-2243BFF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3BD3-B8AB-430B-BF99-CAFCA50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5F8-02F2-43CF-8FF7-A374CF6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71D-FA91-40DA-9124-1EC1E820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9073-9ED7-46C0-B48C-500F4408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23F-72AA-4C0C-A505-DC710AB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AF5-1890-4EB9-A3A8-9FE0A8E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8B5-109E-418D-80A1-274D5AF2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AF9-C218-4D8F-A576-9D16C38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B40-61CF-4465-A0A4-97720305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473-FC60-4A96-B7F2-88BF6E2C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78B-C019-423B-B561-6161CC1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B77-56DE-4807-8E4C-2AFC66BB18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F0A-5F10-41C6-AB61-6ACBEBAE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-1764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 Placeholder 2" descr="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asus</dc:creator>
  <dc:description/>
  <dc:language>en-US</dc:language>
  <cp:lastModifiedBy>zuazua W</cp:lastModifiedBy>
  <dcterms:modified xsi:type="dcterms:W3CDTF">2015-01-07T08:5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