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75A-4644-4CF5-B369-40F30632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83C-4055-47E7-8D8A-B38BDDAC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167-D62B-47FB-ABE4-B2DC2D9C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894-B013-4B25-A547-25710185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37B-5512-4A77-89A2-8FF169C6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A33A-28D0-4E67-A055-BC111EBA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FDEF-7FC8-45E2-B2FC-C311CA74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450A-2A3C-40B1-BB00-A3DD3EC6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FB4B-CDD8-49B0-9B7A-45834239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D62F-9B57-4B7F-BD9E-1210CA6D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8CA-6D87-4665-93C2-38E2DA0F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8438-D401-4B72-9DC7-6C6206CD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E8D8-76B2-45BC-9387-79D72445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18AC-BBC0-49F5-B263-9F2D5775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D4EE-1019-4F1A-8CF6-62D7F75A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9F31-CFB0-40B5-AE90-8C9BEFC4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CE6B-CC60-4A3C-A9A4-9A728FC4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7727-88AC-40B7-8277-E5196FF7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254-6B63-48E6-823B-28E9EC66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6C2-4EAB-46D6-AE97-9D04D19B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86A-FC09-4338-B640-4DD9CA28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BD6-6DA5-4615-A16C-B1BB7824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998-F747-4EE6-B4FB-6702D866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505-4728-4747-A391-B4F4B17D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+内页底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E6F8-B297-4E63-96A3-05A20A70D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5"/>
          <p:cNvSpPr/>
          <p:nvPr/>
        </p:nvSpPr>
        <p:spPr>
          <a:xfrm>
            <a:off x="7521480" y="64533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www.51pptmoban.com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9"/>
          <p:cNvGrpSpPr/>
          <p:nvPr/>
        </p:nvGrpSpPr>
        <p:grpSpPr>
          <a:xfrm>
            <a:off x="-1440" y="0"/>
            <a:ext cx="9146880" cy="6859440"/>
            <a:chOff x="-1440" y="0"/>
            <a:chExt cx="9146880" cy="6859440"/>
          </a:xfrm>
        </p:grpSpPr>
        <p:pic>
          <p:nvPicPr>
            <p:cNvPr id="83" name="Picture 47" descr="+封面底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5440" cy="68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8" descr="+底边"/>
            <p:cNvPicPr/>
            <p:nvPr/>
          </p:nvPicPr>
          <p:blipFill>
            <a:blip r:embed="rId3"/>
            <a:stretch/>
          </p:blipFill>
          <p:spPr>
            <a:xfrm>
              <a:off x="-1440" y="4375080"/>
              <a:ext cx="9145440" cy="24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60F5-D870-4FB0-AD7C-3250081B5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微软雅黑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2"/>
          <p:cNvSpPr/>
          <p:nvPr/>
        </p:nvSpPr>
        <p:spPr>
          <a:xfrm>
            <a:off x="1685880" y="1844640"/>
            <a:ext cx="28702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Wingdings"/>
                <a:ea typeface="Wingdings"/>
              </a:rPr>
              <a:t>毕业论文</a:t>
            </a:r>
            <a:r>
              <a:rPr b="1" lang="en-US" sz="3000" spc="-1" strike="noStrike">
                <a:solidFill>
                  <a:srgbClr val="6eacba"/>
                </a:solidFill>
                <a:latin typeface="Wingdings"/>
                <a:ea typeface="Wingdings"/>
              </a:rPr>
              <a:t></a:t>
            </a:r>
            <a:r>
              <a:rPr b="1" lang="zh-CN" sz="3000" spc="-1" strike="noStrike">
                <a:solidFill>
                  <a:srgbClr val="6eacba"/>
                </a:solidFill>
                <a:latin typeface="Wingdings"/>
                <a:ea typeface="Wingdings"/>
              </a:rPr>
              <a:t>模板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黑体"/>
                <a:ea typeface="黑体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圆角矩形 90"/>
          <p:cNvSpPr/>
          <p:nvPr/>
        </p:nvSpPr>
        <p:spPr>
          <a:xfrm>
            <a:off x="1122480" y="202896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圆角矩形 91"/>
          <p:cNvSpPr/>
          <p:nvPr/>
        </p:nvSpPr>
        <p:spPr>
          <a:xfrm>
            <a:off x="1162080" y="2079720"/>
            <a:ext cx="2055960" cy="2743200"/>
          </a:xfrm>
          <a:custGeom>
            <a:avLst/>
            <a:gdLst>
              <a:gd name="textAreaLeft" fmla="*/ 43200 w 2055960"/>
              <a:gd name="textAreaRight" fmla="*/ 2012760 w 205596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19">
                <a:moveTo>
                  <a:pt x="1551" y="0"/>
                </a:moveTo>
                <a:arcTo wR="1551" hR="1551" stAng="16200000" swAng="-5400000"/>
                <a:lnTo>
                  <a:pt x="0" y="27268"/>
                </a:lnTo>
                <a:arcTo wR="1551" hR="1551" stAng="10800000" swAng="-5400000"/>
                <a:lnTo>
                  <a:pt x="20049" y="2881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Freeform 25"/>
          <p:cNvSpPr/>
          <p:nvPr/>
        </p:nvSpPr>
        <p:spPr>
          <a:xfrm rot="21300000">
            <a:off x="164304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Freeform 25"/>
          <p:cNvSpPr/>
          <p:nvPr/>
        </p:nvSpPr>
        <p:spPr>
          <a:xfrm flipH="1" rot="300000">
            <a:off x="271548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圆角矩形 125"/>
          <p:cNvSpPr/>
          <p:nvPr/>
        </p:nvSpPr>
        <p:spPr>
          <a:xfrm>
            <a:off x="1193760" y="2111400"/>
            <a:ext cx="1992240" cy="2679840"/>
          </a:xfrm>
          <a:custGeom>
            <a:avLst/>
            <a:gdLst>
              <a:gd name="textAreaLeft" fmla="*/ 33480 w 1992240"/>
              <a:gd name="textAreaRight" fmla="*/ 1958760 w 199224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54">
                <a:moveTo>
                  <a:pt x="1249" y="0"/>
                </a:moveTo>
                <a:arcTo wR="1249" hR="1249" stAng="16200000" swAng="-5400000"/>
                <a:lnTo>
                  <a:pt x="0" y="27805"/>
                </a:lnTo>
                <a:arcTo wR="1249" hR="1249" stAng="10800000" swAng="-5400000"/>
                <a:lnTo>
                  <a:pt x="20351" y="29054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椭圆 127"/>
          <p:cNvSpPr/>
          <p:nvPr/>
        </p:nvSpPr>
        <p:spPr>
          <a:xfrm>
            <a:off x="2949480" y="221940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椭圆 128"/>
          <p:cNvSpPr/>
          <p:nvPr/>
        </p:nvSpPr>
        <p:spPr>
          <a:xfrm>
            <a:off x="137952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椭圆 129"/>
          <p:cNvSpPr/>
          <p:nvPr/>
        </p:nvSpPr>
        <p:spPr>
          <a:xfrm>
            <a:off x="137952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椭圆 130"/>
          <p:cNvSpPr/>
          <p:nvPr/>
        </p:nvSpPr>
        <p:spPr>
          <a:xfrm>
            <a:off x="2949480" y="458316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圆角矩形 96"/>
          <p:cNvSpPr/>
          <p:nvPr/>
        </p:nvSpPr>
        <p:spPr>
          <a:xfrm rot="16200000">
            <a:off x="1135800" y="2616840"/>
            <a:ext cx="2093760" cy="170172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365233"/>
              </a:gs>
              <a:gs pos="50000">
                <a:srgbClr val="74b16f"/>
              </a:gs>
              <a:gs pos="100000">
                <a:srgbClr val="3652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圆角矩形 97"/>
          <p:cNvSpPr/>
          <p:nvPr/>
        </p:nvSpPr>
        <p:spPr>
          <a:xfrm>
            <a:off x="1360440" y="4468680"/>
            <a:ext cx="166392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336680" y="3454560"/>
            <a:ext cx="17064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1330200" y="286848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>
            <a:off x="142236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弦形 101"/>
          <p:cNvSpPr/>
          <p:nvPr/>
        </p:nvSpPr>
        <p:spPr>
          <a:xfrm>
            <a:off x="1660680" y="157464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53326" y="453738"/>
                </a:moveTo>
                <a:cubicBezTo>
                  <a:pt x="1083263" y="659408"/>
                  <a:pt x="990454" y="863629"/>
                  <a:pt x="815935" y="976104"/>
                </a:cubicBezTo>
                <a:cubicBezTo>
                  <a:pt x="641052" y="1088814"/>
                  <a:pt x="416478" y="1088545"/>
                  <a:pt x="241864" y="975417"/>
                </a:cubicBezTo>
                <a:cubicBezTo>
                  <a:pt x="67615" y="862525"/>
                  <a:pt x="-24707" y="658083"/>
                  <a:pt x="5720" y="452487"/>
                </a:cubicBezTo>
                <a:lnTo>
                  <a:pt x="1053326" y="4537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弦形 102"/>
          <p:cNvSpPr/>
          <p:nvPr/>
        </p:nvSpPr>
        <p:spPr>
          <a:xfrm>
            <a:off x="1660680" y="157788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44431" y="653181"/>
                </a:moveTo>
                <a:cubicBezTo>
                  <a:pt x="987643" y="891750"/>
                  <a:pt x="774896" y="1060181"/>
                  <a:pt x="530009" y="1060449"/>
                </a:cubicBezTo>
                <a:cubicBezTo>
                  <a:pt x="285121" y="1060717"/>
                  <a:pt x="72006" y="892749"/>
                  <a:pt x="14699" y="654304"/>
                </a:cubicBezTo>
                <a:lnTo>
                  <a:pt x="1044431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圆角矩形 123"/>
          <p:cNvSpPr/>
          <p:nvPr/>
        </p:nvSpPr>
        <p:spPr>
          <a:xfrm rot="5400000">
            <a:off x="308160" y="3439440"/>
            <a:ext cx="2090520" cy="4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圆角矩形 124"/>
          <p:cNvSpPr/>
          <p:nvPr/>
        </p:nvSpPr>
        <p:spPr>
          <a:xfrm rot="5400000">
            <a:off x="1977840" y="3436920"/>
            <a:ext cx="2090520" cy="49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Freeform 17"/>
          <p:cNvSpPr/>
          <p:nvPr/>
        </p:nvSpPr>
        <p:spPr>
          <a:xfrm rot="1283400">
            <a:off x="2557080" y="2359080"/>
            <a:ext cx="219240" cy="176040"/>
          </a:xfrm>
          <a:custGeom>
            <a:avLst/>
            <a:gdLst>
              <a:gd name="textAreaLeft" fmla="*/ 0 w 219240"/>
              <a:gd name="textAreaRight" fmla="*/ 21960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Freeform 17"/>
          <p:cNvSpPr/>
          <p:nvPr/>
        </p:nvSpPr>
        <p:spPr>
          <a:xfrm flipH="1" rot="20316600">
            <a:off x="1599120" y="2359080"/>
            <a:ext cx="219240" cy="176040"/>
          </a:xfrm>
          <a:custGeom>
            <a:avLst/>
            <a:gdLst>
              <a:gd name="textAreaLeft" fmla="*/ -360 w 219240"/>
              <a:gd name="textAreaRight" fmla="*/ 21924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圆角矩形 49"/>
          <p:cNvSpPr/>
          <p:nvPr/>
        </p:nvSpPr>
        <p:spPr>
          <a:xfrm>
            <a:off x="3484440" y="2028960"/>
            <a:ext cx="2136960" cy="2846160"/>
          </a:xfrm>
          <a:custGeom>
            <a:avLst/>
            <a:gdLst>
              <a:gd name="textAreaLeft" fmla="*/ 47520 w 2136960"/>
              <a:gd name="textAreaRight" fmla="*/ 2089440 w 21369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67">
                <a:moveTo>
                  <a:pt x="1647" y="0"/>
                </a:moveTo>
                <a:arcTo wR="1647" hR="1647" stAng="16200000" swAng="-5400000"/>
                <a:lnTo>
                  <a:pt x="0" y="27120"/>
                </a:lnTo>
                <a:arcTo wR="1647" hR="1647" stAng="10800000" swAng="-5400000"/>
                <a:lnTo>
                  <a:pt x="19953" y="28767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圆角矩形 50"/>
          <p:cNvSpPr/>
          <p:nvPr/>
        </p:nvSpPr>
        <p:spPr>
          <a:xfrm>
            <a:off x="3524400" y="2079720"/>
            <a:ext cx="2057400" cy="2743200"/>
          </a:xfrm>
          <a:custGeom>
            <a:avLst/>
            <a:gdLst>
              <a:gd name="textAreaLeft" fmla="*/ 43200 w 2057400"/>
              <a:gd name="textAreaRight" fmla="*/ 2014200 w 205740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799">
                <a:moveTo>
                  <a:pt x="1551" y="0"/>
                </a:moveTo>
                <a:arcTo wR="1551" hR="1551" stAng="16200000" swAng="-5400000"/>
                <a:lnTo>
                  <a:pt x="0" y="27248"/>
                </a:lnTo>
                <a:arcTo wR="1551" hR="1551" stAng="10800000" swAng="-5400000"/>
                <a:lnTo>
                  <a:pt x="20049" y="2879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Freeform 25"/>
          <p:cNvSpPr/>
          <p:nvPr/>
        </p:nvSpPr>
        <p:spPr>
          <a:xfrm rot="21300000">
            <a:off x="4005000" y="2028600"/>
            <a:ext cx="2196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Freeform 25"/>
          <p:cNvSpPr/>
          <p:nvPr/>
        </p:nvSpPr>
        <p:spPr>
          <a:xfrm flipH="1" rot="300000">
            <a:off x="5078160" y="2028960"/>
            <a:ext cx="2196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圆角矩形 82"/>
          <p:cNvSpPr/>
          <p:nvPr/>
        </p:nvSpPr>
        <p:spPr>
          <a:xfrm>
            <a:off x="3557520" y="2111400"/>
            <a:ext cx="1990800" cy="2679840"/>
          </a:xfrm>
          <a:custGeom>
            <a:avLst/>
            <a:gdLst>
              <a:gd name="textAreaLeft" fmla="*/ 33480 w 1990800"/>
              <a:gd name="textAreaRight" fmla="*/ 1957320 w 199080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75">
                <a:moveTo>
                  <a:pt x="1249" y="0"/>
                </a:moveTo>
                <a:arcTo wR="1249" hR="1249" stAng="16200000" swAng="-5400000"/>
                <a:lnTo>
                  <a:pt x="0" y="27826"/>
                </a:lnTo>
                <a:arcTo wR="1249" hR="1249" stAng="10800000" swAng="-5400000"/>
                <a:lnTo>
                  <a:pt x="20351" y="29075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椭圆 84"/>
          <p:cNvSpPr/>
          <p:nvPr/>
        </p:nvSpPr>
        <p:spPr>
          <a:xfrm>
            <a:off x="5313240" y="221940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椭圆 85"/>
          <p:cNvSpPr/>
          <p:nvPr/>
        </p:nvSpPr>
        <p:spPr>
          <a:xfrm>
            <a:off x="3743280" y="221940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椭圆 86"/>
          <p:cNvSpPr/>
          <p:nvPr/>
        </p:nvSpPr>
        <p:spPr>
          <a:xfrm>
            <a:off x="3743280" y="458316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椭圆 87"/>
          <p:cNvSpPr/>
          <p:nvPr/>
        </p:nvSpPr>
        <p:spPr>
          <a:xfrm>
            <a:off x="5313240" y="458316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圆角矩形 55"/>
          <p:cNvSpPr/>
          <p:nvPr/>
        </p:nvSpPr>
        <p:spPr>
          <a:xfrm rot="16200000">
            <a:off x="3498840" y="2617560"/>
            <a:ext cx="2093760" cy="170028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335056"/>
              </a:gs>
              <a:gs pos="50000">
                <a:srgbClr val="6eacba"/>
              </a:gs>
              <a:gs pos="100000">
                <a:srgbClr val="33505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圆角矩形 56"/>
          <p:cNvSpPr/>
          <p:nvPr/>
        </p:nvSpPr>
        <p:spPr>
          <a:xfrm>
            <a:off x="3724200" y="4468680"/>
            <a:ext cx="166392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700440" y="3454560"/>
            <a:ext cx="1704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3692520" y="28684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378612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弦形 60"/>
          <p:cNvSpPr/>
          <p:nvPr/>
        </p:nvSpPr>
        <p:spPr>
          <a:xfrm>
            <a:off x="4022640" y="157464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54888" y="453626"/>
                </a:moveTo>
                <a:cubicBezTo>
                  <a:pt x="1084939" y="659459"/>
                  <a:pt x="991856" y="863850"/>
                  <a:pt x="816854" y="976299"/>
                </a:cubicBezTo>
                <a:cubicBezTo>
                  <a:pt x="641852" y="1088748"/>
                  <a:pt x="417263" y="1088479"/>
                  <a:pt x="242531" y="975613"/>
                </a:cubicBezTo>
                <a:cubicBezTo>
                  <a:pt x="67799" y="862746"/>
                  <a:pt x="-24796" y="658133"/>
                  <a:pt x="5747" y="452372"/>
                </a:cubicBezTo>
                <a:lnTo>
                  <a:pt x="1054888" y="4536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弦形 61"/>
          <p:cNvSpPr/>
          <p:nvPr/>
        </p:nvSpPr>
        <p:spPr>
          <a:xfrm>
            <a:off x="4022640" y="157788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45955" y="653356"/>
                </a:moveTo>
                <a:cubicBezTo>
                  <a:pt x="989017" y="891841"/>
                  <a:pt x="775991" y="1060183"/>
                  <a:pt x="530803" y="1060450"/>
                </a:cubicBezTo>
                <a:cubicBezTo>
                  <a:pt x="285616" y="1060717"/>
                  <a:pt x="72223" y="892841"/>
                  <a:pt x="14764" y="654481"/>
                </a:cubicBezTo>
                <a:lnTo>
                  <a:pt x="1045955" y="653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圆角矩形 62"/>
          <p:cNvSpPr/>
          <p:nvPr/>
        </p:nvSpPr>
        <p:spPr>
          <a:xfrm rot="5400000">
            <a:off x="2671560" y="3440160"/>
            <a:ext cx="2090520" cy="42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圆角矩形 63"/>
          <p:cNvSpPr/>
          <p:nvPr/>
        </p:nvSpPr>
        <p:spPr>
          <a:xfrm rot="5400000">
            <a:off x="4340880" y="343764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Freeform 17"/>
          <p:cNvSpPr/>
          <p:nvPr/>
        </p:nvSpPr>
        <p:spPr>
          <a:xfrm rot="1283400">
            <a:off x="4921200" y="2359080"/>
            <a:ext cx="217440" cy="176040"/>
          </a:xfrm>
          <a:custGeom>
            <a:avLst/>
            <a:gdLst>
              <a:gd name="textAreaLeft" fmla="*/ 0 w 217440"/>
              <a:gd name="textAreaRight" fmla="*/ 217800 w 2174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Freeform 17"/>
          <p:cNvSpPr/>
          <p:nvPr/>
        </p:nvSpPr>
        <p:spPr>
          <a:xfrm flipH="1" rot="20316600">
            <a:off x="3962160" y="2359080"/>
            <a:ext cx="218880" cy="1760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圆角矩形 8"/>
          <p:cNvSpPr/>
          <p:nvPr/>
        </p:nvSpPr>
        <p:spPr>
          <a:xfrm>
            <a:off x="5848200" y="202896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圆角矩形 9"/>
          <p:cNvSpPr/>
          <p:nvPr/>
        </p:nvSpPr>
        <p:spPr>
          <a:xfrm>
            <a:off x="5888160" y="2079720"/>
            <a:ext cx="2055600" cy="2743200"/>
          </a:xfrm>
          <a:custGeom>
            <a:avLst/>
            <a:gdLst>
              <a:gd name="textAreaLeft" fmla="*/ 43200 w 2055600"/>
              <a:gd name="textAreaRight" fmla="*/ 2012400 w 205560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24">
                <a:moveTo>
                  <a:pt x="1551" y="0"/>
                </a:moveTo>
                <a:arcTo wR="1551" hR="1551" stAng="16200000" swAng="-5400000"/>
                <a:lnTo>
                  <a:pt x="0" y="27273"/>
                </a:lnTo>
                <a:arcTo wR="1551" hR="1551" stAng="10800000" swAng="-5400000"/>
                <a:lnTo>
                  <a:pt x="20049" y="28824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Freeform 25"/>
          <p:cNvSpPr/>
          <p:nvPr/>
        </p:nvSpPr>
        <p:spPr>
          <a:xfrm rot="21300000">
            <a:off x="636912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Freeform 25"/>
          <p:cNvSpPr/>
          <p:nvPr/>
        </p:nvSpPr>
        <p:spPr>
          <a:xfrm flipH="1" rot="300000">
            <a:off x="744156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圆角矩形 41"/>
          <p:cNvSpPr/>
          <p:nvPr/>
        </p:nvSpPr>
        <p:spPr>
          <a:xfrm>
            <a:off x="5919840" y="2111400"/>
            <a:ext cx="1992240" cy="2679840"/>
          </a:xfrm>
          <a:custGeom>
            <a:avLst/>
            <a:gdLst>
              <a:gd name="textAreaLeft" fmla="*/ 33480 w 1992240"/>
              <a:gd name="textAreaRight" fmla="*/ 1958760 w 199224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54">
                <a:moveTo>
                  <a:pt x="1249" y="0"/>
                </a:moveTo>
                <a:arcTo wR="1249" hR="1249" stAng="16200000" swAng="-5400000"/>
                <a:lnTo>
                  <a:pt x="0" y="27805"/>
                </a:lnTo>
                <a:arcTo wR="1249" hR="1249" stAng="10800000" swAng="-5400000"/>
                <a:lnTo>
                  <a:pt x="20351" y="29054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椭圆 43"/>
          <p:cNvSpPr/>
          <p:nvPr/>
        </p:nvSpPr>
        <p:spPr>
          <a:xfrm>
            <a:off x="767556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椭圆 44"/>
          <p:cNvSpPr/>
          <p:nvPr/>
        </p:nvSpPr>
        <p:spPr>
          <a:xfrm>
            <a:off x="610560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椭圆 45"/>
          <p:cNvSpPr/>
          <p:nvPr/>
        </p:nvSpPr>
        <p:spPr>
          <a:xfrm>
            <a:off x="610560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椭圆 46"/>
          <p:cNvSpPr/>
          <p:nvPr/>
        </p:nvSpPr>
        <p:spPr>
          <a:xfrm>
            <a:off x="767556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圆角矩形 14"/>
          <p:cNvSpPr/>
          <p:nvPr/>
        </p:nvSpPr>
        <p:spPr>
          <a:xfrm rot="16200000">
            <a:off x="5861880" y="2616840"/>
            <a:ext cx="2093760" cy="170172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525330"/>
              </a:gs>
              <a:gs pos="50000">
                <a:srgbClr val="b2b468"/>
              </a:gs>
              <a:gs pos="100000">
                <a:srgbClr val="5253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圆角矩形 15"/>
          <p:cNvSpPr/>
          <p:nvPr/>
        </p:nvSpPr>
        <p:spPr>
          <a:xfrm>
            <a:off x="6086520" y="4468680"/>
            <a:ext cx="166356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6062760" y="3454560"/>
            <a:ext cx="17064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6056280" y="286848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614844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弦形 19"/>
          <p:cNvSpPr/>
          <p:nvPr/>
        </p:nvSpPr>
        <p:spPr>
          <a:xfrm>
            <a:off x="6386400" y="1574640"/>
            <a:ext cx="105912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53325" y="453739"/>
                </a:moveTo>
                <a:cubicBezTo>
                  <a:pt x="1083262" y="659408"/>
                  <a:pt x="990453" y="863629"/>
                  <a:pt x="815935" y="976104"/>
                </a:cubicBezTo>
                <a:cubicBezTo>
                  <a:pt x="641052" y="1088814"/>
                  <a:pt x="416478" y="1088545"/>
                  <a:pt x="241865" y="975417"/>
                </a:cubicBezTo>
                <a:cubicBezTo>
                  <a:pt x="67616" y="862525"/>
                  <a:pt x="-24705" y="658083"/>
                  <a:pt x="5722" y="452487"/>
                </a:cubicBezTo>
                <a:lnTo>
                  <a:pt x="1053325" y="4537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弦形 20"/>
          <p:cNvSpPr/>
          <p:nvPr/>
        </p:nvSpPr>
        <p:spPr>
          <a:xfrm>
            <a:off x="6386400" y="1577880"/>
            <a:ext cx="105912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44430" y="653181"/>
                </a:moveTo>
                <a:cubicBezTo>
                  <a:pt x="987642" y="891750"/>
                  <a:pt x="774896" y="1060182"/>
                  <a:pt x="530009" y="1060450"/>
                </a:cubicBezTo>
                <a:cubicBezTo>
                  <a:pt x="285121" y="1060718"/>
                  <a:pt x="72007" y="892750"/>
                  <a:pt x="14700" y="654305"/>
                </a:cubicBezTo>
                <a:lnTo>
                  <a:pt x="1044430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圆角矩形 21"/>
          <p:cNvSpPr/>
          <p:nvPr/>
        </p:nvSpPr>
        <p:spPr>
          <a:xfrm rot="5400000">
            <a:off x="5034600" y="3439440"/>
            <a:ext cx="2090520" cy="4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圆角矩形 22"/>
          <p:cNvSpPr/>
          <p:nvPr/>
        </p:nvSpPr>
        <p:spPr>
          <a:xfrm rot="5400000">
            <a:off x="6704640" y="343764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Freeform 17"/>
          <p:cNvSpPr/>
          <p:nvPr/>
        </p:nvSpPr>
        <p:spPr>
          <a:xfrm rot="1283400">
            <a:off x="7283160" y="2359080"/>
            <a:ext cx="218880" cy="176040"/>
          </a:xfrm>
          <a:custGeom>
            <a:avLst/>
            <a:gdLst>
              <a:gd name="textAreaLeft" fmla="*/ 0 w 218880"/>
              <a:gd name="textAreaRight" fmla="*/ 21924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Freeform 23"/>
          <p:cNvSpPr/>
          <p:nvPr/>
        </p:nvSpPr>
        <p:spPr>
          <a:xfrm>
            <a:off x="6087960" y="2409840"/>
            <a:ext cx="1656000" cy="28080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Freeform 17"/>
          <p:cNvSpPr/>
          <p:nvPr/>
        </p:nvSpPr>
        <p:spPr>
          <a:xfrm flipH="1" rot="20316600">
            <a:off x="6325920" y="2359080"/>
            <a:ext cx="218880" cy="1760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Freeform 23"/>
          <p:cNvSpPr/>
          <p:nvPr/>
        </p:nvSpPr>
        <p:spPr>
          <a:xfrm>
            <a:off x="3718080" y="2409840"/>
            <a:ext cx="1655640" cy="2808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Freeform 23"/>
          <p:cNvSpPr/>
          <p:nvPr/>
        </p:nvSpPr>
        <p:spPr>
          <a:xfrm>
            <a:off x="1355760" y="2409840"/>
            <a:ext cx="1655640" cy="2808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29" name="Group 69"/>
          <p:cNvGrpSpPr/>
          <p:nvPr/>
        </p:nvGrpSpPr>
        <p:grpSpPr>
          <a:xfrm>
            <a:off x="4121280" y="1600200"/>
            <a:ext cx="917640" cy="866880"/>
            <a:chOff x="4121280" y="1600200"/>
            <a:chExt cx="917640" cy="866880"/>
          </a:xfrm>
        </p:grpSpPr>
        <p:sp>
          <p:nvSpPr>
            <p:cNvPr id="230" name="椭圆 151"/>
            <p:cNvSpPr/>
            <p:nvPr/>
          </p:nvSpPr>
          <p:spPr>
            <a:xfrm>
              <a:off x="4121280" y="1600200"/>
              <a:ext cx="86508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>
              <a:off x="4152960" y="1623600"/>
              <a:ext cx="79668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2" name="Freeform 49"/>
            <p:cNvSpPr/>
            <p:nvPr/>
          </p:nvSpPr>
          <p:spPr>
            <a:xfrm>
              <a:off x="4132440" y="2076480"/>
              <a:ext cx="82188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3" name="Freeform 55"/>
            <p:cNvSpPr/>
            <p:nvPr/>
          </p:nvSpPr>
          <p:spPr>
            <a:xfrm rot="20506200">
              <a:off x="4730040" y="1999440"/>
              <a:ext cx="28080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4" name="椭圆 156"/>
            <p:cNvSpPr/>
            <p:nvPr/>
          </p:nvSpPr>
          <p:spPr>
            <a:xfrm>
              <a:off x="4202280" y="1680840"/>
              <a:ext cx="70344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5" name="椭圆 157"/>
            <p:cNvSpPr/>
            <p:nvPr/>
          </p:nvSpPr>
          <p:spPr>
            <a:xfrm>
              <a:off x="424368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6" name="椭圆 158"/>
            <p:cNvSpPr/>
            <p:nvPr/>
          </p:nvSpPr>
          <p:spPr>
            <a:xfrm>
              <a:off x="425556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6eacba"/>
                </a:gs>
                <a:gs pos="100000">
                  <a:srgbClr val="3350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6eac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7" name="椭圆 159"/>
            <p:cNvSpPr/>
            <p:nvPr/>
          </p:nvSpPr>
          <p:spPr>
            <a:xfrm>
              <a:off x="4298760" y="1779840"/>
              <a:ext cx="509040" cy="508320"/>
            </a:xfrm>
            <a:prstGeom prst="ellipse">
              <a:avLst/>
            </a:prstGeom>
            <a:gradFill rotWithShape="0">
              <a:gsLst>
                <a:gs pos="0">
                  <a:srgbClr val="335056">
                    <a:alpha val="41176"/>
                  </a:srgbClr>
                </a:gs>
                <a:gs pos="100000">
                  <a:srgbClr val="6eacba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8" name="Freeform 33"/>
            <p:cNvSpPr/>
            <p:nvPr/>
          </p:nvSpPr>
          <p:spPr>
            <a:xfrm>
              <a:off x="427140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9" name="椭圆 162"/>
            <p:cNvSpPr/>
            <p:nvPr/>
          </p:nvSpPr>
          <p:spPr>
            <a:xfrm flipV="1" rot="19260000">
              <a:off x="4679640" y="2205000"/>
              <a:ext cx="6300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0" name="Text Box 18"/>
            <p:cNvSpPr/>
            <p:nvPr/>
          </p:nvSpPr>
          <p:spPr>
            <a:xfrm>
              <a:off x="429588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1" name="椭圆 160"/>
            <p:cNvSpPr/>
            <p:nvPr/>
          </p:nvSpPr>
          <p:spPr>
            <a:xfrm rot="19260000">
              <a:off x="435564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2" name="Freeform 82"/>
            <p:cNvSpPr/>
            <p:nvPr/>
          </p:nvSpPr>
          <p:spPr>
            <a:xfrm>
              <a:off x="4235040" y="1733040"/>
              <a:ext cx="29988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1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43" name="Group 83"/>
          <p:cNvGrpSpPr/>
          <p:nvPr/>
        </p:nvGrpSpPr>
        <p:grpSpPr>
          <a:xfrm>
            <a:off x="6488280" y="1600200"/>
            <a:ext cx="918000" cy="866880"/>
            <a:chOff x="6488280" y="1600200"/>
            <a:chExt cx="918000" cy="866880"/>
          </a:xfrm>
        </p:grpSpPr>
        <p:sp>
          <p:nvSpPr>
            <p:cNvPr id="244" name="椭圆 151"/>
            <p:cNvSpPr/>
            <p:nvPr/>
          </p:nvSpPr>
          <p:spPr>
            <a:xfrm>
              <a:off x="6488280" y="1600200"/>
              <a:ext cx="86508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5" name="Freeform 43"/>
            <p:cNvSpPr/>
            <p:nvPr/>
          </p:nvSpPr>
          <p:spPr>
            <a:xfrm>
              <a:off x="6519960" y="1623600"/>
              <a:ext cx="79668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6499440" y="2076480"/>
              <a:ext cx="82188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 rot="20506200">
              <a:off x="7097040" y="199944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8" name="椭圆 156"/>
            <p:cNvSpPr/>
            <p:nvPr/>
          </p:nvSpPr>
          <p:spPr>
            <a:xfrm>
              <a:off x="6569640" y="1680840"/>
              <a:ext cx="70344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9" name="椭圆 157"/>
            <p:cNvSpPr/>
            <p:nvPr/>
          </p:nvSpPr>
          <p:spPr>
            <a:xfrm>
              <a:off x="661068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0" name="椭圆 158"/>
            <p:cNvSpPr/>
            <p:nvPr/>
          </p:nvSpPr>
          <p:spPr>
            <a:xfrm>
              <a:off x="662256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b2b468"/>
                </a:gs>
                <a:gs pos="100000">
                  <a:srgbClr val="5253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b2b46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1" name="椭圆 159"/>
            <p:cNvSpPr/>
            <p:nvPr/>
          </p:nvSpPr>
          <p:spPr>
            <a:xfrm>
              <a:off x="6665760" y="1779840"/>
              <a:ext cx="509040" cy="508320"/>
            </a:xfrm>
            <a:prstGeom prst="ellipse">
              <a:avLst/>
            </a:prstGeom>
            <a:gradFill rotWithShape="0">
              <a:gsLst>
                <a:gs pos="0">
                  <a:srgbClr val="525330">
                    <a:alpha val="41176"/>
                  </a:srgbClr>
                </a:gs>
                <a:gs pos="100000">
                  <a:srgbClr val="b2b468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2" name="Freeform 33"/>
            <p:cNvSpPr/>
            <p:nvPr/>
          </p:nvSpPr>
          <p:spPr>
            <a:xfrm>
              <a:off x="663840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3" name="椭圆 162"/>
            <p:cNvSpPr/>
            <p:nvPr/>
          </p:nvSpPr>
          <p:spPr>
            <a:xfrm flipV="1" rot="19260000">
              <a:off x="7047000" y="22039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666288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5" name="椭圆 160"/>
            <p:cNvSpPr/>
            <p:nvPr/>
          </p:nvSpPr>
          <p:spPr>
            <a:xfrm rot="19260000">
              <a:off x="672264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6" name="Freeform 96"/>
            <p:cNvSpPr/>
            <p:nvPr/>
          </p:nvSpPr>
          <p:spPr>
            <a:xfrm>
              <a:off x="6602040" y="1733040"/>
              <a:ext cx="29952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2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57" name="Group 97"/>
          <p:cNvGrpSpPr/>
          <p:nvPr/>
        </p:nvGrpSpPr>
        <p:grpSpPr>
          <a:xfrm>
            <a:off x="1744560" y="1600200"/>
            <a:ext cx="918360" cy="866880"/>
            <a:chOff x="1744560" y="1600200"/>
            <a:chExt cx="918360" cy="866880"/>
          </a:xfrm>
        </p:grpSpPr>
        <p:sp>
          <p:nvSpPr>
            <p:cNvPr id="258" name="椭圆 151"/>
            <p:cNvSpPr/>
            <p:nvPr/>
          </p:nvSpPr>
          <p:spPr>
            <a:xfrm>
              <a:off x="1744560" y="1600200"/>
              <a:ext cx="86544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9" name="Freeform 43"/>
            <p:cNvSpPr/>
            <p:nvPr/>
          </p:nvSpPr>
          <p:spPr>
            <a:xfrm>
              <a:off x="1776240" y="1623600"/>
              <a:ext cx="79704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0" name="Freeform 49"/>
            <p:cNvSpPr/>
            <p:nvPr/>
          </p:nvSpPr>
          <p:spPr>
            <a:xfrm>
              <a:off x="1755720" y="2076480"/>
              <a:ext cx="82224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1" name="Freeform 55"/>
            <p:cNvSpPr/>
            <p:nvPr/>
          </p:nvSpPr>
          <p:spPr>
            <a:xfrm rot="20506200">
              <a:off x="2353680" y="199944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2" name="椭圆 156"/>
            <p:cNvSpPr/>
            <p:nvPr/>
          </p:nvSpPr>
          <p:spPr>
            <a:xfrm>
              <a:off x="1825920" y="1680840"/>
              <a:ext cx="70380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3" name="椭圆 157"/>
            <p:cNvSpPr/>
            <p:nvPr/>
          </p:nvSpPr>
          <p:spPr>
            <a:xfrm>
              <a:off x="186696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4" name="椭圆 158"/>
            <p:cNvSpPr/>
            <p:nvPr/>
          </p:nvSpPr>
          <p:spPr>
            <a:xfrm>
              <a:off x="187884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74b16f"/>
                </a:gs>
                <a:gs pos="100000">
                  <a:srgbClr val="3652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74b16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5" name="椭圆 159"/>
            <p:cNvSpPr/>
            <p:nvPr/>
          </p:nvSpPr>
          <p:spPr>
            <a:xfrm>
              <a:off x="1922040" y="1779840"/>
              <a:ext cx="509400" cy="508320"/>
            </a:xfrm>
            <a:prstGeom prst="ellipse">
              <a:avLst/>
            </a:prstGeom>
            <a:gradFill rotWithShape="0">
              <a:gsLst>
                <a:gs pos="0">
                  <a:srgbClr val="365233">
                    <a:alpha val="41176"/>
                  </a:srgbClr>
                </a:gs>
                <a:gs pos="100000">
                  <a:srgbClr val="74b16f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89468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7" name="椭圆 162"/>
            <p:cNvSpPr/>
            <p:nvPr/>
          </p:nvSpPr>
          <p:spPr>
            <a:xfrm flipV="1" rot="19260000">
              <a:off x="2303640" y="22039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191916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9" name="椭圆 160"/>
            <p:cNvSpPr/>
            <p:nvPr/>
          </p:nvSpPr>
          <p:spPr>
            <a:xfrm rot="19260000">
              <a:off x="197892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1858320" y="1733040"/>
              <a:ext cx="29988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3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71" name="Text Box 115"/>
          <p:cNvSpPr/>
          <p:nvPr/>
        </p:nvSpPr>
        <p:spPr>
          <a:xfrm>
            <a:off x="7020000" y="47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eacba"/>
                </a:solidFill>
                <a:latin typeface="黑体"/>
                <a:ea typeface="黑体"/>
              </a:rPr>
              <a:t>并列关系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2"/>
          <p:cNvSpPr/>
          <p:nvPr/>
        </p:nvSpPr>
        <p:spPr>
          <a:xfrm>
            <a:off x="1465920" y="1866960"/>
            <a:ext cx="738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Wingdings"/>
                <a:ea typeface="Wingdings"/>
              </a:rPr>
              <a:t>感谢聆听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黑体"/>
                <a:ea typeface="黑体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3:25:12Z</dcterms:created>
  <dc:creator>YlmF</dc:creator>
  <dc:description/>
  <dc:language>en-US</dc:language>
  <cp:lastModifiedBy>yang</cp:lastModifiedBy>
  <dcterms:modified xsi:type="dcterms:W3CDTF">2011-10-10T10:30:50Z</dcterms:modified>
  <cp:revision>74</cp:revision>
  <dc:subject/>
  <dc:title>幻灯片 1</dc:title>
</cp:coreProperties>
</file>