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E90-B391-404F-B8D5-580BA179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F4B-955D-4DBB-8B7C-BB684D5C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636-737D-4A14-95D9-C4DFF4FC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614-DF44-4FAE-AD50-6C0205C1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186-7127-4141-83B8-6C899E67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1ED-5C0F-4C88-8BE1-88B5D255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DB8-31F8-4F51-8C69-B5FA08EF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07C-F5C8-45F5-BFD3-20CE021D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780-FAAD-4A35-97C0-9E177CB8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F1F-E062-4ECC-837E-6895CF6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297-0D7C-43BB-A288-0CAF9A7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8F4-94B7-41C7-B0DF-070EA02C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5A1A-A045-4DC6-A382-CD6F1668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无标题"/>
          <p:cNvPicPr/>
          <p:nvPr/>
        </p:nvPicPr>
        <p:blipFill>
          <a:blip r:embed="rId1"/>
          <a:stretch/>
        </p:blipFill>
        <p:spPr>
          <a:xfrm>
            <a:off x="1692360" y="105264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0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45:51Z</dcterms:created>
  <dc:creator>User</dc:creator>
  <dc:description/>
  <dc:language>en-US</dc:language>
  <cp:lastModifiedBy>zjp888</cp:lastModifiedBy>
  <dcterms:modified xsi:type="dcterms:W3CDTF">2012-01-01T06:43:24Z</dcterms:modified>
  <cp:revision>4</cp:revision>
  <dc:subject/>
  <dc:title>锐得PPT论坛独家收集</dc:title>
</cp:coreProperties>
</file>