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E0E-6ABC-4057-9007-3637ABBA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C3A-CC1D-4640-AD42-A3F65BA7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18D-36B6-4AF2-8135-AD8052FD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8B1-6E50-45CD-9903-3A8CB1B7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B8CA-0445-49D0-A093-9412426F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FAD1-7FB2-41DD-880C-3C138F7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1D06-2E41-4E92-B23C-42F5860E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4556-674E-4F9F-B35C-547DA005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A875-7A31-4927-A362-4D59C7D6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7E81-353E-4C21-B119-BF5A8F33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742C-594D-4172-BB4B-AB8A740E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FDD-BE37-4478-9B7F-08B169C6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C2AD-631A-485A-BEA1-07B11A21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AC9E-37AA-454B-8390-BBF335E2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A2A9-283C-4490-ADEC-E064D5BD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8FA2-6398-4576-A836-2ACD1FC9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E398-1726-4102-83A4-D0BC76E4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A28-4A18-4330-9A45-214E4A41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8E3-710F-4EA8-9591-50574435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CA3-2D3F-4799-A9D9-7E9C3037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24B-37FA-41D3-B5DF-DD8529F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A69-9923-4B60-A62B-0A373083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A5F-845C-4107-A4D4-80154221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F79-8865-42DA-94B5-925D997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D10C-6933-462B-8F79-4F75315CF62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11E2-4DB7-4EB4-93C7-5BB55EDA1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"/>
          <p:cNvPicPr/>
          <p:nvPr/>
        </p:nvPicPr>
        <p:blipFill>
          <a:blip r:embed="rId2"/>
          <a:stretch/>
        </p:blipFill>
        <p:spPr>
          <a:xfrm>
            <a:off x="4356000" y="2003400"/>
            <a:ext cx="58428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刺绣简介-01"/>
          <p:cNvPicPr/>
          <p:nvPr/>
        </p:nvPicPr>
        <p:blipFill>
          <a:blip r:embed="rId2"/>
          <a:stretch/>
        </p:blipFill>
        <p:spPr>
          <a:xfrm>
            <a:off x="2197080" y="2201760"/>
            <a:ext cx="933480" cy="252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刺绣源流-01"/>
          <p:cNvPicPr/>
          <p:nvPr/>
        </p:nvPicPr>
        <p:blipFill>
          <a:blip r:embed="rId3"/>
          <a:stretch/>
        </p:blipFill>
        <p:spPr>
          <a:xfrm>
            <a:off x="3105000" y="2195640"/>
            <a:ext cx="936720" cy="252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-01"/>
          <p:cNvPicPr/>
          <p:nvPr/>
        </p:nvPicPr>
        <p:blipFill>
          <a:blip r:embed="rId4"/>
          <a:stretch/>
        </p:blipFill>
        <p:spPr>
          <a:xfrm>
            <a:off x="4041720" y="212724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历代刺绣-01"/>
          <p:cNvPicPr/>
          <p:nvPr/>
        </p:nvPicPr>
        <p:blipFill>
          <a:blip r:embed="rId5"/>
          <a:stretch/>
        </p:blipFill>
        <p:spPr>
          <a:xfrm>
            <a:off x="4978440" y="213372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-01"/>
          <p:cNvPicPr/>
          <p:nvPr/>
        </p:nvPicPr>
        <p:blipFill>
          <a:blip r:embed="rId6"/>
          <a:stretch/>
        </p:blipFill>
        <p:spPr>
          <a:xfrm>
            <a:off x="5916600" y="2127240"/>
            <a:ext cx="960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过渡页数-01"/>
          <p:cNvPicPr/>
          <p:nvPr/>
        </p:nvPicPr>
        <p:blipFill>
          <a:blip r:embed="rId4"/>
          <a:stretch/>
        </p:blipFill>
        <p:spPr>
          <a:xfrm>
            <a:off x="3825720" y="2278080"/>
            <a:ext cx="1538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过渡页数-01"/>
          <p:cNvPicPr/>
          <p:nvPr/>
        </p:nvPicPr>
        <p:blipFill>
          <a:blip r:embed="rId2"/>
          <a:stretch/>
        </p:blipFill>
        <p:spPr>
          <a:xfrm>
            <a:off x="179280" y="1327320"/>
            <a:ext cx="1467000" cy="4124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xian"/>
          <p:cNvPicPr/>
          <p:nvPr/>
        </p:nvPicPr>
        <p:blipFill>
          <a:blip r:embed="rId3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xian2"/>
          <p:cNvPicPr/>
          <p:nvPr/>
        </p:nvPicPr>
        <p:blipFill>
          <a:blip r:embed="rId4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鸟1-01"/>
          <p:cNvPicPr/>
          <p:nvPr/>
        </p:nvPicPr>
        <p:blipFill>
          <a:blip r:embed="rId5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文字-01"/>
          <p:cNvPicPr/>
          <p:nvPr/>
        </p:nvPicPr>
        <p:blipFill>
          <a:blip r:embed="rId6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6-04-21T14:02:36Z</dcterms:modified>
  <cp:revision>11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