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4593-CDA6-454E-BC19-E74C750EB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54AA-9A27-4770-8274-EEFD40F9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60AE-A7BC-4F8E-BD55-8A41A9F62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DAA6-CF34-440E-B415-DE6B42313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8005-E199-4D5A-841D-FF9049A2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BDD6-36A6-4EE5-9926-B826ACFA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328F-5392-42B4-87B4-CAD9DC32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E036-1873-4692-9420-7F41C8E9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0657-A5AC-4805-9FA2-695C35A8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0DA0-8CF2-4A46-B272-F63D029B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F39C-1CF9-4307-AA2C-97026B48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35BE-F496-40BD-9D6E-95543C90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044B-E777-487D-92EF-B713B775BDF6}" type="slidenum">
              <a:rPr b="0" lang="zh-CN" sz="1200" spc="-1" strike="noStrike">
                <a:solidFill>
                  <a:srgbClr val="898989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amy项目\模板\茶\1\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E:\amy项目\模板\茶\1\2.png"/>
          <p:cNvPicPr/>
          <p:nvPr/>
        </p:nvPicPr>
        <p:blipFill>
          <a:blip r:embed="rId3"/>
          <a:stretch/>
        </p:blipFill>
        <p:spPr>
          <a:xfrm>
            <a:off x="101520" y="4840200"/>
            <a:ext cx="897120" cy="874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image" Target="../media/image35.png"/><Relationship Id="rId14" Type="http://schemas.openxmlformats.org/officeDocument/2006/relationships/image" Target="../media/image36.png"/><Relationship Id="rId15" Type="http://schemas.openxmlformats.org/officeDocument/2006/relationships/image" Target="../media/image20.png"/><Relationship Id="rId1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E:\amy项目\模板\茶\1\1.png"/>
          <p:cNvPicPr/>
          <p:nvPr/>
        </p:nvPicPr>
        <p:blipFill>
          <a:blip r:embed="rId1"/>
          <a:srcRect l="0" t="0" r="0" b="13921"/>
          <a:stretch/>
        </p:blipFill>
        <p:spPr>
          <a:xfrm>
            <a:off x="-1371600" y="-857160"/>
            <a:ext cx="11887200" cy="742932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11" descr="9.png"/>
          <p:cNvPicPr/>
          <p:nvPr/>
        </p:nvPicPr>
        <p:blipFill>
          <a:blip r:embed="rId2"/>
          <a:stretch/>
        </p:blipFill>
        <p:spPr>
          <a:xfrm>
            <a:off x="6975360" y="-1098720"/>
            <a:ext cx="223920" cy="166680"/>
          </a:xfrm>
          <a:prstGeom prst="rect">
            <a:avLst/>
          </a:prstGeom>
          <a:ln w="0">
            <a:noFill/>
          </a:ln>
        </p:spPr>
      </p:pic>
      <p:pic>
        <p:nvPicPr>
          <p:cNvPr id="311" name="图片 12" descr="10.png"/>
          <p:cNvPicPr/>
          <p:nvPr/>
        </p:nvPicPr>
        <p:blipFill>
          <a:blip r:embed="rId3"/>
          <a:stretch/>
        </p:blipFill>
        <p:spPr>
          <a:xfrm>
            <a:off x="6189840" y="-682560"/>
            <a:ext cx="334800" cy="182520"/>
          </a:xfrm>
          <a:prstGeom prst="rect">
            <a:avLst/>
          </a:prstGeom>
          <a:ln w="0">
            <a:noFill/>
          </a:ln>
        </p:spPr>
      </p:pic>
      <p:pic>
        <p:nvPicPr>
          <p:cNvPr id="312" name="图片 13" descr="11.png"/>
          <p:cNvPicPr/>
          <p:nvPr/>
        </p:nvPicPr>
        <p:blipFill>
          <a:blip r:embed="rId4"/>
          <a:stretch/>
        </p:blipFill>
        <p:spPr>
          <a:xfrm>
            <a:off x="285840" y="-1071720"/>
            <a:ext cx="174600" cy="381240"/>
          </a:xfrm>
          <a:prstGeom prst="rect">
            <a:avLst/>
          </a:prstGeom>
          <a:ln w="0">
            <a:noFill/>
          </a:ln>
        </p:spPr>
      </p:pic>
      <p:pic>
        <p:nvPicPr>
          <p:cNvPr id="313" name="图片 14" descr="12.png"/>
          <p:cNvPicPr/>
          <p:nvPr/>
        </p:nvPicPr>
        <p:blipFill>
          <a:blip r:embed="rId5"/>
          <a:stretch/>
        </p:blipFill>
        <p:spPr>
          <a:xfrm>
            <a:off x="1069920" y="-839880"/>
            <a:ext cx="407880" cy="298440"/>
          </a:xfrm>
          <a:prstGeom prst="rect">
            <a:avLst/>
          </a:prstGeom>
          <a:ln w="0">
            <a:noFill/>
          </a:ln>
        </p:spPr>
      </p:pic>
      <p:pic>
        <p:nvPicPr>
          <p:cNvPr id="314" name="图片 15" descr="7.png"/>
          <p:cNvPicPr/>
          <p:nvPr/>
        </p:nvPicPr>
        <p:blipFill>
          <a:blip r:embed="rId6"/>
          <a:stretch/>
        </p:blipFill>
        <p:spPr>
          <a:xfrm>
            <a:off x="2984400" y="-861840"/>
            <a:ext cx="349200" cy="380880"/>
          </a:xfrm>
          <a:prstGeom prst="rect">
            <a:avLst/>
          </a:prstGeom>
          <a:ln w="0">
            <a:noFill/>
          </a:ln>
        </p:spPr>
      </p:pic>
      <p:pic>
        <p:nvPicPr>
          <p:cNvPr id="315" name="图片 16" descr="8.png"/>
          <p:cNvPicPr/>
          <p:nvPr/>
        </p:nvPicPr>
        <p:blipFill>
          <a:blip r:embed="rId7"/>
          <a:stretch/>
        </p:blipFill>
        <p:spPr>
          <a:xfrm>
            <a:off x="4572000" y="-714240"/>
            <a:ext cx="380880" cy="3902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" descr="E:\amy项目\模板\茶\1\3.png"/>
          <p:cNvPicPr/>
          <p:nvPr/>
        </p:nvPicPr>
        <p:blipFill>
          <a:blip r:embed="rId8"/>
          <a:srcRect l="0" t="45002" r="0" b="0"/>
          <a:stretch/>
        </p:blipFill>
        <p:spPr>
          <a:xfrm>
            <a:off x="0" y="2571840"/>
            <a:ext cx="9144000" cy="31431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6" descr="E:\amy项目\模板\茶\1\4.png"/>
          <p:cNvPicPr/>
          <p:nvPr/>
        </p:nvPicPr>
        <p:blipFill>
          <a:blip r:embed="rId9"/>
          <a:stretch/>
        </p:blipFill>
        <p:spPr>
          <a:xfrm>
            <a:off x="6672240" y="214200"/>
            <a:ext cx="218592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0" repeatCount="indefinite">
                                  <p:stCondLst>
                                    <p:cond delay="1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11111E-006 -3.33333E-006 C 0.0184 0.005 0.02951 0.03083 0.04444 0.04667 C 0.05069 0.06167 0.0618 0.07167 0.06805 0.08667 C 0.07326 0.09917 0.07795 0.11111 0.08472 0.12222 C 0.08941 0.15222 0.09844 0.17917 0.10694 0.20667 C 0.10955 0.215 0.11059 0.22667 0.1125 0.23555 C 0.11302 0.23778 0.11389 0.24222 0.11389 0.24222 C 0.11649 0.27167 0.1158 0.30139 0.11805 0.33083 C 0.11875 0.35861 0.11788 0.39222 0.12222 0.42 C 0.1243 0.43333 0.12778 0.44694 0.13055 0.46 C 0.13385 0.47555 0.13663 0.49139 0.14028 0.50667 C 0.14166 0.5125 0.14132 0.51694 0.14305 0.52222 C 0.14705 0.535 0.14496 0.52222 0.14861 0.53778 C 0.15208 0.55278 0.15399 0.56861 0.15972 0.58222 C 0.175 0.61889 0.15798 0.5775 0.16944 0.59778 C 0.1717 0.60167 0.17986 0.61944 0.18333 0.62667 C 0.18837 0.63722 0.1967 0.64778 0.20278 0.65778 C 0.20868 0.66722 0.21302 0.68028 0.21805 0.69111 C 0.22153 0.69861 0.22639 0.70444 0.23055 0.71111 C 0.2335 0.71583 0.2342 0.72305 0.23611 0.72889 C 0.23802 0.735 0.24166 0.73944 0.24444 0.74444 C 0.25521 0.76361 0.26632 0.78167 0.27778 0.8 C 0.28368 0.80944 0.28472 0.81528 0.28889 0.82444 C 0.29531 0.83833 0.30208 0.85222 0.30972 0.86444 C 0.31267 0.87639 0.31666 0.88778 0.31944 0.9 C 0.32205 0.91139 0.32326 0.92167 0.32639 0.93333 C 0.32864 0.95167 0.33507 0.96639 0.33889 0.98444 C 0.34305 1.00472 0.34861 1.02417 0.35278 1.04444 C 0.35503 1.09472 0.3566 1.10555 0.35416 1.16889 C 0.35364 1.18139 0.35 1.19611 0.35 1.20889 E">
                                      <p:cBhvr>
                                        <p:cTn id="11" dur="15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8" repeatCount="indefinite">
                                  <p:stCondLst>
                                    <p:cond delay="1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600000">
                                      <p:cBhvr>
                                        <p:cTn id="13" dur="1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0" repeatCount="indefinite">
                                  <p:stCondLst>
                                    <p:cond delay="23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05556E-006 -3.33333E-006 C -0.00104 0.04556 -0.00156 0.09861 -0.0125 0.14222 C -0.01441 0.16028 -0.0158 0.1825 -0.02222 0.19778 C -0.02518 0.22611 -0.02101 0.19806 -0.02778 0.22 C -0.0309 0.23 -0.03281 0.25639 -0.03472 0.26889 C -0.03577 0.29222 -0.03629 0.31194 -0.04306 0.33333 C -0.04497 0.33917 -0.04861 0.35111 -0.04861 0.35111 C -0.05 0.36472 -0.05243 0.3775 -0.05417 0.39111 C -0.05469 0.40889 -0.05417 0.42667 -0.05556 0.44444 C -0.0566 0.45889 -0.06094 0.47222 -0.0625 0.48667 C -0.06754 0.535 -0.0717 0.58361 -0.07917 0.63111 C -0.0809 0.65861 -0.08281 0.6825 -0.08611 0.70889 C -0.08768 0.7825 -0.09757 0.89194 -0.08472 0.95333 C -0.0842 0.98083 -0.08455 1.00833 -0.08334 1.03556 C -0.08316 1.03833 -0.08125 1.03972 -0.08056 1.04222 C -0.07934 1.04639 -0.07847 1.05111 -0.07778 1.05556 C -0.07587 1.06639 -0.07483 1.07944 -0.07084 1.08889 C -0.06788 1.09611 -0.06302 1.10222 -0.05972 1.10889 C -0.05226 1.12417 -0.04445 1.15194 -0.04445 1.17111 E">
                                      <p:cBhvr>
                                        <p:cTn id="15" dur="15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8" repeatCount="indefinite">
                                  <p:stCondLst>
                                    <p:cond delay="23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-1500000">
                                      <p:cBhvr>
                                        <p:cTn id="17" dur="1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0" repeatCount="indefinite">
                                  <p:stCondLst>
                                    <p:cond delay="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11111E-006 4.33681E-019 C -0.00139 0.03555 -0.00451 0.05833 -0.00972 0.09111 C -0.00938 0.12444 -0.01667 0.22583 0.00139 0.26861 C 0.00451 0.28833 0.00955 0.30639 0.01528 0.32417 C 0.01979 0.33889 0.0243 0.35278 0.02917 0.36639 C 0.03038 0.37028 0.03055 0.37417 0.03194 0.37778 C 0.03299 0.38 0.03489 0.38028 0.03611 0.38222 C 0.04271 0.39278 0.05052 0.41333 0.05694 0.42639 C 0.06649 0.44639 0.07639 0.46444 0.0875 0.48222 C 0.0908 0.4875 0.0934 0.49361 0.09722 0.49778 C 0.11319 0.51444 0.12743 0.53861 0.14444 0.55305 C 0.14462 0.55305 0.15781 0.56194 0.15972 0.56417 C 0.16771 0.57417 0.17483 0.58694 0.18333 0.59555 C 0.19132 0.60361 0.20017 0.61028 0.20833 0.61778 C 0.21441 0.62305 0.22014 0.63028 0.22639 0.63555 C 0.23194 0.64028 0.23871 0.64194 0.24305 0.64861 C 0.25712 0.67139 0.27569 0.68444 0.29444 0.69333 C 0.31007 0.71 0.29496 0.69583 0.3125 0.70639 C 0.32187 0.7125 0.33003 0.72278 0.33889 0.72889 C 0.35104 0.73694 0.3691 0.74333 0.38194 0.74861 C 0.39271 0.75305 0.40677 0.765 0.41667 0.77111 C 0.42899 0.77861 0.4441 0.77805 0.45694 0.78 C 0.50312 0.79444 0.55156 0.79305 0.59861 0.79305 E">
                                      <p:cBhvr>
                                        <p:cTn id="19" dur="15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8" repeatCount="indefinite">
                                  <p:stCondLst>
                                    <p:cond delay="2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900000">
                                      <p:cBhvr>
                                        <p:cTn id="21" dur="1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 repeatCount="indefinite">
                                  <p:stCondLst>
                                    <p:cond delay="1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.55556E-007 1.11111E-006 C 0.00191 0.00639 0.00226 0.01361 0.00417 0.02 C 0.00608 0.02639 0.0125 0.03806 0.01528 0.04445 C 0.02848 0.07639 0.04306 0.10834 0.05834 0.13778 C 0.07344 0.16723 0.09202 0.19223 0.10695 0.22223 C 0.12518 0.25861 0.14237 0.29695 0.15834 0.33556 C 0.16112 0.35028 0.16459 0.365 0.16667 0.38 C 0.17049 0.40861 0.16598 0.38584 0.16945 0.40195 C 0.17119 0.42528 0.17309 0.44889 0.17778 0.47111 C 0.18039 0.50528 0.18542 0.53556 0.19167 0.56889 C 0.19445 0.61667 0.19167 0.60889 0.20278 0.64445 C 0.20573 0.6675 0.20816 0.69028 0.21112 0.71306 C 0.21285 0.74611 0.22032 0.77445 0.22778 0.80417 C 0.23021 0.82695 0.2316 0.85056 0.23473 0.87334 C 0.23612 0.88361 0.24011 0.89195 0.24167 0.90223 C 0.24271 0.90889 0.24358 0.91556 0.24445 0.92223 C 0.24584 0.9325 0.24862 0.95306 0.24862 0.95306 C 0.24966 0.97084 0.2507 0.98973 0.25417 1.00667 C 0.25678 1.03611 0.2599 1.06584 0.2625 1.09556 C 0.26563 1.13028 0.26546 1.16584 0.27084 1.2 C 0.27309 1.23306 0.27639 1.26223 0.27639 1.29556 E">
                                      <p:cBhvr>
                                        <p:cTn id="23" dur="15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0" repeatCount="indefinite">
                                  <p:stCondLst>
                                    <p:cond delay="14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6.94444E-006 1.11111E-006 C -0.00711 0.01694 -0.01597 0.0325 -0.0236 0.04889 C -0.0269 0.05583 -0.02864 0.06417 -0.03194 0.07111 C -0.03819 0.085 -0.04496 0.09778 -0.05138 0.11139 C -0.06197 0.13305 -0.07378 0.15333 -0.08194 0.17778 C -0.0894 0.20028 -0.09895 0.21972 -0.10833 0.24 C -0.11388 0.25194 -0.12499 0.27555 -0.12499 0.27555 C -0.12847 0.29194 -0.13819 0.30361 -0.14166 0.32 C -0.14652 0.34333 -0.15294 0.36583 -0.1611 0.38667 C -0.16388 0.40944 -0.16006 0.38583 -0.16944 0.41555 C -0.17239 0.42472 -0.17413 0.43472 -0.17638 0.44444 C -0.18176 0.46805 -0.18541 0.49194 -0.19027 0.51555 C -0.19235 0.545 -0.19826 0.5725 -0.20555 0.6 C -0.20781 0.62611 -0.21163 0.65167 -0.21388 0.67778 C -0.21614 0.70389 -0.21371 0.69 -0.21666 0.70444 C -0.2184 0.72333 -0.21978 0.74417 -0.2236 0.76222 C -0.22777 0.80889 -0.23315 0.85639 -0.24027 0.90222 C -0.24322 0.94444 -0.24044 0.92944 -0.24444 0.94889 C -0.24426 0.96833 -0.24982 1.10083 -0.24027 1.16222 C -0.23975 1.1725 -0.23749 1.18861 -0.23749 1.2 E">
                                      <p:cBhvr>
                                        <p:cTn id="25" dur="15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 repeatCount="indefinite">
                                  <p:stCondLst>
                                    <p:cond delay="17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6.11111E-006 2.22222E-006 C -0.00956 0.00389 -0.01268 0.00583 -0.02084 0.01333 C -0.0257 0.01778 -0.02796 0.02389 -0.03334 0.02667 C -0.04445 0.04444 -0.05799 0.05611 -0.06945 0.07333 C -0.08976 0.10389 -0.1066 0.14139 -0.12917 0.16667 C -0.1323 0.18194 -0.12779 0.16417 -0.1389 0.18444 C -0.13994 0.18611 -0.13942 0.18917 -0.14029 0.19111 C -0.14879 0.21056 -0.16147 0.2325 -0.16945 0.25333 C -0.18959 0.30556 -0.19688 0.36694 -0.21529 0.42 C -0.21806 0.44806 -0.21858 0.475 -0.22362 0.50194 C -0.22362 0.50806 -0.22813 0.61417 -0.21945 0.65556 C -0.21511 0.70333 -0.20591 0.74667 -0.19445 0.79111 C -0.18299 0.83528 -0.1724 0.88333 -0.15417 0.92222 C -0.14428 0.94361 -0.13004 0.96028 -0.12084 0.98222 C -0.10713 1.015 -0.09688 1.06167 -0.07084 1.07556 C -0.06494 1.08722 -0.05921 1.09833 -0.0514 1.10667 C -0.04723 1.1175 -0.04289 1.12611 -0.03612 1.13333 C -0.02692 1.15778 -0.01546 1.18417 -0.00279 1.20444 C -0.00105 1.21278 -0.00279 1.21 0.00138 1.21333 E">
                                      <p:cBhvr>
                                        <p:cTn id="27" dur="15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6">
                                  <p:stCondLst>
                                    <p:cond delay="3300"/>
                                  </p:stCondLst>
                                  <p:childTnLst>
                                    <p:animScale>
                                      <p:cBhvr>
                                        <p:cTn id="29" dur="2000" fill="hold"/>
                                        <p:tgtEl>
                                          <p:spTgt spid="30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2" presetSubtype="4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4"/>
          <p:cNvSpPr/>
          <p:nvPr/>
        </p:nvSpPr>
        <p:spPr>
          <a:xfrm>
            <a:off x="6515280" y="8424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组合 5"/>
          <p:cNvGrpSpPr/>
          <p:nvPr/>
        </p:nvGrpSpPr>
        <p:grpSpPr>
          <a:xfrm>
            <a:off x="2252520" y="1611360"/>
            <a:ext cx="4638960" cy="477720"/>
            <a:chOff x="2252520" y="1611360"/>
            <a:chExt cx="4638960" cy="477720"/>
          </a:xfrm>
        </p:grpSpPr>
        <p:grpSp>
          <p:nvGrpSpPr>
            <p:cNvPr id="320" name="AutoShape 3"/>
            <p:cNvGrpSpPr/>
            <p:nvPr/>
          </p:nvGrpSpPr>
          <p:grpSpPr>
            <a:xfrm>
              <a:off x="2252520" y="1611360"/>
              <a:ext cx="4638960" cy="477720"/>
              <a:chOff x="2252520" y="1611360"/>
              <a:chExt cx="4638960" cy="477720"/>
            </a:xfrm>
          </p:grpSpPr>
          <p:pic>
            <p:nvPicPr>
              <p:cNvPr id="321" name="AutoShap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2252520" y="1611360"/>
                <a:ext cx="4638960" cy="47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"/>
              <p:cNvSpPr/>
              <p:nvPr/>
            </p:nvSpPr>
            <p:spPr>
              <a:xfrm>
                <a:off x="2337480" y="1663920"/>
                <a:ext cx="4474440" cy="3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AutoShape 3"/>
            <p:cNvGrpSpPr/>
            <p:nvPr/>
          </p:nvGrpSpPr>
          <p:grpSpPr>
            <a:xfrm>
              <a:off x="2252520" y="1634760"/>
              <a:ext cx="4638960" cy="397440"/>
              <a:chOff x="2252520" y="1634760"/>
              <a:chExt cx="4638960" cy="397440"/>
            </a:xfrm>
          </p:grpSpPr>
          <p:pic>
            <p:nvPicPr>
              <p:cNvPr id="324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252520" y="1634760"/>
                <a:ext cx="4638960" cy="39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5" name=""/>
              <p:cNvSpPr/>
              <p:nvPr/>
            </p:nvSpPr>
            <p:spPr>
              <a:xfrm>
                <a:off x="2331000" y="1713600"/>
                <a:ext cx="4488120" cy="23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6" name="组合 5"/>
          <p:cNvGrpSpPr/>
          <p:nvPr/>
        </p:nvGrpSpPr>
        <p:grpSpPr>
          <a:xfrm>
            <a:off x="2252520" y="2363760"/>
            <a:ext cx="4638960" cy="477720"/>
            <a:chOff x="2252520" y="2363760"/>
            <a:chExt cx="4638960" cy="477720"/>
          </a:xfrm>
        </p:grpSpPr>
        <p:grpSp>
          <p:nvGrpSpPr>
            <p:cNvPr id="327" name="AutoShape 3"/>
            <p:cNvGrpSpPr/>
            <p:nvPr/>
          </p:nvGrpSpPr>
          <p:grpSpPr>
            <a:xfrm>
              <a:off x="2252520" y="2363760"/>
              <a:ext cx="4638960" cy="477720"/>
              <a:chOff x="2252520" y="2363760"/>
              <a:chExt cx="4638960" cy="477720"/>
            </a:xfrm>
          </p:grpSpPr>
          <p:pic>
            <p:nvPicPr>
              <p:cNvPr id="328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2252520" y="2363760"/>
                <a:ext cx="4638960" cy="47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9" name=""/>
              <p:cNvSpPr/>
              <p:nvPr/>
            </p:nvSpPr>
            <p:spPr>
              <a:xfrm>
                <a:off x="2337480" y="2414160"/>
                <a:ext cx="44744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AutoShape 3"/>
            <p:cNvGrpSpPr/>
            <p:nvPr/>
          </p:nvGrpSpPr>
          <p:grpSpPr>
            <a:xfrm>
              <a:off x="2252520" y="2387520"/>
              <a:ext cx="4638960" cy="396720"/>
              <a:chOff x="2252520" y="2387520"/>
              <a:chExt cx="4638960" cy="396720"/>
            </a:xfrm>
          </p:grpSpPr>
          <p:pic>
            <p:nvPicPr>
              <p:cNvPr id="331" name="AutoShap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2252520" y="2387520"/>
                <a:ext cx="4638960" cy="3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"/>
              <p:cNvSpPr/>
              <p:nvPr/>
            </p:nvSpPr>
            <p:spPr>
              <a:xfrm>
                <a:off x="2331000" y="2464560"/>
                <a:ext cx="4488120" cy="2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3" name="组合 5"/>
          <p:cNvGrpSpPr/>
          <p:nvPr/>
        </p:nvGrpSpPr>
        <p:grpSpPr>
          <a:xfrm>
            <a:off x="2252520" y="3116160"/>
            <a:ext cx="4638960" cy="478080"/>
            <a:chOff x="2252520" y="3116160"/>
            <a:chExt cx="4638960" cy="478080"/>
          </a:xfrm>
        </p:grpSpPr>
        <p:grpSp>
          <p:nvGrpSpPr>
            <p:cNvPr id="334" name="AutoShape 3"/>
            <p:cNvGrpSpPr/>
            <p:nvPr/>
          </p:nvGrpSpPr>
          <p:grpSpPr>
            <a:xfrm>
              <a:off x="2252520" y="3116160"/>
              <a:ext cx="4638960" cy="478080"/>
              <a:chOff x="2252520" y="3116160"/>
              <a:chExt cx="4638960" cy="478080"/>
            </a:xfrm>
          </p:grpSpPr>
          <p:pic>
            <p:nvPicPr>
              <p:cNvPr id="335" name="AutoShape 3" descr=""/>
              <p:cNvPicPr/>
              <p:nvPr/>
            </p:nvPicPr>
            <p:blipFill>
              <a:blip r:embed="rId5"/>
              <a:stretch/>
            </p:blipFill>
            <p:spPr>
              <a:xfrm>
                <a:off x="2252520" y="3116160"/>
                <a:ext cx="4638960" cy="47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"/>
              <p:cNvSpPr/>
              <p:nvPr/>
            </p:nvSpPr>
            <p:spPr>
              <a:xfrm>
                <a:off x="2337480" y="3168360"/>
                <a:ext cx="4474440" cy="3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AutoShape 3"/>
            <p:cNvGrpSpPr/>
            <p:nvPr/>
          </p:nvGrpSpPr>
          <p:grpSpPr>
            <a:xfrm>
              <a:off x="2252520" y="3139560"/>
              <a:ext cx="4638960" cy="397800"/>
              <a:chOff x="2252520" y="3139560"/>
              <a:chExt cx="4638960" cy="397800"/>
            </a:xfrm>
          </p:grpSpPr>
          <p:pic>
            <p:nvPicPr>
              <p:cNvPr id="338" name="AutoShape 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52520" y="3139560"/>
                <a:ext cx="4638960" cy="39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9" name=""/>
              <p:cNvSpPr/>
              <p:nvPr/>
            </p:nvSpPr>
            <p:spPr>
              <a:xfrm>
                <a:off x="2331000" y="3218040"/>
                <a:ext cx="4488120" cy="23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0" name="组合 5"/>
          <p:cNvGrpSpPr/>
          <p:nvPr/>
        </p:nvGrpSpPr>
        <p:grpSpPr>
          <a:xfrm>
            <a:off x="2252520" y="3870360"/>
            <a:ext cx="4638960" cy="477720"/>
            <a:chOff x="2252520" y="3870360"/>
            <a:chExt cx="4638960" cy="477720"/>
          </a:xfrm>
        </p:grpSpPr>
        <p:grpSp>
          <p:nvGrpSpPr>
            <p:cNvPr id="341" name="AutoShape 3"/>
            <p:cNvGrpSpPr/>
            <p:nvPr/>
          </p:nvGrpSpPr>
          <p:grpSpPr>
            <a:xfrm>
              <a:off x="2252520" y="3870360"/>
              <a:ext cx="4638960" cy="477720"/>
              <a:chOff x="2252520" y="3870360"/>
              <a:chExt cx="4638960" cy="477720"/>
            </a:xfrm>
          </p:grpSpPr>
          <p:pic>
            <p:nvPicPr>
              <p:cNvPr id="342" name="AutoShape 3" descr=""/>
              <p:cNvPicPr/>
              <p:nvPr/>
            </p:nvPicPr>
            <p:blipFill>
              <a:blip r:embed="rId7"/>
              <a:stretch/>
            </p:blipFill>
            <p:spPr>
              <a:xfrm>
                <a:off x="2252520" y="3870360"/>
                <a:ext cx="4638960" cy="47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3" name=""/>
              <p:cNvSpPr/>
              <p:nvPr/>
            </p:nvSpPr>
            <p:spPr>
              <a:xfrm>
                <a:off x="2337480" y="3921480"/>
                <a:ext cx="44744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AutoShape 3"/>
            <p:cNvGrpSpPr/>
            <p:nvPr/>
          </p:nvGrpSpPr>
          <p:grpSpPr>
            <a:xfrm>
              <a:off x="2252520" y="3894120"/>
              <a:ext cx="4638960" cy="401400"/>
              <a:chOff x="2252520" y="3894120"/>
              <a:chExt cx="4638960" cy="401400"/>
            </a:xfrm>
          </p:grpSpPr>
          <p:pic>
            <p:nvPicPr>
              <p:cNvPr id="345" name="AutoShape 3" descr=""/>
              <p:cNvPicPr/>
              <p:nvPr/>
            </p:nvPicPr>
            <p:blipFill>
              <a:blip r:embed="rId8"/>
              <a:stretch/>
            </p:blipFill>
            <p:spPr>
              <a:xfrm>
                <a:off x="2252520" y="3894120"/>
                <a:ext cx="4638960" cy="40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6" name=""/>
              <p:cNvSpPr/>
              <p:nvPr/>
            </p:nvSpPr>
            <p:spPr>
              <a:xfrm>
                <a:off x="2331000" y="3971880"/>
                <a:ext cx="4488120" cy="2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47" name="Picture 9" descr="C:\Documents and Settings\Administrator\桌面\新建文件夹 (2)\LOGO白副本.png"/>
          <p:cNvPicPr/>
          <p:nvPr/>
        </p:nvPicPr>
        <p:blipFill>
          <a:blip r:embed="rId9"/>
          <a:stretch/>
        </p:blipFill>
        <p:spPr>
          <a:xfrm>
            <a:off x="195120" y="95400"/>
            <a:ext cx="924120" cy="42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5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组合 5"/>
          <p:cNvGrpSpPr/>
          <p:nvPr/>
        </p:nvGrpSpPr>
        <p:grpSpPr>
          <a:xfrm>
            <a:off x="2252520" y="2619360"/>
            <a:ext cx="4638960" cy="476280"/>
            <a:chOff x="2252520" y="2619360"/>
            <a:chExt cx="4638960" cy="476280"/>
          </a:xfrm>
        </p:grpSpPr>
        <p:grpSp>
          <p:nvGrpSpPr>
            <p:cNvPr id="349" name="AutoShape 3"/>
            <p:cNvGrpSpPr/>
            <p:nvPr/>
          </p:nvGrpSpPr>
          <p:grpSpPr>
            <a:xfrm>
              <a:off x="2252520" y="2619360"/>
              <a:ext cx="4638960" cy="476280"/>
              <a:chOff x="2252520" y="2619360"/>
              <a:chExt cx="4638960" cy="476280"/>
            </a:xfrm>
          </p:grpSpPr>
          <p:pic>
            <p:nvPicPr>
              <p:cNvPr id="350" name="AutoShap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2252520" y="2619360"/>
                <a:ext cx="4638960" cy="47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1" name=""/>
              <p:cNvSpPr/>
              <p:nvPr/>
            </p:nvSpPr>
            <p:spPr>
              <a:xfrm>
                <a:off x="2337480" y="2669400"/>
                <a:ext cx="44748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AutoShape 3"/>
            <p:cNvGrpSpPr/>
            <p:nvPr/>
          </p:nvGrpSpPr>
          <p:grpSpPr>
            <a:xfrm>
              <a:off x="2252520" y="2643120"/>
              <a:ext cx="4638960" cy="395280"/>
              <a:chOff x="2252520" y="2643120"/>
              <a:chExt cx="4638960" cy="395280"/>
            </a:xfrm>
          </p:grpSpPr>
          <p:pic>
            <p:nvPicPr>
              <p:cNvPr id="353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252520" y="2643120"/>
                <a:ext cx="4638960" cy="3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4" name=""/>
              <p:cNvSpPr/>
              <p:nvPr/>
            </p:nvSpPr>
            <p:spPr>
              <a:xfrm>
                <a:off x="2330640" y="2719440"/>
                <a:ext cx="4488120" cy="23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5" name="TextBox 4"/>
          <p:cNvSpPr/>
          <p:nvPr/>
        </p:nvSpPr>
        <p:spPr>
          <a:xfrm>
            <a:off x="6515280" y="8424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9" descr="C:\Documents and Settings\Administrator\桌面\新建文件夹 (2)\LOGO白副本.png"/>
          <p:cNvPicPr/>
          <p:nvPr/>
        </p:nvPicPr>
        <p:blipFill>
          <a:blip r:embed="rId3"/>
          <a:stretch/>
        </p:blipFill>
        <p:spPr>
          <a:xfrm>
            <a:off x="195120" y="95400"/>
            <a:ext cx="924120" cy="42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组合 68"/>
          <p:cNvGrpSpPr/>
          <p:nvPr/>
        </p:nvGrpSpPr>
        <p:grpSpPr>
          <a:xfrm>
            <a:off x="3790800" y="2298600"/>
            <a:ext cx="1503360" cy="1489320"/>
            <a:chOff x="3790800" y="2298600"/>
            <a:chExt cx="1503360" cy="1489320"/>
          </a:xfrm>
        </p:grpSpPr>
        <p:grpSp>
          <p:nvGrpSpPr>
            <p:cNvPr id="358" name="组合 31"/>
            <p:cNvGrpSpPr/>
            <p:nvPr/>
          </p:nvGrpSpPr>
          <p:grpSpPr>
            <a:xfrm>
              <a:off x="3790800" y="2298600"/>
              <a:ext cx="1503360" cy="1489320"/>
              <a:chOff x="3790800" y="2298600"/>
              <a:chExt cx="1503360" cy="1489320"/>
            </a:xfrm>
          </p:grpSpPr>
          <p:grpSp>
            <p:nvGrpSpPr>
              <p:cNvPr id="359" name="Oval 93"/>
              <p:cNvGrpSpPr/>
              <p:nvPr/>
            </p:nvGrpSpPr>
            <p:grpSpPr>
              <a:xfrm>
                <a:off x="3790800" y="2298600"/>
                <a:ext cx="1503360" cy="1489320"/>
                <a:chOff x="3790800" y="2298600"/>
                <a:chExt cx="1503360" cy="1489320"/>
              </a:xfrm>
            </p:grpSpPr>
            <p:pic>
              <p:nvPicPr>
                <p:cNvPr id="360" name="Oval 9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790800" y="2298600"/>
                  <a:ext cx="1503360" cy="148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1" name=""/>
                <p:cNvSpPr/>
                <p:nvPr/>
              </p:nvSpPr>
              <p:spPr>
                <a:xfrm>
                  <a:off x="4055400" y="2538360"/>
                  <a:ext cx="982080" cy="96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" name="Oval 94"/>
              <p:cNvGrpSpPr/>
              <p:nvPr/>
            </p:nvGrpSpPr>
            <p:grpSpPr>
              <a:xfrm>
                <a:off x="3846960" y="2343240"/>
                <a:ext cx="1312200" cy="1304640"/>
                <a:chOff x="3846960" y="2343240"/>
                <a:chExt cx="1312200" cy="1304640"/>
              </a:xfrm>
            </p:grpSpPr>
            <p:pic>
              <p:nvPicPr>
                <p:cNvPr id="363" name="Oval 9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846960" y="2343240"/>
                  <a:ext cx="1312200" cy="1304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4" name=""/>
                <p:cNvSpPr/>
                <p:nvPr/>
              </p:nvSpPr>
              <p:spPr>
                <a:xfrm>
                  <a:off x="4082760" y="2555640"/>
                  <a:ext cx="846360" cy="83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5" name="Text Box 18"/>
            <p:cNvSpPr/>
            <p:nvPr/>
          </p:nvSpPr>
          <p:spPr>
            <a:xfrm>
              <a:off x="3865680" y="2687760"/>
              <a:ext cx="1195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组合 67"/>
          <p:cNvGrpSpPr/>
          <p:nvPr/>
        </p:nvGrpSpPr>
        <p:grpSpPr>
          <a:xfrm>
            <a:off x="1781280" y="1343160"/>
            <a:ext cx="2781360" cy="1268640"/>
            <a:chOff x="1781280" y="1343160"/>
            <a:chExt cx="2781360" cy="1268640"/>
          </a:xfrm>
        </p:grpSpPr>
        <p:grpSp>
          <p:nvGrpSpPr>
            <p:cNvPr id="367" name="组合 8"/>
            <p:cNvGrpSpPr/>
            <p:nvPr/>
          </p:nvGrpSpPr>
          <p:grpSpPr>
            <a:xfrm>
              <a:off x="1781280" y="1343160"/>
              <a:ext cx="2781360" cy="1268640"/>
              <a:chOff x="1781280" y="1343160"/>
              <a:chExt cx="2781360" cy="1268640"/>
            </a:xfrm>
          </p:grpSpPr>
          <p:grpSp>
            <p:nvGrpSpPr>
              <p:cNvPr id="368" name="组合 76"/>
              <p:cNvGrpSpPr/>
              <p:nvPr/>
            </p:nvGrpSpPr>
            <p:grpSpPr>
              <a:xfrm>
                <a:off x="1781280" y="1343160"/>
                <a:ext cx="2781360" cy="1268640"/>
                <a:chOff x="1781280" y="1343160"/>
                <a:chExt cx="2781360" cy="1268640"/>
              </a:xfrm>
            </p:grpSpPr>
            <p:sp>
              <p:nvSpPr>
                <p:cNvPr id="369" name="AutoShape 73"/>
                <p:cNvSpPr/>
                <p:nvPr/>
              </p:nvSpPr>
              <p:spPr>
                <a:xfrm rot="2700000">
                  <a:off x="3563640" y="1498320"/>
                  <a:ext cx="760680" cy="988920"/>
                </a:xfrm>
                <a:prstGeom prst="rightArrow">
                  <a:avLst>
                    <a:gd name="adj1" fmla="val 70389"/>
                    <a:gd name="adj2" fmla="val 63769"/>
                  </a:avLst>
                </a:prstGeom>
                <a:solidFill>
                  <a:srgbClr val="ffffff">
                    <a:alpha val="60000"/>
                  </a:srgbClr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圆角矩形 14"/>
                <p:cNvSpPr/>
                <p:nvPr/>
              </p:nvSpPr>
              <p:spPr>
                <a:xfrm>
                  <a:off x="1781280" y="1343160"/>
                  <a:ext cx="1836720" cy="69372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>
                    <a:alpha val="60000"/>
                  </a:srgbClr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1" name="组合 28"/>
              <p:cNvGrpSpPr/>
              <p:nvPr/>
            </p:nvGrpSpPr>
            <p:grpSpPr>
              <a:xfrm>
                <a:off x="3288960" y="1343160"/>
                <a:ext cx="702000" cy="694800"/>
                <a:chOff x="3288960" y="1343160"/>
                <a:chExt cx="702000" cy="694800"/>
              </a:xfrm>
            </p:grpSpPr>
            <p:grpSp>
              <p:nvGrpSpPr>
                <p:cNvPr id="372" name="椭圆 11"/>
                <p:cNvGrpSpPr/>
                <p:nvPr/>
              </p:nvGrpSpPr>
              <p:grpSpPr>
                <a:xfrm>
                  <a:off x="3288960" y="1343160"/>
                  <a:ext cx="702000" cy="694800"/>
                  <a:chOff x="3288960" y="1343160"/>
                  <a:chExt cx="702000" cy="694800"/>
                </a:xfrm>
              </p:grpSpPr>
              <p:pic>
                <p:nvPicPr>
                  <p:cNvPr id="373" name="椭圆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88960" y="1343160"/>
                    <a:ext cx="702000" cy="69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4" name=""/>
                  <p:cNvSpPr/>
                  <p:nvPr/>
                </p:nvSpPr>
                <p:spPr>
                  <a:xfrm>
                    <a:off x="3430080" y="1465560"/>
                    <a:ext cx="420480" cy="411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5" name="椭圆 117"/>
                <p:cNvGrpSpPr/>
                <p:nvPr/>
              </p:nvGrpSpPr>
              <p:grpSpPr>
                <a:xfrm>
                  <a:off x="3304440" y="1363320"/>
                  <a:ext cx="619560" cy="608040"/>
                  <a:chOff x="3304440" y="1363320"/>
                  <a:chExt cx="619560" cy="608040"/>
                </a:xfrm>
              </p:grpSpPr>
              <p:pic>
                <p:nvPicPr>
                  <p:cNvPr id="376" name="椭圆 1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04440" y="1363320"/>
                    <a:ext cx="61956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7" name=""/>
                  <p:cNvSpPr/>
                  <p:nvPr/>
                </p:nvSpPr>
                <p:spPr>
                  <a:xfrm>
                    <a:off x="3436920" y="1469880"/>
                    <a:ext cx="359280" cy="352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78" name="Text Box 18"/>
            <p:cNvSpPr/>
            <p:nvPr/>
          </p:nvSpPr>
          <p:spPr>
            <a:xfrm>
              <a:off x="1861560" y="1534680"/>
              <a:ext cx="144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26"/>
            <p:cNvSpPr/>
            <p:nvPr/>
          </p:nvSpPr>
          <p:spPr>
            <a:xfrm>
              <a:off x="3425400" y="15274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宋体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组合 69"/>
          <p:cNvGrpSpPr/>
          <p:nvPr/>
        </p:nvGrpSpPr>
        <p:grpSpPr>
          <a:xfrm>
            <a:off x="4597200" y="1343160"/>
            <a:ext cx="2681640" cy="1351080"/>
            <a:chOff x="4597200" y="1343160"/>
            <a:chExt cx="2681640" cy="1351080"/>
          </a:xfrm>
        </p:grpSpPr>
        <p:grpSp>
          <p:nvGrpSpPr>
            <p:cNvPr id="381" name="组合 62"/>
            <p:cNvGrpSpPr/>
            <p:nvPr/>
          </p:nvGrpSpPr>
          <p:grpSpPr>
            <a:xfrm>
              <a:off x="4597200" y="1343160"/>
              <a:ext cx="2681640" cy="1351080"/>
              <a:chOff x="4597200" y="1343160"/>
              <a:chExt cx="2681640" cy="1351080"/>
            </a:xfrm>
          </p:grpSpPr>
          <p:grpSp>
            <p:nvGrpSpPr>
              <p:cNvPr id="382" name="组合 48"/>
              <p:cNvGrpSpPr/>
              <p:nvPr/>
            </p:nvGrpSpPr>
            <p:grpSpPr>
              <a:xfrm>
                <a:off x="4597200" y="1343160"/>
                <a:ext cx="2681640" cy="1351080"/>
                <a:chOff x="4597200" y="1343160"/>
                <a:chExt cx="2681640" cy="1351080"/>
              </a:xfrm>
            </p:grpSpPr>
            <p:grpSp>
              <p:nvGrpSpPr>
                <p:cNvPr id="383" name="组合 74"/>
                <p:cNvGrpSpPr/>
                <p:nvPr/>
              </p:nvGrpSpPr>
              <p:grpSpPr>
                <a:xfrm>
                  <a:off x="4597200" y="1343160"/>
                  <a:ext cx="2681640" cy="1351080"/>
                  <a:chOff x="4597200" y="1343160"/>
                  <a:chExt cx="2681640" cy="1351080"/>
                </a:xfrm>
              </p:grpSpPr>
              <p:sp>
                <p:nvSpPr>
                  <p:cNvPr id="384" name="AutoShape 67"/>
                  <p:cNvSpPr/>
                  <p:nvPr/>
                </p:nvSpPr>
                <p:spPr>
                  <a:xfrm flipH="1" rot="18900000">
                    <a:off x="4807800" y="1589040"/>
                    <a:ext cx="841680" cy="946080"/>
                  </a:xfrm>
                  <a:prstGeom prst="rightArrow">
                    <a:avLst>
                      <a:gd name="adj1" fmla="val 70389"/>
                      <a:gd name="adj2" fmla="val 63769"/>
                    </a:avLst>
                  </a:prstGeom>
                  <a:solidFill>
                    <a:srgbClr val="ffffff">
                      <a:alpha val="60000"/>
                    </a:srgbClr>
                  </a:solidFill>
                  <a:ln w="64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圆角矩形 54"/>
                  <p:cNvSpPr/>
                  <p:nvPr/>
                </p:nvSpPr>
                <p:spPr>
                  <a:xfrm>
                    <a:off x="5518440" y="1343160"/>
                    <a:ext cx="1760400" cy="76752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ffffff">
                      <a:alpha val="60000"/>
                    </a:srgbClr>
                  </a:solidFill>
                  <a:ln w="64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6" name="组合 44"/>
                <p:cNvGrpSpPr/>
                <p:nvPr/>
              </p:nvGrpSpPr>
              <p:grpSpPr>
                <a:xfrm>
                  <a:off x="5070600" y="1343160"/>
                  <a:ext cx="702000" cy="694800"/>
                  <a:chOff x="5070600" y="1343160"/>
                  <a:chExt cx="702000" cy="694800"/>
                </a:xfrm>
              </p:grpSpPr>
              <p:grpSp>
                <p:nvGrpSpPr>
                  <p:cNvPr id="387" name="椭圆 51"/>
                  <p:cNvGrpSpPr/>
                  <p:nvPr/>
                </p:nvGrpSpPr>
                <p:grpSpPr>
                  <a:xfrm>
                    <a:off x="5070600" y="1343160"/>
                    <a:ext cx="702000" cy="694800"/>
                    <a:chOff x="5070600" y="1343160"/>
                    <a:chExt cx="702000" cy="694800"/>
                  </a:xfrm>
                </p:grpSpPr>
                <p:pic>
                  <p:nvPicPr>
                    <p:cNvPr id="388" name="椭圆 5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070600" y="1343160"/>
                      <a:ext cx="702000" cy="69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89" name=""/>
                    <p:cNvSpPr/>
                    <p:nvPr/>
                  </p:nvSpPr>
                  <p:spPr>
                    <a:xfrm>
                      <a:off x="5213160" y="1465560"/>
                      <a:ext cx="420480" cy="411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0" name="椭圆 117"/>
                  <p:cNvGrpSpPr/>
                  <p:nvPr/>
                </p:nvGrpSpPr>
                <p:grpSpPr>
                  <a:xfrm>
                    <a:off x="5086080" y="1363320"/>
                    <a:ext cx="619560" cy="608040"/>
                    <a:chOff x="5086080" y="1363320"/>
                    <a:chExt cx="619560" cy="608040"/>
                  </a:xfrm>
                </p:grpSpPr>
                <p:pic>
                  <p:nvPicPr>
                    <p:cNvPr id="391" name="椭圆 11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86080" y="1363320"/>
                      <a:ext cx="619560" cy="60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92" name=""/>
                    <p:cNvSpPr/>
                    <p:nvPr/>
                  </p:nvSpPr>
                  <p:spPr>
                    <a:xfrm>
                      <a:off x="5219280" y="1469880"/>
                      <a:ext cx="360360" cy="352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93" name="Rectangle 26"/>
              <p:cNvSpPr/>
              <p:nvPr/>
            </p:nvSpPr>
            <p:spPr>
              <a:xfrm>
                <a:off x="5217480" y="152748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宋体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Text Box 18"/>
            <p:cNvSpPr/>
            <p:nvPr/>
          </p:nvSpPr>
          <p:spPr>
            <a:xfrm>
              <a:off x="5819400" y="1535040"/>
              <a:ext cx="144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组合 70"/>
          <p:cNvGrpSpPr/>
          <p:nvPr/>
        </p:nvGrpSpPr>
        <p:grpSpPr>
          <a:xfrm>
            <a:off x="5340240" y="2532240"/>
            <a:ext cx="2637000" cy="979200"/>
            <a:chOff x="5340240" y="2532240"/>
            <a:chExt cx="2637000" cy="979200"/>
          </a:xfrm>
        </p:grpSpPr>
        <p:grpSp>
          <p:nvGrpSpPr>
            <p:cNvPr id="396" name="组合 63"/>
            <p:cNvGrpSpPr/>
            <p:nvPr/>
          </p:nvGrpSpPr>
          <p:grpSpPr>
            <a:xfrm>
              <a:off x="5340240" y="2532240"/>
              <a:ext cx="2637000" cy="979200"/>
              <a:chOff x="5340240" y="2532240"/>
              <a:chExt cx="2637000" cy="979200"/>
            </a:xfrm>
          </p:grpSpPr>
          <p:grpSp>
            <p:nvGrpSpPr>
              <p:cNvPr id="397" name="组合 39"/>
              <p:cNvGrpSpPr/>
              <p:nvPr/>
            </p:nvGrpSpPr>
            <p:grpSpPr>
              <a:xfrm>
                <a:off x="5340240" y="2532240"/>
                <a:ext cx="2637000" cy="979200"/>
                <a:chOff x="5340240" y="2532240"/>
                <a:chExt cx="2637000" cy="979200"/>
              </a:xfrm>
            </p:grpSpPr>
            <p:grpSp>
              <p:nvGrpSpPr>
                <p:cNvPr id="398" name="组合 60"/>
                <p:cNvGrpSpPr/>
                <p:nvPr/>
              </p:nvGrpSpPr>
              <p:grpSpPr>
                <a:xfrm>
                  <a:off x="5340240" y="2532240"/>
                  <a:ext cx="2637000" cy="979200"/>
                  <a:chOff x="5340240" y="2532240"/>
                  <a:chExt cx="2637000" cy="979200"/>
                </a:xfrm>
              </p:grpSpPr>
              <p:sp>
                <p:nvSpPr>
                  <p:cNvPr id="399" name="AutoShape 49"/>
                  <p:cNvSpPr/>
                  <p:nvPr/>
                </p:nvSpPr>
                <p:spPr>
                  <a:xfrm flipH="1">
                    <a:off x="5340240" y="2532240"/>
                    <a:ext cx="768240" cy="979200"/>
                  </a:xfrm>
                  <a:prstGeom prst="rightArrow">
                    <a:avLst>
                      <a:gd name="adj1" fmla="val 70389"/>
                      <a:gd name="adj2" fmla="val 68255"/>
                    </a:avLst>
                  </a:prstGeom>
                  <a:solidFill>
                    <a:srgbClr val="ffffff">
                      <a:alpha val="60000"/>
                    </a:srgbClr>
                  </a:solidFill>
                  <a:ln w="64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圆角矩形 47"/>
                  <p:cNvSpPr/>
                  <p:nvPr/>
                </p:nvSpPr>
                <p:spPr>
                  <a:xfrm>
                    <a:off x="6140160" y="2673360"/>
                    <a:ext cx="1837080" cy="69696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ffffff">
                      <a:alpha val="60000"/>
                    </a:srgbClr>
                  </a:solidFill>
                  <a:ln w="64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" name="组合 41"/>
                <p:cNvGrpSpPr/>
                <p:nvPr/>
              </p:nvGrpSpPr>
              <p:grpSpPr>
                <a:xfrm>
                  <a:off x="5779800" y="2674080"/>
                  <a:ext cx="702000" cy="695160"/>
                  <a:chOff x="5779800" y="2674080"/>
                  <a:chExt cx="702000" cy="695160"/>
                </a:xfrm>
              </p:grpSpPr>
              <p:grpSp>
                <p:nvGrpSpPr>
                  <p:cNvPr id="402" name="椭圆 42"/>
                  <p:cNvGrpSpPr/>
                  <p:nvPr/>
                </p:nvGrpSpPr>
                <p:grpSpPr>
                  <a:xfrm>
                    <a:off x="5779800" y="2674080"/>
                    <a:ext cx="702000" cy="695160"/>
                    <a:chOff x="5779800" y="2674080"/>
                    <a:chExt cx="702000" cy="695160"/>
                  </a:xfrm>
                </p:grpSpPr>
                <p:pic>
                  <p:nvPicPr>
                    <p:cNvPr id="403" name="椭圆 42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779800" y="2674080"/>
                      <a:ext cx="702000" cy="69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5924160" y="2793600"/>
                      <a:ext cx="420480" cy="412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5" name="椭圆 117"/>
                  <p:cNvGrpSpPr/>
                  <p:nvPr/>
                </p:nvGrpSpPr>
                <p:grpSpPr>
                  <a:xfrm>
                    <a:off x="5800320" y="2689200"/>
                    <a:ext cx="614520" cy="613440"/>
                    <a:chOff x="5800320" y="2689200"/>
                    <a:chExt cx="614520" cy="613440"/>
                  </a:xfrm>
                </p:grpSpPr>
                <p:pic>
                  <p:nvPicPr>
                    <p:cNvPr id="406" name="椭圆 11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800320" y="2689200"/>
                      <a:ext cx="614520" cy="61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5930640" y="2797200"/>
                      <a:ext cx="359640" cy="353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408" name="Rectangle 26"/>
              <p:cNvSpPr/>
              <p:nvPr/>
            </p:nvSpPr>
            <p:spPr>
              <a:xfrm>
                <a:off x="5915880" y="284796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宋体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9" name="Text Box 18"/>
            <p:cNvSpPr/>
            <p:nvPr/>
          </p:nvSpPr>
          <p:spPr>
            <a:xfrm>
              <a:off x="6489720" y="2866320"/>
              <a:ext cx="144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组合 66"/>
          <p:cNvGrpSpPr/>
          <p:nvPr/>
        </p:nvGrpSpPr>
        <p:grpSpPr>
          <a:xfrm>
            <a:off x="1093680" y="2532240"/>
            <a:ext cx="2648160" cy="979200"/>
            <a:chOff x="1093680" y="2532240"/>
            <a:chExt cx="2648160" cy="979200"/>
          </a:xfrm>
        </p:grpSpPr>
        <p:grpSp>
          <p:nvGrpSpPr>
            <p:cNvPr id="411" name="组合 15"/>
            <p:cNvGrpSpPr/>
            <p:nvPr/>
          </p:nvGrpSpPr>
          <p:grpSpPr>
            <a:xfrm>
              <a:off x="1093680" y="2532240"/>
              <a:ext cx="2648160" cy="979200"/>
              <a:chOff x="1093680" y="2532240"/>
              <a:chExt cx="2648160" cy="979200"/>
            </a:xfrm>
          </p:grpSpPr>
          <p:grpSp>
            <p:nvGrpSpPr>
              <p:cNvPr id="412" name="组合 57"/>
              <p:cNvGrpSpPr/>
              <p:nvPr/>
            </p:nvGrpSpPr>
            <p:grpSpPr>
              <a:xfrm>
                <a:off x="1093680" y="2532240"/>
                <a:ext cx="2648160" cy="979200"/>
                <a:chOff x="1093680" y="2532240"/>
                <a:chExt cx="2648160" cy="979200"/>
              </a:xfrm>
            </p:grpSpPr>
            <p:sp>
              <p:nvSpPr>
                <p:cNvPr id="413" name="AutoShape 71"/>
                <p:cNvSpPr/>
                <p:nvPr/>
              </p:nvSpPr>
              <p:spPr>
                <a:xfrm>
                  <a:off x="2973600" y="2532240"/>
                  <a:ext cx="768240" cy="979200"/>
                </a:xfrm>
                <a:prstGeom prst="rightArrow">
                  <a:avLst>
                    <a:gd name="adj1" fmla="val 70389"/>
                    <a:gd name="adj2" fmla="val 62116"/>
                  </a:avLst>
                </a:prstGeom>
                <a:solidFill>
                  <a:srgbClr val="ffffff">
                    <a:alpha val="60000"/>
                  </a:srgbClr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圆角矩形 21"/>
                <p:cNvSpPr/>
                <p:nvPr/>
              </p:nvSpPr>
              <p:spPr>
                <a:xfrm>
                  <a:off x="1093680" y="2673360"/>
                  <a:ext cx="1837080" cy="69696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>
                    <a:alpha val="60000"/>
                  </a:srgbClr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组合 24"/>
              <p:cNvGrpSpPr/>
              <p:nvPr/>
            </p:nvGrpSpPr>
            <p:grpSpPr>
              <a:xfrm>
                <a:off x="2601360" y="2674080"/>
                <a:ext cx="702000" cy="695160"/>
                <a:chOff x="2601360" y="2674080"/>
                <a:chExt cx="702000" cy="695160"/>
              </a:xfrm>
            </p:grpSpPr>
            <p:grpSp>
              <p:nvGrpSpPr>
                <p:cNvPr id="416" name="椭圆 18"/>
                <p:cNvGrpSpPr/>
                <p:nvPr/>
              </p:nvGrpSpPr>
              <p:grpSpPr>
                <a:xfrm>
                  <a:off x="2601360" y="2674080"/>
                  <a:ext cx="702000" cy="695160"/>
                  <a:chOff x="2601360" y="2674080"/>
                  <a:chExt cx="702000" cy="695160"/>
                </a:xfrm>
              </p:grpSpPr>
              <p:pic>
                <p:nvPicPr>
                  <p:cNvPr id="417" name="椭圆 1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01360" y="2674080"/>
                    <a:ext cx="70200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8" name=""/>
                  <p:cNvSpPr/>
                  <p:nvPr/>
                </p:nvSpPr>
                <p:spPr>
                  <a:xfrm>
                    <a:off x="2743560" y="2793600"/>
                    <a:ext cx="420480" cy="412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椭圆 117"/>
                <p:cNvGrpSpPr/>
                <p:nvPr/>
              </p:nvGrpSpPr>
              <p:grpSpPr>
                <a:xfrm>
                  <a:off x="2616840" y="2694240"/>
                  <a:ext cx="619560" cy="608400"/>
                  <a:chOff x="2616840" y="2694240"/>
                  <a:chExt cx="619560" cy="608400"/>
                </a:xfrm>
              </p:grpSpPr>
              <p:pic>
                <p:nvPicPr>
                  <p:cNvPr id="420" name="椭圆 1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16840" y="2694240"/>
                    <a:ext cx="619560" cy="6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1" name=""/>
                  <p:cNvSpPr/>
                  <p:nvPr/>
                </p:nvSpPr>
                <p:spPr>
                  <a:xfrm>
                    <a:off x="2750400" y="2797200"/>
                    <a:ext cx="359280" cy="353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22" name="Text Box 18"/>
            <p:cNvSpPr/>
            <p:nvPr/>
          </p:nvSpPr>
          <p:spPr>
            <a:xfrm>
              <a:off x="1206360" y="2866320"/>
              <a:ext cx="145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26"/>
            <p:cNvSpPr/>
            <p:nvPr/>
          </p:nvSpPr>
          <p:spPr>
            <a:xfrm>
              <a:off x="2737440" y="28479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宋体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组合 65"/>
          <p:cNvGrpSpPr/>
          <p:nvPr/>
        </p:nvGrpSpPr>
        <p:grpSpPr>
          <a:xfrm>
            <a:off x="1781280" y="3436200"/>
            <a:ext cx="2780640" cy="1253160"/>
            <a:chOff x="1781280" y="3436200"/>
            <a:chExt cx="2780640" cy="1253160"/>
          </a:xfrm>
        </p:grpSpPr>
        <p:grpSp>
          <p:nvGrpSpPr>
            <p:cNvPr id="425" name="组合 22"/>
            <p:cNvGrpSpPr/>
            <p:nvPr/>
          </p:nvGrpSpPr>
          <p:grpSpPr>
            <a:xfrm>
              <a:off x="1781280" y="3436200"/>
              <a:ext cx="2780640" cy="1253160"/>
              <a:chOff x="1781280" y="3436200"/>
              <a:chExt cx="2780640" cy="1253160"/>
            </a:xfrm>
          </p:grpSpPr>
          <p:grpSp>
            <p:nvGrpSpPr>
              <p:cNvPr id="426" name="组合 78"/>
              <p:cNvGrpSpPr/>
              <p:nvPr/>
            </p:nvGrpSpPr>
            <p:grpSpPr>
              <a:xfrm>
                <a:off x="1781280" y="3436200"/>
                <a:ext cx="2780640" cy="1253160"/>
                <a:chOff x="1781280" y="3436200"/>
                <a:chExt cx="2780640" cy="1253160"/>
              </a:xfrm>
            </p:grpSpPr>
            <p:sp>
              <p:nvSpPr>
                <p:cNvPr id="427" name="AutoShape 75"/>
                <p:cNvSpPr/>
                <p:nvPr/>
              </p:nvSpPr>
              <p:spPr>
                <a:xfrm rot="18900000">
                  <a:off x="3554640" y="3562200"/>
                  <a:ext cx="768240" cy="993960"/>
                </a:xfrm>
                <a:prstGeom prst="rightArrow">
                  <a:avLst>
                    <a:gd name="adj1" fmla="val 70389"/>
                    <a:gd name="adj2" fmla="val 65694"/>
                  </a:avLst>
                </a:prstGeom>
                <a:solidFill>
                  <a:srgbClr val="ffffff">
                    <a:alpha val="60000"/>
                  </a:srgbClr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圆角矩形 31"/>
                <p:cNvSpPr/>
                <p:nvPr/>
              </p:nvSpPr>
              <p:spPr>
                <a:xfrm>
                  <a:off x="1781280" y="3993840"/>
                  <a:ext cx="1836720" cy="69552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>
                    <a:alpha val="60000"/>
                  </a:srgbClr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9" name="组合 35"/>
              <p:cNvGrpSpPr/>
              <p:nvPr/>
            </p:nvGrpSpPr>
            <p:grpSpPr>
              <a:xfrm>
                <a:off x="3288600" y="3993840"/>
                <a:ext cx="702000" cy="695520"/>
                <a:chOff x="3288600" y="3993840"/>
                <a:chExt cx="702000" cy="695520"/>
              </a:xfrm>
            </p:grpSpPr>
            <p:grpSp>
              <p:nvGrpSpPr>
                <p:cNvPr id="430" name="椭圆 26"/>
                <p:cNvGrpSpPr/>
                <p:nvPr/>
              </p:nvGrpSpPr>
              <p:grpSpPr>
                <a:xfrm>
                  <a:off x="3288600" y="3993840"/>
                  <a:ext cx="702000" cy="695520"/>
                  <a:chOff x="3288600" y="3993840"/>
                  <a:chExt cx="702000" cy="695520"/>
                </a:xfrm>
              </p:grpSpPr>
              <p:pic>
                <p:nvPicPr>
                  <p:cNvPr id="431" name="椭圆 2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288600" y="3993840"/>
                    <a:ext cx="70200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2" name=""/>
                  <p:cNvSpPr/>
                  <p:nvPr/>
                </p:nvSpPr>
                <p:spPr>
                  <a:xfrm>
                    <a:off x="3433320" y="4115880"/>
                    <a:ext cx="417240" cy="412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3" name="椭圆 117"/>
                <p:cNvGrpSpPr/>
                <p:nvPr/>
              </p:nvGrpSpPr>
              <p:grpSpPr>
                <a:xfrm>
                  <a:off x="3308760" y="4019400"/>
                  <a:ext cx="614880" cy="603720"/>
                  <a:chOff x="3308760" y="4019400"/>
                  <a:chExt cx="614880" cy="603720"/>
                </a:xfrm>
              </p:grpSpPr>
              <p:pic>
                <p:nvPicPr>
                  <p:cNvPr id="434" name="椭圆 1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08760" y="4019400"/>
                    <a:ext cx="614880" cy="6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5" name=""/>
                  <p:cNvSpPr/>
                  <p:nvPr/>
                </p:nvSpPr>
                <p:spPr>
                  <a:xfrm>
                    <a:off x="3439080" y="4120920"/>
                    <a:ext cx="357480" cy="353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36" name="Text Box 18"/>
            <p:cNvSpPr/>
            <p:nvPr/>
          </p:nvSpPr>
          <p:spPr>
            <a:xfrm>
              <a:off x="1812960" y="4185720"/>
              <a:ext cx="145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26"/>
            <p:cNvSpPr/>
            <p:nvPr/>
          </p:nvSpPr>
          <p:spPr>
            <a:xfrm>
              <a:off x="3424680" y="416772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宋体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组合 71"/>
          <p:cNvGrpSpPr/>
          <p:nvPr/>
        </p:nvGrpSpPr>
        <p:grpSpPr>
          <a:xfrm>
            <a:off x="4449600" y="3506760"/>
            <a:ext cx="2829240" cy="1193040"/>
            <a:chOff x="4449600" y="3506760"/>
            <a:chExt cx="2829240" cy="1193040"/>
          </a:xfrm>
        </p:grpSpPr>
        <p:grpSp>
          <p:nvGrpSpPr>
            <p:cNvPr id="439" name="组合 64"/>
            <p:cNvGrpSpPr/>
            <p:nvPr/>
          </p:nvGrpSpPr>
          <p:grpSpPr>
            <a:xfrm>
              <a:off x="4449600" y="3506760"/>
              <a:ext cx="2829240" cy="1193040"/>
              <a:chOff x="4449600" y="3506760"/>
              <a:chExt cx="2829240" cy="1193040"/>
            </a:xfrm>
          </p:grpSpPr>
          <p:grpSp>
            <p:nvGrpSpPr>
              <p:cNvPr id="440" name="组合 32"/>
              <p:cNvGrpSpPr/>
              <p:nvPr/>
            </p:nvGrpSpPr>
            <p:grpSpPr>
              <a:xfrm>
                <a:off x="4449600" y="3506760"/>
                <a:ext cx="2829240" cy="1193040"/>
                <a:chOff x="4449600" y="3506760"/>
                <a:chExt cx="2829240" cy="1193040"/>
              </a:xfrm>
            </p:grpSpPr>
            <p:grpSp>
              <p:nvGrpSpPr>
                <p:cNvPr id="441" name="组合 72"/>
                <p:cNvGrpSpPr/>
                <p:nvPr/>
              </p:nvGrpSpPr>
              <p:grpSpPr>
                <a:xfrm>
                  <a:off x="4449600" y="3506760"/>
                  <a:ext cx="2829240" cy="1193040"/>
                  <a:chOff x="4449600" y="3506760"/>
                  <a:chExt cx="2829240" cy="1193040"/>
                </a:xfrm>
              </p:grpSpPr>
              <p:sp>
                <p:nvSpPr>
                  <p:cNvPr id="442" name="AutoShape 69"/>
                  <p:cNvSpPr/>
                  <p:nvPr/>
                </p:nvSpPr>
                <p:spPr>
                  <a:xfrm flipH="1" rot="2700000">
                    <a:off x="4645080" y="3660480"/>
                    <a:ext cx="801720" cy="885240"/>
                  </a:xfrm>
                  <a:prstGeom prst="rightArrow">
                    <a:avLst>
                      <a:gd name="adj1" fmla="val 70389"/>
                      <a:gd name="adj2" fmla="val 64583"/>
                    </a:avLst>
                  </a:prstGeom>
                  <a:solidFill>
                    <a:srgbClr val="ffffff">
                      <a:alpha val="60000"/>
                    </a:srgbClr>
                  </a:solidFill>
                  <a:ln w="64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圆角矩形 38"/>
                  <p:cNvSpPr/>
                  <p:nvPr/>
                </p:nvSpPr>
                <p:spPr>
                  <a:xfrm>
                    <a:off x="5362200" y="4044600"/>
                    <a:ext cx="1916640" cy="62892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ffffff">
                      <a:alpha val="60000"/>
                    </a:srgbClr>
                  </a:solidFill>
                  <a:ln w="64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4" name="组合 38"/>
                <p:cNvGrpSpPr/>
                <p:nvPr/>
              </p:nvGrpSpPr>
              <p:grpSpPr>
                <a:xfrm>
                  <a:off x="5070960" y="3978000"/>
                  <a:ext cx="702000" cy="695520"/>
                  <a:chOff x="5070960" y="3978000"/>
                  <a:chExt cx="702000" cy="695520"/>
                </a:xfrm>
              </p:grpSpPr>
              <p:grpSp>
                <p:nvGrpSpPr>
                  <p:cNvPr id="445" name="椭圆 35"/>
                  <p:cNvGrpSpPr/>
                  <p:nvPr/>
                </p:nvGrpSpPr>
                <p:grpSpPr>
                  <a:xfrm>
                    <a:off x="5070960" y="3978000"/>
                    <a:ext cx="702000" cy="695520"/>
                    <a:chOff x="5070960" y="3978000"/>
                    <a:chExt cx="702000" cy="695520"/>
                  </a:xfrm>
                </p:grpSpPr>
                <p:pic>
                  <p:nvPicPr>
                    <p:cNvPr id="446" name="椭圆 35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070960" y="3978000"/>
                      <a:ext cx="702000" cy="69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47" name=""/>
                    <p:cNvSpPr/>
                    <p:nvPr/>
                  </p:nvSpPr>
                  <p:spPr>
                    <a:xfrm>
                      <a:off x="5213880" y="4096800"/>
                      <a:ext cx="420480" cy="412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" name="椭圆 117"/>
                  <p:cNvGrpSpPr/>
                  <p:nvPr/>
                </p:nvGrpSpPr>
                <p:grpSpPr>
                  <a:xfrm>
                    <a:off x="5091480" y="3993120"/>
                    <a:ext cx="614520" cy="613800"/>
                    <a:chOff x="5091480" y="3993120"/>
                    <a:chExt cx="614520" cy="613800"/>
                  </a:xfrm>
                </p:grpSpPr>
                <p:pic>
                  <p:nvPicPr>
                    <p:cNvPr id="449" name="椭圆 117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091480" y="3993120"/>
                      <a:ext cx="614520" cy="61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5220000" y="4100760"/>
                      <a:ext cx="359280" cy="353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451" name="Rectangle 26"/>
              <p:cNvSpPr/>
              <p:nvPr/>
            </p:nvSpPr>
            <p:spPr>
              <a:xfrm>
                <a:off x="5207040" y="415188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宋体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Text Box 18"/>
            <p:cNvSpPr/>
            <p:nvPr/>
          </p:nvSpPr>
          <p:spPr>
            <a:xfrm>
              <a:off x="5723280" y="4169880"/>
              <a:ext cx="151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TextBox 4"/>
          <p:cNvSpPr/>
          <p:nvPr/>
        </p:nvSpPr>
        <p:spPr>
          <a:xfrm>
            <a:off x="6515280" y="8424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9" descr="C:\Documents and Settings\Administrator\桌面\新建文件夹 (2)\LOGO白副本.png"/>
          <p:cNvPicPr/>
          <p:nvPr/>
        </p:nvPicPr>
        <p:blipFill>
          <a:blip r:embed="rId15"/>
          <a:stretch/>
        </p:blipFill>
        <p:spPr>
          <a:xfrm>
            <a:off x="195120" y="95400"/>
            <a:ext cx="924120" cy="42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3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3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3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3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3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3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3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3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组合 38"/>
          <p:cNvGrpSpPr/>
          <p:nvPr/>
        </p:nvGrpSpPr>
        <p:grpSpPr>
          <a:xfrm>
            <a:off x="888840" y="1476360"/>
            <a:ext cx="7409160" cy="3703680"/>
            <a:chOff x="888840" y="1476360"/>
            <a:chExt cx="7409160" cy="3703680"/>
          </a:xfrm>
        </p:grpSpPr>
        <p:grpSp>
          <p:nvGrpSpPr>
            <p:cNvPr id="456" name="组合 35"/>
            <p:cNvGrpSpPr/>
            <p:nvPr/>
          </p:nvGrpSpPr>
          <p:grpSpPr>
            <a:xfrm>
              <a:off x="888840" y="1476360"/>
              <a:ext cx="7409160" cy="3703680"/>
              <a:chOff x="888840" y="1476360"/>
              <a:chExt cx="7409160" cy="3703680"/>
            </a:xfrm>
          </p:grpSpPr>
          <p:sp>
            <p:nvSpPr>
              <p:cNvPr id="457" name="AutoShape 5"/>
              <p:cNvSpPr/>
              <p:nvPr/>
            </p:nvSpPr>
            <p:spPr>
              <a:xfrm>
                <a:off x="888840" y="1476360"/>
                <a:ext cx="7409160" cy="3703680"/>
              </a:xfrm>
              <a:prstGeom prst="roundRect">
                <a:avLst>
                  <a:gd name="adj" fmla="val 3231"/>
                </a:avLst>
              </a:prstGeom>
              <a:noFill/>
              <a:ln w="25560">
                <a:solidFill>
                  <a:srgbClr val="26262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Rectangle 9"/>
              <p:cNvSpPr/>
              <p:nvPr/>
            </p:nvSpPr>
            <p:spPr>
              <a:xfrm>
                <a:off x="1010520" y="1587240"/>
                <a:ext cx="7165800" cy="3481200"/>
              </a:xfrm>
              <a:prstGeom prst="roundRect">
                <a:avLst>
                  <a:gd name="adj" fmla="val 3486"/>
                </a:avLst>
              </a:prstGeom>
              <a:solidFill>
                <a:srgbClr val="ffffff">
                  <a:alpha val="5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组合 36"/>
            <p:cNvGrpSpPr/>
            <p:nvPr/>
          </p:nvGrpSpPr>
          <p:grpSpPr>
            <a:xfrm>
              <a:off x="1315440" y="2092320"/>
              <a:ext cx="6476040" cy="2783880"/>
              <a:chOff x="1315440" y="2092320"/>
              <a:chExt cx="6476040" cy="2783880"/>
            </a:xfrm>
          </p:grpSpPr>
          <p:sp>
            <p:nvSpPr>
              <p:cNvPr id="460" name="Line 11"/>
              <p:cNvSpPr/>
              <p:nvPr/>
            </p:nvSpPr>
            <p:spPr>
              <a:xfrm>
                <a:off x="2923560" y="2507760"/>
                <a:ext cx="1440" cy="201528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12"/>
              <p:cNvSpPr/>
              <p:nvPr/>
            </p:nvSpPr>
            <p:spPr>
              <a:xfrm>
                <a:off x="4584240" y="2507760"/>
                <a:ext cx="1440" cy="201528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13"/>
              <p:cNvSpPr/>
              <p:nvPr/>
            </p:nvSpPr>
            <p:spPr>
              <a:xfrm>
                <a:off x="6234480" y="2507760"/>
                <a:ext cx="2880" cy="201528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Text Box 56"/>
              <p:cNvSpPr/>
              <p:nvPr/>
            </p:nvSpPr>
            <p:spPr>
              <a:xfrm>
                <a:off x="1807920" y="4569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Text Box 57"/>
              <p:cNvSpPr/>
              <p:nvPr/>
            </p:nvSpPr>
            <p:spPr>
              <a:xfrm>
                <a:off x="3467160" y="4569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Text Box 58"/>
              <p:cNvSpPr/>
              <p:nvPr/>
            </p:nvSpPr>
            <p:spPr>
              <a:xfrm>
                <a:off x="5129280" y="4569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59"/>
              <p:cNvSpPr/>
              <p:nvPr/>
            </p:nvSpPr>
            <p:spPr>
              <a:xfrm>
                <a:off x="6798240" y="4569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AutoShape 25"/>
              <p:cNvSpPr/>
              <p:nvPr/>
            </p:nvSpPr>
            <p:spPr>
              <a:xfrm>
                <a:off x="1617120" y="4401360"/>
                <a:ext cx="479160" cy="127080"/>
              </a:xfrm>
              <a:prstGeom prst="rect">
                <a:avLst/>
              </a:prstGeom>
              <a:solidFill>
                <a:srgbClr val="01fff9">
                  <a:alpha val="70000"/>
                </a:srgbClr>
              </a:solidFill>
              <a:ln w="12600">
                <a:solidFill>
                  <a:srgbClr val="01ff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AutoShape 26"/>
              <p:cNvSpPr/>
              <p:nvPr/>
            </p:nvSpPr>
            <p:spPr>
              <a:xfrm>
                <a:off x="3271680" y="4109760"/>
                <a:ext cx="476280" cy="418680"/>
              </a:xfrm>
              <a:prstGeom prst="rect">
                <a:avLst/>
              </a:prstGeom>
              <a:solidFill>
                <a:srgbClr val="01fff9">
                  <a:alpha val="70000"/>
                </a:srgbClr>
              </a:solidFill>
              <a:ln w="12600">
                <a:solidFill>
                  <a:srgbClr val="01ff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AutoShape 27"/>
              <p:cNvSpPr/>
              <p:nvPr/>
            </p:nvSpPr>
            <p:spPr>
              <a:xfrm>
                <a:off x="4932360" y="3700080"/>
                <a:ext cx="479160" cy="828000"/>
              </a:xfrm>
              <a:prstGeom prst="rect">
                <a:avLst/>
              </a:prstGeom>
              <a:solidFill>
                <a:srgbClr val="01fff9">
                  <a:alpha val="70000"/>
                </a:srgbClr>
              </a:solidFill>
              <a:ln w="12600">
                <a:solidFill>
                  <a:srgbClr val="01ff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AutoShape 28"/>
              <p:cNvSpPr/>
              <p:nvPr/>
            </p:nvSpPr>
            <p:spPr>
              <a:xfrm>
                <a:off x="6583320" y="3575880"/>
                <a:ext cx="477720" cy="952560"/>
              </a:xfrm>
              <a:prstGeom prst="rect">
                <a:avLst/>
              </a:prstGeom>
              <a:solidFill>
                <a:srgbClr val="01fff9">
                  <a:alpha val="70000"/>
                </a:srgbClr>
              </a:solidFill>
              <a:ln w="12600">
                <a:solidFill>
                  <a:srgbClr val="01ff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AutoShape 29"/>
              <p:cNvSpPr/>
              <p:nvPr/>
            </p:nvSpPr>
            <p:spPr>
              <a:xfrm>
                <a:off x="2096640" y="3494520"/>
                <a:ext cx="465840" cy="1033560"/>
              </a:xfrm>
              <a:prstGeom prst="rect">
                <a:avLst/>
              </a:prstGeom>
              <a:solidFill>
                <a:srgbClr val="ff4409">
                  <a:alpha val="50000"/>
                </a:srgbClr>
              </a:solidFill>
              <a:ln w="12600">
                <a:solidFill>
                  <a:srgbClr val="ff5c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AutoShape 30"/>
              <p:cNvSpPr/>
              <p:nvPr/>
            </p:nvSpPr>
            <p:spPr>
              <a:xfrm>
                <a:off x="3747240" y="3657600"/>
                <a:ext cx="479160" cy="870480"/>
              </a:xfrm>
              <a:prstGeom prst="rect">
                <a:avLst/>
              </a:prstGeom>
              <a:solidFill>
                <a:srgbClr val="ff4409">
                  <a:alpha val="50000"/>
                </a:srgbClr>
              </a:solidFill>
              <a:ln w="12600">
                <a:solidFill>
                  <a:srgbClr val="ff5c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AutoShape 31"/>
              <p:cNvSpPr/>
              <p:nvPr/>
            </p:nvSpPr>
            <p:spPr>
              <a:xfrm>
                <a:off x="5410800" y="3157200"/>
                <a:ext cx="465840" cy="1370520"/>
              </a:xfrm>
              <a:prstGeom prst="rect">
                <a:avLst/>
              </a:prstGeom>
              <a:solidFill>
                <a:srgbClr val="ff4409">
                  <a:alpha val="50000"/>
                </a:srgbClr>
              </a:solidFill>
              <a:ln w="12600">
                <a:solidFill>
                  <a:srgbClr val="ff5c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AutoShape 32"/>
              <p:cNvSpPr/>
              <p:nvPr/>
            </p:nvSpPr>
            <p:spPr>
              <a:xfrm>
                <a:off x="7061040" y="3406680"/>
                <a:ext cx="468720" cy="1121400"/>
              </a:xfrm>
              <a:prstGeom prst="rect">
                <a:avLst/>
              </a:prstGeom>
              <a:solidFill>
                <a:srgbClr val="ff4409">
                  <a:alpha val="50000"/>
                </a:srgbClr>
              </a:solidFill>
              <a:ln w="12600">
                <a:solidFill>
                  <a:srgbClr val="ff5c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Text Box 56"/>
              <p:cNvSpPr/>
              <p:nvPr/>
            </p:nvSpPr>
            <p:spPr>
              <a:xfrm>
                <a:off x="2139840" y="321768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Text Box 56"/>
              <p:cNvSpPr/>
              <p:nvPr/>
            </p:nvSpPr>
            <p:spPr>
              <a:xfrm>
                <a:off x="1671480" y="412776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Text Box 56"/>
              <p:cNvSpPr/>
              <p:nvPr/>
            </p:nvSpPr>
            <p:spPr>
              <a:xfrm>
                <a:off x="3582720" y="3367080"/>
                <a:ext cx="7999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Text Box 56"/>
              <p:cNvSpPr/>
              <p:nvPr/>
            </p:nvSpPr>
            <p:spPr>
              <a:xfrm>
                <a:off x="3319560" y="382932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Text Box 56"/>
              <p:cNvSpPr/>
              <p:nvPr/>
            </p:nvSpPr>
            <p:spPr>
              <a:xfrm>
                <a:off x="5297400" y="2844720"/>
                <a:ext cx="72396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56"/>
              <p:cNvSpPr/>
              <p:nvPr/>
            </p:nvSpPr>
            <p:spPr>
              <a:xfrm>
                <a:off x="4965840" y="342108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Text Box 56"/>
              <p:cNvSpPr/>
              <p:nvPr/>
            </p:nvSpPr>
            <p:spPr>
              <a:xfrm>
                <a:off x="7031160" y="3143160"/>
                <a:ext cx="62388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Text Box 56"/>
              <p:cNvSpPr/>
              <p:nvPr/>
            </p:nvSpPr>
            <p:spPr>
              <a:xfrm>
                <a:off x="6625080" y="329724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Line 8"/>
              <p:cNvSpPr/>
              <p:nvPr/>
            </p:nvSpPr>
            <p:spPr>
              <a:xfrm>
                <a:off x="1324440" y="2092320"/>
                <a:ext cx="0" cy="243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Line 8"/>
              <p:cNvSpPr/>
              <p:nvPr/>
            </p:nvSpPr>
            <p:spPr>
              <a:xfrm>
                <a:off x="1315440" y="4523400"/>
                <a:ext cx="6476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5" name="组合 34"/>
          <p:cNvGrpSpPr/>
          <p:nvPr/>
        </p:nvGrpSpPr>
        <p:grpSpPr>
          <a:xfrm>
            <a:off x="1566720" y="1241280"/>
            <a:ext cx="6100920" cy="489240"/>
            <a:chOff x="1566720" y="1241280"/>
            <a:chExt cx="6100920" cy="489240"/>
          </a:xfrm>
        </p:grpSpPr>
        <p:grpSp>
          <p:nvGrpSpPr>
            <p:cNvPr id="486" name="组合 53"/>
            <p:cNvGrpSpPr/>
            <p:nvPr/>
          </p:nvGrpSpPr>
          <p:grpSpPr>
            <a:xfrm>
              <a:off x="1566720" y="1241280"/>
              <a:ext cx="6100920" cy="489240"/>
              <a:chOff x="1566720" y="1241280"/>
              <a:chExt cx="6100920" cy="489240"/>
            </a:xfrm>
          </p:grpSpPr>
          <p:grpSp>
            <p:nvGrpSpPr>
              <p:cNvPr id="487" name="AutoShape 3"/>
              <p:cNvGrpSpPr/>
              <p:nvPr/>
            </p:nvGrpSpPr>
            <p:grpSpPr>
              <a:xfrm>
                <a:off x="1566720" y="1241280"/>
                <a:ext cx="6100920" cy="489240"/>
                <a:chOff x="1566720" y="1241280"/>
                <a:chExt cx="6100920" cy="489240"/>
              </a:xfrm>
            </p:grpSpPr>
            <p:pic>
              <p:nvPicPr>
                <p:cNvPr id="488" name="AutoShape 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566720" y="1241280"/>
                  <a:ext cx="6100920" cy="489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9" name=""/>
                <p:cNvSpPr/>
                <p:nvPr/>
              </p:nvSpPr>
              <p:spPr>
                <a:xfrm>
                  <a:off x="1655640" y="1291680"/>
                  <a:ext cx="5927760" cy="3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0" name="AutoShape 3"/>
              <p:cNvGrpSpPr/>
              <p:nvPr/>
            </p:nvGrpSpPr>
            <p:grpSpPr>
              <a:xfrm>
                <a:off x="1566720" y="1298880"/>
                <a:ext cx="6095160" cy="374040"/>
                <a:chOff x="1566720" y="1298880"/>
                <a:chExt cx="6095160" cy="374040"/>
              </a:xfrm>
            </p:grpSpPr>
            <p:pic>
              <p:nvPicPr>
                <p:cNvPr id="491" name="AutoShape 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566720" y="1298880"/>
                  <a:ext cx="6095160" cy="37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2" name=""/>
                <p:cNvSpPr/>
                <p:nvPr/>
              </p:nvSpPr>
              <p:spPr>
                <a:xfrm>
                  <a:off x="1648800" y="1344600"/>
                  <a:ext cx="594000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3" name="Rectangle 13"/>
            <p:cNvSpPr/>
            <p:nvPr/>
          </p:nvSpPr>
          <p:spPr>
            <a:xfrm>
              <a:off x="4115520" y="128376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TextBox 4"/>
          <p:cNvSpPr/>
          <p:nvPr/>
        </p:nvSpPr>
        <p:spPr>
          <a:xfrm>
            <a:off x="6515280" y="8424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9" descr="C:\Documents and Settings\Administrator\桌面\新建文件夹 (2)\LOGO白副本.png"/>
          <p:cNvPicPr/>
          <p:nvPr/>
        </p:nvPicPr>
        <p:blipFill>
          <a:blip r:embed="rId3"/>
          <a:stretch/>
        </p:blipFill>
        <p:spPr>
          <a:xfrm>
            <a:off x="195120" y="95400"/>
            <a:ext cx="924120" cy="42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2" descr="E:\amy项目\模板\茶\1\1.png"/>
          <p:cNvPicPr/>
          <p:nvPr/>
        </p:nvPicPr>
        <p:blipFill>
          <a:blip r:embed="rId1"/>
          <a:srcRect l="0" t="0" r="0" b="13921"/>
          <a:stretch/>
        </p:blipFill>
        <p:spPr>
          <a:xfrm>
            <a:off x="-1371600" y="-857160"/>
            <a:ext cx="11887200" cy="7429320"/>
          </a:xfrm>
          <a:prstGeom prst="rect">
            <a:avLst/>
          </a:prstGeom>
          <a:ln w="0">
            <a:noFill/>
          </a:ln>
        </p:spPr>
      </p:pic>
      <p:pic>
        <p:nvPicPr>
          <p:cNvPr id="497" name="图片 11" descr="9.png"/>
          <p:cNvPicPr/>
          <p:nvPr/>
        </p:nvPicPr>
        <p:blipFill>
          <a:blip r:embed="rId2"/>
          <a:stretch/>
        </p:blipFill>
        <p:spPr>
          <a:xfrm>
            <a:off x="6975360" y="-1098720"/>
            <a:ext cx="223920" cy="166680"/>
          </a:xfrm>
          <a:prstGeom prst="rect">
            <a:avLst/>
          </a:prstGeom>
          <a:ln w="0">
            <a:noFill/>
          </a:ln>
        </p:spPr>
      </p:pic>
      <p:pic>
        <p:nvPicPr>
          <p:cNvPr id="498" name="图片 12" descr="10.png"/>
          <p:cNvPicPr/>
          <p:nvPr/>
        </p:nvPicPr>
        <p:blipFill>
          <a:blip r:embed="rId3"/>
          <a:stretch/>
        </p:blipFill>
        <p:spPr>
          <a:xfrm>
            <a:off x="6189840" y="-682560"/>
            <a:ext cx="334800" cy="182520"/>
          </a:xfrm>
          <a:prstGeom prst="rect">
            <a:avLst/>
          </a:prstGeom>
          <a:ln w="0">
            <a:noFill/>
          </a:ln>
        </p:spPr>
      </p:pic>
      <p:pic>
        <p:nvPicPr>
          <p:cNvPr id="499" name="图片 13" descr="11.png"/>
          <p:cNvPicPr/>
          <p:nvPr/>
        </p:nvPicPr>
        <p:blipFill>
          <a:blip r:embed="rId4"/>
          <a:stretch/>
        </p:blipFill>
        <p:spPr>
          <a:xfrm>
            <a:off x="285840" y="-1071720"/>
            <a:ext cx="174600" cy="381240"/>
          </a:xfrm>
          <a:prstGeom prst="rect">
            <a:avLst/>
          </a:prstGeom>
          <a:ln w="0">
            <a:noFill/>
          </a:ln>
        </p:spPr>
      </p:pic>
      <p:pic>
        <p:nvPicPr>
          <p:cNvPr id="500" name="图片 14" descr="12.png"/>
          <p:cNvPicPr/>
          <p:nvPr/>
        </p:nvPicPr>
        <p:blipFill>
          <a:blip r:embed="rId5"/>
          <a:stretch/>
        </p:blipFill>
        <p:spPr>
          <a:xfrm>
            <a:off x="1069920" y="-839880"/>
            <a:ext cx="407880" cy="298440"/>
          </a:xfrm>
          <a:prstGeom prst="rect">
            <a:avLst/>
          </a:prstGeom>
          <a:ln w="0">
            <a:noFill/>
          </a:ln>
        </p:spPr>
      </p:pic>
      <p:pic>
        <p:nvPicPr>
          <p:cNvPr id="501" name="图片 15" descr="7.png"/>
          <p:cNvPicPr/>
          <p:nvPr/>
        </p:nvPicPr>
        <p:blipFill>
          <a:blip r:embed="rId6"/>
          <a:stretch/>
        </p:blipFill>
        <p:spPr>
          <a:xfrm>
            <a:off x="2984400" y="-861840"/>
            <a:ext cx="349200" cy="380880"/>
          </a:xfrm>
          <a:prstGeom prst="rect">
            <a:avLst/>
          </a:prstGeom>
          <a:ln w="0">
            <a:noFill/>
          </a:ln>
        </p:spPr>
      </p:pic>
      <p:pic>
        <p:nvPicPr>
          <p:cNvPr id="502" name="图片 16" descr="8.png"/>
          <p:cNvPicPr/>
          <p:nvPr/>
        </p:nvPicPr>
        <p:blipFill>
          <a:blip r:embed="rId7"/>
          <a:stretch/>
        </p:blipFill>
        <p:spPr>
          <a:xfrm>
            <a:off x="4572000" y="-714240"/>
            <a:ext cx="380880" cy="39024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3" descr="E:\amy项目\模板\茶\1\3.png"/>
          <p:cNvPicPr/>
          <p:nvPr/>
        </p:nvPicPr>
        <p:blipFill>
          <a:blip r:embed="rId8"/>
          <a:srcRect l="0" t="45002" r="0" b="0"/>
          <a:stretch/>
        </p:blipFill>
        <p:spPr>
          <a:xfrm>
            <a:off x="0" y="2571840"/>
            <a:ext cx="9144000" cy="31431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6" descr="E:\amy项目\模板\茶\1\4.png"/>
          <p:cNvPicPr/>
          <p:nvPr/>
        </p:nvPicPr>
        <p:blipFill>
          <a:blip r:embed="rId9"/>
          <a:stretch/>
        </p:blipFill>
        <p:spPr>
          <a:xfrm>
            <a:off x="6672240" y="214200"/>
            <a:ext cx="2185920" cy="2130480"/>
          </a:xfrm>
          <a:prstGeom prst="rect">
            <a:avLst/>
          </a:prstGeom>
          <a:ln w="0">
            <a:noFill/>
          </a:ln>
        </p:spPr>
      </p:pic>
      <p:sp>
        <p:nvSpPr>
          <p:cNvPr id="505" name="TextBox 6"/>
          <p:cNvSpPr/>
          <p:nvPr/>
        </p:nvSpPr>
        <p:spPr>
          <a:xfrm>
            <a:off x="426960" y="1409760"/>
            <a:ext cx="82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观赏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 repeatCount="indefinite">
                                  <p:stCondLst>
                                    <p:cond delay="1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11111E-006 -3.33333E-006 C 0.0184 0.005 0.02951 0.03083 0.04444 0.04667 C 0.05069 0.06167 0.0618 0.07167 0.06805 0.08667 C 0.07326 0.09917 0.07795 0.11111 0.08472 0.12222 C 0.08941 0.15222 0.09844 0.17917 0.10694 0.20667 C 0.10955 0.215 0.11059 0.22667 0.1125 0.23555 C 0.11302 0.23778 0.11389 0.24222 0.11389 0.24222 C 0.11649 0.27167 0.1158 0.30139 0.11805 0.33083 C 0.11875 0.35861 0.11788 0.39222 0.12222 0.42 C 0.1243 0.43333 0.12778 0.44694 0.13055 0.46 C 0.13385 0.47555 0.13663 0.49139 0.14028 0.50667 C 0.14166 0.5125 0.14132 0.51694 0.14305 0.52222 C 0.14705 0.535 0.14496 0.52222 0.14861 0.53778 C 0.15208 0.55278 0.15399 0.56861 0.15972 0.58222 C 0.175 0.61889 0.15798 0.5775 0.16944 0.59778 C 0.1717 0.60167 0.17986 0.61944 0.18333 0.62667 C 0.18837 0.63722 0.1967 0.64778 0.20278 0.65778 C 0.20868 0.66722 0.21302 0.68028 0.21805 0.69111 C 0.22153 0.69861 0.22639 0.70444 0.23055 0.71111 C 0.2335 0.71583 0.2342 0.72305 0.23611 0.72889 C 0.23802 0.735 0.24166 0.73944 0.24444 0.74444 C 0.25521 0.76361 0.26632 0.78167 0.27778 0.8 C 0.28368 0.80944 0.28472 0.81528 0.28889 0.82444 C 0.29531 0.83833 0.30208 0.85222 0.30972 0.86444 C 0.31267 0.87639 0.31666 0.88778 0.31944 0.9 C 0.32205 0.91139 0.32326 0.92167 0.32639 0.93333 C 0.32864 0.95167 0.33507 0.96639 0.33889 0.98444 C 0.34305 1.00472 0.34861 1.02417 0.35278 1.04444 C 0.35503 1.09472 0.3566 1.10555 0.35416 1.16889 C 0.35364 1.18139 0.35 1.19611 0.35 1.20889 E">
                                      <p:cBhvr>
                                        <p:cTn id="128" dur="15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8" repeatCount="indefinite">
                                  <p:stCondLst>
                                    <p:cond delay="1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600000">
                                      <p:cBhvr>
                                        <p:cTn id="130" dur="1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 repeatCount="indefinite">
                                  <p:stCondLst>
                                    <p:cond delay="23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05556E-006 -3.33333E-006 C -0.00104 0.04556 -0.00156 0.09861 -0.0125 0.14222 C -0.01441 0.16028 -0.0158 0.1825 -0.02222 0.19778 C -0.02518 0.22611 -0.02101 0.19806 -0.02778 0.22 C -0.0309 0.23 -0.03281 0.25639 -0.03472 0.26889 C -0.03577 0.29222 -0.03629 0.31194 -0.04306 0.33333 C -0.04497 0.33917 -0.04861 0.35111 -0.04861 0.35111 C -0.05 0.36472 -0.05243 0.3775 -0.05417 0.39111 C -0.05469 0.40889 -0.05417 0.42667 -0.05556 0.44444 C -0.0566 0.45889 -0.06094 0.47222 -0.0625 0.48667 C -0.06754 0.535 -0.0717 0.58361 -0.07917 0.63111 C -0.0809 0.65861 -0.08281 0.6825 -0.08611 0.70889 C -0.08768 0.7825 -0.09757 0.89194 -0.08472 0.95333 C -0.0842 0.98083 -0.08455 1.00833 -0.08334 1.03556 C -0.08316 1.03833 -0.08125 1.03972 -0.08056 1.04222 C -0.07934 1.04639 -0.07847 1.05111 -0.07778 1.05556 C -0.07587 1.06639 -0.07483 1.07944 -0.07084 1.08889 C -0.06788 1.09611 -0.06302 1.10222 -0.05972 1.10889 C -0.05226 1.12417 -0.04445 1.15194 -0.04445 1.17111 E">
                                      <p:cBhvr>
                                        <p:cTn id="132" dur="1500" fill="hold"/>
                                        <p:tgtEl>
                                          <p:spTgt spid="5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8" repeatCount="indefinite">
                                  <p:stCondLst>
                                    <p:cond delay="23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-1500000">
                                      <p:cBhvr>
                                        <p:cTn id="134" dur="1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0" repeatCount="indefinite">
                                  <p:stCondLst>
                                    <p:cond delay="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11111E-006 4.33681E-019 C -0.00139 0.03555 -0.00451 0.05833 -0.00972 0.09111 C -0.00938 0.12444 -0.01667 0.22583 0.00139 0.26861 C 0.00451 0.28833 0.00955 0.30639 0.01528 0.32417 C 0.01979 0.33889 0.0243 0.35278 0.02917 0.36639 C 0.03038 0.37028 0.03055 0.37417 0.03194 0.37778 C 0.03299 0.38 0.03489 0.38028 0.03611 0.38222 C 0.04271 0.39278 0.05052 0.41333 0.05694 0.42639 C 0.06649 0.44639 0.07639 0.46444 0.0875 0.48222 C 0.0908 0.4875 0.0934 0.49361 0.09722 0.49778 C 0.11319 0.51444 0.12743 0.53861 0.14444 0.55305 C 0.14462 0.55305 0.15781 0.56194 0.15972 0.56417 C 0.16771 0.57417 0.17483 0.58694 0.18333 0.59555 C 0.19132 0.60361 0.20017 0.61028 0.20833 0.61778 C 0.21441 0.62305 0.22014 0.63028 0.22639 0.63555 C 0.23194 0.64028 0.23871 0.64194 0.24305 0.64861 C 0.25712 0.67139 0.27569 0.68444 0.29444 0.69333 C 0.31007 0.71 0.29496 0.69583 0.3125 0.70639 C 0.32187 0.7125 0.33003 0.72278 0.33889 0.72889 C 0.35104 0.73694 0.3691 0.74333 0.38194 0.74861 C 0.39271 0.75305 0.40677 0.765 0.41667 0.77111 C 0.42899 0.77861 0.4441 0.77805 0.45694 0.78 C 0.50312 0.79444 0.55156 0.79305 0.59861 0.79305 E">
                                      <p:cBhvr>
                                        <p:cTn id="136" dur="15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8" repeatCount="indefinite">
                                  <p:stCondLst>
                                    <p:cond delay="2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900000">
                                      <p:cBhvr>
                                        <p:cTn id="138" dur="1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 repeatCount="indefinite">
                                  <p:stCondLst>
                                    <p:cond delay="1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.55556E-007 1.11111E-006 C 0.00191 0.00639 0.00226 0.01361 0.00417 0.02 C 0.00608 0.02639 0.0125 0.03806 0.01528 0.04445 C 0.02848 0.07639 0.04306 0.10834 0.05834 0.13778 C 0.07344 0.16723 0.09202 0.19223 0.10695 0.22223 C 0.12518 0.25861 0.14237 0.29695 0.15834 0.33556 C 0.16112 0.35028 0.16459 0.365 0.16667 0.38 C 0.17049 0.40861 0.16598 0.38584 0.16945 0.40195 C 0.17119 0.42528 0.17309 0.44889 0.17778 0.47111 C 0.18039 0.50528 0.18542 0.53556 0.19167 0.56889 C 0.19445 0.61667 0.19167 0.60889 0.20278 0.64445 C 0.20573 0.6675 0.20816 0.69028 0.21112 0.71306 C 0.21285 0.74611 0.22032 0.77445 0.22778 0.80417 C 0.23021 0.82695 0.2316 0.85056 0.23473 0.87334 C 0.23612 0.88361 0.24011 0.89195 0.24167 0.90223 C 0.24271 0.90889 0.24358 0.91556 0.24445 0.92223 C 0.24584 0.9325 0.24862 0.95306 0.24862 0.95306 C 0.24966 0.97084 0.2507 0.98973 0.25417 1.00667 C 0.25678 1.03611 0.2599 1.06584 0.2625 1.09556 C 0.26563 1.13028 0.26546 1.16584 0.27084 1.2 C 0.27309 1.23306 0.27639 1.26223 0.27639 1.29556 E">
                                      <p:cBhvr>
                                        <p:cTn id="140" dur="1500" fill="hold"/>
                                        <p:tgtEl>
                                          <p:spTgt spid="4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0" repeatCount="indefinite">
                                  <p:stCondLst>
                                    <p:cond delay="14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6.94444E-006 1.11111E-006 C -0.00711 0.01694 -0.01597 0.0325 -0.0236 0.04889 C -0.0269 0.05583 -0.02864 0.06417 -0.03194 0.07111 C -0.03819 0.085 -0.04496 0.09778 -0.05138 0.11139 C -0.06197 0.13305 -0.07378 0.15333 -0.08194 0.17778 C -0.0894 0.20028 -0.09895 0.21972 -0.10833 0.24 C -0.11388 0.25194 -0.12499 0.27555 -0.12499 0.27555 C -0.12847 0.29194 -0.13819 0.30361 -0.14166 0.32 C -0.14652 0.34333 -0.15294 0.36583 -0.1611 0.38667 C -0.16388 0.40944 -0.16006 0.38583 -0.16944 0.41555 C -0.17239 0.42472 -0.17413 0.43472 -0.17638 0.44444 C -0.18176 0.46805 -0.18541 0.49194 -0.19027 0.51555 C -0.19235 0.545 -0.19826 0.5725 -0.20555 0.6 C -0.20781 0.62611 -0.21163 0.65167 -0.21388 0.67778 C -0.21614 0.70389 -0.21371 0.69 -0.21666 0.70444 C -0.2184 0.72333 -0.21978 0.74417 -0.2236 0.76222 C -0.22777 0.80889 -0.23315 0.85639 -0.24027 0.90222 C -0.24322 0.94444 -0.24044 0.92944 -0.24444 0.94889 C -0.24426 0.96833 -0.24982 1.10083 -0.24027 1.16222 C -0.23975 1.1725 -0.23749 1.18861 -0.23749 1.2 E">
                                      <p:cBhvr>
                                        <p:cTn id="142" dur="15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0" repeatCount="indefinite">
                                  <p:stCondLst>
                                    <p:cond delay="17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6.11111E-006 2.22222E-006 C -0.00956 0.00389 -0.01268 0.00583 -0.02084 0.01333 C -0.0257 0.01778 -0.02796 0.02389 -0.03334 0.02667 C -0.04445 0.04444 -0.05799 0.05611 -0.06945 0.07333 C -0.08976 0.10389 -0.1066 0.14139 -0.12917 0.16667 C -0.1323 0.18194 -0.12779 0.16417 -0.1389 0.18444 C -0.13994 0.18611 -0.13942 0.18917 -0.14029 0.19111 C -0.14879 0.21056 -0.16147 0.2325 -0.16945 0.25333 C -0.18959 0.30556 -0.19688 0.36694 -0.21529 0.42 C -0.21806 0.44806 -0.21858 0.475 -0.22362 0.50194 C -0.22362 0.50806 -0.22813 0.61417 -0.21945 0.65556 C -0.21511 0.70333 -0.20591 0.74667 -0.19445 0.79111 C -0.18299 0.83528 -0.1724 0.88333 -0.15417 0.92222 C -0.14428 0.94361 -0.13004 0.96028 -0.12084 0.98222 C -0.10713 1.015 -0.09688 1.06167 -0.07084 1.07556 C -0.06494 1.08722 -0.05921 1.09833 -0.0514 1.10667 C -0.04723 1.1175 -0.04289 1.12611 -0.03612 1.13333 C -0.02692 1.15778 -0.01546 1.18417 -0.00279 1.20444 C -0.00105 1.21278 -0.00279 1.21 0.00138 1.21333 E">
                                      <p:cBhvr>
                                        <p:cTn id="144" dur="15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6">
                                  <p:stCondLst>
                                    <p:cond delay="3300"/>
                                  </p:stCondLst>
                                  <p:childTnLst>
                                    <p:animScale>
                                      <p:cBhvr>
                                        <p:cTn id="146" dur="2000" fill="hold"/>
                                        <p:tgtEl>
                                          <p:spTgt spid="49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2" presetSubtype="4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300"/>
                            </p:stCondLst>
                            <p:childTnLst>
                              <p:par>
                                <p:cTn id="1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07:35:43Z</dcterms:created>
  <dc:creator>番茄花园</dc:creator>
  <dc:description/>
  <dc:language>en-US</dc:language>
  <cp:lastModifiedBy>Lenovo</cp:lastModifiedBy>
  <dcterms:modified xsi:type="dcterms:W3CDTF">2013-10-19T05:38:15Z</dcterms:modified>
  <cp:revision>15</cp:revision>
  <dc:subject/>
  <dc:title>幻灯片 1</dc:title>
</cp:coreProperties>
</file>