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F1B-1E05-481D-9DA0-CC92E6B7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781-0135-4F6B-83FE-5A43D9F8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932-F52F-4884-849E-26A82CEC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3A6-C3AB-4A63-AA4A-85580C45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CAC8-D492-49A9-84BC-662BBB71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D226-FBA3-4443-9670-CF07F768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32D3-C2FD-4059-9904-F715C088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78C6-C293-49CB-83B8-805FD2CA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A2A1-5C73-486F-A9ED-0A219E7E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2F1E-4ABA-4A6C-BA42-48D00D81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98F5-D577-4182-A953-FBCE5E85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F95-8A1E-4789-A227-47BD6BFF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B91D-F47C-4F32-AAA5-E68DA3C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8C9F-FC2B-412F-8C3F-DF8E8A6D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2204-B4DB-4B69-BEC2-391445E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079F-054C-448D-9924-10BA82CA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E606-0BFD-4C53-B623-482D6046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B8D-D7AE-47F7-B545-EA6248DB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AB5-9C49-4B25-A5CB-B87DA6B0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577-E8BA-4F3A-9529-F4F67A96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360-171A-446B-8783-6FA8F11B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683-C250-40A0-AC6C-1A281DCD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985-6D28-48E7-8C34-DF53FFC0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793-EEB7-47C6-873A-B272DC93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CFFE-20C8-459F-93E7-C93FBCE3BB1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21E3-FAEC-4470-B803-5663678E7A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人物"/>
          <p:cNvPicPr/>
          <p:nvPr/>
        </p:nvPicPr>
        <p:blipFill>
          <a:blip r:embed="rId2"/>
          <a:srcRect l="49639" t="0" r="0" b="0"/>
          <a:stretch/>
        </p:blipFill>
        <p:spPr>
          <a:xfrm>
            <a:off x="4538520" y="0"/>
            <a:ext cx="46054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砚台"/>
          <p:cNvPicPr/>
          <p:nvPr/>
        </p:nvPicPr>
        <p:blipFill>
          <a:blip r:embed="rId3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封面圈点"/>
          <p:cNvPicPr/>
          <p:nvPr/>
        </p:nvPicPr>
        <p:blipFill>
          <a:blip r:embed="rId4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封面竖条"/>
          <p:cNvPicPr/>
          <p:nvPr/>
        </p:nvPicPr>
        <p:blipFill>
          <a:blip r:embed="rId5"/>
          <a:srcRect l="36732" t="51280" r="58147" b="3591"/>
          <a:stretch/>
        </p:blipFill>
        <p:spPr>
          <a:xfrm>
            <a:off x="3254400" y="3598920"/>
            <a:ext cx="468360" cy="3095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183120" y="3633840"/>
            <a:ext cx="127764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主讲人：孙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边框"/>
          <p:cNvPicPr/>
          <p:nvPr/>
        </p:nvPicPr>
        <p:blipFill>
          <a:blip r:embed="rId6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目录牌子"/>
          <p:cNvPicPr/>
          <p:nvPr/>
        </p:nvPicPr>
        <p:blipFill>
          <a:blip r:embed="rId2"/>
          <a:srcRect l="45081" t="55486" r="44908" b="10721"/>
          <a:stretch/>
        </p:blipFill>
        <p:spPr>
          <a:xfrm>
            <a:off x="41227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目录牌子"/>
          <p:cNvPicPr/>
          <p:nvPr/>
        </p:nvPicPr>
        <p:blipFill>
          <a:blip r:embed="rId3"/>
          <a:srcRect l="45081" t="55486" r="44908" b="10721"/>
          <a:stretch/>
        </p:blipFill>
        <p:spPr>
          <a:xfrm>
            <a:off x="22669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目录牌子"/>
          <p:cNvPicPr/>
          <p:nvPr/>
        </p:nvPicPr>
        <p:blipFill>
          <a:blip r:embed="rId4"/>
          <a:srcRect l="45081" t="55486" r="44908" b="10721"/>
          <a:stretch/>
        </p:blipFill>
        <p:spPr>
          <a:xfrm>
            <a:off x="6116760" y="3500280"/>
            <a:ext cx="915840" cy="231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736720" y="1557360"/>
            <a:ext cx="370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目录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98756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服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85920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花纹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84352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行当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过渡圈点"/>
          <p:cNvPicPr/>
          <p:nvPr/>
        </p:nvPicPr>
        <p:blipFill>
          <a:blip r:embed="rId2"/>
          <a:srcRect l="5550" t="26503" r="57506" b="21225"/>
          <a:stretch/>
        </p:blipFill>
        <p:spPr>
          <a:xfrm>
            <a:off x="507960" y="1817640"/>
            <a:ext cx="3378240" cy="3584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过渡横条"/>
          <p:cNvPicPr/>
          <p:nvPr/>
        </p:nvPicPr>
        <p:blipFill>
          <a:blip r:embed="rId3"/>
          <a:srcRect l="27440" t="48134" r="7098" b="40134"/>
          <a:stretch/>
        </p:blipFill>
        <p:spPr>
          <a:xfrm>
            <a:off x="2509920" y="3300480"/>
            <a:ext cx="5984640" cy="80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5954760" y="3530520"/>
            <a:ext cx="2433600" cy="1150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162160" y="26193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汉仪方隶简"/>
                <a:ea typeface="汉仪方隶简"/>
              </a:rPr>
              <a:t>服装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26920" y="1987560"/>
            <a:ext cx="7418520" cy="4249800"/>
          </a:xfrm>
          <a:prstGeom prst="flowChartAlternateProcess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内容返回"/>
          <p:cNvPicPr/>
          <p:nvPr/>
        </p:nvPicPr>
        <p:blipFill>
          <a:blip r:embed="rId2"/>
          <a:srcRect l="37519" t="90413" r="37816" b="0"/>
          <a:stretch/>
        </p:blipFill>
        <p:spPr>
          <a:xfrm>
            <a:off x="3432240" y="6200640"/>
            <a:ext cx="2254320" cy="65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过渡圈点"/>
          <p:cNvPicPr/>
          <p:nvPr/>
        </p:nvPicPr>
        <p:blipFill>
          <a:blip r:embed="rId3"/>
          <a:srcRect l="5550" t="26503" r="57506" b="21225"/>
          <a:stretch/>
        </p:blipFill>
        <p:spPr>
          <a:xfrm>
            <a:off x="826920" y="692280"/>
            <a:ext cx="1297080" cy="13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过渡横条"/>
          <p:cNvPicPr/>
          <p:nvPr/>
        </p:nvPicPr>
        <p:blipFill>
          <a:blip r:embed="rId4"/>
          <a:srcRect l="27440" t="48134" r="7098" b="40134"/>
          <a:stretch/>
        </p:blipFill>
        <p:spPr>
          <a:xfrm>
            <a:off x="1979640" y="1268280"/>
            <a:ext cx="4824360" cy="649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187280" y="86688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一、服装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187280" y="206064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         </a:t>
            </a: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京剧的服装，是一明代日常生活的服装为基础 ，参照了宋、元两代服装的样式， 同时吸收了清代服装的某些特点， 经过历代艺术家繁荣概括 、提炼 、美化形成的 。可以说 京剧服装融会了宋、 元、 明 、清各个朝代的服装特点， 体现了中华民族的审美情趣和文化意识， 形成了美观 、夸张 、概括力强 、适用范围广等特点。京剧服装大致可以分为五类： 蟒、 铍 、靠 、褶 、衣 。在这五类服装中 ，又根据人物的社会地位 、性别、 性格 、职业、 经济状况等有更详细的区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结束人物"/>
          <p:cNvPicPr/>
          <p:nvPr/>
        </p:nvPicPr>
        <p:blipFill>
          <a:blip r:embed="rId2"/>
          <a:srcRect l="55762" t="0" r="0" b="0"/>
          <a:stretch/>
        </p:blipFill>
        <p:spPr>
          <a:xfrm>
            <a:off x="509904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边框"/>
          <p:cNvPicPr/>
          <p:nvPr/>
        </p:nvPicPr>
        <p:blipFill>
          <a:blip r:embed="rId3"/>
          <a:stretch/>
        </p:blipFill>
        <p:spPr>
          <a:xfrm>
            <a:off x="0" y="-1440"/>
            <a:ext cx="9175680" cy="688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封面圈点"/>
          <p:cNvPicPr/>
          <p:nvPr/>
        </p:nvPicPr>
        <p:blipFill>
          <a:blip r:embed="rId5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结束返回"/>
          <p:cNvPicPr/>
          <p:nvPr/>
        </p:nvPicPr>
        <p:blipFill>
          <a:blip r:embed="rId6"/>
          <a:srcRect l="36526" t="90337" r="37852" b="0"/>
          <a:stretch/>
        </p:blipFill>
        <p:spPr>
          <a:xfrm>
            <a:off x="3340080" y="6218280"/>
            <a:ext cx="234324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封面竖条"/>
          <p:cNvPicPr/>
          <p:nvPr/>
        </p:nvPicPr>
        <p:blipFill>
          <a:blip r:embed="rId7"/>
          <a:srcRect l="36732" t="51280" r="58147" b="3591"/>
          <a:stretch/>
        </p:blipFill>
        <p:spPr>
          <a:xfrm>
            <a:off x="3359160" y="3516480"/>
            <a:ext cx="468360" cy="309528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"/>
          <p:cNvSpPr/>
          <p:nvPr/>
        </p:nvSpPr>
        <p:spPr>
          <a:xfrm>
            <a:off x="7380360" y="332424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760560" y="3573360"/>
            <a:ext cx="729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谢谢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6-04-21T13:37:26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