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11C-2F5A-442C-B97F-7E9C5EE9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604-1E17-4B9A-9FC6-5D08EE2E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5BC-F974-427E-899D-7A759A2C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257-B336-4D42-A2DA-65BABC14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D2D6-27E5-4693-9F35-3384A974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9C74-369C-4BA0-B81A-258AF76A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A9B9-B00F-4B86-8B48-75D4C889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F295-15E7-489F-B169-40A3DF27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D3AB-ED86-4928-A6F9-06901B1C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3BCE-180D-48FC-993C-AA567890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850C-EBC3-4FB7-9A5E-6FE6D036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D0B-A4AA-4267-9C0A-E8003582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4FDA-4F7C-455B-8A61-B4CD2D7D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2F3C-F02E-411C-B677-94457B3E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01E7-8F92-46F7-991D-62B84BD4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79A8-3CF4-451D-BBE5-6AD658A1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467D-3F71-40B6-BD4B-D9A8000B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792-17BD-4E4B-9A8A-64069F4E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728-317B-4B50-9C4D-DFB84366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61E-B397-442F-9412-ABAA2BD5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5B2-EFA3-4E2A-803E-1BF3230C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E2A-3C6E-4B3D-92FB-D8B7C83D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18A-2FE4-4F20-88BB-916A881A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A3F-BBBD-4923-94B8-2C4BB3F9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00F0-3368-46BC-9F36-D020C6740E9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8FD6-604C-4757-9D23-B0D0FE624B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封面人物"/>
          <p:cNvPicPr/>
          <p:nvPr/>
        </p:nvPicPr>
        <p:blipFill>
          <a:blip r:embed="rId2"/>
          <a:srcRect l="49639" t="0" r="0" b="0"/>
          <a:stretch/>
        </p:blipFill>
        <p:spPr>
          <a:xfrm>
            <a:off x="4538520" y="0"/>
            <a:ext cx="46054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砚台"/>
          <p:cNvPicPr/>
          <p:nvPr/>
        </p:nvPicPr>
        <p:blipFill>
          <a:blip r:embed="rId3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封面圈点"/>
          <p:cNvPicPr/>
          <p:nvPr/>
        </p:nvPicPr>
        <p:blipFill>
          <a:blip r:embed="rId4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封面竖条"/>
          <p:cNvPicPr/>
          <p:nvPr/>
        </p:nvPicPr>
        <p:blipFill>
          <a:blip r:embed="rId5"/>
          <a:srcRect l="36732" t="51280" r="58147" b="3591"/>
          <a:stretch/>
        </p:blipFill>
        <p:spPr>
          <a:xfrm>
            <a:off x="3254400" y="3598920"/>
            <a:ext cx="468360" cy="3095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隶书"/>
                <a:ea typeface="隶书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183120" y="3633840"/>
            <a:ext cx="127764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主讲人：孙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边框"/>
          <p:cNvPicPr/>
          <p:nvPr/>
        </p:nvPicPr>
        <p:blipFill>
          <a:blip r:embed="rId6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目录牌子"/>
          <p:cNvPicPr/>
          <p:nvPr/>
        </p:nvPicPr>
        <p:blipFill>
          <a:blip r:embed="rId2"/>
          <a:srcRect l="45081" t="55486" r="44908" b="10721"/>
          <a:stretch/>
        </p:blipFill>
        <p:spPr>
          <a:xfrm>
            <a:off x="4122720" y="3500280"/>
            <a:ext cx="915840" cy="231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目录牌子"/>
          <p:cNvPicPr/>
          <p:nvPr/>
        </p:nvPicPr>
        <p:blipFill>
          <a:blip r:embed="rId3"/>
          <a:srcRect l="45081" t="55486" r="44908" b="10721"/>
          <a:stretch/>
        </p:blipFill>
        <p:spPr>
          <a:xfrm>
            <a:off x="2266920" y="3500280"/>
            <a:ext cx="915840" cy="2318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目录牌子"/>
          <p:cNvPicPr/>
          <p:nvPr/>
        </p:nvPicPr>
        <p:blipFill>
          <a:blip r:embed="rId4"/>
          <a:srcRect l="45081" t="55486" r="44908" b="10721"/>
          <a:stretch/>
        </p:blipFill>
        <p:spPr>
          <a:xfrm>
            <a:off x="6116760" y="3500280"/>
            <a:ext cx="915840" cy="2318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736720" y="1557360"/>
            <a:ext cx="370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目录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98756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服装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85920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花纹寓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84352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行当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过渡圈点"/>
          <p:cNvPicPr/>
          <p:nvPr/>
        </p:nvPicPr>
        <p:blipFill>
          <a:blip r:embed="rId2"/>
          <a:srcRect l="5550" t="26503" r="57506" b="21225"/>
          <a:stretch/>
        </p:blipFill>
        <p:spPr>
          <a:xfrm>
            <a:off x="507960" y="1817640"/>
            <a:ext cx="3378240" cy="3584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过渡横条"/>
          <p:cNvPicPr/>
          <p:nvPr/>
        </p:nvPicPr>
        <p:blipFill>
          <a:blip r:embed="rId3"/>
          <a:srcRect l="27440" t="48134" r="7098" b="40134"/>
          <a:stretch/>
        </p:blipFill>
        <p:spPr>
          <a:xfrm>
            <a:off x="2509920" y="3300480"/>
            <a:ext cx="5984640" cy="80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5954760" y="3530520"/>
            <a:ext cx="2433600" cy="1150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162160" y="26193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62626"/>
                </a:solidFill>
                <a:latin typeface="汉仪方隶简"/>
                <a:ea typeface="汉仪方隶简"/>
              </a:rPr>
              <a:t>服装特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826920" y="1987560"/>
            <a:ext cx="7418520" cy="4249800"/>
          </a:xfrm>
          <a:prstGeom prst="flowChartAlternateProcess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内容返回"/>
          <p:cNvPicPr/>
          <p:nvPr/>
        </p:nvPicPr>
        <p:blipFill>
          <a:blip r:embed="rId2"/>
          <a:srcRect l="37519" t="90413" r="37816" b="0"/>
          <a:stretch/>
        </p:blipFill>
        <p:spPr>
          <a:xfrm>
            <a:off x="3432240" y="6200640"/>
            <a:ext cx="2254320" cy="65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过渡圈点"/>
          <p:cNvPicPr/>
          <p:nvPr/>
        </p:nvPicPr>
        <p:blipFill>
          <a:blip r:embed="rId3"/>
          <a:srcRect l="5550" t="26503" r="57506" b="21225"/>
          <a:stretch/>
        </p:blipFill>
        <p:spPr>
          <a:xfrm>
            <a:off x="826920" y="692280"/>
            <a:ext cx="1297080" cy="13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过渡横条"/>
          <p:cNvPicPr/>
          <p:nvPr/>
        </p:nvPicPr>
        <p:blipFill>
          <a:blip r:embed="rId4"/>
          <a:srcRect l="27440" t="48134" r="7098" b="40134"/>
          <a:stretch/>
        </p:blipFill>
        <p:spPr>
          <a:xfrm>
            <a:off x="1979640" y="1268280"/>
            <a:ext cx="4824360" cy="649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187280" y="866880"/>
            <a:ext cx="37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华文隶书"/>
                <a:ea typeface="华文隶书"/>
              </a:rPr>
              <a:t>一、服装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187280" y="206064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华文隶书"/>
                <a:ea typeface="华文隶书"/>
              </a:rPr>
              <a:t>         </a:t>
            </a:r>
            <a:r>
              <a:rPr b="0" lang="zh-CN" sz="2400" spc="-1" strike="noStrike">
                <a:solidFill>
                  <a:srgbClr val="262626"/>
                </a:solidFill>
                <a:latin typeface="华文隶书"/>
                <a:ea typeface="华文隶书"/>
              </a:rPr>
              <a:t>京剧的服装，是一明代日常生活的服装为基础 ，参照了宋、元两代服装的样式， 同时吸收了清代服装的某些特点， 经过历代艺术家繁荣概括 、提炼 、美化形成的 。可以说 京剧服装融会了宋、 元、 明 、清各个朝代的服装特点， 体现了中华民族的审美情趣和文化意识， 形成了美观 、夸张 、概括力强 、适用范围广等特点。京剧服装大致可以分为五类： 蟒、 铍 、靠 、褶 、衣 。在这五类服装中 ，又根据人物的社会地位 、性别、 性格 、职业、 经济状况等有更详细的区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结束人物"/>
          <p:cNvPicPr/>
          <p:nvPr/>
        </p:nvPicPr>
        <p:blipFill>
          <a:blip r:embed="rId2"/>
          <a:srcRect l="55762" t="0" r="0" b="0"/>
          <a:stretch/>
        </p:blipFill>
        <p:spPr>
          <a:xfrm>
            <a:off x="5099040" y="0"/>
            <a:ext cx="40449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边框"/>
          <p:cNvPicPr/>
          <p:nvPr/>
        </p:nvPicPr>
        <p:blipFill>
          <a:blip r:embed="rId3"/>
          <a:stretch/>
        </p:blipFill>
        <p:spPr>
          <a:xfrm>
            <a:off x="0" y="-1440"/>
            <a:ext cx="9175680" cy="688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封面圈点"/>
          <p:cNvPicPr/>
          <p:nvPr/>
        </p:nvPicPr>
        <p:blipFill>
          <a:blip r:embed="rId5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隶书"/>
                <a:ea typeface="隶书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结束返回"/>
          <p:cNvPicPr/>
          <p:nvPr/>
        </p:nvPicPr>
        <p:blipFill>
          <a:blip r:embed="rId6"/>
          <a:srcRect l="36526" t="90337" r="37852" b="0"/>
          <a:stretch/>
        </p:blipFill>
        <p:spPr>
          <a:xfrm>
            <a:off x="3340080" y="6218280"/>
            <a:ext cx="234324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封面竖条"/>
          <p:cNvPicPr/>
          <p:nvPr/>
        </p:nvPicPr>
        <p:blipFill>
          <a:blip r:embed="rId7"/>
          <a:srcRect l="36732" t="51280" r="58147" b="3591"/>
          <a:stretch/>
        </p:blipFill>
        <p:spPr>
          <a:xfrm>
            <a:off x="3359160" y="3516480"/>
            <a:ext cx="468360" cy="3095280"/>
          </a:xfrm>
          <a:prstGeom prst="rect">
            <a:avLst/>
          </a:prstGeom>
          <a:ln w="0">
            <a:noFill/>
          </a:ln>
        </p:spPr>
      </p:pic>
      <p:sp>
        <p:nvSpPr>
          <p:cNvPr id="115" name="矩形 11"/>
          <p:cNvSpPr/>
          <p:nvPr/>
        </p:nvSpPr>
        <p:spPr>
          <a:xfrm>
            <a:off x="7380360" y="332424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760560" y="3573360"/>
            <a:ext cx="7290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谢谢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6-04-21T13:37:26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