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035-F7BA-49B2-9675-F615B7FD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6EA-8C83-4017-A14D-E60AC206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317-CACD-4917-BB0E-03FF63CA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7DF-DEA0-41FA-BEA0-1C369560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6713-3C97-4F40-B207-69233EDB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281D-9C0E-49EF-80E3-36505A93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BB59-34C0-43A1-AC4C-07F350CD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29AE-4E49-490B-86DA-9AF034C8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E454-6D54-4A2B-B4C0-EA903D74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7611-7FEE-4D6E-94F7-19C643BC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E3F5-C1DB-499F-B557-F41B449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037-CF3B-4686-8797-941C1A54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A3B1-5874-42F8-974C-8E0012E3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E269-C652-4604-9A6D-478661B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C1DB-C0B6-40E1-8FCC-420FD59A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8D13-4ED1-48FF-8471-C7EF7CFE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A0BD-2D0D-4E4D-9139-3A2569C5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5B3A-BF7D-4098-BE1A-8D3E3DF0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3B98-A910-41FC-BB5F-65E54D0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2160-B414-4004-97C9-2223FC73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5391-213B-4D36-89DE-73710DE2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E701-CDED-4CFA-83A6-969955F6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C07-0F2E-4E8A-836B-B737AFD3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ECA5E-2CED-456C-A767-89548E42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304D-60C1-49BA-921B-A3C156E6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9148-505A-4C50-BA38-49ACC70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FA6C-70D8-4D3F-B383-DB25614C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C69C-6245-4094-9381-3B6A74EB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6836-FFD6-43FE-A505-9F752CFE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E6DB-7E95-4101-AD14-4253CA1F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C2E-533A-457D-B59E-C2E2308C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10E-2789-4BF4-B604-A91E7FAE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005B-44CE-445F-A5B3-28E260FB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D02-DC0B-4E92-B085-DFD198B8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11C-E133-4A07-9362-B4AEEF8E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A3C-75C7-4AD7-AC53-6A5285A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0C85-BA70-420B-86B2-A7D2837A08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3ECB-56C8-4FD4-A975-F9C092105C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Administrator\桌面\莲 2(1).png"/>
          <p:cNvPicPr/>
          <p:nvPr/>
        </p:nvPicPr>
        <p:blipFill>
          <a:blip r:embed="rId2"/>
          <a:stretch/>
        </p:blipFill>
        <p:spPr>
          <a:xfrm>
            <a:off x="549360" y="-1440"/>
            <a:ext cx="118260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Documents and Settings\Administrator\桌面\33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BDE-01C3-4409-A3BB-3F196F2DD0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9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3095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6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7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1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2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6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7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8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1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2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3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"/>
                            </p:stCondLst>
                            <p:childTnLst>
                              <p:par>
                                <p:cTn id="7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2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3:35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