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973-8DA7-459E-9D20-48B6D15D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CA4-FD4E-460B-9940-677C582E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ADD-2D72-4135-9A26-7922BE03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EB3-72D7-47B8-8824-82B8B07D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B055-6D65-417A-9C7F-362382E4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4894-FEF7-4D32-B2EF-528FDCA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38C0-B7CD-4CB3-82D4-115AD287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0C0D-6ACF-4E39-A121-1ECBDFA0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6CE-8320-436B-9AD7-27138D05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0102-F409-4A6F-A539-A2567398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A792-38AB-44C6-B751-BF14137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931-D686-4911-BE05-C4E93FB0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8185-24FF-43DC-8A78-29470B9C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61BA-35B9-4E26-B89F-411A68F4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27D0-1B87-4038-927A-D869824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B059-F2AC-420B-BB53-B7892ABC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7144-1817-42B7-8171-7A4CEDFA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723A-20AF-4E7C-A018-645F7A03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BEED-F5C8-49E0-97B4-5BE9742F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27F8-6B14-4DF3-8E38-0BE61D2A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E7A5-27FD-44A6-87C4-AFBEE60E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25D4-E80D-4447-8017-98DEBB41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AB7-A866-40B7-AD28-AACA2C0C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4F04-A467-4CEE-99C3-28482C62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EE13-86F3-4515-B488-CA07EF8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05D0-0F91-4AFE-916B-D4FB8CC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68AA-5F05-44B1-80E9-F5A8B09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2E4C-6720-4B03-A735-477D96FE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DAFA-80A9-42CA-9643-4546FF0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FF32-DC7E-4F9F-960B-8D248521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426-69EF-49C2-A294-C3EF8BFE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F48-AADE-407D-ACF8-AB987A5C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77E-D55A-4DC3-9167-4C1B062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D41-866D-4B5B-BD16-5F66EC5D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D9E-BA5F-4142-82F7-D85A632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832-BBE7-49EC-BFA8-6531BDD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118-4C28-4499-91B7-034FCD1B5C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or\桌面\å¢¨è¿¹.png"/>
          <p:cNvPicPr/>
          <p:nvPr/>
        </p:nvPicPr>
        <p:blipFill>
          <a:blip r:embed="rId2"/>
          <a:stretch/>
        </p:blipFill>
        <p:spPr>
          <a:xfrm>
            <a:off x="1363680" y="-4680"/>
            <a:ext cx="535608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矢量图素材\中国风\莲\33¹.png"/>
          <p:cNvPicPr/>
          <p:nvPr/>
        </p:nvPicPr>
        <p:blipFill>
          <a:blip r:embed="rId3"/>
          <a:srcRect l="22381" t="0" r="15558" b="23436"/>
          <a:stretch/>
        </p:blipFill>
        <p:spPr>
          <a:xfrm>
            <a:off x="2046240" y="-4680"/>
            <a:ext cx="5675400" cy="437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矢量图素材\中国风\莲\å¢¨è¿¹.jpg"/>
          <p:cNvPicPr/>
          <p:nvPr/>
        </p:nvPicPr>
        <p:blipFill>
          <a:blip r:embed="rId5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859280" y="242568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D7DF-0458-4639-8CBC-E49498034C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9"/>
          <p:cNvGrpSpPr/>
          <p:nvPr/>
        </p:nvGrpSpPr>
        <p:grpSpPr>
          <a:xfrm>
            <a:off x="826920" y="-50760"/>
            <a:ext cx="792360" cy="792000"/>
            <a:chOff x="826920" y="-50760"/>
            <a:chExt cx="792360" cy="792000"/>
          </a:xfrm>
        </p:grpSpPr>
        <p:pic>
          <p:nvPicPr>
            <p:cNvPr id="89" name="Picture 4" descr="E:\矢量图素材\中国风\莲\33¹.png"/>
            <p:cNvPicPr/>
            <p:nvPr/>
          </p:nvPicPr>
          <p:blipFill>
            <a:blip r:embed="rId2"/>
            <a:stretch/>
          </p:blipFill>
          <p:spPr>
            <a:xfrm>
              <a:off x="835200" y="-50760"/>
              <a:ext cx="784080" cy="6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C:\Documents and Settings\Administrator\桌面\å¢¨è¿¹.png"/>
            <p:cNvPicPr/>
            <p:nvPr/>
          </p:nvPicPr>
          <p:blipFill>
            <a:blip r:embed="rId3"/>
            <a:stretch/>
          </p:blipFill>
          <p:spPr>
            <a:xfrm>
              <a:off x="826920" y="49320"/>
              <a:ext cx="648360" cy="69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C:\Documents and Settings\Administrator\桌面\图片4.png"/>
          <p:cNvPicPr/>
          <p:nvPr/>
        </p:nvPicPr>
        <p:blipFill>
          <a:blip r:embed="rId4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Administrator\桌面\图片1.jpg"/>
          <p:cNvPicPr/>
          <p:nvPr/>
        </p:nvPicPr>
        <p:blipFill>
          <a:blip r:embed="rId5"/>
          <a:stretch/>
        </p:blipFill>
        <p:spPr>
          <a:xfrm>
            <a:off x="0" y="-9540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2F1F-73B1-465D-A57E-4F3D7E97C4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extBox 39" descr=""/>
          <p:cNvPicPr/>
          <p:nvPr/>
        </p:nvPicPr>
        <p:blipFill>
          <a:blip r:embed="rId1"/>
          <a:stretch/>
        </p:blipFill>
        <p:spPr>
          <a:xfrm>
            <a:off x="5029200" y="2496960"/>
            <a:ext cx="411480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8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9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0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3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4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5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8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9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0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3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4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5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extBox 2" descr=""/>
          <p:cNvPicPr/>
          <p:nvPr/>
        </p:nvPicPr>
        <p:blipFill>
          <a:blip r:embed="rId1"/>
          <a:stretch/>
        </p:blipFill>
        <p:spPr>
          <a:xfrm>
            <a:off x="5003640" y="249696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1:50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