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4FBE-4F29-4B7A-BBCD-6A147B34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BAED-965E-4834-AED4-2C2BF6B8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A50B-179E-485C-9663-304839D0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63DB-03DA-463F-B51D-133B2CE0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311B-3E9E-4265-BFDC-6B9FCA81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1480-00E3-4B5B-AAD8-64163F15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7D10-1315-4BB9-872A-982D361A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F184-1CC4-49CF-BB42-FAAC0E41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802A-DA6F-4F60-9B89-FBD060E6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EDA0-92AA-44F2-BF0B-CFD3B8B5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1456-44E2-4B4F-996B-2C098142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742D-54D9-42DB-AA6C-178664CC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0A34-783B-41F8-BD08-E1240B4F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CD84-E795-4F6B-A07B-845B4E62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EA22-9B0E-4F0B-81D4-CF051BE7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B527-3495-40FA-85AE-A5928ADD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5C34-B8F8-4071-AE50-D9A597DD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BA0F4-4DAE-4C7F-9EA5-A28ED6AF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389DE-ECEC-4859-B8E1-79F0FEFC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41E41-9EF7-491B-B3C8-435FE7EF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B858D-79B0-416C-8441-11B13614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652A4-BF25-4F7D-809E-54557FC9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A989-3657-4B25-8B8F-0DE69562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9A06C-75FE-496C-9B04-A95E0995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B714C-4E95-4E28-B152-3AE89002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22400-1F28-4477-821C-DAF44875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066FA-B0BF-4FAD-B9C2-F2523738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63BC8-B207-4CAC-837B-DE63C332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FCF1B-CC21-4804-BFE9-3EFE9013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A5938-CA08-44C4-9B0C-80025C68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62EA-3B2C-4E16-86F1-EB051A8F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C476-D5F8-4A24-94D3-A1F7BCED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F3B0-C861-429B-B442-34631989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F99E-2637-4B88-AEF4-8F7547B6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9A93-72AC-4624-BB9A-7833D27B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FABF-5918-49DE-AD1A-4DB7BD24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BB35-2407-4FEE-AE95-EB70F068B93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istrator\桌面\å¢¨è¿¹.png"/>
          <p:cNvPicPr/>
          <p:nvPr/>
        </p:nvPicPr>
        <p:blipFill>
          <a:blip r:embed="rId2"/>
          <a:stretch/>
        </p:blipFill>
        <p:spPr>
          <a:xfrm>
            <a:off x="1363680" y="-4680"/>
            <a:ext cx="535608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E:\矢量图素材\中国风\莲\33¹.png"/>
          <p:cNvPicPr/>
          <p:nvPr/>
        </p:nvPicPr>
        <p:blipFill>
          <a:blip r:embed="rId3"/>
          <a:srcRect l="22381" t="0" r="15558" b="23436"/>
          <a:stretch/>
        </p:blipFill>
        <p:spPr>
          <a:xfrm>
            <a:off x="2046240" y="-4680"/>
            <a:ext cx="5675400" cy="437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19595400">
            <a:off x="6513480" y="1418760"/>
            <a:ext cx="3017880" cy="3252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E:\矢量图素材\中国风\莲\å¢¨è¿¹.jpg"/>
          <p:cNvPicPr/>
          <p:nvPr/>
        </p:nvPicPr>
        <p:blipFill>
          <a:blip r:embed="rId5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矩形 7"/>
          <p:cNvSpPr/>
          <p:nvPr/>
        </p:nvSpPr>
        <p:spPr>
          <a:xfrm>
            <a:off x="5022720" y="242568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859280" y="2425680"/>
            <a:ext cx="9072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2B5F-9F7B-422E-B910-FBECB263C86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9"/>
          <p:cNvGrpSpPr/>
          <p:nvPr/>
        </p:nvGrpSpPr>
        <p:grpSpPr>
          <a:xfrm>
            <a:off x="826920" y="-50760"/>
            <a:ext cx="792360" cy="792000"/>
            <a:chOff x="826920" y="-50760"/>
            <a:chExt cx="792360" cy="792000"/>
          </a:xfrm>
        </p:grpSpPr>
        <p:pic>
          <p:nvPicPr>
            <p:cNvPr id="89" name="Picture 4" descr="E:\矢量图素材\中国风\莲\33¹.png"/>
            <p:cNvPicPr/>
            <p:nvPr/>
          </p:nvPicPr>
          <p:blipFill>
            <a:blip r:embed="rId2"/>
            <a:stretch/>
          </p:blipFill>
          <p:spPr>
            <a:xfrm>
              <a:off x="835200" y="-50760"/>
              <a:ext cx="784080" cy="60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3" descr="C:\Documents and Settings\Administrator\桌面\å¢¨è¿¹.png"/>
            <p:cNvPicPr/>
            <p:nvPr/>
          </p:nvPicPr>
          <p:blipFill>
            <a:blip r:embed="rId3"/>
            <a:stretch/>
          </p:blipFill>
          <p:spPr>
            <a:xfrm>
              <a:off x="826920" y="49320"/>
              <a:ext cx="648360" cy="691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Picture 6" descr="C:\Documents and Settings\Administrator\桌面\图片4.png"/>
          <p:cNvPicPr/>
          <p:nvPr/>
        </p:nvPicPr>
        <p:blipFill>
          <a:blip r:embed="rId4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Documents and Settings\Administrator\桌面\图片1.jpg"/>
          <p:cNvPicPr/>
          <p:nvPr/>
        </p:nvPicPr>
        <p:blipFill>
          <a:blip r:embed="rId5"/>
          <a:stretch/>
        </p:blipFill>
        <p:spPr>
          <a:xfrm>
            <a:off x="0" y="-95400"/>
            <a:ext cx="9144000" cy="5810400"/>
          </a:xfrm>
          <a:prstGeom prst="rect">
            <a:avLst/>
          </a:prstGeom>
          <a:ln w="0">
            <a:noFill/>
          </a:ln>
        </p:spPr>
      </p:pic>
      <p:sp>
        <p:nvSpPr>
          <p:cNvPr id="93" name="矩形 7"/>
          <p:cNvSpPr/>
          <p:nvPr/>
        </p:nvSpPr>
        <p:spPr>
          <a:xfrm>
            <a:off x="395280" y="-95400"/>
            <a:ext cx="8353440" cy="590580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3880-B796-43EF-8F47-B765D79F818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extBox 39" descr=""/>
          <p:cNvPicPr/>
          <p:nvPr/>
        </p:nvPicPr>
        <p:blipFill>
          <a:blip r:embed="rId1"/>
          <a:stretch/>
        </p:blipFill>
        <p:spPr>
          <a:xfrm>
            <a:off x="5029200" y="2496960"/>
            <a:ext cx="411480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2055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组合 46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138" name="组合 47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139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0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1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组合 51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43" name="组合 52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44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5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6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56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48" name="组合 57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49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0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1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组合 61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53" name="组合 62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54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5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6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"/>
                            </p:stCondLst>
                            <p:childTnLst>
                              <p:par>
                                <p:cTn id="20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7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7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7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7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5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5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50"/>
                            </p:stCondLst>
                            <p:childTnLst>
                              <p:par>
                                <p:cTn id="5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TextBox 2" descr=""/>
          <p:cNvPicPr/>
          <p:nvPr/>
        </p:nvPicPr>
        <p:blipFill>
          <a:blip r:embed="rId1"/>
          <a:stretch/>
        </p:blipFill>
        <p:spPr>
          <a:xfrm>
            <a:off x="5003640" y="2496960"/>
            <a:ext cx="43214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6:48:50Z</dcterms:created>
  <dc:creator>user</dc:creator>
  <dc:description/>
  <dc:language>en-US</dc:language>
  <cp:lastModifiedBy>Administrator</cp:lastModifiedBy>
  <dcterms:modified xsi:type="dcterms:W3CDTF">2016-04-18T03:11:50Z</dcterms:modified>
  <cp:revision>4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