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D1F-5365-41C8-B1A1-41A3FFEE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E33-8ED4-40D0-B9CD-B592A10C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FA8-1C30-402E-84C3-3ECA7155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874B-253F-48A1-A86F-5CAACF7B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CF4A-D335-4791-BF02-D253025F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E1E9-C63A-4276-8DED-630681EF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12C6-1142-4CDA-88E2-2B4C7E01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4BAE-AF50-4608-8E19-EA1C0F48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EF8C-9A62-4DC2-8B87-EE96146A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2B74-215A-4E7A-B1DE-E6ACE7C4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04F9-E330-487D-B8B0-09AF4E7C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9E4C-E934-4BB9-8C68-E374AECC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4678-8873-4EC8-B967-A0BEED96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A1BC-4748-488A-9407-CA263983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3232-1463-446A-AD7F-22C5F11C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BCB0-F4C3-4BC0-B4A6-93B64978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0795-1557-4FFE-9495-4879EA11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B00CA-CDD0-4D93-85FB-E8741B84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CE731-28AD-4515-9DB9-74B93308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374CE-C19F-4BD0-99A0-CCF80FBA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B3172-4F55-488A-99CA-689DAF3A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3D516-7F67-4ECB-A31F-2FBED67D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CD9-6BDD-4C68-86BB-0B4925AF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BA5AF-1D8E-4661-AEDB-FC16D92C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D4659-9CD6-4416-ABBA-31FAB24E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AB8C8-5FF6-4A36-A7A1-C551433B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6AF7-2334-441E-AFAB-00C8C5A6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5AF8C-0CEC-4DA2-9EC3-0AF3C794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E3F74-60E1-46F5-8601-82503749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801E8-94E2-49F2-934A-89DA303B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D909-C3B2-4AE6-82AD-04E103F2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90F-D809-4EB7-9993-1A5384BA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1421-266B-4D2F-9946-3AA4A653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E81-DF67-4E0D-A79B-67E6F2FA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582-3200-457C-8593-DF75CF6C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D08-4BED-4B2E-BD06-1757AADE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21C1-53A3-4881-BF40-AD0E544856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Documents and Settings\Administrator\桌面\2.png"/>
          <p:cNvPicPr/>
          <p:nvPr/>
        </p:nvPicPr>
        <p:blipFill>
          <a:blip r:embed="rId2"/>
          <a:stretch/>
        </p:blipFill>
        <p:spPr>
          <a:xfrm rot="19595400">
            <a:off x="6513120" y="-252360"/>
            <a:ext cx="3017880" cy="3252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C:\Documents and Settings\Administrator\桌面\555.png"/>
          <p:cNvPicPr/>
          <p:nvPr/>
        </p:nvPicPr>
        <p:blipFill>
          <a:blip r:embed="rId3"/>
          <a:stretch/>
        </p:blipFill>
        <p:spPr>
          <a:xfrm>
            <a:off x="684360" y="163440"/>
            <a:ext cx="8459640" cy="5551560"/>
          </a:xfrm>
          <a:prstGeom prst="rect">
            <a:avLst/>
          </a:prstGeom>
          <a:ln w="0">
            <a:noFill/>
          </a:ln>
        </p:spPr>
      </p:pic>
      <p:sp>
        <p:nvSpPr>
          <p:cNvPr id="43" name="矩形 8"/>
          <p:cNvSpPr/>
          <p:nvPr/>
        </p:nvSpPr>
        <p:spPr>
          <a:xfrm>
            <a:off x="5022720" y="74124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4859280" y="741240"/>
            <a:ext cx="9072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DB61-1366-40EF-AFCE-1D3E979002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Administrator\桌面\莲 (2).png"/>
          <p:cNvPicPr/>
          <p:nvPr/>
        </p:nvPicPr>
        <p:blipFill>
          <a:blip r:embed="rId2"/>
          <a:stretch/>
        </p:blipFill>
        <p:spPr>
          <a:xfrm>
            <a:off x="611280" y="57240"/>
            <a:ext cx="971280" cy="92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Administrator\桌面\6666666.jpg"/>
          <p:cNvPicPr/>
          <p:nvPr/>
        </p:nvPicPr>
        <p:blipFill>
          <a:blip r:embed="rId4"/>
          <a:stretch/>
        </p:blipFill>
        <p:spPr>
          <a:xfrm>
            <a:off x="0" y="-3240"/>
            <a:ext cx="9144000" cy="5813640"/>
          </a:xfrm>
          <a:prstGeom prst="rect">
            <a:avLst/>
          </a:prstGeom>
          <a:ln w="0">
            <a:noFill/>
          </a:ln>
        </p:spPr>
      </p:pic>
      <p:sp>
        <p:nvSpPr>
          <p:cNvPr id="90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70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0F4B-37E4-4FF6-B81C-C35E9391D46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extBox 39" descr=""/>
          <p:cNvPicPr/>
          <p:nvPr/>
        </p:nvPicPr>
        <p:blipFill>
          <a:blip r:embed="rId1"/>
          <a:stretch/>
        </p:blipFill>
        <p:spPr>
          <a:xfrm>
            <a:off x="5029200" y="812880"/>
            <a:ext cx="309708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5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6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7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0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1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2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5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6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7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8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0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1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2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"/>
                            </p:stCondLst>
                            <p:childTnLst>
                              <p:par>
                                <p:cTn id="2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7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5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50"/>
                            </p:stCondLst>
                            <p:childTnLst>
                              <p:par>
                                <p:cTn id="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extBox 2" descr=""/>
          <p:cNvPicPr/>
          <p:nvPr/>
        </p:nvPicPr>
        <p:blipFill>
          <a:blip r:embed="rId1"/>
          <a:stretch/>
        </p:blipFill>
        <p:spPr>
          <a:xfrm>
            <a:off x="5003640" y="741240"/>
            <a:ext cx="43214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07:54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