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063-06F9-4FDE-B802-2C73F60F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DCF-76C7-49DA-9023-32FA7E7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372-4D8F-46AD-A4B3-CB6BBD2A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0AA-ABDB-4306-B871-68563037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04B-E039-4576-A43F-FC887B76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316-A5E1-4363-BB9E-AAFFED3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5F9-45E5-48B1-BCC2-584AFAD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E4E-4FB1-428D-B905-D3AD9200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1DD-52D4-450A-9F81-112D60C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E2A-A0C8-4FA6-BEFE-D3499B52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954-6CF1-4839-AA77-9BF0294F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7A8-59E6-43A1-800F-27C62C4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08908-B1E6-46AE-ABB3-BBDDA0E80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7.- Para honrar nuestra palabra y renovar la vida pública: un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o modelo de gobierno, con principios, racionalidad, eficacia, autonomía y digni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8.- Para darle poder a los ciudadanos: una política que aliente l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mocracia participativ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CuadroTexto"/>
          <p:cNvSpPr/>
          <p:nvPr/>
        </p:nvSpPr>
        <p:spPr>
          <a:xfrm>
            <a:off x="1571760" y="85716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9.- Para edificar un Jalisco sustentable y con visión de futuro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ambient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transversal, responsable y comprometid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0.- Para sacudir la vida pública y limpiar a Jalisco: el compromiso indeclin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combatir la corrupción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la impunidad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1" descr="12.80X7.jpg"/>
          <p:cNvPicPr/>
          <p:nvPr/>
        </p:nvPicPr>
        <p:blipFill>
          <a:blip r:embed="rId2"/>
          <a:stretch/>
        </p:blipFill>
        <p:spPr>
          <a:xfrm>
            <a:off x="1447920" y="1447920"/>
            <a:ext cx="6769080" cy="38098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8X12 AYUDANOS.jpg"/>
          <p:cNvPicPr/>
          <p:nvPr/>
        </p:nvPicPr>
        <p:blipFill>
          <a:blip r:embed="rId2"/>
          <a:stretch/>
        </p:blipFill>
        <p:spPr>
          <a:xfrm>
            <a:off x="2514600" y="762120"/>
            <a:ext cx="3506760" cy="525600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3" descr="DIPTICO SEMIFINAL-1.jpg"/>
          <p:cNvPicPr/>
          <p:nvPr/>
        </p:nvPicPr>
        <p:blipFill>
          <a:blip r:embed="rId2"/>
          <a:stretch/>
        </p:blipFill>
        <p:spPr>
          <a:xfrm>
            <a:off x="1447920" y="685800"/>
            <a:ext cx="6296040" cy="4832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2" descr="DIPTICO SEMIFINAL-2.jpg"/>
          <p:cNvPicPr/>
          <p:nvPr/>
        </p:nvPicPr>
        <p:blipFill>
          <a:blip r:embed="rId2"/>
          <a:stretch/>
        </p:blipFill>
        <p:spPr>
          <a:xfrm>
            <a:off x="1447920" y="609480"/>
            <a:ext cx="6296040" cy="483264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3" descr="VOLANTE SEMIFINAL-1.jpg"/>
          <p:cNvPicPr/>
          <p:nvPr/>
        </p:nvPicPr>
        <p:blipFill>
          <a:blip r:embed="rId2"/>
          <a:stretch/>
        </p:blipFill>
        <p:spPr>
          <a:xfrm>
            <a:off x="1447920" y="990720"/>
            <a:ext cx="670536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VOLANTE SEMIFINAL-2.jpg"/>
          <p:cNvPicPr/>
          <p:nvPr/>
        </p:nvPicPr>
        <p:blipFill>
          <a:blip r:embed="rId2"/>
          <a:stretch/>
        </p:blipFill>
        <p:spPr>
          <a:xfrm>
            <a:off x="1523880" y="990720"/>
            <a:ext cx="6705720" cy="437328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333333">
                <a:alpha val="6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CuadroTexto"/>
          <p:cNvSpPr/>
          <p:nvPr/>
        </p:nvSpPr>
        <p:spPr>
          <a:xfrm>
            <a:off x="1571760" y="1714680"/>
            <a:ext cx="73580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Este proyecto tiene una idea rectora: combatir la pobreza, la exclusión, la desigualdad y la falta de oportunidades, que son el caldo de cultivo de la inseguridad y la violenc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2 CuadroTexto"/>
          <p:cNvSpPr/>
          <p:nvPr/>
        </p:nvSpPr>
        <p:spPr>
          <a:xfrm>
            <a:off x="1571760" y="1179360"/>
            <a:ext cx="7358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700,000 personas (36.9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o pobreza ext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Más de 2’500,000 personas (35.2 %) no tienen acceso 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ngún servicio de salu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asi el 50 % de la gente (1'700,000 personas) gana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enos de 3 salarios mínimos al mes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(menos de $ 5,400) por lo que ni siquiera les alcanza para la canasta bá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asamos de una tasa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esempleo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de 1.97 % en 2000 a 5.25 en 2011. Es decir, de 56,400 personas a más de 180,000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240,000 jóvenes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o tienen oportunidades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para estudiar o trabaj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1571760" y="194616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3’000,000 de personas (40.4 %) vive en condiciones de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vulnerabilidad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(no tienen acceso a servicios y satisfactores bás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1’627,000  personas (22.1 %) vive en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pobreza alimen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529,000 personas ocupadas en el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sector inform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Casi el 60 % de los jóvenes son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rechazados de la Ude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CuadroTexto"/>
          <p:cNvSpPr/>
          <p:nvPr/>
        </p:nvSpPr>
        <p:spPr>
          <a:xfrm>
            <a:off x="1643040" y="2857680"/>
            <a:ext cx="7358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La pregunta es cómo hacer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2143080" y="267660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10 Principios para Cambiar la Historia de Jali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2 CuadroTexto"/>
          <p:cNvSpPr/>
          <p:nvPr/>
        </p:nvSpPr>
        <p:spPr>
          <a:xfrm>
            <a:off x="1571760" y="785880"/>
            <a:ext cx="7358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1.- Para transformar la realidad de Jalisco: una nuev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educativa, libre de poderes fácticos, con valore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compromiso soci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2.- Para reconstruir el tejido social: una verdader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bate a la desigualdad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, la marginación y la falta de oportunidad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CuadroTexto"/>
          <p:cNvSpPr/>
          <p:nvPr/>
        </p:nvSpPr>
        <p:spPr>
          <a:xfrm>
            <a:off x="1571760" y="1108080"/>
            <a:ext cx="73580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3.- Para recuperar la tranquilidad de la gente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nueva visión de seguridad ciudadana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4.- Para construir una sociedad justa: una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política de competitividad, de generación de empleos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 y desarrollo económico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 CuadroTexto"/>
          <p:cNvSpPr/>
          <p:nvPr/>
        </p:nvSpPr>
        <p:spPr>
          <a:xfrm>
            <a:off x="1571760" y="785880"/>
            <a:ext cx="73580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5.- Para recuperar a las regiones de Jalisco y rescatar al campo: una visión responsable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desarrollo agropecuario y competitividad regional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6.- Para construir un entorno digno y una mejor calidad de vida: un programa de </a:t>
            </a:r>
            <a:r>
              <a:rPr b="1" lang="es-MX" sz="3500" spc="-1" strike="noStrike">
                <a:solidFill>
                  <a:srgbClr val="000000"/>
                </a:solidFill>
                <a:latin typeface="Calibri"/>
              </a:rPr>
              <a:t>infraestructura estratégica </a:t>
            </a:r>
            <a:r>
              <a:rPr b="0" lang="es-MX" sz="3500" spc="-1" strike="noStrike">
                <a:solidFill>
                  <a:srgbClr val="000000"/>
                </a:solidFill>
                <a:latin typeface="Calibri"/>
              </a:rPr>
              <a:t>que sea motor del desarrol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21:42:39Z</dcterms:created>
  <dc:creator>Euzen</dc:creator>
  <dc:description/>
  <dc:language>en-US</dc:language>
  <cp:lastModifiedBy>微软用户</cp:lastModifiedBy>
  <dcterms:modified xsi:type="dcterms:W3CDTF">2014-09-06T14:35:53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