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1895C-A920-4336-A54B-2EB1A1F4F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594A-A3D9-4EF4-BB39-67CBFF58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08B7-A0C6-4CBC-BDD4-A899B29D5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85531-0B9B-48D2-BA99-1A96D52FE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3907-BEBD-4668-B09F-4030B5A42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9AE7B-C064-4B29-93E5-E7550DF03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4990-FD47-451C-9069-043402388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6A24-17AD-451D-B17C-3E07A414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05D0-4A54-4E8B-BEF9-33CBA1A2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970E-0222-4BAA-AF33-52757F40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F3B4B-DB41-4F94-982D-E58EACC46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078E-3B67-4D4C-AAA7-CB0B53A88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BF66-73DF-431A-A45A-6AA784773F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60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52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2"/>
          <p:cNvSpPr/>
          <p:nvPr/>
        </p:nvSpPr>
        <p:spPr>
          <a:xfrm>
            <a:off x="1415880" y="2436840"/>
            <a:ext cx="1077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cp:lastModifiedBy>
  <dcterms:modified xsi:type="dcterms:W3CDTF">2016-03-21T00:18:39Z</dcterms:modified>
  <cp:revision>64</cp:revision>
  <dc:subject>12sc.taobao.com</dc:subject>
  <dc:title>PowerPoint 演示文稿</dc:title>
</cp:coreProperties>
</file>