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BE6AF-2035-4CF4-9E6D-76C9206C0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A5D7-4703-483D-B59B-0971C475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45492-A7A3-488C-B415-3E9211D0F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5A929-D112-44D1-A609-DDCCE5048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1F8E-72BD-4211-B71A-626098D9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52B9-3785-4643-A6D6-F9C908A7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269D-F0A7-4B6E-AC34-0704ABC6D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1D51-0EF8-40CB-925B-208F1ABD4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C1159-756F-4D08-8C85-09E7E68B7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741E-C328-4C7C-A20A-27837A35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906D-A4DD-422C-AC80-C12C496A8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D571C-6D93-42C8-A20C-07DB99635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97CB-CF4C-465C-845E-12C79CB40E5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清风</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清风</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2"/>
          <p:cNvSpPr/>
          <p:nvPr/>
        </p:nvSpPr>
        <p:spPr>
          <a:xfrm>
            <a:off x="1498680" y="2463840"/>
            <a:ext cx="9712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cp:lastModifiedBy>
  <dcterms:modified xsi:type="dcterms:W3CDTF">2016-03-21T00:17:31Z</dcterms:modified>
  <cp:revision>58</cp:revision>
  <dc:subject>12sc.taobao.com</dc:subject>
  <dc:title>PowerPoint 演示文稿</dc:title>
</cp:coreProperties>
</file>