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BAD-0B26-4AF2-902A-121802B4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A91-A8F1-449B-B92C-E12BD0BF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403-0DB9-4A58-B0A4-34B2C060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F85-DCDF-49A9-AC05-65856111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D39-7077-4C0B-A8AC-8F4D029A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E12-763B-4D76-ADCA-D96D06E2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EAA-5164-4114-968C-076235E8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3D6-9FCC-42AD-A49C-93CB3054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ED1-25B2-4B6C-86B9-4996EC6C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CA3-1B26-44E0-A783-C396406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93A-54F8-4FDE-8F02-BA85BF72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58F-1DCA-40A5-BC3B-CAA7608C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280-DB5E-4AA0-A40C-8D08CCB8B5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62360" y="450720"/>
            <a:ext cx="48006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94240" y="982800"/>
            <a:ext cx="4681440" cy="466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1000" y="2790720"/>
            <a:ext cx="1257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16996"/>
                </a:solidFill>
                <a:latin typeface="Calibri"/>
                <a:ea typeface="微软雅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114880" y="3257640"/>
            <a:ext cx="171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6996"/>
                </a:solidFill>
                <a:latin typeface="Arial"/>
                <a:ea typeface="微软雅黑"/>
              </a:rPr>
              <a:t>CONT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390760" y="1571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819440" y="15238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676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不能缺少的要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638360" y="46292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56008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展现自己的价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5530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455292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围绕在身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810560" y="45054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972640" y="336240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变得简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8400960" y="33148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8620200" y="2076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做个快乐生活的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8048520" y="20289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896160" y="10191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用心去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305400" y="9716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4280" y="2523960"/>
            <a:ext cx="4095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819680" y="32194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81200" y="552600"/>
            <a:ext cx="170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371680" y="8380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6240" y="1857240"/>
            <a:ext cx="4924440" cy="4124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43560" y="3152880"/>
            <a:ext cx="5210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活着永远有两个选择：快乐和悲伤，快乐的人活得洒脱活得知足， 悲伤的人活得苦恼活得压抑。 工作的乐趣就在工作是生活中的一部分，用好的心态去对待工作 中的每一件事，快乐地完成它，这样我们就可以享受工作带来的乐趣， 并且可以在整个工作过程中感受到自己成长的幸福。 生活的乐趣本来就是生存中非常重要的内容，但是由于社会竞争 的空前激烈和工作强度的不断提高，现代社会的人性，已经完全被金钱 淹没在无休止的打拼和无尽头的奋斗中了，很多人为了追求金钱和名 誉，把自己的健康、空闲时间、舒畅的心情等等全都牺牲掉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28840" y="973080"/>
            <a:ext cx="53215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3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