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FF0-5B08-4A04-A419-627610BD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5FB-63F9-4786-B5A8-CDAF99F7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9F0-488A-400F-BAC7-3E9B4AFF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671-2E52-42A3-9423-10320F0B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1498-BBB6-463B-A373-74547A89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DF7B-54B9-4093-A056-2B2782F8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A1A5-A825-4A3D-8DD0-165C497F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87B5-3B34-4E08-BD4B-D318C23C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EBEC-F43C-449D-9B63-BB60DCAE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2964-F4B8-4B01-BEED-9C7961E5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E60F-622D-4145-9678-1D4C8F69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32E-52AE-40A2-A46C-3837749E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E999-D53F-4101-9EBF-CB708C62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5FBE-76C1-4124-A8BD-BEDC5173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6C19-5006-47EE-8D07-B837907A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7B6E-D79E-4D95-A465-5D5DAB75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4591-7B59-4D19-898D-84AA9682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3FB-DADB-4F33-9264-F3D2175D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E5C-8887-4249-BADA-674E53F3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E12-DFD3-429A-BF40-8F22BBAE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896-1A08-4A08-A94B-D3DD9B8E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AA0-A5A4-4144-A4B3-BCA0FD69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2EA-F116-4F73-AFC9-F2D2F69B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DEE-C834-4454-A7B2-24E41D69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AFEA-5784-4A9D-B241-B28E9A5530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2D91-0730-43CD-AEF6-D8FA27D63D8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6360" y="1955880"/>
            <a:ext cx="15084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3000" y="3660480"/>
            <a:ext cx="1962000" cy="20098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0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6" y="0"/>
                </a:lnTo>
                <a:lnTo>
                  <a:pt x="21600" y="10800"/>
                </a:lnTo>
                <a:lnTo>
                  <a:pt x="19066" y="21600"/>
                </a:lnTo>
                <a:lnTo>
                  <a:pt x="0" y="21600"/>
                </a:lnTo>
                <a:lnTo>
                  <a:pt x="2534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6" y="0"/>
                </a:lnTo>
                <a:lnTo>
                  <a:pt x="21600" y="10800"/>
                </a:lnTo>
                <a:lnTo>
                  <a:pt x="19066" y="21600"/>
                </a:lnTo>
                <a:lnTo>
                  <a:pt x="0" y="21600"/>
                </a:lnTo>
                <a:lnTo>
                  <a:pt x="2534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825"/>
                            </p:stCondLst>
                            <p:childTnLst>
                              <p:par>
                                <p:cTn id="5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325"/>
                            </p:stCondLst>
                            <p:childTnLst>
                              <p:par>
                                <p:cTn id="5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825"/>
                            </p:stCondLst>
                            <p:childTnLst>
                              <p:par>
                                <p:cTn id="6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dc:language>en-US</dc:language>
  <cp:lastModifiedBy>Administrator</cp:lastModifiedBy>
  <dcterms:modified xsi:type="dcterms:W3CDTF">2016-05-02T13:42:34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