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0FC-ED39-4ADE-90DB-893E11E7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CF1-A97F-415E-823F-6D3FC1B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FEE-167E-4B51-BF8B-6C00C5EF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B72-6B86-44B4-B4A0-3670482C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8D0-3A77-4538-BAE0-763CD91D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3C1-6A77-40FF-B21C-0A7B0580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7DD-E9F5-4746-A593-3ACE440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43B-30A5-4D2D-9C13-7900812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09F-2790-4A04-A220-E83F1577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257-1998-458C-9C9D-17435FC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CF3-D9B5-4419-94C7-0399C692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98B-471C-40BA-8A61-5D9B0BB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F1E4-287F-4C65-8F88-FF819EC7A9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F32F-7276-4709-8894-5D06B73D95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7920" y="243936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9400" y="3558240"/>
            <a:ext cx="1508040" cy="150984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5560" y="2424600"/>
            <a:ext cx="1508040" cy="15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4160" y="3546000"/>
            <a:ext cx="15098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prstGeom prst="pie">
            <a:avLst/>
          </a:pr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prstGeom prst="pie">
            <a:avLst/>
          </a:pr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prstGeom prst="pie">
            <a:avLst/>
          </a:pr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prstGeom prst="pie">
            <a:avLst/>
          </a:pr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698920" y="1077840"/>
            <a:ext cx="13282560" cy="5545080"/>
          </a:xfrm>
          <a:prstGeom prst="rect">
            <a:avLst/>
          </a:prstGeom>
          <a:ln w="0">
            <a:noFill/>
          </a:ln>
        </p:spPr>
      </p:pic>
      <p:sp>
        <p:nvSpPr>
          <p:cNvPr id="502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0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4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3" name="Freeform 108"/>
            <p:cNvSpPr/>
            <p:nvPr/>
          </p:nvSpPr>
          <p:spPr>
            <a:xfrm>
              <a:off x="7535880" y="3641040"/>
              <a:ext cx="78480" cy="799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9"/>
            <p:cNvSpPr/>
            <p:nvPr/>
          </p:nvSpPr>
          <p:spPr>
            <a:xfrm>
              <a:off x="7712640" y="3589200"/>
              <a:ext cx="66960" cy="669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0"/>
            <p:cNvSpPr/>
            <p:nvPr/>
          </p:nvSpPr>
          <p:spPr>
            <a:xfrm>
              <a:off x="7553880" y="3660480"/>
              <a:ext cx="42480" cy="424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1"/>
            <p:cNvSpPr/>
            <p:nvPr/>
          </p:nvSpPr>
          <p:spPr>
            <a:xfrm>
              <a:off x="7679160" y="3555720"/>
              <a:ext cx="133920" cy="1342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2"/>
            <p:cNvSpPr/>
            <p:nvPr/>
          </p:nvSpPr>
          <p:spPr>
            <a:xfrm>
              <a:off x="7440480" y="3409920"/>
              <a:ext cx="555840" cy="6224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29" name="Freeform 148"/>
            <p:cNvSpPr/>
            <p:nvPr/>
          </p:nvSpPr>
          <p:spPr>
            <a:xfrm>
              <a:off x="8925840" y="4218120"/>
              <a:ext cx="513360" cy="6674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49"/>
            <p:cNvSpPr/>
            <p:nvPr/>
          </p:nvSpPr>
          <p:spPr>
            <a:xfrm>
              <a:off x="8845560" y="4556520"/>
              <a:ext cx="338400" cy="3330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3" name="Freeform 25"/>
            <p:cNvSpPr/>
            <p:nvPr/>
          </p:nvSpPr>
          <p:spPr>
            <a:xfrm>
              <a:off x="2976480" y="4731480"/>
              <a:ext cx="153720" cy="1533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43"/>
            <p:cNvSpPr/>
            <p:nvPr/>
          </p:nvSpPr>
          <p:spPr>
            <a:xfrm>
              <a:off x="2766960" y="4338720"/>
              <a:ext cx="571680" cy="4158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6" name="Freeform 154"/>
            <p:cNvSpPr/>
            <p:nvPr/>
          </p:nvSpPr>
          <p:spPr>
            <a:xfrm>
              <a:off x="6015960" y="4782960"/>
              <a:ext cx="61560" cy="568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6"/>
            <p:cNvSpPr/>
            <p:nvPr/>
          </p:nvSpPr>
          <p:spPr>
            <a:xfrm>
              <a:off x="5891400" y="4361400"/>
              <a:ext cx="318600" cy="3182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7"/>
            <p:cNvSpPr/>
            <p:nvPr/>
          </p:nvSpPr>
          <p:spPr>
            <a:xfrm>
              <a:off x="5843520" y="4262400"/>
              <a:ext cx="413640" cy="6127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8"/>
            <p:cNvSpPr/>
            <p:nvPr/>
          </p:nvSpPr>
          <p:spPr>
            <a:xfrm>
              <a:off x="6180480" y="4510080"/>
              <a:ext cx="232920" cy="2325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2" name="Freeform 32"/>
            <p:cNvSpPr/>
            <p:nvPr/>
          </p:nvSpPr>
          <p:spPr>
            <a:xfrm>
              <a:off x="4462920" y="3409920"/>
              <a:ext cx="124560" cy="6318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4280040" y="3795480"/>
              <a:ext cx="123120" cy="2462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4647600" y="3612960"/>
              <a:ext cx="124560" cy="4287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prstGeom prst="pie">
              <a:avLst/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任意多边形 21"/>
          <p:cNvSpPr/>
          <p:nvPr/>
        </p:nvSpPr>
        <p:spPr>
          <a:xfrm>
            <a:off x="0" y="3332160"/>
            <a:ext cx="5388120" cy="101268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33"/>
          <p:cNvSpPr/>
          <p:nvPr/>
        </p:nvSpPr>
        <p:spPr>
          <a:xfrm>
            <a:off x="0" y="4060800"/>
            <a:ext cx="4413240" cy="10126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5"/>
          <p:cNvSpPr/>
          <p:nvPr/>
        </p:nvSpPr>
        <p:spPr>
          <a:xfrm flipH="1">
            <a:off x="6819120" y="3316320"/>
            <a:ext cx="5388120" cy="101268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6"/>
          <p:cNvSpPr/>
          <p:nvPr/>
        </p:nvSpPr>
        <p:spPr>
          <a:xfrm flipH="1">
            <a:off x="7794000" y="4044960"/>
            <a:ext cx="4414680" cy="10126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8" name="Freeform 11"/>
            <p:cNvSpPr/>
            <p:nvPr/>
          </p:nvSpPr>
          <p:spPr>
            <a:xfrm>
              <a:off x="4226040" y="3435840"/>
              <a:ext cx="1141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>
              <a:off x="4057560" y="3267360"/>
              <a:ext cx="45288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4282560" y="3404520"/>
              <a:ext cx="8532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4"/>
            <p:cNvSpPr/>
            <p:nvPr/>
          </p:nvSpPr>
          <p:spPr>
            <a:xfrm>
              <a:off x="4336920" y="3233520"/>
              <a:ext cx="1854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"/>
            <p:cNvSpPr/>
            <p:nvPr/>
          </p:nvSpPr>
          <p:spPr>
            <a:xfrm>
              <a:off x="4491000" y="3190320"/>
              <a:ext cx="7344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>
              <a:off x="4522320" y="3153960"/>
              <a:ext cx="7704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"/>
            <p:cNvSpPr/>
            <p:nvPr/>
          </p:nvSpPr>
          <p:spPr>
            <a:xfrm>
              <a:off x="4140360" y="3352680"/>
              <a:ext cx="28404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>
              <a:off x="4556160" y="3119400"/>
              <a:ext cx="7452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7" name="Freeform 108"/>
            <p:cNvSpPr/>
            <p:nvPr/>
          </p:nvSpPr>
          <p:spPr>
            <a:xfrm>
              <a:off x="5224320" y="2670840"/>
              <a:ext cx="64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9"/>
            <p:cNvSpPr/>
            <p:nvPr/>
          </p:nvSpPr>
          <p:spPr>
            <a:xfrm>
              <a:off x="5369040" y="2629080"/>
              <a:ext cx="54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0"/>
            <p:cNvSpPr/>
            <p:nvPr/>
          </p:nvSpPr>
          <p:spPr>
            <a:xfrm>
              <a:off x="5239080" y="2686680"/>
              <a:ext cx="345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1"/>
            <p:cNvSpPr/>
            <p:nvPr/>
          </p:nvSpPr>
          <p:spPr>
            <a:xfrm>
              <a:off x="5341680" y="2601720"/>
              <a:ext cx="109440" cy="10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2"/>
            <p:cNvSpPr/>
            <p:nvPr/>
          </p:nvSpPr>
          <p:spPr>
            <a:xfrm>
              <a:off x="5146560" y="2482920"/>
              <a:ext cx="45432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3" name="Freeform 148"/>
            <p:cNvSpPr/>
            <p:nvPr/>
          </p:nvSpPr>
          <p:spPr>
            <a:xfrm>
              <a:off x="7706160" y="3200400"/>
              <a:ext cx="388440" cy="5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49"/>
            <p:cNvSpPr/>
            <p:nvPr/>
          </p:nvSpPr>
          <p:spPr>
            <a:xfrm>
              <a:off x="7645320" y="3456360"/>
              <a:ext cx="256320" cy="25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7" name="Freeform 136"/>
            <p:cNvSpPr/>
            <p:nvPr/>
          </p:nvSpPr>
          <p:spPr>
            <a:xfrm>
              <a:off x="6629400" y="2773080"/>
              <a:ext cx="43164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37"/>
            <p:cNvSpPr/>
            <p:nvPr/>
          </p:nvSpPr>
          <p:spPr>
            <a:xfrm>
              <a:off x="6629400" y="2533680"/>
              <a:ext cx="43164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34"/>
          <p:cNvSpPr/>
          <p:nvPr/>
        </p:nvSpPr>
        <p:spPr>
          <a:xfrm>
            <a:off x="0" y="4791240"/>
            <a:ext cx="3241800" cy="101268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7"/>
          <p:cNvSpPr/>
          <p:nvPr/>
        </p:nvSpPr>
        <p:spPr>
          <a:xfrm flipH="1">
            <a:off x="8965440" y="4791240"/>
            <a:ext cx="3243240" cy="101268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0" name="Freeform 154"/>
            <p:cNvSpPr/>
            <p:nvPr/>
          </p:nvSpPr>
          <p:spPr>
            <a:xfrm>
              <a:off x="8991360" y="4400640"/>
              <a:ext cx="486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56"/>
            <p:cNvSpPr/>
            <p:nvPr/>
          </p:nvSpPr>
          <p:spPr>
            <a:xfrm>
              <a:off x="8892720" y="4066200"/>
              <a:ext cx="25236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7"/>
            <p:cNvSpPr/>
            <p:nvPr/>
          </p:nvSpPr>
          <p:spPr>
            <a:xfrm>
              <a:off x="8854920" y="3987720"/>
              <a:ext cx="327240" cy="4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8"/>
            <p:cNvSpPr/>
            <p:nvPr/>
          </p:nvSpPr>
          <p:spPr>
            <a:xfrm>
              <a:off x="9121680" y="4183920"/>
              <a:ext cx="18432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6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4"/>
            <p:cNvSpPr/>
            <p:nvPr/>
          </p:nvSpPr>
          <p:spPr>
            <a:xfrm>
              <a:off x="2919240" y="4211640"/>
              <a:ext cx="5004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任意多边形 33"/>
          <p:cNvSpPr/>
          <p:nvPr/>
        </p:nvSpPr>
        <p:spPr>
          <a:xfrm flipH="1" rot="1800000">
            <a:off x="6377760" y="1072800"/>
            <a:ext cx="1635120" cy="66452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27"/>
          <p:cNvSpPr/>
          <p:nvPr/>
        </p:nvSpPr>
        <p:spPr>
          <a:xfrm flipH="1" rot="1800000">
            <a:off x="3376440" y="-1112760"/>
            <a:ext cx="2027520" cy="9090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9"/>
          <p:cNvSpPr/>
          <p:nvPr/>
        </p:nvSpPr>
        <p:spPr>
          <a:xfrm flipH="1" rot="1800000">
            <a:off x="7461000" y="2287440"/>
            <a:ext cx="1170000" cy="521496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1"/>
          <p:cNvSpPr/>
          <p:nvPr/>
        </p:nvSpPr>
        <p:spPr>
          <a:xfrm flipH="1" rot="1800000">
            <a:off x="5166360" y="-1112040"/>
            <a:ext cx="2027160" cy="9090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25"/>
          <p:cNvSpPr/>
          <p:nvPr/>
        </p:nvSpPr>
        <p:spPr>
          <a:xfrm flipH="1" rot="1800000">
            <a:off x="1645920" y="3312720"/>
            <a:ext cx="1170000" cy="41004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5360" y="2647440"/>
            <a:ext cx="3462120" cy="2593800"/>
          </a:xfrm>
          <a:prstGeom prst="parallelogram">
            <a:avLst>
              <a:gd name="adj" fmla="val 5635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40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prstGeom prst="pie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prstGeom prst="pie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SJ_one_LR</dc:creator>
  <dc:description/>
  <dc:language>en-US</dc:language>
  <cp:lastModifiedBy>SJ_one_LR</cp:lastModifiedBy>
  <dcterms:modified xsi:type="dcterms:W3CDTF">2015-07-21T01:22:01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