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144-DC38-420C-910B-867CB34E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F2F-3C6E-4D81-85DC-1896AF3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CC3-79FA-4391-95B3-3DDB0249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373-450D-45C1-8317-4ED9A5FE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6E2B-3FE8-44A6-87D1-34285000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379-D3A3-469B-9DD5-8D87C084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C70-F79F-46BA-BC45-02EBBED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84A0-E61B-47AE-B13F-5CE05AF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8A71-04A1-4279-BC75-9B4E8143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C104-8961-4D2F-8EF9-6F7DE75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76D-77C5-409A-A9C8-76D62E2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EFF-C4E4-4ECD-AC40-FA75817A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EF16-6B51-4E4C-BA96-8AF512D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578-13FA-4A8E-AD6F-32ACC4C3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745-A60A-4168-B224-4CE3F3CB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F6DF-AE96-4C7B-B012-C71D3A05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AEF-A7D0-496B-82FF-2FDA79CB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921-531B-4785-A076-B28EE3A3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8FB-2FF0-4C5E-8127-8C6AFCAE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D01-0E63-4D1A-9E46-E0E7015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FED-D512-40CE-9BAA-0289E7E8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849-D160-49A3-B8EA-F7D5564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AFE-6300-4E65-84E1-D1C6172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AC6-C7E7-4FAE-8899-0A59A75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8F1-72CC-416B-961C-1B024762F4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C051-BCAC-43E0-925A-7F36C835B7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3080" y="3098880"/>
              <a:ext cx="1352160" cy="111924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9600"/>
              <a:ext cx="1190520" cy="133524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080" y="3274920"/>
              <a:ext cx="120816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22T03:11:11Z</dcterms:modified>
  <cp:revision>337</cp:revision>
  <dc:subject/>
  <dc:title>锐得PPT模板</dc:title>
</cp:coreProperties>
</file>