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F8A-8B2D-4FD3-B8CD-46F1F2AF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EF4-5938-46BA-8AED-1109291D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E22-E2F5-4B35-BE93-4E0B88EF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6E5-6E9F-4C14-A5D2-2ACA78B8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6E3D-173C-426F-BD5A-A64A4AAD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3036-89A2-4E21-83B4-637025E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058B-A4E9-4167-BA49-99F74F77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B644-A08E-4C93-82F6-E33E64A0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D388-BF8A-431E-85BF-9A8737EC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B125-470D-4555-A675-989800BC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DCF4-F17E-475B-8A30-6268A3D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7A2-761A-447E-93BC-2578329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08A1-396F-43E5-A686-76FD29F6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3113-1AA5-47CF-9ADA-1B8BEE2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4D0A-5AF1-4AC9-93EB-58199ED9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2B4D-E23B-4FCB-9B81-22C1750F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BFE1-83BC-4243-9B32-4F77F23D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B930-4760-4D99-9F85-CF4E57E2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BE14-C7E7-4DBA-83C2-BFD2FD03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9A17-2A1A-429F-9D8E-57999013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2BE8-960E-474C-924B-45679F12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FB77-9E3F-48E7-A696-E4E81701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CD3-B51D-4E48-94EE-B7B1AB1D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FCF4-238A-4ADF-A133-340A99CF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AA76-A3BC-4F5C-BD64-CA08F4E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0297-A796-4EF4-8233-661ED88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389D-E642-48BB-8A21-C9509D1A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8AAD-BDCE-4E1A-BC21-4F638D70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5CBC-9BF6-4598-8B57-90AEBFEC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0BA1B-EB3B-4521-9E56-468A7EB8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E9E-68D5-45B5-9CDA-68BD4FC6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EC3-0F43-4147-B019-1BC1D1BD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F58-3EB0-4019-B8A4-C00305C0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DD3-CA97-4A05-AB10-0B40CBB0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A0B-BAE4-4B3B-A6EC-F751F0FE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51A-FF34-403E-A062-96DA7EBF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9D32-F288-4BF6-8705-426ABAE6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9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3EF6-86C7-4D4D-BFB0-DC243E267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4F93-EFC4-4107-A76C-74D54E703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教育主题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3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6" name="AutoShape 4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5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9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0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2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3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4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5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6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19" name="Oval 17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9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0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Oval 21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2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3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4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5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6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29" name="Oval 27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8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9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30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31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4" name="Oval 32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33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34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5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AutoShape 36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7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38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9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40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41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49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5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1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6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1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7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7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4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7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3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9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10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2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3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1100160" y="1905120"/>
            <a:ext cx="1879200" cy="1918080"/>
            <a:chOff x="1100160" y="1905120"/>
            <a:chExt cx="1879200" cy="1918080"/>
          </a:xfrm>
        </p:grpSpPr>
        <p:pic>
          <p:nvPicPr>
            <p:cNvPr id="539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2320" y="1905120"/>
              <a:ext cx="187704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0" name="Oval 5"/>
            <p:cNvGrpSpPr/>
            <p:nvPr/>
          </p:nvGrpSpPr>
          <p:grpSpPr>
            <a:xfrm>
              <a:off x="1100160" y="1907280"/>
              <a:ext cx="1868760" cy="1823040"/>
              <a:chOff x="1100160" y="1907280"/>
              <a:chExt cx="1868760" cy="1823040"/>
            </a:xfrm>
          </p:grpSpPr>
          <p:pic>
            <p:nvPicPr>
              <p:cNvPr id="541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7280"/>
                <a:ext cx="1868760" cy="18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1375920" y="217152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Freeform 6"/>
            <p:cNvSpPr/>
            <p:nvPr/>
          </p:nvSpPr>
          <p:spPr>
            <a:xfrm>
              <a:off x="1296000" y="1942200"/>
              <a:ext cx="14644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7"/>
            <p:cNvGrpSpPr/>
            <p:nvPr/>
          </p:nvGrpSpPr>
          <p:grpSpPr>
            <a:xfrm>
              <a:off x="1235520" y="3166560"/>
              <a:ext cx="1645920" cy="656640"/>
              <a:chOff x="1235520" y="3166560"/>
              <a:chExt cx="1645920" cy="656640"/>
            </a:xfrm>
          </p:grpSpPr>
          <p:grpSp>
            <p:nvGrpSpPr>
              <p:cNvPr id="545" name="Group 8"/>
              <p:cNvGrpSpPr/>
              <p:nvPr/>
            </p:nvGrpSpPr>
            <p:grpSpPr>
              <a:xfrm>
                <a:off x="1522080" y="3166560"/>
                <a:ext cx="1359360" cy="616320"/>
                <a:chOff x="1522080" y="3166560"/>
                <a:chExt cx="1359360" cy="616320"/>
              </a:xfrm>
            </p:grpSpPr>
            <p:sp>
              <p:nvSpPr>
                <p:cNvPr id="546" name="AutoShape 9"/>
                <p:cNvSpPr/>
                <p:nvPr/>
              </p:nvSpPr>
              <p:spPr>
                <a:xfrm flipH="1" flipV="1" rot="3964800">
                  <a:off x="2263320" y="298044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10"/>
                <p:cNvSpPr/>
                <p:nvPr/>
              </p:nvSpPr>
              <p:spPr>
                <a:xfrm flipH="1" flipV="1" rot="4780200">
                  <a:off x="2109960" y="30405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11"/>
                <p:cNvSpPr/>
                <p:nvPr/>
              </p:nvSpPr>
              <p:spPr>
                <a:xfrm flipH="1" flipV="1" rot="5076000">
                  <a:off x="2016720" y="30538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12"/>
                <p:cNvSpPr/>
                <p:nvPr/>
              </p:nvSpPr>
              <p:spPr>
                <a:xfrm flipH="1" flipV="1" rot="5608200">
                  <a:off x="1903680" y="306504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13"/>
              <p:cNvGrpSpPr/>
              <p:nvPr/>
            </p:nvGrpSpPr>
            <p:grpSpPr>
              <a:xfrm>
                <a:off x="1235520" y="3175920"/>
                <a:ext cx="1356480" cy="647280"/>
                <a:chOff x="1235520" y="3175920"/>
                <a:chExt cx="1356480" cy="647280"/>
              </a:xfrm>
            </p:grpSpPr>
            <p:sp>
              <p:nvSpPr>
                <p:cNvPr id="551" name="AutoShape 14"/>
                <p:cNvSpPr/>
                <p:nvPr/>
              </p:nvSpPr>
              <p:spPr>
                <a:xfrm flipH="1" flipV="1" rot="5317800">
                  <a:off x="1976040" y="306540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15"/>
                <p:cNvSpPr/>
                <p:nvPr/>
              </p:nvSpPr>
              <p:spPr>
                <a:xfrm flipH="1" flipV="1" rot="6133800">
                  <a:off x="1812240" y="306252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16"/>
                <p:cNvSpPr/>
                <p:nvPr/>
              </p:nvSpPr>
              <p:spPr>
                <a:xfrm flipH="1" flipV="1" rot="6429000">
                  <a:off x="1721160" y="303840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17"/>
                <p:cNvSpPr/>
                <p:nvPr/>
              </p:nvSpPr>
              <p:spPr>
                <a:xfrm flipH="1" flipV="1" rot="6961200">
                  <a:off x="1612080" y="300564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5" name="Group 18"/>
          <p:cNvGrpSpPr/>
          <p:nvPr/>
        </p:nvGrpSpPr>
        <p:grpSpPr>
          <a:xfrm>
            <a:off x="1147680" y="4260960"/>
            <a:ext cx="1879200" cy="1919520"/>
            <a:chOff x="1147680" y="4260960"/>
            <a:chExt cx="1879200" cy="1919520"/>
          </a:xfrm>
        </p:grpSpPr>
        <p:pic>
          <p:nvPicPr>
            <p:cNvPr id="556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49840" y="426096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7" name="Oval 20"/>
            <p:cNvGrpSpPr/>
            <p:nvPr/>
          </p:nvGrpSpPr>
          <p:grpSpPr>
            <a:xfrm>
              <a:off x="1147680" y="4260960"/>
              <a:ext cx="1868760" cy="1825200"/>
              <a:chOff x="1147680" y="4260960"/>
              <a:chExt cx="1868760" cy="1825200"/>
            </a:xfrm>
          </p:grpSpPr>
          <p:pic>
            <p:nvPicPr>
              <p:cNvPr id="558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1422360" y="452844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Freeform 21"/>
            <p:cNvSpPr/>
            <p:nvPr/>
          </p:nvSpPr>
          <p:spPr>
            <a:xfrm>
              <a:off x="1343520" y="429804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Group 22"/>
            <p:cNvGrpSpPr/>
            <p:nvPr/>
          </p:nvGrpSpPr>
          <p:grpSpPr>
            <a:xfrm>
              <a:off x="1283040" y="5524560"/>
              <a:ext cx="1646280" cy="655920"/>
              <a:chOff x="1283040" y="5524560"/>
              <a:chExt cx="1646280" cy="655920"/>
            </a:xfrm>
          </p:grpSpPr>
          <p:grpSp>
            <p:nvGrpSpPr>
              <p:cNvPr id="562" name="Group 23"/>
              <p:cNvGrpSpPr/>
              <p:nvPr/>
            </p:nvGrpSpPr>
            <p:grpSpPr>
              <a:xfrm>
                <a:off x="1569600" y="5524560"/>
                <a:ext cx="1359720" cy="616320"/>
                <a:chOff x="1569600" y="5524560"/>
                <a:chExt cx="1359720" cy="616320"/>
              </a:xfrm>
            </p:grpSpPr>
            <p:sp>
              <p:nvSpPr>
                <p:cNvPr id="563" name="AutoShape 24"/>
                <p:cNvSpPr/>
                <p:nvPr/>
              </p:nvSpPr>
              <p:spPr>
                <a:xfrm flipH="1" flipV="1" rot="3964800">
                  <a:off x="2311200" y="533844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25"/>
                <p:cNvSpPr/>
                <p:nvPr/>
              </p:nvSpPr>
              <p:spPr>
                <a:xfrm flipH="1" flipV="1" rot="4780200">
                  <a:off x="2157480" y="53985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AutoShape 26"/>
                <p:cNvSpPr/>
                <p:nvPr/>
              </p:nvSpPr>
              <p:spPr>
                <a:xfrm flipH="1" flipV="1" rot="5076000">
                  <a:off x="2063880" y="54111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AutoShape 27"/>
                <p:cNvSpPr/>
                <p:nvPr/>
              </p:nvSpPr>
              <p:spPr>
                <a:xfrm flipH="1" flipV="1" rot="5608200">
                  <a:off x="1951200" y="54226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28"/>
              <p:cNvGrpSpPr/>
              <p:nvPr/>
            </p:nvGrpSpPr>
            <p:grpSpPr>
              <a:xfrm>
                <a:off x="1283040" y="5533560"/>
                <a:ext cx="1356120" cy="646920"/>
                <a:chOff x="1283040" y="5533560"/>
                <a:chExt cx="1356120" cy="646920"/>
              </a:xfrm>
            </p:grpSpPr>
            <p:sp>
              <p:nvSpPr>
                <p:cNvPr id="568" name="AutoShape 29"/>
                <p:cNvSpPr/>
                <p:nvPr/>
              </p:nvSpPr>
              <p:spPr>
                <a:xfrm flipH="1" flipV="1" rot="5317800">
                  <a:off x="2022840" y="542268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30"/>
                <p:cNvSpPr/>
                <p:nvPr/>
              </p:nvSpPr>
              <p:spPr>
                <a:xfrm flipH="1" flipV="1" rot="6133800">
                  <a:off x="1859760" y="54201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31"/>
                <p:cNvSpPr/>
                <p:nvPr/>
              </p:nvSpPr>
              <p:spPr>
                <a:xfrm flipH="1" flipV="1" rot="6429000">
                  <a:off x="1768320" y="539568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2"/>
                <p:cNvSpPr/>
                <p:nvPr/>
              </p:nvSpPr>
              <p:spPr>
                <a:xfrm flipH="1" flipV="1" rot="6961200">
                  <a:off x="1659600" y="53625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2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73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77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81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7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8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9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8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91" name="Rectangle 4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5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6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5" name="Rectangle 8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9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1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599" name="Rectangle 12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13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14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15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603" name="Freeform 16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7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Rectangle 20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10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4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3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5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6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5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41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5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48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59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60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4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68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72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5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6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Puzzle2"/>
              <p:cNvSpPr/>
              <p:nvPr/>
            </p:nvSpPr>
            <p:spPr>
              <a:xfrm>
                <a:off x="4043880" y="344664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Puzzle4"/>
              <p:cNvSpPr/>
              <p:nvPr/>
            </p:nvSpPr>
            <p:spPr>
              <a:xfrm>
                <a:off x="2971080" y="342036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6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3acff">
                  <a:alpha val="82352"/>
                </a:srgbClr>
              </a:gs>
              <a:gs pos="100000">
                <a:srgbClr val="af67f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7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8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9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f67ff"/>
              </a:gs>
              <a:gs pos="100000">
                <a:srgbClr val="d4a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11" descr="light_shadow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circuler_1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5" name="Oval 13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3acff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4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15" descr="light_shadow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6" descr="circuler_1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Oval 17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8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9" descr="light_shadow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0" descr="circuler_1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13" name="Oval 21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e1b43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e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22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29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22" name="Group 30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23" name="AutoShape 31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2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33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34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35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28" name="AutoShape 36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37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38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39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40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33" name="Group 41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4" name="AutoShape 42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43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44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45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46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39" name="AutoShape 47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48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utoShape 49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50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51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4" name="Group 52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5" name="AutoShape 53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54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55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56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57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50" name="AutoShape 58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59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60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AutoShape 61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4" name="Rectangle 62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63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64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65" descr="light_shadow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66" descr="circuler_1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59" name="Oval 67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68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9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70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4" name="Group 72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5" name="AutoShape 73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74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75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76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77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70" name="AutoShape 78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79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80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utoShape 81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4" name="Freeform 82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80000"/>
                </a:srgbClr>
              </a:gs>
              <a:gs pos="100000">
                <a:srgbClr val="d8b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802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08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11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4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4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5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6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7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2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3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5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7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3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4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7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8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9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8cff"/>
              </a:gs>
              <a:gs pos="50000">
                <a:srgbClr val="af67ff"/>
              </a:gs>
              <a:gs pos="100000">
                <a:srgbClr val="c28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0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d8ff"/>
              </a:gs>
              <a:gs pos="50000">
                <a:srgbClr val="ccccff"/>
              </a:gs>
              <a:gs pos="100000">
                <a:srgbClr val="d8d8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848" name="AutoShape 5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6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7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8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9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10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11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8" name="Line 4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5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6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7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11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6" name="Rectangle 12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3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4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5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6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7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8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9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0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5" name="Rectangle 21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22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7" name="Line 23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24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25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26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27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28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Freeform 29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0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593040" y="287640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4178160" y="40831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8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9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3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heel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6" name="AutoShape 4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8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1" name="Oval 29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0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31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32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3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4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8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3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8" name="AutoShape 14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5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6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2" name="AutoShape 18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20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1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6" name="AutoShape 22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3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4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5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6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7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2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59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62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1" name="Group 63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2" name="Rectangle 64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65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66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5" name="Group 67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6" name="Group 68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7" name="Freeform 69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70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71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0" name="Freeform 72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73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Group 74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3" name="Oval 75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76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77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78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79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Group 80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89" name="Oval 81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82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83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84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Text Box 85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86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7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6" name="Group 88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7" name="Group 89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98" name="Freeform 90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91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92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1" name="Freeform 93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94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Group 95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4" name="Oval 96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97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98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99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00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Group 101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0" name="Oval 102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Oval 103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Oval 104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05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Text Box 106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107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108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7" name="Group 109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18" name="Group 110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19" name="Freeform 111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112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113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2" name="Freeform 114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15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Group 116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5" name="Oval 117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18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19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120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121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122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1" name="Oval 123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Oval 124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Oval 125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Oval 126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Text Box 127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8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29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38" name="Group 130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39" name="Group 131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0" name="Freeform 132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133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34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3" name="Freeform 135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136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Oval 137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38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139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40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41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Group 142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1" name="Oval 143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44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45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46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Text Box 147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48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49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58" name="Text Box 150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51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52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53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AutoShape 154"/>
              <p:cNvCxnSpPr>
                <a:stCxn id="358" idx="3"/>
                <a:endCxn id="359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3" name="AutoShape 155"/>
              <p:cNvCxnSpPr>
                <a:stCxn id="359" idx="3"/>
                <a:endCxn id="360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4" name="AutoShape 156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69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4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78" name="Freeform 15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6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89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3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6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2:5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