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.jpeg" ContentType="image/jpeg"/>
  <Override PartName="/ppt/media/image20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F34-E79C-4461-8EFA-9D65FD55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D82-8E9A-49ED-92F5-9695D24A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F3D-3037-454F-996D-CC62F550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49E-32DE-4261-885C-BF2D874F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3C2-0738-4243-A4A5-F24C2AEC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47B-9ABB-4A0F-9FE5-3B7B4445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717-779F-4073-8891-5FCE19DF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230-D11D-4D20-B414-7D9B96EF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FCF-474F-4ECB-A033-3456A1F4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51F-6309-4E46-896F-DB1A3E5B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356A-27AE-4D71-9603-4EAE5887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B4B-D547-4FCB-BD0D-4C6627CB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C53B-E760-4E32-9C57-568252158F32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5304-475F-48F1-A57F-773574975E2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wmf"/><Relationship Id="rId3" Type="http://schemas.openxmlformats.org/officeDocument/2006/relationships/image" Target="../media/image21.png"/><Relationship Id="rId4" Type="http://schemas.openxmlformats.org/officeDocument/2006/relationships/image" Target="../media/image4.wmf"/><Relationship Id="rId5" Type="http://schemas.openxmlformats.org/officeDocument/2006/relationships/image" Target="../media/image21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2" descr="cb013129"/>
          <p:cNvPicPr/>
          <p:nvPr/>
        </p:nvPicPr>
        <p:blipFill>
          <a:blip r:embed="rId1"/>
          <a:srcRect l="0" t="621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3"/>
          <p:cNvSpPr/>
          <p:nvPr/>
        </p:nvSpPr>
        <p:spPr>
          <a:xfrm>
            <a:off x="3095640" y="515772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  <a:ea typeface="华文细黑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4"/>
          <p:cNvSpPr/>
          <p:nvPr/>
        </p:nvSpPr>
        <p:spPr>
          <a:xfrm>
            <a:off x="3529080" y="599616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  <a:ea typeface="华文细黑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A5B5-A0D1-4177-90DF-FF4C222A0B7C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1332000" y="1413000"/>
            <a:ext cx="6121440" cy="142848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4DF2-4489-4587-B179-CEEB8536D7E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C5AB-743D-484B-BB45-FCCD9AAA3E3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24840 h 299880"/>
              <a:gd name="textAreaBottom" fmla="*/ 2750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12600 h 150840"/>
              <a:gd name="textAreaBottom" fmla="*/ 13860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359" name="WordArt 24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3E84-03E1-48B4-BF97-8AC9713BFA10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18900000"/>
              </a:gradFill>
              <a:latin typeface="黑体"/>
              <a:ea typeface="黑体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363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6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365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8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未知"/>
            <p:cNvSpPr/>
            <p:nvPr/>
          </p:nvSpPr>
          <p:spPr>
            <a:xfrm>
              <a:off x="5603760" y="1917720"/>
              <a:ext cx="1501560" cy="151236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838840" y="2331000"/>
              <a:ext cx="213120" cy="5083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6099840" y="2321280"/>
              <a:ext cx="297720" cy="52920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432840" y="2321280"/>
              <a:ext cx="419760" cy="52920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5669280" y="2799000"/>
              <a:ext cx="1436040" cy="63108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4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373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6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375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Text Box 18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2583000" y="1917720"/>
              <a:ext cx="1501200" cy="151236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04800" y="2321280"/>
              <a:ext cx="419040" cy="5292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48520" y="2799000"/>
              <a:ext cx="1435680" cy="63108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920320" y="2343960"/>
              <a:ext cx="312120" cy="5324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2440"/>
                <a:gd name="textAreaBottom" fmla="*/ 532440 h 53244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3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382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25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384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27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未知"/>
            <p:cNvSpPr/>
            <p:nvPr/>
          </p:nvSpPr>
          <p:spPr>
            <a:xfrm>
              <a:off x="1217520" y="3882960"/>
              <a:ext cx="1501560" cy="151272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452600" y="4295160"/>
              <a:ext cx="213120" cy="5104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046600" y="4287240"/>
              <a:ext cx="419760" cy="52848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283040" y="4763880"/>
              <a:ext cx="1436040" cy="63180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1713600" y="4295160"/>
              <a:ext cx="312120" cy="5331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33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392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5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394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Text Box 37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未知"/>
            <p:cNvSpPr/>
            <p:nvPr/>
          </p:nvSpPr>
          <p:spPr>
            <a:xfrm>
              <a:off x="4179960" y="3882960"/>
              <a:ext cx="1501200" cy="151272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074560" y="4287240"/>
              <a:ext cx="417600" cy="5284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45480" y="4763880"/>
              <a:ext cx="1435680" cy="63180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41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400" name="未知"/>
              <p:cNvSpPr/>
              <p:nvPr/>
            </p:nvSpPr>
            <p:spPr>
              <a:xfrm>
                <a:off x="4395960" y="4291920"/>
                <a:ext cx="291600" cy="52344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725360" y="4298400"/>
                <a:ext cx="304560" cy="52344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4" descr=""/>
          <p:cNvPicPr/>
          <p:nvPr/>
        </p:nvPicPr>
        <p:blipFill>
          <a:blip r:embed="rId5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A5A6-3E4B-4A2E-9916-695F04456CE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414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5"/>
          <p:cNvSpPr/>
          <p:nvPr/>
        </p:nvSpPr>
        <p:spPr>
          <a:xfrm rot="10800000">
            <a:off x="1041480" y="5017320"/>
            <a:ext cx="6842160" cy="384120"/>
          </a:xfrm>
          <a:custGeom>
            <a:avLst/>
            <a:gdLst>
              <a:gd name="textAreaLeft" fmla="*/ 569880 w 6842160"/>
              <a:gd name="textAreaRight" fmla="*/ 6272280 w 6842160"/>
              <a:gd name="textAreaTop" fmla="*/ 32040 h 384120"/>
              <a:gd name="textAreaBottom" fmla="*/ 3524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6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>
              <a:gd name="textAreaLeft" fmla="*/ 145440 w 1344600"/>
              <a:gd name="textAreaRight" fmla="*/ 1199160 w 13446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>
              <a:gd name="textAreaLeft" fmla="*/ 184680 w 1341360"/>
              <a:gd name="textAreaRight" fmla="*/ 1156680 w 134136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>
              <a:gd name="textAreaLeft" fmla="*/ 184680 w 1341720"/>
              <a:gd name="textAreaRight" fmla="*/ 1157040 w 134172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2"/>
          <p:cNvCxnSpPr>
            <a:stCxn id="429" idx="0"/>
            <a:endCxn id="430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431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7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>
              <a:gd name="textAreaLeft" fmla="*/ 308160 w 2238120"/>
              <a:gd name="textAreaRight" fmla="*/ 1929960 w 2238120"/>
              <a:gd name="textAreaTop" fmla="*/ 17640 h 128880"/>
              <a:gd name="textAreaBottom" fmla="*/ 111240 h 1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8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9" descr="310"/>
          <p:cNvPicPr/>
          <p:nvPr/>
        </p:nvPicPr>
        <p:blipFill>
          <a:blip r:embed="rId1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30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>
              <a:gd name="textAreaLeft" fmla="*/ 191880 w 2304720"/>
              <a:gd name="textAreaRight" fmla="*/ 2112840 w 230472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WordArt 3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>
              <a:gd name="textAreaLeft" fmla="*/ 0 w 1474920"/>
              <a:gd name="textAreaRight" fmla="*/ 1475280 w 147492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>
              <a:gd name="textAreaLeft" fmla="*/ 0 w 1698840"/>
              <a:gd name="textAreaRight" fmla="*/ 1699200 w 1698840"/>
              <a:gd name="textAreaTop" fmla="*/ 0 h 1694160"/>
              <a:gd name="textAreaBottom" fmla="*/ 1694520 h 169416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>
              <a:gd name="textAreaLeft" fmla="*/ 0 w 1474560"/>
              <a:gd name="textAreaRight" fmla="*/ 1474920 w 147456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1695240"/>
              <a:gd name="textAreaBottom" fmla="*/ 1695600 h 169524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>
              <a:gd name="textAreaLeft" fmla="*/ 0 w 1338120"/>
              <a:gd name="textAreaRight" fmla="*/ 1338480 w 1338120"/>
              <a:gd name="textAreaTop" fmla="*/ 0 h 1335240"/>
              <a:gd name="textAreaBottom" fmla="*/ 1335240 h 133524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1332000"/>
              <a:gd name="textAreaBottom" fmla="*/ 1332360 h 133200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334880"/>
              <a:gd name="textAreaBottom" fmla="*/ 1335240 h 133488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462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8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465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21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468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4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471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27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474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30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477" name="AutoShape 31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2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3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4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85" name="Group 39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86" name="Group 40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87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未知"/>
            <p:cNvSpPr/>
            <p:nvPr/>
          </p:nvSpPr>
          <p:spPr>
            <a:xfrm rot="16200000">
              <a:off x="3859200" y="305568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 rot="5400000">
              <a:off x="4196880" y="205884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92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3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WordArt 51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9504-0429-4EE0-AD6A-BA5397F72C6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22"/>
          <p:cNvCxnSpPr>
            <a:stCxn id="506" idx="1"/>
            <a:endCxn id="50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0" name="AutoShape 23"/>
          <p:cNvCxnSpPr>
            <a:stCxn id="50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1" name="AutoShape 24"/>
          <p:cNvCxnSpPr>
            <a:stCxn id="506" idx="2"/>
            <a:endCxn id="50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2" name="AutoShape 25"/>
          <p:cNvCxnSpPr>
            <a:stCxn id="510" idx="2"/>
            <a:endCxn id="51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3" name="AutoShape 26"/>
          <p:cNvCxnSpPr>
            <a:stCxn id="514" idx="2"/>
            <a:endCxn id="51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524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29"/>
          <p:cNvCxnSpPr/>
          <p:nvPr/>
        </p:nvCxnSpPr>
        <p:spPr>
          <a:xfrm>
            <a:off x="6402240" y="385776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7" name="AutoShape 30"/>
          <p:cNvCxnSpPr/>
          <p:nvPr/>
        </p:nvCxnSpPr>
        <p:spPr>
          <a:xfrm flipH="1" flipV="1">
            <a:off x="6401880" y="4828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a50021"/>
            </a:solidFill>
            <a:miter/>
          </a:ln>
        </p:spPr>
      </p:cxnSp>
      <p:sp>
        <p:nvSpPr>
          <p:cNvPr id="528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WordArt 3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64A0-B17A-46CC-8EAC-2E96645A396C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C8F7-E64C-45C9-846F-D0368C9A2E0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>
              <a:gd name="textAreaLeft" fmla="*/ 301320 w 1852560"/>
              <a:gd name="textAreaRight" fmla="*/ 1551240 w 1852560"/>
              <a:gd name="textAreaTop" fmla="*/ 74160 h 455760"/>
              <a:gd name="textAreaBottom" fmla="*/ 38160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>
              <a:gd name="textAreaLeft" fmla="*/ 461880 w 2840040"/>
              <a:gd name="textAreaRight" fmla="*/ 2378160 w 2840040"/>
              <a:gd name="textAreaTop" fmla="*/ 114120 h 703080"/>
              <a:gd name="textAreaBottom" fmla="*/ 588960 h 70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>
              <a:gd name="textAreaLeft" fmla="*/ 710280 w 4367160"/>
              <a:gd name="textAreaRight" fmla="*/ 3656880 w 4367160"/>
              <a:gd name="textAreaTop" fmla="*/ 175320 h 1079280"/>
              <a:gd name="textAreaBottom" fmla="*/ 90396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903240" y="5348160"/>
            <a:ext cx="4351320" cy="457200"/>
          </a:xfrm>
          <a:custGeom>
            <a:avLst/>
            <a:gdLst>
              <a:gd name="textAreaLeft" fmla="*/ 906480 w 4351320"/>
              <a:gd name="textAreaRight" fmla="*/ 3444840 w 435132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>
              <a:gd name="textAreaLeft" fmla="*/ 627480 w 3013200"/>
              <a:gd name="textAreaRight" fmla="*/ 2385720 w 301320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>
              <a:gd name="textAreaLeft" fmla="*/ 591480 w 2840040"/>
              <a:gd name="textAreaRight" fmla="*/ 2248560 w 2840040"/>
              <a:gd name="textAreaTop" fmla="*/ 37440 h 179640"/>
              <a:gd name="textAreaBottom" fmla="*/ 1422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28440 h 136440"/>
              <a:gd name="textAreaBottom" fmla="*/ 1080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52200 h 250920"/>
              <a:gd name="textAreaBottom" fmla="*/ 198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2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>
              <a:gd name="textAreaLeft" fmla="*/ 231840 w 1112760"/>
              <a:gd name="textAreaRight" fmla="*/ 880920 w 1112760"/>
              <a:gd name="textAreaTop" fmla="*/ 26280 h 127080"/>
              <a:gd name="textAreaBottom" fmla="*/ 100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ED7B-9BFB-40C5-8DE9-1BA597F17770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7" name="Group 5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8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3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56" name="Group 14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57" name="Picture 1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6" descr="Picture2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2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65" name="Group 23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66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1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74" name="Group 32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75" name="Picture 3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960"/>
              <a:gd name="textAreaBottom" fmla="*/ 159120 h 1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38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72EC-5D09-4773-9328-0F202AA35B8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B398-E03D-4F17-A618-C357E4C18CB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3"/>
          <p:cNvSpPr/>
          <p:nvPr/>
        </p:nvSpPr>
        <p:spPr>
          <a:xfrm flipV="1" rot="16200000">
            <a:off x="4152960" y="3585240"/>
            <a:ext cx="252432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"/>
          <p:cNvSpPr/>
          <p:nvPr/>
        </p:nvSpPr>
        <p:spPr>
          <a:xfrm flipH="1">
            <a:off x="1547640" y="1341360"/>
            <a:ext cx="6120000" cy="3770280"/>
          </a:xfrm>
          <a:custGeom>
            <a:avLst/>
            <a:gdLst>
              <a:gd name="textAreaLeft" fmla="*/ 360 w 6120000"/>
              <a:gd name="textAreaRight" fmla="*/ 6120720 w 6120000"/>
              <a:gd name="textAreaTop" fmla="*/ 0 h 3770280"/>
              <a:gd name="textAreaBottom" fmla="*/ 3770640 h 377028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929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937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45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495360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3288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WordArt 17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7036-FB35-4A4F-BECA-3EC95A908733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>
              <a:gd name="textAreaLeft" fmla="*/ 544680 w 6537240"/>
              <a:gd name="textAreaRight" fmla="*/ 5992560 w 6537240"/>
              <a:gd name="textAreaTop" fmla="*/ 13680 h 166680"/>
              <a:gd name="textAreaBottom" fmla="*/ 153000 h 1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639" name="Picture 13" descr="Picture2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Picture2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Picture2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642" name="WordArt 16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A567-FFCA-450E-9CD4-885C6C29262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4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646" name="Group 5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647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Group 9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651" name="Group 10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652" name="Picture 1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Picture 12" descr="Picture2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14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656" name="Group 15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657" name="Picture 1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17" descr="Picture2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20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3" name="WordArt 21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4" name="WordArt 22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5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WordArt 26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C023-8F5C-4786-9B7D-47CD31C2CDE3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6"/>
          <p:cNvSpPr/>
          <p:nvPr/>
        </p:nvSpPr>
        <p:spPr>
          <a:xfrm rot="308400">
            <a:off x="2340000" y="2205000"/>
            <a:ext cx="1590480" cy="1701720"/>
          </a:xfrm>
          <a:custGeom>
            <a:avLst/>
            <a:gdLst>
              <a:gd name="textAreaLeft" fmla="*/ 232920 w 1590480"/>
              <a:gd name="textAreaRight" fmla="*/ 1357560 w 159048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7527600">
            <a:off x="1666080" y="3626640"/>
            <a:ext cx="1589040" cy="170208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120 h 1702080"/>
              <a:gd name="textAreaBottom" fmla="*/ 1452960 h 170208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rot="15216000">
            <a:off x="736200" y="2395080"/>
            <a:ext cx="1589040" cy="170352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480 h 1703520"/>
              <a:gd name="textAreaBottom" fmla="*/ 1454040 h 17035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6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674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9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677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2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680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15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683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19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687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3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691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WordArt 29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1D2E-3193-4BE0-AF46-988BD3166FF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4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2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709" name="Group 13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710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>
                <a:gd name="textAreaLeft" fmla="*/ 0 w 681120"/>
                <a:gd name="textAreaRight" fmla="*/ 681120 w 68112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>
                <a:gd name="textAreaLeft" fmla="*/ 0 w 681480"/>
                <a:gd name="textAreaRight" fmla="*/ 681840 w 68148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7474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WordArt 30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F304-C95D-4957-B831-944FDD1976A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未知"/>
          <p:cNvSpPr/>
          <p:nvPr/>
        </p:nvSpPr>
        <p:spPr>
          <a:xfrm>
            <a:off x="2494080" y="-3821040"/>
            <a:ext cx="4103640" cy="1372860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13728600"/>
              <a:gd name="textAreaBottom" fmla="*/ 13728960 h 13728600"/>
            </a:gdLst>
            <a:ahLst/>
            <a:rect l="textAreaLeft" t="textAreaTop" r="textAreaRight" b="textAreaBottom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>
              <a:gd name="textAreaLeft" fmla="*/ 263160 w 3157560"/>
              <a:gd name="textAreaRight" fmla="*/ 2894760 w 315756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>
              <a:gd name="textAreaLeft" fmla="*/ 268920 w 3230640"/>
              <a:gd name="textAreaRight" fmla="*/ 2961720 w 323064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WordArt 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6E0F-DA60-4EC7-8974-220867DDF7B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14"/>
          <p:cNvSpPr/>
          <p:nvPr/>
        </p:nvSpPr>
        <p:spPr>
          <a:xfrm rot="692400">
            <a:off x="4107960" y="2394000"/>
            <a:ext cx="1239840" cy="963720"/>
          </a:xfrm>
          <a:custGeom>
            <a:avLst/>
            <a:gdLst>
              <a:gd name="textAreaLeft" fmla="*/ 0 w 1239840"/>
              <a:gd name="textAreaRight" fmla="*/ 1240200 w 12398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lnTo>
                  <a:pt x="-1" y="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49"/>
          <p:cNvSpPr/>
          <p:nvPr/>
        </p:nvSpPr>
        <p:spPr>
          <a:xfrm rot="692400">
            <a:off x="4675320" y="2687760"/>
            <a:ext cx="1749240" cy="83808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lnTo>
                  <a:pt x="1069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50"/>
          <p:cNvSpPr/>
          <p:nvPr/>
        </p:nvSpPr>
        <p:spPr>
          <a:xfrm rot="692400">
            <a:off x="4536720" y="3499920"/>
            <a:ext cx="2089080" cy="5889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lnTo>
                  <a:pt x="2157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1"/>
          <p:cNvSpPr/>
          <p:nvPr/>
        </p:nvSpPr>
        <p:spPr>
          <a:xfrm rot="692400">
            <a:off x="4501800" y="3435120"/>
            <a:ext cx="1174680" cy="94140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lnTo>
                  <a:pt x="12126" y="1787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52"/>
          <p:cNvSpPr/>
          <p:nvPr/>
        </p:nvSpPr>
        <p:spPr>
          <a:xfrm rot="692400">
            <a:off x="3188880" y="3170160"/>
            <a:ext cx="1349280" cy="90504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lnTo>
                  <a:pt x="6734" y="2036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3"/>
          <p:cNvSpPr/>
          <p:nvPr/>
        </p:nvSpPr>
        <p:spPr>
          <a:xfrm rot="692400">
            <a:off x="2473200" y="2989440"/>
            <a:ext cx="2092320" cy="542880"/>
          </a:xfrm>
          <a:custGeom>
            <a:avLst/>
            <a:gdLst>
              <a:gd name="textAreaLeft" fmla="*/ 0 w 2092320"/>
              <a:gd name="textAreaRight" fmla="*/ 2092320 w 20923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lnTo>
                  <a:pt x="2336" y="1219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54"/>
          <p:cNvSpPr/>
          <p:nvPr/>
        </p:nvSpPr>
        <p:spPr>
          <a:xfrm rot="692400">
            <a:off x="3059280" y="2342880"/>
            <a:ext cx="1622160" cy="81108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lnTo>
                  <a:pt x="-1" y="457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0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746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4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750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8"/>
          <p:cNvGrpSpPr/>
          <p:nvPr/>
        </p:nvGrpSpPr>
        <p:grpSpPr>
          <a:xfrm>
            <a:off x="2556000" y="3143160"/>
            <a:ext cx="745560" cy="759240"/>
            <a:chOff x="2556000" y="3143160"/>
            <a:chExt cx="745560" cy="759240"/>
          </a:xfrm>
        </p:grpSpPr>
        <p:pic>
          <p:nvPicPr>
            <p:cNvPr id="754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Group 20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756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14"/>
            <p:cNvSpPr/>
            <p:nvPr/>
          </p:nvSpPr>
          <p:spPr>
            <a:xfrm>
              <a:off x="2634480" y="3159360"/>
              <a:ext cx="580680" cy="2502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24"/>
            <p:cNvGrpSpPr/>
            <p:nvPr/>
          </p:nvGrpSpPr>
          <p:grpSpPr>
            <a:xfrm>
              <a:off x="2610720" y="3643200"/>
              <a:ext cx="651960" cy="259200"/>
              <a:chOff x="2610720" y="3643200"/>
              <a:chExt cx="651960" cy="259200"/>
            </a:xfrm>
          </p:grpSpPr>
          <p:grpSp>
            <p:nvGrpSpPr>
              <p:cNvPr id="760" name="Group 25"/>
              <p:cNvGrpSpPr/>
              <p:nvPr/>
            </p:nvGrpSpPr>
            <p:grpSpPr>
              <a:xfrm>
                <a:off x="2724120" y="3643200"/>
                <a:ext cx="538560" cy="243720"/>
                <a:chOff x="2724120" y="3643200"/>
                <a:chExt cx="538560" cy="243720"/>
              </a:xfrm>
            </p:grpSpPr>
            <p:sp>
              <p:nvSpPr>
                <p:cNvPr id="761" name="AutoShape 17"/>
                <p:cNvSpPr/>
                <p:nvPr/>
              </p:nvSpPr>
              <p:spPr>
                <a:xfrm flipH="1" flipV="1" rot="3964800">
                  <a:off x="3017520" y="3568680"/>
                  <a:ext cx="9360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8"/>
                <p:cNvSpPr/>
                <p:nvPr/>
              </p:nvSpPr>
              <p:spPr>
                <a:xfrm flipH="1" flipV="1" rot="4780200">
                  <a:off x="2957040" y="3592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9"/>
                <p:cNvSpPr/>
                <p:nvPr/>
              </p:nvSpPr>
              <p:spPr>
                <a:xfrm flipH="1" flipV="1" rot="5076000">
                  <a:off x="2919600" y="359784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20"/>
                <p:cNvSpPr/>
                <p:nvPr/>
              </p:nvSpPr>
              <p:spPr>
                <a:xfrm flipH="1" flipV="1" rot="5608200">
                  <a:off x="2875680" y="360216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30"/>
              <p:cNvGrpSpPr/>
              <p:nvPr/>
            </p:nvGrpSpPr>
            <p:grpSpPr>
              <a:xfrm>
                <a:off x="2610720" y="3646800"/>
                <a:ext cx="537840" cy="255600"/>
                <a:chOff x="2610720" y="3646800"/>
                <a:chExt cx="537840" cy="255600"/>
              </a:xfrm>
            </p:grpSpPr>
            <p:sp>
              <p:nvSpPr>
                <p:cNvPr id="766" name="AutoShape 22"/>
                <p:cNvSpPr/>
                <p:nvPr/>
              </p:nvSpPr>
              <p:spPr>
                <a:xfrm flipH="1" flipV="1" rot="5317800">
                  <a:off x="2904480" y="3602880"/>
                  <a:ext cx="9396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flipH="1" flipV="1" rot="6133800">
                  <a:off x="2839680" y="360036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flipH="1" flipV="1" rot="6429000">
                  <a:off x="2802960" y="35917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H="1" flipV="1" rot="6961200">
                  <a:off x="2760480" y="357840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0" name="Group 35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771" name="Picture 12" descr="circuler_1"/>
            <p:cNvPicPr/>
            <p:nvPr/>
          </p:nvPicPr>
          <p:blipFill>
            <a:blip r:embed="rId3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Group 37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773" name="Oval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Freeform 14"/>
            <p:cNvSpPr/>
            <p:nvPr/>
          </p:nvSpPr>
          <p:spPr>
            <a:xfrm>
              <a:off x="3696840" y="2001600"/>
              <a:ext cx="457200" cy="197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41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777" name="Group 42"/>
              <p:cNvGrpSpPr/>
              <p:nvPr/>
            </p:nvGrpSpPr>
            <p:grpSpPr>
              <a:xfrm>
                <a:off x="3767400" y="2382480"/>
                <a:ext cx="424440" cy="192960"/>
                <a:chOff x="3767400" y="2382480"/>
                <a:chExt cx="424440" cy="192960"/>
              </a:xfrm>
            </p:grpSpPr>
            <p:sp>
              <p:nvSpPr>
                <p:cNvPr id="778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19"/>
                <p:cNvSpPr/>
                <p:nvPr/>
              </p:nvSpPr>
              <p:spPr>
                <a:xfrm flipH="1" flipV="1" rot="5076000">
                  <a:off x="3922200" y="2347200"/>
                  <a:ext cx="7344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20"/>
                <p:cNvSpPr/>
                <p:nvPr/>
              </p:nvSpPr>
              <p:spPr>
                <a:xfrm flipH="1" flipV="1" rot="5608200">
                  <a:off x="388728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47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783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4"/>
                <p:cNvSpPr/>
                <p:nvPr/>
              </p:nvSpPr>
              <p:spPr>
                <a:xfrm flipH="1" flipV="1" rot="6429000">
                  <a:off x="3830040" y="234216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7" name="Group 52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788" name="Picture 12" descr="circuler_1"/>
            <p:cNvPicPr/>
            <p:nvPr/>
          </p:nvPicPr>
          <p:blipFill>
            <a:blip r:embed="rId5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Group 54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790" name="Oval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Freeform 14"/>
            <p:cNvSpPr/>
            <p:nvPr/>
          </p:nvSpPr>
          <p:spPr>
            <a:xfrm>
              <a:off x="5462640" y="2428920"/>
              <a:ext cx="352080" cy="15156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51560"/>
                <a:gd name="textAreaBottom" fmla="*/ 151560 h 1515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58"/>
            <p:cNvGrpSpPr/>
            <p:nvPr/>
          </p:nvGrpSpPr>
          <p:grpSpPr>
            <a:xfrm>
              <a:off x="5448240" y="2721600"/>
              <a:ext cx="394920" cy="158040"/>
              <a:chOff x="5448240" y="2721600"/>
              <a:chExt cx="394920" cy="158040"/>
            </a:xfrm>
          </p:grpSpPr>
          <p:grpSp>
            <p:nvGrpSpPr>
              <p:cNvPr id="794" name="Group 59"/>
              <p:cNvGrpSpPr/>
              <p:nvPr/>
            </p:nvGrpSpPr>
            <p:grpSpPr>
              <a:xfrm>
                <a:off x="5516640" y="2721600"/>
                <a:ext cx="326520" cy="148320"/>
                <a:chOff x="5516640" y="2721600"/>
                <a:chExt cx="326520" cy="148320"/>
              </a:xfrm>
            </p:grpSpPr>
            <p:sp>
              <p:nvSpPr>
                <p:cNvPr id="795" name="AutoShape 17"/>
                <p:cNvSpPr/>
                <p:nvPr/>
              </p:nvSpPr>
              <p:spPr>
                <a:xfrm flipH="1" flipV="1" rot="3964800">
                  <a:off x="5694120" y="26769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18"/>
                <p:cNvSpPr/>
                <p:nvPr/>
              </p:nvSpPr>
              <p:spPr>
                <a:xfrm flipH="1" flipV="1" rot="4780200">
                  <a:off x="5657760" y="26917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20"/>
                <p:cNvSpPr/>
                <p:nvPr/>
              </p:nvSpPr>
              <p:spPr>
                <a:xfrm flipH="1" flipV="1" rot="5608200">
                  <a:off x="5608440" y="2697480"/>
                  <a:ext cx="5652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oup 64"/>
              <p:cNvGrpSpPr/>
              <p:nvPr/>
            </p:nvGrpSpPr>
            <p:grpSpPr>
              <a:xfrm>
                <a:off x="5448240" y="2724480"/>
                <a:ext cx="325800" cy="155160"/>
                <a:chOff x="5448240" y="2724480"/>
                <a:chExt cx="325800" cy="155160"/>
              </a:xfrm>
            </p:grpSpPr>
            <p:sp>
              <p:nvSpPr>
                <p:cNvPr id="800" name="AutoShape 22"/>
                <p:cNvSpPr/>
                <p:nvPr/>
              </p:nvSpPr>
              <p:spPr>
                <a:xfrm flipH="1" flipV="1" rot="5317800">
                  <a:off x="5626080" y="269712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23"/>
                <p:cNvSpPr/>
                <p:nvPr/>
              </p:nvSpPr>
              <p:spPr>
                <a:xfrm flipH="1" flipV="1" rot="6133800">
                  <a:off x="5587200" y="269676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4"/>
                <p:cNvSpPr/>
                <p:nvPr/>
              </p:nvSpPr>
              <p:spPr>
                <a:xfrm flipH="1" flipV="1" rot="6429000">
                  <a:off x="5564160" y="269136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25"/>
                <p:cNvSpPr/>
                <p:nvPr/>
              </p:nvSpPr>
              <p:spPr>
                <a:xfrm flipH="1" flipV="1" rot="6961200">
                  <a:off x="553932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4" name="Group 69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805" name="Picture 12" descr="circuler_1"/>
            <p:cNvPicPr/>
            <p:nvPr/>
          </p:nvPicPr>
          <p:blipFill>
            <a:blip r:embed="rId7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6" name="Group 71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807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14"/>
            <p:cNvSpPr/>
            <p:nvPr/>
          </p:nvSpPr>
          <p:spPr>
            <a:xfrm>
              <a:off x="5640480" y="4017600"/>
              <a:ext cx="448560" cy="19332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Group 75"/>
            <p:cNvGrpSpPr/>
            <p:nvPr/>
          </p:nvGrpSpPr>
          <p:grpSpPr>
            <a:xfrm>
              <a:off x="5621400" y="4390920"/>
              <a:ext cx="504720" cy="200520"/>
              <a:chOff x="5621400" y="4390920"/>
              <a:chExt cx="504720" cy="200520"/>
            </a:xfrm>
          </p:grpSpPr>
          <p:grpSp>
            <p:nvGrpSpPr>
              <p:cNvPr id="811" name="Group 76"/>
              <p:cNvGrpSpPr/>
              <p:nvPr/>
            </p:nvGrpSpPr>
            <p:grpSpPr>
              <a:xfrm>
                <a:off x="5709960" y="4390920"/>
                <a:ext cx="416160" cy="188280"/>
                <a:chOff x="5709960" y="4390920"/>
                <a:chExt cx="416160" cy="188280"/>
              </a:xfrm>
            </p:grpSpPr>
            <p:sp>
              <p:nvSpPr>
                <p:cNvPr id="812" name="AutoShape 17"/>
                <p:cNvSpPr/>
                <p:nvPr/>
              </p:nvSpPr>
              <p:spPr>
                <a:xfrm flipH="1" flipV="1" rot="3964800">
                  <a:off x="5936760" y="433332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8"/>
                <p:cNvSpPr/>
                <p:nvPr/>
              </p:nvSpPr>
              <p:spPr>
                <a:xfrm flipH="1" flipV="1" rot="4780200">
                  <a:off x="589032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9"/>
                <p:cNvSpPr/>
                <p:nvPr/>
              </p:nvSpPr>
              <p:spPr>
                <a:xfrm flipH="1" flipV="1" rot="5076000">
                  <a:off x="5861520" y="435528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20"/>
                <p:cNvSpPr/>
                <p:nvPr/>
              </p:nvSpPr>
              <p:spPr>
                <a:xfrm flipH="1" flipV="1" rot="5608200">
                  <a:off x="5826960" y="43588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Group 81"/>
              <p:cNvGrpSpPr/>
              <p:nvPr/>
            </p:nvGrpSpPr>
            <p:grpSpPr>
              <a:xfrm>
                <a:off x="5621400" y="4393440"/>
                <a:ext cx="416160" cy="198000"/>
                <a:chOff x="5621400" y="4393440"/>
                <a:chExt cx="416160" cy="198000"/>
              </a:xfrm>
            </p:grpSpPr>
            <p:sp>
              <p:nvSpPr>
                <p:cNvPr id="817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23"/>
                <p:cNvSpPr/>
                <p:nvPr/>
              </p:nvSpPr>
              <p:spPr>
                <a:xfrm flipH="1" flipV="1" rot="6133800">
                  <a:off x="5798520" y="435924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24"/>
                <p:cNvSpPr/>
                <p:nvPr/>
              </p:nvSpPr>
              <p:spPr>
                <a:xfrm flipH="1" flipV="1" rot="6429000">
                  <a:off x="5770800" y="435060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25"/>
                <p:cNvSpPr/>
                <p:nvPr/>
              </p:nvSpPr>
              <p:spPr>
                <a:xfrm flipH="1" flipV="1" rot="6961200">
                  <a:off x="573732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1" name="Group 86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822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93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AF9D-81CA-477E-B01E-AC34F9FBE48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C4FC-7E0C-476F-964A-60D6AA6DD59C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DA87-5D1A-4FC8-BE7A-2BAECC590EA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8800 h 268560"/>
              <a:gd name="textAreaBottom" fmla="*/ 239760 h 26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CE20-9CC9-4E94-9FB8-97002B2A655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107" name="Group 4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10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6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13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48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152" name="Group 49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15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54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15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5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169" name="Group 66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170" name="Oval 6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Text Box 68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9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173" name="Arc 67"/>
              <p:cNvSpPr/>
              <p:nvPr/>
            </p:nvSpPr>
            <p:spPr>
              <a:xfrm>
                <a:off x="2408040" y="2424240"/>
                <a:ext cx="4302000" cy="1842840"/>
              </a:xfrm>
              <a:custGeom>
                <a:avLst/>
                <a:gdLst>
                  <a:gd name="textAreaLeft" fmla="*/ 0 w 4302000"/>
                  <a:gd name="textAreaRight" fmla="*/ 4302360 w 4302000"/>
                  <a:gd name="textAreaTop" fmla="*/ 0 h 1842840"/>
                  <a:gd name="textAreaBottom" fmla="*/ 1843200 h 18428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68"/>
              <p:cNvSpPr/>
              <p:nvPr/>
            </p:nvSpPr>
            <p:spPr>
              <a:xfrm>
                <a:off x="3048480" y="2096640"/>
                <a:ext cx="1635480" cy="1084680"/>
              </a:xfrm>
              <a:custGeom>
                <a:avLst/>
                <a:gdLst>
                  <a:gd name="textAreaLeft" fmla="*/ 0 w 1635480"/>
                  <a:gd name="textAreaRight" fmla="*/ 1635840 w 163548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69"/>
              <p:cNvSpPr/>
              <p:nvPr/>
            </p:nvSpPr>
            <p:spPr>
              <a:xfrm>
                <a:off x="4633560" y="2096640"/>
                <a:ext cx="1623240" cy="1084680"/>
              </a:xfrm>
              <a:custGeom>
                <a:avLst/>
                <a:gdLst>
                  <a:gd name="textAreaLeft" fmla="*/ 0 w 1623240"/>
                  <a:gd name="textAreaRight" fmla="*/ 1623600 w 162324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70"/>
              <p:cNvSpPr/>
              <p:nvPr/>
            </p:nvSpPr>
            <p:spPr>
              <a:xfrm>
                <a:off x="4636440" y="2391480"/>
                <a:ext cx="2227320" cy="1191240"/>
              </a:xfrm>
              <a:custGeom>
                <a:avLst/>
                <a:gdLst>
                  <a:gd name="textAreaLeft" fmla="*/ 0 w 2227320"/>
                  <a:gd name="textAreaRight" fmla="*/ 2227680 w 2227320"/>
                  <a:gd name="textAreaTop" fmla="*/ 0 h 1191240"/>
                  <a:gd name="textAreaBottom" fmla="*/ 1191240 h 119124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Arc 71"/>
          <p:cNvSpPr/>
          <p:nvPr/>
        </p:nvSpPr>
        <p:spPr>
          <a:xfrm>
            <a:off x="4646520" y="2373480"/>
            <a:ext cx="2230560" cy="1199880"/>
          </a:xfrm>
          <a:custGeom>
            <a:avLst/>
            <a:gdLst>
              <a:gd name="textAreaLeft" fmla="*/ 0 w 2230560"/>
              <a:gd name="textAreaRight" fmla="*/ 2230560 w 223056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>
            <a:off x="2425680" y="242100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82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113C-E0C1-40A8-B8C0-401DBA77DC2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520 h 190440"/>
              <a:gd name="textAreaBottom" fmla="*/ 1699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8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7" name="AutoShape 9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8" name="AutoShape 10"/>
          <p:cNvCxnSpPr>
            <a:endCxn id="19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99" name="Group 12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200" name="Group 13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201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15" descr="Picture2"/>
            <p:cNvPicPr/>
            <p:nvPr/>
          </p:nvPicPr>
          <p:blipFill>
            <a:blip r:embed="rId2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WordArt 16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205" name="WordArt 17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C7C6-7A04-4742-8A6E-7941BEC87AA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708120" y="5381640"/>
            <a:ext cx="2504880" cy="222120"/>
          </a:xfrm>
          <a:custGeom>
            <a:avLst/>
            <a:gdLst>
              <a:gd name="textAreaLeft" fmla="*/ 270720 w 2504880"/>
              <a:gd name="textAreaRight" fmla="*/ 2234160 w 250488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6680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8BC4-D2A4-420F-8298-BC1E22FD3CA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96A5-569B-4EDF-B6DB-2819D53D918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381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 rot="10800000">
            <a:off x="2916000" y="5516640"/>
            <a:ext cx="4824360" cy="318960"/>
          </a:xfrm>
          <a:custGeom>
            <a:avLst/>
            <a:gdLst>
              <a:gd name="textAreaLeft" fmla="*/ 401760 w 4824360"/>
              <a:gd name="textAreaRight" fmla="*/ 4422600 w 482436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5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4CF5-D8AC-4D18-8251-DA39FF2ADBA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253" name="Oval 4" descr=""/>
            <p:cNvPicPr/>
            <p:nvPr/>
          </p:nvPicPr>
          <p:blipFill>
            <a:blip r:embed="rId1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256" name="Oval 5" descr=""/>
            <p:cNvPicPr/>
            <p:nvPr/>
          </p:nvPicPr>
          <p:blipFill>
            <a:blip r:embed="rId2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259" name="Oval 6" descr=""/>
            <p:cNvPicPr/>
            <p:nvPr/>
          </p:nvPicPr>
          <p:blipFill>
            <a:blip r:embed="rId3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262" name="Oval 7" descr=""/>
            <p:cNvPicPr/>
            <p:nvPr/>
          </p:nvPicPr>
          <p:blipFill>
            <a:blip r:embed="rId4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265" name="Group 18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266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未知"/>
            <p:cNvSpPr/>
            <p:nvPr/>
          </p:nvSpPr>
          <p:spPr>
            <a:xfrm rot="16200000">
              <a:off x="116316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5400000">
              <a:off x="131040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3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71" name="Group 24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72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未知"/>
            <p:cNvSpPr/>
            <p:nvPr/>
          </p:nvSpPr>
          <p:spPr>
            <a:xfrm rot="16200000">
              <a:off x="4151880" y="326340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rot="5400000">
              <a:off x="4349520" y="267948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9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77" name="Group 30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78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 rot="16200000">
              <a:off x="735444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 rot="5400000">
              <a:off x="750168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1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2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3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9" descr="6"/>
          <p:cNvPicPr/>
          <p:nvPr/>
        </p:nvPicPr>
        <p:blipFill>
          <a:blip r:embed="rId5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0" descr="图片1"/>
          <p:cNvPicPr/>
          <p:nvPr/>
        </p:nvPicPr>
        <p:blipFill>
          <a:blip r:embed="rId6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41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dministrator</cp:lastModifiedBy>
  <cp:lastPrinted>1899-12-30T00:00:00Z</cp:lastPrinted>
  <dcterms:modified xsi:type="dcterms:W3CDTF">2016-08-22T03:12:02Z</dcterms:modified>
  <cp:revision>2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