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B38-DD01-4F6B-8366-3D0379CB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379-8023-4828-950F-3B03573D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FA3-3930-4495-A994-606C345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B89-1073-483C-9FB3-A5524588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EB45-D975-43BF-910B-C0912BA3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10F7-F215-4484-8600-2E5D61D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2A92-E87C-4A52-A351-5DD748DA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DE15-F7AC-4CE8-9DF9-675865AB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983-7C0D-4E36-8A79-DD93827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211B-23C0-41F7-8C43-AD79E0FE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A3F-F25F-4DB6-A562-AEF74AF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369-0B6E-4B58-9749-8341A1D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1627-EE43-458A-BCAC-E00DC358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BF2A-89A5-4F96-B5A6-FAD62FD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F06-A4AD-455F-8B92-BE306F8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EB37-E6A6-4377-A831-A2A8B4BC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6181-A68F-4A69-80BD-B1100F8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F57-0F23-4DD7-BB56-A900BDB2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BB9-5919-43CB-ADAA-006D21B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26A-22CC-470F-9311-F114FD5F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75B-F7A7-43D1-838E-18863DF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7C6-A243-4EB6-BDAE-6F7082D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903-2230-4D5C-9B45-AB958FD1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F10-E102-4873-A5E3-EF8D866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DFA-8082-4FE0-9947-969B53E6AB1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6116-87DB-4C3B-9971-C92BA25960AD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BD32-C2BA-4BCA-8D5F-EC8F352CFCC3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721-2597-46B8-B00A-8C7409A5AAD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F7C-9603-41D2-B2E8-A8BB5D009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03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乐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lechen.tmal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D03-C2B3-4345-8D12-5932F5A091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1981080" y="2666880"/>
            <a:ext cx="358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出淤泥而不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276720" y="3352680"/>
            <a:ext cx="403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濯清涟而不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2" descr="内页祥云"/>
          <p:cNvPicPr/>
          <p:nvPr/>
        </p:nvPicPr>
        <p:blipFill>
          <a:blip r:embed="rId1"/>
          <a:stretch/>
        </p:blipFill>
        <p:spPr>
          <a:xfrm>
            <a:off x="2590920" y="350532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内页祥云"/>
          <p:cNvPicPr/>
          <p:nvPr/>
        </p:nvPicPr>
        <p:blipFill>
          <a:blip r:embed="rId2"/>
          <a:stretch/>
        </p:blipFill>
        <p:spPr>
          <a:xfrm>
            <a:off x="5372280" y="2259000"/>
            <a:ext cx="8762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98DA-8651-419B-8AB7-E26795863E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黑体"/>
              </a:rPr>
              <a:t>感谢聆听！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E06-B203-421B-8D2F-6663729706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981080" y="2666880"/>
            <a:ext cx="358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出淤泥而不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"/>
          <p:cNvPicPr/>
          <p:nvPr/>
        </p:nvPicPr>
        <p:blipFill>
          <a:blip r:embed="rId2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"/>
          <p:cNvPicPr/>
          <p:nvPr/>
        </p:nvPicPr>
        <p:blipFill>
          <a:blip r:embed="rId3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3"/>
          <p:cNvPicPr/>
          <p:nvPr/>
        </p:nvPicPr>
        <p:blipFill>
          <a:blip r:embed="rId4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4"/>
          <p:cNvPicPr/>
          <p:nvPr/>
        </p:nvPicPr>
        <p:blipFill>
          <a:blip r:embed="rId5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3276720" y="3352680"/>
            <a:ext cx="403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濯清涟而不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内页祥云"/>
          <p:cNvPicPr/>
          <p:nvPr/>
        </p:nvPicPr>
        <p:blipFill>
          <a:blip r:embed="rId6"/>
          <a:stretch/>
        </p:blipFill>
        <p:spPr>
          <a:xfrm>
            <a:off x="2590920" y="350532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内页祥云"/>
          <p:cNvPicPr/>
          <p:nvPr/>
        </p:nvPicPr>
        <p:blipFill>
          <a:blip r:embed="rId7"/>
          <a:stretch/>
        </p:blipFill>
        <p:spPr>
          <a:xfrm>
            <a:off x="5372280" y="2259000"/>
            <a:ext cx="876240" cy="40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未命名-1"/>
          <p:cNvPicPr/>
          <p:nvPr/>
        </p:nvPicPr>
        <p:blipFill>
          <a:blip r:embed="rId8"/>
          <a:stretch/>
        </p:blipFill>
        <p:spPr>
          <a:xfrm>
            <a:off x="2165400" y="457200"/>
            <a:ext cx="349200" cy="2008080"/>
          </a:xfrm>
          <a:prstGeom prst="rect">
            <a:avLst/>
          </a:prstGeom>
          <a:ln w="0">
            <a:noFill/>
          </a:ln>
        </p:spPr>
      </p:pic>
      <p:pic>
        <p:nvPicPr>
          <p:cNvPr id="108" name="出水莲 古筝.mp3" descr=""/>
          <p:cNvPicPr/>
          <p:nvPr/>
        </p:nvPicPr>
        <p:blipFill>
          <a:blip r:embed="rId9"/>
          <a:stretch/>
        </p:blipFill>
        <p:spPr>
          <a:xfrm>
            <a:off x="80010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/>
  <dc:description/>
  <dc:language>en-US</dc:language>
  <cp:lastModifiedBy>User</cp:lastModifiedBy>
  <dcterms:modified xsi:type="dcterms:W3CDTF">2016-07-25T06:01:12Z</dcterms:modified>
  <cp:revision>595</cp:revision>
  <dc:subject/>
  <dc:title> </dc:title>
</cp:coreProperties>
</file>