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C53-C444-4F5F-A2C3-CF253A76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3E2-4377-4935-BFC2-66CC399C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7AA-84AD-4B3B-9D33-1B64DB85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F51-FB21-41B9-926B-51718677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48F-2FDF-4943-9120-CFA07E80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2A3-E4D0-40A1-9AB1-353B1755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DC2-0838-4179-9B48-4C6BDEDC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0CA-ECD4-4BB8-B630-35CC207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C69-A7D8-4A8E-806C-6751B3F6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30A-777F-4D0D-A494-1FFCCAE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63C-642D-4DA5-9ED2-5318A25E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33E-396C-4CE0-83D6-8144446D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480D-E59F-4C71-9719-77148E5087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3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47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6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6320" y="0"/>
            <a:ext cx="9144000" cy="6858000"/>
            <a:chOff x="-76320" y="0"/>
            <a:chExt cx="9144000" cy="6858000"/>
          </a:xfrm>
        </p:grpSpPr>
        <p:pic>
          <p:nvPicPr>
            <p:cNvPr id="4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7" descr="中国风 (1)"/>
          <p:cNvPicPr/>
          <p:nvPr/>
        </p:nvPicPr>
        <p:blipFill>
          <a:blip r:embed="rId8"/>
          <a:stretch/>
        </p:blipFill>
        <p:spPr>
          <a:xfrm>
            <a:off x="-531720" y="3995640"/>
            <a:ext cx="2894040" cy="286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红2"/>
          <p:cNvPicPr/>
          <p:nvPr/>
        </p:nvPicPr>
        <p:blipFill>
          <a:blip r:embed="rId13"/>
          <a:stretch/>
        </p:blipFill>
        <p:spPr>
          <a:xfrm>
            <a:off x="-912960" y="4246560"/>
            <a:ext cx="4532400" cy="26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612 0.102276 C -0.031462 0.082366 0.005868 0.062456 0.059858 0.055746 C 0.113858 0.049036 0.189898 0.063616 0.255168 0.062226 C 0.320278 0.060836 0.385208 0.056666 0.450488 0.047416 C 0.515588 0.038156 0.586949 0.004356 0.647188 0.007136 C 0.707428 0.009916 0.784858 0.054816 0.812289 0.064306 E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栏杆_副本"/>
          <p:cNvPicPr/>
          <p:nvPr/>
        </p:nvPicPr>
        <p:blipFill>
          <a:blip r:embed="rId3"/>
          <a:stretch/>
        </p:blipFill>
        <p:spPr>
          <a:xfrm>
            <a:off x="-227160" y="6173640"/>
            <a:ext cx="9371160" cy="6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85480" y="-258840"/>
            <a:ext cx="15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荷飏客栈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9"/>
          <p:cNvSpPr/>
          <p:nvPr/>
        </p:nvSpPr>
        <p:spPr>
          <a:xfrm>
            <a:off x="2879640" y="-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5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6"/>
          <p:cNvSpPr/>
          <p:nvPr/>
        </p:nvSpPr>
        <p:spPr>
          <a:xfrm>
            <a:off x="4041720" y="8269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8"/>
          <p:cNvSpPr/>
          <p:nvPr/>
        </p:nvSpPr>
        <p:spPr>
          <a:xfrm>
            <a:off x="4041720" y="46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9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1079640" y="161460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그림 28" descr="Untitled-20.png"/>
          <p:cNvPicPr/>
          <p:nvPr/>
        </p:nvPicPr>
        <p:blipFill>
          <a:blip r:embed="rId5"/>
          <a:srcRect l="34947" t="18826" r="28862" b="37884"/>
          <a:stretch/>
        </p:blipFill>
        <p:spPr>
          <a:xfrm>
            <a:off x="304920" y="144792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59"/>
          <p:cNvSpPr/>
          <p:nvPr/>
        </p:nvSpPr>
        <p:spPr>
          <a:xfrm>
            <a:off x="457200" y="762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EPS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宏观环境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1079640" y="5195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그림 28" descr="Untitled-20.png"/>
          <p:cNvPicPr/>
          <p:nvPr/>
        </p:nvPicPr>
        <p:blipFill>
          <a:blip r:embed="rId6"/>
          <a:srcRect l="34947" t="18826" r="28862" b="37884"/>
          <a:stretch/>
        </p:blipFill>
        <p:spPr>
          <a:xfrm>
            <a:off x="304920" y="5029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未知"/>
          <p:cNvSpPr/>
          <p:nvPr/>
        </p:nvSpPr>
        <p:spPr>
          <a:xfrm>
            <a:off x="1079640" y="4052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림 28" descr="Untitled-20.png"/>
          <p:cNvPicPr/>
          <p:nvPr/>
        </p:nvPicPr>
        <p:blipFill>
          <a:blip r:embed="rId7"/>
          <a:srcRect l="34947" t="18826" r="28862" b="37884"/>
          <a:stretch/>
        </p:blipFill>
        <p:spPr>
          <a:xfrm>
            <a:off x="304920" y="3886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4" name="未知"/>
          <p:cNvSpPr/>
          <p:nvPr/>
        </p:nvSpPr>
        <p:spPr>
          <a:xfrm>
            <a:off x="1079640" y="283356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그림 28" descr="Untitled-20.png"/>
          <p:cNvPicPr/>
          <p:nvPr/>
        </p:nvPicPr>
        <p:blipFill>
          <a:blip r:embed="rId8"/>
          <a:srcRect l="34947" t="18826" r="28862" b="37884"/>
          <a:stretch/>
        </p:blipFill>
        <p:spPr>
          <a:xfrm>
            <a:off x="304920" y="266688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69"/>
          <p:cNvSpPr/>
          <p:nvPr/>
        </p:nvSpPr>
        <p:spPr>
          <a:xfrm>
            <a:off x="-1141560" y="1219320"/>
            <a:ext cx="152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70"/>
          <p:cNvSpPr/>
          <p:nvPr/>
        </p:nvSpPr>
        <p:spPr>
          <a:xfrm>
            <a:off x="53352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政治法律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71"/>
          <p:cNvSpPr/>
          <p:nvPr/>
        </p:nvSpPr>
        <p:spPr>
          <a:xfrm>
            <a:off x="609480" y="5410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技术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2"/>
          <p:cNvSpPr/>
          <p:nvPr/>
        </p:nvSpPr>
        <p:spPr>
          <a:xfrm>
            <a:off x="533520" y="4267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社会文化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3"/>
          <p:cNvSpPr/>
          <p:nvPr/>
        </p:nvSpPr>
        <p:spPr>
          <a:xfrm>
            <a:off x="533520" y="3048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经济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5"/>
          <p:cNvSpPr/>
          <p:nvPr/>
        </p:nvSpPr>
        <p:spPr>
          <a:xfrm>
            <a:off x="2438280" y="5486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78" descr="2008518225319305"/>
          <p:cNvPicPr/>
          <p:nvPr/>
        </p:nvPicPr>
        <p:blipFill>
          <a:blip r:embed="rId9"/>
          <a:stretch/>
        </p:blipFill>
        <p:spPr>
          <a:xfrm rot="20163000">
            <a:off x="7772400" y="19047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79" descr="2008518225319305"/>
          <p:cNvPicPr/>
          <p:nvPr/>
        </p:nvPicPr>
        <p:blipFill>
          <a:blip r:embed="rId10"/>
          <a:stretch/>
        </p:blipFill>
        <p:spPr>
          <a:xfrm rot="20163000">
            <a:off x="7696080" y="312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80" descr="2008518225319305"/>
          <p:cNvPicPr/>
          <p:nvPr/>
        </p:nvPicPr>
        <p:blipFill>
          <a:blip r:embed="rId11"/>
          <a:stretch/>
        </p:blipFill>
        <p:spPr>
          <a:xfrm rot="20163000">
            <a:off x="7772400" y="43430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81" descr="2008518225319305"/>
          <p:cNvPicPr/>
          <p:nvPr/>
        </p:nvPicPr>
        <p:blipFill>
          <a:blip r:embed="rId12"/>
          <a:stretch/>
        </p:blipFill>
        <p:spPr>
          <a:xfrm rot="20163000">
            <a:off x="7772400" y="54860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24080" y="1752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1840" y="3048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0" y="42339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5160" y="5343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ppt宝藏_www"/>
          <p:cNvPicPr/>
          <p:nvPr/>
        </p:nvPicPr>
        <p:blipFill>
          <a:blip r:embed="rId5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2008518225319305"/>
          <p:cNvPicPr/>
          <p:nvPr/>
        </p:nvPicPr>
        <p:blipFill>
          <a:blip r:embed="rId6"/>
          <a:stretch/>
        </p:blipFill>
        <p:spPr>
          <a:xfrm>
            <a:off x="58672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2008518225319305"/>
          <p:cNvPicPr/>
          <p:nvPr/>
        </p:nvPicPr>
        <p:blipFill>
          <a:blip r:embed="rId7"/>
          <a:stretch/>
        </p:blipFill>
        <p:spPr>
          <a:xfrm>
            <a:off x="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1" descr="2008518225319305"/>
          <p:cNvPicPr/>
          <p:nvPr/>
        </p:nvPicPr>
        <p:blipFill>
          <a:blip r:embed="rId8"/>
          <a:stretch/>
        </p:blipFill>
        <p:spPr>
          <a:xfrm>
            <a:off x="28954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2008518225319305"/>
          <p:cNvPicPr/>
          <p:nvPr/>
        </p:nvPicPr>
        <p:blipFill>
          <a:blip r:embed="rId9"/>
          <a:stretch/>
        </p:blipFill>
        <p:spPr>
          <a:xfrm>
            <a:off x="1447920" y="9144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5" descr="2008518225319305"/>
          <p:cNvPicPr/>
          <p:nvPr/>
        </p:nvPicPr>
        <p:blipFill>
          <a:blip r:embed="rId10"/>
          <a:stretch/>
        </p:blipFill>
        <p:spPr>
          <a:xfrm>
            <a:off x="4495680" y="990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30240" y="17524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1828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36576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36576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3584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82"/>
          <p:cNvSpPr/>
          <p:nvPr/>
        </p:nvSpPr>
        <p:spPr>
          <a:xfrm rot="20856600">
            <a:off x="1371240" y="1066320"/>
            <a:ext cx="5181480" cy="2017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2048" h="1194">
                <a:moveTo>
                  <a:pt x="0" y="1194"/>
                </a:moveTo>
                <a:lnTo>
                  <a:pt x="0" y="1194"/>
                </a:lnTo>
                <a:lnTo>
                  <a:pt x="50" y="1184"/>
                </a:lnTo>
                <a:lnTo>
                  <a:pt x="108" y="1170"/>
                </a:lnTo>
                <a:lnTo>
                  <a:pt x="186" y="1152"/>
                </a:lnTo>
                <a:lnTo>
                  <a:pt x="282" y="1124"/>
                </a:lnTo>
                <a:lnTo>
                  <a:pt x="394" y="1090"/>
                </a:lnTo>
                <a:lnTo>
                  <a:pt x="520" y="1046"/>
                </a:lnTo>
                <a:lnTo>
                  <a:pt x="588" y="1022"/>
                </a:lnTo>
                <a:lnTo>
                  <a:pt x="658" y="994"/>
                </a:lnTo>
                <a:lnTo>
                  <a:pt x="730" y="964"/>
                </a:lnTo>
                <a:lnTo>
                  <a:pt x="806" y="932"/>
                </a:lnTo>
                <a:lnTo>
                  <a:pt x="882" y="896"/>
                </a:lnTo>
                <a:lnTo>
                  <a:pt x="960" y="858"/>
                </a:lnTo>
                <a:lnTo>
                  <a:pt x="1040" y="818"/>
                </a:lnTo>
                <a:lnTo>
                  <a:pt x="1122" y="774"/>
                </a:lnTo>
                <a:lnTo>
                  <a:pt x="1204" y="728"/>
                </a:lnTo>
                <a:lnTo>
                  <a:pt x="1288" y="678"/>
                </a:lnTo>
                <a:lnTo>
                  <a:pt x="1370" y="624"/>
                </a:lnTo>
                <a:lnTo>
                  <a:pt x="1454" y="568"/>
                </a:lnTo>
                <a:lnTo>
                  <a:pt x="1538" y="510"/>
                </a:lnTo>
                <a:lnTo>
                  <a:pt x="1622" y="446"/>
                </a:lnTo>
                <a:lnTo>
                  <a:pt x="1704" y="380"/>
                </a:lnTo>
                <a:lnTo>
                  <a:pt x="1788" y="310"/>
                </a:lnTo>
                <a:lnTo>
                  <a:pt x="1868" y="236"/>
                </a:lnTo>
                <a:lnTo>
                  <a:pt x="1948" y="158"/>
                </a:lnTo>
                <a:lnTo>
                  <a:pt x="1984" y="206"/>
                </a:lnTo>
                <a:lnTo>
                  <a:pt x="2048" y="0"/>
                </a:lnTo>
                <a:lnTo>
                  <a:pt x="1900" y="112"/>
                </a:lnTo>
                <a:lnTo>
                  <a:pt x="1924" y="136"/>
                </a:lnTo>
                <a:lnTo>
                  <a:pt x="1892" y="170"/>
                </a:lnTo>
                <a:lnTo>
                  <a:pt x="1854" y="208"/>
                </a:lnTo>
                <a:lnTo>
                  <a:pt x="1800" y="258"/>
                </a:lnTo>
                <a:lnTo>
                  <a:pt x="1732" y="320"/>
                </a:lnTo>
                <a:lnTo>
                  <a:pt x="1650" y="388"/>
                </a:lnTo>
                <a:lnTo>
                  <a:pt x="1552" y="464"/>
                </a:lnTo>
                <a:lnTo>
                  <a:pt x="1500" y="502"/>
                </a:lnTo>
                <a:lnTo>
                  <a:pt x="1442" y="542"/>
                </a:lnTo>
                <a:lnTo>
                  <a:pt x="1382" y="582"/>
                </a:lnTo>
                <a:lnTo>
                  <a:pt x="1318" y="624"/>
                </a:lnTo>
                <a:lnTo>
                  <a:pt x="1252" y="664"/>
                </a:lnTo>
                <a:lnTo>
                  <a:pt x="1182" y="706"/>
                </a:lnTo>
                <a:lnTo>
                  <a:pt x="1108" y="746"/>
                </a:lnTo>
                <a:lnTo>
                  <a:pt x="1032" y="786"/>
                </a:lnTo>
                <a:lnTo>
                  <a:pt x="954" y="826"/>
                </a:lnTo>
                <a:lnTo>
                  <a:pt x="870" y="862"/>
                </a:lnTo>
                <a:lnTo>
                  <a:pt x="786" y="900"/>
                </a:lnTo>
                <a:lnTo>
                  <a:pt x="696" y="934"/>
                </a:lnTo>
                <a:lnTo>
                  <a:pt x="606" y="968"/>
                </a:lnTo>
                <a:lnTo>
                  <a:pt x="510" y="998"/>
                </a:lnTo>
                <a:lnTo>
                  <a:pt x="414" y="1028"/>
                </a:lnTo>
                <a:lnTo>
                  <a:pt x="314" y="1054"/>
                </a:lnTo>
                <a:lnTo>
                  <a:pt x="210" y="1076"/>
                </a:lnTo>
                <a:lnTo>
                  <a:pt x="106" y="1096"/>
                </a:lnTo>
                <a:lnTo>
                  <a:pt x="78" y="1126"/>
                </a:lnTo>
                <a:lnTo>
                  <a:pt x="44" y="1158"/>
                </a:lnTo>
                <a:lnTo>
                  <a:pt x="0" y="1194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8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2880" y="3733920"/>
            <a:ext cx="1371240" cy="1600200"/>
            <a:chOff x="1982880" y="3733920"/>
            <a:chExt cx="1371240" cy="1600200"/>
          </a:xfrm>
        </p:grpSpPr>
        <p:sp>
          <p:nvSpPr>
            <p:cNvPr id="221" name="Freeform 7"/>
            <p:cNvSpPr/>
            <p:nvPr/>
          </p:nvSpPr>
          <p:spPr>
            <a:xfrm>
              <a:off x="1982880" y="3800520"/>
              <a:ext cx="1371240" cy="15336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533600"/>
                <a:gd name="textAreaBottom" fmla="*/ 1533960 h 153360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1982880" y="3733920"/>
              <a:ext cx="1371240" cy="1198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019920" y="1371600"/>
            <a:ext cx="1371240" cy="3962160"/>
            <a:chOff x="6019920" y="1371600"/>
            <a:chExt cx="1371240" cy="3962160"/>
          </a:xfrm>
        </p:grpSpPr>
        <p:sp>
          <p:nvSpPr>
            <p:cNvPr id="224" name="Freeform 7"/>
            <p:cNvSpPr/>
            <p:nvPr/>
          </p:nvSpPr>
          <p:spPr>
            <a:xfrm>
              <a:off x="6019920" y="1536480"/>
              <a:ext cx="1371240" cy="37972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3797280"/>
                <a:gd name="textAreaBottom" fmla="*/ 3797640 h 379728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019920" y="1371600"/>
              <a:ext cx="1371240" cy="29736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38480" y="2819520"/>
            <a:ext cx="1371240" cy="2514240"/>
            <a:chOff x="4038480" y="2819520"/>
            <a:chExt cx="1371240" cy="2514240"/>
          </a:xfrm>
        </p:grpSpPr>
        <p:sp>
          <p:nvSpPr>
            <p:cNvPr id="227" name="Freeform 7"/>
            <p:cNvSpPr/>
            <p:nvPr/>
          </p:nvSpPr>
          <p:spPr>
            <a:xfrm>
              <a:off x="4038480" y="2923920"/>
              <a:ext cx="1371240" cy="24098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409840"/>
                <a:gd name="textAreaBottom" fmla="*/ 2410200 h 240984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4038480" y="2819520"/>
              <a:ext cx="1371240" cy="1886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478" descr="ppt宝藏_www"/>
          <p:cNvPicPr/>
          <p:nvPr/>
        </p:nvPicPr>
        <p:blipFill>
          <a:blip r:embed="rId5"/>
          <a:stretch/>
        </p:blipFill>
        <p:spPr>
          <a:xfrm>
            <a:off x="7518240" y="5232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79" descr="ppt宝藏_www"/>
          <p:cNvPicPr/>
          <p:nvPr/>
        </p:nvPicPr>
        <p:blipFill>
          <a:blip r:embed="rId6"/>
          <a:stretch/>
        </p:blipFill>
        <p:spPr>
          <a:xfrm>
            <a:off x="0" y="533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27360" y="4038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7640" y="3352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9080" y="2133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上"/>
          <p:cNvPicPr/>
          <p:nvPr/>
        </p:nvPicPr>
        <p:blipFill>
          <a:blip r:embed="rId5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绿2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本本 (165)"/>
          <p:cNvPicPr/>
          <p:nvPr/>
        </p:nvPicPr>
        <p:blipFill>
          <a:blip r:embed="rId7"/>
          <a:stretch/>
        </p:blipFill>
        <p:spPr>
          <a:xfrm rot="1981200">
            <a:off x="723852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Oval 9"/>
          <p:cNvSpPr/>
          <p:nvPr/>
        </p:nvSpPr>
        <p:spPr>
          <a:xfrm>
            <a:off x="2373480" y="1414440"/>
            <a:ext cx="4090680" cy="40179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51760" y="1305000"/>
            <a:ext cx="2023920" cy="2138040"/>
            <a:chOff x="4451760" y="1305000"/>
            <a:chExt cx="2023920" cy="2138040"/>
          </a:xfrm>
        </p:grpSpPr>
        <p:sp>
          <p:nvSpPr>
            <p:cNvPr id="249" name="AutoShape 17"/>
            <p:cNvSpPr/>
            <p:nvPr/>
          </p:nvSpPr>
          <p:spPr>
            <a:xfrm flipV="1" rot="8983800">
              <a:off x="5604840" y="158148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V="1" rot="8167800">
              <a:off x="5436000" y="131724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V="1" rot="7872600">
              <a:off x="5307120" y="11912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 flipV="1" rot="7340400">
              <a:off x="5148000" y="104580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87640" y="1316520"/>
            <a:ext cx="2470680" cy="1491120"/>
            <a:chOff x="3887640" y="1316520"/>
            <a:chExt cx="2470680" cy="1491120"/>
          </a:xfrm>
        </p:grpSpPr>
        <p:sp>
          <p:nvSpPr>
            <p:cNvPr id="254" name="AutoShape 22"/>
            <p:cNvSpPr/>
            <p:nvPr/>
          </p:nvSpPr>
          <p:spPr>
            <a:xfrm flipV="1" rot="7630200">
              <a:off x="5265360" y="11271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 flipV="1" rot="6814200">
              <a:off x="5007600" y="94752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 flipV="1" rot="6518400">
              <a:off x="4840560" y="88128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5"/>
            <p:cNvSpPr/>
            <p:nvPr/>
          </p:nvSpPr>
          <p:spPr>
            <a:xfrm flipV="1" rot="5986200">
              <a:off x="4637520" y="8085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95720" y="3257280"/>
            <a:ext cx="1885320" cy="2263320"/>
            <a:chOff x="2295720" y="3257280"/>
            <a:chExt cx="1885320" cy="2263320"/>
          </a:xfrm>
        </p:grpSpPr>
        <p:sp>
          <p:nvSpPr>
            <p:cNvPr id="259" name="AutoShape 28"/>
            <p:cNvSpPr/>
            <p:nvPr/>
          </p:nvSpPr>
          <p:spPr>
            <a:xfrm flipV="1" rot="20112000">
              <a:off x="2691000" y="32594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 flipV="1" rot="19296600">
              <a:off x="2834280" y="353772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0"/>
            <p:cNvSpPr/>
            <p:nvPr/>
          </p:nvSpPr>
          <p:spPr>
            <a:xfrm flipV="1" rot="19000800">
              <a:off x="2949840" y="3675960"/>
              <a:ext cx="424800" cy="188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1"/>
            <p:cNvSpPr/>
            <p:nvPr/>
          </p:nvSpPr>
          <p:spPr>
            <a:xfrm flipV="1" rot="18468600">
              <a:off x="3094920" y="383508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60160" y="3889080"/>
            <a:ext cx="2395800" cy="1659600"/>
            <a:chOff x="2360160" y="3889080"/>
            <a:chExt cx="2395800" cy="1659600"/>
          </a:xfrm>
        </p:grpSpPr>
        <p:sp>
          <p:nvSpPr>
            <p:cNvPr id="264" name="AutoShape 33"/>
            <p:cNvSpPr/>
            <p:nvPr/>
          </p:nvSpPr>
          <p:spPr>
            <a:xfrm flipV="1" rot="18758400">
              <a:off x="2983680" y="374220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4"/>
            <p:cNvSpPr/>
            <p:nvPr/>
          </p:nvSpPr>
          <p:spPr>
            <a:xfrm flipV="1" rot="17943000">
              <a:off x="3222720" y="394596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5"/>
            <p:cNvSpPr/>
            <p:nvPr/>
          </p:nvSpPr>
          <p:spPr>
            <a:xfrm flipV="1" rot="17647200">
              <a:off x="3382560" y="40276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6"/>
            <p:cNvSpPr/>
            <p:nvPr/>
          </p:nvSpPr>
          <p:spPr>
            <a:xfrm flipV="1" rot="17115000">
              <a:off x="3577680" y="41194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rc 13"/>
          <p:cNvSpPr/>
          <p:nvPr/>
        </p:nvSpPr>
        <p:spPr>
          <a:xfrm flipH="1" flipV="1" rot="5400000">
            <a:off x="1950840" y="1857960"/>
            <a:ext cx="2877840" cy="2057400"/>
          </a:xfrm>
          <a:custGeom>
            <a:avLst/>
            <a:gdLst/>
            <a:ahLst/>
            <a:rect l="l" t="t" r="r" b="b"/>
            <a:pathLst>
              <a:path fill="none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</a:path>
              <a:path stroke="0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  <a:lnTo>
                  <a:pt x="9145" y="21600"/>
                </a:lnTo>
                <a:lnTo>
                  <a:pt x="0" y="2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11"/>
          <p:cNvSpPr/>
          <p:nvPr/>
        </p:nvSpPr>
        <p:spPr>
          <a:xfrm>
            <a:off x="4419720" y="1447920"/>
            <a:ext cx="2003400" cy="2023920"/>
          </a:xfrm>
          <a:custGeom>
            <a:avLst/>
            <a:gdLst/>
            <a:ahLst/>
            <a:rect l="l" t="t" r="r" b="b"/>
            <a:pathLst>
              <a:path fill="none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</a:path>
              <a:path stroke="0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12"/>
          <p:cNvSpPr/>
          <p:nvPr/>
        </p:nvSpPr>
        <p:spPr>
          <a:xfrm rot="5400000">
            <a:off x="4546800" y="2921040"/>
            <a:ext cx="1807920" cy="2062080"/>
          </a:xfrm>
          <a:custGeom>
            <a:avLst/>
            <a:gdLst/>
            <a:ahLst/>
            <a:rect l="l" t="t" r="r" b="b"/>
            <a:pathLst>
              <a:path fill="none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</a:path>
              <a:path stroke="0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  <a:lnTo>
                  <a:pt x="4836" y="21600"/>
                </a:ln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14"/>
          <p:cNvSpPr/>
          <p:nvPr/>
        </p:nvSpPr>
        <p:spPr>
          <a:xfrm rot="10419000">
            <a:off x="2666160" y="3429000"/>
            <a:ext cx="3189240" cy="2008080"/>
          </a:xfrm>
          <a:custGeom>
            <a:avLst/>
            <a:gdLst/>
            <a:ahLst/>
            <a:rect l="l" t="t" r="r" b="b"/>
            <a:pathLst>
              <a:path fill="none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</a:path>
              <a:path stroke="0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  <a:lnTo>
                  <a:pt x="13831" y="21600"/>
                </a:lnTo>
                <a:lnTo>
                  <a:pt x="-1" y="50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3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8" descr="本本 (106)"/>
          <p:cNvPicPr/>
          <p:nvPr/>
        </p:nvPicPr>
        <p:blipFill>
          <a:blip r:embed="rId6"/>
          <a:stretch/>
        </p:blipFill>
        <p:spPr>
          <a:xfrm>
            <a:off x="3505320" y="251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4"/>
          <p:cNvSpPr/>
          <p:nvPr/>
        </p:nvSpPr>
        <p:spPr>
          <a:xfrm>
            <a:off x="144792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180000">
            <a:off x="2363760" y="22860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460000">
            <a:off x="4494960" y="2057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7580000">
            <a:off x="5136840" y="3397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480000">
            <a:off x="3428640" y="4343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1480000">
            <a:off x="3580920" y="3048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1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501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2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2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3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503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504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716800" y="925560"/>
            <a:ext cx="2588400" cy="2137680"/>
            <a:chOff x="5716800" y="925560"/>
            <a:chExt cx="2588400" cy="2137680"/>
          </a:xfrm>
        </p:grpSpPr>
        <p:grpSp>
          <p:nvGrpSpPr>
            <p:cNvPr id="285" name=""/>
            <p:cNvGrpSpPr/>
            <p:nvPr/>
          </p:nvGrpSpPr>
          <p:grpSpPr>
            <a:xfrm>
              <a:off x="6281640" y="925560"/>
              <a:ext cx="2023560" cy="2137680"/>
              <a:chOff x="6281640" y="925560"/>
              <a:chExt cx="2023560" cy="2137680"/>
            </a:xfrm>
          </p:grpSpPr>
          <p:sp>
            <p:nvSpPr>
              <p:cNvPr id="286" name="AutoShape 12"/>
              <p:cNvSpPr/>
              <p:nvPr/>
            </p:nvSpPr>
            <p:spPr>
              <a:xfrm flipV="1" rot="8983800">
                <a:off x="7434720" y="120240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3"/>
              <p:cNvSpPr/>
              <p:nvPr/>
            </p:nvSpPr>
            <p:spPr>
              <a:xfrm flipV="1" rot="8167800">
                <a:off x="7265880" y="937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4"/>
              <p:cNvSpPr/>
              <p:nvPr/>
            </p:nvSpPr>
            <p:spPr>
              <a:xfrm flipV="1" rot="7872600">
                <a:off x="7137000" y="811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5"/>
              <p:cNvSpPr/>
              <p:nvPr/>
            </p:nvSpPr>
            <p:spPr>
              <a:xfrm flipV="1" rot="7340400">
                <a:off x="6977880" y="66672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716800" y="936360"/>
              <a:ext cx="2469960" cy="1491480"/>
              <a:chOff x="5716800" y="936360"/>
              <a:chExt cx="2469960" cy="1491480"/>
            </a:xfrm>
          </p:grpSpPr>
          <p:sp>
            <p:nvSpPr>
              <p:cNvPr id="291" name="AutoShape 17"/>
              <p:cNvSpPr/>
              <p:nvPr/>
            </p:nvSpPr>
            <p:spPr>
              <a:xfrm flipV="1" rot="7630800">
                <a:off x="7094520" y="74736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8"/>
              <p:cNvSpPr/>
              <p:nvPr/>
            </p:nvSpPr>
            <p:spPr>
              <a:xfrm flipV="1" rot="6814800">
                <a:off x="6837480" y="5662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9"/>
              <p:cNvSpPr/>
              <p:nvPr/>
            </p:nvSpPr>
            <p:spPr>
              <a:xfrm flipV="1" rot="6519600">
                <a:off x="6670800" y="50040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0"/>
              <p:cNvSpPr/>
              <p:nvPr/>
            </p:nvSpPr>
            <p:spPr>
              <a:xfrm flipV="1" rot="5987400">
                <a:off x="6467040" y="42804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4126320" y="2875320"/>
            <a:ext cx="2460240" cy="2293560"/>
            <a:chOff x="4126320" y="2875320"/>
            <a:chExt cx="2460240" cy="2293560"/>
          </a:xfrm>
        </p:grpSpPr>
        <p:grpSp>
          <p:nvGrpSpPr>
            <p:cNvPr id="296" name=""/>
            <p:cNvGrpSpPr/>
            <p:nvPr/>
          </p:nvGrpSpPr>
          <p:grpSpPr>
            <a:xfrm>
              <a:off x="4126320" y="2875320"/>
              <a:ext cx="1885320" cy="2264040"/>
              <a:chOff x="4126320" y="2875320"/>
              <a:chExt cx="1885320" cy="2264040"/>
            </a:xfrm>
          </p:grpSpPr>
          <p:sp>
            <p:nvSpPr>
              <p:cNvPr id="297" name="AutoShape 23"/>
              <p:cNvSpPr/>
              <p:nvPr/>
            </p:nvSpPr>
            <p:spPr>
              <a:xfrm flipV="1" rot="20112000">
                <a:off x="4521240" y="287748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4"/>
              <p:cNvSpPr/>
              <p:nvPr/>
            </p:nvSpPr>
            <p:spPr>
              <a:xfrm flipV="1" rot="19296600">
                <a:off x="4664520" y="3156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5"/>
              <p:cNvSpPr/>
              <p:nvPr/>
            </p:nvSpPr>
            <p:spPr>
              <a:xfrm flipV="1" rot="19000800">
                <a:off x="4780800" y="3295080"/>
                <a:ext cx="424800" cy="188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6"/>
              <p:cNvSpPr/>
              <p:nvPr/>
            </p:nvSpPr>
            <p:spPr>
              <a:xfrm flipV="1" rot="18468600">
                <a:off x="4925520" y="3453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192200" y="3508560"/>
              <a:ext cx="2394360" cy="1660320"/>
              <a:chOff x="4192200" y="3508560"/>
              <a:chExt cx="2394360" cy="1660320"/>
            </a:xfrm>
          </p:grpSpPr>
          <p:sp>
            <p:nvSpPr>
              <p:cNvPr id="302" name="AutoShape 28"/>
              <p:cNvSpPr/>
              <p:nvPr/>
            </p:nvSpPr>
            <p:spPr>
              <a:xfrm flipV="1" rot="18758400">
                <a:off x="4815000" y="33616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29"/>
              <p:cNvSpPr/>
              <p:nvPr/>
            </p:nvSpPr>
            <p:spPr>
              <a:xfrm flipV="1" rot="17943000">
                <a:off x="5054040" y="3565800"/>
                <a:ext cx="42696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0"/>
              <p:cNvSpPr/>
              <p:nvPr/>
            </p:nvSpPr>
            <p:spPr>
              <a:xfrm flipV="1" rot="17647800">
                <a:off x="5214240" y="36482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31"/>
              <p:cNvSpPr/>
              <p:nvPr/>
            </p:nvSpPr>
            <p:spPr>
              <a:xfrm flipV="1" rot="17115600">
                <a:off x="5409000" y="37400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6" name="Picture 50" descr="本本 (106)"/>
          <p:cNvPicPr/>
          <p:nvPr/>
        </p:nvPicPr>
        <p:blipFill>
          <a:blip r:embed="rId6"/>
          <a:stretch/>
        </p:blipFill>
        <p:spPr>
          <a:xfrm>
            <a:off x="2971800" y="9907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4" descr="本本 (106)"/>
          <p:cNvPicPr/>
          <p:nvPr/>
        </p:nvPicPr>
        <p:blipFill>
          <a:blip r:embed="rId7"/>
          <a:stretch/>
        </p:blipFill>
        <p:spPr>
          <a:xfrm>
            <a:off x="9907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08" name="未知"/>
          <p:cNvSpPr/>
          <p:nvPr/>
        </p:nvSpPr>
        <p:spPr>
          <a:xfrm rot="11569800">
            <a:off x="1904760" y="2590560"/>
            <a:ext cx="83808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20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9" descr="本本 (106)"/>
          <p:cNvPicPr/>
          <p:nvPr/>
        </p:nvPicPr>
        <p:blipFill>
          <a:blip r:embed="rId8"/>
          <a:stretch/>
        </p:blipFill>
        <p:spPr>
          <a:xfrm>
            <a:off x="60199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未知"/>
          <p:cNvSpPr/>
          <p:nvPr/>
        </p:nvSpPr>
        <p:spPr>
          <a:xfrm flipH="1" rot="11570400">
            <a:off x="6303600" y="2847600"/>
            <a:ext cx="914040" cy="8604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2" descr="本本 (106)"/>
          <p:cNvPicPr/>
          <p:nvPr/>
        </p:nvPicPr>
        <p:blipFill>
          <a:blip r:embed="rId9"/>
          <a:stretch/>
        </p:blipFill>
        <p:spPr>
          <a:xfrm>
            <a:off x="3581280" y="43434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312" name="未知"/>
          <p:cNvSpPr/>
          <p:nvPr/>
        </p:nvSpPr>
        <p:spPr>
          <a:xfrm flipH="1" rot="11570400">
            <a:off x="4343040" y="3428640"/>
            <a:ext cx="457200" cy="9367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7160" y="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5"/>
          <p:cNvSpPr txBox="1"/>
          <p:nvPr/>
        </p:nvSpPr>
        <p:spPr>
          <a:xfrm>
            <a:off x="3733920" y="68580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华文琥珀"/>
              </a:rPr>
              <a:t>目录导航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pic>
        <p:nvPicPr>
          <p:cNvPr id="64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4_副本"/>
          <p:cNvPicPr/>
          <p:nvPr/>
        </p:nvPicPr>
        <p:blipFill>
          <a:blip r:embed="rId8"/>
          <a:stretch/>
        </p:blipFill>
        <p:spPr>
          <a:xfrm>
            <a:off x="1905120" y="2438280"/>
            <a:ext cx="691920" cy="6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4_副本"/>
          <p:cNvPicPr/>
          <p:nvPr/>
        </p:nvPicPr>
        <p:blipFill>
          <a:blip r:embed="rId9"/>
          <a:stretch/>
        </p:blipFill>
        <p:spPr>
          <a:xfrm>
            <a:off x="190656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4_副本"/>
          <p:cNvPicPr/>
          <p:nvPr/>
        </p:nvPicPr>
        <p:blipFill>
          <a:blip r:embed="rId10"/>
          <a:stretch/>
        </p:blipFill>
        <p:spPr>
          <a:xfrm>
            <a:off x="1906560" y="4191120"/>
            <a:ext cx="692280" cy="69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16765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5891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4640" y="350532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34484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绿2"/>
          <p:cNvPicPr/>
          <p:nvPr/>
        </p:nvPicPr>
        <p:blipFill>
          <a:blip r:embed="rId5"/>
          <a:stretch/>
        </p:blipFill>
        <p:spPr>
          <a:xfrm>
            <a:off x="3352680" y="-379440"/>
            <a:ext cx="4572000" cy="18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17_副本"/>
          <p:cNvPicPr/>
          <p:nvPr/>
        </p:nvPicPr>
        <p:blipFill>
          <a:blip r:embed="rId4"/>
          <a:srcRect l="0" t="0" r="50009" b="0"/>
          <a:stretch/>
        </p:blipFill>
        <p:spPr>
          <a:xfrm>
            <a:off x="685800" y="83808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17_副本"/>
          <p:cNvPicPr/>
          <p:nvPr/>
        </p:nvPicPr>
        <p:blipFill>
          <a:blip r:embed="rId5"/>
          <a:srcRect l="50009" t="-1804" r="0" b="0"/>
          <a:stretch/>
        </p:blipFill>
        <p:spPr>
          <a:xfrm>
            <a:off x="1600200" y="81900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ppt宝藏_www"/>
          <p:cNvPicPr/>
          <p:nvPr/>
        </p:nvPicPr>
        <p:blipFill>
          <a:blip r:embed="rId6"/>
          <a:stretch/>
        </p:blipFill>
        <p:spPr>
          <a:xfrm>
            <a:off x="33526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上"/>
          <p:cNvPicPr/>
          <p:nvPr/>
        </p:nvPicPr>
        <p:blipFill>
          <a:blip r:embed="rId7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4" descr="17_副本"/>
          <p:cNvPicPr/>
          <p:nvPr/>
        </p:nvPicPr>
        <p:blipFill>
          <a:blip r:embed="rId8"/>
          <a:srcRect l="0" t="0" r="50009" b="0"/>
          <a:stretch/>
        </p:blipFill>
        <p:spPr>
          <a:xfrm>
            <a:off x="762120" y="337176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5" descr="17_副本"/>
          <p:cNvPicPr/>
          <p:nvPr/>
        </p:nvPicPr>
        <p:blipFill>
          <a:blip r:embed="rId9"/>
          <a:srcRect l="50009" t="-1804" r="0" b="0"/>
          <a:stretch/>
        </p:blipFill>
        <p:spPr>
          <a:xfrm>
            <a:off x="1676520" y="335268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17_副本"/>
          <p:cNvPicPr/>
          <p:nvPr/>
        </p:nvPicPr>
        <p:blipFill>
          <a:blip r:embed="rId10"/>
          <a:srcRect l="0" t="0" r="50009" b="0"/>
          <a:stretch/>
        </p:blipFill>
        <p:spPr>
          <a:xfrm>
            <a:off x="6095880" y="933480"/>
            <a:ext cx="897120" cy="188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17_副本"/>
          <p:cNvPicPr/>
          <p:nvPr/>
        </p:nvPicPr>
        <p:blipFill>
          <a:blip r:embed="rId11"/>
          <a:srcRect l="50009" t="-1804" r="0" b="0"/>
          <a:stretch/>
        </p:blipFill>
        <p:spPr>
          <a:xfrm>
            <a:off x="7010280" y="914400"/>
            <a:ext cx="897120" cy="192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17_副本"/>
          <p:cNvPicPr/>
          <p:nvPr/>
        </p:nvPicPr>
        <p:blipFill>
          <a:blip r:embed="rId12"/>
          <a:srcRect l="0" t="0" r="50009" b="0"/>
          <a:stretch/>
        </p:blipFill>
        <p:spPr>
          <a:xfrm>
            <a:off x="6095880" y="3429000"/>
            <a:ext cx="897120" cy="188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9" descr="17_副本"/>
          <p:cNvPicPr/>
          <p:nvPr/>
        </p:nvPicPr>
        <p:blipFill>
          <a:blip r:embed="rId13"/>
          <a:srcRect l="50009" t="-1804" r="0" b="0"/>
          <a:stretch/>
        </p:blipFill>
        <p:spPr>
          <a:xfrm>
            <a:off x="7010280" y="3409920"/>
            <a:ext cx="897120" cy="1924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295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960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371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228600" y="8380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本本 (106)"/>
          <p:cNvPicPr/>
          <p:nvPr/>
        </p:nvPicPr>
        <p:blipFill>
          <a:blip r:embed="rId4"/>
          <a:stretch/>
        </p:blipFill>
        <p:spPr>
          <a:xfrm>
            <a:off x="5486400" y="2057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5791320" y="3200400"/>
            <a:ext cx="2209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8" descr="本本 (106)"/>
          <p:cNvPicPr/>
          <p:nvPr/>
        </p:nvPicPr>
        <p:blipFill>
          <a:blip r:embed="rId5"/>
          <a:stretch/>
        </p:blipFill>
        <p:spPr>
          <a:xfrm>
            <a:off x="609480" y="2057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锐普论坛实用商务PPT图片-中国传统 (50)"/>
          <p:cNvPicPr/>
          <p:nvPr/>
        </p:nvPicPr>
        <p:blipFill>
          <a:blip r:embed="rId6"/>
          <a:stretch/>
        </p:blipFill>
        <p:spPr>
          <a:xfrm>
            <a:off x="2514600" y="59659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ppt宝藏_www"/>
          <p:cNvPicPr/>
          <p:nvPr/>
        </p:nvPicPr>
        <p:blipFill>
          <a:blip r:embed="rId7"/>
          <a:stretch/>
        </p:blipFill>
        <p:spPr>
          <a:xfrm>
            <a:off x="13716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1" descr="本本 (7)"/>
          <p:cNvPicPr/>
          <p:nvPr/>
        </p:nvPicPr>
        <p:blipFill>
          <a:blip r:embed="rId8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97324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97324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9"/>
          <p:cNvSpPr/>
          <p:nvPr/>
        </p:nvSpPr>
        <p:spPr>
          <a:xfrm>
            <a:off x="4267080" y="533520"/>
            <a:ext cx="3124440" cy="68868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上"/>
          <p:cNvPicPr/>
          <p:nvPr/>
        </p:nvPicPr>
        <p:blipFill>
          <a:blip r:embed="rId3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栏杆"/>
          <p:cNvPicPr/>
          <p:nvPr/>
        </p:nvPicPr>
        <p:blipFill>
          <a:blip r:embed="rId4"/>
          <a:stretch/>
        </p:blipFill>
        <p:spPr>
          <a:xfrm>
            <a:off x="0" y="0"/>
            <a:ext cx="3781440" cy="502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pt宝藏_www"/>
          <p:cNvPicPr/>
          <p:nvPr/>
        </p:nvPicPr>
        <p:blipFill>
          <a:blip r:embed="rId5"/>
          <a:stretch/>
        </p:blipFill>
        <p:spPr>
          <a:xfrm rot="1674000">
            <a:off x="2437920" y="1752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ppt宝藏_www"/>
          <p:cNvPicPr/>
          <p:nvPr/>
        </p:nvPicPr>
        <p:blipFill>
          <a:blip r:embed="rId6"/>
          <a:stretch/>
        </p:blipFill>
        <p:spPr>
          <a:xfrm rot="1505400">
            <a:off x="5943240" y="18288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ppt宝藏_www"/>
          <p:cNvPicPr/>
          <p:nvPr/>
        </p:nvPicPr>
        <p:blipFill>
          <a:blip r:embed="rId7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6080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荷花 10_副本"/>
          <p:cNvPicPr/>
          <p:nvPr/>
        </p:nvPicPr>
        <p:blipFill>
          <a:blip r:embed="rId9"/>
          <a:stretch/>
        </p:blipFill>
        <p:spPr>
          <a:xfrm>
            <a:off x="-531720" y="4495680"/>
            <a:ext cx="228744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57400" y="99072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57200" y="12952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pt宝藏_www"/>
          <p:cNvPicPr/>
          <p:nvPr/>
        </p:nvPicPr>
        <p:blipFill>
          <a:blip r:embed="rId4"/>
          <a:stretch/>
        </p:blipFill>
        <p:spPr>
          <a:xfrm>
            <a:off x="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藕粉"/>
          <p:cNvPicPr/>
          <p:nvPr/>
        </p:nvPicPr>
        <p:blipFill>
          <a:blip r:embed="rId5"/>
          <a:stretch/>
        </p:blipFill>
        <p:spPr>
          <a:xfrm>
            <a:off x="16002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藕粉"/>
          <p:cNvPicPr/>
          <p:nvPr/>
        </p:nvPicPr>
        <p:blipFill>
          <a:blip r:embed="rId6"/>
          <a:stretch/>
        </p:blipFill>
        <p:spPr>
          <a:xfrm>
            <a:off x="19810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藕粉"/>
          <p:cNvPicPr/>
          <p:nvPr/>
        </p:nvPicPr>
        <p:blipFill>
          <a:blip r:embed="rId7"/>
          <a:stretch/>
        </p:blipFill>
        <p:spPr>
          <a:xfrm>
            <a:off x="22860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藕粉"/>
          <p:cNvPicPr/>
          <p:nvPr/>
        </p:nvPicPr>
        <p:blipFill>
          <a:blip r:embed="rId8"/>
          <a:stretch/>
        </p:blipFill>
        <p:spPr>
          <a:xfrm>
            <a:off x="26668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书籍"/>
          <p:cNvPicPr/>
          <p:nvPr/>
        </p:nvPicPr>
        <p:blipFill>
          <a:blip r:embed="rId9"/>
          <a:stretch/>
        </p:blipFill>
        <p:spPr>
          <a:xfrm>
            <a:off x="3124080" y="5943600"/>
            <a:ext cx="77004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边框 便利贴"/>
          <p:cNvPicPr/>
          <p:nvPr/>
        </p:nvPicPr>
        <p:blipFill>
          <a:blip r:embed="rId10"/>
          <a:stretch/>
        </p:blipFill>
        <p:spPr>
          <a:xfrm>
            <a:off x="533520" y="2590920"/>
            <a:ext cx="1131840" cy="153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本本 (83)"/>
          <p:cNvPicPr/>
          <p:nvPr/>
        </p:nvPicPr>
        <p:blipFill>
          <a:blip r:embed="rId1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780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7" descr="边框 便利贴"/>
          <p:cNvPicPr/>
          <p:nvPr/>
        </p:nvPicPr>
        <p:blipFill>
          <a:blip r:embed="rId12"/>
          <a:stretch/>
        </p:blipFill>
        <p:spPr>
          <a:xfrm>
            <a:off x="2211480" y="2590920"/>
            <a:ext cx="1131840" cy="153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边框 便利贴"/>
          <p:cNvPicPr/>
          <p:nvPr/>
        </p:nvPicPr>
        <p:blipFill>
          <a:blip r:embed="rId13"/>
          <a:stretch/>
        </p:blipFill>
        <p:spPr>
          <a:xfrm>
            <a:off x="3809880" y="2590920"/>
            <a:ext cx="1133640" cy="15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边框 便利贴"/>
          <p:cNvPicPr/>
          <p:nvPr/>
        </p:nvPicPr>
        <p:blipFill>
          <a:blip r:embed="rId14"/>
          <a:stretch/>
        </p:blipFill>
        <p:spPr>
          <a:xfrm>
            <a:off x="5562720" y="2590920"/>
            <a:ext cx="1133280" cy="1536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边框 便利贴"/>
          <p:cNvPicPr/>
          <p:nvPr/>
        </p:nvPicPr>
        <p:blipFill>
          <a:blip r:embed="rId15"/>
          <a:stretch/>
        </p:blipFill>
        <p:spPr>
          <a:xfrm>
            <a:off x="7391520" y="2592360"/>
            <a:ext cx="1133280" cy="153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3019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536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6640" y="3048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绿2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上"/>
          <p:cNvPicPr/>
          <p:nvPr/>
        </p:nvPicPr>
        <p:blipFill>
          <a:blip r:embed="rId6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ppt宝藏_www"/>
          <p:cNvPicPr/>
          <p:nvPr/>
        </p:nvPicPr>
        <p:blipFill>
          <a:blip r:embed="rId7"/>
          <a:stretch/>
        </p:blipFill>
        <p:spPr>
          <a:xfrm>
            <a:off x="708660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2:22:41Z</dcterms:created>
  <dc:creator/>
  <dc:description/>
  <dc:language>en-US</dc:language>
  <cp:lastModifiedBy>雨林木风</cp:lastModifiedBy>
  <dcterms:modified xsi:type="dcterms:W3CDTF">2015-10-21T15:09:32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