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131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5.png" ContentType="image/png"/>
  <Override PartName="/ppt/media/image39.jpeg" ContentType="image/jpeg"/>
  <Override PartName="/ppt/media/image127.png" ContentType="image/png"/>
  <Override PartName="/ppt/media/image35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23.jpeg" ContentType="image/jpe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91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49.png" ContentType="image/png"/>
  <Override PartName="/ppt/media/image100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6.png" ContentType="image/png"/>
  <Override PartName="/ppt/media/image94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F4F-3FD8-42D1-A481-7C3A4678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955-3088-40D3-9385-5A2D32EA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42408-1BB1-4FAE-803A-67C66E0B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DB1A6-E2CE-4129-A2F6-647C0032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FD5D3-1A55-4C7D-A4AB-1169C6D9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F9773-C265-42EE-9F09-70734FA4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A66AD-0E24-4007-BE52-54ABC519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3168A-3E6A-4809-B561-2ADEEF2D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D1002-F9C3-4279-80EA-AA5B8B9E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73F72-DDAF-47BE-B290-1CA8E171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FD9B6-7EB1-4BDD-A035-A5A706B6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8A2CC-7EC5-4972-8A74-CF8C2152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700-E385-40E9-BBD3-0FCEC70F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2421A-8A15-4A4A-88A9-49AB6597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29F9B-0C1B-465F-8DC1-F0C1636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34624-2757-4612-844F-81738ABD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F0963-8282-4CD3-92A1-C23A7B65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BCBF4-00D4-4F80-B9E4-9C7380A6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9EC36-618A-4DDF-98B6-6E3E64B2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7CEB7-387F-410D-B846-CDC4A4E3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D3023-BDD2-48E9-9C1C-100B92F2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81CB4-5B22-4D5C-9E5D-55F71545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42C4A-F3B7-41C7-A82E-BC18D8A9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5B5-5BEF-44B2-B064-D3E66A28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C9BDD-D226-42E9-BB08-2DBBDA5A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39DC7-1F2D-48DC-B18B-E2ADB4BC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76EB1-FF3E-4877-A40E-ED22816F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86325-9010-4D90-8C7A-61F7FCE4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E6DC6-7F07-4096-9AD9-3D477A1C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AB6ED-F905-4043-BC4C-E427DF98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07ECB-1695-43C4-9048-FE518AC1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085E1-CB4B-4575-B0CF-FAE00FF6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FBC72-6451-496B-AE3D-3C48A12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D317D-3C09-499B-A312-AD717E7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5206-0B55-41B5-B11A-DCD09D77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F7023-B0A7-41AE-B4F8-FD70C6E5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DAC5E-B9D1-4ED8-AFEB-3B3D79FC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D4DC0-5AEB-4EE7-A54D-CADD4ACC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0D5FA-A53C-471C-BDDC-19F3C477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43612-4C2A-4BAF-AEE0-26E4D8F4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3B8CC-24E2-4D7E-9C46-1CB59A55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2D247-1C58-49D0-908A-AFDC8F17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8EABE-1A5A-4C50-B59C-CB8FFE54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4E3E4-C806-4546-A32B-C663648A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8B34E-F409-490A-B742-6B36EDA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6957-942C-4800-BE21-A278B70E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4686A-037E-4B74-A52F-8DAE817E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CFB7F-682C-41CC-8CCE-B1D1BE86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D3527-D215-4147-9601-2C3186EF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735B4-02A2-40B1-8BDD-28AAB83E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514A7-E3CD-478B-9E56-86894484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08890-E1F9-49DB-AAE0-81A95359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F9832-A39B-4617-990A-20FC2BCE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417E7-2687-4D35-A9B3-F4230E92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9D328-71BB-46A7-8FED-85BD4EAA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5DADD-0780-475B-91DC-4610CEBD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1E36-AAE4-420D-B26E-353A4CFF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7578E-411B-45AD-98E7-5D85C96F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5AB80-3191-4453-B744-6CDD35C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54753-8E18-42C1-B007-92BD208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A8A76-1DFE-42AA-9132-E2BE46B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6643B-F54C-468C-AA4C-664294AC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97AD9-526A-4ADD-9688-32A3C71B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27A15-88CA-49DD-BE26-84C64D17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59F37-00D1-4BF4-BDE2-8B9DAD23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0AF11-1289-4F56-A334-49BED764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F3902-81EC-4E13-A9CF-55B9A622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E391-8E9C-4988-9F2E-CE2264FE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64FCC-71BB-48DF-B454-7637369C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F04B5-1784-4E93-9807-E257F2F8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6766A-B142-4C60-AEE4-97489D7D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18705-AA6B-48B4-9016-8F36DC9D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3A3FD-753C-42AE-974E-699676D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B97B5-0031-4CC7-ACF5-B36F54F1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41E76-A55E-4A4F-B775-0CE1462A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4AA08-F500-4672-9581-CD34F3C5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903EA-AFAF-4B35-A5C8-B8CCA33A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D96D-B7CA-42D9-B06C-B307FD5B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2CE3-4FE4-4201-9CE4-17633A8B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CCAF-635A-42C8-8C0F-AE1E75B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72F-949D-436C-A7CA-D365BB1E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1905-0287-4083-8FC6-2EE5D082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6930-C40B-447E-9F56-3B9D1F7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9E8D-87BF-4F43-8D88-4B444480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0895-FEFA-4696-9D61-FD6479F5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D325-7EC6-4A56-8D16-A3CDA8EC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C0C9-E6AF-4CF3-8FA5-8A2F5C6B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12B93-A7EC-40BD-9CEA-E08E0081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E396-5309-4986-B339-8A868C0D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89B5-640B-47AE-AFB6-63F2411A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7C27-9C3D-4418-A230-6841043F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8EA-17BA-4957-B96D-1C8646FB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E27C-80EB-4272-B741-4E351E7E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3F1F4-C313-4A39-9CF2-066FA3BF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0EC8-BAE8-4C1C-B4BF-37F7F31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6603-914C-4E0F-824C-61FA8CA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02DF-FE46-4A45-9618-BF315E63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B555-FAB9-4204-A5B1-510567B7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6CE6-474D-4A66-B978-A51BFF18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2FCA-7B7E-43D9-B6E7-DF6BE336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B5FFB-0FF7-40DE-B3F4-8E95A80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7B2A-D505-4F14-8CA4-585148A2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1FD-D9B0-4FC1-A7B9-E5E5154E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0ADD-D09A-417B-BFB8-1F5FD95E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073B-53E9-4292-821A-489A41A4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0B43-2177-48C7-81F4-8B4029D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304C-E048-499E-9CAB-1B305CB0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CE9A-D42A-4CCD-9C60-E6EB06E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92F6-A5AA-4F42-B36D-647684E4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7AD7-8096-4133-8A36-1DBD2B0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8ACF-43DD-47B4-BBB9-2524912F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EF7EF-963D-4A8A-902C-7152EC29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4BF6-4B5D-4C5F-BC55-1CFB8AD0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106-F0BF-4982-B4F1-E9E43A8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74493-B556-4347-9595-90332AF0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0B8E4-BD93-4117-8AE6-90DF296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8FB4-B506-41F2-A2BA-EC65DA07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519C1-5592-43C8-9D4A-BA17BAFE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B88A6-AA2A-468B-B3BA-672DA05F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9601-A916-4389-90DE-BE113890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9E857-3F34-495D-8708-F64DCB6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73FCA-11C2-4C3C-809C-4D2FFC8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A2A0-A8C6-42AC-8688-DBD694F3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2EEF-6E1B-47B8-BF3E-434E78ED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2DE-A962-4B92-A4B1-9E1F0979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1A37-ABE9-42F9-B42C-26C53CED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AE530-0DFD-441E-A604-09204439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0AC06-9E71-4E36-B7D7-8DC6F081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4E61D-1904-485E-9AD6-976CA0DF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992AD-7C29-4364-A042-F42B934E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36B28-174D-4EE7-8D1F-6A2DB92F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A6CE6-F32C-4E51-AABC-0132DE6A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11BD7-F7AF-4042-875E-DE260D6F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5CE74-20D1-4B2D-BF1B-2AFEF91E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A8AB-6258-464A-A19C-E0219AE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929-B84F-41ED-BB32-940E16EB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E4F6C-CEF4-475B-AC51-199865EC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37269-6C1F-4F16-B176-2BCB9DE4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95D65-9AF3-4C79-988F-CF6C119B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E7E79-20F6-45CA-AB89-D8EF0237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3C68A-5F4E-41DC-8171-7327683C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E18E-9DB1-4CE0-92B3-3BC194A8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A682D-B567-453D-8B4A-23BC3271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BC525-1E7B-424E-868D-B086FCCF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16F7F-7382-4CF6-837D-6E9EDD3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09FAB-2CE0-4E33-B05A-E6998C93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B73-729E-46BF-A645-A6F9734B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83C20-4D3D-4997-88AB-B016104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A377B-4B73-4865-82CA-9FE5E0D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2AD9-3959-4503-8D43-72E10F7C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D3916-E23B-460B-A3E2-FB9BECC2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DF152-D047-4732-92BC-44F2FD07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A75F1-3C4A-4FFA-9EC8-DF05BA93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B5741-5A50-4837-A9EC-1B3C5EA9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4CEF8-C347-476E-B404-6228452E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49B64-E92C-44E6-AC9F-46E15ABC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3EA57-4C7A-426A-9353-6ACD473D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C17-9EC3-453C-A0F0-5890CCA0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78455-4ECB-435A-8638-520F915C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798D1-CF31-4F89-B6AE-46BD0F49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83239-DF75-4DF5-8476-2D316FFF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30E70-CCE9-4890-BFF0-8D240657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46427-3D53-4BCC-A2A3-5550041E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61971-BD9E-440B-9620-AE0D9BF2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6161A-1FA9-43CF-BA2E-3F399594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E359F-FBDE-4D11-B5BD-0BACC089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9EE06-7783-4E4A-B33E-42382794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45A02-0A6A-4B24-9F0E-0C400123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4835-4284-40C3-BC03-0C044D75AD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5C3-5106-4279-8037-6F2090ADEA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A967-7016-4DD2-8296-C37087D64A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5514-A53A-4B1D-878B-0278519332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FF1-CD81-4878-9149-024A6F72C2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FA63-E154-4D37-AA81-9856BA9DBD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204F-5427-494E-BD9F-DD6F74132C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CED6-A94F-4BDE-B858-4BF504D742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BBA2-6FAD-4138-B4B6-B7EDAE9B20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44A9-B5D4-44E6-9ACE-B696AD810C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EEB9-17C5-4E8F-AD35-05A7AC1211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93F2-F592-4F92-8BD5-D9B8276710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DD68-CCDE-4FDA-8792-0419A9D118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82B1-D184-41FA-A5D2-0D9A6CED99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image" Target="../media/image62.png"/><Relationship Id="rId20" Type="http://schemas.openxmlformats.org/officeDocument/2006/relationships/image" Target="../media/image63.png"/><Relationship Id="rId21" Type="http://schemas.openxmlformats.org/officeDocument/2006/relationships/image" Target="../media/image64.png"/><Relationship Id="rId22" Type="http://schemas.openxmlformats.org/officeDocument/2006/relationships/image" Target="../media/image65.png"/><Relationship Id="rId23" Type="http://schemas.openxmlformats.org/officeDocument/2006/relationships/image" Target="../media/image66.png"/><Relationship Id="rId24" Type="http://schemas.openxmlformats.org/officeDocument/2006/relationships/image" Target="../media/image67.png"/><Relationship Id="rId25" Type="http://schemas.openxmlformats.org/officeDocument/2006/relationships/image" Target="../media/image68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1.png"/><Relationship Id="rId29" Type="http://schemas.openxmlformats.org/officeDocument/2006/relationships/image" Target="../media/image72.png"/><Relationship Id="rId30" Type="http://schemas.openxmlformats.org/officeDocument/2006/relationships/image" Target="../media/image73.png"/><Relationship Id="rId31" Type="http://schemas.openxmlformats.org/officeDocument/2006/relationships/image" Target="../media/image74.png"/><Relationship Id="rId32" Type="http://schemas.openxmlformats.org/officeDocument/2006/relationships/image" Target="../media/image75.png"/><Relationship Id="rId33" Type="http://schemas.openxmlformats.org/officeDocument/2006/relationships/image" Target="../media/image76.png"/><Relationship Id="rId34" Type="http://schemas.openxmlformats.org/officeDocument/2006/relationships/image" Target="../media/image77.png"/><Relationship Id="rId35" Type="http://schemas.openxmlformats.org/officeDocument/2006/relationships/image" Target="../media/image78.png"/><Relationship Id="rId36" Type="http://schemas.openxmlformats.org/officeDocument/2006/relationships/image" Target="../media/image79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83.png"/><Relationship Id="rId41" Type="http://schemas.openxmlformats.org/officeDocument/2006/relationships/image" Target="../media/image84.png"/><Relationship Id="rId42" Type="http://schemas.openxmlformats.org/officeDocument/2006/relationships/image" Target="../media/image85.png"/><Relationship Id="rId43" Type="http://schemas.openxmlformats.org/officeDocument/2006/relationships/image" Target="../media/image86.png"/><Relationship Id="rId44" Type="http://schemas.openxmlformats.org/officeDocument/2006/relationships/image" Target="../media/image87.png"/><Relationship Id="rId45" Type="http://schemas.openxmlformats.org/officeDocument/2006/relationships/image" Target="../media/image88.png"/><Relationship Id="rId46" Type="http://schemas.openxmlformats.org/officeDocument/2006/relationships/image" Target="../media/image89.png"/><Relationship Id="rId47" Type="http://schemas.openxmlformats.org/officeDocument/2006/relationships/image" Target="../media/image90.png"/><Relationship Id="rId48" Type="http://schemas.openxmlformats.org/officeDocument/2006/relationships/image" Target="../media/image91.png"/><Relationship Id="rId49" Type="http://schemas.openxmlformats.org/officeDocument/2006/relationships/image" Target="../media/image92.png"/><Relationship Id="rId50" Type="http://schemas.openxmlformats.org/officeDocument/2006/relationships/image" Target="../media/image93.png"/><Relationship Id="rId51" Type="http://schemas.openxmlformats.org/officeDocument/2006/relationships/image" Target="../media/image94.png"/><Relationship Id="rId52" Type="http://schemas.openxmlformats.org/officeDocument/2006/relationships/image" Target="../media/image95.png"/><Relationship Id="rId53" Type="http://schemas.openxmlformats.org/officeDocument/2006/relationships/image" Target="../media/image96.png"/><Relationship Id="rId54" Type="http://schemas.openxmlformats.org/officeDocument/2006/relationships/image" Target="../media/image97.png"/><Relationship Id="rId55" Type="http://schemas.openxmlformats.org/officeDocument/2006/relationships/image" Target="../media/image98.png"/><Relationship Id="rId56" Type="http://schemas.openxmlformats.org/officeDocument/2006/relationships/image" Target="../media/image99.png"/><Relationship Id="rId57" Type="http://schemas.openxmlformats.org/officeDocument/2006/relationships/image" Target="../media/image100.png"/><Relationship Id="rId58" Type="http://schemas.openxmlformats.org/officeDocument/2006/relationships/image" Target="../media/image101.png"/><Relationship Id="rId59" Type="http://schemas.openxmlformats.org/officeDocument/2006/relationships/image" Target="../media/image102.png"/><Relationship Id="rId60" Type="http://schemas.openxmlformats.org/officeDocument/2006/relationships/image" Target="../media/image103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8.png"/><Relationship Id="rId66" Type="http://schemas.openxmlformats.org/officeDocument/2006/relationships/image" Target="../media/image109.png"/><Relationship Id="rId67" Type="http://schemas.openxmlformats.org/officeDocument/2006/relationships/image" Target="../media/image110.png"/><Relationship Id="rId68" Type="http://schemas.openxmlformats.org/officeDocument/2006/relationships/image" Target="../media/image111.png"/><Relationship Id="rId69" Type="http://schemas.openxmlformats.org/officeDocument/2006/relationships/image" Target="../media/image112.png"/><Relationship Id="rId70" Type="http://schemas.openxmlformats.org/officeDocument/2006/relationships/image" Target="../media/image113.png"/><Relationship Id="rId71" Type="http://schemas.openxmlformats.org/officeDocument/2006/relationships/image" Target="../media/image114.png"/><Relationship Id="rId72" Type="http://schemas.openxmlformats.org/officeDocument/2006/relationships/image" Target="../media/image115.png"/><Relationship Id="rId73" Type="http://schemas.openxmlformats.org/officeDocument/2006/relationships/image" Target="../media/image116.png"/><Relationship Id="rId74" Type="http://schemas.openxmlformats.org/officeDocument/2006/relationships/image" Target="../media/image117.png"/><Relationship Id="rId75" Type="http://schemas.openxmlformats.org/officeDocument/2006/relationships/image" Target="../media/image118.png"/><Relationship Id="rId76" Type="http://schemas.openxmlformats.org/officeDocument/2006/relationships/image" Target="../media/image119.png"/><Relationship Id="rId77" Type="http://schemas.openxmlformats.org/officeDocument/2006/relationships/image" Target="../media/image120.png"/><Relationship Id="rId78" Type="http://schemas.openxmlformats.org/officeDocument/2006/relationships/image" Target="../media/image121.png"/><Relationship Id="rId79" Type="http://schemas.openxmlformats.org/officeDocument/2006/relationships/image" Target="../media/image122.png"/><Relationship Id="rId80" Type="http://schemas.openxmlformats.org/officeDocument/2006/relationships/image" Target="../media/image123.png"/><Relationship Id="rId81" Type="http://schemas.openxmlformats.org/officeDocument/2006/relationships/image" Target="../media/image124.png"/><Relationship Id="rId82" Type="http://schemas.openxmlformats.org/officeDocument/2006/relationships/image" Target="../media/image125.png"/><Relationship Id="rId83" Type="http://schemas.openxmlformats.org/officeDocument/2006/relationships/image" Target="../media/image126.png"/><Relationship Id="rId84" Type="http://schemas.openxmlformats.org/officeDocument/2006/relationships/image" Target="../media/image127.png"/><Relationship Id="rId85" Type="http://schemas.openxmlformats.org/officeDocument/2006/relationships/image" Target="../media/image128.png"/><Relationship Id="rId86" Type="http://schemas.openxmlformats.org/officeDocument/2006/relationships/image" Target="../media/image129.png"/><Relationship Id="rId87" Type="http://schemas.openxmlformats.org/officeDocument/2006/relationships/image" Target="../media/image130.png"/><Relationship Id="rId88" Type="http://schemas.openxmlformats.org/officeDocument/2006/relationships/image" Target="../media/image131.png"/><Relationship Id="rId89" Type="http://schemas.openxmlformats.org/officeDocument/2006/relationships/image" Target="../media/image132.png"/><Relationship Id="rId90" Type="http://schemas.openxmlformats.org/officeDocument/2006/relationships/image" Target="../media/image133.png"/><Relationship Id="rId91" Type="http://schemas.openxmlformats.org/officeDocument/2006/relationships/image" Target="../media/image134.png"/><Relationship Id="rId92" Type="http://schemas.openxmlformats.org/officeDocument/2006/relationships/image" Target="../media/image135.png"/><Relationship Id="rId93" Type="http://schemas.openxmlformats.org/officeDocument/2006/relationships/image" Target="../media/image136.png"/><Relationship Id="rId94" Type="http://schemas.openxmlformats.org/officeDocument/2006/relationships/image" Target="../media/image137.png"/><Relationship Id="rId95" Type="http://schemas.openxmlformats.org/officeDocument/2006/relationships/image" Target="../media/image138.png"/><Relationship Id="rId96" Type="http://schemas.openxmlformats.org/officeDocument/2006/relationships/image" Target="../media/image139.png"/><Relationship Id="rId97" Type="http://schemas.openxmlformats.org/officeDocument/2006/relationships/image" Target="../media/image140.png"/><Relationship Id="rId98" Type="http://schemas.openxmlformats.org/officeDocument/2006/relationships/image" Target="../media/image141.png"/><Relationship Id="rId99" Type="http://schemas.openxmlformats.org/officeDocument/2006/relationships/image" Target="../media/image142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8784360" y="42735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27"/>
          <p:cNvSpPr/>
          <p:nvPr/>
        </p:nvSpPr>
        <p:spPr>
          <a:xfrm>
            <a:off x="133668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2"/>
          <p:cNvSpPr/>
          <p:nvPr/>
        </p:nvSpPr>
        <p:spPr>
          <a:xfrm>
            <a:off x="146376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0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1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2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4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6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7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9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1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2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6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7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9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1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2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4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5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6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7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9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4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5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7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30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2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3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5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4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5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6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8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0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1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2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3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6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8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9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1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2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70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1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3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4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5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6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8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9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80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1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3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4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5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6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8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90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1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3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4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8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3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4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2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3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7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8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0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8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9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0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6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7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8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7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8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4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5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8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1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2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5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8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9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2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5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6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9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2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3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5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9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200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8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9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0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5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6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9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3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6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7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6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2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3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4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6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7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8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9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1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2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3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4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6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7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8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9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1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3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4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6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7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6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7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8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0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1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3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4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9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6" name="Shape 21"/>
          <p:cNvCxnSpPr>
            <a:stCxn id="1375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7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8" name="Shape 11"/>
          <p:cNvCxnSpPr>
            <a:stCxn id="1377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9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0" name="Shape 16"/>
          <p:cNvCxnSpPr>
            <a:stCxn id="1379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1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2" name="Shape 19"/>
          <p:cNvCxnSpPr>
            <a:stCxn id="1381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3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1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2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6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10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4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5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7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8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7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8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9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1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3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4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6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8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9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3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4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8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9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1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2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文本框 8"/>
          <p:cNvSpPr/>
          <p:nvPr/>
        </p:nvSpPr>
        <p:spPr>
          <a:xfrm>
            <a:off x="9415440" y="38768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直接连接符 27"/>
          <p:cNvSpPr/>
          <p:nvPr/>
        </p:nvSpPr>
        <p:spPr>
          <a:xfrm>
            <a:off x="365040" y="369720"/>
            <a:ext cx="0" cy="311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32"/>
          <p:cNvSpPr/>
          <p:nvPr/>
        </p:nvSpPr>
        <p:spPr>
          <a:xfrm>
            <a:off x="492120" y="33660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7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0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4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5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60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2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3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4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9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0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1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2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5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6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7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1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2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5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6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91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2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3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6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7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8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3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4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9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10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11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2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3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4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9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20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21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2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4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5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7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31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2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6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8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9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40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1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2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3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4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9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50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51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3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8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9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60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1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3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4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5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6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7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8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0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71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2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3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4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5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6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7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9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80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81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5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6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0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91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2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3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8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9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4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5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6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7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80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2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6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7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8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9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5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8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8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9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2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5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7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8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7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9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2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3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6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7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4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哎呀小小草</dc:creator>
  <dc:description/>
  <cp:keywords/>
  <dc:language>en-US</dc:language>
  <cp:lastModifiedBy>my</cp:lastModifiedBy>
  <dcterms:modified xsi:type="dcterms:W3CDTF">2015-11-24T11:14:31Z</dcterms:modified>
  <cp:revision>118</cp:revision>
  <dc:subject/>
  <dc:title>PowerPoint 演示文稿</dc:title>
</cp:coreProperties>
</file>