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366-2F18-4BE3-AABE-E4D73D9CA4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标题特殊字体为百度简综艺。可以自行下载使用或改为微软雅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4F65-706C-440E-A9A7-9FE544B18C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057-07B0-4512-A28F-297C0729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E12-1D8F-4F6C-B435-C13C469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E98E-C74F-4D82-972E-5FF9294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922C-4A78-44F7-A323-E69936EF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AB877-6C68-461B-A005-CB792AE0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7810B-A5BC-410A-BFDA-E06915D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B816-FF4C-4BA5-B26B-80A243B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17D1E-CDC4-4163-8977-14BACE7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674BE-8D61-436D-A0BA-1FE6C45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5E7F7-5683-4636-81C0-793D776C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E7BD-603C-484D-B9B5-B937E94F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05465-68D8-491E-8B40-40E5EE64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621-B9AF-4F2E-925B-4AA38127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3D197-5445-41CB-B1B6-6EE2E14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A2C9-C513-4B92-94C2-F88AB2A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C7D7-B448-4BC2-8430-5DFB9B66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1F4AD-8F0A-4785-9666-76406D1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9423-C4D8-42EA-804E-8FB0AEAD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30E7C-5941-4BED-84F4-8D23824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3EE9E-C69D-4B32-816F-865004C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4F465-63A0-4C77-8982-14874DE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A0183-6245-4CF5-BE44-A2CA3E47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02490-0AE6-416D-9E09-D126E579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BC1-26BC-48A5-B8ED-B308680F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5FDC5-C4F4-4A11-9A27-EC4E4F9D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DC0F-39AB-46E2-B109-DDF91AF7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0E151-0409-4550-AC10-5534D50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F9757-93F7-49C8-8C49-0D6723D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BCCB5-2C1C-469F-9FB7-D7DA3953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91D93-D6D8-4005-B406-21826D1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B41B-A79B-4672-8C41-47A3ACF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263E6-B7A8-4672-B600-F97DDCF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618EE-F703-4F9C-9C7E-01DB1AE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F7527-0977-4681-849D-A25DD77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EB2-758A-4B6F-97FD-8619409F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7CC18-D33F-48BA-9A47-6C12CE8F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7ADD-4F80-4D35-B1CA-1009853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7CD2-9BC2-43B2-B082-AC589B8E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3FBCA-F872-4898-9FFA-98EB555D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C9FD0-5241-4173-AC0D-6152C643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43284-4B3B-4139-9007-D02C2A2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C26D7-070F-439B-8D0F-E7355E0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7A79E-909F-4D52-B555-790B54E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80F3E-E4D6-42C5-8025-AD64F5D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2BE75-77B4-4A3A-B80F-2B528E2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A306-9BC7-4037-A49A-75B57B1F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57CB5-4FC8-4744-8FB7-0AE61DC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46DCC-4EFB-4719-B459-603986A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6F977-5008-4CAD-9078-4EFDF815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53FF6-E9BB-418E-A30A-D273210C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5C9C8-E83D-454A-B30C-C42C31F7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0375-47EE-47C3-AF9E-671E860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C786-A5DC-42FD-8D65-8BA63E9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6803-5DAB-4CE5-BE28-CB9921C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71B-FC56-4502-A6AD-737916CF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F93B-598B-43C0-89D8-C4691FBA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854-39F2-4297-B122-F53E34F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1C3-CCB0-4EB2-9A66-D851954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C3AF-2F10-4D1E-8F7B-7423E09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F04-A146-40BB-8F7D-7EE5F82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AAC4-B028-4442-BBCD-250C809F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19D0-332A-4933-804E-DAAA378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F13A-37CC-4155-AFB3-4AF94177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4F1E-182D-43CC-BB81-3B71690D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9A33-E008-4C6E-B4AB-E0E86AC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85E7-993C-42A9-800E-0007EF49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96EA-300D-4E01-A44E-D1E32EB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431-D66A-4996-87EC-D3DB93AC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F765-3996-4E5B-8317-935D0A5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DBA36-E06C-4BC0-9395-74E7859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54EE-75B4-45FE-B4D8-A136008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6CB0-D74D-49A1-BA66-668F8F5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88D5-2094-43DE-BA9F-3BB2B13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596C-18AE-422D-982F-8BA61E8B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FE5D-B330-484F-ADDF-164AA321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1E005-0895-40B6-B79F-6F4F1F4D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0B8A-8F70-4BB6-8EDD-A182709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3A8E-CF9D-4D48-962F-FE53B68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FB1-9BA9-4601-8CB1-EBA6E6C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B863-6866-46FC-9226-3B4E6422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4198-0DEA-4657-9E9E-8045EB7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6D74-DF72-4664-A456-6B67B02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AA57-4C54-411E-A5D9-14CF962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D7EC-3459-49F7-ABD3-4A2448E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3409-D52B-4A7C-93D9-64644D3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098B-0560-4868-B961-582EB488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FE6A-4C4D-4F2E-A1D4-E7A11C8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4F36-634A-4F03-AC82-FBEF8D95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A89C-6681-4536-9B22-4E7FB256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711-650C-4820-9FAB-0B310969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FFF5-8797-42BC-A680-FFDEC07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B5DD-5565-4C47-9A40-975221D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39F8-D626-4AE7-9EE1-C321C2C4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8370-42FF-425F-8EFA-B003AC7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D36F-8827-4166-A840-2FE7B46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E24E-6A64-44D2-8BD6-0BFD0AC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2D0D-C580-4DFA-ABBF-6C21281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E71C-C56A-4C0E-AD84-12F830F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D642-9E7F-4817-A94D-4D199649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F5A5-D6A5-499B-B798-D199D974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CE2-0443-45CD-9F07-6B66AFE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0E5A-21CA-4EC7-ABAD-D89467A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1DD1-51F3-4E97-B831-4F9DCDF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69B4-AC70-4857-A9EF-3A9B9B33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4520-8290-476A-9ECF-D8C1D86B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2F1E-E25F-450E-838D-D5ED2AE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EFBE-1649-4805-B74A-443B7B5A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AE1E-30DD-4C34-B7A1-BC4FD2B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9B38-6000-40F2-A344-DF9C62B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5BDD-D8F0-406B-A44C-E02D58BD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A769-CA97-4D0E-811F-095F0DE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5AF-7D96-4F22-ACC0-BFB3378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03C8-13AE-488D-AAF8-340F699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E9A2-723A-4121-B812-49667997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1061-F98A-4DED-AA7E-F3D6D0A5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6776-54F4-41E3-8BD9-C25E2AF7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34FE-FE3F-462B-9EB3-4C92023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44002-EEB2-4DA5-8E46-AF47BED2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4847-3994-4FE3-A5EB-1CB1C49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9A56-D91C-44AE-B882-959ABC6B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249A-B532-4FB5-802A-E6801F8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E4AE-AF08-420C-984E-DC36235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DFE-0F98-4E68-86F8-D3B6676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05F8-9097-481C-9F2A-B202EAB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678EE-FEFC-46E9-A84E-AA83C01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DF55-4CC8-4827-8BC9-39651280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3277-B2EE-40BB-9864-AD9DF2C0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00AB-38AF-45DD-9E8A-0C50DA22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4C5B-53D3-4866-B6F3-B3AE714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617CB-510D-4629-9AE8-744089E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0EB4E-37E0-4A19-8D80-B05D447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750D-B285-46B9-9166-4A978CD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17E6-D69A-4430-A570-9F6B7F9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221-0651-4773-B315-15EA45C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3C7B-DDD2-44D0-B6B6-E91D870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AF11F-047B-456F-BE73-758AF25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FDCD9-FB56-4083-943B-5DB8330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BCB2-B8F9-4A89-BB05-F6F6FFD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078BD-E777-42E0-A1E6-56D1C2B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E45C-B777-4B74-8537-3450C1C3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E18B5-0996-495D-AB2B-D985D09B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BD445-0845-479F-9880-B4023EED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20FEB-DBE1-4782-9C2A-29BA5BF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40DD2-CE45-43C5-A8C0-123014AF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F7D-3D40-47D6-943D-E62A0796F4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7F6-D9C6-4285-960D-1510BAC31D3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679-1B4C-49E6-95E3-B8A59F9AC16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E74-0204-46C4-BC0A-8B030A2EBEBC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A5E4-275C-430F-B7AD-4A22D3BF906C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ECCB-EB1A-45E8-B86D-8C3E32FFCB6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2E4-BBBE-4884-A460-604B66BD8491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CC8-20F6-4F38-8187-6E8ECF0FED8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6D5-A2B7-44B3-B76C-52CB83419BAC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1B2-9F72-4C9D-BF9A-FD8AA27F739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3625-386A-4318-8C66-AF5A27F36A4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F4E-D267-4DBF-B8EC-262D23A97DE4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7"/>
          <p:cNvSpPr/>
          <p:nvPr/>
        </p:nvSpPr>
        <p:spPr>
          <a:xfrm>
            <a:off x="4514760" y="3914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4"/>
          <p:cNvGrpSpPr/>
          <p:nvPr/>
        </p:nvGrpSpPr>
        <p:grpSpPr>
          <a:xfrm>
            <a:off x="2808720" y="2031840"/>
            <a:ext cx="6373080" cy="1419840"/>
            <a:chOff x="2808720" y="2031840"/>
            <a:chExt cx="6373080" cy="1419840"/>
          </a:xfrm>
        </p:grpSpPr>
        <p:sp>
          <p:nvSpPr>
            <p:cNvPr id="502" name="TextBox 1"/>
            <p:cNvSpPr/>
            <p:nvPr/>
          </p:nvSpPr>
          <p:spPr>
            <a:xfrm>
              <a:off x="2808720" y="203184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互联网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Box 2"/>
            <p:cNvSpPr/>
            <p:nvPr/>
          </p:nvSpPr>
          <p:spPr>
            <a:xfrm>
              <a:off x="5251680" y="2260440"/>
              <a:ext cx="63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TextBox 3"/>
            <p:cNvSpPr/>
            <p:nvPr/>
          </p:nvSpPr>
          <p:spPr>
            <a:xfrm>
              <a:off x="6562800" y="250992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电商创业策划方案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5"/>
          <p:cNvSpPr/>
          <p:nvPr/>
        </p:nvSpPr>
        <p:spPr>
          <a:xfrm>
            <a:off x="3726000" y="3395520"/>
            <a:ext cx="4660920" cy="339840"/>
          </a:xfrm>
          <a:prstGeom prst="rect">
            <a:avLst/>
          </a:prstGeom>
          <a:solidFill>
            <a:srgbClr val="3eb1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框架完整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扁平化呈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超值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绝对专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6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92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93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94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5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7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8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0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701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704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7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10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72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73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1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3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9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2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3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4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5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6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7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9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3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8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40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42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7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8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60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8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60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0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8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8:05:20Z</dcterms:modified>
  <cp:revision>24</cp:revision>
  <dc:subject>12sc.taobao.com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