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122-2B67-48A6-94BE-0E5C0575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0D5-53F6-4C8B-8004-17AE9E0A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BAF-0FD6-4000-A804-83598C9A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6BAF-71B8-475D-9224-B699DBC9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1FAB-A364-4454-8AF8-6EF6211B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F8F0-4848-4212-A9A3-0D97D6E1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141A-A276-48E2-ADAE-F063291C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DB5F-5045-4A01-B9D1-E13DB329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7533-1637-445E-9994-64C23703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F81D-92DA-4141-A853-E8B061C8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2947-A545-486C-ACCF-3EDB875C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E44-306D-450A-BC2A-5D9465E9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ACF2-A0B8-41B4-801A-52D5DE72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AE11-F233-4DA0-886F-31D05D71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2E4C-ECAD-4F2F-B796-A482D03E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565F-1A13-41CE-A4F5-E6CEF2BD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AA41-F071-4CD4-A8D4-A0B3DF12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1BA43-2D7B-4BED-8359-E7883C1C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DF8DF-18CC-4D89-99BC-91DA6898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12158-8519-4E24-8574-D700CBBD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7C978-D272-450F-9418-E7AF869F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33EE1-3065-42FB-B9A6-26939A02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2E3-628E-4542-82CD-4D83F8D3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16B96-CB52-41EA-8932-EB4EE680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67A83-F26A-4FEE-822F-0CA96389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F8DC1-4302-4A27-A33A-1FCE1721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EF4EE-1AD0-4D91-AA54-0B36B005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F8094-B921-4A14-8EC8-A05B6169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D295B-111E-4B6A-985E-EAC738D3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6C5CD-86DB-461C-84C4-048985A4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D2025-A62E-4637-BE1C-DBCB5ED1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F2011-99CE-406E-ACB6-FA91EF49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A6702-AE4F-4FF6-8F70-4DB408FB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A07-6A86-457F-9C11-76584A61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90C7B-BBF8-4ED4-9034-61C12551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7207C-A17E-411A-ACC6-78773E84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2CB2C-F515-445D-B93A-BA4C2BD8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4A65-0B60-4B7A-97E7-E52089E0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939DB-B95A-4027-A8D4-8AEC55E7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93CD7-C92B-423E-BE3D-0D0F6C7A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C965A-2A15-4817-8B0C-983583B5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46246-D06A-48D0-BBAA-157E098C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4CF3A-0BDE-45AD-8B5F-CFFD43F3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673C-ADBB-44A3-8A82-F5C743C0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EE11-C65C-4811-A786-153D207A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FF0-8078-4BBE-8741-389C2ED0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7AB-4F3D-44F0-9663-D0B24FCC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D11-6C84-490D-9D09-7D8B1253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453D-66FF-4801-BFE1-DF11E5FCE8F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1427-D4DA-4F55-B2C2-4430DFF11EF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BFB6-912E-4F7C-B935-09854397A15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659C-7DFB-425F-B8C4-52BFFC31721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35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37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9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40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1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42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4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45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6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47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9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50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1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52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4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55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6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57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9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60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1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62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4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75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76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8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79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1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84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85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88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0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93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94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97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9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603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5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606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608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611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613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5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616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8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620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24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49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7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54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6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57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9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60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63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66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68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0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71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2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73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76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7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78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81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2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83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87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89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1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92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3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94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6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97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99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1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702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719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2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3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4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5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6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2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3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4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5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6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54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7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080040" cy="341964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2" descr=""/>
          <p:cNvPicPr/>
          <p:nvPr/>
        </p:nvPicPr>
        <p:blipFill>
          <a:blip r:embed="rId2"/>
          <a:stretch/>
        </p:blipFill>
        <p:spPr>
          <a:xfrm>
            <a:off x="6100920" y="792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3" descr=""/>
          <p:cNvPicPr/>
          <p:nvPr/>
        </p:nvPicPr>
        <p:blipFill>
          <a:blip r:embed="rId3"/>
          <a:stretch/>
        </p:blipFill>
        <p:spPr>
          <a:xfrm>
            <a:off x="9151920" y="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4" descr=""/>
          <p:cNvPicPr/>
          <p:nvPr/>
        </p:nvPicPr>
        <p:blipFill>
          <a:blip r:embed="rId4"/>
          <a:stretch/>
        </p:blipFill>
        <p:spPr>
          <a:xfrm>
            <a:off x="610236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5" descr=""/>
          <p:cNvPicPr/>
          <p:nvPr/>
        </p:nvPicPr>
        <p:blipFill>
          <a:blip r:embed="rId5"/>
          <a:stretch/>
        </p:blipFill>
        <p:spPr>
          <a:xfrm>
            <a:off x="915192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6" descr=""/>
          <p:cNvPicPr/>
          <p:nvPr/>
        </p:nvPicPr>
        <p:blipFill>
          <a:blip r:embed="rId6"/>
          <a:stretch/>
        </p:blipFill>
        <p:spPr>
          <a:xfrm>
            <a:off x="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7" descr=""/>
          <p:cNvPicPr/>
          <p:nvPr/>
        </p:nvPicPr>
        <p:blipFill>
          <a:blip r:embed="rId7"/>
          <a:stretch/>
        </p:blipFill>
        <p:spPr>
          <a:xfrm>
            <a:off x="305748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8" descr=""/>
          <p:cNvPicPr/>
          <p:nvPr/>
        </p:nvPicPr>
        <p:blipFill>
          <a:blip r:embed="rId8"/>
          <a:stretch/>
        </p:blipFill>
        <p:spPr>
          <a:xfrm>
            <a:off x="61117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9" descr=""/>
          <p:cNvPicPr/>
          <p:nvPr/>
        </p:nvPicPr>
        <p:blipFill>
          <a:blip r:embed="rId9"/>
          <a:stretch/>
        </p:blipFill>
        <p:spPr>
          <a:xfrm>
            <a:off x="91519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10" descr=""/>
          <p:cNvPicPr/>
          <p:nvPr/>
        </p:nvPicPr>
        <p:blipFill>
          <a:blip r:embed="rId10"/>
          <a:stretch/>
        </p:blipFill>
        <p:spPr>
          <a:xfrm>
            <a:off x="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11" descr=""/>
          <p:cNvPicPr/>
          <p:nvPr/>
        </p:nvPicPr>
        <p:blipFill>
          <a:blip r:embed="rId11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2" descr=""/>
          <p:cNvPicPr/>
          <p:nvPr/>
        </p:nvPicPr>
        <p:blipFill>
          <a:blip r:embed="rId12"/>
          <a:stretch/>
        </p:blipFill>
        <p:spPr>
          <a:xfrm>
            <a:off x="610092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13" descr=""/>
          <p:cNvPicPr/>
          <p:nvPr/>
        </p:nvPicPr>
        <p:blipFill>
          <a:blip r:embed="rId13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802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" descr=""/>
          <p:cNvPicPr/>
          <p:nvPr/>
        </p:nvPicPr>
        <p:blipFill>
          <a:blip r:embed="rId1"/>
          <a:stretch/>
        </p:blipFill>
        <p:spPr>
          <a:xfrm>
            <a:off x="6080040" y="-4680"/>
            <a:ext cx="6112080" cy="343836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2" descr=""/>
          <p:cNvPicPr/>
          <p:nvPr/>
        </p:nvPicPr>
        <p:blipFill>
          <a:blip r:embed="rId2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3" descr=""/>
          <p:cNvPicPr/>
          <p:nvPr/>
        </p:nvPicPr>
        <p:blipFill>
          <a:blip r:embed="rId3"/>
          <a:stretch/>
        </p:blipFill>
        <p:spPr>
          <a:xfrm>
            <a:off x="0" y="342108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4" descr=""/>
          <p:cNvPicPr/>
          <p:nvPr/>
        </p:nvPicPr>
        <p:blipFill>
          <a:blip r:embed="rId4"/>
          <a:stretch/>
        </p:blipFill>
        <p:spPr>
          <a:xfrm>
            <a:off x="302436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5" descr=""/>
          <p:cNvPicPr/>
          <p:nvPr/>
        </p:nvPicPr>
        <p:blipFill>
          <a:blip r:embed="rId5"/>
          <a:stretch/>
        </p:blipFill>
        <p:spPr>
          <a:xfrm>
            <a:off x="608652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6" descr=""/>
          <p:cNvPicPr/>
          <p:nvPr/>
        </p:nvPicPr>
        <p:blipFill>
          <a:blip r:embed="rId6"/>
          <a:stretch/>
        </p:blipFill>
        <p:spPr>
          <a:xfrm>
            <a:off x="9151920" y="3438360"/>
            <a:ext cx="3040200" cy="171000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7" descr=""/>
          <p:cNvPicPr/>
          <p:nvPr/>
        </p:nvPicPr>
        <p:blipFill>
          <a:blip r:embed="rId7"/>
          <a:stretch/>
        </p:blipFill>
        <p:spPr>
          <a:xfrm>
            <a:off x="0" y="5140440"/>
            <a:ext cx="3040200" cy="171108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8" descr=""/>
          <p:cNvPicPr/>
          <p:nvPr/>
        </p:nvPicPr>
        <p:blipFill>
          <a:blip r:embed="rId8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9" descr=""/>
          <p:cNvPicPr/>
          <p:nvPr/>
        </p:nvPicPr>
        <p:blipFill>
          <a:blip r:embed="rId9"/>
          <a:stretch/>
        </p:blipFill>
        <p:spPr>
          <a:xfrm>
            <a:off x="609588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10" descr=""/>
          <p:cNvPicPr/>
          <p:nvPr/>
        </p:nvPicPr>
        <p:blipFill>
          <a:blip r:embed="rId10"/>
          <a:stretch/>
        </p:blipFill>
        <p:spPr>
          <a:xfrm>
            <a:off x="0" y="0"/>
            <a:ext cx="6064200" cy="341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99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0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501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3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504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5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506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8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509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0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511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3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Justin</cp:lastModifiedBy>
  <dcterms:modified xsi:type="dcterms:W3CDTF">2014-03-03T09:23:01Z</dcterms:modified>
  <cp:revision>78</cp:revision>
  <dc:subject/>
  <dc:title>PowerPoint 演示文稿</dc:title>
</cp:coreProperties>
</file>