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F69F-478F-40AB-84CA-286CC3FD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5556-39EF-43AA-A322-48281675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0099D-197E-4296-B1AA-5C22FD69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A75FD-E185-499D-8A99-10D2549C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4CA04-340F-4141-8C46-CCD410B8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547C8-EBFC-4965-9473-726F26AB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742A8-AEBE-4990-B627-1843548E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BE2AB-A82D-48CE-9203-62FFF15F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1EC4A-F8E3-42A9-8284-CF1FEA6A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D232D-6E98-4D33-BE2B-F861DDCA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0C6BB-5135-48FE-8D52-7E6566C9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1BB2A-B8B5-4A40-8407-33B5A284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41C-A70D-499E-8454-37507426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F8D94-71B1-4CDA-914A-CE217102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6C8F0-10F3-409F-9152-9E6CB6C4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2EA04-9FFC-4749-A490-8129A53C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342B2-F0EE-44E2-861F-1A15AA55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976F3-488C-47EF-8299-C9CBE00F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DE0C1-88FB-4BC3-9F55-D29E4E14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D4F5A-5305-46ED-8B60-FF02BE90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1100F-D4EF-4257-B4F3-B60EE346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D9112-4450-4E59-8DE5-F6FD6189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E3A23-A65A-4300-9539-19C5D437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D059-3CF4-4C53-9C79-D7EC3AEA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A4FAD-C605-43C4-A65C-B087AE2D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9E8F7-38E7-4FE6-A8DC-AE262458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E5302-A583-49FD-B82F-C07951B1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8974E-9C97-460D-967C-56CD1B52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3073F-877F-42E7-BAD6-478DC51F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F13D2-1018-4A26-9EDD-2135A1E7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7A0A1-0730-40CF-8C53-D70C5365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D433C-7C8D-4E1D-919E-FA32FD35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2252E-4E68-4BBA-ADD4-0802E725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82778-20D6-4A51-AD3D-7AC8A752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90D5-B67B-49B4-AB2F-A7E7A808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750C7-77AC-4636-9837-4560C3FB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FEF98-718A-4C73-8D19-E4C14769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32D02-1F63-41D3-9F6B-333738E1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2B570-EE8B-408B-A4B8-CFA884AB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CAD8C-9234-48AF-86EE-8B9222B1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2F408-8022-4629-8935-790C3DFB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ABF5D-B5BB-4A90-86E6-D0C99074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C1849-F444-4D3F-8352-CC1F8D07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1DCF4-4018-4FA4-8E4B-4D6DAD47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7815E-F02C-4E0D-98F9-B15743A7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83F6-02DD-438A-91A9-51165F1C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06065-D605-44FA-A71C-DB47D1D3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37BD6-C6B3-4EE8-A109-93696701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A3916-C3EF-431F-B80C-9B5CEAB0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FA15E-8315-49BC-90E7-E6982E35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B5718-0017-4EB2-A0B9-7D063F52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9745-CBE2-4775-9AC6-6B0CC37C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A0AD-D43F-469A-9922-2241E51D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236C-2793-4DDE-AD4B-EA976FD5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1E10-F834-4FF0-8079-0866C38D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86C4-FE1F-4FDA-B82D-05A6271C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107-63C3-4D66-A673-13C06EDA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D307-B7B3-450A-B855-0D46C149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379D-A047-4FEC-8CC4-3BC4741B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3C2D-53F0-4425-B0CF-B44EE1F5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310F-003D-4D6C-9174-709774B4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E87A-9330-4065-8A81-1473080E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01735-3E03-4B66-8D84-54FDAD36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D70B4-D381-4A4F-B0EB-E5D3971A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3F9E4-55B8-4E1D-BBE7-E0CA1C21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0795D-BA11-47AC-97AF-AFB9C249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C2441-A256-45F9-911F-0C6CA85E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DED7-765A-4530-98A6-37D48C87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88875-9721-4A79-B35B-0A107E99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CB625-343A-4EA3-AB74-F1E9581C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A82FD-B93F-4C53-A192-B07FD144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A716F-052B-4A98-98DB-06E529FE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04363-9151-401B-A934-006C541A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CD8E2-C787-4856-9C5A-65A7D64C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BADF2-36D2-4985-AF39-CC2B30EA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617A9-ED16-43DE-878E-B108C01E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32E06-43AC-4FB1-A9EF-9BF224CA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52BA2-315F-45C9-ACD2-56CF9C55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2A21-BE5F-465C-8308-4FDD60FC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C5783-1FE9-430D-A877-86BACEC7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31B2C-A06F-4BC2-A13A-91612A04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533C7-E6FC-4307-A40C-9B11497E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F061C-BF70-4A8E-ABC7-241B9598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1E042-C11A-41B9-B401-21B1414D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B592B-7DEA-4DCF-A69B-842CE5BE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BEEDF-E174-478E-B9C8-BFC0DE8A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41925-EC20-4D41-BDE0-9FCE5A31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ACB87-753A-44A2-A72C-AA3B3439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DF6BE-1E61-4BA1-90FD-89883E43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9AE-D1A9-4337-A205-6F61C4C6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14591-7DF4-409F-B532-E85DF2B6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275C3-A5FA-49D5-979C-8C669691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18ABA-4030-4203-A1A4-BFC3085D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AEAE8-6954-4C69-878E-B6620938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E375F-4592-4FA1-8BC4-02BB1982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936A9-9DEE-4EA8-8B4F-08A0EFF4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51E6C-6142-41F1-91FC-1D9A7553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36AAC-E645-4976-B532-7D984991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064F9-E4A7-4C77-9A0C-72E9938C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BFC32-C85B-4FDF-A209-8E3E1CA3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BFCB-4671-4032-BCF4-1E24BB10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BF6A1-9C32-49E9-A3DE-89EF00C0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CB323-9E12-4D82-8A7A-9FD185FF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76B76-5212-4F62-9C5D-9C183EA5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0EE5E-A9C9-4487-BB35-6FC20F2B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3CEA1-FBA9-4F14-A446-EB32E333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9F59E-D4E2-45C1-9A71-937E950D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ACBCB-956D-4A89-9EB8-7EC9FF84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C3EBA-0C70-4DB7-804B-A1CE7497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74E6E-A538-4F60-8A83-D2D5B39E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18218-E61C-41AC-B543-42CAFE3F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4EC4-169B-4D10-99E4-F7DD11C1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0C45E-0EEA-4DE6-A11E-45A6633C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6D310-FFA7-47CB-9EF4-39B23AA2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0CF81-FCD5-447F-B376-1FAE7F89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E9DF3-977D-439E-8FE7-0611C0E0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C3097-FAE3-4365-881B-8AAE44C5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5D9B1-CDF6-4EF2-B372-07A9351A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6CB53-022F-4C09-99CD-88BAC687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4B386-4CB3-443E-B6CF-21B6E61A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B0D4B-E1EF-4E11-9946-8C99C116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6410A-1912-4B53-8CDD-34B7807B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7FE7-69F1-4AB1-AA63-1785B702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B0463-E922-413F-9AC0-FF71374E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EB93C-D24C-44D7-A3C8-FC8F6740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E9D83-C870-45F5-8F5A-C4BFDBBF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4265D-8C61-45CC-BAF7-67160644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C87E5-BBB6-48FA-B664-F4161489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22F48-3298-4B0F-B954-7C4319D6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8A9E9-4F8D-4A7E-8367-9AA24100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7568D-EB43-4F5D-BB4B-7E8A8389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5D983-DDE4-476D-B20B-4FCB73AA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43F82-4C7B-444A-B55E-3FC13738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D734-7DAB-41AB-BEE9-DCACD0DD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0F971-CF00-4C27-B73E-ADC17D3A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59ADA-2BDF-47F4-BB04-32DC3243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A586B-A293-4F88-A0DF-42C761EB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DB64C-5B72-47A5-897C-51A52729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A2611-2EC8-4864-8E74-8EA81B85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5A630-FBA2-43CF-B186-F8575D97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B0A3F-F59F-4EF7-9ACB-9CA58CC3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96E57-1CC7-4D7E-B1B0-3618944F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ABD6C-A764-426A-9ED5-05176381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29E8A-7C13-475F-B073-852BC4FF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7CB7-6EE7-4380-988C-A1EC17394A2B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F992-D840-4A4C-83B4-9C3D548F4D40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3C94-36CF-481B-91DF-7C1F7D78B78F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6B78-0E58-4B65-B05C-444E423CB18C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4DE4-AB6E-4545-89FF-24E0699B5A8B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B2C1-DC9C-46FE-A9A7-7D438F83C7FF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C35C-EF09-4F56-91BF-089AACE35CCC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2B85-823E-4B0D-9064-B096441D5BA4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D9CE-9C64-4E74-94E8-284D90EB8C4B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DD0B-2079-4F48-B965-44A92E85CD1E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81EB-DEA3-4A1D-9410-6D24C871D43F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8DFC-D796-4079-AA67-619A7C034072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3" name="六边形 8"/>
          <p:cNvSpPr/>
          <p:nvPr/>
        </p:nvSpPr>
        <p:spPr>
          <a:xfrm>
            <a:off x="3181320" y="1116000"/>
            <a:ext cx="2779920" cy="17971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六边形 11"/>
          <p:cNvSpPr/>
          <p:nvPr/>
        </p:nvSpPr>
        <p:spPr>
          <a:xfrm>
            <a:off x="3300480" y="1192320"/>
            <a:ext cx="2543040" cy="1644480"/>
          </a:xfrm>
          <a:prstGeom prst="hexagon">
            <a:avLst>
              <a:gd name="adj" fmla="val 24993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直接连接符 13"/>
          <p:cNvSpPr/>
          <p:nvPr/>
        </p:nvSpPr>
        <p:spPr>
          <a:xfrm>
            <a:off x="1189080" y="321480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14"/>
          <p:cNvSpPr/>
          <p:nvPr/>
        </p:nvSpPr>
        <p:spPr>
          <a:xfrm>
            <a:off x="1986120" y="3349800"/>
            <a:ext cx="695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企业商务模板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7"/>
          <p:cNvSpPr/>
          <p:nvPr/>
        </p:nvSpPr>
        <p:spPr>
          <a:xfrm>
            <a:off x="3239640" y="1192320"/>
            <a:ext cx="26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Calibri"/>
              </a:rPr>
              <a:t>201X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642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Rectangle 88"/>
          <p:cNvSpPr/>
          <p:nvPr/>
        </p:nvSpPr>
        <p:spPr>
          <a:xfrm>
            <a:off x="5388120" y="2163600"/>
            <a:ext cx="107640" cy="1890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Oval 2"/>
          <p:cNvSpPr/>
          <p:nvPr/>
        </p:nvSpPr>
        <p:spPr>
          <a:xfrm>
            <a:off x="2104920" y="2127240"/>
            <a:ext cx="1432080" cy="107316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Oval 37"/>
          <p:cNvSpPr/>
          <p:nvPr/>
        </p:nvSpPr>
        <p:spPr>
          <a:xfrm>
            <a:off x="3656160" y="1863720"/>
            <a:ext cx="895320" cy="67320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Oval 38"/>
          <p:cNvSpPr/>
          <p:nvPr/>
        </p:nvSpPr>
        <p:spPr>
          <a:xfrm>
            <a:off x="1092240" y="1863720"/>
            <a:ext cx="895320" cy="6732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Oval 39"/>
          <p:cNvSpPr/>
          <p:nvPr/>
        </p:nvSpPr>
        <p:spPr>
          <a:xfrm>
            <a:off x="3656160" y="2884320"/>
            <a:ext cx="895320" cy="67176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Oval 41"/>
          <p:cNvSpPr/>
          <p:nvPr/>
        </p:nvSpPr>
        <p:spPr>
          <a:xfrm>
            <a:off x="1092240" y="2886120"/>
            <a:ext cx="895320" cy="67140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traight Connector 5"/>
          <p:cNvSpPr/>
          <p:nvPr/>
        </p:nvSpPr>
        <p:spPr>
          <a:xfrm>
            <a:off x="1944720" y="2360520"/>
            <a:ext cx="217440" cy="6984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traight Connector 44"/>
          <p:cNvSpPr/>
          <p:nvPr/>
        </p:nvSpPr>
        <p:spPr>
          <a:xfrm flipV="1">
            <a:off x="1969920" y="2945880"/>
            <a:ext cx="252720" cy="12564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traight Connector 46"/>
          <p:cNvSpPr/>
          <p:nvPr/>
        </p:nvSpPr>
        <p:spPr>
          <a:xfrm flipV="1">
            <a:off x="3481560" y="2360520"/>
            <a:ext cx="233280" cy="6984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traight Connector 48"/>
          <p:cNvSpPr/>
          <p:nvPr/>
        </p:nvSpPr>
        <p:spPr>
          <a:xfrm>
            <a:off x="3427560" y="2946240"/>
            <a:ext cx="279360" cy="12564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Picture 12" descr=""/>
          <p:cNvPicPr/>
          <p:nvPr/>
        </p:nvPicPr>
        <p:blipFill>
          <a:blip r:embed="rId2"/>
          <a:stretch/>
        </p:blipFill>
        <p:spPr>
          <a:xfrm>
            <a:off x="2505240" y="2398680"/>
            <a:ext cx="618840" cy="517680"/>
          </a:xfrm>
          <a:prstGeom prst="rect">
            <a:avLst/>
          </a:prstGeom>
          <a:ln w="0">
            <a:noFill/>
          </a:ln>
        </p:spPr>
      </p:pic>
      <p:pic>
        <p:nvPicPr>
          <p:cNvPr id="654" name="组合 14" descr=""/>
          <p:cNvPicPr/>
          <p:nvPr/>
        </p:nvPicPr>
        <p:blipFill>
          <a:blip r:embed="rId3"/>
          <a:stretch/>
        </p:blipFill>
        <p:spPr>
          <a:xfrm>
            <a:off x="3932280" y="3086280"/>
            <a:ext cx="341280" cy="264960"/>
          </a:xfrm>
          <a:prstGeom prst="rect">
            <a:avLst/>
          </a:prstGeom>
          <a:ln w="0">
            <a:noFill/>
          </a:ln>
        </p:spPr>
      </p:pic>
      <p:pic>
        <p:nvPicPr>
          <p:cNvPr id="655" name="组合 18" descr=""/>
          <p:cNvPicPr/>
          <p:nvPr/>
        </p:nvPicPr>
        <p:blipFill>
          <a:blip r:embed="rId4"/>
          <a:stretch/>
        </p:blipFill>
        <p:spPr>
          <a:xfrm>
            <a:off x="3919680" y="2075040"/>
            <a:ext cx="334800" cy="252360"/>
          </a:xfrm>
          <a:prstGeom prst="rect">
            <a:avLst/>
          </a:prstGeom>
          <a:ln w="0">
            <a:noFill/>
          </a:ln>
        </p:spPr>
      </p:pic>
      <p:grpSp>
        <p:nvGrpSpPr>
          <p:cNvPr id="656" name="组合 24"/>
          <p:cNvGrpSpPr/>
          <p:nvPr/>
        </p:nvGrpSpPr>
        <p:grpSpPr>
          <a:xfrm>
            <a:off x="1395360" y="3135240"/>
            <a:ext cx="271440" cy="206280"/>
            <a:chOff x="1395360" y="3135240"/>
            <a:chExt cx="271440" cy="206280"/>
          </a:xfrm>
        </p:grpSpPr>
        <p:sp>
          <p:nvSpPr>
            <p:cNvPr id="657" name="Oval 69"/>
            <p:cNvSpPr/>
            <p:nvPr/>
          </p:nvSpPr>
          <p:spPr>
            <a:xfrm>
              <a:off x="1395360" y="3135240"/>
              <a:ext cx="271440" cy="206280"/>
            </a:xfrm>
            <a:prstGeom prst="ellipse">
              <a:avLst/>
            </a:pr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30240" bIns="30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70"/>
            <p:cNvSpPr/>
            <p:nvPr/>
          </p:nvSpPr>
          <p:spPr>
            <a:xfrm>
              <a:off x="1454400" y="3197520"/>
              <a:ext cx="128880" cy="9864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139" y="208"/>
                  </a:moveTo>
                  <a:lnTo>
                    <a:pt x="104" y="104"/>
                  </a:lnTo>
                  <a:lnTo>
                    <a:pt x="0" y="69"/>
                  </a:lnTo>
                  <a:lnTo>
                    <a:pt x="208" y="0"/>
                  </a:lnTo>
                  <a:lnTo>
                    <a:pt x="139" y="208"/>
                  </a:ln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9" name="Freeform 94"/>
          <p:cNvSpPr/>
          <p:nvPr/>
        </p:nvSpPr>
        <p:spPr>
          <a:xfrm>
            <a:off x="1395360" y="2075040"/>
            <a:ext cx="336600" cy="2617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76" y="147"/>
                </a:moveTo>
                <a:cubicBezTo>
                  <a:pt x="186" y="142"/>
                  <a:pt x="192" y="132"/>
                  <a:pt x="192" y="120"/>
                </a:cubicBezTo>
                <a:cubicBezTo>
                  <a:pt x="192" y="108"/>
                  <a:pt x="186" y="98"/>
                  <a:pt x="176" y="92"/>
                </a:cubicBezTo>
                <a:cubicBezTo>
                  <a:pt x="176" y="92"/>
                  <a:pt x="176" y="92"/>
                  <a:pt x="176" y="91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6" y="47"/>
                  <a:pt x="176" y="47"/>
                  <a:pt x="176" y="46"/>
                </a:cubicBezTo>
                <a:cubicBezTo>
                  <a:pt x="166" y="23"/>
                  <a:pt x="135" y="0"/>
                  <a:pt x="96" y="0"/>
                </a:cubicBezTo>
                <a:cubicBezTo>
                  <a:pt x="57" y="0"/>
                  <a:pt x="27" y="23"/>
                  <a:pt x="17" y="46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7"/>
                  <a:pt x="16" y="47"/>
                </a:cubicBezTo>
                <a:cubicBezTo>
                  <a:pt x="16" y="47"/>
                  <a:pt x="16" y="47"/>
                  <a:pt x="16" y="48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2"/>
                  <a:pt x="16" y="92"/>
                  <a:pt x="16" y="92"/>
                </a:cubicBezTo>
                <a:cubicBezTo>
                  <a:pt x="7" y="98"/>
                  <a:pt x="0" y="108"/>
                  <a:pt x="0" y="120"/>
                </a:cubicBezTo>
                <a:cubicBezTo>
                  <a:pt x="0" y="138"/>
                  <a:pt x="14" y="152"/>
                  <a:pt x="32" y="152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35" y="157"/>
                  <a:pt x="39" y="160"/>
                  <a:pt x="44" y="160"/>
                </a:cubicBezTo>
                <a:cubicBezTo>
                  <a:pt x="51" y="160"/>
                  <a:pt x="56" y="154"/>
                  <a:pt x="56" y="148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85"/>
                  <a:pt x="51" y="80"/>
                  <a:pt x="44" y="80"/>
                </a:cubicBezTo>
                <a:cubicBezTo>
                  <a:pt x="39" y="80"/>
                  <a:pt x="35" y="83"/>
                  <a:pt x="33" y="88"/>
                </a:cubicBezTo>
                <a:cubicBezTo>
                  <a:pt x="32" y="88"/>
                  <a:pt x="32" y="88"/>
                  <a:pt x="32" y="88"/>
                </a:cubicBezTo>
                <a:cubicBezTo>
                  <a:pt x="29" y="88"/>
                  <a:pt x="27" y="88"/>
                  <a:pt x="24" y="89"/>
                </a:cubicBezTo>
                <a:cubicBezTo>
                  <a:pt x="24" y="49"/>
                  <a:pt x="24" y="49"/>
                  <a:pt x="24" y="49"/>
                </a:cubicBezTo>
                <a:cubicBezTo>
                  <a:pt x="28" y="40"/>
                  <a:pt x="36" y="31"/>
                  <a:pt x="46" y="24"/>
                </a:cubicBezTo>
                <a:cubicBezTo>
                  <a:pt x="52" y="31"/>
                  <a:pt x="52" y="31"/>
                  <a:pt x="52" y="31"/>
                </a:cubicBezTo>
                <a:cubicBezTo>
                  <a:pt x="54" y="32"/>
                  <a:pt x="56" y="32"/>
                  <a:pt x="57" y="31"/>
                </a:cubicBezTo>
                <a:cubicBezTo>
                  <a:pt x="57" y="31"/>
                  <a:pt x="69" y="24"/>
                  <a:pt x="96" y="24"/>
                </a:cubicBezTo>
                <a:cubicBezTo>
                  <a:pt x="123" y="24"/>
                  <a:pt x="135" y="31"/>
                  <a:pt x="135" y="31"/>
                </a:cubicBezTo>
                <a:cubicBezTo>
                  <a:pt x="136" y="32"/>
                  <a:pt x="136" y="32"/>
                  <a:pt x="137" y="32"/>
                </a:cubicBezTo>
                <a:cubicBezTo>
                  <a:pt x="138" y="32"/>
                  <a:pt x="139" y="31"/>
                  <a:pt x="140" y="31"/>
                </a:cubicBezTo>
                <a:cubicBezTo>
                  <a:pt x="147" y="24"/>
                  <a:pt x="147" y="24"/>
                  <a:pt x="147" y="24"/>
                </a:cubicBezTo>
                <a:cubicBezTo>
                  <a:pt x="157" y="31"/>
                  <a:pt x="164" y="40"/>
                  <a:pt x="168" y="4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6" y="88"/>
                  <a:pt x="163" y="88"/>
                  <a:pt x="160" y="88"/>
                </a:cubicBezTo>
                <a:cubicBezTo>
                  <a:pt x="159" y="88"/>
                  <a:pt x="159" y="88"/>
                  <a:pt x="159" y="88"/>
                </a:cubicBezTo>
                <a:cubicBezTo>
                  <a:pt x="158" y="83"/>
                  <a:pt x="153" y="80"/>
                  <a:pt x="148" y="80"/>
                </a:cubicBezTo>
                <a:cubicBezTo>
                  <a:pt x="142" y="80"/>
                  <a:pt x="136" y="85"/>
                  <a:pt x="136" y="92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54"/>
                  <a:pt x="142" y="160"/>
                  <a:pt x="148" y="160"/>
                </a:cubicBezTo>
                <a:cubicBezTo>
                  <a:pt x="153" y="160"/>
                  <a:pt x="158" y="157"/>
                  <a:pt x="159" y="152"/>
                </a:cubicBezTo>
                <a:cubicBezTo>
                  <a:pt x="160" y="152"/>
                  <a:pt x="160" y="152"/>
                  <a:pt x="160" y="152"/>
                </a:cubicBezTo>
                <a:cubicBezTo>
                  <a:pt x="163" y="152"/>
                  <a:pt x="166" y="151"/>
                  <a:pt x="169" y="151"/>
                </a:cubicBezTo>
                <a:cubicBezTo>
                  <a:pt x="175" y="162"/>
                  <a:pt x="175" y="162"/>
                  <a:pt x="175" y="162"/>
                </a:cubicBezTo>
                <a:cubicBezTo>
                  <a:pt x="143" y="174"/>
                  <a:pt x="143" y="174"/>
                  <a:pt x="143" y="174"/>
                </a:cubicBezTo>
                <a:cubicBezTo>
                  <a:pt x="142" y="173"/>
                  <a:pt x="142" y="172"/>
                  <a:pt x="141" y="171"/>
                </a:cubicBezTo>
                <a:cubicBezTo>
                  <a:pt x="138" y="169"/>
                  <a:pt x="135" y="168"/>
                  <a:pt x="132" y="168"/>
                </a:cubicBezTo>
                <a:cubicBezTo>
                  <a:pt x="116" y="168"/>
                  <a:pt x="116" y="168"/>
                  <a:pt x="116" y="168"/>
                </a:cubicBezTo>
                <a:cubicBezTo>
                  <a:pt x="110" y="168"/>
                  <a:pt x="104" y="173"/>
                  <a:pt x="104" y="180"/>
                </a:cubicBezTo>
                <a:cubicBezTo>
                  <a:pt x="104" y="186"/>
                  <a:pt x="110" y="192"/>
                  <a:pt x="116" y="192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138" y="192"/>
                  <a:pt x="142" y="188"/>
                  <a:pt x="144" y="183"/>
                </a:cubicBezTo>
                <a:cubicBezTo>
                  <a:pt x="182" y="167"/>
                  <a:pt x="182" y="167"/>
                  <a:pt x="182" y="167"/>
                </a:cubicBezTo>
                <a:cubicBezTo>
                  <a:pt x="183" y="167"/>
                  <a:pt x="184" y="166"/>
                  <a:pt x="184" y="165"/>
                </a:cubicBezTo>
                <a:cubicBezTo>
                  <a:pt x="184" y="164"/>
                  <a:pt x="184" y="163"/>
                  <a:pt x="184" y="162"/>
                </a:cubicBezTo>
                <a:lnTo>
                  <a:pt x="176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88"/>
          <p:cNvSpPr/>
          <p:nvPr/>
        </p:nvSpPr>
        <p:spPr>
          <a:xfrm>
            <a:off x="5388120" y="2484360"/>
            <a:ext cx="107640" cy="19044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88"/>
          <p:cNvSpPr/>
          <p:nvPr/>
        </p:nvSpPr>
        <p:spPr>
          <a:xfrm>
            <a:off x="5388120" y="2819520"/>
            <a:ext cx="107640" cy="18864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88"/>
          <p:cNvSpPr/>
          <p:nvPr/>
        </p:nvSpPr>
        <p:spPr>
          <a:xfrm>
            <a:off x="5388120" y="3156120"/>
            <a:ext cx="107640" cy="18864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13"/>
          <p:cNvSpPr/>
          <p:nvPr/>
        </p:nvSpPr>
        <p:spPr>
          <a:xfrm>
            <a:off x="5545080" y="219240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3"/>
          <p:cNvSpPr/>
          <p:nvPr/>
        </p:nvSpPr>
        <p:spPr>
          <a:xfrm>
            <a:off x="5545080" y="251136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13"/>
          <p:cNvSpPr/>
          <p:nvPr/>
        </p:nvSpPr>
        <p:spPr>
          <a:xfrm>
            <a:off x="5545080" y="28576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5545080" y="31798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图片 1" descr=""/>
          <p:cNvPicPr/>
          <p:nvPr/>
        </p:nvPicPr>
        <p:blipFill>
          <a:blip r:embed="rId1"/>
          <a:stretch/>
        </p:blipFill>
        <p:spPr>
          <a:xfrm>
            <a:off x="378000" y="1311120"/>
            <a:ext cx="8388000" cy="2711520"/>
          </a:xfrm>
          <a:prstGeom prst="rect">
            <a:avLst/>
          </a:prstGeom>
          <a:ln w="0">
            <a:noFill/>
          </a:ln>
        </p:spPr>
      </p:pic>
      <p:pic>
        <p:nvPicPr>
          <p:cNvPr id="668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669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4"/>
          <p:cNvSpPr/>
          <p:nvPr/>
        </p:nvSpPr>
        <p:spPr>
          <a:xfrm>
            <a:off x="2444760" y="3494160"/>
            <a:ext cx="165240" cy="12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5"/>
          <p:cNvSpPr/>
          <p:nvPr/>
        </p:nvSpPr>
        <p:spPr>
          <a:xfrm>
            <a:off x="1933560" y="3686040"/>
            <a:ext cx="1235160" cy="3826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Line 6"/>
          <p:cNvSpPr/>
          <p:nvPr/>
        </p:nvSpPr>
        <p:spPr>
          <a:xfrm flipH="1">
            <a:off x="2141640" y="3976560"/>
            <a:ext cx="823680" cy="0"/>
          </a:xfrm>
          <a:prstGeom prst="line">
            <a:avLst/>
          </a:prstGeom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Freeform 7"/>
          <p:cNvSpPr/>
          <p:nvPr/>
        </p:nvSpPr>
        <p:spPr>
          <a:xfrm>
            <a:off x="623880" y="1674720"/>
            <a:ext cx="3862440" cy="201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Line 8"/>
          <p:cNvSpPr/>
          <p:nvPr/>
        </p:nvSpPr>
        <p:spPr>
          <a:xfrm flipH="1">
            <a:off x="623880" y="3416400"/>
            <a:ext cx="3859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9"/>
          <p:cNvSpPr/>
          <p:nvPr/>
        </p:nvSpPr>
        <p:spPr>
          <a:xfrm>
            <a:off x="774720" y="1795320"/>
            <a:ext cx="3560760" cy="149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solidFill>
            <a:srgbClr val="5b9bd5"/>
          </a:solidFill>
          <a:ln w="25560">
            <a:solidFill>
              <a:srgbClr val="9a9a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10"/>
          <p:cNvSpPr/>
          <p:nvPr/>
        </p:nvSpPr>
        <p:spPr>
          <a:xfrm>
            <a:off x="4581360" y="1611360"/>
            <a:ext cx="3967200" cy="21254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7" name="图片 11" descr=""/>
          <p:cNvPicPr/>
          <p:nvPr/>
        </p:nvPicPr>
        <p:blipFill>
          <a:blip r:embed="rId3"/>
          <a:srcRect l="0" t="14215" r="0" b="6084"/>
          <a:stretch/>
        </p:blipFill>
        <p:spPr>
          <a:xfrm>
            <a:off x="760320" y="1797120"/>
            <a:ext cx="3575160" cy="1515960"/>
          </a:xfrm>
          <a:prstGeom prst="rect">
            <a:avLst/>
          </a:prstGeom>
          <a:ln w="0">
            <a:noFill/>
          </a:ln>
        </p:spPr>
      </p:pic>
      <p:sp>
        <p:nvSpPr>
          <p:cNvPr id="678" name="Line 18"/>
          <p:cNvSpPr/>
          <p:nvPr/>
        </p:nvSpPr>
        <p:spPr>
          <a:xfrm>
            <a:off x="4862520" y="1989000"/>
            <a:ext cx="2890800" cy="0"/>
          </a:xfrm>
          <a:prstGeom prst="line">
            <a:avLst/>
          </a:prstGeom>
          <a:ln w="25560">
            <a:solidFill>
              <a:srgbClr val="1e9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矩形 13"/>
          <p:cNvSpPr/>
          <p:nvPr/>
        </p:nvSpPr>
        <p:spPr>
          <a:xfrm>
            <a:off x="4862520" y="2087640"/>
            <a:ext cx="289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Box 13"/>
          <p:cNvSpPr/>
          <p:nvPr/>
        </p:nvSpPr>
        <p:spPr>
          <a:xfrm>
            <a:off x="4862520" y="179532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矩形 15"/>
          <p:cNvSpPr/>
          <p:nvPr/>
        </p:nvSpPr>
        <p:spPr>
          <a:xfrm>
            <a:off x="4849920" y="2962440"/>
            <a:ext cx="29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683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AutoShape 3"/>
          <p:cNvSpPr/>
          <p:nvPr/>
        </p:nvSpPr>
        <p:spPr>
          <a:xfrm>
            <a:off x="1519200" y="3360600"/>
            <a:ext cx="601560" cy="4525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AutoShape 4"/>
          <p:cNvSpPr/>
          <p:nvPr/>
        </p:nvSpPr>
        <p:spPr>
          <a:xfrm>
            <a:off x="4813200" y="2770200"/>
            <a:ext cx="601920" cy="450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5"/>
          <p:cNvSpPr/>
          <p:nvPr/>
        </p:nvSpPr>
        <p:spPr>
          <a:xfrm>
            <a:off x="3160800" y="3068640"/>
            <a:ext cx="601560" cy="450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6"/>
          <p:cNvSpPr/>
          <p:nvPr/>
        </p:nvSpPr>
        <p:spPr>
          <a:xfrm>
            <a:off x="6435720" y="2470320"/>
            <a:ext cx="601560" cy="450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7"/>
          <p:cNvSpPr/>
          <p:nvPr/>
        </p:nvSpPr>
        <p:spPr>
          <a:xfrm>
            <a:off x="1165320" y="3127320"/>
            <a:ext cx="1671480" cy="75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8"/>
          <p:cNvSpPr/>
          <p:nvPr/>
        </p:nvSpPr>
        <p:spPr>
          <a:xfrm>
            <a:off x="2832120" y="2844720"/>
            <a:ext cx="1671480" cy="75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9"/>
          <p:cNvSpPr/>
          <p:nvPr/>
        </p:nvSpPr>
        <p:spPr>
          <a:xfrm>
            <a:off x="4498920" y="2560680"/>
            <a:ext cx="1671840" cy="75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AutoShape 10"/>
          <p:cNvSpPr/>
          <p:nvPr/>
        </p:nvSpPr>
        <p:spPr>
          <a:xfrm>
            <a:off x="6161040" y="2278080"/>
            <a:ext cx="1673280" cy="75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AutoShape 11"/>
          <p:cNvSpPr/>
          <p:nvPr/>
        </p:nvSpPr>
        <p:spPr>
          <a:xfrm>
            <a:off x="6627960" y="2612880"/>
            <a:ext cx="242640" cy="162000"/>
          </a:xfrm>
          <a:custGeom>
            <a:avLst/>
            <a:gdLst/>
            <a:ahLst/>
            <a:rect l="l" t="t" r="r" b="b"/>
            <a:pathLst>
              <a:path w="21263" h="21266">
                <a:moveTo>
                  <a:pt x="21142" y="2570"/>
                </a:moveTo>
                <a:cubicBezTo>
                  <a:pt x="19207" y="574"/>
                  <a:pt x="19207" y="574"/>
                  <a:pt x="19207" y="574"/>
                </a:cubicBezTo>
                <a:cubicBezTo>
                  <a:pt x="18885" y="211"/>
                  <a:pt x="18563" y="211"/>
                  <a:pt x="18240" y="574"/>
                </a:cubicBezTo>
                <a:cubicBezTo>
                  <a:pt x="18079" y="755"/>
                  <a:pt x="18079" y="937"/>
                  <a:pt x="18079" y="1118"/>
                </a:cubicBezTo>
                <a:cubicBezTo>
                  <a:pt x="17918" y="1118"/>
                  <a:pt x="17757" y="1118"/>
                  <a:pt x="17596" y="1300"/>
                </a:cubicBezTo>
                <a:cubicBezTo>
                  <a:pt x="17596" y="1300"/>
                  <a:pt x="17596" y="1300"/>
                  <a:pt x="17596" y="1300"/>
                </a:cubicBezTo>
                <a:cubicBezTo>
                  <a:pt x="12760" y="6745"/>
                  <a:pt x="12760" y="6745"/>
                  <a:pt x="12760" y="6745"/>
                </a:cubicBezTo>
                <a:cubicBezTo>
                  <a:pt x="12760" y="7290"/>
                  <a:pt x="12599" y="7834"/>
                  <a:pt x="12437" y="8197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3082" y="8923"/>
                  <a:pt x="13082" y="8923"/>
                  <a:pt x="13082" y="8923"/>
                </a:cubicBezTo>
                <a:cubicBezTo>
                  <a:pt x="11954" y="10012"/>
                  <a:pt x="11954" y="10012"/>
                  <a:pt x="11954" y="10012"/>
                </a:cubicBezTo>
                <a:cubicBezTo>
                  <a:pt x="8407" y="6019"/>
                  <a:pt x="8407" y="6019"/>
                  <a:pt x="8407" y="6019"/>
                </a:cubicBezTo>
                <a:cubicBezTo>
                  <a:pt x="8730" y="4385"/>
                  <a:pt x="8407" y="2752"/>
                  <a:pt x="7279" y="1481"/>
                </a:cubicBezTo>
                <a:cubicBezTo>
                  <a:pt x="6151" y="211"/>
                  <a:pt x="4539" y="-334"/>
                  <a:pt x="3088" y="211"/>
                </a:cubicBezTo>
                <a:cubicBezTo>
                  <a:pt x="5506" y="2933"/>
                  <a:pt x="5506" y="2933"/>
                  <a:pt x="5506" y="2933"/>
                </a:cubicBezTo>
                <a:cubicBezTo>
                  <a:pt x="4861" y="5474"/>
                  <a:pt x="4861" y="5474"/>
                  <a:pt x="4861" y="5474"/>
                </a:cubicBezTo>
                <a:cubicBezTo>
                  <a:pt x="2604" y="6200"/>
                  <a:pt x="2604" y="6200"/>
                  <a:pt x="2604" y="6200"/>
                </a:cubicBezTo>
                <a:cubicBezTo>
                  <a:pt x="187" y="3478"/>
                  <a:pt x="187" y="3478"/>
                  <a:pt x="187" y="3478"/>
                </a:cubicBezTo>
                <a:cubicBezTo>
                  <a:pt x="-297" y="5111"/>
                  <a:pt x="187" y="6927"/>
                  <a:pt x="1315" y="8197"/>
                </a:cubicBezTo>
                <a:cubicBezTo>
                  <a:pt x="2443" y="9468"/>
                  <a:pt x="4055" y="9831"/>
                  <a:pt x="5506" y="9286"/>
                </a:cubicBezTo>
                <a:cubicBezTo>
                  <a:pt x="5667" y="9286"/>
                  <a:pt x="5667" y="9286"/>
                  <a:pt x="5667" y="9286"/>
                </a:cubicBezTo>
                <a:cubicBezTo>
                  <a:pt x="9052" y="13279"/>
                  <a:pt x="9052" y="13279"/>
                  <a:pt x="9052" y="13279"/>
                </a:cubicBezTo>
                <a:cubicBezTo>
                  <a:pt x="5828" y="17091"/>
                  <a:pt x="5828" y="17091"/>
                  <a:pt x="5828" y="17091"/>
                </a:cubicBezTo>
                <a:cubicBezTo>
                  <a:pt x="5506" y="16910"/>
                  <a:pt x="5506" y="16910"/>
                  <a:pt x="5506" y="16910"/>
                </a:cubicBezTo>
                <a:cubicBezTo>
                  <a:pt x="4700" y="17636"/>
                  <a:pt x="4700" y="17636"/>
                  <a:pt x="4700" y="17636"/>
                </a:cubicBezTo>
                <a:cubicBezTo>
                  <a:pt x="3088" y="20540"/>
                  <a:pt x="3088" y="20540"/>
                  <a:pt x="3088" y="20540"/>
                </a:cubicBezTo>
                <a:cubicBezTo>
                  <a:pt x="3410" y="20903"/>
                  <a:pt x="3410" y="20903"/>
                  <a:pt x="3410" y="20903"/>
                </a:cubicBezTo>
                <a:cubicBezTo>
                  <a:pt x="5990" y="19088"/>
                  <a:pt x="5990" y="19088"/>
                  <a:pt x="5990" y="19088"/>
                </a:cubicBezTo>
                <a:cubicBezTo>
                  <a:pt x="6634" y="17999"/>
                  <a:pt x="6634" y="17999"/>
                  <a:pt x="6634" y="17999"/>
                </a:cubicBezTo>
                <a:cubicBezTo>
                  <a:pt x="6473" y="17817"/>
                  <a:pt x="6473" y="17817"/>
                  <a:pt x="6473" y="17817"/>
                </a:cubicBezTo>
                <a:cubicBezTo>
                  <a:pt x="9858" y="14187"/>
                  <a:pt x="9858" y="14187"/>
                  <a:pt x="9858" y="14187"/>
                </a:cubicBezTo>
                <a:cubicBezTo>
                  <a:pt x="15500" y="20540"/>
                  <a:pt x="15500" y="20540"/>
                  <a:pt x="15500" y="20540"/>
                </a:cubicBezTo>
                <a:cubicBezTo>
                  <a:pt x="15984" y="20903"/>
                  <a:pt x="16467" y="21266"/>
                  <a:pt x="16951" y="21266"/>
                </a:cubicBezTo>
                <a:cubicBezTo>
                  <a:pt x="17434" y="21266"/>
                  <a:pt x="17918" y="20903"/>
                  <a:pt x="18402" y="20540"/>
                </a:cubicBezTo>
                <a:cubicBezTo>
                  <a:pt x="19207" y="19632"/>
                  <a:pt x="19207" y="18180"/>
                  <a:pt x="18402" y="17273"/>
                </a:cubicBezTo>
                <a:cubicBezTo>
                  <a:pt x="12760" y="10920"/>
                  <a:pt x="12760" y="10920"/>
                  <a:pt x="12760" y="10920"/>
                </a:cubicBezTo>
                <a:cubicBezTo>
                  <a:pt x="13727" y="9831"/>
                  <a:pt x="13727" y="9831"/>
                  <a:pt x="13727" y="9831"/>
                </a:cubicBezTo>
                <a:cubicBezTo>
                  <a:pt x="14210" y="10375"/>
                  <a:pt x="14210" y="10375"/>
                  <a:pt x="14210" y="10375"/>
                </a:cubicBezTo>
                <a:cubicBezTo>
                  <a:pt x="14533" y="10012"/>
                  <a:pt x="15016" y="9831"/>
                  <a:pt x="15500" y="10012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497" y="4204"/>
                  <a:pt x="20497" y="4022"/>
                  <a:pt x="20497" y="3841"/>
                </a:cubicBezTo>
                <a:cubicBezTo>
                  <a:pt x="20658" y="4022"/>
                  <a:pt x="20981" y="3841"/>
                  <a:pt x="21142" y="3659"/>
                </a:cubicBezTo>
                <a:cubicBezTo>
                  <a:pt x="21303" y="3478"/>
                  <a:pt x="21303" y="2933"/>
                  <a:pt x="21142" y="2570"/>
                </a:cubicBezTo>
                <a:close/>
                <a:moveTo>
                  <a:pt x="17112" y="18362"/>
                </a:moveTo>
                <a:cubicBezTo>
                  <a:pt x="17596" y="18362"/>
                  <a:pt x="17918" y="18906"/>
                  <a:pt x="17918" y="19269"/>
                </a:cubicBezTo>
                <a:cubicBezTo>
                  <a:pt x="17918" y="19814"/>
                  <a:pt x="17596" y="20177"/>
                  <a:pt x="17112" y="20177"/>
                </a:cubicBezTo>
                <a:cubicBezTo>
                  <a:pt x="16628" y="20177"/>
                  <a:pt x="16306" y="19814"/>
                  <a:pt x="16306" y="19269"/>
                </a:cubicBezTo>
                <a:cubicBezTo>
                  <a:pt x="16306" y="18906"/>
                  <a:pt x="16628" y="18362"/>
                  <a:pt x="17112" y="18362"/>
                </a:cubicBezTo>
                <a:close/>
                <a:moveTo>
                  <a:pt x="14372" y="7108"/>
                </a:moveTo>
                <a:cubicBezTo>
                  <a:pt x="14049" y="6745"/>
                  <a:pt x="14049" y="6745"/>
                  <a:pt x="14049" y="6745"/>
                </a:cubicBezTo>
                <a:cubicBezTo>
                  <a:pt x="17757" y="2752"/>
                  <a:pt x="17757" y="2752"/>
                  <a:pt x="17757" y="2752"/>
                </a:cubicBezTo>
                <a:cubicBezTo>
                  <a:pt x="18079" y="3115"/>
                  <a:pt x="18079" y="3115"/>
                  <a:pt x="18079" y="3115"/>
                </a:cubicBezTo>
                <a:lnTo>
                  <a:pt x="14372" y="7108"/>
                </a:lnTo>
                <a:close/>
                <a:moveTo>
                  <a:pt x="15500" y="8379"/>
                </a:moveTo>
                <a:cubicBezTo>
                  <a:pt x="15178" y="8197"/>
                  <a:pt x="15178" y="8197"/>
                  <a:pt x="15178" y="8197"/>
                </a:cubicBezTo>
                <a:cubicBezTo>
                  <a:pt x="18885" y="4022"/>
                  <a:pt x="18885" y="4022"/>
                  <a:pt x="18885" y="4022"/>
                </a:cubicBezTo>
                <a:cubicBezTo>
                  <a:pt x="19207" y="4385"/>
                  <a:pt x="19207" y="4385"/>
                  <a:pt x="19207" y="4385"/>
                </a:cubicBezTo>
                <a:lnTo>
                  <a:pt x="15500" y="8379"/>
                </a:lnTo>
                <a:close/>
                <a:moveTo>
                  <a:pt x="15500" y="8379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AutoShape 27"/>
          <p:cNvSpPr/>
          <p:nvPr/>
        </p:nvSpPr>
        <p:spPr>
          <a:xfrm>
            <a:off x="1662120" y="3478320"/>
            <a:ext cx="304920" cy="226800"/>
          </a:xfrm>
          <a:custGeom>
            <a:avLst/>
            <a:gdLst/>
            <a:ahLst/>
            <a:rect l="l" t="t" r="r" b="b"/>
            <a:pathLst>
              <a:path w="20931" h="20973">
                <a:moveTo>
                  <a:pt x="2007" y="1880"/>
                </a:moveTo>
                <a:cubicBezTo>
                  <a:pt x="-669" y="4580"/>
                  <a:pt x="-669" y="8823"/>
                  <a:pt x="2007" y="11330"/>
                </a:cubicBezTo>
                <a:cubicBezTo>
                  <a:pt x="3727" y="13259"/>
                  <a:pt x="6404" y="13837"/>
                  <a:pt x="8697" y="13066"/>
                </a:cubicBezTo>
                <a:cubicBezTo>
                  <a:pt x="10800" y="15187"/>
                  <a:pt x="10800" y="15187"/>
                  <a:pt x="10800" y="15187"/>
                </a:cubicBezTo>
                <a:cubicBezTo>
                  <a:pt x="10800" y="15187"/>
                  <a:pt x="12712" y="13644"/>
                  <a:pt x="13667" y="14609"/>
                </a:cubicBezTo>
                <a:cubicBezTo>
                  <a:pt x="14432" y="15380"/>
                  <a:pt x="13858" y="16537"/>
                  <a:pt x="13667" y="17309"/>
                </a:cubicBezTo>
                <a:cubicBezTo>
                  <a:pt x="13476" y="17694"/>
                  <a:pt x="13285" y="18466"/>
                  <a:pt x="14432" y="18080"/>
                </a:cubicBezTo>
                <a:cubicBezTo>
                  <a:pt x="14814" y="17887"/>
                  <a:pt x="16152" y="17116"/>
                  <a:pt x="16917" y="18080"/>
                </a:cubicBezTo>
                <a:cubicBezTo>
                  <a:pt x="17873" y="19044"/>
                  <a:pt x="16917" y="20973"/>
                  <a:pt x="16917" y="20973"/>
                </a:cubicBezTo>
                <a:cubicBezTo>
                  <a:pt x="20931" y="20973"/>
                  <a:pt x="20931" y="20973"/>
                  <a:pt x="20931" y="20973"/>
                </a:cubicBezTo>
                <a:cubicBezTo>
                  <a:pt x="20931" y="16923"/>
                  <a:pt x="20931" y="16923"/>
                  <a:pt x="20931" y="16923"/>
                </a:cubicBezTo>
                <a:cubicBezTo>
                  <a:pt x="12903" y="8823"/>
                  <a:pt x="12903" y="8823"/>
                  <a:pt x="12903" y="8823"/>
                </a:cubicBezTo>
                <a:cubicBezTo>
                  <a:pt x="13667" y="6509"/>
                  <a:pt x="13094" y="3809"/>
                  <a:pt x="11373" y="1880"/>
                </a:cubicBezTo>
                <a:cubicBezTo>
                  <a:pt x="8697" y="-627"/>
                  <a:pt x="4492" y="-627"/>
                  <a:pt x="2007" y="1880"/>
                </a:cubicBezTo>
                <a:close/>
                <a:moveTo>
                  <a:pt x="2581" y="9594"/>
                </a:moveTo>
                <a:cubicBezTo>
                  <a:pt x="1434" y="7666"/>
                  <a:pt x="1625" y="4966"/>
                  <a:pt x="3345" y="3230"/>
                </a:cubicBezTo>
                <a:cubicBezTo>
                  <a:pt x="4874" y="1494"/>
                  <a:pt x="7550" y="1302"/>
                  <a:pt x="9462" y="2652"/>
                </a:cubicBezTo>
                <a:lnTo>
                  <a:pt x="2581" y="9594"/>
                </a:lnTo>
                <a:close/>
                <a:moveTo>
                  <a:pt x="2581" y="959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AutoShape 29"/>
          <p:cNvSpPr/>
          <p:nvPr/>
        </p:nvSpPr>
        <p:spPr>
          <a:xfrm>
            <a:off x="3363840" y="3187800"/>
            <a:ext cx="20160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751" y="18554"/>
                </a:moveTo>
                <a:cubicBezTo>
                  <a:pt x="14751" y="21600"/>
                  <a:pt x="14751" y="21600"/>
                  <a:pt x="14751" y="21600"/>
                </a:cubicBezTo>
                <a:cubicBezTo>
                  <a:pt x="18702" y="19938"/>
                  <a:pt x="21600" y="15785"/>
                  <a:pt x="21600" y="11354"/>
                </a:cubicBezTo>
                <a:cubicBezTo>
                  <a:pt x="21600" y="4985"/>
                  <a:pt x="16595" y="0"/>
                  <a:pt x="10800" y="0"/>
                </a:cubicBezTo>
                <a:cubicBezTo>
                  <a:pt x="4741" y="0"/>
                  <a:pt x="0" y="4985"/>
                  <a:pt x="0" y="11354"/>
                </a:cubicBezTo>
                <a:cubicBezTo>
                  <a:pt x="0" y="15785"/>
                  <a:pt x="2634" y="19938"/>
                  <a:pt x="6585" y="21600"/>
                </a:cubicBezTo>
                <a:cubicBezTo>
                  <a:pt x="6585" y="18554"/>
                  <a:pt x="6585" y="18554"/>
                  <a:pt x="6585" y="18554"/>
                </a:cubicBezTo>
                <a:cubicBezTo>
                  <a:pt x="4215" y="16892"/>
                  <a:pt x="2634" y="14400"/>
                  <a:pt x="2634" y="11354"/>
                </a:cubicBezTo>
                <a:cubicBezTo>
                  <a:pt x="2634" y="6369"/>
                  <a:pt x="6322" y="2769"/>
                  <a:pt x="10800" y="2769"/>
                </a:cubicBezTo>
                <a:cubicBezTo>
                  <a:pt x="15278" y="2769"/>
                  <a:pt x="18966" y="6369"/>
                  <a:pt x="18966" y="11354"/>
                </a:cubicBezTo>
                <a:cubicBezTo>
                  <a:pt x="18966" y="14400"/>
                  <a:pt x="17385" y="17169"/>
                  <a:pt x="14751" y="18554"/>
                </a:cubicBezTo>
                <a:close/>
                <a:moveTo>
                  <a:pt x="14751" y="1855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AutoShape 30"/>
          <p:cNvSpPr/>
          <p:nvPr/>
        </p:nvSpPr>
        <p:spPr>
          <a:xfrm>
            <a:off x="3319560" y="3154320"/>
            <a:ext cx="290520" cy="2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759" y="0"/>
                  <a:pt x="0" y="4883"/>
                  <a:pt x="0" y="11082"/>
                </a:cubicBezTo>
                <a:cubicBezTo>
                  <a:pt x="0" y="15965"/>
                  <a:pt x="3295" y="20285"/>
                  <a:pt x="7871" y="21600"/>
                </a:cubicBezTo>
                <a:cubicBezTo>
                  <a:pt x="7871" y="20097"/>
                  <a:pt x="7871" y="20097"/>
                  <a:pt x="7871" y="20097"/>
                </a:cubicBezTo>
                <a:cubicBezTo>
                  <a:pt x="4027" y="18783"/>
                  <a:pt x="1464" y="15214"/>
                  <a:pt x="1464" y="11082"/>
                </a:cubicBezTo>
                <a:cubicBezTo>
                  <a:pt x="1464" y="5635"/>
                  <a:pt x="5675" y="1503"/>
                  <a:pt x="10800" y="1503"/>
                </a:cubicBezTo>
                <a:cubicBezTo>
                  <a:pt x="15925" y="1503"/>
                  <a:pt x="20136" y="5635"/>
                  <a:pt x="20136" y="11082"/>
                </a:cubicBezTo>
                <a:cubicBezTo>
                  <a:pt x="20136" y="15214"/>
                  <a:pt x="17390" y="18783"/>
                  <a:pt x="13546" y="20097"/>
                </a:cubicBezTo>
                <a:cubicBezTo>
                  <a:pt x="13546" y="21600"/>
                  <a:pt x="13546" y="21600"/>
                  <a:pt x="13546" y="21600"/>
                </a:cubicBezTo>
                <a:cubicBezTo>
                  <a:pt x="18122" y="20285"/>
                  <a:pt x="21600" y="16153"/>
                  <a:pt x="21600" y="11082"/>
                </a:cubicBezTo>
                <a:cubicBezTo>
                  <a:pt x="21600" y="4883"/>
                  <a:pt x="16658" y="0"/>
                  <a:pt x="10800" y="0"/>
                </a:cubicBezTo>
                <a:close/>
                <a:moveTo>
                  <a:pt x="10800" y="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AutoShape 31"/>
          <p:cNvSpPr/>
          <p:nvPr/>
        </p:nvSpPr>
        <p:spPr>
          <a:xfrm>
            <a:off x="3424320" y="3241800"/>
            <a:ext cx="8892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400" y="18450"/>
                </a:moveTo>
                <a:cubicBezTo>
                  <a:pt x="14400" y="17775"/>
                  <a:pt x="14400" y="4950"/>
                  <a:pt x="14400" y="4725"/>
                </a:cubicBezTo>
                <a:cubicBezTo>
                  <a:pt x="16200" y="4275"/>
                  <a:pt x="17400" y="3600"/>
                  <a:pt x="17400" y="2700"/>
                </a:cubicBezTo>
                <a:cubicBezTo>
                  <a:pt x="17400" y="1125"/>
                  <a:pt x="13800" y="0"/>
                  <a:pt x="10200" y="0"/>
                </a:cubicBezTo>
                <a:cubicBezTo>
                  <a:pt x="6000" y="0"/>
                  <a:pt x="3000" y="1125"/>
                  <a:pt x="3000" y="2700"/>
                </a:cubicBezTo>
                <a:cubicBezTo>
                  <a:pt x="3000" y="3600"/>
                  <a:pt x="4200" y="4275"/>
                  <a:pt x="6000" y="4725"/>
                </a:cubicBezTo>
                <a:cubicBezTo>
                  <a:pt x="6000" y="4725"/>
                  <a:pt x="6000" y="4725"/>
                  <a:pt x="6000" y="4725"/>
                </a:cubicBezTo>
                <a:cubicBezTo>
                  <a:pt x="6000" y="4725"/>
                  <a:pt x="6000" y="17550"/>
                  <a:pt x="6000" y="18450"/>
                </a:cubicBezTo>
                <a:cubicBezTo>
                  <a:pt x="6000" y="20700"/>
                  <a:pt x="0" y="21600"/>
                  <a:pt x="0" y="21600"/>
                </a:cubicBezTo>
                <a:cubicBezTo>
                  <a:pt x="21600" y="21600"/>
                  <a:pt x="21600" y="21600"/>
                  <a:pt x="21600" y="21600"/>
                </a:cubicBezTo>
                <a:cubicBezTo>
                  <a:pt x="21600" y="21600"/>
                  <a:pt x="14400" y="20700"/>
                  <a:pt x="14400" y="18450"/>
                </a:cubicBezTo>
                <a:close/>
                <a:moveTo>
                  <a:pt x="14400" y="1845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Rectangle 33"/>
          <p:cNvSpPr/>
          <p:nvPr/>
        </p:nvSpPr>
        <p:spPr>
          <a:xfrm>
            <a:off x="5110200" y="2898720"/>
            <a:ext cx="46080" cy="18576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Rectangle 34"/>
          <p:cNvSpPr/>
          <p:nvPr/>
        </p:nvSpPr>
        <p:spPr>
          <a:xfrm>
            <a:off x="5038560" y="2935440"/>
            <a:ext cx="44640" cy="14904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35"/>
          <p:cNvSpPr/>
          <p:nvPr/>
        </p:nvSpPr>
        <p:spPr>
          <a:xfrm>
            <a:off x="4962600" y="2965320"/>
            <a:ext cx="46080" cy="11916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36"/>
          <p:cNvSpPr/>
          <p:nvPr/>
        </p:nvSpPr>
        <p:spPr>
          <a:xfrm>
            <a:off x="5183280" y="2852640"/>
            <a:ext cx="46080" cy="23184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1158840" y="256068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Box 13"/>
          <p:cNvSpPr/>
          <p:nvPr/>
        </p:nvSpPr>
        <p:spPr>
          <a:xfrm>
            <a:off x="1162080" y="274176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13"/>
          <p:cNvSpPr/>
          <p:nvPr/>
        </p:nvSpPr>
        <p:spPr>
          <a:xfrm>
            <a:off x="2836800" y="22176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3"/>
          <p:cNvSpPr/>
          <p:nvPr/>
        </p:nvSpPr>
        <p:spPr>
          <a:xfrm>
            <a:off x="2840040" y="239868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13"/>
          <p:cNvSpPr/>
          <p:nvPr/>
        </p:nvSpPr>
        <p:spPr>
          <a:xfrm>
            <a:off x="4503600" y="19350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Box 13"/>
          <p:cNvSpPr/>
          <p:nvPr/>
        </p:nvSpPr>
        <p:spPr>
          <a:xfrm>
            <a:off x="4506840" y="211608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3"/>
          <p:cNvSpPr/>
          <p:nvPr/>
        </p:nvSpPr>
        <p:spPr>
          <a:xfrm>
            <a:off x="6161040" y="162252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13"/>
          <p:cNvSpPr/>
          <p:nvPr/>
        </p:nvSpPr>
        <p:spPr>
          <a:xfrm>
            <a:off x="6164280" y="180324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图片 2" descr=""/>
          <p:cNvPicPr/>
          <p:nvPr/>
        </p:nvPicPr>
        <p:blipFill>
          <a:blip r:embed="rId1"/>
          <a:stretch/>
        </p:blipFill>
        <p:spPr>
          <a:xfrm>
            <a:off x="3902040" y="1733400"/>
            <a:ext cx="4773600" cy="2387880"/>
          </a:xfrm>
          <a:prstGeom prst="rect">
            <a:avLst/>
          </a:prstGeom>
          <a:ln w="0">
            <a:noFill/>
          </a:ln>
        </p:spPr>
      </p:pic>
      <p:pic>
        <p:nvPicPr>
          <p:cNvPr id="710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24"/>
          <p:cNvSpPr/>
          <p:nvPr/>
        </p:nvSpPr>
        <p:spPr>
          <a:xfrm>
            <a:off x="8729640" y="914400"/>
            <a:ext cx="3808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fld id="{5AF6ABE4-6500-4DC0-91CA-C233D89944D1}" type="slidenum">
              <a:rPr b="1" lang="en-US" sz="800" spc="-1" strike="noStrike">
                <a:solidFill>
                  <a:srgbClr val="929292"/>
                </a:solidFill>
                <a:latin typeface="Roboto Condensed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val 19"/>
          <p:cNvSpPr/>
          <p:nvPr/>
        </p:nvSpPr>
        <p:spPr>
          <a:xfrm>
            <a:off x="649440" y="3727440"/>
            <a:ext cx="533160" cy="4032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Group 23" descr=""/>
          <p:cNvPicPr/>
          <p:nvPr/>
        </p:nvPicPr>
        <p:blipFill>
          <a:blip r:embed="rId3"/>
          <a:stretch/>
        </p:blipFill>
        <p:spPr>
          <a:xfrm>
            <a:off x="785880" y="3840120"/>
            <a:ext cx="293760" cy="182520"/>
          </a:xfrm>
          <a:prstGeom prst="rect">
            <a:avLst/>
          </a:prstGeom>
          <a:ln w="0">
            <a:noFill/>
          </a:ln>
        </p:spPr>
      </p:pic>
      <p:sp>
        <p:nvSpPr>
          <p:cNvPr id="715" name="Oval 16"/>
          <p:cNvSpPr/>
          <p:nvPr/>
        </p:nvSpPr>
        <p:spPr>
          <a:xfrm>
            <a:off x="649440" y="3133800"/>
            <a:ext cx="533160" cy="40140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Group 34" descr=""/>
          <p:cNvPicPr/>
          <p:nvPr/>
        </p:nvPicPr>
        <p:blipFill>
          <a:blip r:embed="rId4"/>
          <a:stretch/>
        </p:blipFill>
        <p:spPr>
          <a:xfrm>
            <a:off x="781200" y="3222720"/>
            <a:ext cx="279360" cy="210960"/>
          </a:xfrm>
          <a:prstGeom prst="rect">
            <a:avLst/>
          </a:prstGeom>
          <a:ln w="0">
            <a:noFill/>
          </a:ln>
        </p:spPr>
      </p:pic>
      <p:sp>
        <p:nvSpPr>
          <p:cNvPr id="717" name="Oval 10"/>
          <p:cNvSpPr/>
          <p:nvPr/>
        </p:nvSpPr>
        <p:spPr>
          <a:xfrm>
            <a:off x="649440" y="2538360"/>
            <a:ext cx="533160" cy="4032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Group 82" descr=""/>
          <p:cNvPicPr/>
          <p:nvPr/>
        </p:nvPicPr>
        <p:blipFill>
          <a:blip r:embed="rId5"/>
          <a:stretch/>
        </p:blipFill>
        <p:spPr>
          <a:xfrm>
            <a:off x="792000" y="2629080"/>
            <a:ext cx="262080" cy="214200"/>
          </a:xfrm>
          <a:prstGeom prst="rect">
            <a:avLst/>
          </a:prstGeom>
          <a:ln w="0">
            <a:noFill/>
          </a:ln>
        </p:spPr>
      </p:pic>
      <p:sp>
        <p:nvSpPr>
          <p:cNvPr id="719" name="TextBox 13"/>
          <p:cNvSpPr/>
          <p:nvPr/>
        </p:nvSpPr>
        <p:spPr>
          <a:xfrm>
            <a:off x="1309680" y="25621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Box 13"/>
          <p:cNvSpPr/>
          <p:nvPr/>
        </p:nvSpPr>
        <p:spPr>
          <a:xfrm>
            <a:off x="1312920" y="272268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Box 13"/>
          <p:cNvSpPr/>
          <p:nvPr/>
        </p:nvSpPr>
        <p:spPr>
          <a:xfrm>
            <a:off x="1309680" y="31417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3"/>
          <p:cNvSpPr/>
          <p:nvPr/>
        </p:nvSpPr>
        <p:spPr>
          <a:xfrm>
            <a:off x="1312920" y="330372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Box 13"/>
          <p:cNvSpPr/>
          <p:nvPr/>
        </p:nvSpPr>
        <p:spPr>
          <a:xfrm>
            <a:off x="1309680" y="374796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Box 13"/>
          <p:cNvSpPr/>
          <p:nvPr/>
        </p:nvSpPr>
        <p:spPr>
          <a:xfrm>
            <a:off x="1312920" y="390852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26" name="圆角矩形 6"/>
          <p:cNvSpPr/>
          <p:nvPr/>
        </p:nvSpPr>
        <p:spPr>
          <a:xfrm>
            <a:off x="2882880" y="1932120"/>
            <a:ext cx="3376800" cy="12808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直接连接符 8"/>
          <p:cNvSpPr/>
          <p:nvPr/>
        </p:nvSpPr>
        <p:spPr>
          <a:xfrm>
            <a:off x="36360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直接连接符 12"/>
          <p:cNvSpPr/>
          <p:nvPr/>
        </p:nvSpPr>
        <p:spPr>
          <a:xfrm>
            <a:off x="625968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15"/>
          <p:cNvSpPr/>
          <p:nvPr/>
        </p:nvSpPr>
        <p:spPr>
          <a:xfrm>
            <a:off x="3444840" y="333360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13"/>
          <p:cNvSpPr/>
          <p:nvPr/>
        </p:nvSpPr>
        <p:spPr>
          <a:xfrm>
            <a:off x="2657520" y="3670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图片 9" descr=""/>
          <p:cNvPicPr/>
          <p:nvPr/>
        </p:nvPicPr>
        <p:blipFill>
          <a:blip r:embed="rId2"/>
          <a:stretch/>
        </p:blipFill>
        <p:spPr>
          <a:xfrm>
            <a:off x="3371760" y="2290680"/>
            <a:ext cx="239580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733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5"/>
          <p:cNvSpPr/>
          <p:nvPr/>
        </p:nvSpPr>
        <p:spPr>
          <a:xfrm>
            <a:off x="1092240" y="2436840"/>
            <a:ext cx="1463760" cy="1100160"/>
          </a:xfrm>
          <a:custGeom>
            <a:avLst/>
            <a:gdLst/>
            <a:ahLst/>
            <a:rect l="l" t="t" r="r" b="b"/>
            <a:pathLst>
              <a:path w="861" h="861">
                <a:moveTo>
                  <a:pt x="646" y="430"/>
                </a:moveTo>
                <a:cubicBezTo>
                  <a:pt x="646" y="549"/>
                  <a:pt x="549" y="645"/>
                  <a:pt x="430" y="645"/>
                </a:cubicBezTo>
                <a:cubicBezTo>
                  <a:pt x="311" y="645"/>
                  <a:pt x="215" y="549"/>
                  <a:pt x="215" y="430"/>
                </a:cubicBezTo>
                <a:cubicBezTo>
                  <a:pt x="215" y="311"/>
                  <a:pt x="311" y="215"/>
                  <a:pt x="430" y="215"/>
                </a:cubicBezTo>
                <a:cubicBezTo>
                  <a:pt x="450" y="215"/>
                  <a:pt x="470" y="218"/>
                  <a:pt x="488" y="223"/>
                </a:cubicBezTo>
                <a:cubicBezTo>
                  <a:pt x="447" y="156"/>
                  <a:pt x="422" y="80"/>
                  <a:pt x="418" y="0"/>
                </a:cubicBezTo>
                <a:cubicBezTo>
                  <a:pt x="186" y="6"/>
                  <a:pt x="0" y="196"/>
                  <a:pt x="0" y="430"/>
                </a:cubicBezTo>
                <a:cubicBezTo>
                  <a:pt x="0" y="668"/>
                  <a:pt x="192" y="861"/>
                  <a:pt x="430" y="861"/>
                </a:cubicBezTo>
                <a:cubicBezTo>
                  <a:pt x="668" y="861"/>
                  <a:pt x="861" y="668"/>
                  <a:pt x="861" y="430"/>
                </a:cubicBezTo>
                <a:cubicBezTo>
                  <a:pt x="861" y="315"/>
                  <a:pt x="816" y="211"/>
                  <a:pt x="742" y="133"/>
                </a:cubicBezTo>
                <a:cubicBezTo>
                  <a:pt x="590" y="286"/>
                  <a:pt x="590" y="286"/>
                  <a:pt x="590" y="286"/>
                </a:cubicBezTo>
                <a:cubicBezTo>
                  <a:pt x="625" y="325"/>
                  <a:pt x="646" y="375"/>
                  <a:pt x="646" y="43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6"/>
          <p:cNvSpPr/>
          <p:nvPr/>
        </p:nvSpPr>
        <p:spPr>
          <a:xfrm>
            <a:off x="1871640" y="1855800"/>
            <a:ext cx="1463760" cy="957240"/>
          </a:xfrm>
          <a:custGeom>
            <a:avLst/>
            <a:gdLst/>
            <a:ahLst/>
            <a:rect l="l" t="t" r="r" b="b"/>
            <a:pathLst>
              <a:path w="861" h="750">
                <a:moveTo>
                  <a:pt x="739" y="731"/>
                </a:moveTo>
                <a:cubicBezTo>
                  <a:pt x="739" y="730"/>
                  <a:pt x="739" y="730"/>
                  <a:pt x="739" y="730"/>
                </a:cubicBezTo>
                <a:cubicBezTo>
                  <a:pt x="814" y="653"/>
                  <a:pt x="861" y="547"/>
                  <a:pt x="861" y="431"/>
                </a:cubicBezTo>
                <a:cubicBezTo>
                  <a:pt x="861" y="193"/>
                  <a:pt x="668" y="0"/>
                  <a:pt x="430" y="0"/>
                </a:cubicBezTo>
                <a:cubicBezTo>
                  <a:pt x="192" y="0"/>
                  <a:pt x="0" y="193"/>
                  <a:pt x="0" y="431"/>
                </a:cubicBezTo>
                <a:cubicBezTo>
                  <a:pt x="0" y="547"/>
                  <a:pt x="45" y="652"/>
                  <a:pt x="120" y="729"/>
                </a:cubicBezTo>
                <a:cubicBezTo>
                  <a:pt x="120" y="730"/>
                  <a:pt x="120" y="730"/>
                  <a:pt x="120" y="730"/>
                </a:cubicBezTo>
                <a:cubicBezTo>
                  <a:pt x="124" y="734"/>
                  <a:pt x="128" y="738"/>
                  <a:pt x="132" y="742"/>
                </a:cubicBezTo>
                <a:cubicBezTo>
                  <a:pt x="284" y="589"/>
                  <a:pt x="284" y="589"/>
                  <a:pt x="284" y="589"/>
                </a:cubicBezTo>
                <a:cubicBezTo>
                  <a:pt x="282" y="587"/>
                  <a:pt x="280" y="585"/>
                  <a:pt x="278" y="583"/>
                </a:cubicBezTo>
                <a:cubicBezTo>
                  <a:pt x="277" y="582"/>
                  <a:pt x="277" y="582"/>
                  <a:pt x="277" y="582"/>
                </a:cubicBezTo>
                <a:cubicBezTo>
                  <a:pt x="239" y="543"/>
                  <a:pt x="215" y="490"/>
                  <a:pt x="215" y="431"/>
                </a:cubicBezTo>
                <a:cubicBezTo>
                  <a:pt x="215" y="312"/>
                  <a:pt x="311" y="215"/>
                  <a:pt x="430" y="215"/>
                </a:cubicBezTo>
                <a:cubicBezTo>
                  <a:pt x="549" y="215"/>
                  <a:pt x="645" y="312"/>
                  <a:pt x="645" y="431"/>
                </a:cubicBezTo>
                <a:cubicBezTo>
                  <a:pt x="645" y="489"/>
                  <a:pt x="622" y="542"/>
                  <a:pt x="584" y="581"/>
                </a:cubicBezTo>
                <a:cubicBezTo>
                  <a:pt x="584" y="581"/>
                  <a:pt x="584" y="581"/>
                  <a:pt x="584" y="581"/>
                </a:cubicBezTo>
                <a:cubicBezTo>
                  <a:pt x="584" y="581"/>
                  <a:pt x="584" y="581"/>
                  <a:pt x="584" y="581"/>
                </a:cubicBezTo>
                <a:cubicBezTo>
                  <a:pt x="577" y="588"/>
                  <a:pt x="570" y="596"/>
                  <a:pt x="563" y="603"/>
                </a:cubicBezTo>
                <a:cubicBezTo>
                  <a:pt x="721" y="750"/>
                  <a:pt x="721" y="750"/>
                  <a:pt x="721" y="750"/>
                </a:cubicBezTo>
                <a:cubicBezTo>
                  <a:pt x="727" y="743"/>
                  <a:pt x="733" y="737"/>
                  <a:pt x="739" y="731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7"/>
          <p:cNvSpPr/>
          <p:nvPr/>
        </p:nvSpPr>
        <p:spPr>
          <a:xfrm>
            <a:off x="2647800" y="2436840"/>
            <a:ext cx="1465560" cy="1100160"/>
          </a:xfrm>
          <a:custGeom>
            <a:avLst/>
            <a:gdLst/>
            <a:ahLst/>
            <a:rect l="l" t="t" r="r" b="b"/>
            <a:pathLst>
              <a:path w="862" h="861">
                <a:moveTo>
                  <a:pt x="443" y="0"/>
                </a:moveTo>
                <a:cubicBezTo>
                  <a:pt x="439" y="80"/>
                  <a:pt x="415" y="156"/>
                  <a:pt x="373" y="223"/>
                </a:cubicBezTo>
                <a:cubicBezTo>
                  <a:pt x="391" y="218"/>
                  <a:pt x="411" y="215"/>
                  <a:pt x="431" y="215"/>
                </a:cubicBezTo>
                <a:cubicBezTo>
                  <a:pt x="550" y="215"/>
                  <a:pt x="646" y="311"/>
                  <a:pt x="646" y="430"/>
                </a:cubicBezTo>
                <a:cubicBezTo>
                  <a:pt x="646" y="549"/>
                  <a:pt x="550" y="645"/>
                  <a:pt x="431" y="645"/>
                </a:cubicBezTo>
                <a:cubicBezTo>
                  <a:pt x="312" y="645"/>
                  <a:pt x="216" y="549"/>
                  <a:pt x="216" y="430"/>
                </a:cubicBezTo>
                <a:cubicBezTo>
                  <a:pt x="216" y="378"/>
                  <a:pt x="234" y="331"/>
                  <a:pt x="264" y="294"/>
                </a:cubicBezTo>
                <a:cubicBezTo>
                  <a:pt x="106" y="147"/>
                  <a:pt x="106" y="147"/>
                  <a:pt x="106" y="147"/>
                </a:cubicBezTo>
                <a:cubicBezTo>
                  <a:pt x="40" y="223"/>
                  <a:pt x="0" y="322"/>
                  <a:pt x="0" y="430"/>
                </a:cubicBezTo>
                <a:cubicBezTo>
                  <a:pt x="0" y="668"/>
                  <a:pt x="193" y="861"/>
                  <a:pt x="431" y="861"/>
                </a:cubicBezTo>
                <a:cubicBezTo>
                  <a:pt x="669" y="861"/>
                  <a:pt x="862" y="668"/>
                  <a:pt x="862" y="430"/>
                </a:cubicBezTo>
                <a:cubicBezTo>
                  <a:pt x="862" y="196"/>
                  <a:pt x="675" y="6"/>
                  <a:pt x="443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75"/>
          <p:cNvSpPr/>
          <p:nvPr/>
        </p:nvSpPr>
        <p:spPr>
          <a:xfrm>
            <a:off x="2356920" y="221760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1e9c8c"/>
                </a:solidFill>
                <a:latin typeface="Arial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76"/>
          <p:cNvSpPr/>
          <p:nvPr/>
        </p:nvSpPr>
        <p:spPr>
          <a:xfrm>
            <a:off x="1558440" y="2811600"/>
            <a:ext cx="5184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700" spc="-1" strike="noStrike">
                <a:solidFill>
                  <a:srgbClr val="69c293"/>
                </a:solidFill>
                <a:latin typeface="Arial"/>
                <a:ea typeface="微软雅黑"/>
              </a:rPr>
              <a:t>0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77"/>
          <p:cNvSpPr/>
          <p:nvPr/>
        </p:nvSpPr>
        <p:spPr>
          <a:xfrm>
            <a:off x="3104640" y="281160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69c293"/>
                </a:solidFill>
                <a:latin typeface="Arial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Line 7"/>
          <p:cNvSpPr/>
          <p:nvPr/>
        </p:nvSpPr>
        <p:spPr>
          <a:xfrm>
            <a:off x="4789440" y="1735200"/>
            <a:ext cx="0" cy="192384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AutoShape 9"/>
          <p:cNvSpPr/>
          <p:nvPr/>
        </p:nvSpPr>
        <p:spPr>
          <a:xfrm>
            <a:off x="5248440" y="1596960"/>
            <a:ext cx="761760" cy="754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AutoShape 12"/>
          <p:cNvSpPr/>
          <p:nvPr/>
        </p:nvSpPr>
        <p:spPr>
          <a:xfrm>
            <a:off x="5248440" y="2320920"/>
            <a:ext cx="761760" cy="754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69c293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AutoShape 15"/>
          <p:cNvSpPr/>
          <p:nvPr/>
        </p:nvSpPr>
        <p:spPr>
          <a:xfrm>
            <a:off x="5248440" y="3063960"/>
            <a:ext cx="761760" cy="753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13"/>
          <p:cNvSpPr/>
          <p:nvPr/>
        </p:nvSpPr>
        <p:spPr>
          <a:xfrm>
            <a:off x="5776920" y="176364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3"/>
          <p:cNvSpPr/>
          <p:nvPr/>
        </p:nvSpPr>
        <p:spPr>
          <a:xfrm>
            <a:off x="5776920" y="195120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5776920" y="249552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13"/>
          <p:cNvSpPr/>
          <p:nvPr/>
        </p:nvSpPr>
        <p:spPr>
          <a:xfrm>
            <a:off x="5776920" y="268128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3"/>
          <p:cNvSpPr/>
          <p:nvPr/>
        </p:nvSpPr>
        <p:spPr>
          <a:xfrm>
            <a:off x="5776920" y="324972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13"/>
          <p:cNvSpPr/>
          <p:nvPr/>
        </p:nvSpPr>
        <p:spPr>
          <a:xfrm>
            <a:off x="5776920" y="343548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图片 8" descr=""/>
          <p:cNvPicPr/>
          <p:nvPr/>
        </p:nvPicPr>
        <p:blipFill>
          <a:blip r:embed="rId1"/>
          <a:stretch/>
        </p:blipFill>
        <p:spPr>
          <a:xfrm>
            <a:off x="3932280" y="1511280"/>
            <a:ext cx="4340160" cy="240048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752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Rectangle 22"/>
          <p:cNvSpPr/>
          <p:nvPr/>
        </p:nvSpPr>
        <p:spPr>
          <a:xfrm>
            <a:off x="453960" y="1909800"/>
            <a:ext cx="4354560" cy="842760"/>
          </a:xfrm>
          <a:prstGeom prst="rect">
            <a:avLst/>
          </a:prstGeom>
          <a:solidFill>
            <a:srgbClr val="1e9c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矩形 5"/>
          <p:cNvSpPr/>
          <p:nvPr/>
        </p:nvSpPr>
        <p:spPr>
          <a:xfrm>
            <a:off x="730080" y="209556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矩形 6"/>
          <p:cNvSpPr/>
          <p:nvPr/>
        </p:nvSpPr>
        <p:spPr>
          <a:xfrm>
            <a:off x="777960" y="3121200"/>
            <a:ext cx="28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13"/>
          <p:cNvSpPr/>
          <p:nvPr/>
        </p:nvSpPr>
        <p:spPr>
          <a:xfrm>
            <a:off x="777960" y="294012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758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AutoShape 3"/>
          <p:cNvSpPr/>
          <p:nvPr/>
        </p:nvSpPr>
        <p:spPr>
          <a:xfrm>
            <a:off x="1144440" y="1755720"/>
            <a:ext cx="2106720" cy="2005200"/>
          </a:xfrm>
          <a:custGeom>
            <a:avLst/>
            <a:gdLst/>
            <a:ahLst/>
            <a:rect l="l" t="t" r="r" b="b"/>
            <a:pathLst>
              <a:path w="19952" h="21600">
                <a:moveTo>
                  <a:pt x="1856" y="0"/>
                </a:moveTo>
                <a:cubicBezTo>
                  <a:pt x="831" y="0"/>
                  <a:pt x="0" y="709"/>
                  <a:pt x="0" y="1583"/>
                </a:cubicBezTo>
                <a:lnTo>
                  <a:pt x="0" y="20017"/>
                </a:lnTo>
                <a:cubicBezTo>
                  <a:pt x="0" y="20891"/>
                  <a:pt x="831" y="21600"/>
                  <a:pt x="1856" y="21600"/>
                </a:cubicBezTo>
                <a:lnTo>
                  <a:pt x="18096" y="21600"/>
                </a:lnTo>
                <a:cubicBezTo>
                  <a:pt x="19121" y="21600"/>
                  <a:pt x="19952" y="20891"/>
                  <a:pt x="19952" y="20017"/>
                </a:cubicBezTo>
                <a:lnTo>
                  <a:pt x="19952" y="6957"/>
                </a:lnTo>
                <a:lnTo>
                  <a:pt x="21600" y="6098"/>
                </a:lnTo>
                <a:lnTo>
                  <a:pt x="19952" y="5240"/>
                </a:lnTo>
                <a:lnTo>
                  <a:pt x="19952" y="1583"/>
                </a:lnTo>
                <a:cubicBezTo>
                  <a:pt x="19952" y="709"/>
                  <a:pt x="19121" y="0"/>
                  <a:pt x="18096" y="0"/>
                </a:cubicBezTo>
                <a:lnTo>
                  <a:pt x="1856" y="0"/>
                </a:lnTo>
                <a:close/>
                <a:moveTo>
                  <a:pt x="1856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AutoShape 6"/>
          <p:cNvSpPr/>
          <p:nvPr/>
        </p:nvSpPr>
        <p:spPr>
          <a:xfrm>
            <a:off x="2077920" y="2055960"/>
            <a:ext cx="265320" cy="19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AutoShape 7"/>
          <p:cNvSpPr/>
          <p:nvPr/>
        </p:nvSpPr>
        <p:spPr>
          <a:xfrm>
            <a:off x="1987560" y="2246400"/>
            <a:ext cx="449280" cy="21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Line 36"/>
          <p:cNvSpPr/>
          <p:nvPr/>
        </p:nvSpPr>
        <p:spPr>
          <a:xfrm>
            <a:off x="1236600" y="272088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AutoShape 4"/>
          <p:cNvSpPr/>
          <p:nvPr/>
        </p:nvSpPr>
        <p:spPr>
          <a:xfrm>
            <a:off x="3508200" y="1727280"/>
            <a:ext cx="2106720" cy="2004840"/>
          </a:xfrm>
          <a:custGeom>
            <a:avLst/>
            <a:gdLst/>
            <a:ahLst/>
            <a:rect l="l" t="t" r="r" b="b"/>
            <a:pathLst>
              <a:path w="19952" h="21600">
                <a:moveTo>
                  <a:pt x="1931" y="0"/>
                </a:moveTo>
                <a:cubicBezTo>
                  <a:pt x="865" y="0"/>
                  <a:pt x="0" y="738"/>
                  <a:pt x="0" y="1647"/>
                </a:cubicBezTo>
                <a:lnTo>
                  <a:pt x="0" y="19953"/>
                </a:lnTo>
                <a:cubicBezTo>
                  <a:pt x="0" y="20862"/>
                  <a:pt x="865" y="21600"/>
                  <a:pt x="1931" y="21600"/>
                </a:cubicBezTo>
                <a:lnTo>
                  <a:pt x="18021" y="21600"/>
                </a:lnTo>
                <a:cubicBezTo>
                  <a:pt x="19088" y="21600"/>
                  <a:pt x="19952" y="20862"/>
                  <a:pt x="19952" y="19953"/>
                </a:cubicBezTo>
                <a:lnTo>
                  <a:pt x="19952" y="6957"/>
                </a:lnTo>
                <a:lnTo>
                  <a:pt x="21600" y="6098"/>
                </a:lnTo>
                <a:lnTo>
                  <a:pt x="19952" y="5240"/>
                </a:lnTo>
                <a:lnTo>
                  <a:pt x="19952" y="1647"/>
                </a:lnTo>
                <a:cubicBezTo>
                  <a:pt x="19952" y="738"/>
                  <a:pt x="19088" y="0"/>
                  <a:pt x="18021" y="0"/>
                </a:cubicBezTo>
                <a:lnTo>
                  <a:pt x="1931" y="0"/>
                </a:lnTo>
                <a:close/>
                <a:moveTo>
                  <a:pt x="1931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AutoShape 8"/>
          <p:cNvSpPr/>
          <p:nvPr/>
        </p:nvSpPr>
        <p:spPr>
          <a:xfrm>
            <a:off x="4103640" y="2063880"/>
            <a:ext cx="263520" cy="19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AutoShape 9"/>
          <p:cNvSpPr/>
          <p:nvPr/>
        </p:nvSpPr>
        <p:spPr>
          <a:xfrm>
            <a:off x="4013280" y="2255760"/>
            <a:ext cx="447480" cy="21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AutoShape 10"/>
          <p:cNvSpPr/>
          <p:nvPr/>
        </p:nvSpPr>
        <p:spPr>
          <a:xfrm>
            <a:off x="4789440" y="2066760"/>
            <a:ext cx="265320" cy="19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AutoShape 11"/>
          <p:cNvSpPr/>
          <p:nvPr/>
        </p:nvSpPr>
        <p:spPr>
          <a:xfrm>
            <a:off x="4699080" y="2259000"/>
            <a:ext cx="447480" cy="21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AutoShape 12"/>
          <p:cNvSpPr/>
          <p:nvPr/>
        </p:nvSpPr>
        <p:spPr>
          <a:xfrm>
            <a:off x="4441680" y="2095560"/>
            <a:ext cx="263520" cy="19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AutoShape 13"/>
          <p:cNvSpPr/>
          <p:nvPr/>
        </p:nvSpPr>
        <p:spPr>
          <a:xfrm>
            <a:off x="4351320" y="2287440"/>
            <a:ext cx="447840" cy="21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Line 37"/>
          <p:cNvSpPr/>
          <p:nvPr/>
        </p:nvSpPr>
        <p:spPr>
          <a:xfrm>
            <a:off x="3598920" y="272088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AutoShape 5"/>
          <p:cNvSpPr/>
          <p:nvPr/>
        </p:nvSpPr>
        <p:spPr>
          <a:xfrm>
            <a:off x="5872320" y="1727280"/>
            <a:ext cx="2104920" cy="200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956"/>
                </a:moveTo>
                <a:lnTo>
                  <a:pt x="0" y="1644"/>
                </a:lnTo>
                <a:cubicBezTo>
                  <a:pt x="0" y="736"/>
                  <a:pt x="934" y="0"/>
                  <a:pt x="2087" y="0"/>
                </a:cubicBezTo>
                <a:lnTo>
                  <a:pt x="19513" y="0"/>
                </a:lnTo>
                <a:cubicBezTo>
                  <a:pt x="20666" y="0"/>
                  <a:pt x="21600" y="736"/>
                  <a:pt x="21600" y="1644"/>
                </a:cubicBezTo>
                <a:lnTo>
                  <a:pt x="21600" y="19956"/>
                </a:lnTo>
                <a:cubicBezTo>
                  <a:pt x="21600" y="20864"/>
                  <a:pt x="20666" y="21600"/>
                  <a:pt x="19513" y="21600"/>
                </a:cubicBezTo>
                <a:lnTo>
                  <a:pt x="2087" y="21600"/>
                </a:lnTo>
                <a:cubicBezTo>
                  <a:pt x="934" y="21600"/>
                  <a:pt x="0" y="20864"/>
                  <a:pt x="0" y="19956"/>
                </a:cubicBezTo>
                <a:close/>
                <a:moveTo>
                  <a:pt x="0" y="19956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2" name="Group 32"/>
          <p:cNvGrpSpPr/>
          <p:nvPr/>
        </p:nvGrpSpPr>
        <p:grpSpPr>
          <a:xfrm>
            <a:off x="6176880" y="1932120"/>
            <a:ext cx="1495440" cy="623520"/>
            <a:chOff x="6176880" y="1932120"/>
            <a:chExt cx="1495440" cy="623520"/>
          </a:xfrm>
        </p:grpSpPr>
        <p:sp>
          <p:nvSpPr>
            <p:cNvPr id="773" name="AutoShape 14"/>
            <p:cNvSpPr/>
            <p:nvPr/>
          </p:nvSpPr>
          <p:spPr>
            <a:xfrm>
              <a:off x="6235200" y="2270160"/>
              <a:ext cx="17244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AutoShape 15"/>
            <p:cNvSpPr/>
            <p:nvPr/>
          </p:nvSpPr>
          <p:spPr>
            <a:xfrm>
              <a:off x="6176880" y="2395080"/>
              <a:ext cx="29088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AutoShape 16"/>
            <p:cNvSpPr/>
            <p:nvPr/>
          </p:nvSpPr>
          <p:spPr>
            <a:xfrm>
              <a:off x="6681600" y="227304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AutoShape 17"/>
            <p:cNvSpPr/>
            <p:nvPr/>
          </p:nvSpPr>
          <p:spPr>
            <a:xfrm>
              <a:off x="6623280" y="2397240"/>
              <a:ext cx="29160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AutoShape 18"/>
            <p:cNvSpPr/>
            <p:nvPr/>
          </p:nvSpPr>
          <p:spPr>
            <a:xfrm>
              <a:off x="6455520" y="2291040"/>
              <a:ext cx="17244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AutoShape 19"/>
            <p:cNvSpPr/>
            <p:nvPr/>
          </p:nvSpPr>
          <p:spPr>
            <a:xfrm>
              <a:off x="6396480" y="2415960"/>
              <a:ext cx="291600" cy="13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AutoShape 20"/>
            <p:cNvSpPr/>
            <p:nvPr/>
          </p:nvSpPr>
          <p:spPr>
            <a:xfrm>
              <a:off x="6992280" y="227052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AutoShape 21"/>
            <p:cNvSpPr/>
            <p:nvPr/>
          </p:nvSpPr>
          <p:spPr>
            <a:xfrm>
              <a:off x="6933960" y="2395080"/>
              <a:ext cx="29124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AutoShape 22"/>
            <p:cNvSpPr/>
            <p:nvPr/>
          </p:nvSpPr>
          <p:spPr>
            <a:xfrm>
              <a:off x="7439040" y="227304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AutoShape 23"/>
            <p:cNvSpPr/>
            <p:nvPr/>
          </p:nvSpPr>
          <p:spPr>
            <a:xfrm>
              <a:off x="7380720" y="2397240"/>
              <a:ext cx="29160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AutoShape 24"/>
            <p:cNvSpPr/>
            <p:nvPr/>
          </p:nvSpPr>
          <p:spPr>
            <a:xfrm>
              <a:off x="7212600" y="2291040"/>
              <a:ext cx="17244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AutoShape 25"/>
            <p:cNvSpPr/>
            <p:nvPr/>
          </p:nvSpPr>
          <p:spPr>
            <a:xfrm>
              <a:off x="7153560" y="2415960"/>
              <a:ext cx="29160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AutoShape 26"/>
            <p:cNvSpPr/>
            <p:nvPr/>
          </p:nvSpPr>
          <p:spPr>
            <a:xfrm>
              <a:off x="6616080" y="193212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AutoShape 27"/>
            <p:cNvSpPr/>
            <p:nvPr/>
          </p:nvSpPr>
          <p:spPr>
            <a:xfrm>
              <a:off x="6557760" y="2056320"/>
              <a:ext cx="29124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AutoShape 28"/>
            <p:cNvSpPr/>
            <p:nvPr/>
          </p:nvSpPr>
          <p:spPr>
            <a:xfrm>
              <a:off x="7062840" y="193428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AutoShape 29"/>
            <p:cNvSpPr/>
            <p:nvPr/>
          </p:nvSpPr>
          <p:spPr>
            <a:xfrm>
              <a:off x="7004520" y="2058480"/>
              <a:ext cx="29160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AutoShape 30"/>
            <p:cNvSpPr/>
            <p:nvPr/>
          </p:nvSpPr>
          <p:spPr>
            <a:xfrm>
              <a:off x="6836400" y="1952640"/>
              <a:ext cx="17244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AutoShape 31"/>
            <p:cNvSpPr/>
            <p:nvPr/>
          </p:nvSpPr>
          <p:spPr>
            <a:xfrm>
              <a:off x="6777360" y="2077200"/>
              <a:ext cx="291600" cy="13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Line 38"/>
          <p:cNvSpPr/>
          <p:nvPr/>
        </p:nvSpPr>
        <p:spPr>
          <a:xfrm>
            <a:off x="5962680" y="272088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1336680" y="29732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1338120" y="31370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3681360" y="297324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Box 13"/>
          <p:cNvSpPr/>
          <p:nvPr/>
        </p:nvSpPr>
        <p:spPr>
          <a:xfrm>
            <a:off x="3684600" y="31370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Box 13"/>
          <p:cNvSpPr/>
          <p:nvPr/>
        </p:nvSpPr>
        <p:spPr>
          <a:xfrm>
            <a:off x="6037200" y="297324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Box 13"/>
          <p:cNvSpPr/>
          <p:nvPr/>
        </p:nvSpPr>
        <p:spPr>
          <a:xfrm>
            <a:off x="6040440" y="313704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图片 7" descr=""/>
          <p:cNvPicPr/>
          <p:nvPr/>
        </p:nvPicPr>
        <p:blipFill>
          <a:blip r:embed="rId1"/>
          <a:stretch/>
        </p:blipFill>
        <p:spPr>
          <a:xfrm>
            <a:off x="-1440" y="1763640"/>
            <a:ext cx="5675040" cy="194004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00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矩形 4"/>
          <p:cNvSpPr/>
          <p:nvPr/>
        </p:nvSpPr>
        <p:spPr>
          <a:xfrm>
            <a:off x="6031080" y="1770120"/>
            <a:ext cx="3112920" cy="19368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矩形 5"/>
          <p:cNvSpPr/>
          <p:nvPr/>
        </p:nvSpPr>
        <p:spPr>
          <a:xfrm>
            <a:off x="6216480" y="2322360"/>
            <a:ext cx="226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04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Rectangle 1"/>
          <p:cNvSpPr/>
          <p:nvPr/>
        </p:nvSpPr>
        <p:spPr>
          <a:xfrm>
            <a:off x="782640" y="2054160"/>
            <a:ext cx="7675560" cy="1901880"/>
          </a:xfrm>
          <a:prstGeom prst="rect">
            <a:avLst/>
          </a:prstGeom>
          <a:solidFill>
            <a:srgbClr val="e6e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1428840" y="1662120"/>
            <a:ext cx="1339920" cy="10047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3100320" y="1662120"/>
            <a:ext cx="1339920" cy="100476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4759200" y="1663560"/>
            <a:ext cx="1338480" cy="10051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6467400" y="1663560"/>
            <a:ext cx="1316160" cy="100512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132"/>
          <p:cNvSpPr/>
          <p:nvPr/>
        </p:nvSpPr>
        <p:spPr>
          <a:xfrm>
            <a:off x="3649680" y="2013120"/>
            <a:ext cx="239760" cy="250560"/>
          </a:xfrm>
          <a:custGeom>
            <a:avLst/>
            <a:gdLst/>
            <a:ahLst/>
            <a:rect l="l" t="t" r="r" b="b"/>
            <a:pathLst>
              <a:path w="208" h="288">
                <a:moveTo>
                  <a:pt x="60" y="0"/>
                </a:moveTo>
                <a:cubicBezTo>
                  <a:pt x="60" y="0"/>
                  <a:pt x="60" y="0"/>
                  <a:pt x="60" y="0"/>
                </a:cubicBezTo>
                <a:cubicBezTo>
                  <a:pt x="60" y="42"/>
                  <a:pt x="60" y="42"/>
                  <a:pt x="60" y="42"/>
                </a:cubicBezTo>
                <a:cubicBezTo>
                  <a:pt x="60" y="61"/>
                  <a:pt x="60" y="61"/>
                  <a:pt x="60" y="61"/>
                </a:cubicBezTo>
                <a:cubicBezTo>
                  <a:pt x="41" y="61"/>
                  <a:pt x="41" y="61"/>
                  <a:pt x="41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08" y="288"/>
                  <a:pt x="208" y="288"/>
                  <a:pt x="208" y="288"/>
                </a:cubicBezTo>
                <a:cubicBezTo>
                  <a:pt x="208" y="0"/>
                  <a:pt x="208" y="0"/>
                  <a:pt x="208" y="0"/>
                </a:cubicBezTo>
                <a:lnTo>
                  <a:pt x="60" y="0"/>
                </a:lnTo>
                <a:close/>
                <a:moveTo>
                  <a:pt x="163" y="167"/>
                </a:moveTo>
                <a:cubicBezTo>
                  <a:pt x="134" y="167"/>
                  <a:pt x="134" y="167"/>
                  <a:pt x="134" y="167"/>
                </a:cubicBezTo>
                <a:cubicBezTo>
                  <a:pt x="131" y="167"/>
                  <a:pt x="126" y="167"/>
                  <a:pt x="122" y="167"/>
                </a:cubicBezTo>
                <a:cubicBezTo>
                  <a:pt x="122" y="230"/>
                  <a:pt x="122" y="230"/>
                  <a:pt x="122" y="230"/>
                </a:cubicBezTo>
                <a:cubicBezTo>
                  <a:pt x="122" y="236"/>
                  <a:pt x="117" y="241"/>
                  <a:pt x="111" y="241"/>
                </a:cubicBezTo>
                <a:cubicBezTo>
                  <a:pt x="97" y="241"/>
                  <a:pt x="97" y="241"/>
                  <a:pt x="97" y="241"/>
                </a:cubicBezTo>
                <a:cubicBezTo>
                  <a:pt x="91" y="241"/>
                  <a:pt x="86" y="236"/>
                  <a:pt x="86" y="230"/>
                </a:cubicBezTo>
                <a:cubicBezTo>
                  <a:pt x="86" y="167"/>
                  <a:pt x="86" y="167"/>
                  <a:pt x="86" y="167"/>
                </a:cubicBezTo>
                <a:cubicBezTo>
                  <a:pt x="81" y="167"/>
                  <a:pt x="77" y="167"/>
                  <a:pt x="74" y="167"/>
                </a:cubicBezTo>
                <a:cubicBezTo>
                  <a:pt x="45" y="167"/>
                  <a:pt x="45" y="167"/>
                  <a:pt x="45" y="167"/>
                </a:cubicBezTo>
                <a:cubicBezTo>
                  <a:pt x="38" y="167"/>
                  <a:pt x="36" y="163"/>
                  <a:pt x="40" y="158"/>
                </a:cubicBezTo>
                <a:cubicBezTo>
                  <a:pt x="97" y="91"/>
                  <a:pt x="97" y="91"/>
                  <a:pt x="97" y="91"/>
                </a:cubicBezTo>
                <a:cubicBezTo>
                  <a:pt x="101" y="86"/>
                  <a:pt x="107" y="86"/>
                  <a:pt x="111" y="91"/>
                </a:cubicBezTo>
                <a:cubicBezTo>
                  <a:pt x="167" y="158"/>
                  <a:pt x="167" y="158"/>
                  <a:pt x="167" y="158"/>
                </a:cubicBezTo>
                <a:cubicBezTo>
                  <a:pt x="172" y="163"/>
                  <a:pt x="170" y="167"/>
                  <a:pt x="163" y="1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220"/>
          <p:cNvSpPr/>
          <p:nvPr/>
        </p:nvSpPr>
        <p:spPr>
          <a:xfrm>
            <a:off x="1925640" y="2013120"/>
            <a:ext cx="420840" cy="23652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2" name="组合 10" descr=""/>
          <p:cNvPicPr/>
          <p:nvPr/>
        </p:nvPicPr>
        <p:blipFill>
          <a:blip r:embed="rId2"/>
          <a:stretch/>
        </p:blipFill>
        <p:spPr>
          <a:xfrm>
            <a:off x="5254560" y="2008080"/>
            <a:ext cx="311040" cy="250920"/>
          </a:xfrm>
          <a:prstGeom prst="rect">
            <a:avLst/>
          </a:prstGeom>
          <a:ln w="0">
            <a:noFill/>
          </a:ln>
        </p:spPr>
      </p:pic>
      <p:sp>
        <p:nvSpPr>
          <p:cNvPr id="813" name="Freeform 289"/>
          <p:cNvSpPr/>
          <p:nvPr/>
        </p:nvSpPr>
        <p:spPr>
          <a:xfrm>
            <a:off x="6975360" y="2046240"/>
            <a:ext cx="328680" cy="24912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Box 13"/>
          <p:cNvSpPr/>
          <p:nvPr/>
        </p:nvSpPr>
        <p:spPr>
          <a:xfrm>
            <a:off x="1440000" y="28576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TextBox 13"/>
          <p:cNvSpPr/>
          <p:nvPr/>
        </p:nvSpPr>
        <p:spPr>
          <a:xfrm>
            <a:off x="1428840" y="30304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Box 13"/>
          <p:cNvSpPr/>
          <p:nvPr/>
        </p:nvSpPr>
        <p:spPr>
          <a:xfrm>
            <a:off x="3164040" y="28576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Box 13"/>
          <p:cNvSpPr/>
          <p:nvPr/>
        </p:nvSpPr>
        <p:spPr>
          <a:xfrm>
            <a:off x="3152880" y="30304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Box 13"/>
          <p:cNvSpPr/>
          <p:nvPr/>
        </p:nvSpPr>
        <p:spPr>
          <a:xfrm>
            <a:off x="4772160" y="28576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TextBox 13"/>
          <p:cNvSpPr/>
          <p:nvPr/>
        </p:nvSpPr>
        <p:spPr>
          <a:xfrm>
            <a:off x="4761000" y="30304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extBox 13"/>
          <p:cNvSpPr/>
          <p:nvPr/>
        </p:nvSpPr>
        <p:spPr>
          <a:xfrm>
            <a:off x="6453360" y="28576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Box 13"/>
          <p:cNvSpPr/>
          <p:nvPr/>
        </p:nvSpPr>
        <p:spPr>
          <a:xfrm>
            <a:off x="6442200" y="30304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流程图: 手动输入 4"/>
          <p:cNvSpPr/>
          <p:nvPr/>
        </p:nvSpPr>
        <p:spPr>
          <a:xfrm rot="5400000">
            <a:off x="-862200" y="863280"/>
            <a:ext cx="5143680" cy="3416400"/>
          </a:xfrm>
          <a:prstGeom prst="flowChartManualInput">
            <a:avLst/>
          </a:prstGeom>
          <a:solidFill>
            <a:srgbClr val="41b9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图片 9" descr=""/>
          <p:cNvPicPr/>
          <p:nvPr/>
        </p:nvPicPr>
        <p:blipFill>
          <a:blip r:embed="rId1"/>
          <a:stretch/>
        </p:blipFill>
        <p:spPr>
          <a:xfrm>
            <a:off x="2708280" y="0"/>
            <a:ext cx="2938320" cy="5143680"/>
          </a:xfrm>
          <a:prstGeom prst="rect">
            <a:avLst/>
          </a:prstGeom>
          <a:ln w="0">
            <a:noFill/>
          </a:ln>
        </p:spPr>
      </p:pic>
      <p:sp>
        <p:nvSpPr>
          <p:cNvPr id="500" name="文本框 10"/>
          <p:cNvSpPr/>
          <p:nvPr/>
        </p:nvSpPr>
        <p:spPr>
          <a:xfrm>
            <a:off x="436680" y="19098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11"/>
          <p:cNvSpPr/>
          <p:nvPr/>
        </p:nvSpPr>
        <p:spPr>
          <a:xfrm>
            <a:off x="324000" y="2544840"/>
            <a:ext cx="238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文本框 12"/>
          <p:cNvSpPr/>
          <p:nvPr/>
        </p:nvSpPr>
        <p:spPr>
          <a:xfrm>
            <a:off x="6222960" y="173664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13"/>
          <p:cNvSpPr/>
          <p:nvPr/>
        </p:nvSpPr>
        <p:spPr>
          <a:xfrm>
            <a:off x="5719680" y="169056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30"/>
          <p:cNvSpPr/>
          <p:nvPr/>
        </p:nvSpPr>
        <p:spPr>
          <a:xfrm>
            <a:off x="6222960" y="233676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文本框 31"/>
          <p:cNvSpPr/>
          <p:nvPr/>
        </p:nvSpPr>
        <p:spPr>
          <a:xfrm>
            <a:off x="5719680" y="228924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文本框 32"/>
          <p:cNvSpPr/>
          <p:nvPr/>
        </p:nvSpPr>
        <p:spPr>
          <a:xfrm>
            <a:off x="6222960" y="298440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文本框 33"/>
          <p:cNvSpPr/>
          <p:nvPr/>
        </p:nvSpPr>
        <p:spPr>
          <a:xfrm>
            <a:off x="5719680" y="293832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文本框 34"/>
          <p:cNvSpPr/>
          <p:nvPr/>
        </p:nvSpPr>
        <p:spPr>
          <a:xfrm>
            <a:off x="6222960" y="358452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文本框 35"/>
          <p:cNvSpPr/>
          <p:nvPr/>
        </p:nvSpPr>
        <p:spPr>
          <a:xfrm>
            <a:off x="5719680" y="353844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23" name="圆角矩形 6"/>
          <p:cNvSpPr/>
          <p:nvPr/>
        </p:nvSpPr>
        <p:spPr>
          <a:xfrm>
            <a:off x="2882880" y="1932120"/>
            <a:ext cx="3376800" cy="12808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直接连接符 8"/>
          <p:cNvSpPr/>
          <p:nvPr/>
        </p:nvSpPr>
        <p:spPr>
          <a:xfrm>
            <a:off x="36360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直接连接符 12"/>
          <p:cNvSpPr/>
          <p:nvPr/>
        </p:nvSpPr>
        <p:spPr>
          <a:xfrm>
            <a:off x="625968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15"/>
          <p:cNvSpPr/>
          <p:nvPr/>
        </p:nvSpPr>
        <p:spPr>
          <a:xfrm>
            <a:off x="3444840" y="333360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13"/>
          <p:cNvSpPr/>
          <p:nvPr/>
        </p:nvSpPr>
        <p:spPr>
          <a:xfrm>
            <a:off x="2657520" y="3670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8" name="图片 9" descr=""/>
          <p:cNvPicPr/>
          <p:nvPr/>
        </p:nvPicPr>
        <p:blipFill>
          <a:blip r:embed="rId2"/>
          <a:stretch/>
        </p:blipFill>
        <p:spPr>
          <a:xfrm>
            <a:off x="3373560" y="2301840"/>
            <a:ext cx="23968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30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traight Connector 5"/>
          <p:cNvSpPr/>
          <p:nvPr/>
        </p:nvSpPr>
        <p:spPr>
          <a:xfrm flipH="1">
            <a:off x="4560840" y="1689120"/>
            <a:ext cx="23760" cy="2825640"/>
          </a:xfrm>
          <a:prstGeom prst="line">
            <a:avLst/>
          </a:prstGeom>
          <a:ln w="64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5"/>
          <p:cNvSpPr/>
          <p:nvPr/>
        </p:nvSpPr>
        <p:spPr>
          <a:xfrm>
            <a:off x="2043000" y="3011400"/>
            <a:ext cx="2833920" cy="45576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reeform 115"/>
          <p:cNvSpPr/>
          <p:nvPr/>
        </p:nvSpPr>
        <p:spPr>
          <a:xfrm>
            <a:off x="4471920" y="3117960"/>
            <a:ext cx="246240" cy="226800"/>
          </a:xfrm>
          <a:custGeom>
            <a:avLst/>
            <a:gdLst/>
            <a:ahLst/>
            <a:rect l="l" t="t" r="r" b="b"/>
            <a:pathLst>
              <a:path w="400" h="498">
                <a:moveTo>
                  <a:pt x="381" y="124"/>
                </a:moveTo>
                <a:lnTo>
                  <a:pt x="381" y="124"/>
                </a:lnTo>
                <a:cubicBezTo>
                  <a:pt x="372" y="44"/>
                  <a:pt x="301" y="0"/>
                  <a:pt x="231" y="9"/>
                </a:cubicBezTo>
                <a:cubicBezTo>
                  <a:pt x="159" y="27"/>
                  <a:pt x="106" y="80"/>
                  <a:pt x="115" y="151"/>
                </a:cubicBezTo>
                <a:cubicBezTo>
                  <a:pt x="115" y="168"/>
                  <a:pt x="124" y="195"/>
                  <a:pt x="133" y="213"/>
                </a:cubicBezTo>
                <a:cubicBezTo>
                  <a:pt x="9" y="407"/>
                  <a:pt x="9" y="407"/>
                  <a:pt x="9" y="407"/>
                </a:cubicBezTo>
                <a:cubicBezTo>
                  <a:pt x="0" y="407"/>
                  <a:pt x="0" y="425"/>
                  <a:pt x="0" y="434"/>
                </a:cubicBezTo>
                <a:cubicBezTo>
                  <a:pt x="9" y="478"/>
                  <a:pt x="9" y="478"/>
                  <a:pt x="9" y="478"/>
                </a:cubicBezTo>
                <a:cubicBezTo>
                  <a:pt x="9" y="487"/>
                  <a:pt x="18" y="497"/>
                  <a:pt x="27" y="497"/>
                </a:cubicBezTo>
                <a:cubicBezTo>
                  <a:pt x="62" y="487"/>
                  <a:pt x="62" y="487"/>
                  <a:pt x="62" y="487"/>
                </a:cubicBezTo>
                <a:cubicBezTo>
                  <a:pt x="71" y="487"/>
                  <a:pt x="80" y="478"/>
                  <a:pt x="89" y="470"/>
                </a:cubicBezTo>
                <a:cubicBezTo>
                  <a:pt x="142" y="390"/>
                  <a:pt x="142" y="390"/>
                  <a:pt x="142" y="390"/>
                </a:cubicBezTo>
                <a:cubicBezTo>
                  <a:pt x="177" y="381"/>
                  <a:pt x="177" y="381"/>
                  <a:pt x="177" y="381"/>
                </a:cubicBezTo>
                <a:cubicBezTo>
                  <a:pt x="231" y="284"/>
                  <a:pt x="231" y="284"/>
                  <a:pt x="231" y="284"/>
                </a:cubicBezTo>
                <a:cubicBezTo>
                  <a:pt x="248" y="293"/>
                  <a:pt x="284" y="284"/>
                  <a:pt x="293" y="284"/>
                </a:cubicBezTo>
                <a:cubicBezTo>
                  <a:pt x="363" y="275"/>
                  <a:pt x="399" y="195"/>
                  <a:pt x="381" y="124"/>
                </a:cubicBezTo>
                <a:close/>
                <a:moveTo>
                  <a:pt x="319" y="159"/>
                </a:moveTo>
                <a:lnTo>
                  <a:pt x="319" y="159"/>
                </a:lnTo>
                <a:cubicBezTo>
                  <a:pt x="301" y="187"/>
                  <a:pt x="284" y="168"/>
                  <a:pt x="256" y="142"/>
                </a:cubicBezTo>
                <a:cubicBezTo>
                  <a:pt x="231" y="124"/>
                  <a:pt x="203" y="115"/>
                  <a:pt x="221" y="80"/>
                </a:cubicBezTo>
                <a:cubicBezTo>
                  <a:pt x="240" y="53"/>
                  <a:pt x="284" y="44"/>
                  <a:pt x="310" y="71"/>
                </a:cubicBezTo>
                <a:cubicBezTo>
                  <a:pt x="337" y="89"/>
                  <a:pt x="346" y="133"/>
                  <a:pt x="319" y="1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Freeform 5"/>
          <p:cNvSpPr/>
          <p:nvPr/>
        </p:nvSpPr>
        <p:spPr>
          <a:xfrm>
            <a:off x="2043000" y="1650960"/>
            <a:ext cx="2833920" cy="45720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97"/>
          <p:cNvSpPr/>
          <p:nvPr/>
        </p:nvSpPr>
        <p:spPr>
          <a:xfrm>
            <a:off x="4435560" y="1770120"/>
            <a:ext cx="276120" cy="176040"/>
          </a:xfrm>
          <a:custGeom>
            <a:avLst/>
            <a:gdLst/>
            <a:ahLst/>
            <a:rect l="l" t="t" r="r" b="b"/>
            <a:pathLst>
              <a:path w="497" h="426">
                <a:moveTo>
                  <a:pt x="230" y="231"/>
                </a:moveTo>
                <a:lnTo>
                  <a:pt x="230" y="231"/>
                </a:lnTo>
                <a:cubicBezTo>
                  <a:pt x="274" y="231"/>
                  <a:pt x="274" y="231"/>
                  <a:pt x="274" y="231"/>
                </a:cubicBezTo>
                <a:cubicBezTo>
                  <a:pt x="274" y="275"/>
                  <a:pt x="274" y="275"/>
                  <a:pt x="274" y="275"/>
                </a:cubicBezTo>
                <a:cubicBezTo>
                  <a:pt x="496" y="275"/>
                  <a:pt x="496" y="275"/>
                  <a:pt x="496" y="275"/>
                </a:cubicBezTo>
                <a:cubicBezTo>
                  <a:pt x="496" y="275"/>
                  <a:pt x="496" y="168"/>
                  <a:pt x="487" y="133"/>
                </a:cubicBezTo>
                <a:cubicBezTo>
                  <a:pt x="487" y="97"/>
                  <a:pt x="478" y="80"/>
                  <a:pt x="443" y="80"/>
                </a:cubicBezTo>
                <a:cubicBezTo>
                  <a:pt x="363" y="80"/>
                  <a:pt x="363" y="80"/>
                  <a:pt x="363" y="80"/>
                </a:cubicBezTo>
                <a:cubicBezTo>
                  <a:pt x="345" y="53"/>
                  <a:pt x="337" y="27"/>
                  <a:pt x="337" y="27"/>
                </a:cubicBezTo>
                <a:cubicBezTo>
                  <a:pt x="328" y="9"/>
                  <a:pt x="319" y="0"/>
                  <a:pt x="300" y="0"/>
                </a:cubicBezTo>
                <a:cubicBezTo>
                  <a:pt x="194" y="0"/>
                  <a:pt x="194" y="0"/>
                  <a:pt x="194" y="0"/>
                </a:cubicBezTo>
                <a:cubicBezTo>
                  <a:pt x="177" y="0"/>
                  <a:pt x="168" y="9"/>
                  <a:pt x="168" y="27"/>
                </a:cubicBezTo>
                <a:cubicBezTo>
                  <a:pt x="159" y="27"/>
                  <a:pt x="150" y="53"/>
                  <a:pt x="133" y="80"/>
                </a:cubicBezTo>
                <a:cubicBezTo>
                  <a:pt x="53" y="80"/>
                  <a:pt x="53" y="80"/>
                  <a:pt x="53" y="80"/>
                </a:cubicBezTo>
                <a:cubicBezTo>
                  <a:pt x="17" y="80"/>
                  <a:pt x="9" y="97"/>
                  <a:pt x="9" y="133"/>
                </a:cubicBezTo>
                <a:cubicBezTo>
                  <a:pt x="0" y="168"/>
                  <a:pt x="0" y="275"/>
                  <a:pt x="0" y="275"/>
                </a:cubicBezTo>
                <a:cubicBezTo>
                  <a:pt x="230" y="275"/>
                  <a:pt x="230" y="275"/>
                  <a:pt x="230" y="275"/>
                </a:cubicBezTo>
                <a:lnTo>
                  <a:pt x="230" y="231"/>
                </a:lnTo>
                <a:close/>
                <a:moveTo>
                  <a:pt x="186" y="53"/>
                </a:moveTo>
                <a:lnTo>
                  <a:pt x="186" y="53"/>
                </a:lnTo>
                <a:cubicBezTo>
                  <a:pt x="194" y="44"/>
                  <a:pt x="194" y="36"/>
                  <a:pt x="212" y="36"/>
                </a:cubicBezTo>
                <a:cubicBezTo>
                  <a:pt x="284" y="36"/>
                  <a:pt x="284" y="36"/>
                  <a:pt x="284" y="36"/>
                </a:cubicBezTo>
                <a:cubicBezTo>
                  <a:pt x="300" y="36"/>
                  <a:pt x="300" y="44"/>
                  <a:pt x="309" y="53"/>
                </a:cubicBezTo>
                <a:cubicBezTo>
                  <a:pt x="309" y="53"/>
                  <a:pt x="319" y="71"/>
                  <a:pt x="319" y="80"/>
                </a:cubicBezTo>
                <a:cubicBezTo>
                  <a:pt x="177" y="80"/>
                  <a:pt x="177" y="80"/>
                  <a:pt x="177" y="80"/>
                </a:cubicBezTo>
                <a:cubicBezTo>
                  <a:pt x="186" y="71"/>
                  <a:pt x="186" y="53"/>
                  <a:pt x="186" y="53"/>
                </a:cubicBezTo>
                <a:close/>
                <a:moveTo>
                  <a:pt x="274" y="355"/>
                </a:moveTo>
                <a:lnTo>
                  <a:pt x="274" y="355"/>
                </a:lnTo>
                <a:cubicBezTo>
                  <a:pt x="230" y="355"/>
                  <a:pt x="230" y="355"/>
                  <a:pt x="230" y="355"/>
                </a:cubicBezTo>
                <a:cubicBezTo>
                  <a:pt x="230" y="302"/>
                  <a:pt x="230" y="302"/>
                  <a:pt x="230" y="302"/>
                </a:cubicBezTo>
                <a:cubicBezTo>
                  <a:pt x="9" y="302"/>
                  <a:pt x="9" y="302"/>
                  <a:pt x="9" y="302"/>
                </a:cubicBezTo>
                <a:cubicBezTo>
                  <a:pt x="9" y="302"/>
                  <a:pt x="17" y="346"/>
                  <a:pt x="17" y="381"/>
                </a:cubicBezTo>
                <a:cubicBezTo>
                  <a:pt x="17" y="399"/>
                  <a:pt x="26" y="425"/>
                  <a:pt x="62" y="425"/>
                </a:cubicBezTo>
                <a:cubicBezTo>
                  <a:pt x="434" y="425"/>
                  <a:pt x="434" y="425"/>
                  <a:pt x="434" y="425"/>
                </a:cubicBezTo>
                <a:cubicBezTo>
                  <a:pt x="469" y="425"/>
                  <a:pt x="478" y="399"/>
                  <a:pt x="478" y="381"/>
                </a:cubicBezTo>
                <a:cubicBezTo>
                  <a:pt x="478" y="346"/>
                  <a:pt x="487" y="302"/>
                  <a:pt x="487" y="302"/>
                </a:cubicBezTo>
                <a:cubicBezTo>
                  <a:pt x="274" y="302"/>
                  <a:pt x="274" y="302"/>
                  <a:pt x="274" y="302"/>
                </a:cubicBezTo>
                <a:lnTo>
                  <a:pt x="274" y="3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5"/>
          <p:cNvSpPr/>
          <p:nvPr/>
        </p:nvSpPr>
        <p:spPr>
          <a:xfrm rot="10800000">
            <a:off x="4267080" y="3690720"/>
            <a:ext cx="2835360" cy="45540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102"/>
          <p:cNvSpPr/>
          <p:nvPr/>
        </p:nvSpPr>
        <p:spPr>
          <a:xfrm>
            <a:off x="4421160" y="3817800"/>
            <a:ext cx="304920" cy="2034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5"/>
          <p:cNvSpPr/>
          <p:nvPr/>
        </p:nvSpPr>
        <p:spPr>
          <a:xfrm rot="10800000">
            <a:off x="4286160" y="2332080"/>
            <a:ext cx="2835360" cy="45720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101"/>
          <p:cNvSpPr/>
          <p:nvPr/>
        </p:nvSpPr>
        <p:spPr>
          <a:xfrm>
            <a:off x="4421160" y="2465280"/>
            <a:ext cx="343080" cy="198720"/>
          </a:xfrm>
          <a:custGeom>
            <a:avLst/>
            <a:gdLst/>
            <a:ahLst/>
            <a:rect l="l" t="t" r="r" b="b"/>
            <a:pathLst>
              <a:path w="497" h="382">
                <a:moveTo>
                  <a:pt x="80" y="248"/>
                </a:moveTo>
                <a:lnTo>
                  <a:pt x="80" y="248"/>
                </a:lnTo>
                <a:cubicBezTo>
                  <a:pt x="97" y="293"/>
                  <a:pt x="106" y="311"/>
                  <a:pt x="159" y="328"/>
                </a:cubicBezTo>
                <a:cubicBezTo>
                  <a:pt x="203" y="355"/>
                  <a:pt x="230" y="381"/>
                  <a:pt x="248" y="381"/>
                </a:cubicBezTo>
                <a:cubicBezTo>
                  <a:pt x="266" y="381"/>
                  <a:pt x="293" y="355"/>
                  <a:pt x="337" y="337"/>
                </a:cubicBezTo>
                <a:cubicBezTo>
                  <a:pt x="390" y="311"/>
                  <a:pt x="372" y="311"/>
                  <a:pt x="390" y="258"/>
                </a:cubicBezTo>
                <a:cubicBezTo>
                  <a:pt x="248" y="328"/>
                  <a:pt x="248" y="328"/>
                  <a:pt x="248" y="328"/>
                </a:cubicBezTo>
                <a:lnTo>
                  <a:pt x="80" y="248"/>
                </a:lnTo>
                <a:close/>
                <a:moveTo>
                  <a:pt x="487" y="124"/>
                </a:moveTo>
                <a:lnTo>
                  <a:pt x="487" y="124"/>
                </a:lnTo>
                <a:cubicBezTo>
                  <a:pt x="274" y="9"/>
                  <a:pt x="274" y="9"/>
                  <a:pt x="274" y="9"/>
                </a:cubicBezTo>
                <a:cubicBezTo>
                  <a:pt x="266" y="0"/>
                  <a:pt x="239" y="0"/>
                  <a:pt x="221" y="9"/>
                </a:cubicBezTo>
                <a:cubicBezTo>
                  <a:pt x="9" y="124"/>
                  <a:pt x="9" y="124"/>
                  <a:pt x="9" y="124"/>
                </a:cubicBezTo>
                <a:cubicBezTo>
                  <a:pt x="0" y="133"/>
                  <a:pt x="0" y="142"/>
                  <a:pt x="9" y="160"/>
                </a:cubicBezTo>
                <a:cubicBezTo>
                  <a:pt x="221" y="275"/>
                  <a:pt x="221" y="275"/>
                  <a:pt x="221" y="275"/>
                </a:cubicBezTo>
                <a:cubicBezTo>
                  <a:pt x="239" y="284"/>
                  <a:pt x="266" y="284"/>
                  <a:pt x="274" y="275"/>
                </a:cubicBezTo>
                <a:cubicBezTo>
                  <a:pt x="408" y="195"/>
                  <a:pt x="408" y="195"/>
                  <a:pt x="408" y="195"/>
                </a:cubicBezTo>
                <a:cubicBezTo>
                  <a:pt x="266" y="160"/>
                  <a:pt x="266" y="160"/>
                  <a:pt x="266" y="160"/>
                </a:cubicBezTo>
                <a:cubicBezTo>
                  <a:pt x="257" y="160"/>
                  <a:pt x="257" y="168"/>
                  <a:pt x="248" y="168"/>
                </a:cubicBezTo>
                <a:cubicBezTo>
                  <a:pt x="221" y="168"/>
                  <a:pt x="203" y="151"/>
                  <a:pt x="203" y="133"/>
                </a:cubicBezTo>
                <a:cubicBezTo>
                  <a:pt x="203" y="124"/>
                  <a:pt x="221" y="107"/>
                  <a:pt x="248" y="107"/>
                </a:cubicBezTo>
                <a:cubicBezTo>
                  <a:pt x="266" y="107"/>
                  <a:pt x="284" y="115"/>
                  <a:pt x="293" y="124"/>
                </a:cubicBezTo>
                <a:cubicBezTo>
                  <a:pt x="443" y="177"/>
                  <a:pt x="443" y="177"/>
                  <a:pt x="443" y="177"/>
                </a:cubicBezTo>
                <a:cubicBezTo>
                  <a:pt x="487" y="160"/>
                  <a:pt x="487" y="160"/>
                  <a:pt x="487" y="160"/>
                </a:cubicBezTo>
                <a:cubicBezTo>
                  <a:pt x="496" y="142"/>
                  <a:pt x="496" y="133"/>
                  <a:pt x="487" y="124"/>
                </a:cubicBezTo>
                <a:close/>
                <a:moveTo>
                  <a:pt x="425" y="346"/>
                </a:moveTo>
                <a:lnTo>
                  <a:pt x="425" y="346"/>
                </a:lnTo>
                <a:cubicBezTo>
                  <a:pt x="416" y="355"/>
                  <a:pt x="452" y="364"/>
                  <a:pt x="461" y="337"/>
                </a:cubicBezTo>
                <a:cubicBezTo>
                  <a:pt x="469" y="213"/>
                  <a:pt x="443" y="177"/>
                  <a:pt x="443" y="177"/>
                </a:cubicBezTo>
                <a:cubicBezTo>
                  <a:pt x="408" y="195"/>
                  <a:pt x="408" y="195"/>
                  <a:pt x="408" y="195"/>
                </a:cubicBezTo>
                <a:cubicBezTo>
                  <a:pt x="408" y="195"/>
                  <a:pt x="443" y="222"/>
                  <a:pt x="425" y="3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13"/>
          <p:cNvSpPr/>
          <p:nvPr/>
        </p:nvSpPr>
        <p:spPr>
          <a:xfrm>
            <a:off x="614520" y="177012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Box 13"/>
          <p:cNvSpPr/>
          <p:nvPr/>
        </p:nvSpPr>
        <p:spPr>
          <a:xfrm>
            <a:off x="617400" y="19303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13"/>
          <p:cNvSpPr/>
          <p:nvPr/>
        </p:nvSpPr>
        <p:spPr>
          <a:xfrm>
            <a:off x="614520" y="31179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Box 13"/>
          <p:cNvSpPr/>
          <p:nvPr/>
        </p:nvSpPr>
        <p:spPr>
          <a:xfrm>
            <a:off x="617400" y="32796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Box 13"/>
          <p:cNvSpPr/>
          <p:nvPr/>
        </p:nvSpPr>
        <p:spPr>
          <a:xfrm>
            <a:off x="7283520" y="243360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13"/>
          <p:cNvSpPr/>
          <p:nvPr/>
        </p:nvSpPr>
        <p:spPr>
          <a:xfrm>
            <a:off x="7286760" y="259380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13"/>
          <p:cNvSpPr/>
          <p:nvPr/>
        </p:nvSpPr>
        <p:spPr>
          <a:xfrm>
            <a:off x="7283520" y="381780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13"/>
          <p:cNvSpPr/>
          <p:nvPr/>
        </p:nvSpPr>
        <p:spPr>
          <a:xfrm>
            <a:off x="7286760" y="397836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49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Bent Arrow 5@|1FFC:0|FBC:0|LFC:9868950|LBC:16777215"/>
          <p:cNvSpPr/>
          <p:nvPr/>
        </p:nvSpPr>
        <p:spPr>
          <a:xfrm rot="2700000">
            <a:off x="3586680" y="1494360"/>
            <a:ext cx="168120" cy="1239840"/>
          </a:xfrm>
          <a:custGeom>
            <a:avLst/>
            <a:gdLst/>
            <a:ahLst/>
            <a:rect l="l" t="t" r="r" b="b"/>
            <a:pathLst>
              <a:path w="225046" h="1239609">
                <a:moveTo>
                  <a:pt x="0" y="1239609"/>
                </a:moveTo>
                <a:lnTo>
                  <a:pt x="0" y="40901"/>
                </a:lnTo>
                <a:lnTo>
                  <a:pt x="126998" y="40901"/>
                </a:lnTo>
                <a:lnTo>
                  <a:pt x="126998" y="0"/>
                </a:lnTo>
                <a:lnTo>
                  <a:pt x="225046" y="56275"/>
                </a:lnTo>
                <a:lnTo>
                  <a:pt x="126998" y="112550"/>
                </a:lnTo>
                <a:lnTo>
                  <a:pt x="126998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Rectangle 6@|1FFC:0|FBC:0|LFC:9868950|LBC:16777215"/>
          <p:cNvSpPr/>
          <p:nvPr/>
        </p:nvSpPr>
        <p:spPr>
          <a:xfrm flipV="1" rot="2700000">
            <a:off x="3246120" y="2333160"/>
            <a:ext cx="23760" cy="2253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Bent Arrow 8@|1FFC:0|FBC:0|LFC:9868950|LBC:16777215"/>
          <p:cNvSpPr/>
          <p:nvPr/>
        </p:nvSpPr>
        <p:spPr>
          <a:xfrm rot="18900000">
            <a:off x="3036960" y="3368160"/>
            <a:ext cx="1239840" cy="168480"/>
          </a:xfrm>
          <a:custGeom>
            <a:avLst/>
            <a:gdLst/>
            <a:ahLst/>
            <a:rect l="l" t="t" r="r" b="b"/>
            <a:pathLst>
              <a:path w="225045" h="1239609">
                <a:moveTo>
                  <a:pt x="0" y="1239609"/>
                </a:moveTo>
                <a:lnTo>
                  <a:pt x="0" y="40901"/>
                </a:lnTo>
                <a:lnTo>
                  <a:pt x="126997" y="40901"/>
                </a:lnTo>
                <a:lnTo>
                  <a:pt x="126997" y="0"/>
                </a:lnTo>
                <a:lnTo>
                  <a:pt x="225045" y="56275"/>
                </a:lnTo>
                <a:lnTo>
                  <a:pt x="126997" y="112550"/>
                </a:lnTo>
                <a:lnTo>
                  <a:pt x="126997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Rectangle 9@|1FFC:0|FBC:0|LFC:9868950|LBC:16777215"/>
          <p:cNvSpPr/>
          <p:nvPr/>
        </p:nvSpPr>
        <p:spPr>
          <a:xfrm flipV="1" rot="18900000">
            <a:off x="3983040" y="3750480"/>
            <a:ext cx="225360" cy="2232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11880" bIns="-118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Bent Arrow 11@|1FFC:0|FBC:0|LFC:9868950|LBC:16777215"/>
          <p:cNvSpPr/>
          <p:nvPr/>
        </p:nvSpPr>
        <p:spPr>
          <a:xfrm flipH="1" flipV="1" rot="18900000">
            <a:off x="4826160" y="2026800"/>
            <a:ext cx="1239840" cy="168480"/>
          </a:xfrm>
          <a:custGeom>
            <a:avLst/>
            <a:gdLst/>
            <a:ahLst/>
            <a:rect l="l" t="t" r="r" b="b"/>
            <a:pathLst>
              <a:path w="225045" h="1239609">
                <a:moveTo>
                  <a:pt x="0" y="1239609"/>
                </a:moveTo>
                <a:lnTo>
                  <a:pt x="0" y="40901"/>
                </a:lnTo>
                <a:lnTo>
                  <a:pt x="126997" y="40901"/>
                </a:lnTo>
                <a:lnTo>
                  <a:pt x="126997" y="0"/>
                </a:lnTo>
                <a:lnTo>
                  <a:pt x="225045" y="56275"/>
                </a:lnTo>
                <a:lnTo>
                  <a:pt x="126997" y="112550"/>
                </a:lnTo>
                <a:lnTo>
                  <a:pt x="126997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Rectangle 12@|1FFC:0|FBC:0|LFC:9868950|LBC:16777215"/>
          <p:cNvSpPr/>
          <p:nvPr/>
        </p:nvSpPr>
        <p:spPr>
          <a:xfrm flipH="1" rot="18900000">
            <a:off x="4893120" y="1785960"/>
            <a:ext cx="223920" cy="237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10440" bIns="-104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Bent Arrow 14@|1FFC:0|FBC:0|LFC:9868950|LBC:16777215"/>
          <p:cNvSpPr/>
          <p:nvPr/>
        </p:nvSpPr>
        <p:spPr>
          <a:xfrm flipH="1" flipV="1" rot="2700000">
            <a:off x="5383440" y="2844000"/>
            <a:ext cx="168480" cy="1238040"/>
          </a:xfrm>
          <a:custGeom>
            <a:avLst/>
            <a:gdLst/>
            <a:ahLst/>
            <a:rect l="l" t="t" r="r" b="b"/>
            <a:pathLst>
              <a:path w="225046" h="1239609">
                <a:moveTo>
                  <a:pt x="0" y="1239609"/>
                </a:moveTo>
                <a:lnTo>
                  <a:pt x="0" y="40901"/>
                </a:lnTo>
                <a:lnTo>
                  <a:pt x="126998" y="40901"/>
                </a:lnTo>
                <a:lnTo>
                  <a:pt x="126998" y="0"/>
                </a:lnTo>
                <a:lnTo>
                  <a:pt x="225046" y="56275"/>
                </a:lnTo>
                <a:lnTo>
                  <a:pt x="126998" y="112550"/>
                </a:lnTo>
                <a:lnTo>
                  <a:pt x="126998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Rectangle 15@|1FFC:0|FBC:0|LFC:9868950|LBC:16777215"/>
          <p:cNvSpPr/>
          <p:nvPr/>
        </p:nvSpPr>
        <p:spPr>
          <a:xfrm flipH="1" rot="2700000">
            <a:off x="5874840" y="3022200"/>
            <a:ext cx="23760" cy="2253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Rounded Rectangle 20@|1FFC:2381804|FBC:16777215|LFC:16777215|LBC:16777215"/>
          <p:cNvSpPr/>
          <p:nvPr/>
        </p:nvSpPr>
        <p:spPr>
          <a:xfrm flipV="1" rot="18900000">
            <a:off x="4841280" y="2370960"/>
            <a:ext cx="1114560" cy="83484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Group 34" descr=""/>
          <p:cNvPicPr/>
          <p:nvPr/>
        </p:nvPicPr>
        <p:blipFill>
          <a:blip r:embed="rId2"/>
          <a:stretch/>
        </p:blipFill>
        <p:spPr>
          <a:xfrm>
            <a:off x="5162400" y="2638440"/>
            <a:ext cx="457200" cy="333360"/>
          </a:xfrm>
          <a:prstGeom prst="rect">
            <a:avLst/>
          </a:prstGeom>
          <a:ln w="0">
            <a:noFill/>
          </a:ln>
        </p:spPr>
      </p:pic>
      <p:sp>
        <p:nvSpPr>
          <p:cNvPr id="860" name="Rounded Rectangle 17@|1FFC:14657585|FBC:16777215|LFC:16777215|LBC:16777215"/>
          <p:cNvSpPr/>
          <p:nvPr/>
        </p:nvSpPr>
        <p:spPr>
          <a:xfrm flipV="1" rot="18900000">
            <a:off x="4014720" y="2993760"/>
            <a:ext cx="1113840" cy="835200"/>
          </a:xfrm>
          <a:prstGeom prst="roundRect">
            <a:avLst>
              <a:gd name="adj" fmla="val 9648"/>
            </a:avLst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hape 719@|5FFC:16777215|FBC:16777215|LFC:16777215|LBC:16777215"/>
          <p:cNvSpPr/>
          <p:nvPr/>
        </p:nvSpPr>
        <p:spPr>
          <a:xfrm>
            <a:off x="4351320" y="3252960"/>
            <a:ext cx="441360" cy="284040"/>
          </a:xfrm>
          <a:custGeom>
            <a:avLst/>
            <a:gdLst/>
            <a:ahLst/>
            <a:rect l="l" t="t" r="r" b="b"/>
            <a:pathLst>
              <a:path w="21332" h="21446">
                <a:moveTo>
                  <a:pt x="9262" y="7207"/>
                </a:moveTo>
                <a:lnTo>
                  <a:pt x="14475" y="11108"/>
                </a:lnTo>
                <a:cubicBezTo>
                  <a:pt x="14915" y="11436"/>
                  <a:pt x="15500" y="11301"/>
                  <a:pt x="15796" y="10800"/>
                </a:cubicBezTo>
                <a:lnTo>
                  <a:pt x="21160" y="1771"/>
                </a:lnTo>
                <a:cubicBezTo>
                  <a:pt x="21464" y="1257"/>
                  <a:pt x="21354" y="555"/>
                  <a:pt x="20913" y="200"/>
                </a:cubicBezTo>
                <a:cubicBezTo>
                  <a:pt x="20472" y="-154"/>
                  <a:pt x="19869" y="-26"/>
                  <a:pt x="19564" y="487"/>
                </a:cubicBezTo>
                <a:lnTo>
                  <a:pt x="14734" y="8618"/>
                </a:lnTo>
                <a:lnTo>
                  <a:pt x="9490" y="4694"/>
                </a:lnTo>
                <a:cubicBezTo>
                  <a:pt x="9273" y="4532"/>
                  <a:pt x="9010" y="4478"/>
                  <a:pt x="8757" y="4541"/>
                </a:cubicBezTo>
                <a:cubicBezTo>
                  <a:pt x="8505" y="4607"/>
                  <a:pt x="8285" y="4785"/>
                  <a:pt x="8147" y="5039"/>
                </a:cubicBezTo>
                <a:lnTo>
                  <a:pt x="152" y="19712"/>
                </a:lnTo>
                <a:cubicBezTo>
                  <a:pt x="-136" y="20237"/>
                  <a:pt x="-2" y="20936"/>
                  <a:pt x="450" y="21269"/>
                </a:cubicBezTo>
                <a:cubicBezTo>
                  <a:pt x="611" y="21389"/>
                  <a:pt x="791" y="21446"/>
                  <a:pt x="969" y="21446"/>
                </a:cubicBezTo>
                <a:cubicBezTo>
                  <a:pt x="1290" y="21446"/>
                  <a:pt x="1604" y="21260"/>
                  <a:pt x="1788" y="20921"/>
                </a:cubicBezTo>
                <a:cubicBezTo>
                  <a:pt x="1788" y="20921"/>
                  <a:pt x="9262" y="7207"/>
                  <a:pt x="9262" y="7207"/>
                </a:cubicBezTo>
                <a:close/>
                <a:moveTo>
                  <a:pt x="19712" y="12707"/>
                </a:moveTo>
                <a:lnTo>
                  <a:pt x="14952" y="17715"/>
                </a:lnTo>
                <a:lnTo>
                  <a:pt x="9355" y="12653"/>
                </a:lnTo>
                <a:cubicBezTo>
                  <a:pt x="9249" y="12556"/>
                  <a:pt x="9125" y="12487"/>
                  <a:pt x="8994" y="12450"/>
                </a:cubicBezTo>
                <a:lnTo>
                  <a:pt x="8249" y="12234"/>
                </a:lnTo>
                <a:lnTo>
                  <a:pt x="7154" y="14242"/>
                </a:lnTo>
                <a:lnTo>
                  <a:pt x="8327" y="14582"/>
                </a:lnTo>
                <a:lnTo>
                  <a:pt x="14404" y="20078"/>
                </a:lnTo>
                <a:cubicBezTo>
                  <a:pt x="14580" y="20237"/>
                  <a:pt x="14789" y="20317"/>
                  <a:pt x="14999" y="20317"/>
                </a:cubicBezTo>
                <a:cubicBezTo>
                  <a:pt x="15232" y="20317"/>
                  <a:pt x="15466" y="20218"/>
                  <a:pt x="15650" y="20026"/>
                </a:cubicBezTo>
                <a:lnTo>
                  <a:pt x="21012" y="14382"/>
                </a:lnTo>
                <a:cubicBezTo>
                  <a:pt x="21410" y="13963"/>
                  <a:pt x="21441" y="13250"/>
                  <a:pt x="21081" y="12788"/>
                </a:cubicBezTo>
                <a:cubicBezTo>
                  <a:pt x="20722" y="12325"/>
                  <a:pt x="20109" y="12289"/>
                  <a:pt x="19712" y="12707"/>
                </a:cubicBezTo>
                <a:close/>
                <a:moveTo>
                  <a:pt x="735" y="12382"/>
                </a:moveTo>
                <a:lnTo>
                  <a:pt x="2190" y="12804"/>
                </a:lnTo>
                <a:lnTo>
                  <a:pt x="3284" y="10795"/>
                </a:lnTo>
                <a:lnTo>
                  <a:pt x="1204" y="10192"/>
                </a:lnTo>
                <a:cubicBezTo>
                  <a:pt x="683" y="10040"/>
                  <a:pt x="158" y="10410"/>
                  <a:pt x="28" y="11015"/>
                </a:cubicBezTo>
                <a:cubicBezTo>
                  <a:pt x="-100" y="11620"/>
                  <a:pt x="216" y="12231"/>
                  <a:pt x="735" y="123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ounded Rectangle 23@|1FFC:0|FBC:0|LFC:16777215|LBC:16777215"/>
          <p:cNvSpPr/>
          <p:nvPr/>
        </p:nvSpPr>
        <p:spPr>
          <a:xfrm flipV="1" rot="18900000">
            <a:off x="3187080" y="2370960"/>
            <a:ext cx="1114560" cy="83484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Shape 2102@|5FFC:16777215|FBC:16777215|LFC:16777215|LBC:16777215"/>
          <p:cNvSpPr/>
          <p:nvPr/>
        </p:nvSpPr>
        <p:spPr>
          <a:xfrm>
            <a:off x="3467160" y="2624040"/>
            <a:ext cx="539640" cy="32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143" y="10800"/>
                </a:moveTo>
                <a:cubicBezTo>
                  <a:pt x="17065" y="10800"/>
                  <a:pt x="16800" y="11898"/>
                  <a:pt x="16709" y="12419"/>
                </a:cubicBezTo>
                <a:cubicBezTo>
                  <a:pt x="16115" y="15817"/>
                  <a:pt x="13696" y="18359"/>
                  <a:pt x="10800" y="18359"/>
                </a:cubicBezTo>
                <a:cubicBezTo>
                  <a:pt x="9130" y="18359"/>
                  <a:pt x="7618" y="17514"/>
                  <a:pt x="6524" y="16146"/>
                </a:cubicBezTo>
                <a:cubicBezTo>
                  <a:pt x="6018" y="15513"/>
                  <a:pt x="5198" y="15513"/>
                  <a:pt x="4691" y="16146"/>
                </a:cubicBezTo>
                <a:cubicBezTo>
                  <a:pt x="4185" y="16779"/>
                  <a:pt x="4185" y="17804"/>
                  <a:pt x="4691" y="18437"/>
                </a:cubicBezTo>
                <a:cubicBezTo>
                  <a:pt x="6255" y="20391"/>
                  <a:pt x="8415" y="21600"/>
                  <a:pt x="10800" y="21600"/>
                </a:cubicBezTo>
                <a:cubicBezTo>
                  <a:pt x="14669" y="21600"/>
                  <a:pt x="17943" y="18421"/>
                  <a:pt x="19043" y="14039"/>
                </a:cubicBezTo>
                <a:lnTo>
                  <a:pt x="21600" y="14039"/>
                </a:lnTo>
                <a:lnTo>
                  <a:pt x="21600" y="10800"/>
                </a:lnTo>
                <a:cubicBezTo>
                  <a:pt x="21600" y="10800"/>
                  <a:pt x="18143" y="10800"/>
                  <a:pt x="18143" y="10800"/>
                </a:cubicBezTo>
                <a:close/>
                <a:moveTo>
                  <a:pt x="4891" y="9180"/>
                </a:moveTo>
                <a:cubicBezTo>
                  <a:pt x="5484" y="5783"/>
                  <a:pt x="7904" y="3240"/>
                  <a:pt x="10800" y="3240"/>
                </a:cubicBezTo>
                <a:cubicBezTo>
                  <a:pt x="12470" y="3240"/>
                  <a:pt x="13982" y="4086"/>
                  <a:pt x="15076" y="5454"/>
                </a:cubicBezTo>
                <a:cubicBezTo>
                  <a:pt x="15582" y="6086"/>
                  <a:pt x="16404" y="6086"/>
                  <a:pt x="16909" y="5454"/>
                </a:cubicBezTo>
                <a:cubicBezTo>
                  <a:pt x="17415" y="4821"/>
                  <a:pt x="17415" y="3796"/>
                  <a:pt x="16909" y="3163"/>
                </a:cubicBezTo>
                <a:cubicBezTo>
                  <a:pt x="15346" y="1209"/>
                  <a:pt x="13186" y="0"/>
                  <a:pt x="10800" y="0"/>
                </a:cubicBezTo>
                <a:cubicBezTo>
                  <a:pt x="6931" y="0"/>
                  <a:pt x="3658" y="3178"/>
                  <a:pt x="2557" y="7560"/>
                </a:cubicBezTo>
                <a:lnTo>
                  <a:pt x="0" y="7560"/>
                </a:lnTo>
                <a:lnTo>
                  <a:pt x="0" y="10800"/>
                </a:lnTo>
                <a:lnTo>
                  <a:pt x="3457" y="10800"/>
                </a:lnTo>
                <a:cubicBezTo>
                  <a:pt x="4535" y="10800"/>
                  <a:pt x="4800" y="9702"/>
                  <a:pt x="4891" y="9180"/>
                </a:cubicBezTo>
                <a:close/>
                <a:moveTo>
                  <a:pt x="7343" y="10800"/>
                </a:moveTo>
                <a:cubicBezTo>
                  <a:pt x="7343" y="13185"/>
                  <a:pt x="8891" y="15120"/>
                  <a:pt x="10800" y="15120"/>
                </a:cubicBezTo>
                <a:cubicBezTo>
                  <a:pt x="12709" y="15120"/>
                  <a:pt x="14255" y="13185"/>
                  <a:pt x="14255" y="10800"/>
                </a:cubicBezTo>
                <a:cubicBezTo>
                  <a:pt x="14255" y="8415"/>
                  <a:pt x="12709" y="6480"/>
                  <a:pt x="10800" y="6480"/>
                </a:cubicBezTo>
                <a:cubicBezTo>
                  <a:pt x="8891" y="6480"/>
                  <a:pt x="7343" y="8415"/>
                  <a:pt x="7343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Rounded Rectangle 26@|1FFC:4308095|FBC:16777215|LFC:16777215|LBC:16777215"/>
          <p:cNvSpPr/>
          <p:nvPr/>
        </p:nvSpPr>
        <p:spPr>
          <a:xfrm flipV="1" rot="18900000">
            <a:off x="4014720" y="1752120"/>
            <a:ext cx="1114560" cy="835200"/>
          </a:xfrm>
          <a:prstGeom prst="roundRect">
            <a:avLst>
              <a:gd name="adj" fmla="val 9648"/>
            </a:avLst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56@|5FFC:16777215|FBC:16777215|LFC:16777215|LBC:16777215"/>
          <p:cNvSpPr/>
          <p:nvPr/>
        </p:nvSpPr>
        <p:spPr>
          <a:xfrm>
            <a:off x="4352760" y="2030400"/>
            <a:ext cx="498600" cy="306360"/>
          </a:xfrm>
          <a:custGeom>
            <a:avLst/>
            <a:gdLst/>
            <a:ahLst/>
            <a:rect l="l" t="t" r="r" b="b"/>
            <a:pathLst>
              <a:path w="382" h="312">
                <a:moveTo>
                  <a:pt x="307" y="135"/>
                </a:moveTo>
                <a:cubicBezTo>
                  <a:pt x="354" y="122"/>
                  <a:pt x="382" y="72"/>
                  <a:pt x="362" y="71"/>
                </a:cubicBezTo>
                <a:cubicBezTo>
                  <a:pt x="311" y="68"/>
                  <a:pt x="267" y="43"/>
                  <a:pt x="238" y="25"/>
                </a:cubicBezTo>
                <a:cubicBezTo>
                  <a:pt x="235" y="23"/>
                  <a:pt x="232" y="21"/>
                  <a:pt x="229" y="19"/>
                </a:cubicBezTo>
                <a:cubicBezTo>
                  <a:pt x="229" y="134"/>
                  <a:pt x="229" y="134"/>
                  <a:pt x="229" y="134"/>
                </a:cubicBezTo>
                <a:cubicBezTo>
                  <a:pt x="229" y="172"/>
                  <a:pt x="206" y="202"/>
                  <a:pt x="180" y="214"/>
                </a:cubicBezTo>
                <a:cubicBezTo>
                  <a:pt x="142" y="233"/>
                  <a:pt x="100" y="221"/>
                  <a:pt x="86" y="189"/>
                </a:cubicBezTo>
                <a:cubicBezTo>
                  <a:pt x="72" y="157"/>
                  <a:pt x="91" y="116"/>
                  <a:pt x="129" y="97"/>
                </a:cubicBezTo>
                <a:cubicBezTo>
                  <a:pt x="150" y="87"/>
                  <a:pt x="172" y="86"/>
                  <a:pt x="190" y="93"/>
                </a:cubicBezTo>
                <a:cubicBezTo>
                  <a:pt x="190" y="4"/>
                  <a:pt x="190" y="4"/>
                  <a:pt x="190" y="4"/>
                </a:cubicBezTo>
                <a:cubicBezTo>
                  <a:pt x="178" y="1"/>
                  <a:pt x="166" y="0"/>
                  <a:pt x="154" y="0"/>
                </a:cubicBezTo>
                <a:cubicBezTo>
                  <a:pt x="69" y="0"/>
                  <a:pt x="0" y="70"/>
                  <a:pt x="0" y="156"/>
                </a:cubicBezTo>
                <a:cubicBezTo>
                  <a:pt x="0" y="242"/>
                  <a:pt x="69" y="312"/>
                  <a:pt x="154" y="312"/>
                </a:cubicBezTo>
                <a:cubicBezTo>
                  <a:pt x="239" y="312"/>
                  <a:pt x="308" y="242"/>
                  <a:pt x="308" y="156"/>
                </a:cubicBezTo>
                <a:cubicBezTo>
                  <a:pt x="308" y="149"/>
                  <a:pt x="308" y="142"/>
                  <a:pt x="307" y="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Box 13"/>
          <p:cNvSpPr/>
          <p:nvPr/>
        </p:nvSpPr>
        <p:spPr>
          <a:xfrm>
            <a:off x="6280200" y="18302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TextBox 13"/>
          <p:cNvSpPr/>
          <p:nvPr/>
        </p:nvSpPr>
        <p:spPr>
          <a:xfrm>
            <a:off x="6283440" y="19922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TextBox 13"/>
          <p:cNvSpPr/>
          <p:nvPr/>
        </p:nvSpPr>
        <p:spPr>
          <a:xfrm>
            <a:off x="6280200" y="3294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extBox 13"/>
          <p:cNvSpPr/>
          <p:nvPr/>
        </p:nvSpPr>
        <p:spPr>
          <a:xfrm>
            <a:off x="6283440" y="345456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13"/>
          <p:cNvSpPr/>
          <p:nvPr/>
        </p:nvSpPr>
        <p:spPr>
          <a:xfrm>
            <a:off x="1031760" y="183024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TextBox 13"/>
          <p:cNvSpPr/>
          <p:nvPr/>
        </p:nvSpPr>
        <p:spPr>
          <a:xfrm>
            <a:off x="1035000" y="19922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TextBox 13"/>
          <p:cNvSpPr/>
          <p:nvPr/>
        </p:nvSpPr>
        <p:spPr>
          <a:xfrm>
            <a:off x="1031760" y="32940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Box 13"/>
          <p:cNvSpPr/>
          <p:nvPr/>
        </p:nvSpPr>
        <p:spPr>
          <a:xfrm>
            <a:off x="1035000" y="345456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75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ound Same Side Corner Rectangle 4"/>
          <p:cNvSpPr/>
          <p:nvPr/>
        </p:nvSpPr>
        <p:spPr>
          <a:xfrm rot="16200000">
            <a:off x="798480" y="1776600"/>
            <a:ext cx="1967040" cy="2141280"/>
          </a:xfrm>
          <a:custGeom>
            <a:avLst/>
            <a:gdLst/>
            <a:ahLst/>
            <a:rect l="l" t="t" r="r" b="b"/>
            <a:pathLst>
              <a:path w="2623766" h="2142108">
                <a:moveTo>
                  <a:pt x="157381" y="0"/>
                </a:moveTo>
                <a:lnTo>
                  <a:pt x="2466385" y="0"/>
                </a:lnTo>
                <a:cubicBezTo>
                  <a:pt x="2553304" y="0"/>
                  <a:pt x="2623766" y="70462"/>
                  <a:pt x="2623766" y="157381"/>
                </a:cubicBezTo>
                <a:lnTo>
                  <a:pt x="2623766" y="2142108"/>
                </a:lnTo>
                <a:lnTo>
                  <a:pt x="0" y="2142108"/>
                </a:lnTo>
                <a:lnTo>
                  <a:pt x="0" y="157381"/>
                </a:lnTo>
                <a:cubicBezTo>
                  <a:pt x="0" y="70462"/>
                  <a:pt x="70462" y="0"/>
                  <a:pt x="157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ectangle 9"/>
          <p:cNvSpPr/>
          <p:nvPr/>
        </p:nvSpPr>
        <p:spPr>
          <a:xfrm>
            <a:off x="711360" y="2535120"/>
            <a:ext cx="2144520" cy="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116"/>
          <p:cNvSpPr/>
          <p:nvPr/>
        </p:nvSpPr>
        <p:spPr>
          <a:xfrm>
            <a:off x="1576440" y="2041560"/>
            <a:ext cx="411120" cy="24912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8"/>
          <p:cNvSpPr/>
          <p:nvPr/>
        </p:nvSpPr>
        <p:spPr>
          <a:xfrm>
            <a:off x="1155600" y="2308320"/>
            <a:ext cx="1252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ound Same Side Corner Rectangle 12"/>
          <p:cNvSpPr/>
          <p:nvPr/>
        </p:nvSpPr>
        <p:spPr>
          <a:xfrm flipH="1" rot="5400000">
            <a:off x="6360120" y="1776240"/>
            <a:ext cx="1967040" cy="2141640"/>
          </a:xfrm>
          <a:custGeom>
            <a:avLst/>
            <a:gdLst/>
            <a:ahLst/>
            <a:rect l="l" t="t" r="r" b="b"/>
            <a:pathLst>
              <a:path w="2623766" h="2142108">
                <a:moveTo>
                  <a:pt x="157381" y="0"/>
                </a:moveTo>
                <a:lnTo>
                  <a:pt x="2466385" y="0"/>
                </a:lnTo>
                <a:cubicBezTo>
                  <a:pt x="2553304" y="0"/>
                  <a:pt x="2623766" y="70462"/>
                  <a:pt x="2623766" y="157381"/>
                </a:cubicBezTo>
                <a:lnTo>
                  <a:pt x="2623766" y="2142108"/>
                </a:lnTo>
                <a:lnTo>
                  <a:pt x="0" y="2142108"/>
                </a:lnTo>
                <a:lnTo>
                  <a:pt x="0" y="157381"/>
                </a:lnTo>
                <a:cubicBezTo>
                  <a:pt x="0" y="70462"/>
                  <a:pt x="70462" y="0"/>
                  <a:pt x="157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13"/>
          <p:cNvSpPr/>
          <p:nvPr/>
        </p:nvSpPr>
        <p:spPr>
          <a:xfrm flipH="1">
            <a:off x="6270480" y="2535120"/>
            <a:ext cx="2144880" cy="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Freeform 122"/>
          <p:cNvSpPr/>
          <p:nvPr/>
        </p:nvSpPr>
        <p:spPr>
          <a:xfrm>
            <a:off x="7153200" y="2058840"/>
            <a:ext cx="379440" cy="223920"/>
          </a:xfrm>
          <a:custGeom>
            <a:avLst/>
            <a:gdLst/>
            <a:ahLst/>
            <a:rect l="l" t="t" r="r" b="b"/>
            <a:pathLst>
              <a:path w="73" h="57">
                <a:moveTo>
                  <a:pt x="57" y="37"/>
                </a:moveTo>
                <a:cubicBezTo>
                  <a:pt x="38" y="56"/>
                  <a:pt x="38" y="56"/>
                  <a:pt x="38" y="56"/>
                </a:cubicBezTo>
                <a:cubicBezTo>
                  <a:pt x="37" y="57"/>
                  <a:pt x="36" y="57"/>
                  <a:pt x="34" y="57"/>
                </a:cubicBezTo>
                <a:cubicBezTo>
                  <a:pt x="33" y="57"/>
                  <a:pt x="32" y="57"/>
                  <a:pt x="31" y="56"/>
                </a:cubicBezTo>
                <a:cubicBezTo>
                  <a:pt x="4" y="28"/>
                  <a:pt x="4" y="28"/>
                  <a:pt x="4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3" y="0"/>
                  <a:pt x="5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4" y="0"/>
                  <a:pt x="27" y="1"/>
                  <a:pt x="29" y="3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1"/>
                  <a:pt x="58" y="32"/>
                  <a:pt x="58" y="34"/>
                </a:cubicBezTo>
                <a:cubicBezTo>
                  <a:pt x="58" y="35"/>
                  <a:pt x="57" y="36"/>
                  <a:pt x="57" y="37"/>
                </a:cubicBezTo>
                <a:close/>
                <a:moveTo>
                  <a:pt x="13" y="7"/>
                </a:moveTo>
                <a:cubicBezTo>
                  <a:pt x="10" y="7"/>
                  <a:pt x="8" y="9"/>
                  <a:pt x="8" y="12"/>
                </a:cubicBezTo>
                <a:cubicBezTo>
                  <a:pt x="8" y="14"/>
                  <a:pt x="10" y="17"/>
                  <a:pt x="13" y="17"/>
                </a:cubicBezTo>
                <a:cubicBezTo>
                  <a:pt x="15" y="17"/>
                  <a:pt x="17" y="14"/>
                  <a:pt x="17" y="12"/>
                </a:cubicBezTo>
                <a:cubicBezTo>
                  <a:pt x="17" y="9"/>
                  <a:pt x="15" y="7"/>
                  <a:pt x="13" y="7"/>
                </a:cubicBezTo>
                <a:close/>
                <a:moveTo>
                  <a:pt x="71" y="37"/>
                </a:moveTo>
                <a:cubicBezTo>
                  <a:pt x="52" y="56"/>
                  <a:pt x="52" y="56"/>
                  <a:pt x="52" y="56"/>
                </a:cubicBezTo>
                <a:cubicBezTo>
                  <a:pt x="52" y="57"/>
                  <a:pt x="50" y="57"/>
                  <a:pt x="49" y="57"/>
                </a:cubicBezTo>
                <a:cubicBezTo>
                  <a:pt x="47" y="57"/>
                  <a:pt x="46" y="56"/>
                  <a:pt x="45" y="55"/>
                </a:cubicBezTo>
                <a:cubicBezTo>
                  <a:pt x="63" y="37"/>
                  <a:pt x="63" y="37"/>
                  <a:pt x="63" y="37"/>
                </a:cubicBezTo>
                <a:cubicBezTo>
                  <a:pt x="63" y="36"/>
                  <a:pt x="64" y="35"/>
                  <a:pt x="64" y="34"/>
                </a:cubicBezTo>
                <a:cubicBezTo>
                  <a:pt x="64" y="32"/>
                  <a:pt x="63" y="31"/>
                  <a:pt x="63" y="30"/>
                </a:cubicBezTo>
                <a:cubicBezTo>
                  <a:pt x="35" y="3"/>
                  <a:pt x="35" y="3"/>
                  <a:pt x="35" y="3"/>
                </a:cubicBezTo>
                <a:cubicBezTo>
                  <a:pt x="34" y="1"/>
                  <a:pt x="30" y="0"/>
                  <a:pt x="2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8" y="0"/>
                  <a:pt x="42" y="1"/>
                  <a:pt x="44" y="3"/>
                </a:cubicBezTo>
                <a:cubicBezTo>
                  <a:pt x="71" y="30"/>
                  <a:pt x="71" y="30"/>
                  <a:pt x="71" y="30"/>
                </a:cubicBezTo>
                <a:cubicBezTo>
                  <a:pt x="72" y="31"/>
                  <a:pt x="73" y="32"/>
                  <a:pt x="73" y="34"/>
                </a:cubicBezTo>
                <a:cubicBezTo>
                  <a:pt x="73" y="35"/>
                  <a:pt x="72" y="36"/>
                  <a:pt x="7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Rectangle 8"/>
          <p:cNvSpPr/>
          <p:nvPr/>
        </p:nvSpPr>
        <p:spPr>
          <a:xfrm>
            <a:off x="6716880" y="2290680"/>
            <a:ext cx="125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矩形 12"/>
          <p:cNvSpPr/>
          <p:nvPr/>
        </p:nvSpPr>
        <p:spPr>
          <a:xfrm>
            <a:off x="1085760" y="271476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矩形 13"/>
          <p:cNvSpPr/>
          <p:nvPr/>
        </p:nvSpPr>
        <p:spPr>
          <a:xfrm>
            <a:off x="6678720" y="271476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6" name="图片 2" descr=""/>
          <p:cNvPicPr/>
          <p:nvPr/>
        </p:nvPicPr>
        <p:blipFill>
          <a:blip r:embed="rId2"/>
          <a:stretch/>
        </p:blipFill>
        <p:spPr>
          <a:xfrm>
            <a:off x="2782800" y="1471680"/>
            <a:ext cx="34848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88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entagon 49"/>
          <p:cNvSpPr/>
          <p:nvPr/>
        </p:nvSpPr>
        <p:spPr>
          <a:xfrm>
            <a:off x="2824200" y="1374840"/>
            <a:ext cx="1749240" cy="62712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entagon 51"/>
          <p:cNvSpPr/>
          <p:nvPr/>
        </p:nvSpPr>
        <p:spPr>
          <a:xfrm>
            <a:off x="2824200" y="2508120"/>
            <a:ext cx="1749240" cy="62712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entagon 52"/>
          <p:cNvSpPr/>
          <p:nvPr/>
        </p:nvSpPr>
        <p:spPr>
          <a:xfrm flipH="1">
            <a:off x="4800600" y="1946160"/>
            <a:ext cx="1749600" cy="62712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entagon 53"/>
          <p:cNvSpPr/>
          <p:nvPr/>
        </p:nvSpPr>
        <p:spPr>
          <a:xfrm flipH="1">
            <a:off x="4800600" y="3094200"/>
            <a:ext cx="1749600" cy="62856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Freeform 69"/>
          <p:cNvSpPr/>
          <p:nvPr/>
        </p:nvSpPr>
        <p:spPr>
          <a:xfrm>
            <a:off x="3451320" y="1544760"/>
            <a:ext cx="203040" cy="285480"/>
          </a:xfrm>
          <a:custGeom>
            <a:avLst/>
            <a:gdLst/>
            <a:ahLst/>
            <a:rect l="l" t="t" r="r" b="b"/>
            <a:pathLst>
              <a:path w="34" h="64">
                <a:moveTo>
                  <a:pt x="21" y="57"/>
                </a:moveTo>
                <a:cubicBezTo>
                  <a:pt x="21" y="63"/>
                  <a:pt x="21" y="63"/>
                  <a:pt x="21" y="63"/>
                </a:cubicBezTo>
                <a:cubicBezTo>
                  <a:pt x="21" y="63"/>
                  <a:pt x="20" y="64"/>
                  <a:pt x="2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4" y="64"/>
                  <a:pt x="14" y="63"/>
                  <a:pt x="14" y="63"/>
                </a:cubicBezTo>
                <a:cubicBezTo>
                  <a:pt x="14" y="57"/>
                  <a:pt x="14" y="57"/>
                  <a:pt x="14" y="57"/>
                </a:cubicBezTo>
                <a:cubicBezTo>
                  <a:pt x="5" y="55"/>
                  <a:pt x="1" y="50"/>
                  <a:pt x="1" y="50"/>
                </a:cubicBezTo>
                <a:cubicBezTo>
                  <a:pt x="0" y="50"/>
                  <a:pt x="0" y="49"/>
                  <a:pt x="1" y="49"/>
                </a:cubicBezTo>
                <a:cubicBezTo>
                  <a:pt x="4" y="44"/>
                  <a:pt x="4" y="44"/>
                  <a:pt x="4" y="44"/>
                </a:cubicBezTo>
                <a:cubicBezTo>
                  <a:pt x="4" y="44"/>
                  <a:pt x="5" y="43"/>
                  <a:pt x="5" y="43"/>
                </a:cubicBezTo>
                <a:cubicBezTo>
                  <a:pt x="5" y="43"/>
                  <a:pt x="6" y="44"/>
                  <a:pt x="6" y="44"/>
                </a:cubicBezTo>
                <a:cubicBezTo>
                  <a:pt x="6" y="44"/>
                  <a:pt x="11" y="49"/>
                  <a:pt x="17" y="49"/>
                </a:cubicBezTo>
                <a:cubicBezTo>
                  <a:pt x="21" y="49"/>
                  <a:pt x="25" y="47"/>
                  <a:pt x="25" y="43"/>
                </a:cubicBezTo>
                <a:cubicBezTo>
                  <a:pt x="25" y="39"/>
                  <a:pt x="20" y="38"/>
                  <a:pt x="16" y="36"/>
                </a:cubicBezTo>
                <a:cubicBezTo>
                  <a:pt x="9" y="33"/>
                  <a:pt x="1" y="30"/>
                  <a:pt x="1" y="21"/>
                </a:cubicBezTo>
                <a:cubicBezTo>
                  <a:pt x="1" y="14"/>
                  <a:pt x="6" y="9"/>
                  <a:pt x="14" y="8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1" y="0"/>
                  <a:pt x="21" y="1"/>
                </a:cubicBezTo>
                <a:cubicBezTo>
                  <a:pt x="21" y="7"/>
                  <a:pt x="21" y="7"/>
                  <a:pt x="21" y="7"/>
                </a:cubicBezTo>
                <a:cubicBezTo>
                  <a:pt x="28" y="8"/>
                  <a:pt x="32" y="12"/>
                  <a:pt x="32" y="12"/>
                </a:cubicBezTo>
                <a:cubicBezTo>
                  <a:pt x="33" y="13"/>
                  <a:pt x="33" y="13"/>
                  <a:pt x="32" y="14"/>
                </a:cubicBezTo>
                <a:cubicBezTo>
                  <a:pt x="29" y="19"/>
                  <a:pt x="29" y="19"/>
                  <a:pt x="29" y="19"/>
                </a:cubicBezTo>
                <a:cubicBezTo>
                  <a:pt x="29" y="19"/>
                  <a:pt x="29" y="19"/>
                  <a:pt x="29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9"/>
                  <a:pt x="23" y="15"/>
                  <a:pt x="18" y="15"/>
                </a:cubicBezTo>
                <a:cubicBezTo>
                  <a:pt x="13" y="15"/>
                  <a:pt x="10" y="18"/>
                  <a:pt x="10" y="21"/>
                </a:cubicBezTo>
                <a:cubicBezTo>
                  <a:pt x="10" y="25"/>
                  <a:pt x="15" y="26"/>
                  <a:pt x="20" y="28"/>
                </a:cubicBezTo>
                <a:cubicBezTo>
                  <a:pt x="26" y="31"/>
                  <a:pt x="34" y="34"/>
                  <a:pt x="34" y="42"/>
                </a:cubicBezTo>
                <a:cubicBezTo>
                  <a:pt x="34" y="50"/>
                  <a:pt x="28" y="55"/>
                  <a:pt x="21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Freeform 23"/>
          <p:cNvSpPr/>
          <p:nvPr/>
        </p:nvSpPr>
        <p:spPr>
          <a:xfrm>
            <a:off x="3406680" y="2717640"/>
            <a:ext cx="292320" cy="206640"/>
          </a:xfrm>
          <a:custGeom>
            <a:avLst/>
            <a:gdLst/>
            <a:ahLst/>
            <a:rect l="l" t="t" r="r" b="b"/>
            <a:pathLst>
              <a:path w="68" h="64">
                <a:moveTo>
                  <a:pt x="68" y="14"/>
                </a:moveTo>
                <a:cubicBezTo>
                  <a:pt x="68" y="18"/>
                  <a:pt x="68" y="18"/>
                  <a:pt x="68" y="18"/>
                </a:cubicBezTo>
                <a:cubicBezTo>
                  <a:pt x="64" y="18"/>
                  <a:pt x="64" y="18"/>
                  <a:pt x="64" y="18"/>
                </a:cubicBezTo>
                <a:cubicBezTo>
                  <a:pt x="64" y="20"/>
                  <a:pt x="63" y="21"/>
                  <a:pt x="61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5" y="21"/>
                  <a:pt x="4" y="20"/>
                  <a:pt x="4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4"/>
                  <a:pt x="0" y="14"/>
                  <a:pt x="0" y="14"/>
                </a:cubicBezTo>
                <a:cubicBezTo>
                  <a:pt x="34" y="0"/>
                  <a:pt x="34" y="0"/>
                  <a:pt x="34" y="0"/>
                </a:cubicBezTo>
                <a:lnTo>
                  <a:pt x="68" y="14"/>
                </a:lnTo>
                <a:close/>
                <a:moveTo>
                  <a:pt x="68" y="60"/>
                </a:moveTo>
                <a:cubicBezTo>
                  <a:pt x="68" y="64"/>
                  <a:pt x="68" y="64"/>
                  <a:pt x="68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58"/>
                  <a:pt x="1" y="57"/>
                  <a:pt x="2" y="57"/>
                </a:cubicBezTo>
                <a:cubicBezTo>
                  <a:pt x="66" y="57"/>
                  <a:pt x="66" y="57"/>
                  <a:pt x="66" y="57"/>
                </a:cubicBezTo>
                <a:cubicBezTo>
                  <a:pt x="67" y="57"/>
                  <a:pt x="68" y="58"/>
                  <a:pt x="68" y="60"/>
                </a:cubicBezTo>
                <a:close/>
                <a:moveTo>
                  <a:pt x="18" y="23"/>
                </a:moveTo>
                <a:cubicBezTo>
                  <a:pt x="18" y="50"/>
                  <a:pt x="18" y="50"/>
                  <a:pt x="18" y="50"/>
                </a:cubicBezTo>
                <a:cubicBezTo>
                  <a:pt x="23" y="50"/>
                  <a:pt x="23" y="50"/>
                  <a:pt x="23" y="50"/>
                </a:cubicBezTo>
                <a:cubicBezTo>
                  <a:pt x="23" y="23"/>
                  <a:pt x="23" y="23"/>
                  <a:pt x="23" y="23"/>
                </a:cubicBezTo>
                <a:cubicBezTo>
                  <a:pt x="32" y="23"/>
                  <a:pt x="32" y="23"/>
                  <a:pt x="32" y="23"/>
                </a:cubicBezTo>
                <a:cubicBezTo>
                  <a:pt x="32" y="50"/>
                  <a:pt x="32" y="50"/>
                  <a:pt x="32" y="50"/>
                </a:cubicBezTo>
                <a:cubicBezTo>
                  <a:pt x="36" y="50"/>
                  <a:pt x="36" y="50"/>
                  <a:pt x="36" y="50"/>
                </a:cubicBezTo>
                <a:cubicBezTo>
                  <a:pt x="36" y="23"/>
                  <a:pt x="36" y="23"/>
                  <a:pt x="36" y="2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50"/>
                  <a:pt x="45" y="50"/>
                  <a:pt x="45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23"/>
                  <a:pt x="50" y="23"/>
                  <a:pt x="50" y="23"/>
                </a:cubicBezTo>
                <a:cubicBezTo>
                  <a:pt x="59" y="23"/>
                  <a:pt x="59" y="23"/>
                  <a:pt x="59" y="23"/>
                </a:cubicBezTo>
                <a:cubicBezTo>
                  <a:pt x="59" y="50"/>
                  <a:pt x="59" y="50"/>
                  <a:pt x="59" y="50"/>
                </a:cubicBezTo>
                <a:cubicBezTo>
                  <a:pt x="61" y="50"/>
                  <a:pt x="61" y="50"/>
                  <a:pt x="61" y="50"/>
                </a:cubicBezTo>
                <a:cubicBezTo>
                  <a:pt x="63" y="50"/>
                  <a:pt x="64" y="51"/>
                  <a:pt x="64" y="53"/>
                </a:cubicBezTo>
                <a:cubicBezTo>
                  <a:pt x="64" y="55"/>
                  <a:pt x="64" y="55"/>
                  <a:pt x="64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3"/>
                  <a:pt x="4" y="53"/>
                  <a:pt x="4" y="53"/>
                </a:cubicBezTo>
                <a:cubicBezTo>
                  <a:pt x="4" y="51"/>
                  <a:pt x="5" y="50"/>
                  <a:pt x="7" y="50"/>
                </a:cubicBezTo>
                <a:cubicBezTo>
                  <a:pt x="9" y="50"/>
                  <a:pt x="9" y="50"/>
                  <a:pt x="9" y="50"/>
                </a:cubicBezTo>
                <a:cubicBezTo>
                  <a:pt x="9" y="23"/>
                  <a:pt x="9" y="23"/>
                  <a:pt x="9" y="23"/>
                </a:cubicBezTo>
                <a:lnTo>
                  <a:pt x="18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57"/>
          <p:cNvSpPr/>
          <p:nvPr/>
        </p:nvSpPr>
        <p:spPr>
          <a:xfrm>
            <a:off x="5616720" y="3292560"/>
            <a:ext cx="347400" cy="230040"/>
          </a:xfrm>
          <a:custGeom>
            <a:avLst/>
            <a:gdLst/>
            <a:ahLst/>
            <a:rect l="l" t="t" r="r" b="b"/>
            <a:pathLst>
              <a:path w="65" h="58">
                <a:moveTo>
                  <a:pt x="7" y="9"/>
                </a:moveTo>
                <a:cubicBezTo>
                  <a:pt x="7" y="57"/>
                  <a:pt x="7" y="57"/>
                  <a:pt x="7" y="57"/>
                </a:cubicBezTo>
                <a:cubicBezTo>
                  <a:pt x="7" y="57"/>
                  <a:pt x="7" y="58"/>
                  <a:pt x="6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7"/>
                  <a:pt x="2" y="57"/>
                </a:cubicBezTo>
                <a:cubicBezTo>
                  <a:pt x="2" y="9"/>
                  <a:pt x="2" y="9"/>
                  <a:pt x="2" y="9"/>
                </a:cubicBezTo>
                <a:cubicBezTo>
                  <a:pt x="1" y="8"/>
                  <a:pt x="0" y="6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4"/>
                </a:cubicBezTo>
                <a:cubicBezTo>
                  <a:pt x="10" y="6"/>
                  <a:pt x="9" y="8"/>
                  <a:pt x="7" y="9"/>
                </a:cubicBezTo>
                <a:close/>
                <a:moveTo>
                  <a:pt x="65" y="36"/>
                </a:moveTo>
                <a:cubicBezTo>
                  <a:pt x="65" y="37"/>
                  <a:pt x="65" y="38"/>
                  <a:pt x="63" y="38"/>
                </a:cubicBezTo>
                <a:cubicBezTo>
                  <a:pt x="59" y="41"/>
                  <a:pt x="54" y="43"/>
                  <a:pt x="49" y="43"/>
                </a:cubicBezTo>
                <a:cubicBezTo>
                  <a:pt x="43" y="43"/>
                  <a:pt x="39" y="37"/>
                  <a:pt x="31" y="37"/>
                </a:cubicBezTo>
                <a:cubicBezTo>
                  <a:pt x="25" y="37"/>
                  <a:pt x="19" y="40"/>
                  <a:pt x="13" y="43"/>
                </a:cubicBezTo>
                <a:cubicBezTo>
                  <a:pt x="13" y="43"/>
                  <a:pt x="12" y="43"/>
                  <a:pt x="12" y="43"/>
                </a:cubicBezTo>
                <a:cubicBezTo>
                  <a:pt x="11" y="43"/>
                  <a:pt x="10" y="42"/>
                  <a:pt x="10" y="41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2"/>
                  <a:pt x="10" y="11"/>
                  <a:pt x="11" y="11"/>
                </a:cubicBezTo>
                <a:cubicBezTo>
                  <a:pt x="12" y="10"/>
                  <a:pt x="13" y="9"/>
                  <a:pt x="14" y="9"/>
                </a:cubicBezTo>
                <a:cubicBezTo>
                  <a:pt x="19" y="7"/>
                  <a:pt x="24" y="4"/>
                  <a:pt x="30" y="4"/>
                </a:cubicBezTo>
                <a:cubicBezTo>
                  <a:pt x="36" y="4"/>
                  <a:pt x="40" y="6"/>
                  <a:pt x="46" y="9"/>
                </a:cubicBezTo>
                <a:cubicBezTo>
                  <a:pt x="47" y="9"/>
                  <a:pt x="48" y="10"/>
                  <a:pt x="49" y="10"/>
                </a:cubicBezTo>
                <a:cubicBezTo>
                  <a:pt x="55" y="10"/>
                  <a:pt x="61" y="4"/>
                  <a:pt x="63" y="4"/>
                </a:cubicBezTo>
                <a:cubicBezTo>
                  <a:pt x="64" y="4"/>
                  <a:pt x="65" y="6"/>
                  <a:pt x="65" y="7"/>
                </a:cubicBezTo>
                <a:lnTo>
                  <a:pt x="6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66"/>
          <p:cNvSpPr/>
          <p:nvPr/>
        </p:nvSpPr>
        <p:spPr>
          <a:xfrm>
            <a:off x="5667480" y="2147760"/>
            <a:ext cx="257040" cy="225720"/>
          </a:xfrm>
          <a:custGeom>
            <a:avLst/>
            <a:gdLst/>
            <a:ahLst/>
            <a:rect l="l" t="t" r="r" b="b"/>
            <a:pathLst>
              <a:path w="55" h="64">
                <a:moveTo>
                  <a:pt x="55" y="9"/>
                </a:moveTo>
                <a:cubicBezTo>
                  <a:pt x="55" y="14"/>
                  <a:pt x="55" y="14"/>
                  <a:pt x="55" y="14"/>
                </a:cubicBezTo>
                <a:cubicBezTo>
                  <a:pt x="55" y="19"/>
                  <a:pt x="42" y="23"/>
                  <a:pt x="27" y="23"/>
                </a:cubicBezTo>
                <a:cubicBezTo>
                  <a:pt x="12" y="23"/>
                  <a:pt x="0" y="19"/>
                  <a:pt x="0" y="14"/>
                </a:cubicBezTo>
                <a:cubicBezTo>
                  <a:pt x="0" y="9"/>
                  <a:pt x="0" y="9"/>
                  <a:pt x="0" y="9"/>
                </a:cubicBezTo>
                <a:cubicBezTo>
                  <a:pt x="0" y="4"/>
                  <a:pt x="12" y="0"/>
                  <a:pt x="27" y="0"/>
                </a:cubicBezTo>
                <a:cubicBezTo>
                  <a:pt x="42" y="0"/>
                  <a:pt x="55" y="4"/>
                  <a:pt x="55" y="9"/>
                </a:cubicBezTo>
                <a:close/>
                <a:moveTo>
                  <a:pt x="55" y="21"/>
                </a:moveTo>
                <a:cubicBezTo>
                  <a:pt x="55" y="27"/>
                  <a:pt x="55" y="27"/>
                  <a:pt x="55" y="27"/>
                </a:cubicBezTo>
                <a:cubicBezTo>
                  <a:pt x="55" y="32"/>
                  <a:pt x="42" y="37"/>
                  <a:pt x="27" y="37"/>
                </a:cubicBezTo>
                <a:cubicBezTo>
                  <a:pt x="12" y="37"/>
                  <a:pt x="0" y="32"/>
                  <a:pt x="0" y="27"/>
                </a:cubicBezTo>
                <a:cubicBezTo>
                  <a:pt x="0" y="21"/>
                  <a:pt x="0" y="21"/>
                  <a:pt x="0" y="21"/>
                </a:cubicBezTo>
                <a:cubicBezTo>
                  <a:pt x="6" y="25"/>
                  <a:pt x="16" y="27"/>
                  <a:pt x="27" y="27"/>
                </a:cubicBezTo>
                <a:cubicBezTo>
                  <a:pt x="38" y="27"/>
                  <a:pt x="49" y="25"/>
                  <a:pt x="55" y="21"/>
                </a:cubicBezTo>
                <a:close/>
                <a:moveTo>
                  <a:pt x="55" y="35"/>
                </a:moveTo>
                <a:cubicBezTo>
                  <a:pt x="55" y="41"/>
                  <a:pt x="55" y="41"/>
                  <a:pt x="55" y="41"/>
                </a:cubicBezTo>
                <a:cubicBezTo>
                  <a:pt x="55" y="46"/>
                  <a:pt x="42" y="50"/>
                  <a:pt x="27" y="50"/>
                </a:cubicBezTo>
                <a:cubicBezTo>
                  <a:pt x="12" y="50"/>
                  <a:pt x="0" y="46"/>
                  <a:pt x="0" y="41"/>
                </a:cubicBezTo>
                <a:cubicBezTo>
                  <a:pt x="0" y="35"/>
                  <a:pt x="0" y="35"/>
                  <a:pt x="0" y="35"/>
                </a:cubicBezTo>
                <a:cubicBezTo>
                  <a:pt x="6" y="39"/>
                  <a:pt x="16" y="41"/>
                  <a:pt x="27" y="41"/>
                </a:cubicBezTo>
                <a:cubicBezTo>
                  <a:pt x="38" y="41"/>
                  <a:pt x="49" y="39"/>
                  <a:pt x="55" y="35"/>
                </a:cubicBezTo>
                <a:close/>
                <a:moveTo>
                  <a:pt x="55" y="49"/>
                </a:moveTo>
                <a:cubicBezTo>
                  <a:pt x="55" y="55"/>
                  <a:pt x="55" y="55"/>
                  <a:pt x="55" y="55"/>
                </a:cubicBezTo>
                <a:cubicBezTo>
                  <a:pt x="55" y="60"/>
                  <a:pt x="42" y="64"/>
                  <a:pt x="27" y="64"/>
                </a:cubicBezTo>
                <a:cubicBezTo>
                  <a:pt x="12" y="64"/>
                  <a:pt x="0" y="60"/>
                  <a:pt x="0" y="55"/>
                </a:cubicBezTo>
                <a:cubicBezTo>
                  <a:pt x="0" y="49"/>
                  <a:pt x="0" y="49"/>
                  <a:pt x="0" y="49"/>
                </a:cubicBezTo>
                <a:cubicBezTo>
                  <a:pt x="6" y="53"/>
                  <a:pt x="16" y="55"/>
                  <a:pt x="27" y="55"/>
                </a:cubicBezTo>
                <a:cubicBezTo>
                  <a:pt x="38" y="55"/>
                  <a:pt x="49" y="53"/>
                  <a:pt x="55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Rectangle 34"/>
          <p:cNvSpPr/>
          <p:nvPr/>
        </p:nvSpPr>
        <p:spPr>
          <a:xfrm>
            <a:off x="4600440" y="1413000"/>
            <a:ext cx="200160" cy="5634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35"/>
          <p:cNvSpPr/>
          <p:nvPr/>
        </p:nvSpPr>
        <p:spPr>
          <a:xfrm>
            <a:off x="4600440" y="1976400"/>
            <a:ext cx="200160" cy="5652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Rectangle 36"/>
          <p:cNvSpPr/>
          <p:nvPr/>
        </p:nvSpPr>
        <p:spPr>
          <a:xfrm>
            <a:off x="4600440" y="2541600"/>
            <a:ext cx="200160" cy="5619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Rectangle 37"/>
          <p:cNvSpPr/>
          <p:nvPr/>
        </p:nvSpPr>
        <p:spPr>
          <a:xfrm>
            <a:off x="4600440" y="3103560"/>
            <a:ext cx="200160" cy="5652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Rectangle 30"/>
          <p:cNvSpPr/>
          <p:nvPr/>
        </p:nvSpPr>
        <p:spPr>
          <a:xfrm>
            <a:off x="4600440" y="3660840"/>
            <a:ext cx="200160" cy="5652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entagon 31"/>
          <p:cNvSpPr/>
          <p:nvPr/>
        </p:nvSpPr>
        <p:spPr>
          <a:xfrm>
            <a:off x="2824200" y="3605040"/>
            <a:ext cx="1749240" cy="62712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reeform 152"/>
          <p:cNvSpPr/>
          <p:nvPr/>
        </p:nvSpPr>
        <p:spPr>
          <a:xfrm>
            <a:off x="3349800" y="3786120"/>
            <a:ext cx="385560" cy="266760"/>
          </a:xfrm>
          <a:custGeom>
            <a:avLst/>
            <a:gdLst/>
            <a:ahLst/>
            <a:rect l="l" t="t" r="r" b="b"/>
            <a:pathLst>
              <a:path w="67" h="62">
                <a:moveTo>
                  <a:pt x="67" y="20"/>
                </a:moveTo>
                <a:cubicBezTo>
                  <a:pt x="67" y="27"/>
                  <a:pt x="58" y="36"/>
                  <a:pt x="46" y="36"/>
                </a:cubicBezTo>
                <a:cubicBezTo>
                  <a:pt x="44" y="38"/>
                  <a:pt x="42" y="40"/>
                  <a:pt x="42" y="40"/>
                </a:cubicBezTo>
                <a:cubicBezTo>
                  <a:pt x="40" y="42"/>
                  <a:pt x="39" y="44"/>
                  <a:pt x="39" y="47"/>
                </a:cubicBezTo>
                <a:cubicBezTo>
                  <a:pt x="39" y="49"/>
                  <a:pt x="40" y="52"/>
                  <a:pt x="44" y="52"/>
                </a:cubicBezTo>
                <a:cubicBezTo>
                  <a:pt x="48" y="52"/>
                  <a:pt x="52" y="54"/>
                  <a:pt x="52" y="58"/>
                </a:cubicBezTo>
                <a:cubicBezTo>
                  <a:pt x="52" y="61"/>
                  <a:pt x="52" y="61"/>
                  <a:pt x="52" y="61"/>
                </a:cubicBezTo>
                <a:cubicBezTo>
                  <a:pt x="52" y="62"/>
                  <a:pt x="51" y="62"/>
                  <a:pt x="51" y="62"/>
                </a:cubicBezTo>
                <a:cubicBezTo>
                  <a:pt x="17" y="62"/>
                  <a:pt x="17" y="62"/>
                  <a:pt x="17" y="62"/>
                </a:cubicBezTo>
                <a:cubicBezTo>
                  <a:pt x="16" y="62"/>
                  <a:pt x="16" y="62"/>
                  <a:pt x="16" y="61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4"/>
                  <a:pt x="20" y="52"/>
                  <a:pt x="24" y="52"/>
                </a:cubicBezTo>
                <a:cubicBezTo>
                  <a:pt x="27" y="52"/>
                  <a:pt x="29" y="49"/>
                  <a:pt x="29" y="47"/>
                </a:cubicBezTo>
                <a:cubicBezTo>
                  <a:pt x="29" y="44"/>
                  <a:pt x="28" y="42"/>
                  <a:pt x="26" y="40"/>
                </a:cubicBezTo>
                <a:cubicBezTo>
                  <a:pt x="25" y="40"/>
                  <a:pt x="24" y="38"/>
                  <a:pt x="22" y="36"/>
                </a:cubicBezTo>
                <a:cubicBezTo>
                  <a:pt x="10" y="36"/>
                  <a:pt x="0" y="27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3"/>
                  <a:pt x="19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9" y="0"/>
                  <a:pt x="52" y="3"/>
                  <a:pt x="52" y="7"/>
                </a:cubicBezTo>
                <a:cubicBezTo>
                  <a:pt x="52" y="11"/>
                  <a:pt x="52" y="11"/>
                  <a:pt x="52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11"/>
                  <a:pt x="67" y="12"/>
                  <a:pt x="67" y="15"/>
                </a:cubicBezTo>
                <a:lnTo>
                  <a:pt x="67" y="20"/>
                </a:lnTo>
                <a:close/>
                <a:moveTo>
                  <a:pt x="16" y="16"/>
                </a:moveTo>
                <a:cubicBezTo>
                  <a:pt x="6" y="16"/>
                  <a:pt x="6" y="16"/>
                  <a:pt x="6" y="16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4"/>
                  <a:pt x="11" y="29"/>
                  <a:pt x="19" y="31"/>
                </a:cubicBezTo>
                <a:cubicBezTo>
                  <a:pt x="17" y="27"/>
                  <a:pt x="16" y="22"/>
                  <a:pt x="16" y="16"/>
                </a:cubicBezTo>
                <a:close/>
                <a:moveTo>
                  <a:pt x="62" y="16"/>
                </a:moveTo>
                <a:cubicBezTo>
                  <a:pt x="52" y="16"/>
                  <a:pt x="52" y="16"/>
                  <a:pt x="52" y="16"/>
                </a:cubicBezTo>
                <a:cubicBezTo>
                  <a:pt x="52" y="22"/>
                  <a:pt x="51" y="27"/>
                  <a:pt x="49" y="31"/>
                </a:cubicBezTo>
                <a:cubicBezTo>
                  <a:pt x="57" y="29"/>
                  <a:pt x="62" y="24"/>
                  <a:pt x="62" y="20"/>
                </a:cubicBezTo>
                <a:lnTo>
                  <a:pt x="62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Box 13"/>
          <p:cNvSpPr/>
          <p:nvPr/>
        </p:nvSpPr>
        <p:spPr>
          <a:xfrm>
            <a:off x="898560" y="14796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Box 13"/>
          <p:cNvSpPr/>
          <p:nvPr/>
        </p:nvSpPr>
        <p:spPr>
          <a:xfrm>
            <a:off x="901800" y="16398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13"/>
          <p:cNvSpPr/>
          <p:nvPr/>
        </p:nvSpPr>
        <p:spPr>
          <a:xfrm>
            <a:off x="841320" y="26370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13"/>
          <p:cNvSpPr/>
          <p:nvPr/>
        </p:nvSpPr>
        <p:spPr>
          <a:xfrm>
            <a:off x="844560" y="27972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Box 13"/>
          <p:cNvSpPr/>
          <p:nvPr/>
        </p:nvSpPr>
        <p:spPr>
          <a:xfrm>
            <a:off x="901800" y="3735360"/>
            <a:ext cx="175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Box 13"/>
          <p:cNvSpPr/>
          <p:nvPr/>
        </p:nvSpPr>
        <p:spPr>
          <a:xfrm>
            <a:off x="905040" y="3895560"/>
            <a:ext cx="175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TextBox 13"/>
          <p:cNvSpPr/>
          <p:nvPr/>
        </p:nvSpPr>
        <p:spPr>
          <a:xfrm>
            <a:off x="6750000" y="20588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Box 13"/>
          <p:cNvSpPr/>
          <p:nvPr/>
        </p:nvSpPr>
        <p:spPr>
          <a:xfrm>
            <a:off x="6753240" y="22208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13"/>
          <p:cNvSpPr/>
          <p:nvPr/>
        </p:nvSpPr>
        <p:spPr>
          <a:xfrm>
            <a:off x="6692760" y="321624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6696000" y="337824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15" name="六边形 8"/>
          <p:cNvSpPr/>
          <p:nvPr/>
        </p:nvSpPr>
        <p:spPr>
          <a:xfrm>
            <a:off x="3181320" y="1116000"/>
            <a:ext cx="2779920" cy="17971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6" name="图片 10" descr=""/>
          <p:cNvPicPr/>
          <p:nvPr/>
        </p:nvPicPr>
        <p:blipFill>
          <a:blip r:embed="rId2"/>
          <a:stretch/>
        </p:blipFill>
        <p:spPr>
          <a:xfrm>
            <a:off x="3705120" y="1731960"/>
            <a:ext cx="1731960" cy="566640"/>
          </a:xfrm>
          <a:prstGeom prst="rect">
            <a:avLst/>
          </a:prstGeom>
          <a:ln w="0">
            <a:noFill/>
          </a:ln>
        </p:spPr>
      </p:pic>
      <p:sp>
        <p:nvSpPr>
          <p:cNvPr id="917" name="六边形 11"/>
          <p:cNvSpPr/>
          <p:nvPr/>
        </p:nvSpPr>
        <p:spPr>
          <a:xfrm>
            <a:off x="3300480" y="1192320"/>
            <a:ext cx="2543040" cy="1644480"/>
          </a:xfrm>
          <a:prstGeom prst="hexagon">
            <a:avLst>
              <a:gd name="adj" fmla="val 24993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直接连接符 13"/>
          <p:cNvSpPr/>
          <p:nvPr/>
        </p:nvSpPr>
        <p:spPr>
          <a:xfrm>
            <a:off x="1189080" y="321480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文本框 14"/>
          <p:cNvSpPr/>
          <p:nvPr/>
        </p:nvSpPr>
        <p:spPr>
          <a:xfrm>
            <a:off x="1311120" y="3308400"/>
            <a:ext cx="652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  <a:ea typeface="方正正中黑简体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11" name="圆角矩形 6"/>
          <p:cNvSpPr/>
          <p:nvPr/>
        </p:nvSpPr>
        <p:spPr>
          <a:xfrm>
            <a:off x="2882880" y="1932120"/>
            <a:ext cx="3376800" cy="12808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直接连接符 8"/>
          <p:cNvSpPr/>
          <p:nvPr/>
        </p:nvSpPr>
        <p:spPr>
          <a:xfrm>
            <a:off x="36360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直接连接符 12"/>
          <p:cNvSpPr/>
          <p:nvPr/>
        </p:nvSpPr>
        <p:spPr>
          <a:xfrm>
            <a:off x="625968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图片 14" descr=""/>
          <p:cNvPicPr/>
          <p:nvPr/>
        </p:nvPicPr>
        <p:blipFill>
          <a:blip r:embed="rId2"/>
          <a:stretch/>
        </p:blipFill>
        <p:spPr>
          <a:xfrm>
            <a:off x="3444840" y="2298600"/>
            <a:ext cx="2254320" cy="544680"/>
          </a:xfrm>
          <a:prstGeom prst="rect">
            <a:avLst/>
          </a:prstGeom>
          <a:ln w="0">
            <a:noFill/>
          </a:ln>
        </p:spPr>
      </p:pic>
      <p:sp>
        <p:nvSpPr>
          <p:cNvPr id="515" name="文本框 15"/>
          <p:cNvSpPr/>
          <p:nvPr/>
        </p:nvSpPr>
        <p:spPr>
          <a:xfrm>
            <a:off x="3444840" y="333360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13"/>
          <p:cNvSpPr/>
          <p:nvPr/>
        </p:nvSpPr>
        <p:spPr>
          <a:xfrm>
            <a:off x="2657520" y="3670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518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空心弧 3"/>
          <p:cNvSpPr/>
          <p:nvPr/>
        </p:nvSpPr>
        <p:spPr>
          <a:xfrm rot="16921200">
            <a:off x="3545280" y="1323360"/>
            <a:ext cx="2090880" cy="2752560"/>
          </a:xfrm>
          <a:custGeom>
            <a:avLst/>
            <a:gdLst/>
            <a:ahLst/>
            <a:rect l="l" t="t" r="r" b="b"/>
            <a:pathLst>
              <a:path w="2788528" h="2753783">
                <a:moveTo>
                  <a:pt x="1102337" y="30519"/>
                </a:moveTo>
                <a:cubicBezTo>
                  <a:pt x="1851532" y="-127902"/>
                  <a:pt x="2589801" y="340355"/>
                  <a:pt x="2755523" y="1079075"/>
                </a:cubicBezTo>
                <a:lnTo>
                  <a:pt x="2083454" y="1226110"/>
                </a:lnTo>
                <a:cubicBezTo>
                  <a:pt x="1998817" y="858048"/>
                  <a:pt x="1626466" y="624810"/>
                  <a:pt x="1248117" y="702860"/>
                </a:cubicBezTo>
                <a:lnTo>
                  <a:pt x="1102337" y="30519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空心弧 4"/>
          <p:cNvSpPr/>
          <p:nvPr/>
        </p:nvSpPr>
        <p:spPr>
          <a:xfrm rot="10221000">
            <a:off x="3214440" y="1674720"/>
            <a:ext cx="2789280" cy="2067120"/>
          </a:xfrm>
          <a:custGeom>
            <a:avLst/>
            <a:gdLst/>
            <a:ahLst/>
            <a:rect l="l" t="t" r="r" b="b"/>
            <a:pathLst>
              <a:path w="2789647" h="2754576">
                <a:moveTo>
                  <a:pt x="1634554" y="20495"/>
                </a:moveTo>
                <a:cubicBezTo>
                  <a:pt x="2388389" y="150361"/>
                  <a:pt x="2895510" y="855687"/>
                  <a:pt x="2771086" y="1601233"/>
                </a:cubicBezTo>
                <a:lnTo>
                  <a:pt x="2097653" y="1491652"/>
                </a:lnTo>
                <a:cubicBezTo>
                  <a:pt x="2162163" y="1114477"/>
                  <a:pt x="1902179" y="757321"/>
                  <a:pt x="1515839" y="692378"/>
                </a:cubicBezTo>
                <a:lnTo>
                  <a:pt x="1634554" y="20495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空心弧 5"/>
          <p:cNvSpPr/>
          <p:nvPr/>
        </p:nvSpPr>
        <p:spPr>
          <a:xfrm rot="850800">
            <a:off x="3185640" y="1655640"/>
            <a:ext cx="2787840" cy="2067120"/>
          </a:xfrm>
          <a:custGeom>
            <a:avLst/>
            <a:gdLst/>
            <a:ahLst/>
            <a:rect l="l" t="t" r="r" b="b"/>
            <a:pathLst>
              <a:path w="2788529" h="2753782">
                <a:moveTo>
                  <a:pt x="1062871" y="39458"/>
                </a:moveTo>
                <a:cubicBezTo>
                  <a:pt x="1422483" y="-47441"/>
                  <a:pt x="1802327" y="10470"/>
                  <a:pt x="2118658" y="200422"/>
                </a:cubicBezTo>
                <a:cubicBezTo>
                  <a:pt x="2439675" y="393188"/>
                  <a:pt x="2668330" y="705737"/>
                  <a:pt x="2752818" y="1067257"/>
                </a:cubicBezTo>
                <a:lnTo>
                  <a:pt x="2084523" y="1219571"/>
                </a:lnTo>
                <a:cubicBezTo>
                  <a:pt x="2040913" y="1037492"/>
                  <a:pt x="1923570" y="880402"/>
                  <a:pt x="1759252" y="784124"/>
                </a:cubicBezTo>
                <a:cubicBezTo>
                  <a:pt x="1599636" y="690602"/>
                  <a:pt x="1408708" y="662097"/>
                  <a:pt x="1227725" y="704771"/>
                </a:cubicBezTo>
                <a:lnTo>
                  <a:pt x="1062871" y="39458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空心弧 6"/>
          <p:cNvSpPr/>
          <p:nvPr/>
        </p:nvSpPr>
        <p:spPr>
          <a:xfrm rot="4608000">
            <a:off x="3545280" y="1323000"/>
            <a:ext cx="2090880" cy="2752560"/>
          </a:xfrm>
          <a:custGeom>
            <a:avLst/>
            <a:gdLst/>
            <a:ahLst/>
            <a:rect l="l" t="t" r="r" b="b"/>
            <a:pathLst>
              <a:path w="2788528" h="2753783">
                <a:moveTo>
                  <a:pt x="1717484" y="37509"/>
                </a:moveTo>
                <a:cubicBezTo>
                  <a:pt x="2463405" y="213057"/>
                  <a:pt x="2925780" y="950499"/>
                  <a:pt x="2752436" y="1688152"/>
                </a:cubicBezTo>
                <a:lnTo>
                  <a:pt x="2078794" y="1533769"/>
                </a:lnTo>
                <a:cubicBezTo>
                  <a:pt x="2167607" y="1165147"/>
                  <a:pt x="1933288" y="796080"/>
                  <a:pt x="1555360" y="709330"/>
                </a:cubicBezTo>
                <a:lnTo>
                  <a:pt x="1717484" y="37509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34"/>
          <p:cNvSpPr/>
          <p:nvPr/>
        </p:nvSpPr>
        <p:spPr>
          <a:xfrm>
            <a:off x="3656160" y="2108160"/>
            <a:ext cx="363240" cy="23976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64"/>
          <p:cNvSpPr/>
          <p:nvPr/>
        </p:nvSpPr>
        <p:spPr>
          <a:xfrm>
            <a:off x="3701880" y="3171960"/>
            <a:ext cx="327240" cy="234720"/>
          </a:xfrm>
          <a:custGeom>
            <a:avLst/>
            <a:gdLst/>
            <a:ahLst/>
            <a:rect l="l" t="t" r="r" b="b"/>
            <a:pathLst>
              <a:path w="133" h="127">
                <a:moveTo>
                  <a:pt x="125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9"/>
                </a:cubicBezTo>
                <a:cubicBezTo>
                  <a:pt x="0" y="91"/>
                  <a:pt x="0" y="91"/>
                  <a:pt x="0" y="91"/>
                </a:cubicBezTo>
                <a:cubicBezTo>
                  <a:pt x="0" y="96"/>
                  <a:pt x="4" y="100"/>
                  <a:pt x="9" y="100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53" y="100"/>
                  <a:pt x="55" y="118"/>
                  <a:pt x="40" y="118"/>
                </a:cubicBezTo>
                <a:cubicBezTo>
                  <a:pt x="40" y="127"/>
                  <a:pt x="40" y="127"/>
                  <a:pt x="40" y="127"/>
                </a:cubicBezTo>
                <a:cubicBezTo>
                  <a:pt x="53" y="127"/>
                  <a:pt x="53" y="127"/>
                  <a:pt x="53" y="127"/>
                </a:cubicBezTo>
                <a:cubicBezTo>
                  <a:pt x="80" y="127"/>
                  <a:pt x="80" y="127"/>
                  <a:pt x="80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18"/>
                  <a:pt x="94" y="118"/>
                  <a:pt x="94" y="118"/>
                </a:cubicBezTo>
                <a:cubicBezTo>
                  <a:pt x="78" y="118"/>
                  <a:pt x="80" y="100"/>
                  <a:pt x="80" y="100"/>
                </a:cubicBezTo>
                <a:cubicBezTo>
                  <a:pt x="125" y="100"/>
                  <a:pt x="125" y="100"/>
                  <a:pt x="125" y="100"/>
                </a:cubicBezTo>
                <a:cubicBezTo>
                  <a:pt x="129" y="100"/>
                  <a:pt x="133" y="96"/>
                  <a:pt x="133" y="91"/>
                </a:cubicBezTo>
                <a:cubicBezTo>
                  <a:pt x="133" y="9"/>
                  <a:pt x="133" y="9"/>
                  <a:pt x="133" y="9"/>
                </a:cubicBezTo>
                <a:cubicBezTo>
                  <a:pt x="133" y="4"/>
                  <a:pt x="129" y="0"/>
                  <a:pt x="125" y="0"/>
                </a:cubicBezTo>
                <a:close/>
                <a:moveTo>
                  <a:pt x="60" y="89"/>
                </a:moveTo>
                <a:cubicBezTo>
                  <a:pt x="60" y="85"/>
                  <a:pt x="63" y="82"/>
                  <a:pt x="67" y="82"/>
                </a:cubicBezTo>
                <a:cubicBezTo>
                  <a:pt x="72" y="82"/>
                  <a:pt x="75" y="85"/>
                  <a:pt x="75" y="89"/>
                </a:cubicBezTo>
                <a:cubicBezTo>
                  <a:pt x="75" y="94"/>
                  <a:pt x="72" y="97"/>
                  <a:pt x="67" y="97"/>
                </a:cubicBezTo>
                <a:cubicBezTo>
                  <a:pt x="63" y="97"/>
                  <a:pt x="60" y="94"/>
                  <a:pt x="60" y="89"/>
                </a:cubicBezTo>
                <a:close/>
                <a:moveTo>
                  <a:pt x="124" y="79"/>
                </a:moveTo>
                <a:cubicBezTo>
                  <a:pt x="10" y="79"/>
                  <a:pt x="10" y="79"/>
                  <a:pt x="10" y="79"/>
                </a:cubicBezTo>
                <a:cubicBezTo>
                  <a:pt x="10" y="10"/>
                  <a:pt x="10" y="10"/>
                  <a:pt x="10" y="10"/>
                </a:cubicBezTo>
                <a:cubicBezTo>
                  <a:pt x="124" y="10"/>
                  <a:pt x="124" y="10"/>
                  <a:pt x="124" y="10"/>
                </a:cubicBezTo>
                <a:lnTo>
                  <a:pt x="124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110"/>
          <p:cNvSpPr/>
          <p:nvPr/>
        </p:nvSpPr>
        <p:spPr>
          <a:xfrm>
            <a:off x="5354640" y="3233880"/>
            <a:ext cx="81000" cy="60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0" y="39"/>
                </a:moveTo>
                <a:lnTo>
                  <a:pt x="3" y="41"/>
                </a:lnTo>
                <a:lnTo>
                  <a:pt x="41" y="3"/>
                </a:lnTo>
                <a:lnTo>
                  <a:pt x="39" y="0"/>
                </a:ln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reeform 111"/>
          <p:cNvSpPr/>
          <p:nvPr/>
        </p:nvSpPr>
        <p:spPr>
          <a:xfrm>
            <a:off x="5335560" y="3218040"/>
            <a:ext cx="88920" cy="68040"/>
          </a:xfrm>
          <a:custGeom>
            <a:avLst/>
            <a:gdLst/>
            <a:ahLst/>
            <a:rect l="l" t="t" r="r" b="b"/>
            <a:pathLst>
              <a:path w="44" h="46">
                <a:moveTo>
                  <a:pt x="37" y="0"/>
                </a:moveTo>
                <a:lnTo>
                  <a:pt x="0" y="39"/>
                </a:lnTo>
                <a:lnTo>
                  <a:pt x="6" y="46"/>
                </a:lnTo>
                <a:lnTo>
                  <a:pt x="44" y="8"/>
                </a:ln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reeform 112"/>
          <p:cNvSpPr/>
          <p:nvPr/>
        </p:nvSpPr>
        <p:spPr>
          <a:xfrm>
            <a:off x="5319720" y="3208320"/>
            <a:ext cx="84240" cy="61920"/>
          </a:xfrm>
          <a:custGeom>
            <a:avLst/>
            <a:gdLst/>
            <a:ahLst/>
            <a:rect l="l" t="t" r="r" b="b"/>
            <a:pathLst>
              <a:path w="42" h="42">
                <a:moveTo>
                  <a:pt x="0" y="38"/>
                </a:moveTo>
                <a:lnTo>
                  <a:pt x="4" y="42"/>
                </a:lnTo>
                <a:lnTo>
                  <a:pt x="42" y="4"/>
                </a:lnTo>
                <a:lnTo>
                  <a:pt x="38" y="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113"/>
          <p:cNvSpPr/>
          <p:nvPr/>
        </p:nvSpPr>
        <p:spPr>
          <a:xfrm>
            <a:off x="5297400" y="3270240"/>
            <a:ext cx="57240" cy="4140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0"/>
                </a:moveTo>
                <a:lnTo>
                  <a:pt x="8" y="0"/>
                </a:lnTo>
                <a:lnTo>
                  <a:pt x="0" y="20"/>
                </a:lnTo>
                <a:lnTo>
                  <a:pt x="9" y="28"/>
                </a:ln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Freeform 114"/>
          <p:cNvSpPr/>
          <p:nvPr/>
        </p:nvSpPr>
        <p:spPr>
          <a:xfrm>
            <a:off x="5283360" y="3303720"/>
            <a:ext cx="28440" cy="1908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3"/>
                </a:moveTo>
                <a:lnTo>
                  <a:pt x="14" y="6"/>
                </a:lnTo>
                <a:lnTo>
                  <a:pt x="6" y="0"/>
                </a:lnTo>
                <a:lnTo>
                  <a:pt x="0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reeform 115"/>
          <p:cNvSpPr/>
          <p:nvPr/>
        </p:nvSpPr>
        <p:spPr>
          <a:xfrm>
            <a:off x="5402160" y="3192480"/>
            <a:ext cx="55800" cy="42840"/>
          </a:xfrm>
          <a:custGeom>
            <a:avLst/>
            <a:gdLst/>
            <a:ahLst/>
            <a:rect l="l" t="t" r="r" b="b"/>
            <a:pathLst>
              <a:path w="28" h="28">
                <a:moveTo>
                  <a:pt x="7" y="0"/>
                </a:moveTo>
                <a:lnTo>
                  <a:pt x="0" y="8"/>
                </a:lnTo>
                <a:lnTo>
                  <a:pt x="20" y="28"/>
                </a:lnTo>
                <a:lnTo>
                  <a:pt x="28" y="20"/>
                </a:lnTo>
                <a:lnTo>
                  <a:pt x="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Freeform 116"/>
          <p:cNvSpPr/>
          <p:nvPr/>
        </p:nvSpPr>
        <p:spPr>
          <a:xfrm>
            <a:off x="5145120" y="3171960"/>
            <a:ext cx="225360" cy="204480"/>
          </a:xfrm>
          <a:custGeom>
            <a:avLst/>
            <a:gdLst/>
            <a:ahLst/>
            <a:rect l="l" t="t" r="r" b="b"/>
            <a:pathLst>
              <a:path w="112" h="136">
                <a:moveTo>
                  <a:pt x="104" y="101"/>
                </a:moveTo>
                <a:lnTo>
                  <a:pt x="83" y="101"/>
                </a:lnTo>
                <a:lnTo>
                  <a:pt x="83" y="129"/>
                </a:lnTo>
                <a:lnTo>
                  <a:pt x="7" y="129"/>
                </a:lnTo>
                <a:lnTo>
                  <a:pt x="7" y="32"/>
                </a:lnTo>
                <a:lnTo>
                  <a:pt x="104" y="32"/>
                </a:lnTo>
                <a:lnTo>
                  <a:pt x="104" y="40"/>
                </a:lnTo>
                <a:lnTo>
                  <a:pt x="112" y="32"/>
                </a:lnTo>
                <a:lnTo>
                  <a:pt x="112" y="6"/>
                </a:lnTo>
                <a:lnTo>
                  <a:pt x="97" y="6"/>
                </a:lnTo>
                <a:lnTo>
                  <a:pt x="97" y="20"/>
                </a:lnTo>
                <a:lnTo>
                  <a:pt x="95" y="20"/>
                </a:lnTo>
                <a:lnTo>
                  <a:pt x="95" y="0"/>
                </a:lnTo>
                <a:lnTo>
                  <a:pt x="89" y="0"/>
                </a:lnTo>
                <a:lnTo>
                  <a:pt x="89" y="20"/>
                </a:lnTo>
                <a:lnTo>
                  <a:pt x="87" y="20"/>
                </a:lnTo>
                <a:lnTo>
                  <a:pt x="87" y="6"/>
                </a:lnTo>
                <a:lnTo>
                  <a:pt x="79" y="6"/>
                </a:lnTo>
                <a:lnTo>
                  <a:pt x="79" y="20"/>
                </a:lnTo>
                <a:lnTo>
                  <a:pt x="76" y="20"/>
                </a:lnTo>
                <a:lnTo>
                  <a:pt x="76" y="0"/>
                </a:lnTo>
                <a:lnTo>
                  <a:pt x="72" y="0"/>
                </a:lnTo>
                <a:lnTo>
                  <a:pt x="72" y="20"/>
                </a:lnTo>
                <a:lnTo>
                  <a:pt x="68" y="20"/>
                </a:lnTo>
                <a:lnTo>
                  <a:pt x="68" y="6"/>
                </a:lnTo>
                <a:lnTo>
                  <a:pt x="60" y="6"/>
                </a:lnTo>
                <a:lnTo>
                  <a:pt x="60" y="20"/>
                </a:lnTo>
                <a:lnTo>
                  <a:pt x="57" y="20"/>
                </a:lnTo>
                <a:lnTo>
                  <a:pt x="57" y="0"/>
                </a:lnTo>
                <a:lnTo>
                  <a:pt x="53" y="0"/>
                </a:lnTo>
                <a:lnTo>
                  <a:pt x="53" y="20"/>
                </a:lnTo>
                <a:lnTo>
                  <a:pt x="51" y="20"/>
                </a:lnTo>
                <a:lnTo>
                  <a:pt x="51" y="6"/>
                </a:lnTo>
                <a:lnTo>
                  <a:pt x="43" y="6"/>
                </a:lnTo>
                <a:lnTo>
                  <a:pt x="43" y="20"/>
                </a:lnTo>
                <a:lnTo>
                  <a:pt x="40" y="20"/>
                </a:lnTo>
                <a:lnTo>
                  <a:pt x="40" y="0"/>
                </a:lnTo>
                <a:lnTo>
                  <a:pt x="35" y="0"/>
                </a:lnTo>
                <a:lnTo>
                  <a:pt x="35" y="20"/>
                </a:lnTo>
                <a:lnTo>
                  <a:pt x="32" y="20"/>
                </a:lnTo>
                <a:lnTo>
                  <a:pt x="32" y="6"/>
                </a:lnTo>
                <a:lnTo>
                  <a:pt x="25" y="6"/>
                </a:lnTo>
                <a:lnTo>
                  <a:pt x="25" y="20"/>
                </a:lnTo>
                <a:lnTo>
                  <a:pt x="23" y="20"/>
                </a:lnTo>
                <a:lnTo>
                  <a:pt x="23" y="0"/>
                </a:lnTo>
                <a:lnTo>
                  <a:pt x="17" y="0"/>
                </a:lnTo>
                <a:lnTo>
                  <a:pt x="17" y="20"/>
                </a:lnTo>
                <a:lnTo>
                  <a:pt x="15" y="20"/>
                </a:lnTo>
                <a:lnTo>
                  <a:pt x="15" y="6"/>
                </a:lnTo>
                <a:lnTo>
                  <a:pt x="0" y="6"/>
                </a:lnTo>
                <a:lnTo>
                  <a:pt x="0" y="24"/>
                </a:lnTo>
                <a:lnTo>
                  <a:pt x="0" y="28"/>
                </a:lnTo>
                <a:lnTo>
                  <a:pt x="0" y="136"/>
                </a:lnTo>
                <a:lnTo>
                  <a:pt x="89" y="136"/>
                </a:lnTo>
                <a:lnTo>
                  <a:pt x="112" y="110"/>
                </a:lnTo>
                <a:lnTo>
                  <a:pt x="112" y="84"/>
                </a:lnTo>
                <a:lnTo>
                  <a:pt x="104" y="92"/>
                </a:lnTo>
                <a:lnTo>
                  <a:pt x="104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117"/>
          <p:cNvSpPr/>
          <p:nvPr/>
        </p:nvSpPr>
        <p:spPr>
          <a:xfrm>
            <a:off x="5184720" y="3240000"/>
            <a:ext cx="88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ectangle 118"/>
          <p:cNvSpPr/>
          <p:nvPr/>
        </p:nvSpPr>
        <p:spPr>
          <a:xfrm>
            <a:off x="5184720" y="3265560"/>
            <a:ext cx="8892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119"/>
          <p:cNvSpPr/>
          <p:nvPr/>
        </p:nvSpPr>
        <p:spPr>
          <a:xfrm>
            <a:off x="5184720" y="3292560"/>
            <a:ext cx="8892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120"/>
          <p:cNvSpPr/>
          <p:nvPr/>
        </p:nvSpPr>
        <p:spPr>
          <a:xfrm>
            <a:off x="5184720" y="3316320"/>
            <a:ext cx="88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126"/>
          <p:cNvSpPr/>
          <p:nvPr/>
        </p:nvSpPr>
        <p:spPr>
          <a:xfrm>
            <a:off x="5335560" y="2131920"/>
            <a:ext cx="163440" cy="198360"/>
          </a:xfrm>
          <a:custGeom>
            <a:avLst/>
            <a:gdLst/>
            <a:ahLst/>
            <a:rect l="l" t="t" r="r" b="b"/>
            <a:pathLst>
              <a:path w="82" h="132">
                <a:moveTo>
                  <a:pt x="0" y="34"/>
                </a:moveTo>
                <a:lnTo>
                  <a:pt x="0" y="132"/>
                </a:lnTo>
                <a:lnTo>
                  <a:pt x="82" y="99"/>
                </a:lnTo>
                <a:lnTo>
                  <a:pt x="82" y="0"/>
                </a:lnTo>
                <a:lnTo>
                  <a:pt x="0" y="34"/>
                </a:lnTo>
                <a:close/>
                <a:moveTo>
                  <a:pt x="76" y="10"/>
                </a:moveTo>
                <a:lnTo>
                  <a:pt x="76" y="94"/>
                </a:lnTo>
                <a:lnTo>
                  <a:pt x="5" y="66"/>
                </a:lnTo>
                <a:lnTo>
                  <a:pt x="5" y="38"/>
                </a:lnTo>
                <a:lnTo>
                  <a:pt x="76" y="10"/>
                </a:lnTo>
                <a:close/>
                <a:moveTo>
                  <a:pt x="5" y="70"/>
                </a:moveTo>
                <a:lnTo>
                  <a:pt x="73" y="96"/>
                </a:lnTo>
                <a:lnTo>
                  <a:pt x="5" y="124"/>
                </a:lnTo>
                <a:lnTo>
                  <a:pt x="5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127"/>
          <p:cNvSpPr/>
          <p:nvPr/>
        </p:nvSpPr>
        <p:spPr>
          <a:xfrm>
            <a:off x="5153040" y="2131920"/>
            <a:ext cx="162000" cy="198360"/>
          </a:xfrm>
          <a:custGeom>
            <a:avLst/>
            <a:gdLst/>
            <a:ahLst/>
            <a:rect l="l" t="t" r="r" b="b"/>
            <a:pathLst>
              <a:path w="81" h="132">
                <a:moveTo>
                  <a:pt x="0" y="99"/>
                </a:moveTo>
                <a:lnTo>
                  <a:pt x="81" y="132"/>
                </a:lnTo>
                <a:lnTo>
                  <a:pt x="81" y="34"/>
                </a:lnTo>
                <a:lnTo>
                  <a:pt x="0" y="0"/>
                </a:lnTo>
                <a:lnTo>
                  <a:pt x="0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reeform 128"/>
          <p:cNvSpPr/>
          <p:nvPr/>
        </p:nvSpPr>
        <p:spPr>
          <a:xfrm>
            <a:off x="5162400" y="2071800"/>
            <a:ext cx="333360" cy="98280"/>
          </a:xfrm>
          <a:custGeom>
            <a:avLst/>
            <a:gdLst/>
            <a:ahLst/>
            <a:rect l="l" t="t" r="r" b="b"/>
            <a:pathLst>
              <a:path w="166" h="66">
                <a:moveTo>
                  <a:pt x="82" y="0"/>
                </a:moveTo>
                <a:lnTo>
                  <a:pt x="0" y="32"/>
                </a:lnTo>
                <a:lnTo>
                  <a:pt x="80" y="66"/>
                </a:lnTo>
                <a:lnTo>
                  <a:pt x="166" y="32"/>
                </a:lnTo>
                <a:lnTo>
                  <a:pt x="82" y="0"/>
                </a:lnTo>
                <a:close/>
                <a:moveTo>
                  <a:pt x="82" y="6"/>
                </a:moveTo>
                <a:lnTo>
                  <a:pt x="151" y="32"/>
                </a:lnTo>
                <a:lnTo>
                  <a:pt x="82" y="59"/>
                </a:lnTo>
                <a:lnTo>
                  <a:pt x="82" y="6"/>
                </a:lnTo>
                <a:close/>
                <a:moveTo>
                  <a:pt x="78" y="7"/>
                </a:moveTo>
                <a:lnTo>
                  <a:pt x="78" y="59"/>
                </a:lnTo>
                <a:lnTo>
                  <a:pt x="15" y="32"/>
                </a:lnTo>
                <a:lnTo>
                  <a:pt x="7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13"/>
          <p:cNvSpPr/>
          <p:nvPr/>
        </p:nvSpPr>
        <p:spPr>
          <a:xfrm>
            <a:off x="2104920" y="1882800"/>
            <a:ext cx="1041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13"/>
          <p:cNvSpPr/>
          <p:nvPr/>
        </p:nvSpPr>
        <p:spPr>
          <a:xfrm>
            <a:off x="1270080" y="2076480"/>
            <a:ext cx="187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13"/>
          <p:cNvSpPr/>
          <p:nvPr/>
        </p:nvSpPr>
        <p:spPr>
          <a:xfrm>
            <a:off x="6035760" y="188280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13"/>
          <p:cNvSpPr/>
          <p:nvPr/>
        </p:nvSpPr>
        <p:spPr>
          <a:xfrm>
            <a:off x="6039000" y="207792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13"/>
          <p:cNvSpPr/>
          <p:nvPr/>
        </p:nvSpPr>
        <p:spPr>
          <a:xfrm>
            <a:off x="2104920" y="321624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3"/>
          <p:cNvSpPr/>
          <p:nvPr/>
        </p:nvSpPr>
        <p:spPr>
          <a:xfrm>
            <a:off x="1270080" y="3409920"/>
            <a:ext cx="18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13"/>
          <p:cNvSpPr/>
          <p:nvPr/>
        </p:nvSpPr>
        <p:spPr>
          <a:xfrm>
            <a:off x="6035760" y="321624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13"/>
          <p:cNvSpPr/>
          <p:nvPr/>
        </p:nvSpPr>
        <p:spPr>
          <a:xfrm>
            <a:off x="6039000" y="340992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1" descr=""/>
          <p:cNvPicPr/>
          <p:nvPr/>
        </p:nvPicPr>
        <p:blipFill>
          <a:blip r:embed="rId1"/>
          <a:stretch/>
        </p:blipFill>
        <p:spPr>
          <a:xfrm>
            <a:off x="0" y="1436760"/>
            <a:ext cx="9144000" cy="304956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549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矩形 4"/>
          <p:cNvSpPr/>
          <p:nvPr/>
        </p:nvSpPr>
        <p:spPr>
          <a:xfrm>
            <a:off x="2754360" y="1635120"/>
            <a:ext cx="36464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任意多边形 5"/>
          <p:cNvSpPr/>
          <p:nvPr/>
        </p:nvSpPr>
        <p:spPr>
          <a:xfrm>
            <a:off x="3867120" y="1755720"/>
            <a:ext cx="1420920" cy="866880"/>
          </a:xfrm>
          <a:custGeom>
            <a:avLst/>
            <a:gdLst/>
            <a:ahLst/>
            <a:rect l="l" t="t" r="r" b="b"/>
            <a:pathLst>
              <a:path w="1895434" h="1540529">
                <a:moveTo>
                  <a:pt x="0" y="1540529"/>
                </a:moveTo>
                <a:lnTo>
                  <a:pt x="947717" y="0"/>
                </a:lnTo>
                <a:lnTo>
                  <a:pt x="1895434" y="1540529"/>
                </a:lnTo>
                <a:lnTo>
                  <a:pt x="0" y="1540529"/>
                </a:lnTo>
                <a:close/>
              </a:path>
            </a:pathLst>
          </a:cu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任意多边形 6"/>
          <p:cNvSpPr/>
          <p:nvPr/>
        </p:nvSpPr>
        <p:spPr>
          <a:xfrm>
            <a:off x="3309840" y="2622600"/>
            <a:ext cx="2535480" cy="679320"/>
          </a:xfrm>
          <a:custGeom>
            <a:avLst/>
            <a:gdLst/>
            <a:ahLst/>
            <a:rect l="l" t="t" r="r" b="b"/>
            <a:pathLst>
              <a:path w="3379501" h="1206187">
                <a:moveTo>
                  <a:pt x="0" y="1206187"/>
                </a:moveTo>
                <a:lnTo>
                  <a:pt x="742034" y="0"/>
                </a:lnTo>
                <a:lnTo>
                  <a:pt x="2637467" y="0"/>
                </a:lnTo>
                <a:lnTo>
                  <a:pt x="3379501" y="1206187"/>
                </a:lnTo>
                <a:lnTo>
                  <a:pt x="0" y="1206187"/>
                </a:lnTo>
                <a:close/>
              </a:path>
            </a:pathLst>
          </a:custGeom>
          <a:solidFill>
            <a:srgbClr val="69c29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任意多边形 7"/>
          <p:cNvSpPr/>
          <p:nvPr/>
        </p:nvSpPr>
        <p:spPr>
          <a:xfrm>
            <a:off x="2754360" y="3301920"/>
            <a:ext cx="3646440" cy="677880"/>
          </a:xfrm>
          <a:custGeom>
            <a:avLst/>
            <a:gdLst/>
            <a:ahLst/>
            <a:rect l="l" t="t" r="r" b="b"/>
            <a:pathLst>
              <a:path w="4863567" h="1206187">
                <a:moveTo>
                  <a:pt x="0" y="1206187"/>
                </a:moveTo>
                <a:lnTo>
                  <a:pt x="742034" y="0"/>
                </a:lnTo>
                <a:lnTo>
                  <a:pt x="4121533" y="0"/>
                </a:lnTo>
                <a:lnTo>
                  <a:pt x="4863567" y="1206187"/>
                </a:lnTo>
                <a:lnTo>
                  <a:pt x="0" y="1206187"/>
                </a:lnTo>
                <a:close/>
              </a:path>
            </a:pathLst>
          </a:cu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8"/>
          <p:cNvSpPr/>
          <p:nvPr/>
        </p:nvSpPr>
        <p:spPr>
          <a:xfrm>
            <a:off x="4332960" y="233532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9"/>
          <p:cNvSpPr/>
          <p:nvPr/>
        </p:nvSpPr>
        <p:spPr>
          <a:xfrm>
            <a:off x="4338360" y="288288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矩形 10"/>
          <p:cNvSpPr/>
          <p:nvPr/>
        </p:nvSpPr>
        <p:spPr>
          <a:xfrm>
            <a:off x="4338360" y="355140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组合 11"/>
          <p:cNvGrpSpPr/>
          <p:nvPr/>
        </p:nvGrpSpPr>
        <p:grpSpPr>
          <a:xfrm>
            <a:off x="568440" y="2432160"/>
            <a:ext cx="2253960" cy="397440"/>
            <a:chOff x="568440" y="2432160"/>
            <a:chExt cx="2253960" cy="397440"/>
          </a:xfrm>
        </p:grpSpPr>
        <p:sp>
          <p:nvSpPr>
            <p:cNvPr id="558" name="矩形 12"/>
            <p:cNvSpPr/>
            <p:nvPr/>
          </p:nvSpPr>
          <p:spPr>
            <a:xfrm>
              <a:off x="568440" y="2646720"/>
              <a:ext cx="2253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TextBox 13"/>
            <p:cNvSpPr/>
            <p:nvPr/>
          </p:nvSpPr>
          <p:spPr>
            <a:xfrm>
              <a:off x="568440" y="243216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0" name="组合 14"/>
          <p:cNvGrpSpPr/>
          <p:nvPr/>
        </p:nvGrpSpPr>
        <p:grpSpPr>
          <a:xfrm>
            <a:off x="6502320" y="2432160"/>
            <a:ext cx="2254320" cy="397440"/>
            <a:chOff x="6502320" y="2432160"/>
            <a:chExt cx="2254320" cy="397440"/>
          </a:xfrm>
        </p:grpSpPr>
        <p:sp>
          <p:nvSpPr>
            <p:cNvPr id="561" name="矩形 15"/>
            <p:cNvSpPr/>
            <p:nvPr/>
          </p:nvSpPr>
          <p:spPr>
            <a:xfrm>
              <a:off x="6502320" y="2646720"/>
              <a:ext cx="225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TextBox 13"/>
            <p:cNvSpPr/>
            <p:nvPr/>
          </p:nvSpPr>
          <p:spPr>
            <a:xfrm>
              <a:off x="6502320" y="243216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564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1830240" y="1963800"/>
            <a:ext cx="1257480" cy="104760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6"/>
          <p:cNvSpPr/>
          <p:nvPr/>
        </p:nvSpPr>
        <p:spPr>
          <a:xfrm>
            <a:off x="2979720" y="1711440"/>
            <a:ext cx="1562040" cy="130176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6"/>
          <p:cNvSpPr/>
          <p:nvPr/>
        </p:nvSpPr>
        <p:spPr>
          <a:xfrm>
            <a:off x="4432320" y="1868400"/>
            <a:ext cx="1371600" cy="114300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traight Connector 11"/>
          <p:cNvSpPr/>
          <p:nvPr/>
        </p:nvSpPr>
        <p:spPr>
          <a:xfrm>
            <a:off x="1278000" y="3143160"/>
            <a:ext cx="640080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Oval 12"/>
          <p:cNvSpPr/>
          <p:nvPr/>
        </p:nvSpPr>
        <p:spPr>
          <a:xfrm>
            <a:off x="3716280" y="3106800"/>
            <a:ext cx="96840" cy="7308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Oval 14"/>
          <p:cNvSpPr/>
          <p:nvPr/>
        </p:nvSpPr>
        <p:spPr>
          <a:xfrm>
            <a:off x="2411280" y="3106800"/>
            <a:ext cx="96840" cy="7308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Oval 16"/>
          <p:cNvSpPr/>
          <p:nvPr/>
        </p:nvSpPr>
        <p:spPr>
          <a:xfrm>
            <a:off x="6362640" y="3106800"/>
            <a:ext cx="96840" cy="7308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6"/>
          <p:cNvSpPr/>
          <p:nvPr/>
        </p:nvSpPr>
        <p:spPr>
          <a:xfrm>
            <a:off x="5694480" y="1817640"/>
            <a:ext cx="1431720" cy="119556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Oval 19"/>
          <p:cNvSpPr/>
          <p:nvPr/>
        </p:nvSpPr>
        <p:spPr>
          <a:xfrm>
            <a:off x="5070600" y="3106800"/>
            <a:ext cx="95040" cy="7308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21"/>
          <p:cNvSpPr/>
          <p:nvPr/>
        </p:nvSpPr>
        <p:spPr>
          <a:xfrm>
            <a:off x="5915160" y="329724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22"/>
          <p:cNvSpPr/>
          <p:nvPr/>
        </p:nvSpPr>
        <p:spPr>
          <a:xfrm>
            <a:off x="4622760" y="329724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Box 23"/>
          <p:cNvSpPr/>
          <p:nvPr/>
        </p:nvSpPr>
        <p:spPr>
          <a:xfrm>
            <a:off x="3268800" y="329724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Box 24"/>
          <p:cNvSpPr/>
          <p:nvPr/>
        </p:nvSpPr>
        <p:spPr>
          <a:xfrm>
            <a:off x="1965240" y="329724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25"/>
          <p:cNvSpPr/>
          <p:nvPr/>
        </p:nvSpPr>
        <p:spPr>
          <a:xfrm>
            <a:off x="5915160" y="20955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6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Box 26"/>
          <p:cNvSpPr/>
          <p:nvPr/>
        </p:nvSpPr>
        <p:spPr>
          <a:xfrm>
            <a:off x="4622760" y="217476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27"/>
          <p:cNvSpPr/>
          <p:nvPr/>
        </p:nvSpPr>
        <p:spPr>
          <a:xfrm>
            <a:off x="3265560" y="20955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28"/>
          <p:cNvSpPr/>
          <p:nvPr/>
        </p:nvSpPr>
        <p:spPr>
          <a:xfrm>
            <a:off x="1963800" y="222264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583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reeform 17"/>
          <p:cNvSpPr/>
          <p:nvPr/>
        </p:nvSpPr>
        <p:spPr>
          <a:xfrm>
            <a:off x="4897440" y="2222640"/>
            <a:ext cx="1454040" cy="10731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17"/>
          <p:cNvSpPr/>
          <p:nvPr/>
        </p:nvSpPr>
        <p:spPr>
          <a:xfrm>
            <a:off x="4148280" y="2355840"/>
            <a:ext cx="1110960" cy="82080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18"/>
          <p:cNvSpPr/>
          <p:nvPr/>
        </p:nvSpPr>
        <p:spPr>
          <a:xfrm>
            <a:off x="3457440" y="2424240"/>
            <a:ext cx="973440" cy="7128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Freeform 19"/>
          <p:cNvSpPr/>
          <p:nvPr/>
        </p:nvSpPr>
        <p:spPr>
          <a:xfrm>
            <a:off x="2916360" y="2494080"/>
            <a:ext cx="771480" cy="58572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任意多边形 100"/>
          <p:cNvSpPr/>
          <p:nvPr/>
        </p:nvSpPr>
        <p:spPr>
          <a:xfrm>
            <a:off x="5899320" y="2448000"/>
            <a:ext cx="1911240" cy="16200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任意多边形 108"/>
          <p:cNvSpPr/>
          <p:nvPr/>
        </p:nvSpPr>
        <p:spPr>
          <a:xfrm flipH="1">
            <a:off x="1212840" y="2622600"/>
            <a:ext cx="1914480" cy="16020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任意多边形 112"/>
          <p:cNvSpPr/>
          <p:nvPr/>
        </p:nvSpPr>
        <p:spPr>
          <a:xfrm>
            <a:off x="4703760" y="2054160"/>
            <a:ext cx="504720" cy="56376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任意多边形 113"/>
          <p:cNvSpPr/>
          <p:nvPr/>
        </p:nvSpPr>
        <p:spPr>
          <a:xfrm flipH="1">
            <a:off x="3419640" y="2050920"/>
            <a:ext cx="504720" cy="56376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reeform 6"/>
          <p:cNvSpPr/>
          <p:nvPr/>
        </p:nvSpPr>
        <p:spPr>
          <a:xfrm>
            <a:off x="3249720" y="2709720"/>
            <a:ext cx="169920" cy="1368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reeform 26"/>
          <p:cNvSpPr/>
          <p:nvPr/>
        </p:nvSpPr>
        <p:spPr>
          <a:xfrm>
            <a:off x="5645160" y="2711520"/>
            <a:ext cx="182520" cy="1411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Freeform 442"/>
          <p:cNvSpPr/>
          <p:nvPr/>
        </p:nvSpPr>
        <p:spPr>
          <a:xfrm>
            <a:off x="3886200" y="2720880"/>
            <a:ext cx="193680" cy="12564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443"/>
          <p:cNvSpPr/>
          <p:nvPr/>
        </p:nvSpPr>
        <p:spPr>
          <a:xfrm>
            <a:off x="3941640" y="2741760"/>
            <a:ext cx="507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600" bIns="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Rectangle 444"/>
          <p:cNvSpPr/>
          <p:nvPr/>
        </p:nvSpPr>
        <p:spPr>
          <a:xfrm>
            <a:off x="4008600" y="2746440"/>
            <a:ext cx="4284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8080" bIns="-28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Rectangle 445"/>
          <p:cNvSpPr/>
          <p:nvPr/>
        </p:nvSpPr>
        <p:spPr>
          <a:xfrm>
            <a:off x="4008600" y="2765520"/>
            <a:ext cx="4284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8080" bIns="-28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446"/>
          <p:cNvSpPr/>
          <p:nvPr/>
        </p:nvSpPr>
        <p:spPr>
          <a:xfrm>
            <a:off x="3941640" y="2792520"/>
            <a:ext cx="10980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8080" bIns="-28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Rectangle 447"/>
          <p:cNvSpPr/>
          <p:nvPr/>
        </p:nvSpPr>
        <p:spPr>
          <a:xfrm>
            <a:off x="3941640" y="2813040"/>
            <a:ext cx="10980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7720" bIns="-27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Oval 56"/>
          <p:cNvSpPr/>
          <p:nvPr/>
        </p:nvSpPr>
        <p:spPr>
          <a:xfrm>
            <a:off x="4703760" y="2698920"/>
            <a:ext cx="227160" cy="16956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120" rIns="60120" tIns="30240" bIns="302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Freeform 57"/>
          <p:cNvSpPr/>
          <p:nvPr/>
        </p:nvSpPr>
        <p:spPr>
          <a:xfrm>
            <a:off x="4738680" y="2720880"/>
            <a:ext cx="117360" cy="7956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reeform 58"/>
          <p:cNvSpPr/>
          <p:nvPr/>
        </p:nvSpPr>
        <p:spPr>
          <a:xfrm>
            <a:off x="4800600" y="2782800"/>
            <a:ext cx="90360" cy="7776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reeform 59"/>
          <p:cNvSpPr/>
          <p:nvPr/>
        </p:nvSpPr>
        <p:spPr>
          <a:xfrm>
            <a:off x="4848120" y="2703600"/>
            <a:ext cx="77760" cy="10800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Box 13"/>
          <p:cNvSpPr/>
          <p:nvPr/>
        </p:nvSpPr>
        <p:spPr>
          <a:xfrm>
            <a:off x="2814480" y="167148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Box 13"/>
          <p:cNvSpPr/>
          <p:nvPr/>
        </p:nvSpPr>
        <p:spPr>
          <a:xfrm>
            <a:off x="2817720" y="183204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13"/>
          <p:cNvSpPr/>
          <p:nvPr/>
        </p:nvSpPr>
        <p:spPr>
          <a:xfrm>
            <a:off x="4794120" y="1671480"/>
            <a:ext cx="110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Box 13"/>
          <p:cNvSpPr/>
          <p:nvPr/>
        </p:nvSpPr>
        <p:spPr>
          <a:xfrm>
            <a:off x="4797360" y="183204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Box 13"/>
          <p:cNvSpPr/>
          <p:nvPr/>
        </p:nvSpPr>
        <p:spPr>
          <a:xfrm>
            <a:off x="6818400" y="2583000"/>
            <a:ext cx="11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13"/>
          <p:cNvSpPr/>
          <p:nvPr/>
        </p:nvSpPr>
        <p:spPr>
          <a:xfrm>
            <a:off x="6821640" y="2743200"/>
            <a:ext cx="117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Box 13"/>
          <p:cNvSpPr/>
          <p:nvPr/>
        </p:nvSpPr>
        <p:spPr>
          <a:xfrm>
            <a:off x="569880" y="269712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13"/>
          <p:cNvSpPr/>
          <p:nvPr/>
        </p:nvSpPr>
        <p:spPr>
          <a:xfrm>
            <a:off x="573120" y="285768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矩形 33"/>
          <p:cNvSpPr/>
          <p:nvPr/>
        </p:nvSpPr>
        <p:spPr>
          <a:xfrm>
            <a:off x="987480" y="3703680"/>
            <a:ext cx="714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图片 24" descr=""/>
          <p:cNvPicPr/>
          <p:nvPr/>
        </p:nvPicPr>
        <p:blipFill>
          <a:blip r:embed="rId1"/>
          <a:stretch/>
        </p:blipFill>
        <p:spPr>
          <a:xfrm>
            <a:off x="0" y="665280"/>
            <a:ext cx="4657680" cy="385596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615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ight Arrow">
            <a:hlinkClick r:id="" action="ppaction://hlinkshowjump?jump=nextslide"/>
          </p:cNvPr>
          <p:cNvSpPr/>
          <p:nvPr/>
        </p:nvSpPr>
        <p:spPr>
          <a:xfrm>
            <a:off x="714240" y="4297320"/>
            <a:ext cx="171720" cy="13032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24067" y="68591"/>
                </a:moveTo>
                <a:cubicBezTo>
                  <a:pt x="125741" y="68554"/>
                  <a:pt x="127397" y="69354"/>
                  <a:pt x="129034" y="70991"/>
                </a:cubicBezTo>
                <a:lnTo>
                  <a:pt x="171004" y="114300"/>
                </a:lnTo>
                <a:lnTo>
                  <a:pt x="129034" y="157609"/>
                </a:lnTo>
                <a:cubicBezTo>
                  <a:pt x="127546" y="159097"/>
                  <a:pt x="125834" y="159841"/>
                  <a:pt x="123900" y="159841"/>
                </a:cubicBezTo>
                <a:cubicBezTo>
                  <a:pt x="121965" y="159841"/>
                  <a:pt x="120253" y="159097"/>
                  <a:pt x="118765" y="157609"/>
                </a:cubicBezTo>
                <a:cubicBezTo>
                  <a:pt x="115491" y="154334"/>
                  <a:pt x="115491" y="151060"/>
                  <a:pt x="118765" y="147786"/>
                </a:cubicBezTo>
                <a:lnTo>
                  <a:pt x="145108" y="121443"/>
                </a:lnTo>
                <a:lnTo>
                  <a:pt x="64294" y="121443"/>
                </a:lnTo>
                <a:cubicBezTo>
                  <a:pt x="62210" y="121443"/>
                  <a:pt x="60499" y="120699"/>
                  <a:pt x="59159" y="119211"/>
                </a:cubicBezTo>
                <a:cubicBezTo>
                  <a:pt x="57820" y="117723"/>
                  <a:pt x="57150" y="116011"/>
                  <a:pt x="57150" y="114076"/>
                </a:cubicBezTo>
                <a:cubicBezTo>
                  <a:pt x="57150" y="112142"/>
                  <a:pt x="57820" y="110505"/>
                  <a:pt x="59159" y="109165"/>
                </a:cubicBezTo>
                <a:cubicBezTo>
                  <a:pt x="60499" y="107826"/>
                  <a:pt x="62210" y="107156"/>
                  <a:pt x="64294" y="107156"/>
                </a:cubicBezTo>
                <a:lnTo>
                  <a:pt x="144661" y="107156"/>
                </a:lnTo>
                <a:lnTo>
                  <a:pt x="118765" y="81260"/>
                </a:lnTo>
                <a:cubicBezTo>
                  <a:pt x="115491" y="77986"/>
                  <a:pt x="115565" y="74637"/>
                  <a:pt x="118988" y="71214"/>
                </a:cubicBezTo>
                <a:cubicBezTo>
                  <a:pt x="120700" y="69502"/>
                  <a:pt x="122393" y="68628"/>
                  <a:pt x="124067" y="68591"/>
                </a:cubicBezTo>
                <a:close/>
                <a:moveTo>
                  <a:pt x="114300" y="14287"/>
                </a:moveTo>
                <a:cubicBezTo>
                  <a:pt x="86618" y="14287"/>
                  <a:pt x="63029" y="24035"/>
                  <a:pt x="43532" y="43532"/>
                </a:cubicBezTo>
                <a:cubicBezTo>
                  <a:pt x="24036" y="63028"/>
                  <a:pt x="14288" y="86618"/>
                  <a:pt x="14288" y="114300"/>
                </a:cubicBezTo>
                <a:cubicBezTo>
                  <a:pt x="14288" y="141982"/>
                  <a:pt x="24036" y="165645"/>
                  <a:pt x="43532" y="185291"/>
                </a:cubicBezTo>
                <a:cubicBezTo>
                  <a:pt x="63029" y="204936"/>
                  <a:pt x="86618" y="214759"/>
                  <a:pt x="114300" y="214759"/>
                </a:cubicBezTo>
                <a:cubicBezTo>
                  <a:pt x="141982" y="214759"/>
                  <a:pt x="165571" y="204936"/>
                  <a:pt x="185068" y="185291"/>
                </a:cubicBezTo>
                <a:cubicBezTo>
                  <a:pt x="204564" y="165645"/>
                  <a:pt x="214313" y="141982"/>
                  <a:pt x="214313" y="114300"/>
                </a:cubicBezTo>
                <a:cubicBezTo>
                  <a:pt x="214313" y="86618"/>
                  <a:pt x="204564" y="63028"/>
                  <a:pt x="185068" y="43532"/>
                </a:cubicBezTo>
                <a:cubicBezTo>
                  <a:pt x="165571" y="24035"/>
                  <a:pt x="141982" y="14287"/>
                  <a:pt x="114300" y="14287"/>
                </a:cubicBezTo>
                <a:close/>
                <a:moveTo>
                  <a:pt x="114300" y="0"/>
                </a:moveTo>
                <a:cubicBezTo>
                  <a:pt x="145852" y="0"/>
                  <a:pt x="172790" y="11162"/>
                  <a:pt x="195114" y="33486"/>
                </a:cubicBezTo>
                <a:cubicBezTo>
                  <a:pt x="217438" y="55810"/>
                  <a:pt x="228600" y="82748"/>
                  <a:pt x="228600" y="114300"/>
                </a:cubicBezTo>
                <a:cubicBezTo>
                  <a:pt x="228600" y="145851"/>
                  <a:pt x="217438" y="172789"/>
                  <a:pt x="195114" y="195113"/>
                </a:cubicBezTo>
                <a:cubicBezTo>
                  <a:pt x="172790" y="217438"/>
                  <a:pt x="145852" y="228600"/>
                  <a:pt x="114300" y="228600"/>
                </a:cubicBezTo>
                <a:cubicBezTo>
                  <a:pt x="82749" y="228600"/>
                  <a:pt x="55811" y="217438"/>
                  <a:pt x="33486" y="195113"/>
                </a:cubicBezTo>
                <a:cubicBezTo>
                  <a:pt x="11162" y="172789"/>
                  <a:pt x="0" y="145851"/>
                  <a:pt x="0" y="114300"/>
                </a:cubicBezTo>
                <a:cubicBezTo>
                  <a:pt x="0" y="82748"/>
                  <a:pt x="11162" y="55810"/>
                  <a:pt x="33486" y="33486"/>
                </a:cubicBezTo>
                <a:cubicBezTo>
                  <a:pt x="55811" y="11162"/>
                  <a:pt x="82749" y="0"/>
                  <a:pt x="1143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Left Arrow">
            <a:hlinkClick r:id="" action="ppaction://hlinkshowjump?jump=previousslide"/>
          </p:cNvPr>
          <p:cNvSpPr/>
          <p:nvPr/>
        </p:nvSpPr>
        <p:spPr>
          <a:xfrm>
            <a:off x="457200" y="4297320"/>
            <a:ext cx="171360" cy="13032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04533" y="68591"/>
                </a:moveTo>
                <a:cubicBezTo>
                  <a:pt x="106208" y="68628"/>
                  <a:pt x="107901" y="69502"/>
                  <a:pt x="109612" y="71214"/>
                </a:cubicBezTo>
                <a:cubicBezTo>
                  <a:pt x="113035" y="74637"/>
                  <a:pt x="113110" y="77986"/>
                  <a:pt x="109835" y="81260"/>
                </a:cubicBezTo>
                <a:lnTo>
                  <a:pt x="83939" y="107156"/>
                </a:lnTo>
                <a:lnTo>
                  <a:pt x="164306" y="107156"/>
                </a:lnTo>
                <a:cubicBezTo>
                  <a:pt x="166390" y="107156"/>
                  <a:pt x="168102" y="107826"/>
                  <a:pt x="169441" y="109165"/>
                </a:cubicBezTo>
                <a:cubicBezTo>
                  <a:pt x="170781" y="110505"/>
                  <a:pt x="171450" y="112142"/>
                  <a:pt x="171450" y="114076"/>
                </a:cubicBezTo>
                <a:cubicBezTo>
                  <a:pt x="171450" y="116011"/>
                  <a:pt x="170781" y="117723"/>
                  <a:pt x="169441" y="119211"/>
                </a:cubicBezTo>
                <a:cubicBezTo>
                  <a:pt x="168102" y="120699"/>
                  <a:pt x="166390" y="121443"/>
                  <a:pt x="164306" y="121443"/>
                </a:cubicBezTo>
                <a:lnTo>
                  <a:pt x="83493" y="121443"/>
                </a:lnTo>
                <a:lnTo>
                  <a:pt x="109835" y="147786"/>
                </a:lnTo>
                <a:cubicBezTo>
                  <a:pt x="113110" y="151060"/>
                  <a:pt x="113110" y="154334"/>
                  <a:pt x="109835" y="157609"/>
                </a:cubicBezTo>
                <a:cubicBezTo>
                  <a:pt x="108347" y="159097"/>
                  <a:pt x="106636" y="159841"/>
                  <a:pt x="104701" y="159841"/>
                </a:cubicBezTo>
                <a:cubicBezTo>
                  <a:pt x="102766" y="159841"/>
                  <a:pt x="101055" y="159097"/>
                  <a:pt x="99566" y="157609"/>
                </a:cubicBezTo>
                <a:lnTo>
                  <a:pt x="57597" y="114300"/>
                </a:lnTo>
                <a:lnTo>
                  <a:pt x="99566" y="70991"/>
                </a:lnTo>
                <a:cubicBezTo>
                  <a:pt x="101203" y="69354"/>
                  <a:pt x="102859" y="68554"/>
                  <a:pt x="104533" y="68591"/>
                </a:cubicBezTo>
                <a:close/>
                <a:moveTo>
                  <a:pt x="114300" y="14287"/>
                </a:moveTo>
                <a:cubicBezTo>
                  <a:pt x="86618" y="14287"/>
                  <a:pt x="63029" y="24035"/>
                  <a:pt x="43532" y="43532"/>
                </a:cubicBezTo>
                <a:cubicBezTo>
                  <a:pt x="24036" y="63028"/>
                  <a:pt x="14288" y="86618"/>
                  <a:pt x="14288" y="114300"/>
                </a:cubicBezTo>
                <a:cubicBezTo>
                  <a:pt x="14288" y="141982"/>
                  <a:pt x="24036" y="165645"/>
                  <a:pt x="43532" y="185291"/>
                </a:cubicBezTo>
                <a:cubicBezTo>
                  <a:pt x="63029" y="204936"/>
                  <a:pt x="86618" y="214759"/>
                  <a:pt x="114300" y="214759"/>
                </a:cubicBezTo>
                <a:cubicBezTo>
                  <a:pt x="141982" y="214759"/>
                  <a:pt x="165572" y="204936"/>
                  <a:pt x="185068" y="185291"/>
                </a:cubicBezTo>
                <a:cubicBezTo>
                  <a:pt x="204564" y="165645"/>
                  <a:pt x="214313" y="141982"/>
                  <a:pt x="214313" y="114300"/>
                </a:cubicBezTo>
                <a:cubicBezTo>
                  <a:pt x="214313" y="86618"/>
                  <a:pt x="204564" y="63028"/>
                  <a:pt x="185068" y="43532"/>
                </a:cubicBezTo>
                <a:cubicBezTo>
                  <a:pt x="165572" y="24035"/>
                  <a:pt x="141982" y="14287"/>
                  <a:pt x="114300" y="14287"/>
                </a:cubicBezTo>
                <a:close/>
                <a:moveTo>
                  <a:pt x="114300" y="0"/>
                </a:moveTo>
                <a:cubicBezTo>
                  <a:pt x="145852" y="0"/>
                  <a:pt x="172790" y="11162"/>
                  <a:pt x="195114" y="33486"/>
                </a:cubicBezTo>
                <a:cubicBezTo>
                  <a:pt x="217438" y="55810"/>
                  <a:pt x="228600" y="82748"/>
                  <a:pt x="228600" y="114300"/>
                </a:cubicBezTo>
                <a:cubicBezTo>
                  <a:pt x="228600" y="145851"/>
                  <a:pt x="217438" y="172789"/>
                  <a:pt x="195114" y="195113"/>
                </a:cubicBezTo>
                <a:cubicBezTo>
                  <a:pt x="172790" y="217438"/>
                  <a:pt x="145852" y="228600"/>
                  <a:pt x="114300" y="228600"/>
                </a:cubicBezTo>
                <a:cubicBezTo>
                  <a:pt x="82749" y="228600"/>
                  <a:pt x="55811" y="217438"/>
                  <a:pt x="33487" y="195113"/>
                </a:cubicBezTo>
                <a:cubicBezTo>
                  <a:pt x="11162" y="172789"/>
                  <a:pt x="0" y="145851"/>
                  <a:pt x="0" y="114300"/>
                </a:cubicBezTo>
                <a:cubicBezTo>
                  <a:pt x="0" y="82748"/>
                  <a:pt x="11162" y="55810"/>
                  <a:pt x="33487" y="33486"/>
                </a:cubicBezTo>
                <a:cubicBezTo>
                  <a:pt x="55811" y="11162"/>
                  <a:pt x="82749" y="0"/>
                  <a:pt x="1143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15"/>
          <p:cNvSpPr/>
          <p:nvPr/>
        </p:nvSpPr>
        <p:spPr>
          <a:xfrm>
            <a:off x="5361120" y="2633760"/>
            <a:ext cx="438120" cy="32688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134711" y="195943"/>
                </a:lnTo>
                <a:lnTo>
                  <a:pt x="134711" y="118382"/>
                </a:lnTo>
                <a:lnTo>
                  <a:pt x="160607" y="118382"/>
                </a:lnTo>
                <a:lnTo>
                  <a:pt x="164434" y="89807"/>
                </a:lnTo>
                <a:lnTo>
                  <a:pt x="134711" y="89807"/>
                </a:lnTo>
                <a:lnTo>
                  <a:pt x="134711" y="71565"/>
                </a:lnTo>
                <a:cubicBezTo>
                  <a:pt x="134711" y="66973"/>
                  <a:pt x="135902" y="63443"/>
                  <a:pt x="138283" y="60977"/>
                </a:cubicBezTo>
                <a:cubicBezTo>
                  <a:pt x="140664" y="58511"/>
                  <a:pt x="144746" y="57277"/>
                  <a:pt x="150529" y="57277"/>
                </a:cubicBezTo>
                <a:lnTo>
                  <a:pt x="167368" y="57150"/>
                </a:lnTo>
                <a:lnTo>
                  <a:pt x="167368" y="30743"/>
                </a:lnTo>
                <a:cubicBezTo>
                  <a:pt x="159204" y="29978"/>
                  <a:pt x="151550" y="29595"/>
                  <a:pt x="144406" y="29595"/>
                </a:cubicBezTo>
                <a:cubicBezTo>
                  <a:pt x="132840" y="29595"/>
                  <a:pt x="123570" y="33018"/>
                  <a:pt x="116596" y="39865"/>
                </a:cubicBezTo>
                <a:cubicBezTo>
                  <a:pt x="109623" y="46711"/>
                  <a:pt x="106136" y="56299"/>
                  <a:pt x="106136" y="68631"/>
                </a:cubicBezTo>
                <a:lnTo>
                  <a:pt x="106136" y="89807"/>
                </a:lnTo>
                <a:lnTo>
                  <a:pt x="77561" y="89807"/>
                </a:lnTo>
                <a:lnTo>
                  <a:pt x="77561" y="118382"/>
                </a:lnTo>
                <a:lnTo>
                  <a:pt x="106136" y="118382"/>
                </a:lnTo>
                <a:lnTo>
                  <a:pt x="106136" y="195943"/>
                </a:ln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16"/>
          <p:cNvSpPr/>
          <p:nvPr/>
        </p:nvSpPr>
        <p:spPr>
          <a:xfrm>
            <a:off x="5361120" y="2725560"/>
            <a:ext cx="438120" cy="235080"/>
          </a:xfrm>
          <a:custGeom>
            <a:avLst/>
            <a:gdLst/>
            <a:ahLst/>
            <a:rect l="l" t="t" r="r" b="b"/>
            <a:pathLst>
              <a:path w="731520" h="580237">
                <a:moveTo>
                  <a:pt x="624840" y="0"/>
                </a:moveTo>
                <a:lnTo>
                  <a:pt x="731520" y="0"/>
                </a:lnTo>
                <a:lnTo>
                  <a:pt x="731520" y="429358"/>
                </a:lnTo>
                <a:cubicBezTo>
                  <a:pt x="731520" y="470922"/>
                  <a:pt x="718106" y="506457"/>
                  <a:pt x="691279" y="535967"/>
                </a:cubicBezTo>
                <a:cubicBezTo>
                  <a:pt x="664447" y="565482"/>
                  <a:pt x="632143" y="580237"/>
                  <a:pt x="594361" y="580237"/>
                </a:cubicBezTo>
                <a:lnTo>
                  <a:pt x="502921" y="580237"/>
                </a:lnTo>
                <a:lnTo>
                  <a:pt x="502921" y="261720"/>
                </a:lnTo>
                <a:lnTo>
                  <a:pt x="599599" y="261720"/>
                </a:lnTo>
                <a:lnTo>
                  <a:pt x="613887" y="144372"/>
                </a:lnTo>
                <a:lnTo>
                  <a:pt x="502921" y="144372"/>
                </a:lnTo>
                <a:lnTo>
                  <a:pt x="502921" y="69459"/>
                </a:lnTo>
                <a:cubicBezTo>
                  <a:pt x="502921" y="50601"/>
                  <a:pt x="507367" y="36104"/>
                  <a:pt x="516256" y="25977"/>
                </a:cubicBezTo>
                <a:cubicBezTo>
                  <a:pt x="525145" y="15850"/>
                  <a:pt x="540385" y="10783"/>
                  <a:pt x="561975" y="10783"/>
                </a:cubicBezTo>
                <a:lnTo>
                  <a:pt x="624840" y="10261"/>
                </a:lnTo>
                <a:lnTo>
                  <a:pt x="624840" y="0"/>
                </a:lnTo>
                <a:close/>
                <a:moveTo>
                  <a:pt x="0" y="0"/>
                </a:moveTo>
                <a:lnTo>
                  <a:pt x="404543" y="0"/>
                </a:lnTo>
                <a:lnTo>
                  <a:pt x="396241" y="57410"/>
                </a:lnTo>
                <a:lnTo>
                  <a:pt x="396241" y="144372"/>
                </a:lnTo>
                <a:lnTo>
                  <a:pt x="289561" y="144372"/>
                </a:lnTo>
                <a:lnTo>
                  <a:pt x="289561" y="261720"/>
                </a:lnTo>
                <a:lnTo>
                  <a:pt x="396241" y="261720"/>
                </a:lnTo>
                <a:lnTo>
                  <a:pt x="396241" y="580237"/>
                </a:lnTo>
                <a:lnTo>
                  <a:pt x="137163" y="580237"/>
                </a:lnTo>
                <a:cubicBezTo>
                  <a:pt x="99378" y="580237"/>
                  <a:pt x="67073" y="565482"/>
                  <a:pt x="40245" y="535967"/>
                </a:cubicBezTo>
                <a:cubicBezTo>
                  <a:pt x="13414" y="506457"/>
                  <a:pt x="0" y="470922"/>
                  <a:pt x="0" y="429358"/>
                </a:cubicBezTo>
                <a:lnTo>
                  <a:pt x="0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21"/>
          <p:cNvSpPr/>
          <p:nvPr/>
        </p:nvSpPr>
        <p:spPr>
          <a:xfrm>
            <a:off x="5361120" y="3189240"/>
            <a:ext cx="438120" cy="33012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123102" y="48986"/>
                </a:moveTo>
                <a:cubicBezTo>
                  <a:pt x="115703" y="48986"/>
                  <a:pt x="109389" y="51601"/>
                  <a:pt x="104159" y="56831"/>
                </a:cubicBezTo>
                <a:cubicBezTo>
                  <a:pt x="98928" y="62061"/>
                  <a:pt x="96313" y="68376"/>
                  <a:pt x="96313" y="75775"/>
                </a:cubicBezTo>
                <a:cubicBezTo>
                  <a:pt x="96313" y="78241"/>
                  <a:pt x="96526" y="80282"/>
                  <a:pt x="96951" y="81898"/>
                </a:cubicBezTo>
                <a:cubicBezTo>
                  <a:pt x="85980" y="81303"/>
                  <a:pt x="75690" y="78539"/>
                  <a:pt x="66080" y="73606"/>
                </a:cubicBezTo>
                <a:cubicBezTo>
                  <a:pt x="56470" y="68673"/>
                  <a:pt x="48306" y="62082"/>
                  <a:pt x="41587" y="53833"/>
                </a:cubicBezTo>
                <a:cubicBezTo>
                  <a:pt x="39121" y="58085"/>
                  <a:pt x="37888" y="62593"/>
                  <a:pt x="37888" y="67355"/>
                </a:cubicBezTo>
                <a:cubicBezTo>
                  <a:pt x="37888" y="77050"/>
                  <a:pt x="41757" y="84492"/>
                  <a:pt x="49496" y="89679"/>
                </a:cubicBezTo>
                <a:cubicBezTo>
                  <a:pt x="45499" y="89594"/>
                  <a:pt x="41247" y="88489"/>
                  <a:pt x="36740" y="86363"/>
                </a:cubicBezTo>
                <a:lnTo>
                  <a:pt x="36740" y="86618"/>
                </a:lnTo>
                <a:cubicBezTo>
                  <a:pt x="36740" y="92996"/>
                  <a:pt x="38866" y="98673"/>
                  <a:pt x="43118" y="103648"/>
                </a:cubicBezTo>
                <a:cubicBezTo>
                  <a:pt x="47370" y="108623"/>
                  <a:pt x="52600" y="111706"/>
                  <a:pt x="58809" y="112897"/>
                </a:cubicBezTo>
                <a:cubicBezTo>
                  <a:pt x="56342" y="113577"/>
                  <a:pt x="54174" y="113917"/>
                  <a:pt x="52303" y="113917"/>
                </a:cubicBezTo>
                <a:cubicBezTo>
                  <a:pt x="51197" y="113917"/>
                  <a:pt x="49539" y="113747"/>
                  <a:pt x="47328" y="113407"/>
                </a:cubicBezTo>
                <a:cubicBezTo>
                  <a:pt x="49114" y="118765"/>
                  <a:pt x="52281" y="123187"/>
                  <a:pt x="56831" y="126674"/>
                </a:cubicBezTo>
                <a:cubicBezTo>
                  <a:pt x="61381" y="130161"/>
                  <a:pt x="66548" y="131947"/>
                  <a:pt x="72331" y="132032"/>
                </a:cubicBezTo>
                <a:cubicBezTo>
                  <a:pt x="62466" y="139686"/>
                  <a:pt x="51367" y="143513"/>
                  <a:pt x="39036" y="143513"/>
                </a:cubicBezTo>
                <a:cubicBezTo>
                  <a:pt x="36825" y="143513"/>
                  <a:pt x="34698" y="143385"/>
                  <a:pt x="32657" y="143130"/>
                </a:cubicBezTo>
                <a:cubicBezTo>
                  <a:pt x="45244" y="151124"/>
                  <a:pt x="58936" y="155121"/>
                  <a:pt x="73734" y="155121"/>
                </a:cubicBezTo>
                <a:cubicBezTo>
                  <a:pt x="83259" y="155121"/>
                  <a:pt x="92189" y="153612"/>
                  <a:pt x="100523" y="150593"/>
                </a:cubicBezTo>
                <a:cubicBezTo>
                  <a:pt x="108857" y="147574"/>
                  <a:pt x="116001" y="143534"/>
                  <a:pt x="121954" y="138474"/>
                </a:cubicBezTo>
                <a:cubicBezTo>
                  <a:pt x="127907" y="133414"/>
                  <a:pt x="133031" y="127588"/>
                  <a:pt x="137326" y="120997"/>
                </a:cubicBezTo>
                <a:cubicBezTo>
                  <a:pt x="141621" y="114406"/>
                  <a:pt x="144810" y="107518"/>
                  <a:pt x="146894" y="100331"/>
                </a:cubicBezTo>
                <a:cubicBezTo>
                  <a:pt x="148977" y="93145"/>
                  <a:pt x="150019" y="85980"/>
                  <a:pt x="150019" y="78836"/>
                </a:cubicBezTo>
                <a:cubicBezTo>
                  <a:pt x="150019" y="77305"/>
                  <a:pt x="149976" y="76157"/>
                  <a:pt x="149891" y="75392"/>
                </a:cubicBezTo>
                <a:cubicBezTo>
                  <a:pt x="155249" y="71565"/>
                  <a:pt x="159714" y="66930"/>
                  <a:pt x="163286" y="61487"/>
                </a:cubicBezTo>
                <a:cubicBezTo>
                  <a:pt x="158523" y="63613"/>
                  <a:pt x="153378" y="65059"/>
                  <a:pt x="147850" y="65824"/>
                </a:cubicBezTo>
                <a:cubicBezTo>
                  <a:pt x="153633" y="62423"/>
                  <a:pt x="157588" y="57447"/>
                  <a:pt x="159714" y="50899"/>
                </a:cubicBezTo>
                <a:cubicBezTo>
                  <a:pt x="154186" y="54131"/>
                  <a:pt x="148488" y="56299"/>
                  <a:pt x="142620" y="57405"/>
                </a:cubicBezTo>
                <a:cubicBezTo>
                  <a:pt x="137432" y="51792"/>
                  <a:pt x="130926" y="48986"/>
                  <a:pt x="123102" y="48986"/>
                </a:cubicBezTo>
                <a:close/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22"/>
          <p:cNvSpPr/>
          <p:nvPr/>
        </p:nvSpPr>
        <p:spPr>
          <a:xfrm>
            <a:off x="5361120" y="3375000"/>
            <a:ext cx="438120" cy="144360"/>
          </a:xfrm>
          <a:custGeom>
            <a:avLst/>
            <a:gdLst/>
            <a:ahLst/>
            <a:rect l="l" t="t" r="r" b="b"/>
            <a:pathLst>
              <a:path w="804672" h="355801">
                <a:moveTo>
                  <a:pt x="0" y="0"/>
                </a:moveTo>
                <a:lnTo>
                  <a:pt x="204399" y="0"/>
                </a:lnTo>
                <a:lnTo>
                  <a:pt x="206276" y="1595"/>
                </a:lnTo>
                <a:cubicBezTo>
                  <a:pt x="217016" y="7926"/>
                  <a:pt x="228760" y="12314"/>
                  <a:pt x="241509" y="14759"/>
                </a:cubicBezTo>
                <a:cubicBezTo>
                  <a:pt x="231378" y="17552"/>
                  <a:pt x="222475" y="18948"/>
                  <a:pt x="214791" y="18948"/>
                </a:cubicBezTo>
                <a:cubicBezTo>
                  <a:pt x="210249" y="18948"/>
                  <a:pt x="203440" y="18250"/>
                  <a:pt x="194360" y="16854"/>
                </a:cubicBezTo>
                <a:cubicBezTo>
                  <a:pt x="201695" y="38857"/>
                  <a:pt x="214701" y="57017"/>
                  <a:pt x="233386" y="71337"/>
                </a:cubicBezTo>
                <a:cubicBezTo>
                  <a:pt x="252071" y="85657"/>
                  <a:pt x="273290" y="92991"/>
                  <a:pt x="297039" y="93340"/>
                </a:cubicBezTo>
                <a:cubicBezTo>
                  <a:pt x="256527" y="124773"/>
                  <a:pt x="210947" y="140489"/>
                  <a:pt x="160308" y="140489"/>
                </a:cubicBezTo>
                <a:cubicBezTo>
                  <a:pt x="151228" y="140489"/>
                  <a:pt x="142493" y="139963"/>
                  <a:pt x="134112" y="138916"/>
                </a:cubicBezTo>
                <a:cubicBezTo>
                  <a:pt x="185802" y="171745"/>
                  <a:pt x="242031" y="188159"/>
                  <a:pt x="302801" y="188159"/>
                </a:cubicBezTo>
                <a:cubicBezTo>
                  <a:pt x="341917" y="188159"/>
                  <a:pt x="378589" y="181962"/>
                  <a:pt x="412814" y="169564"/>
                </a:cubicBezTo>
                <a:cubicBezTo>
                  <a:pt x="447039" y="157166"/>
                  <a:pt x="476377" y="140575"/>
                  <a:pt x="500824" y="119795"/>
                </a:cubicBezTo>
                <a:cubicBezTo>
                  <a:pt x="525271" y="99016"/>
                  <a:pt x="546314" y="75090"/>
                  <a:pt x="563952" y="48023"/>
                </a:cubicBezTo>
                <a:lnTo>
                  <a:pt x="586186" y="0"/>
                </a:lnTo>
                <a:lnTo>
                  <a:pt x="804672" y="0"/>
                </a:lnTo>
                <a:lnTo>
                  <a:pt x="804672" y="204922"/>
                </a:lnTo>
                <a:cubicBezTo>
                  <a:pt x="804672" y="246486"/>
                  <a:pt x="789917" y="282021"/>
                  <a:pt x="760406" y="311531"/>
                </a:cubicBezTo>
                <a:cubicBezTo>
                  <a:pt x="730892" y="341046"/>
                  <a:pt x="695357" y="355801"/>
                  <a:pt x="653798" y="355801"/>
                </a:cubicBezTo>
                <a:lnTo>
                  <a:pt x="150879" y="355801"/>
                </a:lnTo>
                <a:cubicBezTo>
                  <a:pt x="109316" y="355801"/>
                  <a:pt x="73781" y="341046"/>
                  <a:pt x="44270" y="311531"/>
                </a:cubicBezTo>
                <a:cubicBezTo>
                  <a:pt x="14755" y="282021"/>
                  <a:pt x="0" y="246486"/>
                  <a:pt x="0" y="204922"/>
                </a:cubicBezTo>
                <a:lnTo>
                  <a:pt x="0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23"/>
          <p:cNvSpPr/>
          <p:nvPr/>
        </p:nvSpPr>
        <p:spPr>
          <a:xfrm>
            <a:off x="5361120" y="3747960"/>
            <a:ext cx="438120" cy="33048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83174" y="115576"/>
                </a:moveTo>
                <a:cubicBezTo>
                  <a:pt x="84875" y="115576"/>
                  <a:pt x="86193" y="115661"/>
                  <a:pt x="87128" y="115831"/>
                </a:cubicBezTo>
                <a:cubicBezTo>
                  <a:pt x="87299" y="115916"/>
                  <a:pt x="88277" y="116617"/>
                  <a:pt x="90063" y="117936"/>
                </a:cubicBezTo>
                <a:cubicBezTo>
                  <a:pt x="91848" y="119254"/>
                  <a:pt x="92954" y="120062"/>
                  <a:pt x="93379" y="120359"/>
                </a:cubicBezTo>
                <a:cubicBezTo>
                  <a:pt x="93804" y="120657"/>
                  <a:pt x="94782" y="121422"/>
                  <a:pt x="96313" y="122655"/>
                </a:cubicBezTo>
                <a:cubicBezTo>
                  <a:pt x="97844" y="123889"/>
                  <a:pt x="98886" y="124824"/>
                  <a:pt x="99439" y="125462"/>
                </a:cubicBezTo>
                <a:cubicBezTo>
                  <a:pt x="99991" y="126100"/>
                  <a:pt x="100799" y="127057"/>
                  <a:pt x="101862" y="128332"/>
                </a:cubicBezTo>
                <a:cubicBezTo>
                  <a:pt x="102926" y="129608"/>
                  <a:pt x="103648" y="130713"/>
                  <a:pt x="104031" y="131649"/>
                </a:cubicBezTo>
                <a:cubicBezTo>
                  <a:pt x="104414" y="132584"/>
                  <a:pt x="104797" y="133711"/>
                  <a:pt x="105179" y="135029"/>
                </a:cubicBezTo>
                <a:cubicBezTo>
                  <a:pt x="105562" y="136348"/>
                  <a:pt x="105753" y="137687"/>
                  <a:pt x="105753" y="139048"/>
                </a:cubicBezTo>
                <a:cubicBezTo>
                  <a:pt x="105753" y="145511"/>
                  <a:pt x="103266" y="150295"/>
                  <a:pt x="98291" y="153399"/>
                </a:cubicBezTo>
                <a:cubicBezTo>
                  <a:pt x="93315" y="156503"/>
                  <a:pt x="87384" y="158055"/>
                  <a:pt x="80495" y="158055"/>
                </a:cubicBezTo>
                <a:cubicBezTo>
                  <a:pt x="77008" y="158055"/>
                  <a:pt x="73585" y="157651"/>
                  <a:pt x="70226" y="156843"/>
                </a:cubicBezTo>
                <a:cubicBezTo>
                  <a:pt x="66867" y="156036"/>
                  <a:pt x="63656" y="154824"/>
                  <a:pt x="60595" y="153208"/>
                </a:cubicBezTo>
                <a:cubicBezTo>
                  <a:pt x="57533" y="151592"/>
                  <a:pt x="55067" y="149338"/>
                  <a:pt x="53196" y="146447"/>
                </a:cubicBezTo>
                <a:cubicBezTo>
                  <a:pt x="51325" y="143555"/>
                  <a:pt x="50389" y="140238"/>
                  <a:pt x="50389" y="136496"/>
                </a:cubicBezTo>
                <a:cubicBezTo>
                  <a:pt x="50389" y="132584"/>
                  <a:pt x="51452" y="129183"/>
                  <a:pt x="53578" y="126291"/>
                </a:cubicBezTo>
                <a:cubicBezTo>
                  <a:pt x="55704" y="123400"/>
                  <a:pt x="58490" y="121210"/>
                  <a:pt x="61934" y="119721"/>
                </a:cubicBezTo>
                <a:cubicBezTo>
                  <a:pt x="65378" y="118233"/>
                  <a:pt x="68865" y="117170"/>
                  <a:pt x="72395" y="116532"/>
                </a:cubicBezTo>
                <a:cubicBezTo>
                  <a:pt x="75924" y="115894"/>
                  <a:pt x="79517" y="115576"/>
                  <a:pt x="83174" y="115576"/>
                </a:cubicBezTo>
                <a:close/>
                <a:moveTo>
                  <a:pt x="138793" y="69396"/>
                </a:moveTo>
                <a:lnTo>
                  <a:pt x="138793" y="85725"/>
                </a:lnTo>
                <a:lnTo>
                  <a:pt x="122465" y="85725"/>
                </a:lnTo>
                <a:lnTo>
                  <a:pt x="122465" y="93889"/>
                </a:lnTo>
                <a:lnTo>
                  <a:pt x="138793" y="93889"/>
                </a:lnTo>
                <a:lnTo>
                  <a:pt x="138793" y="114300"/>
                </a:lnTo>
                <a:lnTo>
                  <a:pt x="146957" y="114300"/>
                </a:lnTo>
                <a:lnTo>
                  <a:pt x="146957" y="93889"/>
                </a:lnTo>
                <a:lnTo>
                  <a:pt x="163286" y="93889"/>
                </a:lnTo>
                <a:lnTo>
                  <a:pt x="163286" y="85725"/>
                </a:lnTo>
                <a:lnTo>
                  <a:pt x="146957" y="85725"/>
                </a:lnTo>
                <a:lnTo>
                  <a:pt x="146957" y="69396"/>
                </a:lnTo>
                <a:lnTo>
                  <a:pt x="138793" y="69396"/>
                </a:lnTo>
                <a:close/>
                <a:moveTo>
                  <a:pt x="74754" y="37249"/>
                </a:moveTo>
                <a:cubicBezTo>
                  <a:pt x="79262" y="37249"/>
                  <a:pt x="83238" y="39163"/>
                  <a:pt x="86682" y="42990"/>
                </a:cubicBezTo>
                <a:cubicBezTo>
                  <a:pt x="90126" y="46817"/>
                  <a:pt x="92593" y="51112"/>
                  <a:pt x="94081" y="55874"/>
                </a:cubicBezTo>
                <a:cubicBezTo>
                  <a:pt x="95569" y="60637"/>
                  <a:pt x="96313" y="65187"/>
                  <a:pt x="96313" y="69524"/>
                </a:cubicBezTo>
                <a:cubicBezTo>
                  <a:pt x="96313" y="74627"/>
                  <a:pt x="94910" y="78857"/>
                  <a:pt x="92104" y="82217"/>
                </a:cubicBezTo>
                <a:cubicBezTo>
                  <a:pt x="89297" y="85576"/>
                  <a:pt x="85385" y="87256"/>
                  <a:pt x="80367" y="87256"/>
                </a:cubicBezTo>
                <a:cubicBezTo>
                  <a:pt x="75860" y="87256"/>
                  <a:pt x="71906" y="85448"/>
                  <a:pt x="68504" y="81834"/>
                </a:cubicBezTo>
                <a:cubicBezTo>
                  <a:pt x="65102" y="78220"/>
                  <a:pt x="62657" y="74116"/>
                  <a:pt x="61169" y="69524"/>
                </a:cubicBezTo>
                <a:cubicBezTo>
                  <a:pt x="59680" y="64931"/>
                  <a:pt x="58936" y="60424"/>
                  <a:pt x="58936" y="56002"/>
                </a:cubicBezTo>
                <a:cubicBezTo>
                  <a:pt x="58936" y="50814"/>
                  <a:pt x="60297" y="46392"/>
                  <a:pt x="63018" y="42735"/>
                </a:cubicBezTo>
                <a:cubicBezTo>
                  <a:pt x="65740" y="39078"/>
                  <a:pt x="69652" y="37249"/>
                  <a:pt x="74754" y="37249"/>
                </a:cubicBezTo>
                <a:close/>
                <a:moveTo>
                  <a:pt x="87256" y="28575"/>
                </a:moveTo>
                <a:cubicBezTo>
                  <a:pt x="80027" y="28575"/>
                  <a:pt x="73181" y="29936"/>
                  <a:pt x="66718" y="32657"/>
                </a:cubicBezTo>
                <a:cubicBezTo>
                  <a:pt x="60254" y="35378"/>
                  <a:pt x="54833" y="39546"/>
                  <a:pt x="50453" y="45159"/>
                </a:cubicBezTo>
                <a:cubicBezTo>
                  <a:pt x="46073" y="50771"/>
                  <a:pt x="43883" y="57277"/>
                  <a:pt x="43883" y="64676"/>
                </a:cubicBezTo>
                <a:cubicBezTo>
                  <a:pt x="43883" y="72585"/>
                  <a:pt x="46626" y="79155"/>
                  <a:pt x="52111" y="84385"/>
                </a:cubicBezTo>
                <a:cubicBezTo>
                  <a:pt x="57597" y="89616"/>
                  <a:pt x="64337" y="92231"/>
                  <a:pt x="72331" y="92231"/>
                </a:cubicBezTo>
                <a:cubicBezTo>
                  <a:pt x="74202" y="92231"/>
                  <a:pt x="76030" y="92103"/>
                  <a:pt x="77816" y="91848"/>
                </a:cubicBezTo>
                <a:cubicBezTo>
                  <a:pt x="76710" y="94314"/>
                  <a:pt x="76158" y="96611"/>
                  <a:pt x="76158" y="98737"/>
                </a:cubicBezTo>
                <a:cubicBezTo>
                  <a:pt x="76158" y="102479"/>
                  <a:pt x="77859" y="106476"/>
                  <a:pt x="81260" y="110728"/>
                </a:cubicBezTo>
                <a:cubicBezTo>
                  <a:pt x="66378" y="111749"/>
                  <a:pt x="55449" y="114427"/>
                  <a:pt x="48476" y="118765"/>
                </a:cubicBezTo>
                <a:cubicBezTo>
                  <a:pt x="44479" y="121231"/>
                  <a:pt x="41268" y="124335"/>
                  <a:pt x="38844" y="128077"/>
                </a:cubicBezTo>
                <a:cubicBezTo>
                  <a:pt x="36421" y="131819"/>
                  <a:pt x="35209" y="135859"/>
                  <a:pt x="35209" y="140196"/>
                </a:cubicBezTo>
                <a:cubicBezTo>
                  <a:pt x="35209" y="143853"/>
                  <a:pt x="35995" y="147148"/>
                  <a:pt x="37569" y="150082"/>
                </a:cubicBezTo>
                <a:cubicBezTo>
                  <a:pt x="39142" y="153016"/>
                  <a:pt x="41204" y="155419"/>
                  <a:pt x="43756" y="157290"/>
                </a:cubicBezTo>
                <a:cubicBezTo>
                  <a:pt x="46307" y="159161"/>
                  <a:pt x="49241" y="160734"/>
                  <a:pt x="52558" y="162010"/>
                </a:cubicBezTo>
                <a:cubicBezTo>
                  <a:pt x="55875" y="163286"/>
                  <a:pt x="59170" y="164179"/>
                  <a:pt x="62444" y="164689"/>
                </a:cubicBezTo>
                <a:cubicBezTo>
                  <a:pt x="65718" y="165199"/>
                  <a:pt x="68971" y="165454"/>
                  <a:pt x="72203" y="165454"/>
                </a:cubicBezTo>
                <a:cubicBezTo>
                  <a:pt x="77306" y="165454"/>
                  <a:pt x="82430" y="164795"/>
                  <a:pt x="87575" y="163477"/>
                </a:cubicBezTo>
                <a:cubicBezTo>
                  <a:pt x="92720" y="162159"/>
                  <a:pt x="97546" y="160203"/>
                  <a:pt x="102054" y="157609"/>
                </a:cubicBezTo>
                <a:cubicBezTo>
                  <a:pt x="106561" y="155015"/>
                  <a:pt x="110218" y="151507"/>
                  <a:pt x="113025" y="147085"/>
                </a:cubicBezTo>
                <a:cubicBezTo>
                  <a:pt x="115831" y="142662"/>
                  <a:pt x="117234" y="137687"/>
                  <a:pt x="117234" y="132159"/>
                </a:cubicBezTo>
                <a:cubicBezTo>
                  <a:pt x="117234" y="127992"/>
                  <a:pt x="116384" y="124186"/>
                  <a:pt x="114683" y="120742"/>
                </a:cubicBezTo>
                <a:cubicBezTo>
                  <a:pt x="112982" y="117298"/>
                  <a:pt x="110898" y="114470"/>
                  <a:pt x="108432" y="112259"/>
                </a:cubicBezTo>
                <a:cubicBezTo>
                  <a:pt x="105966" y="110048"/>
                  <a:pt x="103500" y="108028"/>
                  <a:pt x="101033" y="106199"/>
                </a:cubicBezTo>
                <a:cubicBezTo>
                  <a:pt x="98567" y="104371"/>
                  <a:pt x="96483" y="102500"/>
                  <a:pt x="94782" y="100586"/>
                </a:cubicBezTo>
                <a:cubicBezTo>
                  <a:pt x="93082" y="98673"/>
                  <a:pt x="92231" y="96781"/>
                  <a:pt x="92231" y="94910"/>
                </a:cubicBezTo>
                <a:cubicBezTo>
                  <a:pt x="92231" y="93039"/>
                  <a:pt x="92890" y="91231"/>
                  <a:pt x="94208" y="89488"/>
                </a:cubicBezTo>
                <a:cubicBezTo>
                  <a:pt x="95527" y="87745"/>
                  <a:pt x="97121" y="86065"/>
                  <a:pt x="98992" y="84449"/>
                </a:cubicBezTo>
                <a:cubicBezTo>
                  <a:pt x="100863" y="82833"/>
                  <a:pt x="102734" y="81047"/>
                  <a:pt x="104605" y="79091"/>
                </a:cubicBezTo>
                <a:cubicBezTo>
                  <a:pt x="106476" y="77135"/>
                  <a:pt x="108071" y="74605"/>
                  <a:pt x="109389" y="71501"/>
                </a:cubicBezTo>
                <a:cubicBezTo>
                  <a:pt x="110707" y="68397"/>
                  <a:pt x="111366" y="64889"/>
                  <a:pt x="111366" y="60977"/>
                </a:cubicBezTo>
                <a:cubicBezTo>
                  <a:pt x="111366" y="55874"/>
                  <a:pt x="110409" y="51643"/>
                  <a:pt x="108496" y="48284"/>
                </a:cubicBezTo>
                <a:cubicBezTo>
                  <a:pt x="106582" y="44925"/>
                  <a:pt x="103500" y="41076"/>
                  <a:pt x="99247" y="36739"/>
                </a:cubicBezTo>
                <a:lnTo>
                  <a:pt x="109835" y="36739"/>
                </a:lnTo>
                <a:lnTo>
                  <a:pt x="121061" y="28575"/>
                </a:lnTo>
                <a:lnTo>
                  <a:pt x="87256" y="28575"/>
                </a:lnTo>
                <a:close/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Freeform 28"/>
          <p:cNvSpPr/>
          <p:nvPr/>
        </p:nvSpPr>
        <p:spPr>
          <a:xfrm>
            <a:off x="5361120" y="3855960"/>
            <a:ext cx="438120" cy="222480"/>
          </a:xfrm>
          <a:custGeom>
            <a:avLst/>
            <a:gdLst/>
            <a:ahLst/>
            <a:rect l="l" t="t" r="r" b="b"/>
            <a:pathLst>
              <a:path w="801410" h="537205">
                <a:moveTo>
                  <a:pt x="340183" y="208504"/>
                </a:moveTo>
                <a:cubicBezTo>
                  <a:pt x="347140" y="208504"/>
                  <a:pt x="352531" y="208851"/>
                  <a:pt x="356355" y="209547"/>
                </a:cubicBezTo>
                <a:cubicBezTo>
                  <a:pt x="357054" y="209894"/>
                  <a:pt x="361054" y="212762"/>
                  <a:pt x="368359" y="218156"/>
                </a:cubicBezTo>
                <a:cubicBezTo>
                  <a:pt x="375660" y="223547"/>
                  <a:pt x="380183" y="226852"/>
                  <a:pt x="381922" y="228066"/>
                </a:cubicBezTo>
                <a:cubicBezTo>
                  <a:pt x="383660" y="229285"/>
                  <a:pt x="387660" y="232414"/>
                  <a:pt x="393922" y="237457"/>
                </a:cubicBezTo>
                <a:cubicBezTo>
                  <a:pt x="400184" y="242504"/>
                  <a:pt x="404445" y="246328"/>
                  <a:pt x="406707" y="248938"/>
                </a:cubicBezTo>
                <a:cubicBezTo>
                  <a:pt x="408965" y="251547"/>
                  <a:pt x="412270" y="255461"/>
                  <a:pt x="416617" y="260676"/>
                </a:cubicBezTo>
                <a:cubicBezTo>
                  <a:pt x="420969" y="265895"/>
                  <a:pt x="423922" y="270414"/>
                  <a:pt x="425488" y="274243"/>
                </a:cubicBezTo>
                <a:cubicBezTo>
                  <a:pt x="427055" y="278067"/>
                  <a:pt x="428621" y="282676"/>
                  <a:pt x="430184" y="288067"/>
                </a:cubicBezTo>
                <a:cubicBezTo>
                  <a:pt x="431750" y="293462"/>
                  <a:pt x="432531" y="298938"/>
                  <a:pt x="432531" y="304505"/>
                </a:cubicBezTo>
                <a:cubicBezTo>
                  <a:pt x="432531" y="330938"/>
                  <a:pt x="422360" y="350505"/>
                  <a:pt x="402012" y="363201"/>
                </a:cubicBezTo>
                <a:cubicBezTo>
                  <a:pt x="381660" y="375896"/>
                  <a:pt x="357402" y="382244"/>
                  <a:pt x="329226" y="382244"/>
                </a:cubicBezTo>
                <a:cubicBezTo>
                  <a:pt x="314964" y="382244"/>
                  <a:pt x="300964" y="380591"/>
                  <a:pt x="287225" y="377287"/>
                </a:cubicBezTo>
                <a:cubicBezTo>
                  <a:pt x="273487" y="373986"/>
                  <a:pt x="260354" y="369029"/>
                  <a:pt x="247835" y="362419"/>
                </a:cubicBezTo>
                <a:cubicBezTo>
                  <a:pt x="235311" y="355810"/>
                  <a:pt x="225225" y="346591"/>
                  <a:pt x="217572" y="334767"/>
                </a:cubicBezTo>
                <a:cubicBezTo>
                  <a:pt x="209920" y="322938"/>
                  <a:pt x="206092" y="309372"/>
                  <a:pt x="206092" y="294067"/>
                </a:cubicBezTo>
                <a:cubicBezTo>
                  <a:pt x="206092" y="278067"/>
                  <a:pt x="210440" y="264157"/>
                  <a:pt x="219135" y="252328"/>
                </a:cubicBezTo>
                <a:cubicBezTo>
                  <a:pt x="227830" y="240504"/>
                  <a:pt x="239225" y="231547"/>
                  <a:pt x="253311" y="225457"/>
                </a:cubicBezTo>
                <a:cubicBezTo>
                  <a:pt x="267397" y="219371"/>
                  <a:pt x="281659" y="215023"/>
                  <a:pt x="296097" y="212414"/>
                </a:cubicBezTo>
                <a:cubicBezTo>
                  <a:pt x="310530" y="209804"/>
                  <a:pt x="325226" y="208504"/>
                  <a:pt x="340183" y="208504"/>
                </a:cubicBezTo>
                <a:close/>
                <a:moveTo>
                  <a:pt x="567666" y="19627"/>
                </a:moveTo>
                <a:lnTo>
                  <a:pt x="567666" y="86413"/>
                </a:lnTo>
                <a:lnTo>
                  <a:pt x="500884" y="86413"/>
                </a:lnTo>
                <a:lnTo>
                  <a:pt x="500884" y="119804"/>
                </a:lnTo>
                <a:lnTo>
                  <a:pt x="567666" y="119804"/>
                </a:lnTo>
                <a:lnTo>
                  <a:pt x="567666" y="203285"/>
                </a:lnTo>
                <a:lnTo>
                  <a:pt x="601056" y="203285"/>
                </a:lnTo>
                <a:lnTo>
                  <a:pt x="601056" y="119804"/>
                </a:lnTo>
                <a:lnTo>
                  <a:pt x="667842" y="119804"/>
                </a:lnTo>
                <a:lnTo>
                  <a:pt x="667842" y="86413"/>
                </a:lnTo>
                <a:lnTo>
                  <a:pt x="601056" y="86413"/>
                </a:lnTo>
                <a:lnTo>
                  <a:pt x="601056" y="19627"/>
                </a:lnTo>
                <a:lnTo>
                  <a:pt x="567666" y="19627"/>
                </a:lnTo>
                <a:close/>
                <a:moveTo>
                  <a:pt x="246854" y="0"/>
                </a:moveTo>
                <a:lnTo>
                  <a:pt x="390627" y="0"/>
                </a:lnTo>
                <a:lnTo>
                  <a:pt x="393922" y="20150"/>
                </a:lnTo>
                <a:cubicBezTo>
                  <a:pt x="393922" y="41022"/>
                  <a:pt x="388183" y="58323"/>
                  <a:pt x="376707" y="72065"/>
                </a:cubicBezTo>
                <a:cubicBezTo>
                  <a:pt x="365226" y="85803"/>
                  <a:pt x="349226" y="92675"/>
                  <a:pt x="328702" y="92675"/>
                </a:cubicBezTo>
                <a:cubicBezTo>
                  <a:pt x="310269" y="92675"/>
                  <a:pt x="294097" y="85280"/>
                  <a:pt x="280182" y="70499"/>
                </a:cubicBezTo>
                <a:cubicBezTo>
                  <a:pt x="266268" y="55717"/>
                  <a:pt x="256268" y="38932"/>
                  <a:pt x="250182" y="20150"/>
                </a:cubicBezTo>
                <a:lnTo>
                  <a:pt x="246854" y="0"/>
                </a:lnTo>
                <a:close/>
                <a:moveTo>
                  <a:pt x="0" y="0"/>
                </a:moveTo>
                <a:lnTo>
                  <a:pt x="179590" y="0"/>
                </a:lnTo>
                <a:lnTo>
                  <a:pt x="179482" y="322"/>
                </a:lnTo>
                <a:cubicBezTo>
                  <a:pt x="179482" y="32670"/>
                  <a:pt x="190701" y="59541"/>
                  <a:pt x="213135" y="80932"/>
                </a:cubicBezTo>
                <a:cubicBezTo>
                  <a:pt x="235573" y="102327"/>
                  <a:pt x="263139" y="113022"/>
                  <a:pt x="295835" y="113022"/>
                </a:cubicBezTo>
                <a:cubicBezTo>
                  <a:pt x="303487" y="113022"/>
                  <a:pt x="310964" y="112499"/>
                  <a:pt x="318269" y="111456"/>
                </a:cubicBezTo>
                <a:cubicBezTo>
                  <a:pt x="313745" y="121542"/>
                  <a:pt x="311487" y="130937"/>
                  <a:pt x="311487" y="139632"/>
                </a:cubicBezTo>
                <a:cubicBezTo>
                  <a:pt x="311487" y="154937"/>
                  <a:pt x="318445" y="171285"/>
                  <a:pt x="332355" y="188675"/>
                </a:cubicBezTo>
                <a:cubicBezTo>
                  <a:pt x="271487" y="192851"/>
                  <a:pt x="226787" y="203804"/>
                  <a:pt x="198268" y="221547"/>
                </a:cubicBezTo>
                <a:cubicBezTo>
                  <a:pt x="181920" y="231633"/>
                  <a:pt x="168787" y="244328"/>
                  <a:pt x="158873" y="259633"/>
                </a:cubicBezTo>
                <a:cubicBezTo>
                  <a:pt x="148962" y="274938"/>
                  <a:pt x="144005" y="291462"/>
                  <a:pt x="144005" y="309200"/>
                </a:cubicBezTo>
                <a:cubicBezTo>
                  <a:pt x="144005" y="324157"/>
                  <a:pt x="147220" y="337634"/>
                  <a:pt x="153658" y="349634"/>
                </a:cubicBezTo>
                <a:cubicBezTo>
                  <a:pt x="160091" y="361634"/>
                  <a:pt x="168525" y="371462"/>
                  <a:pt x="178963" y="379115"/>
                </a:cubicBezTo>
                <a:cubicBezTo>
                  <a:pt x="189396" y="386767"/>
                  <a:pt x="201396" y="393201"/>
                  <a:pt x="214963" y="398420"/>
                </a:cubicBezTo>
                <a:cubicBezTo>
                  <a:pt x="228530" y="403639"/>
                  <a:pt x="242006" y="407291"/>
                  <a:pt x="255397" y="409377"/>
                </a:cubicBezTo>
                <a:cubicBezTo>
                  <a:pt x="268788" y="411463"/>
                  <a:pt x="282092" y="412506"/>
                  <a:pt x="295311" y="412506"/>
                </a:cubicBezTo>
                <a:cubicBezTo>
                  <a:pt x="316183" y="412506"/>
                  <a:pt x="337140" y="409810"/>
                  <a:pt x="358183" y="404420"/>
                </a:cubicBezTo>
                <a:cubicBezTo>
                  <a:pt x="379226" y="399029"/>
                  <a:pt x="398965" y="391029"/>
                  <a:pt x="417402" y="380419"/>
                </a:cubicBezTo>
                <a:cubicBezTo>
                  <a:pt x="435836" y="369810"/>
                  <a:pt x="450793" y="355462"/>
                  <a:pt x="462274" y="337376"/>
                </a:cubicBezTo>
                <a:cubicBezTo>
                  <a:pt x="473751" y="319286"/>
                  <a:pt x="479489" y="298938"/>
                  <a:pt x="479489" y="276329"/>
                </a:cubicBezTo>
                <a:cubicBezTo>
                  <a:pt x="479489" y="259285"/>
                  <a:pt x="476012" y="243719"/>
                  <a:pt x="469055" y="229633"/>
                </a:cubicBezTo>
                <a:cubicBezTo>
                  <a:pt x="462098" y="215547"/>
                  <a:pt x="453575" y="203980"/>
                  <a:pt x="443489" y="194937"/>
                </a:cubicBezTo>
                <a:cubicBezTo>
                  <a:pt x="433403" y="185894"/>
                  <a:pt x="423317" y="177632"/>
                  <a:pt x="413227" y="170152"/>
                </a:cubicBezTo>
                <a:cubicBezTo>
                  <a:pt x="403141" y="162675"/>
                  <a:pt x="394617" y="155023"/>
                  <a:pt x="387660" y="147194"/>
                </a:cubicBezTo>
                <a:cubicBezTo>
                  <a:pt x="380707" y="139370"/>
                  <a:pt x="377226" y="131632"/>
                  <a:pt x="377226" y="123980"/>
                </a:cubicBezTo>
                <a:cubicBezTo>
                  <a:pt x="377226" y="116327"/>
                  <a:pt x="379922" y="108932"/>
                  <a:pt x="385312" y="101803"/>
                </a:cubicBezTo>
                <a:cubicBezTo>
                  <a:pt x="390707" y="94675"/>
                  <a:pt x="397226" y="87803"/>
                  <a:pt x="404879" y="81194"/>
                </a:cubicBezTo>
                <a:cubicBezTo>
                  <a:pt x="412531" y="74584"/>
                  <a:pt x="420184" y="67280"/>
                  <a:pt x="427836" y="59280"/>
                </a:cubicBezTo>
                <a:cubicBezTo>
                  <a:pt x="435489" y="51280"/>
                  <a:pt x="442012" y="40932"/>
                  <a:pt x="447403" y="28236"/>
                </a:cubicBezTo>
                <a:lnTo>
                  <a:pt x="452707" y="0"/>
                </a:lnTo>
                <a:lnTo>
                  <a:pt x="801410" y="0"/>
                </a:lnTo>
                <a:lnTo>
                  <a:pt x="801410" y="386939"/>
                </a:lnTo>
                <a:cubicBezTo>
                  <a:pt x="801410" y="428334"/>
                  <a:pt x="786715" y="463725"/>
                  <a:pt x="757324" y="493116"/>
                </a:cubicBezTo>
                <a:cubicBezTo>
                  <a:pt x="742627" y="507813"/>
                  <a:pt x="726430" y="518836"/>
                  <a:pt x="708734" y="526184"/>
                </a:cubicBezTo>
                <a:lnTo>
                  <a:pt x="651152" y="537205"/>
                </a:lnTo>
                <a:lnTo>
                  <a:pt x="150262" y="537205"/>
                </a:lnTo>
                <a:lnTo>
                  <a:pt x="92677" y="526184"/>
                </a:lnTo>
                <a:cubicBezTo>
                  <a:pt x="74981" y="518836"/>
                  <a:pt x="58786" y="507813"/>
                  <a:pt x="44090" y="493116"/>
                </a:cubicBezTo>
                <a:cubicBezTo>
                  <a:pt x="14695" y="463725"/>
                  <a:pt x="0" y="428334"/>
                  <a:pt x="0" y="386939"/>
                </a:cubicBezTo>
                <a:lnTo>
                  <a:pt x="0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4" name="图片 12" descr=""/>
          <p:cNvPicPr/>
          <p:nvPr/>
        </p:nvPicPr>
        <p:blipFill>
          <a:blip r:embed="rId3"/>
          <a:stretch/>
        </p:blipFill>
        <p:spPr>
          <a:xfrm>
            <a:off x="457200" y="1386000"/>
            <a:ext cx="1731960" cy="1298520"/>
          </a:xfrm>
          <a:prstGeom prst="rect">
            <a:avLst/>
          </a:prstGeom>
          <a:ln w="0">
            <a:noFill/>
          </a:ln>
        </p:spPr>
      </p:pic>
      <p:sp>
        <p:nvSpPr>
          <p:cNvPr id="625" name="矩形 13"/>
          <p:cNvSpPr/>
          <p:nvPr/>
        </p:nvSpPr>
        <p:spPr>
          <a:xfrm>
            <a:off x="628560" y="2984400"/>
            <a:ext cx="243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13"/>
          <p:cNvSpPr/>
          <p:nvPr/>
        </p:nvSpPr>
        <p:spPr>
          <a:xfrm>
            <a:off x="628560" y="2801880"/>
            <a:ext cx="206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矩形 15"/>
          <p:cNvSpPr/>
          <p:nvPr/>
        </p:nvSpPr>
        <p:spPr>
          <a:xfrm>
            <a:off x="4632480" y="1533600"/>
            <a:ext cx="405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13"/>
          <p:cNvSpPr/>
          <p:nvPr/>
        </p:nvSpPr>
        <p:spPr>
          <a:xfrm>
            <a:off x="6035760" y="25923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13"/>
          <p:cNvSpPr/>
          <p:nvPr/>
        </p:nvSpPr>
        <p:spPr>
          <a:xfrm>
            <a:off x="6039000" y="275436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13"/>
          <p:cNvSpPr/>
          <p:nvPr/>
        </p:nvSpPr>
        <p:spPr>
          <a:xfrm>
            <a:off x="6035760" y="314640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13"/>
          <p:cNvSpPr/>
          <p:nvPr/>
        </p:nvSpPr>
        <p:spPr>
          <a:xfrm>
            <a:off x="6039000" y="330840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>
            <a:off x="6035760" y="37083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6039000" y="387036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35" name="圆角矩形 6"/>
          <p:cNvSpPr/>
          <p:nvPr/>
        </p:nvSpPr>
        <p:spPr>
          <a:xfrm>
            <a:off x="2882880" y="1932120"/>
            <a:ext cx="3376800" cy="12808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直接连接符 8"/>
          <p:cNvSpPr/>
          <p:nvPr/>
        </p:nvSpPr>
        <p:spPr>
          <a:xfrm>
            <a:off x="36360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直接连接符 12"/>
          <p:cNvSpPr/>
          <p:nvPr/>
        </p:nvSpPr>
        <p:spPr>
          <a:xfrm>
            <a:off x="625968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文本框 15"/>
          <p:cNvSpPr/>
          <p:nvPr/>
        </p:nvSpPr>
        <p:spPr>
          <a:xfrm>
            <a:off x="3444840" y="333360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13"/>
          <p:cNvSpPr/>
          <p:nvPr/>
        </p:nvSpPr>
        <p:spPr>
          <a:xfrm>
            <a:off x="2657520" y="3670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图片 9" descr=""/>
          <p:cNvPicPr/>
          <p:nvPr/>
        </p:nvPicPr>
        <p:blipFill>
          <a:blip r:embed="rId2"/>
          <a:stretch/>
        </p:blipFill>
        <p:spPr>
          <a:xfrm>
            <a:off x="3379680" y="2295360"/>
            <a:ext cx="238464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1T03:11:15Z</dcterms:created>
  <dc:creator>HZJ</dc:creator>
  <dc:description/>
  <cp:keywords/>
  <dc:language>en-US</dc:language>
  <cp:lastModifiedBy>admin</cp:lastModifiedBy>
  <dcterms:modified xsi:type="dcterms:W3CDTF">2017-05-30T10:18:10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