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6A3-18EC-4ACD-A7AD-0C643EE0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0C3-01E2-46B2-A04F-26BE8D83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EFEDE-C6F2-4471-89B2-12B7E604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27895-A48C-4BAE-9241-8268345D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97F88-F948-448F-A922-873F55B2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67F64-C3DC-456C-A2C1-2894950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CCCC4-75FE-4B35-8F97-D9A1AC7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50E6E-CFA3-48AB-B70F-37C4187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91631-AC67-45DE-B13F-DEA74203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C2189-54F7-4AEC-9FCB-35A83EC1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EFE64-B8B8-494A-A35C-BF976234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44933-505E-434F-B3A1-F22A13F0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9F5-B7F0-47E4-8645-9A2FE4FA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464D6-9764-4421-A761-94DD3BB8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6E03A-EE1F-47AD-945A-27130259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93F29-1F16-45E5-89EE-9A09B2F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570BA-8E90-4DF2-8CD4-C421217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871E0-0B96-41BF-82CA-193F553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7275D-7FEC-401D-9E67-157BEABA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027E0-A808-45C9-8F24-6B35EBD5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7006A-C640-4B8B-93B4-4EDC5B4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A0CE6-7933-4A10-97CA-F6625970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21AE4-712B-43FD-BE4F-6FFE1E3D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D09-032A-4FBB-9F1E-5740D364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69631-36BD-4F54-B830-9D2BA643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36ECE-6854-4AA7-8546-6FB1A5A5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670FB-732D-47D2-8A15-FE70BFF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B4559-407C-4506-A9E4-4DABE71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A071-BA8F-4AE7-8516-97E2162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823A7-8AA3-4CE8-A631-B18AE18F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B606-2F26-419C-8C83-0FC38C33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58EB1-4D1D-4DDA-89B6-537C8A9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E3A1-AA95-4A24-98D6-4575E420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FB8D4-3AB4-40CF-A13B-4EC55B1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E7CD-1C11-4ABB-B526-F7B28D16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91B4-1739-4FA6-BF45-E92C28B4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374E9-286B-4643-B314-D262AC07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E737C-49C3-424F-81AE-FCDFC90B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B37E3-6F5B-4756-89C2-ECD385F7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E71C9-3771-483C-AF8D-B90CF10D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2BCF5-A921-4995-9B90-BDF267F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09515-2A6C-4120-B49D-D1E404C3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76193-4D29-4DCD-9CD6-FBBB6E89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8F0D1-812E-44C1-BEB4-52E64C16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27904-9D48-4B67-BAAC-40DEE69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B6AA-C832-42BD-B95D-0FAB1605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A3460-B808-40B0-90CB-14CF4A9F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D4B33-44AA-4023-A4F6-F51FF18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CD03-53FA-48FB-915D-9E4209CD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89158-0441-4F47-91A1-43F191A6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1C6BA-9883-4538-BEAB-CC5DE4CE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85CD-BB18-461D-9D51-74B10381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10A4-A954-4874-8A47-63ECE12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17C9-60DF-4E5B-8DC1-981F1E0B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DC6E-A863-4068-B48F-579D2213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F55B-D832-416E-A36E-5B9D0CAD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6E8-4C4D-4ED8-981B-1B0BA6C4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326B-63B0-435D-9ED5-85E7654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1EE1-BC25-4E8E-9FBB-8475C252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3D2-0681-4E5B-8387-992F52E8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7DC0-2E9C-4C19-AFA4-05E9280F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FCA2-EA0C-4010-A35B-3E75DF6F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715B-EED8-4E5C-886F-0F8BF304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EB77-D297-421D-A6FB-506A29B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F39F-BD62-4C95-88AE-8BD8917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4029-1443-4858-B057-880F1F68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29B9-D637-4C5B-814E-63F0E9FC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6F2-9A28-4B91-8BC9-56783034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80B9-A8BC-43E6-9BC9-F594897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69CD-7F77-412B-A3C4-0C9F5164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99A7-19F9-4DBF-874E-5495D3BE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4B6F-8741-43E9-8197-76DCD25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E1AB-BC09-4274-A090-679548AD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5C5D-0BDA-46C1-A3F8-6C42EC5E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0310-B2D9-4B03-AC76-9B89E025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D8BB3-19B7-4363-B611-8ACD8A67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5260-5A13-43BA-8D0D-98E63DA5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A31E-3565-416F-B5E5-59577CE4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9C9-075B-446D-B7CA-8F163548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6685-3503-4DBB-8E90-E7C9D5DE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68F6-BA32-46B6-8D20-1C243EC8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46AA-8F8C-41B8-9332-2FFDBB8E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43F5-712C-49C5-AFA3-A7F3497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4557-AB0E-4063-8117-6E5276B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AF0E-0D50-4354-B05A-B90F27DB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8572-F2E3-4CED-A615-4A556920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CCF7-E04B-4C81-9C61-EBB3281B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EDC7-A9A1-46D4-A2BD-3CC45FDA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4615-FCDB-4AE8-8C5B-2797F12C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112-45EE-4806-87EF-C804B41F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9866-A0D8-4350-B4C8-F6B2F76D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27BE-9E13-4BA3-BAC2-F5BB187F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3723-46A4-46A4-9785-2B9EE9F7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118F-B849-4ECE-8A83-71048AD8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4B5D-9BF0-4ED7-B817-A103BAF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D5A4-4CD4-4C83-9E19-BFE497F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E66A-66E6-448F-99DB-DE3CA4F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2C91-4E9F-4237-AAF7-235ABBA8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3F2F-0397-497F-9EF9-DC382D8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CA2D-3586-4CEB-9018-CE96D91A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2ED-D112-416D-A852-E7B36998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E1622-00E0-43FD-A098-E56C00DE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5F2A-7827-44FD-9C6B-DF528AE7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2B19D-960D-4AE2-B436-81B35089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C8D6-3032-4A8D-8399-E3DDE7E7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A391-A3E8-4536-8D89-B4B5F268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575DC-81E3-44CF-A737-AE1A6F4D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B857-773D-44B9-B1CE-E1B9DB19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DBEB-1041-4B34-B1A4-4968F6B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FF9B8-62B3-479C-8277-34936F2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6B468-772B-4D7C-9264-CC53293E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A41-A694-4CF0-8C09-B7D79A8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FC27B-7150-4ECE-876C-A073AF1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CFE99-7199-489E-A64D-5D6DBCA2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C822-F449-439E-9D47-2F62A8AD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9CD2-0457-4D61-AEF1-3E9E71FC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769B-BB95-4264-8E1B-CAE0854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B8C3-131A-4393-8CDE-343443C8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59B6-230C-4D19-A89C-73ED010D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D106-4F92-49B8-8C24-C0143DE7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6163D-9113-4FBD-8F01-4FF2D9AA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50FDA-A673-44D4-8EE2-C69737AF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D4D-CD8F-432D-B497-EC1933F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AD24-C5C5-412C-A430-4882948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66295-3115-411A-A531-88E1B9F1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389DC-FC72-44B7-A048-B4FB5B92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EFB66-29B6-4121-A9E0-6F4EC1E8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2C2A-D751-4CE6-9B1D-1E5B2695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BC8FC-3EA3-4D51-9DB8-73FB1100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C562C-2AD8-464A-A850-5D27BDBD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78CC5-FBE1-40FD-91B0-5AA46C0C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2AF60-FA5E-430B-8EBC-01AD9624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C4135-B5AD-4DB9-AD48-9D10668C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309-5BDF-42CD-964F-85CB9A7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DDAF8-199D-4883-BD6F-3522629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A2FF5-F0DD-4B01-8F79-7448C30B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6DABC-3089-4FAE-9756-AEF66F29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54EB-7CD1-4BD5-88AE-FD6E01B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2660F-0943-4E5B-BF6F-716448D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4EB2B-05FC-456F-BBE9-6F7BB5E9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8A59-18DA-4C3B-85F4-96038D7A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669D7-2616-4249-B197-0451E3F4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1533D-EAC3-4EE5-9640-C6AE64A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6CE70-3F6A-4F10-AD0C-7AEDC44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DED2-32AC-4955-994C-8995005B34B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2947-73F9-4445-AD6F-851B4D3D11F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FED9-69EE-491B-9021-02F3E0BA231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B546-E2CD-4DB0-876A-4F00AC6DE6C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825-E811-43FC-B839-784DE6490BF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F0D0-638C-44DF-88D4-12FE330A77C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9684-7FEA-4B2F-913C-E0AB754736A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AA4A-31EE-48C0-B3C9-E481870D401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0F0-CE4C-4A20-8F9F-214075B9FE9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ACA1-C021-4AC9-8D92-3FF35A22B33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8844-1572-4004-9DB3-9397E4D35F5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463-BF81-40E4-8207-0AEFD3B2DCB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3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1986120" y="33498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3239640" y="119232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88"/>
          <p:cNvSpPr/>
          <p:nvPr/>
        </p:nvSpPr>
        <p:spPr>
          <a:xfrm>
            <a:off x="5388120" y="2163600"/>
            <a:ext cx="107640" cy="1890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2"/>
          <p:cNvSpPr/>
          <p:nvPr/>
        </p:nvSpPr>
        <p:spPr>
          <a:xfrm>
            <a:off x="2104920" y="2127240"/>
            <a:ext cx="1432080" cy="10731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37"/>
          <p:cNvSpPr/>
          <p:nvPr/>
        </p:nvSpPr>
        <p:spPr>
          <a:xfrm>
            <a:off x="3656160" y="1863720"/>
            <a:ext cx="895320" cy="6732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38"/>
          <p:cNvSpPr/>
          <p:nvPr/>
        </p:nvSpPr>
        <p:spPr>
          <a:xfrm>
            <a:off x="1092240" y="1863720"/>
            <a:ext cx="895320" cy="67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39"/>
          <p:cNvSpPr/>
          <p:nvPr/>
        </p:nvSpPr>
        <p:spPr>
          <a:xfrm>
            <a:off x="3656160" y="2884320"/>
            <a:ext cx="895320" cy="67176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1092240" y="2886120"/>
            <a:ext cx="895320" cy="67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traight Connector 5"/>
          <p:cNvSpPr/>
          <p:nvPr/>
        </p:nvSpPr>
        <p:spPr>
          <a:xfrm>
            <a:off x="1944720" y="2360520"/>
            <a:ext cx="21744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4"/>
          <p:cNvSpPr/>
          <p:nvPr/>
        </p:nvSpPr>
        <p:spPr>
          <a:xfrm flipV="1">
            <a:off x="1969920" y="2945880"/>
            <a:ext cx="25272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46"/>
          <p:cNvSpPr/>
          <p:nvPr/>
        </p:nvSpPr>
        <p:spPr>
          <a:xfrm flipV="1">
            <a:off x="3481560" y="2360520"/>
            <a:ext cx="23328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traight Connector 48"/>
          <p:cNvSpPr/>
          <p:nvPr/>
        </p:nvSpPr>
        <p:spPr>
          <a:xfrm>
            <a:off x="3427560" y="2946240"/>
            <a:ext cx="27936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12" descr=""/>
          <p:cNvPicPr/>
          <p:nvPr/>
        </p:nvPicPr>
        <p:blipFill>
          <a:blip r:embed="rId2"/>
          <a:stretch/>
        </p:blipFill>
        <p:spPr>
          <a:xfrm>
            <a:off x="2505240" y="2398680"/>
            <a:ext cx="618840" cy="517680"/>
          </a:xfrm>
          <a:prstGeom prst="rect">
            <a:avLst/>
          </a:prstGeom>
          <a:ln w="0">
            <a:noFill/>
          </a:ln>
        </p:spPr>
      </p:pic>
      <p:pic>
        <p:nvPicPr>
          <p:cNvPr id="654" name="组合 14" descr=""/>
          <p:cNvPicPr/>
          <p:nvPr/>
        </p:nvPicPr>
        <p:blipFill>
          <a:blip r:embed="rId3"/>
          <a:stretch/>
        </p:blipFill>
        <p:spPr>
          <a:xfrm>
            <a:off x="3932280" y="3086280"/>
            <a:ext cx="341280" cy="264960"/>
          </a:xfrm>
          <a:prstGeom prst="rect">
            <a:avLst/>
          </a:prstGeom>
          <a:ln w="0">
            <a:noFill/>
          </a:ln>
        </p:spPr>
      </p:pic>
      <p:pic>
        <p:nvPicPr>
          <p:cNvPr id="655" name="组合 18" descr=""/>
          <p:cNvPicPr/>
          <p:nvPr/>
        </p:nvPicPr>
        <p:blipFill>
          <a:blip r:embed="rId4"/>
          <a:stretch/>
        </p:blipFill>
        <p:spPr>
          <a:xfrm>
            <a:off x="3919680" y="2075040"/>
            <a:ext cx="334800" cy="25236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24"/>
          <p:cNvGrpSpPr/>
          <p:nvPr/>
        </p:nvGrpSpPr>
        <p:grpSpPr>
          <a:xfrm>
            <a:off x="1395360" y="3135240"/>
            <a:ext cx="271440" cy="206280"/>
            <a:chOff x="1395360" y="3135240"/>
            <a:chExt cx="271440" cy="206280"/>
          </a:xfrm>
        </p:grpSpPr>
        <p:sp>
          <p:nvSpPr>
            <p:cNvPr id="657" name="Oval 69"/>
            <p:cNvSpPr/>
            <p:nvPr/>
          </p:nvSpPr>
          <p:spPr>
            <a:xfrm>
              <a:off x="1395360" y="3135240"/>
              <a:ext cx="271440" cy="20628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0"/>
            <p:cNvSpPr/>
            <p:nvPr/>
          </p:nvSpPr>
          <p:spPr>
            <a:xfrm>
              <a:off x="1454400" y="3197520"/>
              <a:ext cx="128880" cy="986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Freeform 94"/>
          <p:cNvSpPr/>
          <p:nvPr/>
        </p:nvSpPr>
        <p:spPr>
          <a:xfrm>
            <a:off x="1395360" y="2075040"/>
            <a:ext cx="336600" cy="2617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5388120" y="2484360"/>
            <a:ext cx="107640" cy="1904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8"/>
          <p:cNvSpPr/>
          <p:nvPr/>
        </p:nvSpPr>
        <p:spPr>
          <a:xfrm>
            <a:off x="5388120" y="2819520"/>
            <a:ext cx="107640" cy="188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8"/>
          <p:cNvSpPr/>
          <p:nvPr/>
        </p:nvSpPr>
        <p:spPr>
          <a:xfrm>
            <a:off x="5388120" y="3156120"/>
            <a:ext cx="107640" cy="1886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5545080" y="21924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5545080" y="251136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5545080" y="28576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5545080" y="317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8388000" cy="271152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4"/>
          <p:cNvSpPr/>
          <p:nvPr/>
        </p:nvSpPr>
        <p:spPr>
          <a:xfrm>
            <a:off x="2444760" y="3494160"/>
            <a:ext cx="16524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933560" y="3686040"/>
            <a:ext cx="1235160" cy="382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6"/>
          <p:cNvSpPr/>
          <p:nvPr/>
        </p:nvSpPr>
        <p:spPr>
          <a:xfrm flipH="1">
            <a:off x="2141640" y="397656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7"/>
          <p:cNvSpPr/>
          <p:nvPr/>
        </p:nvSpPr>
        <p:spPr>
          <a:xfrm>
            <a:off x="623880" y="1674720"/>
            <a:ext cx="3862440" cy="20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8"/>
          <p:cNvSpPr/>
          <p:nvPr/>
        </p:nvSpPr>
        <p:spPr>
          <a:xfrm flipH="1">
            <a:off x="623880" y="341640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9"/>
          <p:cNvSpPr/>
          <p:nvPr/>
        </p:nvSpPr>
        <p:spPr>
          <a:xfrm>
            <a:off x="774720" y="1795320"/>
            <a:ext cx="3560760" cy="14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4581360" y="1611360"/>
            <a:ext cx="3967200" cy="2125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1" descr=""/>
          <p:cNvPicPr/>
          <p:nvPr/>
        </p:nvPicPr>
        <p:blipFill>
          <a:blip r:embed="rId3"/>
          <a:srcRect l="0" t="14215" r="0" b="6084"/>
          <a:stretch/>
        </p:blipFill>
        <p:spPr>
          <a:xfrm>
            <a:off x="760320" y="1797120"/>
            <a:ext cx="3575160" cy="1515960"/>
          </a:xfrm>
          <a:prstGeom prst="rect">
            <a:avLst/>
          </a:prstGeom>
          <a:ln w="0">
            <a:noFill/>
          </a:ln>
        </p:spPr>
      </p:pic>
      <p:sp>
        <p:nvSpPr>
          <p:cNvPr id="678" name="Line 18"/>
          <p:cNvSpPr/>
          <p:nvPr/>
        </p:nvSpPr>
        <p:spPr>
          <a:xfrm>
            <a:off x="4862520" y="198900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13"/>
          <p:cNvSpPr/>
          <p:nvPr/>
        </p:nvSpPr>
        <p:spPr>
          <a:xfrm>
            <a:off x="4862520" y="208764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3"/>
          <p:cNvSpPr/>
          <p:nvPr/>
        </p:nvSpPr>
        <p:spPr>
          <a:xfrm>
            <a:off x="4862520" y="17953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5"/>
          <p:cNvSpPr/>
          <p:nvPr/>
        </p:nvSpPr>
        <p:spPr>
          <a:xfrm>
            <a:off x="4849920" y="296244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utoShape 3"/>
          <p:cNvSpPr/>
          <p:nvPr/>
        </p:nvSpPr>
        <p:spPr>
          <a:xfrm>
            <a:off x="1519200" y="3360600"/>
            <a:ext cx="601560" cy="4525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4813200" y="2770200"/>
            <a:ext cx="60192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160800" y="306864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6"/>
          <p:cNvSpPr/>
          <p:nvPr/>
        </p:nvSpPr>
        <p:spPr>
          <a:xfrm>
            <a:off x="6435720" y="247032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1165320" y="31273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2832120" y="28447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4498920" y="2560680"/>
            <a:ext cx="167184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6161040" y="2278080"/>
            <a:ext cx="16732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6627960" y="2612880"/>
            <a:ext cx="242640" cy="162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27"/>
          <p:cNvSpPr/>
          <p:nvPr/>
        </p:nvSpPr>
        <p:spPr>
          <a:xfrm>
            <a:off x="1662120" y="3478320"/>
            <a:ext cx="304920" cy="22680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29"/>
          <p:cNvSpPr/>
          <p:nvPr/>
        </p:nvSpPr>
        <p:spPr>
          <a:xfrm>
            <a:off x="3363840" y="3187800"/>
            <a:ext cx="20160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30"/>
          <p:cNvSpPr/>
          <p:nvPr/>
        </p:nvSpPr>
        <p:spPr>
          <a:xfrm>
            <a:off x="3319560" y="3154320"/>
            <a:ext cx="290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31"/>
          <p:cNvSpPr/>
          <p:nvPr/>
        </p:nvSpPr>
        <p:spPr>
          <a:xfrm>
            <a:off x="3424320" y="3241800"/>
            <a:ext cx="8892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3"/>
          <p:cNvSpPr/>
          <p:nvPr/>
        </p:nvSpPr>
        <p:spPr>
          <a:xfrm>
            <a:off x="5110200" y="2898720"/>
            <a:ext cx="46080" cy="185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34"/>
          <p:cNvSpPr/>
          <p:nvPr/>
        </p:nvSpPr>
        <p:spPr>
          <a:xfrm>
            <a:off x="5038560" y="2935440"/>
            <a:ext cx="44640" cy="1490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35"/>
          <p:cNvSpPr/>
          <p:nvPr/>
        </p:nvSpPr>
        <p:spPr>
          <a:xfrm>
            <a:off x="4962600" y="2965320"/>
            <a:ext cx="46080" cy="1191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36"/>
          <p:cNvSpPr/>
          <p:nvPr/>
        </p:nvSpPr>
        <p:spPr>
          <a:xfrm>
            <a:off x="5183280" y="2852640"/>
            <a:ext cx="46080" cy="2318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1158840" y="256068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1162080" y="27417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2836800" y="2217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2840040" y="23986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503600" y="19350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506840" y="21160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6161040" y="162252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6164280" y="180324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2" descr=""/>
          <p:cNvPicPr/>
          <p:nvPr/>
        </p:nvPicPr>
        <p:blipFill>
          <a:blip r:embed="rId1"/>
          <a:stretch/>
        </p:blipFill>
        <p:spPr>
          <a:xfrm>
            <a:off x="3902040" y="1733400"/>
            <a:ext cx="4773600" cy="238788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24"/>
          <p:cNvSpPr/>
          <p:nvPr/>
        </p:nvSpPr>
        <p:spPr>
          <a:xfrm>
            <a:off x="8729640" y="914400"/>
            <a:ext cx="380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8F6947D0-0D89-4836-870A-E150404B2C04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649440" y="372744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23" descr=""/>
          <p:cNvPicPr/>
          <p:nvPr/>
        </p:nvPicPr>
        <p:blipFill>
          <a:blip r:embed="rId3"/>
          <a:stretch/>
        </p:blipFill>
        <p:spPr>
          <a:xfrm>
            <a:off x="785880" y="3840120"/>
            <a:ext cx="293760" cy="182520"/>
          </a:xfrm>
          <a:prstGeom prst="rect">
            <a:avLst/>
          </a:prstGeom>
          <a:ln w="0">
            <a:noFill/>
          </a:ln>
        </p:spPr>
      </p:pic>
      <p:sp>
        <p:nvSpPr>
          <p:cNvPr id="715" name="Oval 16"/>
          <p:cNvSpPr/>
          <p:nvPr/>
        </p:nvSpPr>
        <p:spPr>
          <a:xfrm>
            <a:off x="649440" y="3133800"/>
            <a:ext cx="533160" cy="40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Group 34" descr=""/>
          <p:cNvPicPr/>
          <p:nvPr/>
        </p:nvPicPr>
        <p:blipFill>
          <a:blip r:embed="rId4"/>
          <a:stretch/>
        </p:blipFill>
        <p:spPr>
          <a:xfrm>
            <a:off x="781200" y="3222720"/>
            <a:ext cx="279360" cy="210960"/>
          </a:xfrm>
          <a:prstGeom prst="rect">
            <a:avLst/>
          </a:prstGeom>
          <a:ln w="0">
            <a:noFill/>
          </a:ln>
        </p:spPr>
      </p:pic>
      <p:sp>
        <p:nvSpPr>
          <p:cNvPr id="717" name="Oval 10"/>
          <p:cNvSpPr/>
          <p:nvPr/>
        </p:nvSpPr>
        <p:spPr>
          <a:xfrm>
            <a:off x="649440" y="253836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82" descr=""/>
          <p:cNvPicPr/>
          <p:nvPr/>
        </p:nvPicPr>
        <p:blipFill>
          <a:blip r:embed="rId5"/>
          <a:stretch/>
        </p:blipFill>
        <p:spPr>
          <a:xfrm>
            <a:off x="792000" y="2629080"/>
            <a:ext cx="262080" cy="21420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1309680" y="25621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1312920" y="27226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1309680" y="31417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1312920" y="3303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1309680" y="3747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1312920" y="39085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26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图片 9" descr=""/>
          <p:cNvPicPr/>
          <p:nvPr/>
        </p:nvPicPr>
        <p:blipFill>
          <a:blip r:embed="rId2"/>
          <a:stretch/>
        </p:blipFill>
        <p:spPr>
          <a:xfrm>
            <a:off x="3371760" y="2290680"/>
            <a:ext cx="2395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5"/>
          <p:cNvSpPr/>
          <p:nvPr/>
        </p:nvSpPr>
        <p:spPr>
          <a:xfrm>
            <a:off x="1092240" y="2436840"/>
            <a:ext cx="1463760" cy="110016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871640" y="1855800"/>
            <a:ext cx="1463760" cy="95724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7"/>
          <p:cNvSpPr/>
          <p:nvPr/>
        </p:nvSpPr>
        <p:spPr>
          <a:xfrm>
            <a:off x="2647800" y="2436840"/>
            <a:ext cx="1465560" cy="110016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5"/>
          <p:cNvSpPr/>
          <p:nvPr/>
        </p:nvSpPr>
        <p:spPr>
          <a:xfrm>
            <a:off x="2356920" y="2217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76"/>
          <p:cNvSpPr/>
          <p:nvPr/>
        </p:nvSpPr>
        <p:spPr>
          <a:xfrm>
            <a:off x="1558440" y="281160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77"/>
          <p:cNvSpPr/>
          <p:nvPr/>
        </p:nvSpPr>
        <p:spPr>
          <a:xfrm>
            <a:off x="3104640" y="2811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4789440" y="1735200"/>
            <a:ext cx="0" cy="19238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5248440" y="159696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12"/>
          <p:cNvSpPr/>
          <p:nvPr/>
        </p:nvSpPr>
        <p:spPr>
          <a:xfrm>
            <a:off x="5248440" y="232092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AutoShape 15"/>
          <p:cNvSpPr/>
          <p:nvPr/>
        </p:nvSpPr>
        <p:spPr>
          <a:xfrm>
            <a:off x="5248440" y="3063960"/>
            <a:ext cx="761760" cy="7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5776920" y="17636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5776920" y="195120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5776920" y="24955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5776920" y="26812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5776920" y="32497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5776920" y="34354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8" descr=""/>
          <p:cNvPicPr/>
          <p:nvPr/>
        </p:nvPicPr>
        <p:blipFill>
          <a:blip r:embed="rId1"/>
          <a:stretch/>
        </p:blipFill>
        <p:spPr>
          <a:xfrm>
            <a:off x="3932280" y="1511280"/>
            <a:ext cx="4340160" cy="24004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2"/>
          <p:cNvSpPr/>
          <p:nvPr/>
        </p:nvSpPr>
        <p:spPr>
          <a:xfrm>
            <a:off x="453960" y="1909800"/>
            <a:ext cx="4354560" cy="84276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5"/>
          <p:cNvSpPr/>
          <p:nvPr/>
        </p:nvSpPr>
        <p:spPr>
          <a:xfrm>
            <a:off x="730080" y="20955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777960" y="31212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777960" y="29401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3"/>
          <p:cNvSpPr/>
          <p:nvPr/>
        </p:nvSpPr>
        <p:spPr>
          <a:xfrm>
            <a:off x="1144440" y="1755720"/>
            <a:ext cx="2106720" cy="200520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2077920" y="2055960"/>
            <a:ext cx="2653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1987560" y="2246400"/>
            <a:ext cx="4492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3660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4"/>
          <p:cNvSpPr/>
          <p:nvPr/>
        </p:nvSpPr>
        <p:spPr>
          <a:xfrm>
            <a:off x="3508200" y="1727280"/>
            <a:ext cx="2106720" cy="200484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AutoShape 8"/>
          <p:cNvSpPr/>
          <p:nvPr/>
        </p:nvSpPr>
        <p:spPr>
          <a:xfrm>
            <a:off x="4103640" y="206388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4013280" y="2255760"/>
            <a:ext cx="44748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AutoShape 10"/>
          <p:cNvSpPr/>
          <p:nvPr/>
        </p:nvSpPr>
        <p:spPr>
          <a:xfrm>
            <a:off x="4789440" y="2066760"/>
            <a:ext cx="265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4699080" y="2259000"/>
            <a:ext cx="4474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4441680" y="209556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AutoShape 13"/>
          <p:cNvSpPr/>
          <p:nvPr/>
        </p:nvSpPr>
        <p:spPr>
          <a:xfrm>
            <a:off x="4351320" y="2287440"/>
            <a:ext cx="44784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ine 37"/>
          <p:cNvSpPr/>
          <p:nvPr/>
        </p:nvSpPr>
        <p:spPr>
          <a:xfrm>
            <a:off x="359892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872320" y="1727280"/>
            <a:ext cx="2104920" cy="20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32"/>
          <p:cNvGrpSpPr/>
          <p:nvPr/>
        </p:nvGrpSpPr>
        <p:grpSpPr>
          <a:xfrm>
            <a:off x="6176880" y="1932120"/>
            <a:ext cx="1495440" cy="623520"/>
            <a:chOff x="6176880" y="1932120"/>
            <a:chExt cx="1495440" cy="623520"/>
          </a:xfrm>
        </p:grpSpPr>
        <p:sp>
          <p:nvSpPr>
            <p:cNvPr id="773" name="AutoShape 14"/>
            <p:cNvSpPr/>
            <p:nvPr/>
          </p:nvSpPr>
          <p:spPr>
            <a:xfrm>
              <a:off x="6235200" y="227016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15"/>
            <p:cNvSpPr/>
            <p:nvPr/>
          </p:nvSpPr>
          <p:spPr>
            <a:xfrm>
              <a:off x="6176880" y="2395080"/>
              <a:ext cx="29088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utoShape 16"/>
            <p:cNvSpPr/>
            <p:nvPr/>
          </p:nvSpPr>
          <p:spPr>
            <a:xfrm>
              <a:off x="668160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AutoShape 17"/>
            <p:cNvSpPr/>
            <p:nvPr/>
          </p:nvSpPr>
          <p:spPr>
            <a:xfrm>
              <a:off x="662328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18"/>
            <p:cNvSpPr/>
            <p:nvPr/>
          </p:nvSpPr>
          <p:spPr>
            <a:xfrm>
              <a:off x="645552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utoShape 19"/>
            <p:cNvSpPr/>
            <p:nvPr/>
          </p:nvSpPr>
          <p:spPr>
            <a:xfrm>
              <a:off x="6396480" y="241596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AutoShape 20"/>
            <p:cNvSpPr/>
            <p:nvPr/>
          </p:nvSpPr>
          <p:spPr>
            <a:xfrm>
              <a:off x="6992280" y="22705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21"/>
            <p:cNvSpPr/>
            <p:nvPr/>
          </p:nvSpPr>
          <p:spPr>
            <a:xfrm>
              <a:off x="6933960" y="239508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22"/>
            <p:cNvSpPr/>
            <p:nvPr/>
          </p:nvSpPr>
          <p:spPr>
            <a:xfrm>
              <a:off x="743904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23"/>
            <p:cNvSpPr/>
            <p:nvPr/>
          </p:nvSpPr>
          <p:spPr>
            <a:xfrm>
              <a:off x="738072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24"/>
            <p:cNvSpPr/>
            <p:nvPr/>
          </p:nvSpPr>
          <p:spPr>
            <a:xfrm>
              <a:off x="721260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25"/>
            <p:cNvSpPr/>
            <p:nvPr/>
          </p:nvSpPr>
          <p:spPr>
            <a:xfrm>
              <a:off x="7153560" y="241596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26"/>
            <p:cNvSpPr/>
            <p:nvPr/>
          </p:nvSpPr>
          <p:spPr>
            <a:xfrm>
              <a:off x="6616080" y="19321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27"/>
            <p:cNvSpPr/>
            <p:nvPr/>
          </p:nvSpPr>
          <p:spPr>
            <a:xfrm>
              <a:off x="6557760" y="205632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28"/>
            <p:cNvSpPr/>
            <p:nvPr/>
          </p:nvSpPr>
          <p:spPr>
            <a:xfrm>
              <a:off x="7062840" y="193428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29"/>
            <p:cNvSpPr/>
            <p:nvPr/>
          </p:nvSpPr>
          <p:spPr>
            <a:xfrm>
              <a:off x="7004520" y="205848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30"/>
            <p:cNvSpPr/>
            <p:nvPr/>
          </p:nvSpPr>
          <p:spPr>
            <a:xfrm>
              <a:off x="6836400" y="19526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31"/>
            <p:cNvSpPr/>
            <p:nvPr/>
          </p:nvSpPr>
          <p:spPr>
            <a:xfrm>
              <a:off x="6777360" y="207720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Line 38"/>
          <p:cNvSpPr/>
          <p:nvPr/>
        </p:nvSpPr>
        <p:spPr>
          <a:xfrm>
            <a:off x="596268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1336680" y="2973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33812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3681360" y="2973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368460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6037200" y="2973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3"/>
          <p:cNvSpPr/>
          <p:nvPr/>
        </p:nvSpPr>
        <p:spPr>
          <a:xfrm>
            <a:off x="6040440" y="31370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7" descr=""/>
          <p:cNvPicPr/>
          <p:nvPr/>
        </p:nvPicPr>
        <p:blipFill>
          <a:blip r:embed="rId1"/>
          <a:stretch/>
        </p:blipFill>
        <p:spPr>
          <a:xfrm>
            <a:off x="-1440" y="1763640"/>
            <a:ext cx="5675040" cy="194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矩形 4"/>
          <p:cNvSpPr/>
          <p:nvPr/>
        </p:nvSpPr>
        <p:spPr>
          <a:xfrm>
            <a:off x="6031080" y="1770120"/>
            <a:ext cx="3112920" cy="19368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矩形 5"/>
          <p:cNvSpPr/>
          <p:nvPr/>
        </p:nvSpPr>
        <p:spPr>
          <a:xfrm>
            <a:off x="6216480" y="232236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782640" y="2054160"/>
            <a:ext cx="7675560" cy="190188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428840" y="1662120"/>
            <a:ext cx="1339920" cy="10047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3100320" y="1662120"/>
            <a:ext cx="1339920" cy="10047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4759200" y="1663560"/>
            <a:ext cx="1338480" cy="10051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6467400" y="1663560"/>
            <a:ext cx="1316160" cy="10051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32"/>
          <p:cNvSpPr/>
          <p:nvPr/>
        </p:nvSpPr>
        <p:spPr>
          <a:xfrm>
            <a:off x="3649680" y="2013120"/>
            <a:ext cx="239760" cy="2505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220"/>
          <p:cNvSpPr/>
          <p:nvPr/>
        </p:nvSpPr>
        <p:spPr>
          <a:xfrm>
            <a:off x="1925640" y="2013120"/>
            <a:ext cx="420840" cy="23652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组合 10" descr=""/>
          <p:cNvPicPr/>
          <p:nvPr/>
        </p:nvPicPr>
        <p:blipFill>
          <a:blip r:embed="rId2"/>
          <a:stretch/>
        </p:blipFill>
        <p:spPr>
          <a:xfrm>
            <a:off x="5254560" y="200808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813" name="Freeform 289"/>
          <p:cNvSpPr/>
          <p:nvPr/>
        </p:nvSpPr>
        <p:spPr>
          <a:xfrm>
            <a:off x="6975360" y="2046240"/>
            <a:ext cx="328680" cy="24912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144000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3"/>
          <p:cNvSpPr/>
          <p:nvPr/>
        </p:nvSpPr>
        <p:spPr>
          <a:xfrm>
            <a:off x="142884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3"/>
          <p:cNvSpPr/>
          <p:nvPr/>
        </p:nvSpPr>
        <p:spPr>
          <a:xfrm>
            <a:off x="316404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13"/>
          <p:cNvSpPr/>
          <p:nvPr/>
        </p:nvSpPr>
        <p:spPr>
          <a:xfrm>
            <a:off x="315288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4772160" y="2857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3"/>
          <p:cNvSpPr/>
          <p:nvPr/>
        </p:nvSpPr>
        <p:spPr>
          <a:xfrm>
            <a:off x="47610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645336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64422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手动输入 4"/>
          <p:cNvSpPr/>
          <p:nvPr/>
        </p:nvSpPr>
        <p:spPr>
          <a:xfrm rot="5400000">
            <a:off x="-862200" y="863280"/>
            <a:ext cx="5143680" cy="341640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514368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10"/>
          <p:cNvSpPr/>
          <p:nvPr/>
        </p:nvSpPr>
        <p:spPr>
          <a:xfrm>
            <a:off x="436680" y="19098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11"/>
          <p:cNvSpPr/>
          <p:nvPr/>
        </p:nvSpPr>
        <p:spPr>
          <a:xfrm>
            <a:off x="324000" y="25448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6222960" y="17366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5719680" y="16905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0"/>
          <p:cNvSpPr/>
          <p:nvPr/>
        </p:nvSpPr>
        <p:spPr>
          <a:xfrm>
            <a:off x="6222960" y="233676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1"/>
          <p:cNvSpPr/>
          <p:nvPr/>
        </p:nvSpPr>
        <p:spPr>
          <a:xfrm>
            <a:off x="5719680" y="22892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2"/>
          <p:cNvSpPr/>
          <p:nvPr/>
        </p:nvSpPr>
        <p:spPr>
          <a:xfrm>
            <a:off x="6222960" y="29844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3"/>
          <p:cNvSpPr/>
          <p:nvPr/>
        </p:nvSpPr>
        <p:spPr>
          <a:xfrm>
            <a:off x="5719680" y="2938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4"/>
          <p:cNvSpPr/>
          <p:nvPr/>
        </p:nvSpPr>
        <p:spPr>
          <a:xfrm>
            <a:off x="6222960" y="35845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5"/>
          <p:cNvSpPr/>
          <p:nvPr/>
        </p:nvSpPr>
        <p:spPr>
          <a:xfrm>
            <a:off x="5719680" y="35384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3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图片 9" descr=""/>
          <p:cNvPicPr/>
          <p:nvPr/>
        </p:nvPicPr>
        <p:blipFill>
          <a:blip r:embed="rId2"/>
          <a:stretch/>
        </p:blipFill>
        <p:spPr>
          <a:xfrm>
            <a:off x="3373560" y="2301840"/>
            <a:ext cx="23968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5"/>
          <p:cNvSpPr/>
          <p:nvPr/>
        </p:nvSpPr>
        <p:spPr>
          <a:xfrm flipH="1">
            <a:off x="4560840" y="1689120"/>
            <a:ext cx="23760" cy="28256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"/>
          <p:cNvSpPr/>
          <p:nvPr/>
        </p:nvSpPr>
        <p:spPr>
          <a:xfrm>
            <a:off x="2043000" y="3011400"/>
            <a:ext cx="2833920" cy="45576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4471920" y="3117960"/>
            <a:ext cx="246240" cy="22680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2043000" y="1650960"/>
            <a:ext cx="283392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7"/>
          <p:cNvSpPr/>
          <p:nvPr/>
        </p:nvSpPr>
        <p:spPr>
          <a:xfrm>
            <a:off x="4435560" y="1770120"/>
            <a:ext cx="276120" cy="1760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"/>
          <p:cNvSpPr/>
          <p:nvPr/>
        </p:nvSpPr>
        <p:spPr>
          <a:xfrm rot="10800000">
            <a:off x="4267080" y="3690720"/>
            <a:ext cx="2835360" cy="4554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4421160" y="3817800"/>
            <a:ext cx="304920" cy="2034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"/>
          <p:cNvSpPr/>
          <p:nvPr/>
        </p:nvSpPr>
        <p:spPr>
          <a:xfrm rot="10800000">
            <a:off x="4286160" y="2332080"/>
            <a:ext cx="283536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01"/>
          <p:cNvSpPr/>
          <p:nvPr/>
        </p:nvSpPr>
        <p:spPr>
          <a:xfrm>
            <a:off x="4421160" y="2465280"/>
            <a:ext cx="343080" cy="1987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14520" y="1770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17400" y="19303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614520" y="3117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617400" y="32796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7283520" y="24336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7286760" y="259380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7283520" y="38178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7286760" y="39783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Bent Arrow 5@|1FFC:0|FBC:0|LFC:9868950|LBC:16777215"/>
          <p:cNvSpPr/>
          <p:nvPr/>
        </p:nvSpPr>
        <p:spPr>
          <a:xfrm rot="2700000">
            <a:off x="3586680" y="1494360"/>
            <a:ext cx="1681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6@|1FFC:0|FBC:0|LFC:9868950|LBC:16777215"/>
          <p:cNvSpPr/>
          <p:nvPr/>
        </p:nvSpPr>
        <p:spPr>
          <a:xfrm flipV="1" rot="2700000">
            <a:off x="3246120" y="233316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Bent Arrow 8@|1FFC:0|FBC:0|LFC:9868950|LBC:16777215"/>
          <p:cNvSpPr/>
          <p:nvPr/>
        </p:nvSpPr>
        <p:spPr>
          <a:xfrm rot="18900000">
            <a:off x="3036960" y="336816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9@|1FFC:0|FBC:0|LFC:9868950|LBC:16777215"/>
          <p:cNvSpPr/>
          <p:nvPr/>
        </p:nvSpPr>
        <p:spPr>
          <a:xfrm flipV="1" rot="18900000">
            <a:off x="3983040" y="3750480"/>
            <a:ext cx="225360" cy="223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1880" bIns="-11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Bent Arrow 11@|1FFC:0|FBC:0|LFC:9868950|LBC:16777215"/>
          <p:cNvSpPr/>
          <p:nvPr/>
        </p:nvSpPr>
        <p:spPr>
          <a:xfrm flipH="1" flipV="1" rot="18900000">
            <a:off x="4826160" y="202680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12@|1FFC:0|FBC:0|LFC:9868950|LBC:16777215"/>
          <p:cNvSpPr/>
          <p:nvPr/>
        </p:nvSpPr>
        <p:spPr>
          <a:xfrm flipH="1" rot="18900000">
            <a:off x="4893120" y="1785960"/>
            <a:ext cx="223920" cy="237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0440" bIns="-104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Bent Arrow 14@|1FFC:0|FBC:0|LFC:9868950|LBC:16777215"/>
          <p:cNvSpPr/>
          <p:nvPr/>
        </p:nvSpPr>
        <p:spPr>
          <a:xfrm flipH="1" flipV="1" rot="2700000">
            <a:off x="5383440" y="2844000"/>
            <a:ext cx="168480" cy="12380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Rectangle 15@|1FFC:0|FBC:0|LFC:9868950|LBC:16777215"/>
          <p:cNvSpPr/>
          <p:nvPr/>
        </p:nvSpPr>
        <p:spPr>
          <a:xfrm flipH="1" rot="2700000">
            <a:off x="5874840" y="302220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Rounded Rectangle 20@|1FFC:2381804|FBC:16777215|LFC:16777215|LBC:16777215"/>
          <p:cNvSpPr/>
          <p:nvPr/>
        </p:nvSpPr>
        <p:spPr>
          <a:xfrm flipV="1" rot="18900000">
            <a:off x="48412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Group 34" descr=""/>
          <p:cNvPicPr/>
          <p:nvPr/>
        </p:nvPicPr>
        <p:blipFill>
          <a:blip r:embed="rId2"/>
          <a:stretch/>
        </p:blipFill>
        <p:spPr>
          <a:xfrm>
            <a:off x="5162400" y="2638440"/>
            <a:ext cx="457200" cy="333360"/>
          </a:xfrm>
          <a:prstGeom prst="rect">
            <a:avLst/>
          </a:prstGeom>
          <a:ln w="0">
            <a:noFill/>
          </a:ln>
        </p:spPr>
      </p:pic>
      <p:sp>
        <p:nvSpPr>
          <p:cNvPr id="860" name="Rounded Rectangle 17@|1FFC:14657585|FBC:16777215|LFC:16777215|LBC:16777215"/>
          <p:cNvSpPr/>
          <p:nvPr/>
        </p:nvSpPr>
        <p:spPr>
          <a:xfrm flipV="1" rot="18900000">
            <a:off x="4014720" y="2993760"/>
            <a:ext cx="111384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719@|5FFC:16777215|FBC:16777215|LFC:16777215|LBC:16777215"/>
          <p:cNvSpPr/>
          <p:nvPr/>
        </p:nvSpPr>
        <p:spPr>
          <a:xfrm>
            <a:off x="4351320" y="3252960"/>
            <a:ext cx="441360" cy="2840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ounded Rectangle 23@|1FFC:0|FBC:0|LFC:16777215|LBC:16777215"/>
          <p:cNvSpPr/>
          <p:nvPr/>
        </p:nvSpPr>
        <p:spPr>
          <a:xfrm flipV="1" rot="18900000">
            <a:off x="31870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2102@|5FFC:16777215|FBC:16777215|LFC:16777215|LBC:16777215"/>
          <p:cNvSpPr/>
          <p:nvPr/>
        </p:nvSpPr>
        <p:spPr>
          <a:xfrm>
            <a:off x="3467160" y="2624040"/>
            <a:ext cx="539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Rounded Rectangle 26@|1FFC:4308095|FBC:16777215|LFC:16777215|LBC:16777215"/>
          <p:cNvSpPr/>
          <p:nvPr/>
        </p:nvSpPr>
        <p:spPr>
          <a:xfrm flipV="1" rot="18900000">
            <a:off x="4014720" y="1752120"/>
            <a:ext cx="111456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56@|5FFC:16777215|FBC:16777215|LFC:16777215|LBC:16777215"/>
          <p:cNvSpPr/>
          <p:nvPr/>
        </p:nvSpPr>
        <p:spPr>
          <a:xfrm>
            <a:off x="4352760" y="2030400"/>
            <a:ext cx="498600" cy="30636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6280200" y="183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283440" y="1992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280200" y="3294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6283440" y="34545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1031760" y="183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035000" y="1992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1031760" y="3294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1035000" y="345456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7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 Same Side Corner Rectangle 4"/>
          <p:cNvSpPr/>
          <p:nvPr/>
        </p:nvSpPr>
        <p:spPr>
          <a:xfrm rot="16200000">
            <a:off x="798480" y="1776600"/>
            <a:ext cx="1967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711360" y="2535120"/>
            <a:ext cx="214452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16"/>
          <p:cNvSpPr/>
          <p:nvPr/>
        </p:nvSpPr>
        <p:spPr>
          <a:xfrm>
            <a:off x="1576440" y="2041560"/>
            <a:ext cx="411120" cy="24912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155600" y="230832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ound Same Side Corner Rectangle 12"/>
          <p:cNvSpPr/>
          <p:nvPr/>
        </p:nvSpPr>
        <p:spPr>
          <a:xfrm flipH="1" rot="5400000">
            <a:off x="6360120" y="1776240"/>
            <a:ext cx="1967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3"/>
          <p:cNvSpPr/>
          <p:nvPr/>
        </p:nvSpPr>
        <p:spPr>
          <a:xfrm flipH="1">
            <a:off x="6270480" y="2535120"/>
            <a:ext cx="214488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2"/>
          <p:cNvSpPr/>
          <p:nvPr/>
        </p:nvSpPr>
        <p:spPr>
          <a:xfrm>
            <a:off x="7153200" y="2058840"/>
            <a:ext cx="379440" cy="22392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6716880" y="229068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2"/>
          <p:cNvSpPr/>
          <p:nvPr/>
        </p:nvSpPr>
        <p:spPr>
          <a:xfrm>
            <a:off x="108576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3"/>
          <p:cNvSpPr/>
          <p:nvPr/>
        </p:nvSpPr>
        <p:spPr>
          <a:xfrm>
            <a:off x="667872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图片 2" descr=""/>
          <p:cNvPicPr/>
          <p:nvPr/>
        </p:nvPicPr>
        <p:blipFill>
          <a:blip r:embed="rId2"/>
          <a:stretch/>
        </p:blipFill>
        <p:spPr>
          <a:xfrm>
            <a:off x="2782800" y="1471680"/>
            <a:ext cx="3484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entagon 49"/>
          <p:cNvSpPr/>
          <p:nvPr/>
        </p:nvSpPr>
        <p:spPr>
          <a:xfrm>
            <a:off x="2824200" y="13748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entagon 51"/>
          <p:cNvSpPr/>
          <p:nvPr/>
        </p:nvSpPr>
        <p:spPr>
          <a:xfrm>
            <a:off x="2824200" y="250812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entagon 52"/>
          <p:cNvSpPr/>
          <p:nvPr/>
        </p:nvSpPr>
        <p:spPr>
          <a:xfrm flipH="1">
            <a:off x="4800600" y="1946160"/>
            <a:ext cx="1749600" cy="62712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entagon 53"/>
          <p:cNvSpPr/>
          <p:nvPr/>
        </p:nvSpPr>
        <p:spPr>
          <a:xfrm flipH="1">
            <a:off x="4800600" y="3094200"/>
            <a:ext cx="1749600" cy="62856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9"/>
          <p:cNvSpPr/>
          <p:nvPr/>
        </p:nvSpPr>
        <p:spPr>
          <a:xfrm>
            <a:off x="3451320" y="1544760"/>
            <a:ext cx="203040" cy="28548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23"/>
          <p:cNvSpPr/>
          <p:nvPr/>
        </p:nvSpPr>
        <p:spPr>
          <a:xfrm>
            <a:off x="3406680" y="2717640"/>
            <a:ext cx="292320" cy="20664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7"/>
          <p:cNvSpPr/>
          <p:nvPr/>
        </p:nvSpPr>
        <p:spPr>
          <a:xfrm>
            <a:off x="5616720" y="3292560"/>
            <a:ext cx="347400" cy="23004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6"/>
          <p:cNvSpPr/>
          <p:nvPr/>
        </p:nvSpPr>
        <p:spPr>
          <a:xfrm>
            <a:off x="5667480" y="2147760"/>
            <a:ext cx="257040" cy="2257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Rectangle 34"/>
          <p:cNvSpPr/>
          <p:nvPr/>
        </p:nvSpPr>
        <p:spPr>
          <a:xfrm>
            <a:off x="4600440" y="1413000"/>
            <a:ext cx="200160" cy="563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35"/>
          <p:cNvSpPr/>
          <p:nvPr/>
        </p:nvSpPr>
        <p:spPr>
          <a:xfrm>
            <a:off x="4600440" y="197640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36"/>
          <p:cNvSpPr/>
          <p:nvPr/>
        </p:nvSpPr>
        <p:spPr>
          <a:xfrm>
            <a:off x="4600440" y="2541600"/>
            <a:ext cx="200160" cy="561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37"/>
          <p:cNvSpPr/>
          <p:nvPr/>
        </p:nvSpPr>
        <p:spPr>
          <a:xfrm>
            <a:off x="4600440" y="310356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30"/>
          <p:cNvSpPr/>
          <p:nvPr/>
        </p:nvSpPr>
        <p:spPr>
          <a:xfrm>
            <a:off x="4600440" y="3660840"/>
            <a:ext cx="200160" cy="5652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entagon 31"/>
          <p:cNvSpPr/>
          <p:nvPr/>
        </p:nvSpPr>
        <p:spPr>
          <a:xfrm>
            <a:off x="2824200" y="36050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52"/>
          <p:cNvSpPr/>
          <p:nvPr/>
        </p:nvSpPr>
        <p:spPr>
          <a:xfrm>
            <a:off x="3349800" y="3786120"/>
            <a:ext cx="385560" cy="26676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898560" y="14796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901800" y="1639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"/>
          <p:cNvSpPr/>
          <p:nvPr/>
        </p:nvSpPr>
        <p:spPr>
          <a:xfrm>
            <a:off x="841320" y="2637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"/>
          <p:cNvSpPr/>
          <p:nvPr/>
        </p:nvSpPr>
        <p:spPr>
          <a:xfrm>
            <a:off x="844560" y="27972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901800" y="37353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905040" y="389556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6750000" y="20588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6753240" y="22208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692760" y="3216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96000" y="33782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5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10" descr=""/>
          <p:cNvPicPr/>
          <p:nvPr/>
        </p:nvPicPr>
        <p:blipFill>
          <a:blip r:embed="rId2"/>
          <a:stretch/>
        </p:blipFill>
        <p:spPr>
          <a:xfrm>
            <a:off x="3705120" y="1731960"/>
            <a:ext cx="1731960" cy="566640"/>
          </a:xfrm>
          <a:prstGeom prst="rect">
            <a:avLst/>
          </a:prstGeom>
          <a:ln w="0">
            <a:noFill/>
          </a:ln>
        </p:spPr>
      </p:pic>
      <p:sp>
        <p:nvSpPr>
          <p:cNvPr id="917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14"/>
          <p:cNvSpPr/>
          <p:nvPr/>
        </p:nvSpPr>
        <p:spPr>
          <a:xfrm>
            <a:off x="1311120" y="33084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4" descr=""/>
          <p:cNvPicPr/>
          <p:nvPr/>
        </p:nvPicPr>
        <p:blipFill>
          <a:blip r:embed="rId2"/>
          <a:stretch/>
        </p:blipFill>
        <p:spPr>
          <a:xfrm>
            <a:off x="3444840" y="2298600"/>
            <a:ext cx="2254320" cy="54468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空心弧 3"/>
          <p:cNvSpPr/>
          <p:nvPr/>
        </p:nvSpPr>
        <p:spPr>
          <a:xfrm rot="16921200">
            <a:off x="3545280" y="132336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空心弧 4"/>
          <p:cNvSpPr/>
          <p:nvPr/>
        </p:nvSpPr>
        <p:spPr>
          <a:xfrm rot="10221000">
            <a:off x="3214440" y="1674720"/>
            <a:ext cx="2789280" cy="206712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空心弧 5"/>
          <p:cNvSpPr/>
          <p:nvPr/>
        </p:nvSpPr>
        <p:spPr>
          <a:xfrm rot="850800">
            <a:off x="3185640" y="1655640"/>
            <a:ext cx="2787840" cy="206712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空心弧 6"/>
          <p:cNvSpPr/>
          <p:nvPr/>
        </p:nvSpPr>
        <p:spPr>
          <a:xfrm rot="4608000">
            <a:off x="3545280" y="132300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34"/>
          <p:cNvSpPr/>
          <p:nvPr/>
        </p:nvSpPr>
        <p:spPr>
          <a:xfrm>
            <a:off x="3656160" y="2108160"/>
            <a:ext cx="363240" cy="239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64"/>
          <p:cNvSpPr/>
          <p:nvPr/>
        </p:nvSpPr>
        <p:spPr>
          <a:xfrm>
            <a:off x="3701880" y="3171960"/>
            <a:ext cx="327240" cy="23472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110"/>
          <p:cNvSpPr/>
          <p:nvPr/>
        </p:nvSpPr>
        <p:spPr>
          <a:xfrm>
            <a:off x="5354640" y="3233880"/>
            <a:ext cx="81000" cy="60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11"/>
          <p:cNvSpPr/>
          <p:nvPr/>
        </p:nvSpPr>
        <p:spPr>
          <a:xfrm>
            <a:off x="5335560" y="3218040"/>
            <a:ext cx="88920" cy="6804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112"/>
          <p:cNvSpPr/>
          <p:nvPr/>
        </p:nvSpPr>
        <p:spPr>
          <a:xfrm>
            <a:off x="5319720" y="3208320"/>
            <a:ext cx="84240" cy="619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13"/>
          <p:cNvSpPr/>
          <p:nvPr/>
        </p:nvSpPr>
        <p:spPr>
          <a:xfrm>
            <a:off x="5297400" y="3270240"/>
            <a:ext cx="57240" cy="4140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114"/>
          <p:cNvSpPr/>
          <p:nvPr/>
        </p:nvSpPr>
        <p:spPr>
          <a:xfrm>
            <a:off x="5283360" y="3303720"/>
            <a:ext cx="28440" cy="190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115"/>
          <p:cNvSpPr/>
          <p:nvPr/>
        </p:nvSpPr>
        <p:spPr>
          <a:xfrm>
            <a:off x="5402160" y="3192480"/>
            <a:ext cx="55800" cy="428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16"/>
          <p:cNvSpPr/>
          <p:nvPr/>
        </p:nvSpPr>
        <p:spPr>
          <a:xfrm>
            <a:off x="5145120" y="3171960"/>
            <a:ext cx="225360" cy="2044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17"/>
          <p:cNvSpPr/>
          <p:nvPr/>
        </p:nvSpPr>
        <p:spPr>
          <a:xfrm>
            <a:off x="5184720" y="324000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18"/>
          <p:cNvSpPr/>
          <p:nvPr/>
        </p:nvSpPr>
        <p:spPr>
          <a:xfrm>
            <a:off x="5184720" y="3265560"/>
            <a:ext cx="889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19"/>
          <p:cNvSpPr/>
          <p:nvPr/>
        </p:nvSpPr>
        <p:spPr>
          <a:xfrm>
            <a:off x="5184720" y="3292560"/>
            <a:ext cx="889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20"/>
          <p:cNvSpPr/>
          <p:nvPr/>
        </p:nvSpPr>
        <p:spPr>
          <a:xfrm>
            <a:off x="5184720" y="331632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26"/>
          <p:cNvSpPr/>
          <p:nvPr/>
        </p:nvSpPr>
        <p:spPr>
          <a:xfrm>
            <a:off x="5335560" y="2131920"/>
            <a:ext cx="163440" cy="19836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27"/>
          <p:cNvSpPr/>
          <p:nvPr/>
        </p:nvSpPr>
        <p:spPr>
          <a:xfrm>
            <a:off x="5153040" y="2131920"/>
            <a:ext cx="162000" cy="19836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8"/>
          <p:cNvSpPr/>
          <p:nvPr/>
        </p:nvSpPr>
        <p:spPr>
          <a:xfrm>
            <a:off x="5162400" y="2071800"/>
            <a:ext cx="333360" cy="9828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2104920" y="188280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270080" y="207648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035760" y="188280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6039000" y="2077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10492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270080" y="340992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576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6039000" y="3409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30495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2754360" y="1635120"/>
            <a:ext cx="36464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5"/>
          <p:cNvSpPr/>
          <p:nvPr/>
        </p:nvSpPr>
        <p:spPr>
          <a:xfrm>
            <a:off x="3867120" y="1755720"/>
            <a:ext cx="1420920" cy="86688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6"/>
          <p:cNvSpPr/>
          <p:nvPr/>
        </p:nvSpPr>
        <p:spPr>
          <a:xfrm>
            <a:off x="3309840" y="2622600"/>
            <a:ext cx="2535480" cy="67932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7"/>
          <p:cNvSpPr/>
          <p:nvPr/>
        </p:nvSpPr>
        <p:spPr>
          <a:xfrm>
            <a:off x="2754360" y="3301920"/>
            <a:ext cx="3646440" cy="67788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4332960" y="23353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4338360" y="288288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4338360" y="355140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1"/>
          <p:cNvGrpSpPr/>
          <p:nvPr/>
        </p:nvGrpSpPr>
        <p:grpSpPr>
          <a:xfrm>
            <a:off x="568440" y="2432160"/>
            <a:ext cx="2253960" cy="397440"/>
            <a:chOff x="568440" y="2432160"/>
            <a:chExt cx="2253960" cy="397440"/>
          </a:xfrm>
        </p:grpSpPr>
        <p:sp>
          <p:nvSpPr>
            <p:cNvPr id="558" name="矩形 12"/>
            <p:cNvSpPr/>
            <p:nvPr/>
          </p:nvSpPr>
          <p:spPr>
            <a:xfrm>
              <a:off x="568440" y="264672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3"/>
            <p:cNvSpPr/>
            <p:nvPr/>
          </p:nvSpPr>
          <p:spPr>
            <a:xfrm>
              <a:off x="56844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0" name="组合 14"/>
          <p:cNvGrpSpPr/>
          <p:nvPr/>
        </p:nvGrpSpPr>
        <p:grpSpPr>
          <a:xfrm>
            <a:off x="6502320" y="2432160"/>
            <a:ext cx="2254320" cy="397440"/>
            <a:chOff x="6502320" y="2432160"/>
            <a:chExt cx="2254320" cy="397440"/>
          </a:xfrm>
        </p:grpSpPr>
        <p:sp>
          <p:nvSpPr>
            <p:cNvPr id="561" name="矩形 15"/>
            <p:cNvSpPr/>
            <p:nvPr/>
          </p:nvSpPr>
          <p:spPr>
            <a:xfrm>
              <a:off x="6502320" y="264672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13"/>
            <p:cNvSpPr/>
            <p:nvPr/>
          </p:nvSpPr>
          <p:spPr>
            <a:xfrm>
              <a:off x="650232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1830240" y="1963800"/>
            <a:ext cx="1257480" cy="10476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2979720" y="1711440"/>
            <a:ext cx="1562040" cy="13017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6"/>
          <p:cNvSpPr/>
          <p:nvPr/>
        </p:nvSpPr>
        <p:spPr>
          <a:xfrm>
            <a:off x="4432320" y="1868400"/>
            <a:ext cx="1371600" cy="11430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traight Connector 11"/>
          <p:cNvSpPr/>
          <p:nvPr/>
        </p:nvSpPr>
        <p:spPr>
          <a:xfrm>
            <a:off x="1278000" y="314316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12"/>
          <p:cNvSpPr/>
          <p:nvPr/>
        </p:nvSpPr>
        <p:spPr>
          <a:xfrm>
            <a:off x="3716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14"/>
          <p:cNvSpPr/>
          <p:nvPr/>
        </p:nvSpPr>
        <p:spPr>
          <a:xfrm>
            <a:off x="2411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636264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694480" y="1817640"/>
            <a:ext cx="1431720" cy="11955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19"/>
          <p:cNvSpPr/>
          <p:nvPr/>
        </p:nvSpPr>
        <p:spPr>
          <a:xfrm>
            <a:off x="5070600" y="3106800"/>
            <a:ext cx="950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1"/>
          <p:cNvSpPr/>
          <p:nvPr/>
        </p:nvSpPr>
        <p:spPr>
          <a:xfrm>
            <a:off x="591516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2"/>
          <p:cNvSpPr/>
          <p:nvPr/>
        </p:nvSpPr>
        <p:spPr>
          <a:xfrm>
            <a:off x="462276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23"/>
          <p:cNvSpPr/>
          <p:nvPr/>
        </p:nvSpPr>
        <p:spPr>
          <a:xfrm>
            <a:off x="326880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96524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25"/>
          <p:cNvSpPr/>
          <p:nvPr/>
        </p:nvSpPr>
        <p:spPr>
          <a:xfrm>
            <a:off x="59151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26"/>
          <p:cNvSpPr/>
          <p:nvPr/>
        </p:nvSpPr>
        <p:spPr>
          <a:xfrm>
            <a:off x="4622760" y="217476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7"/>
          <p:cNvSpPr/>
          <p:nvPr/>
        </p:nvSpPr>
        <p:spPr>
          <a:xfrm>
            <a:off x="32655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28"/>
          <p:cNvSpPr/>
          <p:nvPr/>
        </p:nvSpPr>
        <p:spPr>
          <a:xfrm>
            <a:off x="1963800" y="222264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4897440" y="2222640"/>
            <a:ext cx="1454040" cy="10731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7"/>
          <p:cNvSpPr/>
          <p:nvPr/>
        </p:nvSpPr>
        <p:spPr>
          <a:xfrm>
            <a:off x="4148280" y="2355840"/>
            <a:ext cx="1110960" cy="82080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8"/>
          <p:cNvSpPr/>
          <p:nvPr/>
        </p:nvSpPr>
        <p:spPr>
          <a:xfrm>
            <a:off x="3457440" y="2424240"/>
            <a:ext cx="973440" cy="7128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2916360" y="2494080"/>
            <a:ext cx="771480" cy="58572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任意多边形 100"/>
          <p:cNvSpPr/>
          <p:nvPr/>
        </p:nvSpPr>
        <p:spPr>
          <a:xfrm>
            <a:off x="5899320" y="2448000"/>
            <a:ext cx="1911240" cy="162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8"/>
          <p:cNvSpPr/>
          <p:nvPr/>
        </p:nvSpPr>
        <p:spPr>
          <a:xfrm flipH="1">
            <a:off x="1212840" y="2622600"/>
            <a:ext cx="1914480" cy="1602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112"/>
          <p:cNvSpPr/>
          <p:nvPr/>
        </p:nvSpPr>
        <p:spPr>
          <a:xfrm>
            <a:off x="4703760" y="205416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113"/>
          <p:cNvSpPr/>
          <p:nvPr/>
        </p:nvSpPr>
        <p:spPr>
          <a:xfrm flipH="1">
            <a:off x="3419640" y="205092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3249720" y="2709720"/>
            <a:ext cx="169920" cy="1368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5645160" y="2711520"/>
            <a:ext cx="182520" cy="1411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442"/>
          <p:cNvSpPr/>
          <p:nvPr/>
        </p:nvSpPr>
        <p:spPr>
          <a:xfrm>
            <a:off x="3886200" y="2720880"/>
            <a:ext cx="193680" cy="12564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43"/>
          <p:cNvSpPr/>
          <p:nvPr/>
        </p:nvSpPr>
        <p:spPr>
          <a:xfrm>
            <a:off x="3941640" y="2741760"/>
            <a:ext cx="507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0" bIns="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444"/>
          <p:cNvSpPr/>
          <p:nvPr/>
        </p:nvSpPr>
        <p:spPr>
          <a:xfrm>
            <a:off x="4008600" y="274644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45"/>
          <p:cNvSpPr/>
          <p:nvPr/>
        </p:nvSpPr>
        <p:spPr>
          <a:xfrm>
            <a:off x="4008600" y="276552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46"/>
          <p:cNvSpPr/>
          <p:nvPr/>
        </p:nvSpPr>
        <p:spPr>
          <a:xfrm>
            <a:off x="3941640" y="2792520"/>
            <a:ext cx="1098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447"/>
          <p:cNvSpPr/>
          <p:nvPr/>
        </p:nvSpPr>
        <p:spPr>
          <a:xfrm>
            <a:off x="3941640" y="2813040"/>
            <a:ext cx="109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7720" bIns="-27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56"/>
          <p:cNvSpPr/>
          <p:nvPr/>
        </p:nvSpPr>
        <p:spPr>
          <a:xfrm>
            <a:off x="4703760" y="2698920"/>
            <a:ext cx="227160" cy="1695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57"/>
          <p:cNvSpPr/>
          <p:nvPr/>
        </p:nvSpPr>
        <p:spPr>
          <a:xfrm>
            <a:off x="4738680" y="2720880"/>
            <a:ext cx="117360" cy="79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8"/>
          <p:cNvSpPr/>
          <p:nvPr/>
        </p:nvSpPr>
        <p:spPr>
          <a:xfrm>
            <a:off x="4800600" y="2782800"/>
            <a:ext cx="90360" cy="777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9"/>
          <p:cNvSpPr/>
          <p:nvPr/>
        </p:nvSpPr>
        <p:spPr>
          <a:xfrm>
            <a:off x="4848120" y="2703600"/>
            <a:ext cx="77760" cy="108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2814480" y="16714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281772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4794120" y="167148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479736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818400" y="25830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13"/>
          <p:cNvSpPr/>
          <p:nvPr/>
        </p:nvSpPr>
        <p:spPr>
          <a:xfrm>
            <a:off x="6821640" y="27432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569880" y="269712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573120" y="28576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33"/>
          <p:cNvSpPr/>
          <p:nvPr/>
        </p:nvSpPr>
        <p:spPr>
          <a:xfrm>
            <a:off x="987480" y="370368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24" descr=""/>
          <p:cNvPicPr/>
          <p:nvPr/>
        </p:nvPicPr>
        <p:blipFill>
          <a:blip r:embed="rId1"/>
          <a:stretch/>
        </p:blipFill>
        <p:spPr>
          <a:xfrm>
            <a:off x="0" y="665280"/>
            <a:ext cx="4657680" cy="38559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ight Arrow">
            <a:hlinkClick r:id="" action="ppaction://hlinkshowjump?jump=nextslide"/>
          </p:cNvPr>
          <p:cNvSpPr/>
          <p:nvPr/>
        </p:nvSpPr>
        <p:spPr>
          <a:xfrm>
            <a:off x="714240" y="4297320"/>
            <a:ext cx="17172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eft Arrow">
            <a:hlinkClick r:id="" action="ppaction://hlinkshowjump?jump=previousslide"/>
          </p:cNvPr>
          <p:cNvSpPr/>
          <p:nvPr/>
        </p:nvSpPr>
        <p:spPr>
          <a:xfrm>
            <a:off x="457200" y="4297320"/>
            <a:ext cx="17136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5361120" y="2633760"/>
            <a:ext cx="438120" cy="3268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6"/>
          <p:cNvSpPr/>
          <p:nvPr/>
        </p:nvSpPr>
        <p:spPr>
          <a:xfrm>
            <a:off x="5361120" y="2725560"/>
            <a:ext cx="438120" cy="2350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21"/>
          <p:cNvSpPr/>
          <p:nvPr/>
        </p:nvSpPr>
        <p:spPr>
          <a:xfrm>
            <a:off x="5361120" y="3189240"/>
            <a:ext cx="438120" cy="33012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22"/>
          <p:cNvSpPr/>
          <p:nvPr/>
        </p:nvSpPr>
        <p:spPr>
          <a:xfrm>
            <a:off x="5361120" y="3375000"/>
            <a:ext cx="438120" cy="14436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23"/>
          <p:cNvSpPr/>
          <p:nvPr/>
        </p:nvSpPr>
        <p:spPr>
          <a:xfrm>
            <a:off x="5361120" y="3747960"/>
            <a:ext cx="438120" cy="3304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5361120" y="3855960"/>
            <a:ext cx="438120" cy="22248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2" descr=""/>
          <p:cNvPicPr/>
          <p:nvPr/>
        </p:nvPicPr>
        <p:blipFill>
          <a:blip r:embed="rId3"/>
          <a:stretch/>
        </p:blipFill>
        <p:spPr>
          <a:xfrm>
            <a:off x="457200" y="1386000"/>
            <a:ext cx="1731960" cy="1298520"/>
          </a:xfrm>
          <a:prstGeom prst="rect">
            <a:avLst/>
          </a:prstGeom>
          <a:ln w="0">
            <a:noFill/>
          </a:ln>
        </p:spPr>
      </p:pic>
      <p:sp>
        <p:nvSpPr>
          <p:cNvPr id="625" name="矩形 13"/>
          <p:cNvSpPr/>
          <p:nvPr/>
        </p:nvSpPr>
        <p:spPr>
          <a:xfrm>
            <a:off x="628560" y="298440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628560" y="280188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15"/>
          <p:cNvSpPr/>
          <p:nvPr/>
        </p:nvSpPr>
        <p:spPr>
          <a:xfrm>
            <a:off x="4632480" y="15336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6035760" y="2592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039000" y="2754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6035760" y="31464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>
            <a:off x="6039000" y="33084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035760" y="3708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039000" y="3870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5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图片 9" descr=""/>
          <p:cNvPicPr/>
          <p:nvPr/>
        </p:nvPicPr>
        <p:blipFill>
          <a:blip r:embed="rId2"/>
          <a:stretch/>
        </p:blipFill>
        <p:spPr>
          <a:xfrm>
            <a:off x="3379680" y="2295360"/>
            <a:ext cx="2384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</cp:lastModifiedBy>
  <dcterms:modified xsi:type="dcterms:W3CDTF">2017-05-30T10:18:10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