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9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605-A1E9-4DAB-873D-65C86A34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9AB-3577-4533-861E-1B086EAA6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A9DD-6138-4B81-AF5E-F9631B86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416D-D0E2-4E94-AF72-AD2ED32A1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F84A-0664-4DA9-8BD1-4464448D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2A7D-1C52-4C27-970D-D9E2CFF5A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DCD-7BE3-441D-8485-7BDB170D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FD7B-0F9E-4C70-BE22-811DB1AF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1F9-EBDF-4A53-9800-914B126D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1748-F09B-4D1E-88DB-2F3466AE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5133-9D9B-4FFB-9A95-46FD7872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832A-D76E-483C-9C30-C0FFB1A4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733E-2DC1-432A-8BF0-728E49F60BC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D44E-97B2-4694-95D1-C00C4B93093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8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等腰三角形 4"/>
          <p:cNvSpPr/>
          <p:nvPr/>
        </p:nvSpPr>
        <p:spPr>
          <a:xfrm flipV="1">
            <a:off x="3254400" y="1437120"/>
            <a:ext cx="5694480" cy="490716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等腰三角形 2"/>
          <p:cNvSpPr/>
          <p:nvPr/>
        </p:nvSpPr>
        <p:spPr>
          <a:xfrm flipV="1">
            <a:off x="3254400" y="811800"/>
            <a:ext cx="5694480" cy="49086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25"/>
          <p:cNvSpPr/>
          <p:nvPr/>
        </p:nvSpPr>
        <p:spPr>
          <a:xfrm rot="1800000">
            <a:off x="1407600" y="-145800"/>
            <a:ext cx="203400" cy="1446480"/>
          </a:xfrm>
          <a:custGeom>
            <a:avLst/>
            <a:gdLst>
              <a:gd name="textAreaLeft" fmla="*/ 0 w 203400"/>
              <a:gd name="textAreaRight" fmla="*/ 203760 w 203400"/>
              <a:gd name="textAreaTop" fmla="*/ 0 h 1446480"/>
              <a:gd name="textAreaBottom" fmla="*/ 1446840 h 1446480"/>
            </a:gdLst>
            <a:ahLst/>
            <a:rect l="textAreaLeft" t="textAreaTop" r="textAreaRight" b="textAreaBottom"/>
            <a:pathLst>
              <a:path w="202739" h="1446522">
                <a:moveTo>
                  <a:pt x="0" y="117051"/>
                </a:moveTo>
                <a:lnTo>
                  <a:pt x="202739" y="0"/>
                </a:lnTo>
                <a:lnTo>
                  <a:pt x="202739" y="1446522"/>
                </a:lnTo>
                <a:lnTo>
                  <a:pt x="0" y="1446522"/>
                </a:lnTo>
                <a:lnTo>
                  <a:pt x="0" y="117051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7"/>
          <p:cNvSpPr/>
          <p:nvPr/>
        </p:nvSpPr>
        <p:spPr>
          <a:xfrm rot="1800000">
            <a:off x="1304640" y="-218880"/>
            <a:ext cx="46080" cy="3121200"/>
          </a:xfrm>
          <a:custGeom>
            <a:avLst/>
            <a:gdLst>
              <a:gd name="textAreaLeft" fmla="*/ 0 w 46080"/>
              <a:gd name="textAreaRight" fmla="*/ 46440 w 46080"/>
              <a:gd name="textAreaTop" fmla="*/ 0 h 3121200"/>
              <a:gd name="textAreaBottom" fmla="*/ 3121560 h 3121200"/>
            </a:gdLst>
            <a:ahLst/>
            <a:rect l="textAreaLeft" t="textAreaTop" r="textAreaRight" b="textAreaBottom"/>
            <a:pathLst>
              <a:path w="45719" h="3121422">
                <a:moveTo>
                  <a:pt x="0" y="26396"/>
                </a:moveTo>
                <a:lnTo>
                  <a:pt x="45719" y="0"/>
                </a:lnTo>
                <a:lnTo>
                  <a:pt x="45719" y="3121422"/>
                </a:lnTo>
                <a:lnTo>
                  <a:pt x="0" y="3121422"/>
                </a:lnTo>
                <a:lnTo>
                  <a:pt x="0" y="26396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31"/>
          <p:cNvSpPr/>
          <p:nvPr/>
        </p:nvSpPr>
        <p:spPr>
          <a:xfrm rot="1800000">
            <a:off x="2023920" y="4803840"/>
            <a:ext cx="46080" cy="2219400"/>
          </a:xfrm>
          <a:custGeom>
            <a:avLst/>
            <a:gdLst>
              <a:gd name="textAreaLeft" fmla="*/ 0 w 46080"/>
              <a:gd name="textAreaRight" fmla="*/ 46440 w 46080"/>
              <a:gd name="textAreaTop" fmla="*/ 0 h 2219400"/>
              <a:gd name="textAreaBottom" fmla="*/ 2219760 h 2219400"/>
            </a:gdLst>
            <a:ahLst/>
            <a:rect l="textAreaLeft" t="textAreaTop" r="textAreaRight" b="textAreaBottom"/>
            <a:pathLst>
              <a:path w="45719" h="2219821">
                <a:moveTo>
                  <a:pt x="0" y="0"/>
                </a:moveTo>
                <a:lnTo>
                  <a:pt x="45719" y="0"/>
                </a:lnTo>
                <a:lnTo>
                  <a:pt x="45719" y="2193425"/>
                </a:lnTo>
                <a:lnTo>
                  <a:pt x="0" y="2219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34"/>
          <p:cNvSpPr/>
          <p:nvPr/>
        </p:nvSpPr>
        <p:spPr>
          <a:xfrm rot="1800000">
            <a:off x="1930320" y="6380280"/>
            <a:ext cx="238320" cy="582480"/>
          </a:xfrm>
          <a:custGeom>
            <a:avLst/>
            <a:gdLst>
              <a:gd name="textAreaLeft" fmla="*/ 0 w 238320"/>
              <a:gd name="textAreaRight" fmla="*/ 238680 w 23832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239049" h="581981">
                <a:moveTo>
                  <a:pt x="0" y="0"/>
                </a:moveTo>
                <a:lnTo>
                  <a:pt x="239049" y="0"/>
                </a:lnTo>
                <a:lnTo>
                  <a:pt x="239049" y="443965"/>
                </a:lnTo>
                <a:lnTo>
                  <a:pt x="0" y="58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 rot="1800000">
            <a:off x="11090160" y="2316240"/>
            <a:ext cx="44640" cy="34639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任意多边形 36"/>
          <p:cNvSpPr/>
          <p:nvPr/>
        </p:nvSpPr>
        <p:spPr>
          <a:xfrm rot="1800000">
            <a:off x="11558160" y="2481120"/>
            <a:ext cx="239760" cy="2521080"/>
          </a:xfrm>
          <a:custGeom>
            <a:avLst/>
            <a:gdLst>
              <a:gd name="textAreaLeft" fmla="*/ 0 w 239760"/>
              <a:gd name="textAreaRight" fmla="*/ 240120 w 23976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239049" h="2521176">
                <a:moveTo>
                  <a:pt x="0" y="0"/>
                </a:moveTo>
                <a:lnTo>
                  <a:pt x="239049" y="414046"/>
                </a:lnTo>
                <a:lnTo>
                  <a:pt x="239049" y="2521176"/>
                </a:lnTo>
                <a:lnTo>
                  <a:pt x="0" y="25211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22"/>
          <p:cNvSpPr/>
          <p:nvPr/>
        </p:nvSpPr>
        <p:spPr>
          <a:xfrm>
            <a:off x="3720600" y="1308240"/>
            <a:ext cx="495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B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USINESS      </a:t>
            </a:r>
            <a:r>
              <a:rPr b="1" lang="en-US" sz="4000" spc="-1" strike="noStrike">
                <a:solidFill>
                  <a:srgbClr val="e56af2"/>
                </a:solidFill>
                <a:latin typeface="方正姚体"/>
                <a:ea typeface="方正姚体"/>
              </a:rPr>
              <a:t>R</a:t>
            </a:r>
            <a:r>
              <a:rPr b="1" lang="en-US" sz="3600" spc="-1" strike="noStrike">
                <a:solidFill>
                  <a:srgbClr val="e56af2"/>
                </a:solidFill>
                <a:latin typeface="方正姚体"/>
                <a:ea typeface="方正姚体"/>
              </a:rPr>
              <a:t>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3"/>
          <p:cNvSpPr/>
          <p:nvPr/>
        </p:nvSpPr>
        <p:spPr>
          <a:xfrm>
            <a:off x="4965840" y="254016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e56af2"/>
                </a:solidFill>
                <a:latin typeface="Impact"/>
              </a:rPr>
              <a:t>201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1"/>
          <p:cNvSpPr/>
          <p:nvPr/>
        </p:nvSpPr>
        <p:spPr>
          <a:xfrm>
            <a:off x="4689360" y="2333520"/>
            <a:ext cx="2824200" cy="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7"/>
          <p:cNvSpPr/>
          <p:nvPr/>
        </p:nvSpPr>
        <p:spPr>
          <a:xfrm>
            <a:off x="5342040" y="3932280"/>
            <a:ext cx="1476360" cy="1440"/>
          </a:xfrm>
          <a:prstGeom prst="line">
            <a:avLst/>
          </a:prstGeom>
          <a:ln w="1908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25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29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任意多边形 16"/>
          <p:cNvSpPr/>
          <p:nvPr/>
        </p:nvSpPr>
        <p:spPr>
          <a:xfrm rot="2796600">
            <a:off x="5012640" y="2391480"/>
            <a:ext cx="1143000" cy="144288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97680" h="2524712">
                <a:moveTo>
                  <a:pt x="150246" y="824418"/>
                </a:move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97680" y="1009723"/>
                </a:lnTo>
                <a:lnTo>
                  <a:pt x="1690021" y="1335142"/>
                </a:lnTo>
                <a:lnTo>
                  <a:pt x="1691814" y="1336837"/>
                </a:lnTo>
                <a:lnTo>
                  <a:pt x="1666479" y="1369692"/>
                </a:lnTo>
                <a:cubicBezTo>
                  <a:pt x="1616466" y="1450265"/>
                  <a:pt x="1605036" y="1547518"/>
                  <a:pt x="1631465" y="1635569"/>
                </a:cubicBezTo>
                <a:lnTo>
                  <a:pt x="1633083" y="1639655"/>
                </a:lnTo>
                <a:lnTo>
                  <a:pt x="1632398" y="1639864"/>
                </a:lnTo>
                <a:lnTo>
                  <a:pt x="1770641" y="2093848"/>
                </a:lnTo>
                <a:lnTo>
                  <a:pt x="355698" y="2524712"/>
                </a:ln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17"/>
          <p:cNvSpPr/>
          <p:nvPr/>
        </p:nvSpPr>
        <p:spPr>
          <a:xfrm flipH="1" rot="18803400">
            <a:off x="6077160" y="2397600"/>
            <a:ext cx="1133280" cy="1442880"/>
          </a:xfrm>
          <a:custGeom>
            <a:avLst/>
            <a:gdLst>
              <a:gd name="textAreaLeft" fmla="*/ 360 w 1133280"/>
              <a:gd name="textAreaRight" fmla="*/ 1134000 w 113328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1982833" h="2524712">
                <a:moveTo>
                  <a:pt x="929670" y="0"/>
                </a:move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lnTo>
                  <a:pt x="1699679" y="2115457"/>
                </a:lnTo>
                <a:lnTo>
                  <a:pt x="1566897" y="1679404"/>
                </a:lnTo>
                <a:lnTo>
                  <a:pt x="1567582" y="1679195"/>
                </a:lnTo>
                <a:lnTo>
                  <a:pt x="1565964" y="1675108"/>
                </a:lnTo>
                <a:cubicBezTo>
                  <a:pt x="1539535" y="1587058"/>
                  <a:pt x="1550964" y="1489806"/>
                  <a:pt x="1600977" y="1409232"/>
                </a:cubicBezTo>
                <a:lnTo>
                  <a:pt x="1626313" y="1376377"/>
                </a:lnTo>
                <a:lnTo>
                  <a:pt x="1624520" y="1374682"/>
                </a:lnTo>
                <a:lnTo>
                  <a:pt x="1982833" y="995685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任意多边形 18"/>
          <p:cNvSpPr/>
          <p:nvPr/>
        </p:nvSpPr>
        <p:spPr>
          <a:xfrm flipH="1" flipV="1" rot="20788200">
            <a:off x="6706800" y="3466440"/>
            <a:ext cx="1128600" cy="1442520"/>
          </a:xfrm>
          <a:custGeom>
            <a:avLst/>
            <a:gdLst>
              <a:gd name="textAreaLeft" fmla="*/ -360 w 1128600"/>
              <a:gd name="textAreaRight" fmla="*/ 1128600 w 1128600"/>
              <a:gd name="textAreaTop" fmla="*/ -360 h 1442520"/>
              <a:gd name="textAreaBottom" fmla="*/ 1442520 h 1442520"/>
            </a:gdLst>
            <a:ahLst/>
            <a:rect l="textAreaLeft" t="textAreaTop" r="textAreaRight" b="textAreaBottom"/>
            <a:pathLst>
              <a:path w="1974521" h="2524712">
                <a:moveTo>
                  <a:pt x="355698" y="2524712"/>
                </a:moveTo>
                <a:lnTo>
                  <a:pt x="30604" y="1457111"/>
                </a:lnTo>
                <a:lnTo>
                  <a:pt x="32026" y="1456678"/>
                </a:lnTo>
                <a:lnTo>
                  <a:pt x="28667" y="1448193"/>
                </a:lnTo>
                <a:cubicBezTo>
                  <a:pt x="-26207" y="1265374"/>
                  <a:pt x="-2477" y="1063448"/>
                  <a:pt x="101365" y="896153"/>
                </a:cubicBezTo>
                <a:lnTo>
                  <a:pt x="153968" y="827937"/>
                </a:lnTo>
                <a:lnTo>
                  <a:pt x="150246" y="824418"/>
                </a:lnTo>
                <a:lnTo>
                  <a:pt x="929670" y="0"/>
                </a:lnTo>
                <a:lnTo>
                  <a:pt x="1280355" y="331546"/>
                </a:lnTo>
                <a:lnTo>
                  <a:pt x="1655649" y="686358"/>
                </a:lnTo>
                <a:lnTo>
                  <a:pt x="1974521" y="987827"/>
                </a:lnTo>
                <a:lnTo>
                  <a:pt x="1630161" y="1352065"/>
                </a:lnTo>
                <a:lnTo>
                  <a:pt x="1631954" y="1353760"/>
                </a:lnTo>
                <a:lnTo>
                  <a:pt x="1606619" y="1386615"/>
                </a:lnTo>
                <a:cubicBezTo>
                  <a:pt x="1556606" y="1467188"/>
                  <a:pt x="1545177" y="1564441"/>
                  <a:pt x="1571605" y="1652492"/>
                </a:cubicBezTo>
                <a:lnTo>
                  <a:pt x="1573223" y="1656578"/>
                </a:lnTo>
                <a:lnTo>
                  <a:pt x="1572538" y="1656786"/>
                </a:lnTo>
                <a:lnTo>
                  <a:pt x="1711144" y="2111965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任意多边形 19"/>
          <p:cNvSpPr/>
          <p:nvPr/>
        </p:nvSpPr>
        <p:spPr>
          <a:xfrm flipV="1" rot="811800">
            <a:off x="4406400" y="3468600"/>
            <a:ext cx="1144800" cy="1443240"/>
          </a:xfrm>
          <a:custGeom>
            <a:avLst/>
            <a:gdLst>
              <a:gd name="textAreaLeft" fmla="*/ 0 w 1144800"/>
              <a:gd name="textAreaRight" fmla="*/ 1145160 w 1144800"/>
              <a:gd name="textAreaTop" fmla="*/ -360 h 1443240"/>
              <a:gd name="textAreaBottom" fmla="*/ 1443240 h 1443240"/>
            </a:gdLst>
            <a:ahLst/>
            <a:rect l="textAreaLeft" t="textAreaTop" r="textAreaRight" b="textAreaBottom"/>
            <a:pathLst>
              <a:path w="2003794" h="2524712">
                <a:moveTo>
                  <a:pt x="355698" y="2524712"/>
                </a:moveTo>
                <a:lnTo>
                  <a:pt x="1749448" y="2100302"/>
                </a:lnTo>
                <a:lnTo>
                  <a:pt x="1617702" y="1667654"/>
                </a:lnTo>
                <a:lnTo>
                  <a:pt x="1618387" y="1667445"/>
                </a:lnTo>
                <a:lnTo>
                  <a:pt x="1616769" y="1663359"/>
                </a:lnTo>
                <a:cubicBezTo>
                  <a:pt x="1590341" y="1575308"/>
                  <a:pt x="1601770" y="1478056"/>
                  <a:pt x="1651782" y="1397482"/>
                </a:cubicBezTo>
                <a:lnTo>
                  <a:pt x="1677117" y="1364628"/>
                </a:lnTo>
                <a:lnTo>
                  <a:pt x="1675325" y="1362932"/>
                </a:lnTo>
                <a:lnTo>
                  <a:pt x="2003794" y="1015502"/>
                </a:lnTo>
                <a:lnTo>
                  <a:pt x="1655649" y="686358"/>
                </a:lnTo>
                <a:lnTo>
                  <a:pt x="1280355" y="331546"/>
                </a:lnTo>
                <a:lnTo>
                  <a:pt x="929670" y="0"/>
                </a:lnTo>
                <a:lnTo>
                  <a:pt x="150246" y="824418"/>
                </a:lnTo>
                <a:lnTo>
                  <a:pt x="153968" y="827937"/>
                </a:lnTo>
                <a:lnTo>
                  <a:pt x="101365" y="896153"/>
                </a:lnTo>
                <a:cubicBezTo>
                  <a:pt x="-2477" y="1063448"/>
                  <a:pt x="-26207" y="1265374"/>
                  <a:pt x="28667" y="1448193"/>
                </a:cubicBezTo>
                <a:lnTo>
                  <a:pt x="32026" y="1456678"/>
                </a:lnTo>
                <a:lnTo>
                  <a:pt x="30604" y="1457111"/>
                </a:lnTo>
                <a:lnTo>
                  <a:pt x="355698" y="2524712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任意多边形 20"/>
          <p:cNvSpPr/>
          <p:nvPr/>
        </p:nvSpPr>
        <p:spPr>
          <a:xfrm flipV="1" rot="18754800">
            <a:off x="5018760" y="4435560"/>
            <a:ext cx="1130400" cy="1440000"/>
          </a:xfrm>
          <a:custGeom>
            <a:avLst/>
            <a:gdLst>
              <a:gd name="textAreaLeft" fmla="*/ 0 w 1130400"/>
              <a:gd name="textAreaRight" fmla="*/ 1130760 w 1130400"/>
              <a:gd name="textAreaTop" fmla="*/ 360 h 1440000"/>
              <a:gd name="textAreaBottom" fmla="*/ 1440720 h 1440000"/>
            </a:gdLst>
            <a:ahLst/>
            <a:rect l="textAreaLeft" t="textAreaTop" r="textAreaRight" b="textAreaBottom"/>
            <a:pathLst>
              <a:path w="1424028" h="1814500">
                <a:moveTo>
                  <a:pt x="1269105" y="1506080"/>
                </a:moveTo>
                <a:lnTo>
                  <a:pt x="1163632" y="1159707"/>
                </a:lnTo>
                <a:lnTo>
                  <a:pt x="1164125" y="1159558"/>
                </a:lnTo>
                <a:lnTo>
                  <a:pt x="1162960" y="1156613"/>
                </a:lnTo>
                <a:cubicBezTo>
                  <a:pt x="1143919" y="1093177"/>
                  <a:pt x="1152153" y="1023111"/>
                  <a:pt x="1188185" y="965063"/>
                </a:cubicBezTo>
                <a:lnTo>
                  <a:pt x="1206437" y="941392"/>
                </a:lnTo>
                <a:lnTo>
                  <a:pt x="1205146" y="940171"/>
                </a:lnTo>
                <a:lnTo>
                  <a:pt x="1424028" y="708654"/>
                </a:lnTo>
                <a:lnTo>
                  <a:pt x="1192812" y="490058"/>
                </a:lnTo>
                <a:lnTo>
                  <a:pt x="983249" y="291932"/>
                </a:lnTo>
                <a:lnTo>
                  <a:pt x="665595" y="0"/>
                </a:lnTo>
                <a:lnTo>
                  <a:pt x="108245" y="589524"/>
                </a:lnTo>
                <a:lnTo>
                  <a:pt x="110926" y="592059"/>
                </a:lnTo>
                <a:lnTo>
                  <a:pt x="73028" y="641205"/>
                </a:lnTo>
                <a:cubicBezTo>
                  <a:pt x="-1785" y="761733"/>
                  <a:pt x="-18881" y="907210"/>
                  <a:pt x="20653" y="1038922"/>
                </a:cubicBezTo>
                <a:lnTo>
                  <a:pt x="23073" y="1045035"/>
                </a:lnTo>
                <a:lnTo>
                  <a:pt x="22049" y="1045347"/>
                </a:lnTo>
                <a:lnTo>
                  <a:pt x="256263" y="1814500"/>
                </a:lnTo>
                <a:lnTo>
                  <a:pt x="1269105" y="150608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21"/>
          <p:cNvSpPr/>
          <p:nvPr/>
        </p:nvSpPr>
        <p:spPr>
          <a:xfrm flipH="1" flipV="1" rot="2845200">
            <a:off x="6091560" y="4433760"/>
            <a:ext cx="1130400" cy="1443240"/>
          </a:xfrm>
          <a:custGeom>
            <a:avLst/>
            <a:gdLst/>
            <a:ahLst/>
            <a:rect l="l" t="t" r="r" b="b"/>
            <a:pathLst>
              <a:path w="1424033" h="1818928">
                <a:moveTo>
                  <a:pt x="1240478" y="1519225"/>
                </a:moveTo>
                <a:lnTo>
                  <a:pt x="256263" y="1818928"/>
                </a:lnTo>
                <a:lnTo>
                  <a:pt x="22049" y="1049775"/>
                </a:lnTo>
                <a:lnTo>
                  <a:pt x="23073" y="1049464"/>
                </a:lnTo>
                <a:lnTo>
                  <a:pt x="20653" y="1043350"/>
                </a:lnTo>
                <a:cubicBezTo>
                  <a:pt x="-18881" y="911639"/>
                  <a:pt x="-1785" y="766161"/>
                  <a:pt x="73029" y="645633"/>
                </a:cubicBezTo>
                <a:lnTo>
                  <a:pt x="110926" y="596487"/>
                </a:lnTo>
                <a:lnTo>
                  <a:pt x="108245" y="593952"/>
                </a:lnTo>
                <a:lnTo>
                  <a:pt x="669780" y="0"/>
                </a:lnTo>
                <a:lnTo>
                  <a:pt x="922431" y="238862"/>
                </a:lnTo>
                <a:lnTo>
                  <a:pt x="1192812" y="494486"/>
                </a:lnTo>
                <a:lnTo>
                  <a:pt x="1424033" y="713088"/>
                </a:lnTo>
                <a:lnTo>
                  <a:pt x="1181487" y="969635"/>
                </a:lnTo>
                <a:lnTo>
                  <a:pt x="1182779" y="970857"/>
                </a:lnTo>
                <a:lnTo>
                  <a:pt x="1164527" y="994527"/>
                </a:lnTo>
                <a:cubicBezTo>
                  <a:pt x="1128494" y="1052576"/>
                  <a:pt x="1120260" y="1122642"/>
                  <a:pt x="1139301" y="1186078"/>
                </a:cubicBezTo>
                <a:lnTo>
                  <a:pt x="1140466" y="1189021"/>
                </a:lnTo>
                <a:lnTo>
                  <a:pt x="1139973" y="1189172"/>
                </a:lnTo>
                <a:lnTo>
                  <a:pt x="1240478" y="1519225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22"/>
          <p:cNvSpPr/>
          <p:nvPr/>
        </p:nvSpPr>
        <p:spPr>
          <a:xfrm>
            <a:off x="916560" y="23018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23"/>
          <p:cNvSpPr/>
          <p:nvPr/>
        </p:nvSpPr>
        <p:spPr>
          <a:xfrm>
            <a:off x="957960" y="380844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24"/>
          <p:cNvSpPr/>
          <p:nvPr/>
        </p:nvSpPr>
        <p:spPr>
          <a:xfrm>
            <a:off x="907200" y="5299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5"/>
          <p:cNvSpPr/>
          <p:nvPr/>
        </p:nvSpPr>
        <p:spPr>
          <a:xfrm>
            <a:off x="8226360" y="225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6"/>
          <p:cNvSpPr/>
          <p:nvPr/>
        </p:nvSpPr>
        <p:spPr>
          <a:xfrm>
            <a:off x="8209800" y="36990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7"/>
          <p:cNvSpPr/>
          <p:nvPr/>
        </p:nvSpPr>
        <p:spPr>
          <a:xfrm>
            <a:off x="8226360" y="5191200"/>
            <a:ext cx="2719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直接连接符 28"/>
          <p:cNvSpPr/>
          <p:nvPr/>
        </p:nvSpPr>
        <p:spPr>
          <a:xfrm>
            <a:off x="938160" y="31622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椭圆 29"/>
          <p:cNvSpPr/>
          <p:nvPr/>
        </p:nvSpPr>
        <p:spPr>
          <a:xfrm>
            <a:off x="855720" y="3065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30"/>
          <p:cNvSpPr/>
          <p:nvPr/>
        </p:nvSpPr>
        <p:spPr>
          <a:xfrm>
            <a:off x="938160" y="4656240"/>
            <a:ext cx="1582920" cy="144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1"/>
          <p:cNvSpPr/>
          <p:nvPr/>
        </p:nvSpPr>
        <p:spPr>
          <a:xfrm>
            <a:off x="855720" y="45594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32"/>
          <p:cNvSpPr/>
          <p:nvPr/>
        </p:nvSpPr>
        <p:spPr>
          <a:xfrm>
            <a:off x="938160" y="6148440"/>
            <a:ext cx="158292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3"/>
          <p:cNvSpPr/>
          <p:nvPr/>
        </p:nvSpPr>
        <p:spPr>
          <a:xfrm>
            <a:off x="855720" y="6051600"/>
            <a:ext cx="17928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直接连接符 34"/>
          <p:cNvSpPr/>
          <p:nvPr/>
        </p:nvSpPr>
        <p:spPr>
          <a:xfrm flipH="1">
            <a:off x="9845280" y="3154320"/>
            <a:ext cx="15843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5"/>
          <p:cNvSpPr/>
          <p:nvPr/>
        </p:nvSpPr>
        <p:spPr>
          <a:xfrm flipH="1" flipV="1">
            <a:off x="11331720" y="3069360"/>
            <a:ext cx="17928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36"/>
          <p:cNvSpPr/>
          <p:nvPr/>
        </p:nvSpPr>
        <p:spPr>
          <a:xfrm flipH="1">
            <a:off x="9879120" y="458316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椭圆 37"/>
          <p:cNvSpPr/>
          <p:nvPr/>
        </p:nvSpPr>
        <p:spPr>
          <a:xfrm flipH="1" flipV="1">
            <a:off x="11364120" y="4498200"/>
            <a:ext cx="179640" cy="1810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38"/>
          <p:cNvSpPr/>
          <p:nvPr/>
        </p:nvSpPr>
        <p:spPr>
          <a:xfrm flipH="1">
            <a:off x="9879120" y="6076800"/>
            <a:ext cx="1582560" cy="0"/>
          </a:xfrm>
          <a:prstGeom prst="line">
            <a:avLst/>
          </a:prstGeom>
          <a:ln w="3816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39"/>
          <p:cNvSpPr/>
          <p:nvPr/>
        </p:nvSpPr>
        <p:spPr>
          <a:xfrm flipH="1" flipV="1">
            <a:off x="11364120" y="5994360"/>
            <a:ext cx="179640" cy="17928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组合 69" descr=""/>
          <p:cNvPicPr/>
          <p:nvPr/>
        </p:nvPicPr>
        <p:blipFill>
          <a:blip r:embed="rId1"/>
          <a:stretch/>
        </p:blipFill>
        <p:spPr>
          <a:xfrm>
            <a:off x="5327640" y="2859120"/>
            <a:ext cx="396720" cy="384120"/>
          </a:xfrm>
          <a:prstGeom prst="rect">
            <a:avLst/>
          </a:prstGeom>
          <a:ln w="0">
            <a:noFill/>
          </a:ln>
        </p:spPr>
      </p:pic>
      <p:pic>
        <p:nvPicPr>
          <p:cNvPr id="256" name="组合 72" descr=""/>
          <p:cNvPicPr/>
          <p:nvPr/>
        </p:nvPicPr>
        <p:blipFill>
          <a:blip r:embed="rId2"/>
          <a:stretch/>
        </p:blipFill>
        <p:spPr>
          <a:xfrm>
            <a:off x="4657680" y="3975120"/>
            <a:ext cx="536760" cy="401760"/>
          </a:xfrm>
          <a:prstGeom prst="rect">
            <a:avLst/>
          </a:prstGeom>
          <a:ln w="0">
            <a:noFill/>
          </a:ln>
        </p:spPr>
      </p:pic>
      <p:pic>
        <p:nvPicPr>
          <p:cNvPr id="257" name="组合 75" descr=""/>
          <p:cNvPicPr/>
          <p:nvPr/>
        </p:nvPicPr>
        <p:blipFill>
          <a:blip r:embed="rId3"/>
          <a:stretch/>
        </p:blipFill>
        <p:spPr>
          <a:xfrm>
            <a:off x="5364000" y="4973760"/>
            <a:ext cx="304920" cy="384120"/>
          </a:xfrm>
          <a:prstGeom prst="rect">
            <a:avLst/>
          </a:prstGeom>
          <a:ln w="0">
            <a:noFill/>
          </a:ln>
        </p:spPr>
      </p:pic>
      <p:pic>
        <p:nvPicPr>
          <p:cNvPr id="258" name="组合 79" descr=""/>
          <p:cNvPicPr/>
          <p:nvPr/>
        </p:nvPicPr>
        <p:blipFill>
          <a:blip r:embed="rId4"/>
          <a:stretch/>
        </p:blipFill>
        <p:spPr>
          <a:xfrm>
            <a:off x="6589800" y="2932200"/>
            <a:ext cx="347400" cy="341280"/>
          </a:xfrm>
          <a:prstGeom prst="rect">
            <a:avLst/>
          </a:prstGeom>
          <a:ln w="0">
            <a:noFill/>
          </a:ln>
        </p:spPr>
      </p:pic>
      <p:pic>
        <p:nvPicPr>
          <p:cNvPr id="259" name="组合 82" descr=""/>
          <p:cNvPicPr/>
          <p:nvPr/>
        </p:nvPicPr>
        <p:blipFill>
          <a:blip r:embed="rId5"/>
          <a:stretch/>
        </p:blipFill>
        <p:spPr>
          <a:xfrm>
            <a:off x="7186680" y="4035600"/>
            <a:ext cx="360360" cy="341280"/>
          </a:xfrm>
          <a:prstGeom prst="rect">
            <a:avLst/>
          </a:prstGeom>
          <a:ln w="0">
            <a:noFill/>
          </a:ln>
        </p:spPr>
      </p:pic>
      <p:pic>
        <p:nvPicPr>
          <p:cNvPr id="260" name="组合 85" descr=""/>
          <p:cNvPicPr/>
          <p:nvPr/>
        </p:nvPicPr>
        <p:blipFill>
          <a:blip r:embed="rId6"/>
          <a:stretch/>
        </p:blipFill>
        <p:spPr>
          <a:xfrm>
            <a:off x="6559560" y="4979880"/>
            <a:ext cx="384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62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66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矩形 8"/>
          <p:cNvSpPr/>
          <p:nvPr/>
        </p:nvSpPr>
        <p:spPr>
          <a:xfrm>
            <a:off x="11194920" y="2000160"/>
            <a:ext cx="100836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9"/>
          <p:cNvSpPr/>
          <p:nvPr/>
        </p:nvSpPr>
        <p:spPr>
          <a:xfrm>
            <a:off x="8310600" y="2000160"/>
            <a:ext cx="2841480" cy="214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0"/>
          <p:cNvSpPr/>
          <p:nvPr/>
        </p:nvSpPr>
        <p:spPr>
          <a:xfrm>
            <a:off x="936720" y="4175280"/>
            <a:ext cx="2952720" cy="214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480" y="2000160"/>
            <a:ext cx="82548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12"/>
          <p:cNvSpPr/>
          <p:nvPr/>
        </p:nvSpPr>
        <p:spPr>
          <a:xfrm>
            <a:off x="3940200" y="4175280"/>
            <a:ext cx="8256600" cy="21430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13"/>
          <p:cNvSpPr/>
          <p:nvPr/>
        </p:nvSpPr>
        <p:spPr>
          <a:xfrm>
            <a:off x="0" y="4175280"/>
            <a:ext cx="890640" cy="214308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4"/>
          <p:cNvSpPr/>
          <p:nvPr/>
        </p:nvSpPr>
        <p:spPr>
          <a:xfrm>
            <a:off x="-306360" y="245412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5"/>
          <p:cNvSpPr/>
          <p:nvPr/>
        </p:nvSpPr>
        <p:spPr>
          <a:xfrm>
            <a:off x="3690720" y="4557600"/>
            <a:ext cx="89758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gency FB"/>
                <a:ea typeface="方正姚体"/>
              </a:rPr>
              <a:t>                     </a:t>
            </a:r>
            <a:r>
              <a:rPr b="0" lang="en-US" sz="28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 THAN 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 of the  narrative Thought  Click here to add  you to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center of the narrative thought  Click here to add  you to the center 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椭圆 26"/>
          <p:cNvSpPr/>
          <p:nvPr/>
        </p:nvSpPr>
        <p:spPr>
          <a:xfrm>
            <a:off x="4255920" y="3936960"/>
            <a:ext cx="1073160" cy="107316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椭圆 28"/>
          <p:cNvSpPr/>
          <p:nvPr/>
        </p:nvSpPr>
        <p:spPr>
          <a:xfrm>
            <a:off x="4527720" y="5151600"/>
            <a:ext cx="1199880" cy="1198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30"/>
          <p:cNvSpPr/>
          <p:nvPr/>
        </p:nvSpPr>
        <p:spPr>
          <a:xfrm>
            <a:off x="6826320" y="4000680"/>
            <a:ext cx="1436760" cy="143820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32"/>
          <p:cNvSpPr/>
          <p:nvPr/>
        </p:nvSpPr>
        <p:spPr>
          <a:xfrm>
            <a:off x="6435720" y="5543640"/>
            <a:ext cx="1014480" cy="101448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8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8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任意多边形 31"/>
          <p:cNvSpPr/>
          <p:nvPr/>
        </p:nvSpPr>
        <p:spPr>
          <a:xfrm flipH="1" rot="18300000">
            <a:off x="4899960" y="4522680"/>
            <a:ext cx="2028600" cy="2000160"/>
          </a:xfrm>
          <a:custGeom>
            <a:avLst/>
            <a:gdLst>
              <a:gd name="textAreaLeft" fmla="*/ -360 w 2028600"/>
              <a:gd name="textAreaRight" fmla="*/ 2028600 w 2028600"/>
              <a:gd name="textAreaTop" fmla="*/ 0 h 2000160"/>
              <a:gd name="textAreaBottom" fmla="*/ 2000520 h 2000160"/>
            </a:gdLst>
            <a:ahLst/>
            <a:rect l="textAreaLeft" t="textAreaTop" r="textAreaRight" b="textAreaBottom"/>
            <a:pathLst>
              <a:path w="2028813" h="1999955">
                <a:moveTo>
                  <a:pt x="0" y="618119"/>
                </a:moveTo>
                <a:lnTo>
                  <a:pt x="961757" y="1291548"/>
                </a:lnTo>
                <a:lnTo>
                  <a:pt x="88909" y="1609239"/>
                </a:lnTo>
                <a:lnTo>
                  <a:pt x="92596" y="1616631"/>
                </a:lnTo>
                <a:lnTo>
                  <a:pt x="119305" y="1713106"/>
                </a:lnTo>
                <a:lnTo>
                  <a:pt x="1069756" y="1367170"/>
                </a:lnTo>
                <a:lnTo>
                  <a:pt x="1649069" y="1772810"/>
                </a:lnTo>
                <a:lnTo>
                  <a:pt x="1299175" y="1900161"/>
                </a:lnTo>
                <a:lnTo>
                  <a:pt x="1330554" y="1963075"/>
                </a:lnTo>
                <a:lnTo>
                  <a:pt x="1340764" y="1999955"/>
                </a:lnTo>
                <a:lnTo>
                  <a:pt x="1757069" y="1848432"/>
                </a:lnTo>
                <a:lnTo>
                  <a:pt x="1953154" y="1985732"/>
                </a:lnTo>
                <a:lnTo>
                  <a:pt x="2028813" y="1877680"/>
                </a:lnTo>
                <a:lnTo>
                  <a:pt x="1800388" y="1717735"/>
                </a:lnTo>
                <a:lnTo>
                  <a:pt x="1800387" y="1717735"/>
                </a:lnTo>
                <a:lnTo>
                  <a:pt x="1532796" y="1530366"/>
                </a:lnTo>
                <a:lnTo>
                  <a:pt x="1532796" y="1073597"/>
                </a:lnTo>
                <a:lnTo>
                  <a:pt x="1527153" y="1072953"/>
                </a:lnTo>
                <a:lnTo>
                  <a:pt x="1424797" y="1040179"/>
                </a:lnTo>
                <a:lnTo>
                  <a:pt x="1424797" y="1454744"/>
                </a:lnTo>
                <a:lnTo>
                  <a:pt x="786165" y="1007569"/>
                </a:lnTo>
                <a:lnTo>
                  <a:pt x="786165" y="13931"/>
                </a:lnTo>
                <a:lnTo>
                  <a:pt x="685985" y="2503"/>
                </a:lnTo>
                <a:lnTo>
                  <a:pt x="678165" y="0"/>
                </a:lnTo>
                <a:lnTo>
                  <a:pt x="678165" y="931947"/>
                </a:lnTo>
                <a:lnTo>
                  <a:pt x="75659" y="510068"/>
                </a:lnTo>
                <a:lnTo>
                  <a:pt x="0" y="6181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椭圆 9"/>
          <p:cNvSpPr/>
          <p:nvPr/>
        </p:nvSpPr>
        <p:spPr>
          <a:xfrm>
            <a:off x="5210280" y="2670120"/>
            <a:ext cx="1819080" cy="1819440"/>
          </a:xfrm>
          <a:prstGeom prst="ellipse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图片 14" descr=""/>
          <p:cNvPicPr/>
          <p:nvPr/>
        </p:nvPicPr>
        <p:blipFill>
          <a:blip r:embed="rId1"/>
          <a:srcRect l="0" t="76795" r="0" b="0"/>
          <a:stretch/>
        </p:blipFill>
        <p:spPr>
          <a:xfrm>
            <a:off x="4498920" y="6850080"/>
            <a:ext cx="3238560" cy="17928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5"/>
          <p:cNvSpPr/>
          <p:nvPr/>
        </p:nvSpPr>
        <p:spPr>
          <a:xfrm>
            <a:off x="4679640" y="550224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文本框 16"/>
          <p:cNvSpPr/>
          <p:nvPr/>
        </p:nvSpPr>
        <p:spPr>
          <a:xfrm>
            <a:off x="6556320" y="5829480"/>
            <a:ext cx="7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6af2"/>
                </a:solidFill>
                <a:latin typeface="Impact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7"/>
          <p:cNvSpPr/>
          <p:nvPr/>
        </p:nvSpPr>
        <p:spPr>
          <a:xfrm>
            <a:off x="4381200" y="4218120"/>
            <a:ext cx="8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6af2"/>
                </a:solidFill>
                <a:latin typeface="Impact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8"/>
          <p:cNvSpPr/>
          <p:nvPr/>
        </p:nvSpPr>
        <p:spPr>
          <a:xfrm>
            <a:off x="7027200" y="441648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56af2"/>
                </a:solidFill>
                <a:latin typeface="Impact"/>
              </a:rPr>
              <a:t>6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9"/>
          <p:cNvSpPr/>
          <p:nvPr/>
        </p:nvSpPr>
        <p:spPr>
          <a:xfrm>
            <a:off x="5486400" y="3146400"/>
            <a:ext cx="138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56af2"/>
                </a:solidFill>
                <a:latin typeface="Impact"/>
              </a:rPr>
              <a:t>80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20"/>
          <p:cNvSpPr/>
          <p:nvPr/>
        </p:nvSpPr>
        <p:spPr>
          <a:xfrm>
            <a:off x="1263960" y="559584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21"/>
          <p:cNvSpPr/>
          <p:nvPr/>
        </p:nvSpPr>
        <p:spPr>
          <a:xfrm>
            <a:off x="1159200" y="4219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文本框 22"/>
          <p:cNvSpPr/>
          <p:nvPr/>
        </p:nvSpPr>
        <p:spPr>
          <a:xfrm>
            <a:off x="2010240" y="2828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23"/>
          <p:cNvSpPr/>
          <p:nvPr/>
        </p:nvSpPr>
        <p:spPr>
          <a:xfrm>
            <a:off x="7531560" y="57103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24"/>
          <p:cNvSpPr/>
          <p:nvPr/>
        </p:nvSpPr>
        <p:spPr>
          <a:xfrm>
            <a:off x="8377560" y="43624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29"/>
          <p:cNvSpPr/>
          <p:nvPr/>
        </p:nvSpPr>
        <p:spPr>
          <a:xfrm>
            <a:off x="241776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09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13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六边形 8"/>
          <p:cNvSpPr/>
          <p:nvPr/>
        </p:nvSpPr>
        <p:spPr>
          <a:xfrm rot="5400000">
            <a:off x="872640" y="2539800"/>
            <a:ext cx="3232080" cy="2203560"/>
          </a:xfrm>
          <a:prstGeom prst="hexagon">
            <a:avLst>
              <a:gd name="adj" fmla="val 2501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椭圆 9"/>
          <p:cNvSpPr/>
          <p:nvPr/>
        </p:nvSpPr>
        <p:spPr>
          <a:xfrm>
            <a:off x="1701720" y="2416320"/>
            <a:ext cx="1568520" cy="15681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六边形 10"/>
          <p:cNvSpPr/>
          <p:nvPr/>
        </p:nvSpPr>
        <p:spPr>
          <a:xfrm rot="5400000">
            <a:off x="4463280" y="2539080"/>
            <a:ext cx="3232080" cy="2205360"/>
          </a:xfrm>
          <a:prstGeom prst="hexagon">
            <a:avLst>
              <a:gd name="adj" fmla="val 24996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1"/>
          <p:cNvSpPr/>
          <p:nvPr/>
        </p:nvSpPr>
        <p:spPr>
          <a:xfrm>
            <a:off x="5292720" y="2416320"/>
            <a:ext cx="1566720" cy="15681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六边形 12"/>
          <p:cNvSpPr/>
          <p:nvPr/>
        </p:nvSpPr>
        <p:spPr>
          <a:xfrm rot="5400000">
            <a:off x="8093160" y="2540160"/>
            <a:ext cx="3232080" cy="2203200"/>
          </a:xfrm>
          <a:prstGeom prst="hexagon">
            <a:avLst>
              <a:gd name="adj" fmla="val 25020"/>
              <a:gd name="vf" fmla="val 115470"/>
            </a:avLst>
          </a:prstGeom>
          <a:solidFill>
            <a:srgbClr val="fdfdfd">
              <a:alpha val="40000"/>
            </a:srgbClr>
          </a:solidFill>
          <a:ln w="648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13"/>
          <p:cNvSpPr/>
          <p:nvPr/>
        </p:nvSpPr>
        <p:spPr>
          <a:xfrm>
            <a:off x="8921880" y="2416320"/>
            <a:ext cx="1568160" cy="1568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文本框 14"/>
          <p:cNvSpPr/>
          <p:nvPr/>
        </p:nvSpPr>
        <p:spPr>
          <a:xfrm>
            <a:off x="181008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5"/>
          <p:cNvSpPr/>
          <p:nvPr/>
        </p:nvSpPr>
        <p:spPr>
          <a:xfrm>
            <a:off x="535752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文本框 16"/>
          <p:cNvSpPr/>
          <p:nvPr/>
        </p:nvSpPr>
        <p:spPr>
          <a:xfrm>
            <a:off x="8996760" y="4317840"/>
            <a:ext cx="148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MORE  TH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17"/>
          <p:cNvSpPr/>
          <p:nvPr/>
        </p:nvSpPr>
        <p:spPr>
          <a:xfrm>
            <a:off x="130356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18"/>
          <p:cNvSpPr/>
          <p:nvPr/>
        </p:nvSpPr>
        <p:spPr>
          <a:xfrm>
            <a:off x="48200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文本框 19"/>
          <p:cNvSpPr/>
          <p:nvPr/>
        </p:nvSpPr>
        <p:spPr>
          <a:xfrm>
            <a:off x="8502840" y="5257800"/>
            <a:ext cx="250488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here to add you to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narrative 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  here to  add   you to th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Center of the    narrative   though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2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3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六边形 8"/>
          <p:cNvSpPr/>
          <p:nvPr/>
        </p:nvSpPr>
        <p:spPr>
          <a:xfrm>
            <a:off x="3619440" y="2981160"/>
            <a:ext cx="1878120" cy="1619280"/>
          </a:xfrm>
          <a:prstGeom prst="hexagon">
            <a:avLst>
              <a:gd name="adj" fmla="val 24990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六边形 9"/>
          <p:cNvSpPr/>
          <p:nvPr/>
        </p:nvSpPr>
        <p:spPr>
          <a:xfrm>
            <a:off x="6697800" y="2968560"/>
            <a:ext cx="1877760" cy="1617840"/>
          </a:xfrm>
          <a:prstGeom prst="hexagon">
            <a:avLst>
              <a:gd name="adj" fmla="val 25007"/>
              <a:gd name="vf" fmla="val 115470"/>
            </a:avLst>
          </a:pr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六边形 10"/>
          <p:cNvSpPr/>
          <p:nvPr/>
        </p:nvSpPr>
        <p:spPr>
          <a:xfrm>
            <a:off x="5151600" y="2130480"/>
            <a:ext cx="1877760" cy="1617480"/>
          </a:xfrm>
          <a:prstGeom prst="hexagon">
            <a:avLst>
              <a:gd name="adj" fmla="val 25013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六边形 11"/>
          <p:cNvSpPr/>
          <p:nvPr/>
        </p:nvSpPr>
        <p:spPr>
          <a:xfrm>
            <a:off x="5159520" y="3816360"/>
            <a:ext cx="1876320" cy="1619280"/>
          </a:xfrm>
          <a:prstGeom prst="hexagon">
            <a:avLst>
              <a:gd name="adj" fmla="val 24966"/>
              <a:gd name="vf" fmla="val 115470"/>
            </a:avLst>
          </a:pr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22"/>
          <p:cNvSpPr/>
          <p:nvPr/>
        </p:nvSpPr>
        <p:spPr>
          <a:xfrm>
            <a:off x="783360" y="213048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23"/>
          <p:cNvSpPr/>
          <p:nvPr/>
        </p:nvSpPr>
        <p:spPr>
          <a:xfrm>
            <a:off x="721440" y="458316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4"/>
          <p:cNvSpPr/>
          <p:nvPr/>
        </p:nvSpPr>
        <p:spPr>
          <a:xfrm>
            <a:off x="8314560" y="216540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25"/>
          <p:cNvSpPr/>
          <p:nvPr/>
        </p:nvSpPr>
        <p:spPr>
          <a:xfrm>
            <a:off x="8314560" y="4600440"/>
            <a:ext cx="3257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组合 26" descr=""/>
          <p:cNvPicPr/>
          <p:nvPr/>
        </p:nvPicPr>
        <p:blipFill>
          <a:blip r:embed="rId1"/>
          <a:stretch/>
        </p:blipFill>
        <p:spPr>
          <a:xfrm>
            <a:off x="5803920" y="2610000"/>
            <a:ext cx="584280" cy="560160"/>
          </a:xfrm>
          <a:prstGeom prst="rect">
            <a:avLst/>
          </a:prstGeom>
          <a:ln w="0">
            <a:noFill/>
          </a:ln>
        </p:spPr>
      </p:pic>
      <p:grpSp>
        <p:nvGrpSpPr>
          <p:cNvPr id="343" name="组合 29"/>
          <p:cNvGrpSpPr/>
          <p:nvPr/>
        </p:nvGrpSpPr>
        <p:grpSpPr>
          <a:xfrm>
            <a:off x="4189320" y="3517920"/>
            <a:ext cx="789120" cy="600120"/>
            <a:chOff x="4189320" y="3517920"/>
            <a:chExt cx="789120" cy="600120"/>
          </a:xfrm>
        </p:grpSpPr>
        <p:sp>
          <p:nvSpPr>
            <p:cNvPr id="344" name="Freeform 20"/>
            <p:cNvSpPr/>
            <p:nvPr/>
          </p:nvSpPr>
          <p:spPr>
            <a:xfrm>
              <a:off x="4189320" y="3598200"/>
              <a:ext cx="523080" cy="51984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19840"/>
                <a:gd name="textAreaBottom" fmla="*/ 520200 h 519840"/>
              </a:gdLst>
              <a:ahLst/>
              <a:rect l="textAreaLeft" t="textAreaTop" r="textAreaRight" b="textAreaBottom"/>
              <a:pathLst>
                <a:path w="229" h="227">
                  <a:moveTo>
                    <a:pt x="229" y="128"/>
                  </a:moveTo>
                  <a:cubicBezTo>
                    <a:pt x="229" y="98"/>
                    <a:pt x="229" y="98"/>
                    <a:pt x="229" y="98"/>
                  </a:cubicBezTo>
                  <a:cubicBezTo>
                    <a:pt x="206" y="93"/>
                    <a:pt x="206" y="93"/>
                    <a:pt x="206" y="93"/>
                  </a:cubicBezTo>
                  <a:cubicBezTo>
                    <a:pt x="204" y="87"/>
                    <a:pt x="202" y="81"/>
                    <a:pt x="200" y="76"/>
                  </a:cubicBezTo>
                  <a:cubicBezTo>
                    <a:pt x="216" y="58"/>
                    <a:pt x="216" y="58"/>
                    <a:pt x="216" y="58"/>
                  </a:cubicBezTo>
                  <a:cubicBezTo>
                    <a:pt x="198" y="34"/>
                    <a:pt x="198" y="34"/>
                    <a:pt x="198" y="34"/>
                  </a:cubicBezTo>
                  <a:cubicBezTo>
                    <a:pt x="176" y="44"/>
                    <a:pt x="176" y="44"/>
                    <a:pt x="176" y="44"/>
                  </a:cubicBezTo>
                  <a:cubicBezTo>
                    <a:pt x="172" y="39"/>
                    <a:pt x="167" y="36"/>
                    <a:pt x="161" y="33"/>
                  </a:cubicBezTo>
                  <a:cubicBezTo>
                    <a:pt x="164" y="9"/>
                    <a:pt x="164" y="9"/>
                    <a:pt x="164" y="9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23" y="20"/>
                    <a:pt x="123" y="20"/>
                    <a:pt x="123" y="20"/>
                  </a:cubicBezTo>
                  <a:cubicBezTo>
                    <a:pt x="120" y="20"/>
                    <a:pt x="117" y="20"/>
                    <a:pt x="114" y="20"/>
                  </a:cubicBezTo>
                  <a:cubicBezTo>
                    <a:pt x="111" y="20"/>
                    <a:pt x="108" y="20"/>
                    <a:pt x="105" y="20"/>
                  </a:cubicBezTo>
                  <a:cubicBezTo>
                    <a:pt x="93" y="0"/>
                    <a:pt x="93" y="0"/>
                    <a:pt x="93" y="0"/>
                  </a:cubicBezTo>
                  <a:cubicBezTo>
                    <a:pt x="65" y="9"/>
                    <a:pt x="65" y="9"/>
                    <a:pt x="65" y="9"/>
                  </a:cubicBezTo>
                  <a:cubicBezTo>
                    <a:pt x="67" y="33"/>
                    <a:pt x="67" y="33"/>
                    <a:pt x="67" y="33"/>
                  </a:cubicBezTo>
                  <a:cubicBezTo>
                    <a:pt x="62" y="36"/>
                    <a:pt x="57" y="39"/>
                    <a:pt x="52" y="44"/>
                  </a:cubicBezTo>
                  <a:cubicBezTo>
                    <a:pt x="30" y="34"/>
                    <a:pt x="30" y="34"/>
                    <a:pt x="30" y="34"/>
                  </a:cubicBezTo>
                  <a:cubicBezTo>
                    <a:pt x="13" y="58"/>
                    <a:pt x="13" y="58"/>
                    <a:pt x="13" y="58"/>
                  </a:cubicBezTo>
                  <a:cubicBezTo>
                    <a:pt x="29" y="76"/>
                    <a:pt x="29" y="76"/>
                    <a:pt x="29" y="76"/>
                  </a:cubicBezTo>
                  <a:cubicBezTo>
                    <a:pt x="26" y="81"/>
                    <a:pt x="24" y="87"/>
                    <a:pt x="23" y="94"/>
                  </a:cubicBezTo>
                  <a:cubicBezTo>
                    <a:pt x="0" y="98"/>
                    <a:pt x="0" y="98"/>
                    <a:pt x="0" y="98"/>
                  </a:cubicBezTo>
                  <a:cubicBezTo>
                    <a:pt x="0" y="128"/>
                    <a:pt x="0" y="128"/>
                    <a:pt x="0" y="128"/>
                  </a:cubicBezTo>
                  <a:cubicBezTo>
                    <a:pt x="23" y="133"/>
                    <a:pt x="23" y="133"/>
                    <a:pt x="23" y="133"/>
                  </a:cubicBezTo>
                  <a:cubicBezTo>
                    <a:pt x="24" y="139"/>
                    <a:pt x="26" y="145"/>
                    <a:pt x="29" y="151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31" y="193"/>
                    <a:pt x="31" y="193"/>
                    <a:pt x="31" y="193"/>
                  </a:cubicBezTo>
                  <a:cubicBezTo>
                    <a:pt x="52" y="183"/>
                    <a:pt x="52" y="183"/>
                    <a:pt x="52" y="183"/>
                  </a:cubicBezTo>
                  <a:cubicBezTo>
                    <a:pt x="57" y="187"/>
                    <a:pt x="62" y="191"/>
                    <a:pt x="67" y="194"/>
                  </a:cubicBezTo>
                  <a:cubicBezTo>
                    <a:pt x="65" y="218"/>
                    <a:pt x="65" y="218"/>
                    <a:pt x="65" y="218"/>
                  </a:cubicBezTo>
                  <a:cubicBezTo>
                    <a:pt x="93" y="227"/>
                    <a:pt x="93" y="227"/>
                    <a:pt x="93" y="227"/>
                  </a:cubicBezTo>
                  <a:cubicBezTo>
                    <a:pt x="105" y="206"/>
                    <a:pt x="105" y="206"/>
                    <a:pt x="105" y="206"/>
                  </a:cubicBezTo>
                  <a:cubicBezTo>
                    <a:pt x="108" y="207"/>
                    <a:pt x="111" y="207"/>
                    <a:pt x="114" y="207"/>
                  </a:cubicBezTo>
                  <a:cubicBezTo>
                    <a:pt x="117" y="207"/>
                    <a:pt x="121" y="207"/>
                    <a:pt x="124" y="206"/>
                  </a:cubicBezTo>
                  <a:cubicBezTo>
                    <a:pt x="135" y="227"/>
                    <a:pt x="135" y="227"/>
                    <a:pt x="135" y="227"/>
                  </a:cubicBezTo>
                  <a:cubicBezTo>
                    <a:pt x="164" y="217"/>
                    <a:pt x="164" y="217"/>
                    <a:pt x="164" y="217"/>
                  </a:cubicBezTo>
                  <a:cubicBezTo>
                    <a:pt x="161" y="194"/>
                    <a:pt x="161" y="194"/>
                    <a:pt x="161" y="194"/>
                  </a:cubicBezTo>
                  <a:cubicBezTo>
                    <a:pt x="167" y="191"/>
                    <a:pt x="172" y="187"/>
                    <a:pt x="176" y="183"/>
                  </a:cubicBezTo>
                  <a:cubicBezTo>
                    <a:pt x="198" y="193"/>
                    <a:pt x="198" y="193"/>
                    <a:pt x="198" y="193"/>
                  </a:cubicBezTo>
                  <a:cubicBezTo>
                    <a:pt x="216" y="168"/>
                    <a:pt x="216" y="168"/>
                    <a:pt x="216" y="168"/>
                  </a:cubicBezTo>
                  <a:cubicBezTo>
                    <a:pt x="200" y="151"/>
                    <a:pt x="200" y="151"/>
                    <a:pt x="200" y="151"/>
                  </a:cubicBezTo>
                  <a:cubicBezTo>
                    <a:pt x="202" y="145"/>
                    <a:pt x="204" y="139"/>
                    <a:pt x="206" y="133"/>
                  </a:cubicBezTo>
                  <a:lnTo>
                    <a:pt x="229" y="128"/>
                  </a:lnTo>
                  <a:close/>
                  <a:moveTo>
                    <a:pt x="114" y="180"/>
                  </a:moveTo>
                  <a:cubicBezTo>
                    <a:pt x="77" y="180"/>
                    <a:pt x="47" y="150"/>
                    <a:pt x="47" y="113"/>
                  </a:cubicBezTo>
                  <a:cubicBezTo>
                    <a:pt x="47" y="76"/>
                    <a:pt x="77" y="46"/>
                    <a:pt x="114" y="46"/>
                  </a:cubicBezTo>
                  <a:cubicBezTo>
                    <a:pt x="151" y="46"/>
                    <a:pt x="181" y="76"/>
                    <a:pt x="181" y="113"/>
                  </a:cubicBezTo>
                  <a:cubicBezTo>
                    <a:pt x="181" y="150"/>
                    <a:pt x="151" y="180"/>
                    <a:pt x="114" y="18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21"/>
            <p:cNvSpPr/>
            <p:nvPr/>
          </p:nvSpPr>
          <p:spPr>
            <a:xfrm>
              <a:off x="4669200" y="3517920"/>
              <a:ext cx="309240" cy="30960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135" h="135">
                  <a:moveTo>
                    <a:pt x="135" y="76"/>
                  </a:moveTo>
                  <a:cubicBezTo>
                    <a:pt x="135" y="58"/>
                    <a:pt x="135" y="58"/>
                    <a:pt x="135" y="58"/>
                  </a:cubicBezTo>
                  <a:cubicBezTo>
                    <a:pt x="122" y="55"/>
                    <a:pt x="122" y="55"/>
                    <a:pt x="122" y="55"/>
                  </a:cubicBezTo>
                  <a:cubicBezTo>
                    <a:pt x="121" y="52"/>
                    <a:pt x="120" y="48"/>
                    <a:pt x="118" y="45"/>
                  </a:cubicBezTo>
                  <a:cubicBezTo>
                    <a:pt x="128" y="34"/>
                    <a:pt x="128" y="34"/>
                    <a:pt x="128" y="34"/>
                  </a:cubicBezTo>
                  <a:cubicBezTo>
                    <a:pt x="117" y="20"/>
                    <a:pt x="117" y="20"/>
                    <a:pt x="117" y="20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2" y="23"/>
                    <a:pt x="99" y="21"/>
                    <a:pt x="96" y="19"/>
                  </a:cubicBezTo>
                  <a:cubicBezTo>
                    <a:pt x="97" y="5"/>
                    <a:pt x="97" y="5"/>
                    <a:pt x="97" y="5"/>
                  </a:cubicBezTo>
                  <a:cubicBezTo>
                    <a:pt x="80" y="0"/>
                    <a:pt x="80" y="0"/>
                    <a:pt x="80" y="0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1" y="12"/>
                    <a:pt x="69" y="12"/>
                    <a:pt x="67" y="12"/>
                  </a:cubicBezTo>
                  <a:cubicBezTo>
                    <a:pt x="66" y="12"/>
                    <a:pt x="64" y="12"/>
                    <a:pt x="62" y="12"/>
                  </a:cubicBezTo>
                  <a:cubicBezTo>
                    <a:pt x="55" y="0"/>
                    <a:pt x="55" y="0"/>
                    <a:pt x="55" y="0"/>
                  </a:cubicBezTo>
                  <a:cubicBezTo>
                    <a:pt x="38" y="5"/>
                    <a:pt x="38" y="5"/>
                    <a:pt x="38" y="5"/>
                  </a:cubicBezTo>
                  <a:cubicBezTo>
                    <a:pt x="39" y="19"/>
                    <a:pt x="39" y="19"/>
                    <a:pt x="39" y="19"/>
                  </a:cubicBezTo>
                  <a:cubicBezTo>
                    <a:pt x="36" y="21"/>
                    <a:pt x="33" y="23"/>
                    <a:pt x="30" y="26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7" y="34"/>
                    <a:pt x="7" y="34"/>
                    <a:pt x="7" y="34"/>
                  </a:cubicBezTo>
                  <a:cubicBezTo>
                    <a:pt x="17" y="45"/>
                    <a:pt x="17" y="45"/>
                    <a:pt x="17" y="45"/>
                  </a:cubicBezTo>
                  <a:cubicBezTo>
                    <a:pt x="15" y="48"/>
                    <a:pt x="14" y="52"/>
                    <a:pt x="13" y="55"/>
                  </a:cubicBezTo>
                  <a:cubicBezTo>
                    <a:pt x="0" y="58"/>
                    <a:pt x="0" y="58"/>
                    <a:pt x="0" y="58"/>
                  </a:cubicBezTo>
                  <a:cubicBezTo>
                    <a:pt x="0" y="76"/>
                    <a:pt x="0" y="76"/>
                    <a:pt x="0" y="76"/>
                  </a:cubicBezTo>
                  <a:cubicBezTo>
                    <a:pt x="13" y="79"/>
                    <a:pt x="13" y="79"/>
                    <a:pt x="13" y="79"/>
                  </a:cubicBezTo>
                  <a:cubicBezTo>
                    <a:pt x="14" y="83"/>
                    <a:pt x="15" y="86"/>
                    <a:pt x="17" y="90"/>
                  </a:cubicBezTo>
                  <a:cubicBezTo>
                    <a:pt x="7" y="100"/>
                    <a:pt x="7" y="100"/>
                    <a:pt x="7" y="100"/>
                  </a:cubicBezTo>
                  <a:cubicBezTo>
                    <a:pt x="18" y="114"/>
                    <a:pt x="18" y="114"/>
                    <a:pt x="18" y="114"/>
                  </a:cubicBezTo>
                  <a:cubicBezTo>
                    <a:pt x="31" y="109"/>
                    <a:pt x="31" y="109"/>
                    <a:pt x="31" y="109"/>
                  </a:cubicBezTo>
                  <a:cubicBezTo>
                    <a:pt x="33" y="111"/>
                    <a:pt x="36" y="113"/>
                    <a:pt x="39" y="115"/>
                  </a:cubicBezTo>
                  <a:cubicBezTo>
                    <a:pt x="38" y="129"/>
                    <a:pt x="38" y="129"/>
                    <a:pt x="38" y="129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62" y="122"/>
                    <a:pt x="62" y="122"/>
                    <a:pt x="62" y="122"/>
                  </a:cubicBezTo>
                  <a:cubicBezTo>
                    <a:pt x="64" y="123"/>
                    <a:pt x="66" y="123"/>
                    <a:pt x="68" y="123"/>
                  </a:cubicBezTo>
                  <a:cubicBezTo>
                    <a:pt x="69" y="123"/>
                    <a:pt x="71" y="123"/>
                    <a:pt x="73" y="122"/>
                  </a:cubicBezTo>
                  <a:cubicBezTo>
                    <a:pt x="80" y="135"/>
                    <a:pt x="80" y="135"/>
                    <a:pt x="80" y="135"/>
                  </a:cubicBezTo>
                  <a:cubicBezTo>
                    <a:pt x="97" y="129"/>
                    <a:pt x="97" y="129"/>
                    <a:pt x="97" y="129"/>
                  </a:cubicBezTo>
                  <a:cubicBezTo>
                    <a:pt x="96" y="115"/>
                    <a:pt x="96" y="115"/>
                    <a:pt x="96" y="115"/>
                  </a:cubicBezTo>
                  <a:cubicBezTo>
                    <a:pt x="99" y="113"/>
                    <a:pt x="102" y="111"/>
                    <a:pt x="104" y="109"/>
                  </a:cubicBezTo>
                  <a:cubicBezTo>
                    <a:pt x="117" y="114"/>
                    <a:pt x="117" y="114"/>
                    <a:pt x="117" y="114"/>
                  </a:cubicBezTo>
                  <a:cubicBezTo>
                    <a:pt x="128" y="100"/>
                    <a:pt x="128" y="100"/>
                    <a:pt x="128" y="100"/>
                  </a:cubicBezTo>
                  <a:cubicBezTo>
                    <a:pt x="118" y="89"/>
                    <a:pt x="118" y="89"/>
                    <a:pt x="118" y="89"/>
                  </a:cubicBezTo>
                  <a:cubicBezTo>
                    <a:pt x="120" y="86"/>
                    <a:pt x="121" y="83"/>
                    <a:pt x="122" y="79"/>
                  </a:cubicBezTo>
                  <a:lnTo>
                    <a:pt x="135" y="76"/>
                  </a:lnTo>
                  <a:close/>
                  <a:moveTo>
                    <a:pt x="67" y="107"/>
                  </a:moveTo>
                  <a:cubicBezTo>
                    <a:pt x="46" y="107"/>
                    <a:pt x="28" y="89"/>
                    <a:pt x="28" y="67"/>
                  </a:cubicBezTo>
                  <a:cubicBezTo>
                    <a:pt x="28" y="45"/>
                    <a:pt x="46" y="27"/>
                    <a:pt x="67" y="27"/>
                  </a:cubicBezTo>
                  <a:cubicBezTo>
                    <a:pt x="89" y="27"/>
                    <a:pt x="107" y="45"/>
                    <a:pt x="107" y="67"/>
                  </a:cubicBezTo>
                  <a:cubicBezTo>
                    <a:pt x="107" y="89"/>
                    <a:pt x="89" y="107"/>
                    <a:pt x="67" y="10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组合 32" descr=""/>
          <p:cNvPicPr/>
          <p:nvPr/>
        </p:nvPicPr>
        <p:blipFill>
          <a:blip r:embed="rId2"/>
          <a:stretch/>
        </p:blipFill>
        <p:spPr>
          <a:xfrm>
            <a:off x="5857920" y="4340160"/>
            <a:ext cx="446040" cy="573120"/>
          </a:xfrm>
          <a:prstGeom prst="rect">
            <a:avLst/>
          </a:prstGeom>
          <a:ln w="0">
            <a:noFill/>
          </a:ln>
        </p:spPr>
      </p:pic>
      <p:grpSp>
        <p:nvGrpSpPr>
          <p:cNvPr id="347" name="组合 36"/>
          <p:cNvGrpSpPr/>
          <p:nvPr/>
        </p:nvGrpSpPr>
        <p:grpSpPr>
          <a:xfrm>
            <a:off x="7372440" y="3603600"/>
            <a:ext cx="528480" cy="506520"/>
            <a:chOff x="7372440" y="3603600"/>
            <a:chExt cx="528480" cy="506520"/>
          </a:xfrm>
        </p:grpSpPr>
        <p:sp>
          <p:nvSpPr>
            <p:cNvPr id="348" name="Freeform 25"/>
            <p:cNvSpPr/>
            <p:nvPr/>
          </p:nvSpPr>
          <p:spPr>
            <a:xfrm>
              <a:off x="7566120" y="3967920"/>
              <a:ext cx="141840" cy="14220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任意多边形 38"/>
            <p:cNvSpPr/>
            <p:nvPr/>
          </p:nvSpPr>
          <p:spPr>
            <a:xfrm>
              <a:off x="7372440" y="3603600"/>
              <a:ext cx="528480" cy="385560"/>
            </a:xfrm>
            <a:custGeom>
              <a:avLst/>
              <a:gdLst>
                <a:gd name="textAreaLeft" fmla="*/ 0 w 528480"/>
                <a:gd name="textAreaRight" fmla="*/ 528840 w 5284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5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5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Freeform 5"/>
          <p:cNvSpPr/>
          <p:nvPr/>
        </p:nvSpPr>
        <p:spPr>
          <a:xfrm>
            <a:off x="3451320" y="3367080"/>
            <a:ext cx="2457360" cy="248616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78" h="1598">
                <a:moveTo>
                  <a:pt x="1472" y="0"/>
                </a:moveTo>
                <a:lnTo>
                  <a:pt x="104" y="0"/>
                </a:lnTo>
                <a:lnTo>
                  <a:pt x="104" y="0"/>
                </a:lnTo>
                <a:lnTo>
                  <a:pt x="88" y="2"/>
                </a:lnTo>
                <a:lnTo>
                  <a:pt x="74" y="4"/>
                </a:lnTo>
                <a:lnTo>
                  <a:pt x="60" y="8"/>
                </a:lnTo>
                <a:lnTo>
                  <a:pt x="48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2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0" y="106"/>
                </a:lnTo>
                <a:lnTo>
                  <a:pt x="4" y="120"/>
                </a:lnTo>
                <a:lnTo>
                  <a:pt x="8" y="136"/>
                </a:lnTo>
                <a:lnTo>
                  <a:pt x="14" y="150"/>
                </a:lnTo>
                <a:lnTo>
                  <a:pt x="714" y="1538"/>
                </a:lnTo>
                <a:lnTo>
                  <a:pt x="714" y="1538"/>
                </a:lnTo>
                <a:lnTo>
                  <a:pt x="722" y="1552"/>
                </a:lnTo>
                <a:lnTo>
                  <a:pt x="730" y="1564"/>
                </a:lnTo>
                <a:lnTo>
                  <a:pt x="738" y="1574"/>
                </a:lnTo>
                <a:lnTo>
                  <a:pt x="748" y="1582"/>
                </a:lnTo>
                <a:lnTo>
                  <a:pt x="758" y="1588"/>
                </a:lnTo>
                <a:lnTo>
                  <a:pt x="768" y="1594"/>
                </a:lnTo>
                <a:lnTo>
                  <a:pt x="778" y="1596"/>
                </a:lnTo>
                <a:lnTo>
                  <a:pt x="788" y="1598"/>
                </a:lnTo>
                <a:lnTo>
                  <a:pt x="800" y="1596"/>
                </a:lnTo>
                <a:lnTo>
                  <a:pt x="810" y="1594"/>
                </a:lnTo>
                <a:lnTo>
                  <a:pt x="820" y="1588"/>
                </a:lnTo>
                <a:lnTo>
                  <a:pt x="830" y="1582"/>
                </a:lnTo>
                <a:lnTo>
                  <a:pt x="838" y="1574"/>
                </a:lnTo>
                <a:lnTo>
                  <a:pt x="848" y="1564"/>
                </a:lnTo>
                <a:lnTo>
                  <a:pt x="856" y="1552"/>
                </a:lnTo>
                <a:lnTo>
                  <a:pt x="864" y="1538"/>
                </a:lnTo>
                <a:lnTo>
                  <a:pt x="1564" y="140"/>
                </a:lnTo>
                <a:lnTo>
                  <a:pt x="1564" y="140"/>
                </a:lnTo>
                <a:lnTo>
                  <a:pt x="1570" y="126"/>
                </a:lnTo>
                <a:lnTo>
                  <a:pt x="1574" y="112"/>
                </a:lnTo>
                <a:lnTo>
                  <a:pt x="1578" y="98"/>
                </a:lnTo>
                <a:lnTo>
                  <a:pt x="1578" y="84"/>
                </a:lnTo>
                <a:lnTo>
                  <a:pt x="1578" y="72"/>
                </a:lnTo>
                <a:lnTo>
                  <a:pt x="1576" y="60"/>
                </a:lnTo>
                <a:lnTo>
                  <a:pt x="1572" y="50"/>
                </a:lnTo>
                <a:lnTo>
                  <a:pt x="1566" y="40"/>
                </a:lnTo>
                <a:lnTo>
                  <a:pt x="1560" y="32"/>
                </a:lnTo>
                <a:lnTo>
                  <a:pt x="1552" y="24"/>
                </a:lnTo>
                <a:lnTo>
                  <a:pt x="1542" y="16"/>
                </a:lnTo>
                <a:lnTo>
                  <a:pt x="1530" y="10"/>
                </a:lnTo>
                <a:lnTo>
                  <a:pt x="1518" y="6"/>
                </a:lnTo>
                <a:lnTo>
                  <a:pt x="1504" y="4"/>
                </a:lnTo>
                <a:lnTo>
                  <a:pt x="1490" y="0"/>
                </a:lnTo>
                <a:lnTo>
                  <a:pt x="1472" y="0"/>
                </a:lnTo>
                <a:lnTo>
                  <a:pt x="1472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6"/>
          <p:cNvSpPr/>
          <p:nvPr/>
        </p:nvSpPr>
        <p:spPr>
          <a:xfrm>
            <a:off x="1092240" y="2638440"/>
            <a:ext cx="2473200" cy="2484360"/>
          </a:xfrm>
          <a:custGeom>
            <a:avLst/>
            <a:gdLst>
              <a:gd name="textAreaLeft" fmla="*/ 0 w 2473200"/>
              <a:gd name="textAreaRight" fmla="*/ 2473560 w 247320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70" y="1596"/>
                </a:lnTo>
                <a:lnTo>
                  <a:pt x="1470" y="1596"/>
                </a:lnTo>
                <a:lnTo>
                  <a:pt x="1488" y="1596"/>
                </a:lnTo>
                <a:lnTo>
                  <a:pt x="1506" y="1594"/>
                </a:lnTo>
                <a:lnTo>
                  <a:pt x="1520" y="1590"/>
                </a:lnTo>
                <a:lnTo>
                  <a:pt x="1534" y="1584"/>
                </a:lnTo>
                <a:lnTo>
                  <a:pt x="1548" y="1578"/>
                </a:lnTo>
                <a:lnTo>
                  <a:pt x="1558" y="1570"/>
                </a:lnTo>
                <a:lnTo>
                  <a:pt x="1566" y="1562"/>
                </a:lnTo>
                <a:lnTo>
                  <a:pt x="1574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62" y="58"/>
                </a:lnTo>
                <a:lnTo>
                  <a:pt x="862" y="58"/>
                </a:lnTo>
                <a:lnTo>
                  <a:pt x="854" y="44"/>
                </a:lnTo>
                <a:lnTo>
                  <a:pt x="846" y="32"/>
                </a:lnTo>
                <a:lnTo>
                  <a:pt x="836" y="22"/>
                </a:lnTo>
                <a:lnTo>
                  <a:pt x="828" y="14"/>
                </a:lnTo>
                <a:lnTo>
                  <a:pt x="818" y="8"/>
                </a:lnTo>
                <a:lnTo>
                  <a:pt x="808" y="4"/>
                </a:lnTo>
                <a:lnTo>
                  <a:pt x="798" y="0"/>
                </a:lnTo>
                <a:lnTo>
                  <a:pt x="788" y="0"/>
                </a:lnTo>
                <a:lnTo>
                  <a:pt x="778" y="0"/>
                </a:lnTo>
                <a:lnTo>
                  <a:pt x="768" y="4"/>
                </a:lnTo>
                <a:lnTo>
                  <a:pt x="758" y="8"/>
                </a:lnTo>
                <a:lnTo>
                  <a:pt x="748" y="14"/>
                </a:lnTo>
                <a:lnTo>
                  <a:pt x="738" y="22"/>
                </a:lnTo>
                <a:lnTo>
                  <a:pt x="730" y="32"/>
                </a:lnTo>
                <a:lnTo>
                  <a:pt x="722" y="44"/>
                </a:lnTo>
                <a:lnTo>
                  <a:pt x="714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2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8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7"/>
          <p:cNvSpPr/>
          <p:nvPr/>
        </p:nvSpPr>
        <p:spPr>
          <a:xfrm>
            <a:off x="5830920" y="2638440"/>
            <a:ext cx="2471760" cy="2484360"/>
          </a:xfrm>
          <a:custGeom>
            <a:avLst/>
            <a:gdLst>
              <a:gd name="textAreaLeft" fmla="*/ 0 w 2471760"/>
              <a:gd name="textAreaRight" fmla="*/ 2472120 w 2471760"/>
              <a:gd name="textAreaTop" fmla="*/ 0 h 2484360"/>
              <a:gd name="textAreaBottom" fmla="*/ 2484720 h 2484360"/>
            </a:gdLst>
            <a:ahLst/>
            <a:rect l="textAreaLeft" t="textAreaTop" r="textAreaRight" b="textAreaBottom"/>
            <a:pathLst>
              <a:path w="1588" h="1596">
                <a:moveTo>
                  <a:pt x="104" y="1596"/>
                </a:moveTo>
                <a:lnTo>
                  <a:pt x="1482" y="1596"/>
                </a:lnTo>
                <a:lnTo>
                  <a:pt x="1482" y="1596"/>
                </a:lnTo>
                <a:lnTo>
                  <a:pt x="1498" y="1596"/>
                </a:lnTo>
                <a:lnTo>
                  <a:pt x="1514" y="1594"/>
                </a:lnTo>
                <a:lnTo>
                  <a:pt x="1526" y="1590"/>
                </a:lnTo>
                <a:lnTo>
                  <a:pt x="1540" y="1584"/>
                </a:lnTo>
                <a:lnTo>
                  <a:pt x="1550" y="1578"/>
                </a:lnTo>
                <a:lnTo>
                  <a:pt x="1560" y="1570"/>
                </a:lnTo>
                <a:lnTo>
                  <a:pt x="1568" y="1562"/>
                </a:lnTo>
                <a:lnTo>
                  <a:pt x="1576" y="1552"/>
                </a:lnTo>
                <a:lnTo>
                  <a:pt x="1580" y="1540"/>
                </a:lnTo>
                <a:lnTo>
                  <a:pt x="1584" y="1528"/>
                </a:lnTo>
                <a:lnTo>
                  <a:pt x="1586" y="1516"/>
                </a:lnTo>
                <a:lnTo>
                  <a:pt x="1588" y="1504"/>
                </a:lnTo>
                <a:lnTo>
                  <a:pt x="1586" y="1490"/>
                </a:lnTo>
                <a:lnTo>
                  <a:pt x="1584" y="1476"/>
                </a:lnTo>
                <a:lnTo>
                  <a:pt x="1578" y="1462"/>
                </a:lnTo>
                <a:lnTo>
                  <a:pt x="1572" y="1446"/>
                </a:lnTo>
                <a:lnTo>
                  <a:pt x="872" y="58"/>
                </a:lnTo>
                <a:lnTo>
                  <a:pt x="872" y="58"/>
                </a:lnTo>
                <a:lnTo>
                  <a:pt x="866" y="44"/>
                </a:lnTo>
                <a:lnTo>
                  <a:pt x="856" y="32"/>
                </a:lnTo>
                <a:lnTo>
                  <a:pt x="848" y="22"/>
                </a:lnTo>
                <a:lnTo>
                  <a:pt x="838" y="14"/>
                </a:lnTo>
                <a:lnTo>
                  <a:pt x="830" y="8"/>
                </a:lnTo>
                <a:lnTo>
                  <a:pt x="820" y="4"/>
                </a:lnTo>
                <a:lnTo>
                  <a:pt x="808" y="0"/>
                </a:lnTo>
                <a:lnTo>
                  <a:pt x="798" y="0"/>
                </a:lnTo>
                <a:lnTo>
                  <a:pt x="788" y="0"/>
                </a:lnTo>
                <a:lnTo>
                  <a:pt x="778" y="4"/>
                </a:lnTo>
                <a:lnTo>
                  <a:pt x="768" y="8"/>
                </a:lnTo>
                <a:lnTo>
                  <a:pt x="758" y="14"/>
                </a:lnTo>
                <a:lnTo>
                  <a:pt x="748" y="22"/>
                </a:lnTo>
                <a:lnTo>
                  <a:pt x="740" y="32"/>
                </a:lnTo>
                <a:lnTo>
                  <a:pt x="730" y="44"/>
                </a:lnTo>
                <a:lnTo>
                  <a:pt x="722" y="58"/>
                </a:lnTo>
                <a:lnTo>
                  <a:pt x="14" y="1456"/>
                </a:lnTo>
                <a:lnTo>
                  <a:pt x="14" y="1456"/>
                </a:lnTo>
                <a:lnTo>
                  <a:pt x="8" y="1472"/>
                </a:lnTo>
                <a:lnTo>
                  <a:pt x="4" y="1486"/>
                </a:lnTo>
                <a:lnTo>
                  <a:pt x="0" y="1500"/>
                </a:lnTo>
                <a:lnTo>
                  <a:pt x="0" y="1512"/>
                </a:lnTo>
                <a:lnTo>
                  <a:pt x="0" y="1524"/>
                </a:lnTo>
                <a:lnTo>
                  <a:pt x="2" y="1536"/>
                </a:lnTo>
                <a:lnTo>
                  <a:pt x="6" y="1546"/>
                </a:lnTo>
                <a:lnTo>
                  <a:pt x="10" y="1556"/>
                </a:lnTo>
                <a:lnTo>
                  <a:pt x="18" y="1566"/>
                </a:lnTo>
                <a:lnTo>
                  <a:pt x="26" y="1574"/>
                </a:lnTo>
                <a:lnTo>
                  <a:pt x="36" y="1580"/>
                </a:lnTo>
                <a:lnTo>
                  <a:pt x="46" y="1586"/>
                </a:lnTo>
                <a:lnTo>
                  <a:pt x="60" y="1590"/>
                </a:lnTo>
                <a:lnTo>
                  <a:pt x="74" y="1594"/>
                </a:lnTo>
                <a:lnTo>
                  <a:pt x="88" y="1596"/>
                </a:lnTo>
                <a:lnTo>
                  <a:pt x="104" y="1596"/>
                </a:lnTo>
                <a:lnTo>
                  <a:pt x="104" y="1596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8"/>
          <p:cNvSpPr/>
          <p:nvPr/>
        </p:nvSpPr>
        <p:spPr>
          <a:xfrm>
            <a:off x="8356680" y="3367080"/>
            <a:ext cx="2463840" cy="2486160"/>
          </a:xfrm>
          <a:custGeom>
            <a:avLst/>
            <a:gdLst>
              <a:gd name="textAreaLeft" fmla="*/ 0 w 2463840"/>
              <a:gd name="textAreaRight" fmla="*/ 2464200 w 246384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582" h="1598">
                <a:moveTo>
                  <a:pt x="1476" y="0"/>
                </a:moveTo>
                <a:lnTo>
                  <a:pt x="98" y="0"/>
                </a:lnTo>
                <a:lnTo>
                  <a:pt x="98" y="0"/>
                </a:lnTo>
                <a:lnTo>
                  <a:pt x="84" y="2"/>
                </a:lnTo>
                <a:lnTo>
                  <a:pt x="70" y="4"/>
                </a:lnTo>
                <a:lnTo>
                  <a:pt x="58" y="8"/>
                </a:lnTo>
                <a:lnTo>
                  <a:pt x="46" y="12"/>
                </a:lnTo>
                <a:lnTo>
                  <a:pt x="36" y="18"/>
                </a:lnTo>
                <a:lnTo>
                  <a:pt x="26" y="26"/>
                </a:lnTo>
                <a:lnTo>
                  <a:pt x="18" y="36"/>
                </a:lnTo>
                <a:lnTo>
                  <a:pt x="10" y="46"/>
                </a:lnTo>
                <a:lnTo>
                  <a:pt x="6" y="56"/>
                </a:lnTo>
                <a:lnTo>
                  <a:pt x="2" y="68"/>
                </a:lnTo>
                <a:lnTo>
                  <a:pt x="0" y="80"/>
                </a:lnTo>
                <a:lnTo>
                  <a:pt x="0" y="94"/>
                </a:lnTo>
                <a:lnTo>
                  <a:pt x="2" y="106"/>
                </a:lnTo>
                <a:lnTo>
                  <a:pt x="6" y="120"/>
                </a:lnTo>
                <a:lnTo>
                  <a:pt x="12" y="136"/>
                </a:lnTo>
                <a:lnTo>
                  <a:pt x="20" y="150"/>
                </a:lnTo>
                <a:lnTo>
                  <a:pt x="720" y="1538"/>
                </a:lnTo>
                <a:lnTo>
                  <a:pt x="720" y="1538"/>
                </a:lnTo>
                <a:lnTo>
                  <a:pt x="726" y="1552"/>
                </a:lnTo>
                <a:lnTo>
                  <a:pt x="734" y="1564"/>
                </a:lnTo>
                <a:lnTo>
                  <a:pt x="744" y="1574"/>
                </a:lnTo>
                <a:lnTo>
                  <a:pt x="752" y="1582"/>
                </a:lnTo>
                <a:lnTo>
                  <a:pt x="760" y="1588"/>
                </a:lnTo>
                <a:lnTo>
                  <a:pt x="770" y="1594"/>
                </a:lnTo>
                <a:lnTo>
                  <a:pt x="780" y="1596"/>
                </a:lnTo>
                <a:lnTo>
                  <a:pt x="788" y="1598"/>
                </a:lnTo>
                <a:lnTo>
                  <a:pt x="798" y="1596"/>
                </a:lnTo>
                <a:lnTo>
                  <a:pt x="808" y="1594"/>
                </a:lnTo>
                <a:lnTo>
                  <a:pt x="816" y="1588"/>
                </a:lnTo>
                <a:lnTo>
                  <a:pt x="826" y="1582"/>
                </a:lnTo>
                <a:lnTo>
                  <a:pt x="834" y="1574"/>
                </a:lnTo>
                <a:lnTo>
                  <a:pt x="842" y="1564"/>
                </a:lnTo>
                <a:lnTo>
                  <a:pt x="850" y="1552"/>
                </a:lnTo>
                <a:lnTo>
                  <a:pt x="858" y="1538"/>
                </a:lnTo>
                <a:lnTo>
                  <a:pt x="1566" y="140"/>
                </a:lnTo>
                <a:lnTo>
                  <a:pt x="1566" y="140"/>
                </a:lnTo>
                <a:lnTo>
                  <a:pt x="1572" y="126"/>
                </a:lnTo>
                <a:lnTo>
                  <a:pt x="1578" y="112"/>
                </a:lnTo>
                <a:lnTo>
                  <a:pt x="1580" y="98"/>
                </a:lnTo>
                <a:lnTo>
                  <a:pt x="1582" y="84"/>
                </a:lnTo>
                <a:lnTo>
                  <a:pt x="1582" y="72"/>
                </a:lnTo>
                <a:lnTo>
                  <a:pt x="1578" y="60"/>
                </a:lnTo>
                <a:lnTo>
                  <a:pt x="1576" y="50"/>
                </a:lnTo>
                <a:lnTo>
                  <a:pt x="1570" y="40"/>
                </a:lnTo>
                <a:lnTo>
                  <a:pt x="1564" y="32"/>
                </a:lnTo>
                <a:lnTo>
                  <a:pt x="1554" y="24"/>
                </a:lnTo>
                <a:lnTo>
                  <a:pt x="1546" y="16"/>
                </a:lnTo>
                <a:lnTo>
                  <a:pt x="1534" y="10"/>
                </a:lnTo>
                <a:lnTo>
                  <a:pt x="1522" y="6"/>
                </a:lnTo>
                <a:lnTo>
                  <a:pt x="1508" y="4"/>
                </a:lnTo>
                <a:lnTo>
                  <a:pt x="1492" y="0"/>
                </a:lnTo>
                <a:lnTo>
                  <a:pt x="1476" y="0"/>
                </a:lnTo>
                <a:lnTo>
                  <a:pt x="1476" y="0"/>
                </a:lnTo>
                <a:close/>
              </a:path>
            </a:pathLst>
          </a:custGeom>
          <a:solidFill>
            <a:srgbClr val="fefefe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直接连接符 36"/>
          <p:cNvSpPr/>
          <p:nvPr/>
        </p:nvSpPr>
        <p:spPr>
          <a:xfrm>
            <a:off x="156852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0"/>
          <p:cNvSpPr/>
          <p:nvPr/>
        </p:nvSpPr>
        <p:spPr>
          <a:xfrm>
            <a:off x="6346800" y="4405320"/>
            <a:ext cx="1517760" cy="0"/>
          </a:xfrm>
          <a:prstGeom prst="line">
            <a:avLst/>
          </a:prstGeom>
          <a:ln w="6480">
            <a:solidFill>
              <a:srgbClr val="e56a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44"/>
          <p:cNvSpPr/>
          <p:nvPr/>
        </p:nvSpPr>
        <p:spPr>
          <a:xfrm>
            <a:off x="3898800" y="4191120"/>
            <a:ext cx="15177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48"/>
          <p:cNvSpPr/>
          <p:nvPr/>
        </p:nvSpPr>
        <p:spPr>
          <a:xfrm>
            <a:off x="8813880" y="4191120"/>
            <a:ext cx="15174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168372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400068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6417000" y="45338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6af2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8919000" y="4332240"/>
            <a:ext cx="12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20"/>
          <p:cNvGrpSpPr/>
          <p:nvPr/>
        </p:nvGrpSpPr>
        <p:grpSpPr>
          <a:xfrm>
            <a:off x="4406760" y="3543480"/>
            <a:ext cx="463680" cy="518760"/>
            <a:chOff x="4406760" y="3543480"/>
            <a:chExt cx="463680" cy="518760"/>
          </a:xfrm>
        </p:grpSpPr>
        <p:sp>
          <p:nvSpPr>
            <p:cNvPr id="370" name="Freeform 108"/>
            <p:cNvSpPr/>
            <p:nvPr/>
          </p:nvSpPr>
          <p:spPr>
            <a:xfrm>
              <a:off x="4486320" y="3736080"/>
              <a:ext cx="65520" cy="6660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9"/>
            <p:cNvSpPr/>
            <p:nvPr/>
          </p:nvSpPr>
          <p:spPr>
            <a:xfrm>
              <a:off x="4633920" y="369288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10"/>
            <p:cNvSpPr/>
            <p:nvPr/>
          </p:nvSpPr>
          <p:spPr>
            <a:xfrm>
              <a:off x="4501440" y="375228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11"/>
            <p:cNvSpPr/>
            <p:nvPr/>
          </p:nvSpPr>
          <p:spPr>
            <a:xfrm>
              <a:off x="4605840" y="3665160"/>
              <a:ext cx="111960" cy="11196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960"/>
                <a:gd name="textAreaBottom" fmla="*/ 112320 h 1119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12"/>
            <p:cNvSpPr/>
            <p:nvPr/>
          </p:nvSpPr>
          <p:spPr>
            <a:xfrm>
              <a:off x="4406760" y="3543480"/>
              <a:ext cx="463680" cy="5187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8760"/>
                <a:gd name="textAreaBottom" fmla="*/ 519120 h 5187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组合 26"/>
          <p:cNvGrpSpPr/>
          <p:nvPr/>
        </p:nvGrpSpPr>
        <p:grpSpPr>
          <a:xfrm>
            <a:off x="9348840" y="3527280"/>
            <a:ext cx="442800" cy="498600"/>
            <a:chOff x="9348840" y="3527280"/>
            <a:chExt cx="442800" cy="498600"/>
          </a:xfrm>
        </p:grpSpPr>
        <p:sp>
          <p:nvSpPr>
            <p:cNvPr id="376" name="Freeform 148"/>
            <p:cNvSpPr/>
            <p:nvPr/>
          </p:nvSpPr>
          <p:spPr>
            <a:xfrm>
              <a:off x="9408600" y="3527280"/>
              <a:ext cx="383040" cy="495720"/>
            </a:xfrm>
            <a:custGeom>
              <a:avLst/>
              <a:gdLst>
                <a:gd name="textAreaLeft" fmla="*/ 0 w 383040"/>
                <a:gd name="textAreaRight" fmla="*/ 383400 w 383040"/>
                <a:gd name="textAreaTop" fmla="*/ 0 h 495720"/>
                <a:gd name="textAreaBottom" fmla="*/ 496080 h 49572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49"/>
            <p:cNvSpPr/>
            <p:nvPr/>
          </p:nvSpPr>
          <p:spPr>
            <a:xfrm>
              <a:off x="9348840" y="3778560"/>
              <a:ext cx="252360" cy="24732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50"/>
            <p:cNvSpPr/>
            <p:nvPr/>
          </p:nvSpPr>
          <p:spPr>
            <a:xfrm>
              <a:off x="9454680" y="3881880"/>
              <a:ext cx="40680" cy="40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9" name="组合 30" descr=""/>
          <p:cNvPicPr/>
          <p:nvPr/>
        </p:nvPicPr>
        <p:blipFill>
          <a:blip r:embed="rId1"/>
          <a:stretch/>
        </p:blipFill>
        <p:spPr>
          <a:xfrm>
            <a:off x="6864480" y="3780000"/>
            <a:ext cx="426960" cy="420480"/>
          </a:xfrm>
          <a:prstGeom prst="rect">
            <a:avLst/>
          </a:prstGeom>
          <a:ln w="0">
            <a:noFill/>
          </a:ln>
        </p:spPr>
      </p:pic>
      <p:pic>
        <p:nvPicPr>
          <p:cNvPr id="380" name="组合 33" descr=""/>
          <p:cNvPicPr/>
          <p:nvPr/>
        </p:nvPicPr>
        <p:blipFill>
          <a:blip r:embed="rId2"/>
          <a:stretch/>
        </p:blipFill>
        <p:spPr>
          <a:xfrm>
            <a:off x="2127240" y="3706920"/>
            <a:ext cx="433440" cy="474480"/>
          </a:xfrm>
          <a:prstGeom prst="rect">
            <a:avLst/>
          </a:prstGeom>
          <a:ln w="0">
            <a:noFill/>
          </a:ln>
        </p:spPr>
      </p:pic>
      <p:sp>
        <p:nvSpPr>
          <p:cNvPr id="381" name="文本框 39"/>
          <p:cNvSpPr/>
          <p:nvPr/>
        </p:nvSpPr>
        <p:spPr>
          <a:xfrm>
            <a:off x="751320" y="539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文本框 40"/>
          <p:cNvSpPr/>
          <p:nvPr/>
        </p:nvSpPr>
        <p:spPr>
          <a:xfrm>
            <a:off x="5593320" y="5437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文本框 41"/>
          <p:cNvSpPr/>
          <p:nvPr/>
        </p:nvSpPr>
        <p:spPr>
          <a:xfrm>
            <a:off x="3270600" y="22845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42"/>
          <p:cNvSpPr/>
          <p:nvPr/>
        </p:nvSpPr>
        <p:spPr>
          <a:xfrm>
            <a:off x="8112600" y="232236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38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39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图片 8" descr=""/>
          <p:cNvPicPr/>
          <p:nvPr/>
        </p:nvPicPr>
        <p:blipFill>
          <a:blip r:embed="rId1"/>
          <a:srcRect l="10959" t="3331" r="11318" b="15082"/>
          <a:stretch/>
        </p:blipFill>
        <p:spPr>
          <a:xfrm>
            <a:off x="5010120" y="1903320"/>
            <a:ext cx="2205000" cy="4418280"/>
          </a:xfrm>
          <a:prstGeom prst="rect">
            <a:avLst/>
          </a:prstGeom>
          <a:ln w="0">
            <a:noFill/>
          </a:ln>
        </p:spPr>
      </p:pic>
      <p:sp>
        <p:nvSpPr>
          <p:cNvPr id="393" name="矩形 9"/>
          <p:cNvSpPr/>
          <p:nvPr/>
        </p:nvSpPr>
        <p:spPr>
          <a:xfrm>
            <a:off x="5202360" y="2567160"/>
            <a:ext cx="1820880" cy="316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矩形 10"/>
          <p:cNvSpPr/>
          <p:nvPr/>
        </p:nvSpPr>
        <p:spPr>
          <a:xfrm>
            <a:off x="3610080" y="2232000"/>
            <a:ext cx="795240" cy="793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矩形 11"/>
          <p:cNvSpPr/>
          <p:nvPr/>
        </p:nvSpPr>
        <p:spPr>
          <a:xfrm>
            <a:off x="3705120" y="212724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2"/>
          <p:cNvSpPr/>
          <p:nvPr/>
        </p:nvSpPr>
        <p:spPr>
          <a:xfrm>
            <a:off x="499320" y="2108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3"/>
          <p:cNvSpPr/>
          <p:nvPr/>
        </p:nvSpPr>
        <p:spPr>
          <a:xfrm>
            <a:off x="3610080" y="3797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4"/>
          <p:cNvSpPr/>
          <p:nvPr/>
        </p:nvSpPr>
        <p:spPr>
          <a:xfrm>
            <a:off x="3705120" y="369252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文本框 15"/>
          <p:cNvSpPr/>
          <p:nvPr/>
        </p:nvSpPr>
        <p:spPr>
          <a:xfrm>
            <a:off x="499320" y="36576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6"/>
          <p:cNvSpPr/>
          <p:nvPr/>
        </p:nvSpPr>
        <p:spPr>
          <a:xfrm>
            <a:off x="3610080" y="536256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7"/>
          <p:cNvSpPr/>
          <p:nvPr/>
        </p:nvSpPr>
        <p:spPr>
          <a:xfrm>
            <a:off x="3705120" y="5257800"/>
            <a:ext cx="7956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18"/>
          <p:cNvSpPr/>
          <p:nvPr/>
        </p:nvSpPr>
        <p:spPr>
          <a:xfrm>
            <a:off x="491400" y="52401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组合 19" descr=""/>
          <p:cNvPicPr/>
          <p:nvPr/>
        </p:nvPicPr>
        <p:blipFill>
          <a:blip r:embed="rId3"/>
          <a:stretch/>
        </p:blipFill>
        <p:spPr>
          <a:xfrm>
            <a:off x="3889440" y="2322360"/>
            <a:ext cx="426960" cy="401760"/>
          </a:xfrm>
          <a:prstGeom prst="rect">
            <a:avLst/>
          </a:prstGeom>
          <a:ln w="0">
            <a:noFill/>
          </a:ln>
        </p:spPr>
      </p:pic>
      <p:pic>
        <p:nvPicPr>
          <p:cNvPr id="404" name="组合 22" descr=""/>
          <p:cNvPicPr/>
          <p:nvPr/>
        </p:nvPicPr>
        <p:blipFill>
          <a:blip r:embed="rId4"/>
          <a:stretch/>
        </p:blipFill>
        <p:spPr>
          <a:xfrm>
            <a:off x="3797280" y="3932280"/>
            <a:ext cx="530280" cy="401760"/>
          </a:xfrm>
          <a:prstGeom prst="rect">
            <a:avLst/>
          </a:prstGeom>
          <a:ln w="0">
            <a:noFill/>
          </a:ln>
        </p:spPr>
      </p:pic>
      <p:pic>
        <p:nvPicPr>
          <p:cNvPr id="405" name="组合 25" descr=""/>
          <p:cNvPicPr/>
          <p:nvPr/>
        </p:nvPicPr>
        <p:blipFill>
          <a:blip r:embed="rId5"/>
          <a:stretch/>
        </p:blipFill>
        <p:spPr>
          <a:xfrm>
            <a:off x="3925800" y="5486400"/>
            <a:ext cx="298440" cy="390600"/>
          </a:xfrm>
          <a:prstGeom prst="rect">
            <a:avLst/>
          </a:prstGeom>
          <a:ln w="0">
            <a:noFill/>
          </a:ln>
        </p:spPr>
      </p:pic>
      <p:sp>
        <p:nvSpPr>
          <p:cNvPr id="406" name="矩形 29"/>
          <p:cNvSpPr/>
          <p:nvPr/>
        </p:nvSpPr>
        <p:spPr>
          <a:xfrm>
            <a:off x="7718400" y="221292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30"/>
          <p:cNvSpPr/>
          <p:nvPr/>
        </p:nvSpPr>
        <p:spPr>
          <a:xfrm>
            <a:off x="7813800" y="210816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31"/>
          <p:cNvSpPr/>
          <p:nvPr/>
        </p:nvSpPr>
        <p:spPr>
          <a:xfrm>
            <a:off x="7718400" y="378000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32"/>
          <p:cNvSpPr/>
          <p:nvPr/>
        </p:nvSpPr>
        <p:spPr>
          <a:xfrm>
            <a:off x="7813800" y="3675240"/>
            <a:ext cx="79380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3"/>
          <p:cNvSpPr/>
          <p:nvPr/>
        </p:nvSpPr>
        <p:spPr>
          <a:xfrm>
            <a:off x="7718400" y="5345280"/>
            <a:ext cx="795240" cy="795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4"/>
          <p:cNvSpPr/>
          <p:nvPr/>
        </p:nvSpPr>
        <p:spPr>
          <a:xfrm>
            <a:off x="7813800" y="5240160"/>
            <a:ext cx="793800" cy="795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组合 35" descr=""/>
          <p:cNvPicPr/>
          <p:nvPr/>
        </p:nvPicPr>
        <p:blipFill>
          <a:blip r:embed="rId6"/>
          <a:stretch/>
        </p:blipFill>
        <p:spPr>
          <a:xfrm>
            <a:off x="8010360" y="2382840"/>
            <a:ext cx="341640" cy="341280"/>
          </a:xfrm>
          <a:prstGeom prst="rect">
            <a:avLst/>
          </a:prstGeom>
          <a:ln w="0">
            <a:noFill/>
          </a:ln>
        </p:spPr>
      </p:pic>
      <p:pic>
        <p:nvPicPr>
          <p:cNvPr id="413" name="组合 38" descr=""/>
          <p:cNvPicPr/>
          <p:nvPr/>
        </p:nvPicPr>
        <p:blipFill>
          <a:blip r:embed="rId7"/>
          <a:stretch/>
        </p:blipFill>
        <p:spPr>
          <a:xfrm>
            <a:off x="7997760" y="3962520"/>
            <a:ext cx="354240" cy="341280"/>
          </a:xfrm>
          <a:prstGeom prst="rect">
            <a:avLst/>
          </a:prstGeom>
          <a:ln w="0">
            <a:noFill/>
          </a:ln>
        </p:spPr>
      </p:pic>
      <p:pic>
        <p:nvPicPr>
          <p:cNvPr id="414" name="组合 41" descr=""/>
          <p:cNvPicPr/>
          <p:nvPr/>
        </p:nvPicPr>
        <p:blipFill>
          <a:blip r:embed="rId8"/>
          <a:stretch/>
        </p:blipFill>
        <p:spPr>
          <a:xfrm>
            <a:off x="7991640" y="5462640"/>
            <a:ext cx="390240" cy="425520"/>
          </a:xfrm>
          <a:prstGeom prst="rect">
            <a:avLst/>
          </a:prstGeom>
          <a:ln w="0">
            <a:noFill/>
          </a:ln>
        </p:spPr>
      </p:pic>
      <p:sp>
        <p:nvSpPr>
          <p:cNvPr id="415" name="文本框 45"/>
          <p:cNvSpPr/>
          <p:nvPr/>
        </p:nvSpPr>
        <p:spPr>
          <a:xfrm>
            <a:off x="8629560" y="20764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文本框 46"/>
          <p:cNvSpPr/>
          <p:nvPr/>
        </p:nvSpPr>
        <p:spPr>
          <a:xfrm>
            <a:off x="8629560" y="3622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文本框 47"/>
          <p:cNvSpPr/>
          <p:nvPr/>
        </p:nvSpPr>
        <p:spPr>
          <a:xfrm>
            <a:off x="8622360" y="52070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29"/>
          <p:cNvSpPr/>
          <p:nvPr/>
        </p:nvSpPr>
        <p:spPr>
          <a:xfrm>
            <a:off x="23954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27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31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任意多边形 8"/>
          <p:cNvSpPr/>
          <p:nvPr/>
        </p:nvSpPr>
        <p:spPr>
          <a:xfrm>
            <a:off x="3778200" y="327672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任意多边形 9"/>
          <p:cNvSpPr/>
          <p:nvPr/>
        </p:nvSpPr>
        <p:spPr>
          <a:xfrm flipH="1">
            <a:off x="5224320" y="327672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0 h 1449360"/>
              <a:gd name="textAreaBottom" fmla="*/ 144972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任意多边形 10"/>
          <p:cNvSpPr/>
          <p:nvPr/>
        </p:nvSpPr>
        <p:spPr>
          <a:xfrm flipV="1">
            <a:off x="3778200" y="4726080"/>
            <a:ext cx="1446120" cy="1449360"/>
          </a:xfrm>
          <a:custGeom>
            <a:avLst/>
            <a:gdLst>
              <a:gd name="textAreaLeft" fmla="*/ 0 w 1446120"/>
              <a:gd name="textAreaRight" fmla="*/ 1446480 w 14461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任意多边形 11"/>
          <p:cNvSpPr/>
          <p:nvPr/>
        </p:nvSpPr>
        <p:spPr>
          <a:xfrm flipH="1" flipV="1">
            <a:off x="5224320" y="4726080"/>
            <a:ext cx="1447920" cy="1449360"/>
          </a:xfrm>
          <a:custGeom>
            <a:avLst/>
            <a:gdLst>
              <a:gd name="textAreaLeft" fmla="*/ 360 w 1447920"/>
              <a:gd name="textAreaRight" fmla="*/ 1448640 w 1447920"/>
              <a:gd name="textAreaTop" fmla="*/ 360 h 1449360"/>
              <a:gd name="textAreaBottom" fmla="*/ 1450080 h 144936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任意多边形 22"/>
          <p:cNvSpPr/>
          <p:nvPr/>
        </p:nvSpPr>
        <p:spPr>
          <a:xfrm flipH="1" rot="687600">
            <a:off x="7293600" y="2317320"/>
            <a:ext cx="1039680" cy="1041840"/>
          </a:xfrm>
          <a:custGeom>
            <a:avLst/>
            <a:gdLst>
              <a:gd name="textAreaLeft" fmla="*/ 360 w 1039680"/>
              <a:gd name="textAreaRight" fmla="*/ 1040400 w 1039680"/>
              <a:gd name="textAreaTop" fmla="*/ 0 h 1041840"/>
              <a:gd name="textAreaBottom" fmla="*/ 1042200 h 104184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任意多边形 23"/>
          <p:cNvSpPr/>
          <p:nvPr/>
        </p:nvSpPr>
        <p:spPr>
          <a:xfrm rot="687000">
            <a:off x="6275520" y="2111040"/>
            <a:ext cx="1039680" cy="104148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1041480"/>
              <a:gd name="textAreaBottom" fmla="*/ 104184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任意多边形 24"/>
          <p:cNvSpPr/>
          <p:nvPr/>
        </p:nvSpPr>
        <p:spPr>
          <a:xfrm flipH="1" flipV="1" rot="687000">
            <a:off x="7087680" y="3335400"/>
            <a:ext cx="1040400" cy="1041480"/>
          </a:xfrm>
          <a:custGeom>
            <a:avLst/>
            <a:gdLst>
              <a:gd name="textAreaLeft" fmla="*/ 360 w 1040400"/>
              <a:gd name="textAreaRight" fmla="*/ 1041120 w 104040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25"/>
          <p:cNvSpPr/>
          <p:nvPr/>
        </p:nvSpPr>
        <p:spPr>
          <a:xfrm flipV="1" rot="687600">
            <a:off x="6068520" y="3129840"/>
            <a:ext cx="1040040" cy="1041480"/>
          </a:xfrm>
          <a:custGeom>
            <a:avLst/>
            <a:gdLst>
              <a:gd name="textAreaLeft" fmla="*/ 0 w 1040040"/>
              <a:gd name="textAreaRight" fmla="*/ 1040400 w 1040040"/>
              <a:gd name="textAreaTop" fmla="*/ -360 h 1041480"/>
              <a:gd name="textAreaBottom" fmla="*/ 1041480 h 1041480"/>
            </a:gdLst>
            <a:ahLst/>
            <a:rect l="textAreaLeft" t="textAreaTop" r="textAreaRight" b="textAreaBottom"/>
            <a:pathLst>
              <a:path w="1581512" h="1583344">
                <a:moveTo>
                  <a:pt x="1581512" y="0"/>
                </a:moveTo>
                <a:lnTo>
                  <a:pt x="1581512" y="1583344"/>
                </a:lnTo>
                <a:lnTo>
                  <a:pt x="201988" y="1583344"/>
                </a:lnTo>
                <a:lnTo>
                  <a:pt x="204537" y="1532872"/>
                </a:lnTo>
                <a:lnTo>
                  <a:pt x="0" y="1368099"/>
                </a:lnTo>
                <a:lnTo>
                  <a:pt x="13792" y="1277729"/>
                </a:lnTo>
                <a:cubicBezTo>
                  <a:pt x="35109" y="1173558"/>
                  <a:pt x="66547" y="1073074"/>
                  <a:pt x="107035" y="977350"/>
                </a:cubicBezTo>
                <a:lnTo>
                  <a:pt x="141831" y="905119"/>
                </a:lnTo>
                <a:lnTo>
                  <a:pt x="401497" y="886697"/>
                </a:lnTo>
                <a:lnTo>
                  <a:pt x="436882" y="828450"/>
                </a:lnTo>
                <a:lnTo>
                  <a:pt x="500697" y="743113"/>
                </a:lnTo>
                <a:lnTo>
                  <a:pt x="434542" y="485682"/>
                </a:lnTo>
                <a:lnTo>
                  <a:pt x="449978" y="468697"/>
                </a:lnTo>
                <a:cubicBezTo>
                  <a:pt x="522375" y="396301"/>
                  <a:pt x="601675" y="330809"/>
                  <a:pt x="686808" y="273295"/>
                </a:cubicBezTo>
                <a:lnTo>
                  <a:pt x="798947" y="205168"/>
                </a:lnTo>
                <a:lnTo>
                  <a:pt x="1024496" y="337827"/>
                </a:lnTo>
                <a:lnTo>
                  <a:pt x="1044209" y="328331"/>
                </a:lnTo>
                <a:cubicBezTo>
                  <a:pt x="1085495" y="310868"/>
                  <a:pt x="1127808" y="295357"/>
                  <a:pt x="1171032" y="281913"/>
                </a:cubicBezTo>
                <a:lnTo>
                  <a:pt x="1255054" y="260309"/>
                </a:lnTo>
                <a:lnTo>
                  <a:pt x="1359743" y="17138"/>
                </a:lnTo>
                <a:lnTo>
                  <a:pt x="1417899" y="8262"/>
                </a:lnTo>
                <a:lnTo>
                  <a:pt x="1581512" y="0"/>
                </a:lnTo>
                <a:close/>
              </a:path>
            </a:pathLst>
          </a:custGeom>
          <a:solidFill>
            <a:srgbClr val="fefef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36"/>
          <p:cNvSpPr/>
          <p:nvPr/>
        </p:nvSpPr>
        <p:spPr>
          <a:xfrm>
            <a:off x="324720" y="49482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37"/>
          <p:cNvSpPr/>
          <p:nvPr/>
        </p:nvSpPr>
        <p:spPr>
          <a:xfrm>
            <a:off x="2683080" y="2079720"/>
            <a:ext cx="32576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文本框 38"/>
          <p:cNvSpPr/>
          <p:nvPr/>
        </p:nvSpPr>
        <p:spPr>
          <a:xfrm>
            <a:off x="8192160" y="250668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文本框 39"/>
          <p:cNvSpPr/>
          <p:nvPr/>
        </p:nvSpPr>
        <p:spPr>
          <a:xfrm>
            <a:off x="6535080" y="497376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40"/>
          <p:cNvGrpSpPr/>
          <p:nvPr/>
        </p:nvGrpSpPr>
        <p:grpSpPr>
          <a:xfrm>
            <a:off x="4464000" y="3865680"/>
            <a:ext cx="463680" cy="517320"/>
            <a:chOff x="4464000" y="3865680"/>
            <a:chExt cx="463680" cy="517320"/>
          </a:xfrm>
        </p:grpSpPr>
        <p:sp>
          <p:nvSpPr>
            <p:cNvPr id="446" name="Freeform 108"/>
            <p:cNvSpPr/>
            <p:nvPr/>
          </p:nvSpPr>
          <p:spPr>
            <a:xfrm>
              <a:off x="4543560" y="4057920"/>
              <a:ext cx="65520" cy="6624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9"/>
            <p:cNvSpPr/>
            <p:nvPr/>
          </p:nvSpPr>
          <p:spPr>
            <a:xfrm>
              <a:off x="4691160" y="4014720"/>
              <a:ext cx="55800" cy="558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10"/>
            <p:cNvSpPr/>
            <p:nvPr/>
          </p:nvSpPr>
          <p:spPr>
            <a:xfrm>
              <a:off x="4558680" y="4073760"/>
              <a:ext cx="35280" cy="35280"/>
            </a:xfrm>
            <a:custGeom>
              <a:avLst/>
              <a:gdLst>
                <a:gd name="textAreaLeft" fmla="*/ 0 w 35280"/>
                <a:gd name="textAreaRight" fmla="*/ 35640 w 352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11"/>
            <p:cNvSpPr/>
            <p:nvPr/>
          </p:nvSpPr>
          <p:spPr>
            <a:xfrm>
              <a:off x="4663080" y="3987000"/>
              <a:ext cx="111960" cy="1116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11600"/>
                <a:gd name="textAreaBottom" fmla="*/ 111960 h 11160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12"/>
            <p:cNvSpPr/>
            <p:nvPr/>
          </p:nvSpPr>
          <p:spPr>
            <a:xfrm>
              <a:off x="4464000" y="3865680"/>
              <a:ext cx="463680" cy="51732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1" name="组合 46" descr=""/>
          <p:cNvPicPr/>
          <p:nvPr/>
        </p:nvPicPr>
        <p:blipFill>
          <a:blip r:embed="rId1"/>
          <a:stretch/>
        </p:blipFill>
        <p:spPr>
          <a:xfrm>
            <a:off x="4468680" y="5005440"/>
            <a:ext cx="444600" cy="493560"/>
          </a:xfrm>
          <a:prstGeom prst="rect">
            <a:avLst/>
          </a:prstGeom>
          <a:ln w="0">
            <a:noFill/>
          </a:ln>
        </p:spPr>
      </p:pic>
      <p:pic>
        <p:nvPicPr>
          <p:cNvPr id="452" name="组合 50" descr=""/>
          <p:cNvPicPr/>
          <p:nvPr/>
        </p:nvPicPr>
        <p:blipFill>
          <a:blip r:embed="rId2"/>
          <a:stretch/>
        </p:blipFill>
        <p:spPr>
          <a:xfrm>
            <a:off x="5589720" y="3913200"/>
            <a:ext cx="420480" cy="420840"/>
          </a:xfrm>
          <a:prstGeom prst="rect">
            <a:avLst/>
          </a:prstGeom>
          <a:ln w="0">
            <a:noFill/>
          </a:ln>
        </p:spPr>
      </p:pic>
      <p:grpSp>
        <p:nvGrpSpPr>
          <p:cNvPr id="453" name="组合 53"/>
          <p:cNvGrpSpPr/>
          <p:nvPr/>
        </p:nvGrpSpPr>
        <p:grpSpPr>
          <a:xfrm>
            <a:off x="5651640" y="4968720"/>
            <a:ext cx="442800" cy="476280"/>
            <a:chOff x="5651640" y="4968720"/>
            <a:chExt cx="442800" cy="476280"/>
          </a:xfrm>
        </p:grpSpPr>
        <p:sp>
          <p:nvSpPr>
            <p:cNvPr id="454" name="Freeform 154"/>
            <p:cNvSpPr/>
            <p:nvPr/>
          </p:nvSpPr>
          <p:spPr>
            <a:xfrm>
              <a:off x="5785560" y="5373360"/>
              <a:ext cx="47880" cy="4428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44280"/>
                <a:gd name="textAreaBottom" fmla="*/ 44640 h 442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155"/>
            <p:cNvSpPr/>
            <p:nvPr/>
          </p:nvSpPr>
          <p:spPr>
            <a:xfrm>
              <a:off x="5804280" y="5367240"/>
              <a:ext cx="8640" cy="309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5688720" y="5045760"/>
              <a:ext cx="247680" cy="2473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247320"/>
                <a:gd name="textAreaBottom" fmla="*/ 247680 h 2473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5651640" y="4968720"/>
              <a:ext cx="321480" cy="476280"/>
            </a:xfrm>
            <a:custGeom>
              <a:avLst/>
              <a:gdLst>
                <a:gd name="textAreaLeft" fmla="*/ 0 w 321480"/>
                <a:gd name="textAreaRight" fmla="*/ 321840 w 32148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5913360" y="5161320"/>
              <a:ext cx="181080" cy="18072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组合 59"/>
          <p:cNvGrpSpPr/>
          <p:nvPr/>
        </p:nvGrpSpPr>
        <p:grpSpPr>
          <a:xfrm>
            <a:off x="6675120" y="2577240"/>
            <a:ext cx="491760" cy="520920"/>
            <a:chOff x="6675120" y="2577240"/>
            <a:chExt cx="491760" cy="520920"/>
          </a:xfrm>
        </p:grpSpPr>
        <p:sp>
          <p:nvSpPr>
            <p:cNvPr id="460" name="Freeform 108"/>
            <p:cNvSpPr/>
            <p:nvPr/>
          </p:nvSpPr>
          <p:spPr>
            <a:xfrm rot="1029600">
              <a:off x="6807600" y="2754360"/>
              <a:ext cx="54000" cy="5472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54720"/>
                <a:gd name="textAreaBottom" fmla="*/ 55080 h 54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9"/>
            <p:cNvSpPr/>
            <p:nvPr/>
          </p:nvSpPr>
          <p:spPr>
            <a:xfrm rot="1029600">
              <a:off x="6935760" y="2755800"/>
              <a:ext cx="46080" cy="460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10"/>
            <p:cNvSpPr/>
            <p:nvPr/>
          </p:nvSpPr>
          <p:spPr>
            <a:xfrm rot="1029600">
              <a:off x="6819840" y="2768040"/>
              <a:ext cx="29160" cy="291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11"/>
            <p:cNvSpPr/>
            <p:nvPr/>
          </p:nvSpPr>
          <p:spPr>
            <a:xfrm rot="1029600">
              <a:off x="6912360" y="2732760"/>
              <a:ext cx="92160" cy="9216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112"/>
            <p:cNvSpPr/>
            <p:nvPr/>
          </p:nvSpPr>
          <p:spPr>
            <a:xfrm rot="1029600">
              <a:off x="6729480" y="2624040"/>
              <a:ext cx="382680" cy="42696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5" name="组合 65" descr=""/>
          <p:cNvPicPr/>
          <p:nvPr/>
        </p:nvPicPr>
        <p:blipFill>
          <a:blip r:embed="rId3"/>
          <a:stretch/>
        </p:blipFill>
        <p:spPr>
          <a:xfrm>
            <a:off x="6546960" y="3346560"/>
            <a:ext cx="334800" cy="439560"/>
          </a:xfrm>
          <a:prstGeom prst="rect">
            <a:avLst/>
          </a:prstGeom>
          <a:ln w="0">
            <a:noFill/>
          </a:ln>
        </p:spPr>
      </p:pic>
      <p:pic>
        <p:nvPicPr>
          <p:cNvPr id="466" name="组合 69" descr=""/>
          <p:cNvPicPr/>
          <p:nvPr/>
        </p:nvPicPr>
        <p:blipFill>
          <a:blip r:embed="rId4"/>
          <a:stretch/>
        </p:blipFill>
        <p:spPr>
          <a:xfrm>
            <a:off x="7510320" y="2809800"/>
            <a:ext cx="408240" cy="397080"/>
          </a:xfrm>
          <a:prstGeom prst="rect">
            <a:avLst/>
          </a:prstGeom>
          <a:ln w="0">
            <a:noFill/>
          </a:ln>
        </p:spPr>
      </p:pic>
      <p:grpSp>
        <p:nvGrpSpPr>
          <p:cNvPr id="467" name="组合 72"/>
          <p:cNvGrpSpPr/>
          <p:nvPr/>
        </p:nvGrpSpPr>
        <p:grpSpPr>
          <a:xfrm>
            <a:off x="7376760" y="3493440"/>
            <a:ext cx="416520" cy="452520"/>
            <a:chOff x="7376760" y="3493440"/>
            <a:chExt cx="416520" cy="452520"/>
          </a:xfrm>
        </p:grpSpPr>
        <p:sp>
          <p:nvSpPr>
            <p:cNvPr id="468" name="Freeform 154"/>
            <p:cNvSpPr/>
            <p:nvPr/>
          </p:nvSpPr>
          <p:spPr>
            <a:xfrm rot="1029600">
              <a:off x="7492320" y="3848760"/>
              <a:ext cx="39240" cy="3636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36360"/>
                <a:gd name="textAreaBottom" fmla="*/ 36360 h 3636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55"/>
            <p:cNvSpPr/>
            <p:nvPr/>
          </p:nvSpPr>
          <p:spPr>
            <a:xfrm rot="1029600">
              <a:off x="7511400" y="3844080"/>
              <a:ext cx="7200" cy="2556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56"/>
            <p:cNvSpPr/>
            <p:nvPr/>
          </p:nvSpPr>
          <p:spPr>
            <a:xfrm rot="1029600">
              <a:off x="7467840" y="3588120"/>
              <a:ext cx="203400" cy="20376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57"/>
            <p:cNvSpPr/>
            <p:nvPr/>
          </p:nvSpPr>
          <p:spPr>
            <a:xfrm rot="1029600">
              <a:off x="7428600" y="3523320"/>
              <a:ext cx="263880" cy="392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392040"/>
                <a:gd name="textAreaBottom" fmla="*/ 392400 h 39204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58"/>
            <p:cNvSpPr/>
            <p:nvPr/>
          </p:nvSpPr>
          <p:spPr>
            <a:xfrm rot="1029600">
              <a:off x="7625520" y="3726720"/>
              <a:ext cx="148680" cy="14904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等腰三角形 1"/>
          <p:cNvSpPr/>
          <p:nvPr/>
        </p:nvSpPr>
        <p:spPr>
          <a:xfrm flipV="1">
            <a:off x="3884760" y="16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2"/>
          <p:cNvSpPr/>
          <p:nvPr/>
        </p:nvSpPr>
        <p:spPr>
          <a:xfrm flipV="1">
            <a:off x="2878200" y="1735560"/>
            <a:ext cx="44179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等腰三角形 3"/>
          <p:cNvSpPr/>
          <p:nvPr/>
        </p:nvSpPr>
        <p:spPr>
          <a:xfrm flipV="1">
            <a:off x="4890960" y="1735560"/>
            <a:ext cx="4419720" cy="3848040"/>
          </a:xfrm>
          <a:prstGeom prst="triangle">
            <a:avLst>
              <a:gd name="adj" fmla="val 50000"/>
            </a:avLst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5"/>
          <p:cNvSpPr/>
          <p:nvPr/>
        </p:nvSpPr>
        <p:spPr>
          <a:xfrm>
            <a:off x="3949920" y="2475000"/>
            <a:ext cx="428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6af2"/>
                </a:solidFill>
                <a:latin typeface="方正姚体"/>
                <a:ea typeface="方正姚体"/>
              </a:rPr>
              <a:t>CONCENT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8"/>
          <p:cNvSpPr/>
          <p:nvPr/>
        </p:nvSpPr>
        <p:spPr>
          <a:xfrm>
            <a:off x="1607040" y="4076640"/>
            <a:ext cx="18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ABOUT 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9"/>
          <p:cNvSpPr/>
          <p:nvPr/>
        </p:nvSpPr>
        <p:spPr>
          <a:xfrm>
            <a:off x="8783280" y="4051440"/>
            <a:ext cx="23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OUR   SER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0"/>
          <p:cNvSpPr/>
          <p:nvPr/>
        </p:nvSpPr>
        <p:spPr>
          <a:xfrm>
            <a:off x="1087560" y="5270400"/>
            <a:ext cx="27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DATA  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11"/>
          <p:cNvSpPr/>
          <p:nvPr/>
        </p:nvSpPr>
        <p:spPr>
          <a:xfrm>
            <a:off x="8971200" y="527040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Freeform 265"/>
          <p:cNvSpPr/>
          <p:nvPr/>
        </p:nvSpPr>
        <p:spPr>
          <a:xfrm>
            <a:off x="4635360" y="2795760"/>
            <a:ext cx="1305000" cy="160488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4880"/>
              <a:gd name="textAreaBottom" fmla="*/ 1605240 h 1604880"/>
            </a:gdLst>
            <a:ahLst/>
            <a:rect l="textAreaLeft" t="textAreaTop" r="textAreaRight" b="textAreaBottom"/>
            <a:pathLst>
              <a:path w="312" h="385">
                <a:moveTo>
                  <a:pt x="169" y="193"/>
                </a:moveTo>
                <a:cubicBezTo>
                  <a:pt x="170" y="265"/>
                  <a:pt x="254" y="358"/>
                  <a:pt x="312" y="385"/>
                </a:cubicBezTo>
                <a:cubicBezTo>
                  <a:pt x="304" y="385"/>
                  <a:pt x="104" y="302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09"/>
                  <a:pt x="1" y="202"/>
                  <a:pt x="1" y="193"/>
                </a:cubicBezTo>
                <a:cubicBezTo>
                  <a:pt x="1" y="184"/>
                  <a:pt x="0" y="176"/>
                  <a:pt x="3" y="168"/>
                </a:cubicBezTo>
                <a:cubicBezTo>
                  <a:pt x="9" y="139"/>
                  <a:pt x="28" y="113"/>
                  <a:pt x="58" y="102"/>
                </a:cubicBezTo>
                <a:cubicBezTo>
                  <a:pt x="104" y="83"/>
                  <a:pt x="304" y="0"/>
                  <a:pt x="312" y="0"/>
                </a:cubicBezTo>
                <a:cubicBezTo>
                  <a:pt x="254" y="27"/>
                  <a:pt x="170" y="116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263"/>
          <p:cNvSpPr/>
          <p:nvPr/>
        </p:nvSpPr>
        <p:spPr>
          <a:xfrm>
            <a:off x="6307200" y="3851280"/>
            <a:ext cx="1299960" cy="160668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06680"/>
              <a:gd name="textAreaBottom" fmla="*/ 1607040 h 1606680"/>
            </a:gdLst>
            <a:ahLst/>
            <a:rect l="textAreaLeft" t="textAreaTop" r="textAreaRight" b="textAreaBottom"/>
            <a:pathLst>
              <a:path w="311" h="385">
                <a:moveTo>
                  <a:pt x="143" y="192"/>
                </a:moveTo>
                <a:cubicBezTo>
                  <a:pt x="142" y="120"/>
                  <a:pt x="58" y="27"/>
                  <a:pt x="0" y="0"/>
                </a:cubicBezTo>
                <a:cubicBezTo>
                  <a:pt x="7" y="0"/>
                  <a:pt x="208" y="83"/>
                  <a:pt x="254" y="101"/>
                </a:cubicBezTo>
                <a:cubicBezTo>
                  <a:pt x="283" y="113"/>
                  <a:pt x="303" y="139"/>
                  <a:pt x="309" y="168"/>
                </a:cubicBezTo>
                <a:cubicBezTo>
                  <a:pt x="311" y="175"/>
                  <a:pt x="311" y="183"/>
                  <a:pt x="311" y="192"/>
                </a:cubicBezTo>
                <a:cubicBezTo>
                  <a:pt x="311" y="201"/>
                  <a:pt x="311" y="209"/>
                  <a:pt x="309" y="217"/>
                </a:cubicBezTo>
                <a:cubicBezTo>
                  <a:pt x="303" y="246"/>
                  <a:pt x="283" y="271"/>
                  <a:pt x="254" y="283"/>
                </a:cubicBezTo>
                <a:cubicBezTo>
                  <a:pt x="208" y="302"/>
                  <a:pt x="7" y="385"/>
                  <a:pt x="0" y="385"/>
                </a:cubicBezTo>
                <a:cubicBezTo>
                  <a:pt x="58" y="358"/>
                  <a:pt x="142" y="269"/>
                  <a:pt x="143" y="192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66"/>
          <p:cNvSpPr/>
          <p:nvPr/>
        </p:nvSpPr>
        <p:spPr>
          <a:xfrm>
            <a:off x="4635360" y="4902120"/>
            <a:ext cx="1305000" cy="1609920"/>
          </a:xfrm>
          <a:custGeom>
            <a:avLst/>
            <a:gdLst>
              <a:gd name="textAreaLeft" fmla="*/ 0 w 1305000"/>
              <a:gd name="textAreaRight" fmla="*/ 1305360 w 1305000"/>
              <a:gd name="textAreaTop" fmla="*/ 0 h 1609920"/>
              <a:gd name="textAreaBottom" fmla="*/ 1610280 h 1609920"/>
            </a:gdLst>
            <a:ahLst/>
            <a:rect l="textAreaLeft" t="textAreaTop" r="textAreaRight" b="textAreaBottom"/>
            <a:pathLst>
              <a:path w="312" h="386">
                <a:moveTo>
                  <a:pt x="169" y="193"/>
                </a:moveTo>
                <a:cubicBezTo>
                  <a:pt x="170" y="266"/>
                  <a:pt x="254" y="358"/>
                  <a:pt x="312" y="386"/>
                </a:cubicBezTo>
                <a:cubicBezTo>
                  <a:pt x="304" y="386"/>
                  <a:pt x="104" y="303"/>
                  <a:pt x="58" y="284"/>
                </a:cubicBezTo>
                <a:cubicBezTo>
                  <a:pt x="28" y="272"/>
                  <a:pt x="9" y="246"/>
                  <a:pt x="3" y="217"/>
                </a:cubicBezTo>
                <a:cubicBezTo>
                  <a:pt x="0" y="210"/>
                  <a:pt x="1" y="203"/>
                  <a:pt x="1" y="193"/>
                </a:cubicBezTo>
                <a:cubicBezTo>
                  <a:pt x="1" y="185"/>
                  <a:pt x="0" y="176"/>
                  <a:pt x="3" y="169"/>
                </a:cubicBezTo>
                <a:cubicBezTo>
                  <a:pt x="9" y="140"/>
                  <a:pt x="28" y="114"/>
                  <a:pt x="58" y="102"/>
                </a:cubicBezTo>
                <a:cubicBezTo>
                  <a:pt x="104" y="83"/>
                  <a:pt x="304" y="0"/>
                  <a:pt x="312" y="1"/>
                </a:cubicBezTo>
                <a:cubicBezTo>
                  <a:pt x="254" y="28"/>
                  <a:pt x="170" y="117"/>
                  <a:pt x="169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Freeform 267"/>
          <p:cNvSpPr/>
          <p:nvPr/>
        </p:nvSpPr>
        <p:spPr>
          <a:xfrm>
            <a:off x="6307200" y="1739880"/>
            <a:ext cx="1299960" cy="1611360"/>
          </a:xfrm>
          <a:custGeom>
            <a:avLst/>
            <a:gdLst>
              <a:gd name="textAreaLeft" fmla="*/ 0 w 1299960"/>
              <a:gd name="textAreaRight" fmla="*/ 1300320 w 1299960"/>
              <a:gd name="textAreaTop" fmla="*/ 0 h 1611360"/>
              <a:gd name="textAreaBottom" fmla="*/ 1611720 h 1611360"/>
            </a:gdLst>
            <a:ahLst/>
            <a:rect l="textAreaLeft" t="textAreaTop" r="textAreaRight" b="textAreaBottom"/>
            <a:pathLst>
              <a:path w="311" h="386">
                <a:moveTo>
                  <a:pt x="143" y="193"/>
                </a:moveTo>
                <a:cubicBezTo>
                  <a:pt x="142" y="120"/>
                  <a:pt x="58" y="28"/>
                  <a:pt x="0" y="0"/>
                </a:cubicBezTo>
                <a:cubicBezTo>
                  <a:pt x="7" y="0"/>
                  <a:pt x="208" y="83"/>
                  <a:pt x="254" y="102"/>
                </a:cubicBezTo>
                <a:cubicBezTo>
                  <a:pt x="283" y="114"/>
                  <a:pt x="303" y="140"/>
                  <a:pt x="309" y="169"/>
                </a:cubicBezTo>
                <a:cubicBezTo>
                  <a:pt x="311" y="176"/>
                  <a:pt x="311" y="183"/>
                  <a:pt x="311" y="193"/>
                </a:cubicBezTo>
                <a:cubicBezTo>
                  <a:pt x="311" y="201"/>
                  <a:pt x="311" y="210"/>
                  <a:pt x="309" y="217"/>
                </a:cubicBezTo>
                <a:cubicBezTo>
                  <a:pt x="303" y="246"/>
                  <a:pt x="283" y="272"/>
                  <a:pt x="254" y="284"/>
                </a:cubicBezTo>
                <a:cubicBezTo>
                  <a:pt x="208" y="303"/>
                  <a:pt x="7" y="386"/>
                  <a:pt x="0" y="385"/>
                </a:cubicBezTo>
                <a:cubicBezTo>
                  <a:pt x="58" y="358"/>
                  <a:pt x="142" y="269"/>
                  <a:pt x="143" y="193"/>
                </a:cubicBez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47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48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任意多边形 8"/>
          <p:cNvSpPr/>
          <p:nvPr/>
        </p:nvSpPr>
        <p:spPr>
          <a:xfrm>
            <a:off x="1601640" y="32767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椭圆 9"/>
          <p:cNvSpPr/>
          <p:nvPr/>
        </p:nvSpPr>
        <p:spPr>
          <a:xfrm>
            <a:off x="1434960" y="316872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任意多边形 10"/>
          <p:cNvSpPr/>
          <p:nvPr/>
        </p:nvSpPr>
        <p:spPr>
          <a:xfrm>
            <a:off x="1585800" y="5627520"/>
            <a:ext cx="315288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椭圆 11"/>
          <p:cNvSpPr/>
          <p:nvPr/>
        </p:nvSpPr>
        <p:spPr>
          <a:xfrm>
            <a:off x="1434960" y="551808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椭圆 12"/>
          <p:cNvSpPr/>
          <p:nvPr/>
        </p:nvSpPr>
        <p:spPr>
          <a:xfrm>
            <a:off x="10698120" y="2268360"/>
            <a:ext cx="216000" cy="21600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任意多边形 13"/>
          <p:cNvSpPr/>
          <p:nvPr/>
        </p:nvSpPr>
        <p:spPr>
          <a:xfrm>
            <a:off x="7558200" y="444672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椭圆 14"/>
          <p:cNvSpPr/>
          <p:nvPr/>
        </p:nvSpPr>
        <p:spPr>
          <a:xfrm>
            <a:off x="10665000" y="4349880"/>
            <a:ext cx="215640" cy="215640"/>
          </a:xfrm>
          <a:prstGeom prst="ellipse">
            <a:avLst/>
          </a:pr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任意多边形 47"/>
          <p:cNvSpPr/>
          <p:nvPr/>
        </p:nvSpPr>
        <p:spPr>
          <a:xfrm>
            <a:off x="5810400" y="1724040"/>
            <a:ext cx="955440" cy="587520"/>
          </a:xfrm>
          <a:custGeom>
            <a:avLst/>
            <a:gdLst>
              <a:gd name="textAreaLeft" fmla="*/ 0 w 955440"/>
              <a:gd name="textAreaRight" fmla="*/ 955800 w 955440"/>
              <a:gd name="textAreaTop" fmla="*/ 0 h 587520"/>
              <a:gd name="textAreaBottom" fmla="*/ 587880 h 587520"/>
            </a:gdLst>
            <a:ahLst/>
            <a:rect l="textAreaLeft" t="textAreaTop" r="textAreaRight" b="textAreaBottom"/>
            <a:pathLst>
              <a:path w="956472" h="588502">
                <a:moveTo>
                  <a:pt x="367535" y="414"/>
                </a:moveTo>
                <a:cubicBezTo>
                  <a:pt x="414525" y="-1542"/>
                  <a:pt x="459687" y="3413"/>
                  <a:pt x="498323" y="15928"/>
                </a:cubicBezTo>
                <a:lnTo>
                  <a:pt x="508117" y="19778"/>
                </a:lnTo>
                <a:lnTo>
                  <a:pt x="497633" y="16980"/>
                </a:lnTo>
                <a:cubicBezTo>
                  <a:pt x="618911" y="75378"/>
                  <a:pt x="767371" y="200518"/>
                  <a:pt x="886034" y="349121"/>
                </a:cubicBezTo>
                <a:lnTo>
                  <a:pt x="956472" y="447432"/>
                </a:lnTo>
                <a:lnTo>
                  <a:pt x="947460" y="449990"/>
                </a:lnTo>
                <a:cubicBezTo>
                  <a:pt x="670620" y="526992"/>
                  <a:pt x="284258" y="618253"/>
                  <a:pt x="185058" y="579141"/>
                </a:cubicBezTo>
                <a:cubicBezTo>
                  <a:pt x="34690" y="516562"/>
                  <a:pt x="-40494" y="341340"/>
                  <a:pt x="22159" y="186978"/>
                </a:cubicBezTo>
                <a:cubicBezTo>
                  <a:pt x="69149" y="74336"/>
                  <a:pt x="226565" y="6281"/>
                  <a:pt x="367535" y="41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任意多边形 43"/>
          <p:cNvSpPr/>
          <p:nvPr/>
        </p:nvSpPr>
        <p:spPr>
          <a:xfrm>
            <a:off x="5479920" y="5938920"/>
            <a:ext cx="959040" cy="588960"/>
          </a:xfrm>
          <a:custGeom>
            <a:avLst/>
            <a:gdLst>
              <a:gd name="textAreaLeft" fmla="*/ 0 w 959040"/>
              <a:gd name="textAreaRight" fmla="*/ 959400 w 95904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958283" h="588461">
                <a:moveTo>
                  <a:pt x="682412" y="383"/>
                </a:moveTo>
                <a:cubicBezTo>
                  <a:pt x="722060" y="-1068"/>
                  <a:pt x="753387" y="1540"/>
                  <a:pt x="773227" y="9362"/>
                </a:cubicBezTo>
                <a:cubicBezTo>
                  <a:pt x="923594" y="71942"/>
                  <a:pt x="998778" y="247163"/>
                  <a:pt x="936125" y="397353"/>
                </a:cubicBezTo>
                <a:cubicBezTo>
                  <a:pt x="873472" y="551715"/>
                  <a:pt x="614506" y="622638"/>
                  <a:pt x="459961" y="572575"/>
                </a:cubicBezTo>
                <a:lnTo>
                  <a:pt x="455815" y="570945"/>
                </a:lnTo>
                <a:lnTo>
                  <a:pt x="364165" y="517308"/>
                </a:lnTo>
                <a:cubicBezTo>
                  <a:pt x="265785" y="450510"/>
                  <a:pt x="160136" y="352256"/>
                  <a:pt x="71230" y="240804"/>
                </a:cubicBezTo>
                <a:lnTo>
                  <a:pt x="0" y="141285"/>
                </a:lnTo>
                <a:lnTo>
                  <a:pt x="9805" y="138513"/>
                </a:lnTo>
                <a:cubicBezTo>
                  <a:pt x="232093" y="76912"/>
                  <a:pt x="523822" y="6185"/>
                  <a:pt x="682412" y="383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任意多边形 41"/>
          <p:cNvSpPr/>
          <p:nvPr/>
        </p:nvSpPr>
        <p:spPr>
          <a:xfrm>
            <a:off x="5477040" y="4884840"/>
            <a:ext cx="1295280" cy="5889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4816" h="589332">
                <a:moveTo>
                  <a:pt x="571291" y="494"/>
                </a:moveTo>
                <a:cubicBezTo>
                  <a:pt x="692429" y="-5765"/>
                  <a:pt x="942016" y="48480"/>
                  <a:pt x="1161841" y="105854"/>
                </a:cubicBezTo>
                <a:lnTo>
                  <a:pt x="1294816" y="142080"/>
                </a:lnTo>
                <a:lnTo>
                  <a:pt x="1218043" y="248659"/>
                </a:lnTo>
                <a:cubicBezTo>
                  <a:pt x="1129046" y="358932"/>
                  <a:pt x="1023287" y="454541"/>
                  <a:pt x="924807" y="519209"/>
                </a:cubicBezTo>
                <a:lnTo>
                  <a:pt x="832811" y="571170"/>
                </a:lnTo>
                <a:lnTo>
                  <a:pt x="830276" y="572149"/>
                </a:lnTo>
                <a:cubicBezTo>
                  <a:pt x="796859" y="580494"/>
                  <a:pt x="759264" y="588839"/>
                  <a:pt x="721670" y="588839"/>
                </a:cubicBezTo>
                <a:cubicBezTo>
                  <a:pt x="600532" y="595098"/>
                  <a:pt x="350945" y="540854"/>
                  <a:pt x="130598" y="483480"/>
                </a:cubicBezTo>
                <a:lnTo>
                  <a:pt x="0" y="448014"/>
                </a:lnTo>
                <a:lnTo>
                  <a:pt x="73896" y="345763"/>
                </a:lnTo>
                <a:cubicBezTo>
                  <a:pt x="192437" y="199246"/>
                  <a:pt x="340745" y="78278"/>
                  <a:pt x="461897" y="21966"/>
                </a:cubicBezTo>
                <a:lnTo>
                  <a:pt x="459978" y="22363"/>
                </a:lnTo>
                <a:lnTo>
                  <a:pt x="462684" y="21358"/>
                </a:lnTo>
                <a:cubicBezTo>
                  <a:pt x="496101" y="8840"/>
                  <a:pt x="529519" y="494"/>
                  <a:pt x="571291" y="494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任意多边形 37"/>
          <p:cNvSpPr/>
          <p:nvPr/>
        </p:nvSpPr>
        <p:spPr>
          <a:xfrm>
            <a:off x="5481720" y="3833640"/>
            <a:ext cx="1284120" cy="584280"/>
          </a:xfrm>
          <a:custGeom>
            <a:avLst/>
            <a:gdLst>
              <a:gd name="textAreaLeft" fmla="*/ 0 w 1284120"/>
              <a:gd name="textAreaRight" fmla="*/ 1284120 w 1284120"/>
              <a:gd name="textAreaTop" fmla="*/ 0 h 584280"/>
              <a:gd name="textAreaBottom" fmla="*/ 584640 h 584280"/>
            </a:gdLst>
            <a:ahLst/>
            <a:rect l="textAreaLeft" t="textAreaTop" r="textAreaRight" b="textAreaBottom"/>
            <a:pathLst>
              <a:path w="1283353" h="584886">
                <a:moveTo>
                  <a:pt x="704804" y="1085"/>
                </a:moveTo>
                <a:cubicBezTo>
                  <a:pt x="746576" y="-3085"/>
                  <a:pt x="788348" y="5254"/>
                  <a:pt x="825942" y="17763"/>
                </a:cubicBezTo>
                <a:lnTo>
                  <a:pt x="831874" y="19965"/>
                </a:lnTo>
                <a:lnTo>
                  <a:pt x="825308" y="18213"/>
                </a:lnTo>
                <a:cubicBezTo>
                  <a:pt x="946586" y="74523"/>
                  <a:pt x="1095046" y="199655"/>
                  <a:pt x="1213709" y="348250"/>
                </a:cubicBezTo>
                <a:lnTo>
                  <a:pt x="1283353" y="445420"/>
                </a:lnTo>
                <a:lnTo>
                  <a:pt x="1170039" y="476419"/>
                </a:lnTo>
                <a:cubicBezTo>
                  <a:pt x="955436" y="532708"/>
                  <a:pt x="708981" y="586913"/>
                  <a:pt x="579488" y="584828"/>
                </a:cubicBezTo>
                <a:cubicBezTo>
                  <a:pt x="537717" y="584828"/>
                  <a:pt x="495945" y="580658"/>
                  <a:pt x="458350" y="568149"/>
                </a:cubicBezTo>
                <a:lnTo>
                  <a:pt x="456445" y="567415"/>
                </a:lnTo>
                <a:lnTo>
                  <a:pt x="457564" y="567700"/>
                </a:lnTo>
                <a:cubicBezTo>
                  <a:pt x="336412" y="511391"/>
                  <a:pt x="188104" y="386258"/>
                  <a:pt x="69563" y="237664"/>
                </a:cubicBezTo>
                <a:lnTo>
                  <a:pt x="0" y="140506"/>
                </a:lnTo>
                <a:lnTo>
                  <a:pt x="113732" y="109494"/>
                </a:lnTo>
                <a:cubicBezTo>
                  <a:pt x="328857" y="53205"/>
                  <a:pt x="575311" y="-1000"/>
                  <a:pt x="704804" y="1085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任意多边形 45"/>
          <p:cNvSpPr/>
          <p:nvPr/>
        </p:nvSpPr>
        <p:spPr>
          <a:xfrm>
            <a:off x="5477040" y="2778120"/>
            <a:ext cx="1293480" cy="588960"/>
          </a:xfrm>
          <a:custGeom>
            <a:avLst/>
            <a:gdLst>
              <a:gd name="textAreaLeft" fmla="*/ 0 w 1293480"/>
              <a:gd name="textAreaRight" fmla="*/ 1293840 w 1293480"/>
              <a:gd name="textAreaTop" fmla="*/ 0 h 588960"/>
              <a:gd name="textAreaBottom" fmla="*/ 589320 h 588960"/>
            </a:gdLst>
            <a:ahLst/>
            <a:rect l="textAreaLeft" t="textAreaTop" r="textAreaRight" b="textAreaBottom"/>
            <a:pathLst>
              <a:path w="1293475" h="589382">
                <a:moveTo>
                  <a:pt x="584597" y="59"/>
                </a:moveTo>
                <a:cubicBezTo>
                  <a:pt x="714090" y="-2031"/>
                  <a:pt x="960545" y="52304"/>
                  <a:pt x="1175148" y="108729"/>
                </a:cubicBezTo>
                <a:lnTo>
                  <a:pt x="1293475" y="141176"/>
                </a:lnTo>
                <a:lnTo>
                  <a:pt x="1218817" y="244375"/>
                </a:lnTo>
                <a:cubicBezTo>
                  <a:pt x="1100154" y="390892"/>
                  <a:pt x="951694" y="511860"/>
                  <a:pt x="830416" y="568173"/>
                </a:cubicBezTo>
                <a:lnTo>
                  <a:pt x="833941" y="567409"/>
                </a:lnTo>
                <a:lnTo>
                  <a:pt x="831051" y="568484"/>
                </a:lnTo>
                <a:cubicBezTo>
                  <a:pt x="793457" y="581023"/>
                  <a:pt x="751685" y="589382"/>
                  <a:pt x="709913" y="589382"/>
                </a:cubicBezTo>
                <a:cubicBezTo>
                  <a:pt x="580420" y="589382"/>
                  <a:pt x="333966" y="534002"/>
                  <a:pt x="118841" y="477578"/>
                </a:cubicBezTo>
                <a:lnTo>
                  <a:pt x="0" y="445247"/>
                </a:lnTo>
                <a:lnTo>
                  <a:pt x="74672" y="341478"/>
                </a:lnTo>
                <a:cubicBezTo>
                  <a:pt x="193213" y="194448"/>
                  <a:pt x="341521" y="73487"/>
                  <a:pt x="462673" y="17177"/>
                </a:cubicBezTo>
                <a:lnTo>
                  <a:pt x="461942" y="17364"/>
                </a:lnTo>
                <a:lnTo>
                  <a:pt x="463459" y="16777"/>
                </a:lnTo>
                <a:cubicBezTo>
                  <a:pt x="501054" y="4238"/>
                  <a:pt x="542826" y="59"/>
                  <a:pt x="584597" y="59"/>
                </a:cubicBezTo>
                <a:close/>
              </a:path>
            </a:pathLst>
          </a:custGeom>
          <a:solidFill>
            <a:srgbClr val="fefefe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24"/>
          <p:cNvSpPr/>
          <p:nvPr/>
        </p:nvSpPr>
        <p:spPr>
          <a:xfrm>
            <a:off x="7558200" y="2365200"/>
            <a:ext cx="3152520" cy="360"/>
          </a:xfrm>
          <a:custGeom>
            <a:avLst/>
            <a:gdLst/>
            <a:ahLst/>
            <a:rect l="l" t="t" r="r" b="b"/>
            <a:pathLst>
              <a:path w="3152775" h="635">
                <a:moveTo>
                  <a:pt x="3152775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efefe"/>
            </a:solidFill>
            <a:prstDash val="sys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文本框 25"/>
          <p:cNvSpPr/>
          <p:nvPr/>
        </p:nvSpPr>
        <p:spPr>
          <a:xfrm>
            <a:off x="4730400" y="33256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文本框 26"/>
          <p:cNvSpPr/>
          <p:nvPr/>
        </p:nvSpPr>
        <p:spPr>
          <a:xfrm>
            <a:off x="4684320" y="533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27"/>
          <p:cNvSpPr/>
          <p:nvPr/>
        </p:nvSpPr>
        <p:spPr>
          <a:xfrm>
            <a:off x="6935400" y="222264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文本框 28"/>
          <p:cNvSpPr/>
          <p:nvPr/>
        </p:nvSpPr>
        <p:spPr>
          <a:xfrm>
            <a:off x="6915600" y="430200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b2334"/>
                </a:solidFill>
                <a:latin typeface="方正姚体"/>
                <a:ea typeface="方正姚体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文本框 29"/>
          <p:cNvSpPr/>
          <p:nvPr/>
        </p:nvSpPr>
        <p:spPr>
          <a:xfrm>
            <a:off x="1540800" y="45878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30"/>
          <p:cNvSpPr/>
          <p:nvPr/>
        </p:nvSpPr>
        <p:spPr>
          <a:xfrm>
            <a:off x="1556640" y="225900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31"/>
          <p:cNvSpPr/>
          <p:nvPr/>
        </p:nvSpPr>
        <p:spPr>
          <a:xfrm>
            <a:off x="7593840" y="2424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文本框 32"/>
          <p:cNvSpPr/>
          <p:nvPr/>
        </p:nvSpPr>
        <p:spPr>
          <a:xfrm>
            <a:off x="7498440" y="4467240"/>
            <a:ext cx="325764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0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1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任意多边形 8"/>
          <p:cNvSpPr/>
          <p:nvPr/>
        </p:nvSpPr>
        <p:spPr>
          <a:xfrm>
            <a:off x="0" y="2028960"/>
            <a:ext cx="5946840" cy="4273560"/>
          </a:xfrm>
          <a:custGeom>
            <a:avLst/>
            <a:gdLst>
              <a:gd name="textAreaLeft" fmla="*/ 0 w 5946840"/>
              <a:gd name="textAreaRight" fmla="*/ 5947200 w 594684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5956574" h="4274456">
                <a:moveTo>
                  <a:pt x="0" y="0"/>
                </a:moveTo>
                <a:lnTo>
                  <a:pt x="5956574" y="0"/>
                </a:lnTo>
                <a:lnTo>
                  <a:pt x="4807721" y="4274456"/>
                </a:lnTo>
                <a:lnTo>
                  <a:pt x="0" y="4274456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任意多边形 9"/>
          <p:cNvSpPr/>
          <p:nvPr/>
        </p:nvSpPr>
        <p:spPr>
          <a:xfrm>
            <a:off x="4781520" y="2028960"/>
            <a:ext cx="7410600" cy="4273560"/>
          </a:xfrm>
          <a:custGeom>
            <a:avLst/>
            <a:gdLst>
              <a:gd name="textAreaLeft" fmla="*/ 0 w 7410600"/>
              <a:gd name="textAreaRight" fmla="*/ 7410960 w 7410600"/>
              <a:gd name="textAreaTop" fmla="*/ 0 h 4273560"/>
              <a:gd name="textAreaBottom" fmla="*/ 4273920 h 4273560"/>
            </a:gdLst>
            <a:ahLst/>
            <a:rect l="textAreaLeft" t="textAreaTop" r="textAreaRight" b="textAreaBottom"/>
            <a:pathLst>
              <a:path w="7410388" h="4274456">
                <a:moveTo>
                  <a:pt x="1148853" y="0"/>
                </a:moveTo>
                <a:lnTo>
                  <a:pt x="7410388" y="0"/>
                </a:lnTo>
                <a:lnTo>
                  <a:pt x="7410388" y="4274456"/>
                </a:lnTo>
                <a:lnTo>
                  <a:pt x="0" y="4274456"/>
                </a:lnTo>
                <a:lnTo>
                  <a:pt x="1148853" y="0"/>
                </a:lnTo>
                <a:close/>
              </a:path>
            </a:pathLst>
          </a:custGeom>
          <a:solidFill>
            <a:srgbClr val="fefef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椭圆 10"/>
          <p:cNvSpPr/>
          <p:nvPr/>
        </p:nvSpPr>
        <p:spPr>
          <a:xfrm>
            <a:off x="6426360" y="2763720"/>
            <a:ext cx="788760" cy="78912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椭圆 11"/>
          <p:cNvSpPr/>
          <p:nvPr/>
        </p:nvSpPr>
        <p:spPr>
          <a:xfrm>
            <a:off x="6435720" y="4614840"/>
            <a:ext cx="789120" cy="7891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12"/>
          <p:cNvSpPr/>
          <p:nvPr/>
        </p:nvSpPr>
        <p:spPr>
          <a:xfrm>
            <a:off x="7432920" y="269892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13"/>
          <p:cNvSpPr/>
          <p:nvPr/>
        </p:nvSpPr>
        <p:spPr>
          <a:xfrm>
            <a:off x="7432920" y="4568760"/>
            <a:ext cx="425592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方正姚体"/>
                <a:ea typeface="方正姚体"/>
              </a:rPr>
              <a:t>     </a:t>
            </a:r>
            <a:r>
              <a:rPr b="1" lang="en-US" sz="2000" spc="-1" strike="noStrike">
                <a:solidFill>
                  <a:srgbClr val="0b2334"/>
                </a:solidFill>
                <a:latin typeface="方正姚体"/>
                <a:ea typeface="方正姚体"/>
              </a:rPr>
              <a:t>MORE  THAN 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组合 14"/>
          <p:cNvGrpSpPr/>
          <p:nvPr/>
        </p:nvGrpSpPr>
        <p:grpSpPr>
          <a:xfrm>
            <a:off x="6611760" y="2990880"/>
            <a:ext cx="419400" cy="399960"/>
            <a:chOff x="6611760" y="2990880"/>
            <a:chExt cx="419400" cy="399960"/>
          </a:xfrm>
        </p:grpSpPr>
        <p:sp>
          <p:nvSpPr>
            <p:cNvPr id="519" name="Freeform 25"/>
            <p:cNvSpPr/>
            <p:nvPr/>
          </p:nvSpPr>
          <p:spPr>
            <a:xfrm>
              <a:off x="6765480" y="3278520"/>
              <a:ext cx="112680" cy="1123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413" h="413">
                  <a:moveTo>
                    <a:pt x="206" y="413"/>
                  </a:moveTo>
                  <a:lnTo>
                    <a:pt x="0" y="0"/>
                  </a:lnTo>
                  <a:lnTo>
                    <a:pt x="413" y="0"/>
                  </a:lnTo>
                  <a:lnTo>
                    <a:pt x="206" y="41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任意多边形 16"/>
            <p:cNvSpPr/>
            <p:nvPr/>
          </p:nvSpPr>
          <p:spPr>
            <a:xfrm>
              <a:off x="6611760" y="2990880"/>
              <a:ext cx="419400" cy="304560"/>
            </a:xfrm>
            <a:custGeom>
              <a:avLst/>
              <a:gdLst>
                <a:gd name="textAreaLeft" fmla="*/ 0 w 419400"/>
                <a:gd name="textAreaRight" fmla="*/ 419760 w 419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438400" h="1774825">
                  <a:moveTo>
                    <a:pt x="290196" y="0"/>
                  </a:moveTo>
                  <a:cubicBezTo>
                    <a:pt x="2151973" y="0"/>
                    <a:pt x="2151973" y="0"/>
                    <a:pt x="2151973" y="0"/>
                  </a:cubicBezTo>
                  <a:cubicBezTo>
                    <a:pt x="2310262" y="0"/>
                    <a:pt x="2438400" y="128119"/>
                    <a:pt x="2438400" y="286384"/>
                  </a:cubicBezTo>
                  <a:lnTo>
                    <a:pt x="2438400" y="1484673"/>
                  </a:lnTo>
                  <a:cubicBezTo>
                    <a:pt x="2438400" y="1646706"/>
                    <a:pt x="2310262" y="1774825"/>
                    <a:pt x="2151973" y="1774825"/>
                  </a:cubicBezTo>
                  <a:cubicBezTo>
                    <a:pt x="290196" y="1774825"/>
                    <a:pt x="290196" y="1774825"/>
                    <a:pt x="290196" y="1774825"/>
                  </a:cubicBezTo>
                  <a:cubicBezTo>
                    <a:pt x="131907" y="1774825"/>
                    <a:pt x="0" y="1646706"/>
                    <a:pt x="0" y="1484673"/>
                  </a:cubicBezTo>
                  <a:cubicBezTo>
                    <a:pt x="0" y="286384"/>
                    <a:pt x="0" y="286384"/>
                    <a:pt x="0" y="286384"/>
                  </a:cubicBezTo>
                  <a:cubicBezTo>
                    <a:pt x="0" y="128119"/>
                    <a:pt x="131907" y="0"/>
                    <a:pt x="290196" y="0"/>
                  </a:cubicBezTo>
                  <a:close/>
                  <a:moveTo>
                    <a:pt x="471488" y="425450"/>
                  </a:moveTo>
                  <a:lnTo>
                    <a:pt x="471488" y="598488"/>
                  </a:lnTo>
                  <a:lnTo>
                    <a:pt x="1971676" y="598488"/>
                  </a:lnTo>
                  <a:lnTo>
                    <a:pt x="1971676" y="425450"/>
                  </a:lnTo>
                  <a:lnTo>
                    <a:pt x="471488" y="425450"/>
                  </a:lnTo>
                  <a:close/>
                  <a:moveTo>
                    <a:pt x="471488" y="801688"/>
                  </a:moveTo>
                  <a:lnTo>
                    <a:pt x="471488" y="971551"/>
                  </a:lnTo>
                  <a:lnTo>
                    <a:pt x="1971676" y="971551"/>
                  </a:lnTo>
                  <a:lnTo>
                    <a:pt x="1971676" y="801688"/>
                  </a:lnTo>
                  <a:lnTo>
                    <a:pt x="471488" y="801688"/>
                  </a:lnTo>
                  <a:close/>
                  <a:moveTo>
                    <a:pt x="471488" y="1174750"/>
                  </a:moveTo>
                  <a:lnTo>
                    <a:pt x="471488" y="1347788"/>
                  </a:lnTo>
                  <a:lnTo>
                    <a:pt x="1971676" y="1347788"/>
                  </a:lnTo>
                  <a:lnTo>
                    <a:pt x="1971676" y="1174750"/>
                  </a:lnTo>
                  <a:lnTo>
                    <a:pt x="471488" y="1174750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1" name="组合 17"/>
          <p:cNvGrpSpPr/>
          <p:nvPr/>
        </p:nvGrpSpPr>
        <p:grpSpPr>
          <a:xfrm>
            <a:off x="6637320" y="4768920"/>
            <a:ext cx="370080" cy="473040"/>
            <a:chOff x="6637320" y="4768920"/>
            <a:chExt cx="370080" cy="473040"/>
          </a:xfrm>
        </p:grpSpPr>
        <p:sp>
          <p:nvSpPr>
            <p:cNvPr id="522" name="Freeform 32"/>
            <p:cNvSpPr/>
            <p:nvPr/>
          </p:nvSpPr>
          <p:spPr>
            <a:xfrm>
              <a:off x="6774840" y="4768920"/>
              <a:ext cx="93600" cy="4730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473040"/>
                <a:gd name="textAreaBottom" fmla="*/ 473400 h 4730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3"/>
            <p:cNvSpPr/>
            <p:nvPr/>
          </p:nvSpPr>
          <p:spPr>
            <a:xfrm>
              <a:off x="6637320" y="5057640"/>
              <a:ext cx="92520" cy="184320"/>
            </a:xfrm>
            <a:custGeom>
              <a:avLst/>
              <a:gdLst>
                <a:gd name="textAreaLeft" fmla="*/ 0 w 92520"/>
                <a:gd name="textAreaRight" fmla="*/ 92880 w 9252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4"/>
            <p:cNvSpPr/>
            <p:nvPr/>
          </p:nvSpPr>
          <p:spPr>
            <a:xfrm>
              <a:off x="6913800" y="4920840"/>
              <a:ext cx="93600" cy="32112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26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30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矩形 8"/>
          <p:cNvSpPr/>
          <p:nvPr/>
        </p:nvSpPr>
        <p:spPr>
          <a:xfrm>
            <a:off x="107784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矩形 9"/>
          <p:cNvSpPr/>
          <p:nvPr/>
        </p:nvSpPr>
        <p:spPr>
          <a:xfrm>
            <a:off x="4844880" y="2013120"/>
            <a:ext cx="25243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矩形 10"/>
          <p:cNvSpPr/>
          <p:nvPr/>
        </p:nvSpPr>
        <p:spPr>
          <a:xfrm>
            <a:off x="8613720" y="2013120"/>
            <a:ext cx="2522520" cy="153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任意多边形 11"/>
          <p:cNvSpPr/>
          <p:nvPr/>
        </p:nvSpPr>
        <p:spPr>
          <a:xfrm>
            <a:off x="108900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12"/>
          <p:cNvSpPr/>
          <p:nvPr/>
        </p:nvSpPr>
        <p:spPr>
          <a:xfrm>
            <a:off x="1225440" y="3795840"/>
            <a:ext cx="221940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任意多边形 13"/>
          <p:cNvSpPr/>
          <p:nvPr/>
        </p:nvSpPr>
        <p:spPr>
          <a:xfrm>
            <a:off x="485136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14"/>
          <p:cNvSpPr/>
          <p:nvPr/>
        </p:nvSpPr>
        <p:spPr>
          <a:xfrm>
            <a:off x="498636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任意多边形 15"/>
          <p:cNvSpPr/>
          <p:nvPr/>
        </p:nvSpPr>
        <p:spPr>
          <a:xfrm>
            <a:off x="8613720" y="3543480"/>
            <a:ext cx="2509920" cy="25236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510282" h="252000">
                <a:moveTo>
                  <a:pt x="0" y="0"/>
                </a:moveTo>
                <a:lnTo>
                  <a:pt x="2510282" y="0"/>
                </a:lnTo>
                <a:lnTo>
                  <a:pt x="2364161" y="252000"/>
                </a:lnTo>
                <a:lnTo>
                  <a:pt x="146121" y="2520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16"/>
          <p:cNvSpPr/>
          <p:nvPr/>
        </p:nvSpPr>
        <p:spPr>
          <a:xfrm>
            <a:off x="8748720" y="3795840"/>
            <a:ext cx="2220840" cy="2523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7"/>
          <p:cNvSpPr/>
          <p:nvPr/>
        </p:nvSpPr>
        <p:spPr>
          <a:xfrm>
            <a:off x="1341000" y="2394000"/>
            <a:ext cx="1941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12,3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文本框 18"/>
          <p:cNvSpPr/>
          <p:nvPr/>
        </p:nvSpPr>
        <p:spPr>
          <a:xfrm>
            <a:off x="5295960" y="239400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3,6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9"/>
          <p:cNvSpPr/>
          <p:nvPr/>
        </p:nvSpPr>
        <p:spPr>
          <a:xfrm>
            <a:off x="9048600" y="2397240"/>
            <a:ext cx="16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b2334"/>
                </a:solidFill>
                <a:latin typeface="方正姚体"/>
                <a:ea typeface="方正姚体"/>
              </a:rPr>
              <a:t>5,5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文本框 20"/>
          <p:cNvSpPr/>
          <p:nvPr/>
        </p:nvSpPr>
        <p:spPr>
          <a:xfrm>
            <a:off x="129096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文本框 21"/>
          <p:cNvSpPr/>
          <p:nvPr/>
        </p:nvSpPr>
        <p:spPr>
          <a:xfrm>
            <a:off x="505332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文本框 22"/>
          <p:cNvSpPr/>
          <p:nvPr/>
        </p:nvSpPr>
        <p:spPr>
          <a:xfrm>
            <a:off x="8815680" y="4387680"/>
            <a:ext cx="228528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7c73f"/>
                </a:solidFill>
                <a:latin typeface="方正姚体"/>
                <a:ea typeface="方正姚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to the  center of t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548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1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552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4" name="任意多边形 59"/>
          <p:cNvSpPr/>
          <p:nvPr/>
        </p:nvSpPr>
        <p:spPr>
          <a:xfrm>
            <a:off x="5584680" y="1800360"/>
            <a:ext cx="1038240" cy="9982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任意多边形 60"/>
          <p:cNvSpPr/>
          <p:nvPr/>
        </p:nvSpPr>
        <p:spPr>
          <a:xfrm flipH="1" flipV="1">
            <a:off x="5584680" y="4881600"/>
            <a:ext cx="1038240" cy="998640"/>
          </a:xfrm>
          <a:custGeom>
            <a:avLst/>
            <a:gdLst>
              <a:gd name="textAreaLeft" fmla="*/ 360 w 1038240"/>
              <a:gd name="textAreaRight" fmla="*/ 1038960 w 1038240"/>
              <a:gd name="textAreaTop" fmla="*/ 360 h 998640"/>
              <a:gd name="textAreaBottom" fmla="*/ 999360 h 998640"/>
            </a:gdLst>
            <a:ahLst/>
            <a:rect l="textAreaLeft" t="textAreaTop" r="textAreaRight" b="textAreaBottom"/>
            <a:pathLst>
              <a:path w="1038469" h="998072">
                <a:moveTo>
                  <a:pt x="0" y="0"/>
                </a:moveTo>
                <a:lnTo>
                  <a:pt x="459902" y="0"/>
                </a:lnTo>
                <a:cubicBezTo>
                  <a:pt x="779436" y="0"/>
                  <a:pt x="1038469" y="259033"/>
                  <a:pt x="1038469" y="578567"/>
                </a:cubicBezTo>
                <a:lnTo>
                  <a:pt x="1038469" y="998072"/>
                </a:lnTo>
                <a:lnTo>
                  <a:pt x="0" y="998072"/>
                </a:lnTo>
                <a:lnTo>
                  <a:pt x="0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61"/>
          <p:cNvSpPr/>
          <p:nvPr/>
        </p:nvSpPr>
        <p:spPr>
          <a:xfrm>
            <a:off x="5584680" y="2798640"/>
            <a:ext cx="1038240" cy="1043280"/>
          </a:xfrm>
          <a:prstGeom prst="rect">
            <a:avLst/>
          </a:pr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62"/>
          <p:cNvSpPr/>
          <p:nvPr/>
        </p:nvSpPr>
        <p:spPr>
          <a:xfrm>
            <a:off x="5584680" y="3840120"/>
            <a:ext cx="1038240" cy="1042920"/>
          </a:xfrm>
          <a:prstGeom prst="rect">
            <a:avLst/>
          </a:pr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任意多边形 85"/>
          <p:cNvSpPr/>
          <p:nvPr/>
        </p:nvSpPr>
        <p:spPr>
          <a:xfrm flipH="1">
            <a:off x="7085160" y="329724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任意多边形 89"/>
          <p:cNvSpPr/>
          <p:nvPr/>
        </p:nvSpPr>
        <p:spPr>
          <a:xfrm>
            <a:off x="1082520" y="2298600"/>
            <a:ext cx="4040280" cy="10080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任意多边形 91"/>
          <p:cNvSpPr/>
          <p:nvPr/>
        </p:nvSpPr>
        <p:spPr>
          <a:xfrm>
            <a:off x="1082520" y="4330800"/>
            <a:ext cx="4040280" cy="1006200"/>
          </a:xfrm>
          <a:custGeom>
            <a:avLst/>
            <a:gdLst>
              <a:gd name="textAreaLeft" fmla="*/ 0 w 4040280"/>
              <a:gd name="textAreaRight" fmla="*/ 4040640 w 4040280"/>
              <a:gd name="textAreaTop" fmla="*/ 0 h 1006200"/>
              <a:gd name="textAreaBottom" fmla="*/ 1006560 h 1006200"/>
            </a:gdLst>
            <a:ahLst/>
            <a:rect l="textAreaLeft" t="textAreaTop" r="textAreaRight" b="textAreaBottom"/>
            <a:pathLst>
              <a:path w="4039589" h="1007037">
                <a:moveTo>
                  <a:pt x="503518" y="0"/>
                </a:moveTo>
                <a:lnTo>
                  <a:pt x="556098" y="5301"/>
                </a:lnTo>
                <a:lnTo>
                  <a:pt x="556098" y="3827"/>
                </a:lnTo>
                <a:lnTo>
                  <a:pt x="1858137" y="3827"/>
                </a:lnTo>
                <a:lnTo>
                  <a:pt x="1896100" y="0"/>
                </a:lnTo>
                <a:lnTo>
                  <a:pt x="1934060" y="3827"/>
                </a:lnTo>
                <a:lnTo>
                  <a:pt x="1948680" y="3827"/>
                </a:lnTo>
                <a:lnTo>
                  <a:pt x="2647007" y="3827"/>
                </a:lnTo>
                <a:lnTo>
                  <a:pt x="4027651" y="3827"/>
                </a:lnTo>
                <a:lnTo>
                  <a:pt x="4022658" y="9057"/>
                </a:lnTo>
                <a:lnTo>
                  <a:pt x="4038770" y="1007036"/>
                </a:lnTo>
                <a:lnTo>
                  <a:pt x="4039589" y="1006137"/>
                </a:lnTo>
                <a:lnTo>
                  <a:pt x="4039589" y="1007037"/>
                </a:lnTo>
                <a:lnTo>
                  <a:pt x="2647007" y="1007037"/>
                </a:lnTo>
                <a:lnTo>
                  <a:pt x="1948680" y="1007037"/>
                </a:lnTo>
                <a:lnTo>
                  <a:pt x="556098" y="1007037"/>
                </a:lnTo>
                <a:lnTo>
                  <a:pt x="556098" y="1001736"/>
                </a:lnTo>
                <a:lnTo>
                  <a:pt x="503518" y="1007036"/>
                </a:lnTo>
                <a:cubicBezTo>
                  <a:pt x="225433" y="1007036"/>
                  <a:pt x="0" y="781603"/>
                  <a:pt x="0" y="503518"/>
                </a:cubicBezTo>
                <a:cubicBezTo>
                  <a:pt x="0" y="225433"/>
                  <a:pt x="225433" y="0"/>
                  <a:pt x="503518" y="0"/>
                </a:cubicBez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任意多边形 87"/>
          <p:cNvSpPr/>
          <p:nvPr/>
        </p:nvSpPr>
        <p:spPr>
          <a:xfrm flipH="1">
            <a:off x="7085160" y="5378400"/>
            <a:ext cx="4022640" cy="1006560"/>
          </a:xfrm>
          <a:custGeom>
            <a:avLst/>
            <a:gdLst>
              <a:gd name="textAreaLeft" fmla="*/ 360 w 4022640"/>
              <a:gd name="textAreaRight" fmla="*/ 4023360 w 402264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4022818" h="1007038">
                <a:moveTo>
                  <a:pt x="4022818" y="1006138"/>
                </a:moveTo>
                <a:lnTo>
                  <a:pt x="4021998" y="1007038"/>
                </a:lnTo>
                <a:lnTo>
                  <a:pt x="4022818" y="1007038"/>
                </a:lnTo>
                <a:lnTo>
                  <a:pt x="4022818" y="1006138"/>
                </a:lnTo>
                <a:close/>
                <a:moveTo>
                  <a:pt x="503518" y="0"/>
                </a:moveTo>
                <a:cubicBezTo>
                  <a:pt x="225433" y="0"/>
                  <a:pt x="0" y="225433"/>
                  <a:pt x="0" y="503518"/>
                </a:cubicBezTo>
                <a:cubicBezTo>
                  <a:pt x="0" y="781603"/>
                  <a:pt x="225433" y="1007036"/>
                  <a:pt x="503518" y="1007036"/>
                </a:cubicBezTo>
                <a:lnTo>
                  <a:pt x="556098" y="1001736"/>
                </a:lnTo>
                <a:lnTo>
                  <a:pt x="556098" y="1007037"/>
                </a:lnTo>
                <a:lnTo>
                  <a:pt x="1879329" y="1007037"/>
                </a:lnTo>
                <a:lnTo>
                  <a:pt x="1931909" y="1007037"/>
                </a:lnTo>
                <a:lnTo>
                  <a:pt x="1931909" y="1007038"/>
                </a:lnTo>
                <a:lnTo>
                  <a:pt x="4021998" y="1007038"/>
                </a:lnTo>
                <a:lnTo>
                  <a:pt x="4005886" y="9059"/>
                </a:lnTo>
                <a:lnTo>
                  <a:pt x="4010880" y="3828"/>
                </a:lnTo>
                <a:lnTo>
                  <a:pt x="2647007" y="3828"/>
                </a:lnTo>
                <a:lnTo>
                  <a:pt x="2647007" y="3827"/>
                </a:lnTo>
                <a:lnTo>
                  <a:pt x="1917279" y="3827"/>
                </a:lnTo>
                <a:lnTo>
                  <a:pt x="1879329" y="1"/>
                </a:lnTo>
                <a:lnTo>
                  <a:pt x="1841376" y="3827"/>
                </a:lnTo>
                <a:lnTo>
                  <a:pt x="556098" y="3827"/>
                </a:lnTo>
                <a:lnTo>
                  <a:pt x="556098" y="5301"/>
                </a:lnTo>
                <a:lnTo>
                  <a:pt x="503518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文本框 81"/>
          <p:cNvSpPr/>
          <p:nvPr/>
        </p:nvSpPr>
        <p:spPr>
          <a:xfrm>
            <a:off x="7212600" y="323856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82"/>
          <p:cNvSpPr/>
          <p:nvPr/>
        </p:nvSpPr>
        <p:spPr>
          <a:xfrm>
            <a:off x="7212600" y="53370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文本框 83"/>
          <p:cNvSpPr/>
          <p:nvPr/>
        </p:nvSpPr>
        <p:spPr>
          <a:xfrm>
            <a:off x="1369800" y="226548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84"/>
          <p:cNvSpPr/>
          <p:nvPr/>
        </p:nvSpPr>
        <p:spPr>
          <a:xfrm>
            <a:off x="1369800" y="4303800"/>
            <a:ext cx="376812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E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任意多边形 86"/>
          <p:cNvSpPr/>
          <p:nvPr/>
        </p:nvSpPr>
        <p:spPr>
          <a:xfrm flipH="1">
            <a:off x="6622920" y="28036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任意多边形 88"/>
          <p:cNvSpPr/>
          <p:nvPr/>
        </p:nvSpPr>
        <p:spPr>
          <a:xfrm flipH="1">
            <a:off x="6622920" y="4886280"/>
            <a:ext cx="479520" cy="1500120"/>
          </a:xfrm>
          <a:custGeom>
            <a:avLst/>
            <a:gdLst>
              <a:gd name="textAreaLeft" fmla="*/ 360 w 479520"/>
              <a:gd name="textAreaRight" fmla="*/ 480240 w 47952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任意多边形 90"/>
          <p:cNvSpPr/>
          <p:nvPr/>
        </p:nvSpPr>
        <p:spPr>
          <a:xfrm>
            <a:off x="5105520" y="1806480"/>
            <a:ext cx="479160" cy="1500120"/>
          </a:xfrm>
          <a:custGeom>
            <a:avLst/>
            <a:gdLst>
              <a:gd name="textAreaLeft" fmla="*/ 0 w 479160"/>
              <a:gd name="textAreaRight" fmla="*/ 479520 w 479160"/>
              <a:gd name="textAreaTop" fmla="*/ 0 h 1500120"/>
              <a:gd name="textAreaBottom" fmla="*/ 1500480 h 15001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任意多边形 92"/>
          <p:cNvSpPr/>
          <p:nvPr/>
        </p:nvSpPr>
        <p:spPr>
          <a:xfrm>
            <a:off x="5105520" y="3838680"/>
            <a:ext cx="479160" cy="1498320"/>
          </a:xfrm>
          <a:custGeom>
            <a:avLst/>
            <a:gdLst>
              <a:gd name="textAreaLeft" fmla="*/ 0 w 479160"/>
              <a:gd name="textAreaRight" fmla="*/ 479520 w 479160"/>
              <a:gd name="textAreaTop" fmla="*/ 0 h 1498320"/>
              <a:gd name="textAreaBottom" fmla="*/ 1498680 h 1498320"/>
            </a:gdLst>
            <a:ahLst/>
            <a:rect l="textAreaLeft" t="textAreaTop" r="textAreaRight" b="textAreaBottom"/>
            <a:pathLst>
              <a:path w="478847" h="1499566">
                <a:moveTo>
                  <a:pt x="478847" y="0"/>
                </a:moveTo>
                <a:lnTo>
                  <a:pt x="478847" y="991566"/>
                </a:lnTo>
                <a:lnTo>
                  <a:pt x="16112" y="1499566"/>
                </a:lnTo>
                <a:lnTo>
                  <a:pt x="0" y="501587"/>
                </a:lnTo>
                <a:lnTo>
                  <a:pt x="478847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0" name="组合 93"/>
          <p:cNvGrpSpPr/>
          <p:nvPr/>
        </p:nvGrpSpPr>
        <p:grpSpPr>
          <a:xfrm>
            <a:off x="5937120" y="2135160"/>
            <a:ext cx="374760" cy="419040"/>
            <a:chOff x="5937120" y="2135160"/>
            <a:chExt cx="374760" cy="419040"/>
          </a:xfrm>
        </p:grpSpPr>
        <p:sp>
          <p:nvSpPr>
            <p:cNvPr id="571" name="Freeform 108"/>
            <p:cNvSpPr/>
            <p:nvPr/>
          </p:nvSpPr>
          <p:spPr>
            <a:xfrm>
              <a:off x="6001200" y="2290680"/>
              <a:ext cx="52920" cy="53640"/>
            </a:xfrm>
            <a:custGeom>
              <a:avLst/>
              <a:gdLst>
                <a:gd name="textAreaLeft" fmla="*/ 0 w 52920"/>
                <a:gd name="textAreaRight" fmla="*/ 53280 w 529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09"/>
            <p:cNvSpPr/>
            <p:nvPr/>
          </p:nvSpPr>
          <p:spPr>
            <a:xfrm>
              <a:off x="6120720" y="2255760"/>
              <a:ext cx="45000" cy="45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110"/>
            <p:cNvSpPr/>
            <p:nvPr/>
          </p:nvSpPr>
          <p:spPr>
            <a:xfrm>
              <a:off x="6013440" y="2303640"/>
              <a:ext cx="28440" cy="28440"/>
            </a:xfrm>
            <a:custGeom>
              <a:avLst/>
              <a:gdLst>
                <a:gd name="textAreaLeft" fmla="*/ 0 w 28440"/>
                <a:gd name="textAreaRight" fmla="*/ 28800 w 2844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111"/>
            <p:cNvSpPr/>
            <p:nvPr/>
          </p:nvSpPr>
          <p:spPr>
            <a:xfrm>
              <a:off x="6098040" y="2233440"/>
              <a:ext cx="90360" cy="90360"/>
            </a:xfrm>
            <a:custGeom>
              <a:avLst/>
              <a:gdLst>
                <a:gd name="textAreaLeft" fmla="*/ 0 w 90360"/>
                <a:gd name="textAreaRight" fmla="*/ 90720 w 9036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112"/>
            <p:cNvSpPr/>
            <p:nvPr/>
          </p:nvSpPr>
          <p:spPr>
            <a:xfrm>
              <a:off x="5937120" y="2135160"/>
              <a:ext cx="374760" cy="419040"/>
            </a:xfrm>
            <a:custGeom>
              <a:avLst/>
              <a:gdLst>
                <a:gd name="textAreaLeft" fmla="*/ 0 w 374760"/>
                <a:gd name="textAreaRight" fmla="*/ 375120 w 3747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6" name="组合 99" descr=""/>
          <p:cNvPicPr/>
          <p:nvPr/>
        </p:nvPicPr>
        <p:blipFill>
          <a:blip r:embed="rId1"/>
          <a:stretch/>
        </p:blipFill>
        <p:spPr>
          <a:xfrm>
            <a:off x="5924520" y="5126040"/>
            <a:ext cx="360360" cy="403200"/>
          </a:xfrm>
          <a:prstGeom prst="rect">
            <a:avLst/>
          </a:prstGeom>
          <a:ln w="0">
            <a:noFill/>
          </a:ln>
        </p:spPr>
      </p:pic>
      <p:pic>
        <p:nvPicPr>
          <p:cNvPr id="577" name="组合 103" descr=""/>
          <p:cNvPicPr/>
          <p:nvPr/>
        </p:nvPicPr>
        <p:blipFill>
          <a:blip r:embed="rId2"/>
          <a:stretch/>
        </p:blipFill>
        <p:spPr>
          <a:xfrm>
            <a:off x="5913360" y="3144960"/>
            <a:ext cx="341280" cy="341280"/>
          </a:xfrm>
          <a:prstGeom prst="rect">
            <a:avLst/>
          </a:prstGeom>
          <a:ln w="0">
            <a:noFill/>
          </a:ln>
        </p:spPr>
      </p:pic>
      <p:grpSp>
        <p:nvGrpSpPr>
          <p:cNvPr id="578" name="组合 106"/>
          <p:cNvGrpSpPr/>
          <p:nvPr/>
        </p:nvGrpSpPr>
        <p:grpSpPr>
          <a:xfrm>
            <a:off x="5951520" y="4181400"/>
            <a:ext cx="358560" cy="385920"/>
            <a:chOff x="5951520" y="4181400"/>
            <a:chExt cx="358560" cy="385920"/>
          </a:xfrm>
        </p:grpSpPr>
        <p:sp>
          <p:nvSpPr>
            <p:cNvPr id="579" name="Freeform 154"/>
            <p:cNvSpPr/>
            <p:nvPr/>
          </p:nvSpPr>
          <p:spPr>
            <a:xfrm>
              <a:off x="6060240" y="4509360"/>
              <a:ext cx="38880" cy="3564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5640"/>
                <a:gd name="textAreaBottom" fmla="*/ 36000 h 3564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Rectangle 155"/>
            <p:cNvSpPr/>
            <p:nvPr/>
          </p:nvSpPr>
          <p:spPr>
            <a:xfrm>
              <a:off x="6075360" y="4504320"/>
              <a:ext cx="6840" cy="24840"/>
            </a:xfrm>
            <a:prstGeom prst="rect">
              <a:avLst/>
            </a:pr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56"/>
            <p:cNvSpPr/>
            <p:nvPr/>
          </p:nvSpPr>
          <p:spPr>
            <a:xfrm>
              <a:off x="5981760" y="4243680"/>
              <a:ext cx="200520" cy="2005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57"/>
            <p:cNvSpPr/>
            <p:nvPr/>
          </p:nvSpPr>
          <p:spPr>
            <a:xfrm>
              <a:off x="5951520" y="4181400"/>
              <a:ext cx="260640" cy="38592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8"/>
            <p:cNvSpPr/>
            <p:nvPr/>
          </p:nvSpPr>
          <p:spPr>
            <a:xfrm>
              <a:off x="6163560" y="4337280"/>
              <a:ext cx="146520" cy="146520"/>
            </a:xfrm>
            <a:custGeom>
              <a:avLst/>
              <a:gdLst>
                <a:gd name="textAreaLeft" fmla="*/ 0 w 146520"/>
                <a:gd name="textAreaRight" fmla="*/ 146880 w 146520"/>
                <a:gd name="textAreaTop" fmla="*/ 0 h 146520"/>
                <a:gd name="textAreaBottom" fmla="*/ 146880 h 146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efe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9"/>
          <p:cNvSpPr/>
          <p:nvPr/>
        </p:nvSpPr>
        <p:spPr>
          <a:xfrm>
            <a:off x="230832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合 6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70" name="等腰三角形 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等腰三角形 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文本框 10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11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74" name="等腰三角形 12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等腰三角形 13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椭圆 14"/>
          <p:cNvSpPr/>
          <p:nvPr/>
        </p:nvSpPr>
        <p:spPr>
          <a:xfrm>
            <a:off x="5013360" y="3062160"/>
            <a:ext cx="2155680" cy="21542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任意多边形 15"/>
          <p:cNvSpPr/>
          <p:nvPr/>
        </p:nvSpPr>
        <p:spPr>
          <a:xfrm>
            <a:off x="1062000" y="2400480"/>
            <a:ext cx="4964040" cy="1677960"/>
          </a:xfrm>
          <a:custGeom>
            <a:avLst/>
            <a:gdLst>
              <a:gd name="textAreaLeft" fmla="*/ 0 w 4964040"/>
              <a:gd name="textAreaRight" fmla="*/ 4964400 w 4964040"/>
              <a:gd name="textAreaTop" fmla="*/ 0 h 1677960"/>
              <a:gd name="textAreaBottom" fmla="*/ 1678320 h 1677960"/>
            </a:gdLst>
            <a:ahLst/>
            <a:rect l="textAreaLeft" t="textAreaTop" r="textAreaRight" b="textAreaBottom"/>
            <a:pathLst>
              <a:path w="4963098" h="1676733">
                <a:moveTo>
                  <a:pt x="4963098" y="0"/>
                </a:moveTo>
                <a:lnTo>
                  <a:pt x="4963098" y="529569"/>
                </a:lnTo>
                <a:lnTo>
                  <a:pt x="4904851" y="532510"/>
                </a:lnTo>
                <a:cubicBezTo>
                  <a:pt x="4334273" y="590456"/>
                  <a:pt x="3880663" y="1044066"/>
                  <a:pt x="3822718" y="1614644"/>
                </a:cubicBezTo>
                <a:lnTo>
                  <a:pt x="3819744" y="1673539"/>
                </a:lnTo>
                <a:lnTo>
                  <a:pt x="3461656" y="1673539"/>
                </a:lnTo>
                <a:lnTo>
                  <a:pt x="3461656" y="1676733"/>
                </a:lnTo>
                <a:lnTo>
                  <a:pt x="0" y="1676733"/>
                </a:lnTo>
                <a:lnTo>
                  <a:pt x="0" y="1210789"/>
                </a:lnTo>
                <a:lnTo>
                  <a:pt x="3317336" y="1210789"/>
                </a:lnTo>
                <a:lnTo>
                  <a:pt x="3397184" y="997304"/>
                </a:lnTo>
                <a:cubicBezTo>
                  <a:pt x="3653890" y="458266"/>
                  <a:pt x="4178296" y="71296"/>
                  <a:pt x="4798481" y="8312"/>
                </a:cubicBezTo>
                <a:lnTo>
                  <a:pt x="4963098" y="0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 flipV="1" rot="10800000">
            <a:off x="6171840" y="2403360"/>
            <a:ext cx="4946760" cy="1673280"/>
          </a:xfrm>
          <a:custGeom>
            <a:avLst/>
            <a:gdLst>
              <a:gd name="textAreaLeft" fmla="*/ 0 w 4946760"/>
              <a:gd name="textAreaRight" fmla="*/ 4947120 w 4946760"/>
              <a:gd name="textAreaTop" fmla="*/ 360 h 1673280"/>
              <a:gd name="textAreaBottom" fmla="*/ 1674000 h 1673280"/>
            </a:gdLst>
            <a:ahLst/>
            <a:rect l="textAreaLeft" t="textAreaTop" r="textAreaRight" b="textAreaBottom"/>
            <a:pathLst>
              <a:path w="4946769" h="1673539">
                <a:moveTo>
                  <a:pt x="4946769" y="0"/>
                </a:moveTo>
                <a:lnTo>
                  <a:pt x="4782152" y="8312"/>
                </a:lnTo>
                <a:cubicBezTo>
                  <a:pt x="4161967" y="71296"/>
                  <a:pt x="3637561" y="458266"/>
                  <a:pt x="3380855" y="997304"/>
                </a:cubicBezTo>
                <a:lnTo>
                  <a:pt x="3303396" y="1204401"/>
                </a:lnTo>
                <a:lnTo>
                  <a:pt x="0" y="1204401"/>
                </a:lnTo>
                <a:lnTo>
                  <a:pt x="0" y="1670345"/>
                </a:lnTo>
                <a:lnTo>
                  <a:pt x="3215503" y="1670345"/>
                </a:lnTo>
                <a:lnTo>
                  <a:pt x="3215352" y="1673539"/>
                </a:lnTo>
                <a:lnTo>
                  <a:pt x="3803415" y="1673539"/>
                </a:lnTo>
                <a:lnTo>
                  <a:pt x="3806389" y="1614644"/>
                </a:lnTo>
                <a:cubicBezTo>
                  <a:pt x="3864334" y="1044066"/>
                  <a:pt x="4317944" y="590456"/>
                  <a:pt x="4888522" y="532510"/>
                </a:cubicBezTo>
                <a:lnTo>
                  <a:pt x="4946769" y="529569"/>
                </a:lnTo>
                <a:lnTo>
                  <a:pt x="4946769" y="0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任意多边形 17"/>
          <p:cNvSpPr/>
          <p:nvPr/>
        </p:nvSpPr>
        <p:spPr>
          <a:xfrm rot="10800000">
            <a:off x="6171840" y="4214880"/>
            <a:ext cx="4946760" cy="1676160"/>
          </a:xfrm>
          <a:custGeom>
            <a:avLst/>
            <a:gdLst>
              <a:gd name="textAreaLeft" fmla="*/ 0 w 4946760"/>
              <a:gd name="textAreaRight" fmla="*/ 4947120 w 4946760"/>
              <a:gd name="textAreaTop" fmla="*/ 0 h 1676160"/>
              <a:gd name="textAreaBottom" fmla="*/ 1676520 h 1676160"/>
            </a:gdLst>
            <a:ahLst/>
            <a:rect l="textAreaLeft" t="textAreaTop" r="textAreaRight" b="textAreaBottom"/>
            <a:pathLst>
              <a:path w="4946769" h="1676733">
                <a:moveTo>
                  <a:pt x="3461656" y="1676733"/>
                </a:moveTo>
                <a:lnTo>
                  <a:pt x="0" y="1676733"/>
                </a:lnTo>
                <a:lnTo>
                  <a:pt x="0" y="1210789"/>
                </a:lnTo>
                <a:lnTo>
                  <a:pt x="3301007" y="1210789"/>
                </a:lnTo>
                <a:lnTo>
                  <a:pt x="3380855" y="997304"/>
                </a:lnTo>
                <a:cubicBezTo>
                  <a:pt x="3637561" y="458266"/>
                  <a:pt x="4161967" y="71296"/>
                  <a:pt x="4782152" y="8312"/>
                </a:cubicBezTo>
                <a:lnTo>
                  <a:pt x="4946769" y="0"/>
                </a:lnTo>
                <a:lnTo>
                  <a:pt x="4946769" y="529569"/>
                </a:lnTo>
                <a:lnTo>
                  <a:pt x="4888522" y="532510"/>
                </a:lnTo>
                <a:cubicBezTo>
                  <a:pt x="4317944" y="590456"/>
                  <a:pt x="3864334" y="1044066"/>
                  <a:pt x="3806389" y="1614644"/>
                </a:cubicBezTo>
                <a:lnTo>
                  <a:pt x="3803415" y="1673539"/>
                </a:lnTo>
                <a:lnTo>
                  <a:pt x="3461656" y="1673539"/>
                </a:lnTo>
                <a:lnTo>
                  <a:pt x="3461656" y="1676733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任意多边形 18"/>
          <p:cNvSpPr/>
          <p:nvPr/>
        </p:nvSpPr>
        <p:spPr>
          <a:xfrm flipV="1">
            <a:off x="1062000" y="4217400"/>
            <a:ext cx="4964040" cy="1672920"/>
          </a:xfrm>
          <a:custGeom>
            <a:avLst/>
            <a:gdLst>
              <a:gd name="textAreaLeft" fmla="*/ 0 w 4964040"/>
              <a:gd name="textAreaRight" fmla="*/ 4964400 w 4964040"/>
              <a:gd name="textAreaTop" fmla="*/ -360 h 1672920"/>
              <a:gd name="textAreaBottom" fmla="*/ 1672920 h 1672920"/>
            </a:gdLst>
            <a:ahLst/>
            <a:rect l="textAreaLeft" t="textAreaTop" r="textAreaRight" b="textAreaBottom"/>
            <a:pathLst>
              <a:path w="4963097" h="1673539">
                <a:moveTo>
                  <a:pt x="3231680" y="1673539"/>
                </a:moveTo>
                <a:lnTo>
                  <a:pt x="3819743" y="1673539"/>
                </a:lnTo>
                <a:lnTo>
                  <a:pt x="3822717" y="1614644"/>
                </a:lnTo>
                <a:cubicBezTo>
                  <a:pt x="3880662" y="1044066"/>
                  <a:pt x="4334272" y="590456"/>
                  <a:pt x="4904850" y="532510"/>
                </a:cubicBezTo>
                <a:lnTo>
                  <a:pt x="4963097" y="529569"/>
                </a:lnTo>
                <a:lnTo>
                  <a:pt x="4963097" y="0"/>
                </a:lnTo>
                <a:lnTo>
                  <a:pt x="4798480" y="8312"/>
                </a:lnTo>
                <a:cubicBezTo>
                  <a:pt x="4178295" y="71296"/>
                  <a:pt x="3653889" y="458266"/>
                  <a:pt x="3397183" y="997304"/>
                </a:cubicBezTo>
                <a:lnTo>
                  <a:pt x="3319938" y="1203828"/>
                </a:lnTo>
                <a:lnTo>
                  <a:pt x="0" y="1203828"/>
                </a:lnTo>
                <a:lnTo>
                  <a:pt x="0" y="1669772"/>
                </a:lnTo>
                <a:lnTo>
                  <a:pt x="3231859" y="1669772"/>
                </a:lnTo>
                <a:lnTo>
                  <a:pt x="3231680" y="1673539"/>
                </a:lnTo>
                <a:close/>
              </a:path>
            </a:pathLst>
          </a:custGeom>
          <a:solidFill>
            <a:srgbClr val="fcfcfc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1225440" y="364644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8035920" y="424188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1232640" y="427032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035920" y="363996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56af2"/>
                </a:solidFill>
                <a:latin typeface="方正姚体"/>
                <a:ea typeface="方正姚体"/>
              </a:rPr>
              <a:t>MORE  THAN 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23"/>
          <p:cNvSpPr/>
          <p:nvPr/>
        </p:nvSpPr>
        <p:spPr>
          <a:xfrm>
            <a:off x="74916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4"/>
          <p:cNvSpPr/>
          <p:nvPr/>
        </p:nvSpPr>
        <p:spPr>
          <a:xfrm>
            <a:off x="7812720" y="221616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25"/>
          <p:cNvSpPr/>
          <p:nvPr/>
        </p:nvSpPr>
        <p:spPr>
          <a:xfrm>
            <a:off x="64584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822800" y="5273640"/>
            <a:ext cx="3739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e  narrative thought Click here to ad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方正姚体"/>
                <a:ea typeface="方正姚体"/>
              </a:rPr>
              <a:t>you to the Center of the  narrative thou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90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94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任意多边形 8"/>
          <p:cNvSpPr/>
          <p:nvPr/>
        </p:nvSpPr>
        <p:spPr>
          <a:xfrm flipH="1" rot="16193400">
            <a:off x="3788280" y="2846160"/>
            <a:ext cx="1617840" cy="388800"/>
          </a:xfrm>
          <a:custGeom>
            <a:avLst/>
            <a:gdLst>
              <a:gd name="textAreaLeft" fmla="*/ 360 w 1617840"/>
              <a:gd name="textAreaRight" fmla="*/ 1618560 w 161784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617335" h="387910">
                <a:moveTo>
                  <a:pt x="0" y="0"/>
                </a:moveTo>
                <a:lnTo>
                  <a:pt x="379358" y="387910"/>
                </a:lnTo>
                <a:lnTo>
                  <a:pt x="1617335" y="387910"/>
                </a:lnTo>
                <a:lnTo>
                  <a:pt x="1617335" y="385898"/>
                </a:lnTo>
                <a:lnTo>
                  <a:pt x="1231437" y="0"/>
                </a:lnTo>
                <a:lnTo>
                  <a:pt x="0" y="0"/>
                </a:lnTo>
                <a:close/>
              </a:path>
            </a:pathLst>
          </a:custGeom>
          <a:solidFill>
            <a:srgbClr val="fcfcf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 flipH="1" rot="16193400">
            <a:off x="4792320" y="2626200"/>
            <a:ext cx="1225440" cy="1224000"/>
          </a:xfrm>
          <a:prstGeom prst="rect">
            <a:avLst/>
          </a:prstGeom>
          <a:noFill/>
          <a:ln w="12600">
            <a:solidFill>
              <a:srgbClr val="fcfcf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0"/>
          <p:cNvGrpSpPr/>
          <p:nvPr/>
        </p:nvGrpSpPr>
        <p:grpSpPr>
          <a:xfrm>
            <a:off x="6527880" y="2962440"/>
            <a:ext cx="519120" cy="581040"/>
            <a:chOff x="6527880" y="2962440"/>
            <a:chExt cx="519120" cy="581040"/>
          </a:xfrm>
        </p:grpSpPr>
        <p:sp>
          <p:nvSpPr>
            <p:cNvPr id="99" name="Freeform 108"/>
            <p:cNvSpPr/>
            <p:nvPr/>
          </p:nvSpPr>
          <p:spPr>
            <a:xfrm>
              <a:off x="6616800" y="3178080"/>
              <a:ext cx="73440" cy="745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9"/>
            <p:cNvSpPr/>
            <p:nvPr/>
          </p:nvSpPr>
          <p:spPr>
            <a:xfrm>
              <a:off x="6782040" y="3129840"/>
              <a:ext cx="62640" cy="62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10"/>
            <p:cNvSpPr/>
            <p:nvPr/>
          </p:nvSpPr>
          <p:spPr>
            <a:xfrm>
              <a:off x="6633720" y="3196440"/>
              <a:ext cx="39600" cy="3960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11"/>
            <p:cNvSpPr/>
            <p:nvPr/>
          </p:nvSpPr>
          <p:spPr>
            <a:xfrm>
              <a:off x="6750720" y="3098520"/>
              <a:ext cx="125280" cy="12528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125280"/>
                <a:gd name="textAreaBottom" fmla="*/ 125640 h 12528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12"/>
            <p:cNvSpPr/>
            <p:nvPr/>
          </p:nvSpPr>
          <p:spPr>
            <a:xfrm>
              <a:off x="6527880" y="2962440"/>
              <a:ext cx="519120" cy="58104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581040"/>
                <a:gd name="textAreaBottom" fmla="*/ 581400 h 58104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组合 16"/>
          <p:cNvGrpSpPr/>
          <p:nvPr/>
        </p:nvGrpSpPr>
        <p:grpSpPr>
          <a:xfrm>
            <a:off x="5200560" y="4264200"/>
            <a:ext cx="476280" cy="471240"/>
            <a:chOff x="5200560" y="4264200"/>
            <a:chExt cx="476280" cy="471240"/>
          </a:xfrm>
        </p:grpSpPr>
        <p:sp>
          <p:nvSpPr>
            <p:cNvPr id="105" name="Freeform 136"/>
            <p:cNvSpPr/>
            <p:nvPr/>
          </p:nvSpPr>
          <p:spPr>
            <a:xfrm>
              <a:off x="5200560" y="4528440"/>
              <a:ext cx="476280" cy="20700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07000"/>
                <a:gd name="textAreaBottom" fmla="*/ 207360 h 20700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37"/>
            <p:cNvSpPr/>
            <p:nvPr/>
          </p:nvSpPr>
          <p:spPr>
            <a:xfrm>
              <a:off x="5200560" y="4264200"/>
              <a:ext cx="476280" cy="273960"/>
            </a:xfrm>
            <a:custGeom>
              <a:avLst/>
              <a:gdLst>
                <a:gd name="textAreaLeft" fmla="*/ 0 w 476280"/>
                <a:gd name="textAreaRight" fmla="*/ 476640 w 476280"/>
                <a:gd name="textAreaTop" fmla="*/ 0 h 273960"/>
                <a:gd name="textAreaBottom" fmla="*/ 274320 h 27396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9"/>
          <p:cNvGrpSpPr/>
          <p:nvPr/>
        </p:nvGrpSpPr>
        <p:grpSpPr>
          <a:xfrm>
            <a:off x="5187960" y="2997360"/>
            <a:ext cx="495360" cy="533160"/>
            <a:chOff x="5187960" y="2997360"/>
            <a:chExt cx="495360" cy="533160"/>
          </a:xfrm>
        </p:grpSpPr>
        <p:sp>
          <p:nvSpPr>
            <p:cNvPr id="108" name="Freeform 154"/>
            <p:cNvSpPr/>
            <p:nvPr/>
          </p:nvSpPr>
          <p:spPr>
            <a:xfrm>
              <a:off x="5337720" y="3450240"/>
              <a:ext cx="53640" cy="49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5"/>
            <p:cNvSpPr/>
            <p:nvPr/>
          </p:nvSpPr>
          <p:spPr>
            <a:xfrm>
              <a:off x="5358600" y="3443400"/>
              <a:ext cx="9720" cy="34560"/>
            </a:xfrm>
            <a:prstGeom prst="rect">
              <a:avLst/>
            </a:pr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56"/>
            <p:cNvSpPr/>
            <p:nvPr/>
          </p:nvSpPr>
          <p:spPr>
            <a:xfrm>
              <a:off x="5229360" y="3083760"/>
              <a:ext cx="276840" cy="27684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276840"/>
                <a:gd name="textAreaBottom" fmla="*/ 277200 h 27684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57"/>
            <p:cNvSpPr/>
            <p:nvPr/>
          </p:nvSpPr>
          <p:spPr>
            <a:xfrm>
              <a:off x="5187960" y="2997360"/>
              <a:ext cx="359280" cy="533160"/>
            </a:xfrm>
            <a:custGeom>
              <a:avLst/>
              <a:gdLst>
                <a:gd name="textAreaLeft" fmla="*/ 0 w 359280"/>
                <a:gd name="textAreaRight" fmla="*/ 359640 w 35928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58"/>
            <p:cNvSpPr/>
            <p:nvPr/>
          </p:nvSpPr>
          <p:spPr>
            <a:xfrm>
              <a:off x="5481000" y="3212640"/>
              <a:ext cx="202320" cy="20232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202320"/>
                <a:gd name="textAreaBottom" fmla="*/ 202680 h 2023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组合 25"/>
          <p:cNvGrpSpPr/>
          <p:nvPr/>
        </p:nvGrpSpPr>
        <p:grpSpPr>
          <a:xfrm>
            <a:off x="6553080" y="4222800"/>
            <a:ext cx="444600" cy="568440"/>
            <a:chOff x="6553080" y="4222800"/>
            <a:chExt cx="444600" cy="568440"/>
          </a:xfrm>
        </p:grpSpPr>
        <p:sp>
          <p:nvSpPr>
            <p:cNvPr id="114" name="Freeform 32"/>
            <p:cNvSpPr/>
            <p:nvPr/>
          </p:nvSpPr>
          <p:spPr>
            <a:xfrm>
              <a:off x="6718320" y="4222800"/>
              <a:ext cx="112680" cy="5684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568440"/>
                <a:gd name="textAreaBottom" fmla="*/ 568800 h 568440"/>
              </a:gdLst>
              <a:ahLst/>
              <a:rect l="textAreaLeft" t="textAreaTop" r="textAreaRight" b="textAreaBottom"/>
              <a:pathLst>
                <a:path w="64" h="321">
                  <a:moveTo>
                    <a:pt x="64" y="289"/>
                  </a:moveTo>
                  <a:cubicBezTo>
                    <a:pt x="64" y="307"/>
                    <a:pt x="49" y="321"/>
                    <a:pt x="32" y="321"/>
                  </a:cubicBezTo>
                  <a:cubicBezTo>
                    <a:pt x="14" y="321"/>
                    <a:pt x="0" y="307"/>
                    <a:pt x="0" y="289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289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3"/>
            <p:cNvSpPr/>
            <p:nvPr/>
          </p:nvSpPr>
          <p:spPr>
            <a:xfrm>
              <a:off x="6553080" y="4569840"/>
              <a:ext cx="111240" cy="2214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63" h="125">
                  <a:moveTo>
                    <a:pt x="63" y="93"/>
                  </a:moveTo>
                  <a:cubicBezTo>
                    <a:pt x="63" y="111"/>
                    <a:pt x="49" y="125"/>
                    <a:pt x="32" y="125"/>
                  </a:cubicBezTo>
                  <a:cubicBezTo>
                    <a:pt x="14" y="125"/>
                    <a:pt x="0" y="111"/>
                    <a:pt x="0" y="93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3" y="14"/>
                    <a:pt x="63" y="32"/>
                  </a:cubicBezTo>
                  <a:lnTo>
                    <a:pt x="63" y="93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4"/>
            <p:cNvSpPr/>
            <p:nvPr/>
          </p:nvSpPr>
          <p:spPr>
            <a:xfrm>
              <a:off x="6885000" y="4405680"/>
              <a:ext cx="112680" cy="3855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64" h="218">
                  <a:moveTo>
                    <a:pt x="64" y="186"/>
                  </a:moveTo>
                  <a:cubicBezTo>
                    <a:pt x="64" y="204"/>
                    <a:pt x="49" y="218"/>
                    <a:pt x="32" y="218"/>
                  </a:cubicBezTo>
                  <a:cubicBezTo>
                    <a:pt x="14" y="218"/>
                    <a:pt x="0" y="204"/>
                    <a:pt x="0" y="186"/>
                  </a:cubicBezTo>
                  <a:cubicBezTo>
                    <a:pt x="0" y="32"/>
                    <a:pt x="0" y="32"/>
                    <a:pt x="0" y="32"/>
                  </a:cubicBezTo>
                  <a:cubicBezTo>
                    <a:pt x="0" y="14"/>
                    <a:pt x="14" y="0"/>
                    <a:pt x="32" y="0"/>
                  </a:cubicBezTo>
                  <a:cubicBezTo>
                    <a:pt x="49" y="0"/>
                    <a:pt x="64" y="14"/>
                    <a:pt x="64" y="32"/>
                  </a:cubicBezTo>
                  <a:lnTo>
                    <a:pt x="64" y="186"/>
                  </a:lnTo>
                  <a:close/>
                </a:path>
              </a:pathLst>
            </a:custGeom>
            <a:solidFill>
              <a:srgbClr val="fcfcfc">
                <a:alpha val="8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任意多边形 29"/>
          <p:cNvSpPr/>
          <p:nvPr/>
        </p:nvSpPr>
        <p:spPr>
          <a:xfrm flipH="1" rot="16193400">
            <a:off x="5022720" y="1617480"/>
            <a:ext cx="389160" cy="1627200"/>
          </a:xfrm>
          <a:custGeom>
            <a:avLst/>
            <a:gdLst>
              <a:gd name="textAreaLeft" fmla="*/ -360 w 389160"/>
              <a:gd name="textAreaRight" fmla="*/ 389160 w 38916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w="389043" h="1627020">
                <a:moveTo>
                  <a:pt x="0" y="1241122"/>
                </a:moveTo>
                <a:lnTo>
                  <a:pt x="385898" y="1627020"/>
                </a:lnTo>
                <a:lnTo>
                  <a:pt x="387909" y="1627020"/>
                </a:lnTo>
                <a:lnTo>
                  <a:pt x="387909" y="387910"/>
                </a:lnTo>
                <a:lnTo>
                  <a:pt x="389043" y="387910"/>
                </a:lnTo>
                <a:lnTo>
                  <a:pt x="9685" y="0"/>
                </a:lnTo>
                <a:lnTo>
                  <a:pt x="0" y="0"/>
                </a:lnTo>
                <a:lnTo>
                  <a:pt x="0" y="1241122"/>
                </a:lnTo>
                <a:close/>
              </a:path>
            </a:pathLst>
          </a:custGeom>
          <a:solidFill>
            <a:srgbClr val="fcfcfc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组合 30"/>
          <p:cNvGrpSpPr/>
          <p:nvPr/>
        </p:nvGrpSpPr>
        <p:grpSpPr>
          <a:xfrm>
            <a:off x="6127920" y="2231640"/>
            <a:ext cx="1627560" cy="1619280"/>
            <a:chOff x="6127920" y="2231640"/>
            <a:chExt cx="1627560" cy="1619280"/>
          </a:xfrm>
        </p:grpSpPr>
        <p:sp>
          <p:nvSpPr>
            <p:cNvPr id="119" name="任意多边形 31"/>
            <p:cNvSpPr/>
            <p:nvPr/>
          </p:nvSpPr>
          <p:spPr>
            <a:xfrm rot="5406600">
              <a:off x="6751080" y="2846520"/>
              <a:ext cx="1617480" cy="38772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387720"/>
                <a:gd name="textAreaBottom" fmla="*/ 38808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32"/>
            <p:cNvSpPr/>
            <p:nvPr/>
          </p:nvSpPr>
          <p:spPr>
            <a:xfrm rot="5406600">
              <a:off x="6141240" y="2625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33"/>
            <p:cNvSpPr/>
            <p:nvPr/>
          </p:nvSpPr>
          <p:spPr>
            <a:xfrm rot="5406600">
              <a:off x="6747120" y="161820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1626840"/>
                <a:gd name="textAreaBottom" fmla="*/ 162720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34"/>
          <p:cNvGrpSpPr/>
          <p:nvPr/>
        </p:nvGrpSpPr>
        <p:grpSpPr>
          <a:xfrm>
            <a:off x="6127920" y="3965760"/>
            <a:ext cx="1627560" cy="1618920"/>
            <a:chOff x="6127920" y="3965760"/>
            <a:chExt cx="1627560" cy="1618920"/>
          </a:xfrm>
        </p:grpSpPr>
        <p:sp>
          <p:nvSpPr>
            <p:cNvPr id="123" name="任意多边形 35"/>
            <p:cNvSpPr/>
            <p:nvPr/>
          </p:nvSpPr>
          <p:spPr>
            <a:xfrm flipV="1" rot="16193400">
              <a:off x="6751440" y="4581720"/>
              <a:ext cx="1617120" cy="387720"/>
            </a:xfrm>
            <a:custGeom>
              <a:avLst/>
              <a:gdLst>
                <a:gd name="textAreaLeft" fmla="*/ 0 w 1617120"/>
                <a:gd name="textAreaRight" fmla="*/ 1617480 w 16171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36"/>
            <p:cNvSpPr/>
            <p:nvPr/>
          </p:nvSpPr>
          <p:spPr>
            <a:xfrm flipV="1" rot="16193400">
              <a:off x="6141240" y="3966480"/>
              <a:ext cx="1224000" cy="122400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37"/>
            <p:cNvSpPr/>
            <p:nvPr/>
          </p:nvSpPr>
          <p:spPr>
            <a:xfrm flipV="1" rot="16193400">
              <a:off x="6747120" y="4570920"/>
              <a:ext cx="388800" cy="162684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-360 h 1626840"/>
                <a:gd name="textAreaBottom" fmla="*/ 1626840 h 162684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38"/>
          <p:cNvGrpSpPr/>
          <p:nvPr/>
        </p:nvGrpSpPr>
        <p:grpSpPr>
          <a:xfrm>
            <a:off x="4402800" y="3961440"/>
            <a:ext cx="1628640" cy="1620720"/>
            <a:chOff x="4402800" y="3961440"/>
            <a:chExt cx="1628640" cy="1620720"/>
          </a:xfrm>
        </p:grpSpPr>
        <p:sp>
          <p:nvSpPr>
            <p:cNvPr id="127" name="任意多边形 39"/>
            <p:cNvSpPr/>
            <p:nvPr/>
          </p:nvSpPr>
          <p:spPr>
            <a:xfrm flipH="1" flipV="1" rot="5406600">
              <a:off x="3788640" y="4577760"/>
              <a:ext cx="1618920" cy="387720"/>
            </a:xfrm>
            <a:custGeom>
              <a:avLst/>
              <a:gdLst>
                <a:gd name="textAreaLeft" fmla="*/ -360 w 1618920"/>
                <a:gd name="textAreaRight" fmla="*/ 1618920 w 1618920"/>
                <a:gd name="textAreaTop" fmla="*/ -360 h 387720"/>
                <a:gd name="textAreaBottom" fmla="*/ 387720 h 387720"/>
              </a:gdLst>
              <a:ahLst/>
              <a:rect l="textAreaLeft" t="textAreaTop" r="textAreaRight" b="textAreaBottom"/>
              <a:pathLst>
                <a:path w="1617335" h="387910">
                  <a:moveTo>
                    <a:pt x="0" y="0"/>
                  </a:moveTo>
                  <a:lnTo>
                    <a:pt x="379358" y="387910"/>
                  </a:lnTo>
                  <a:lnTo>
                    <a:pt x="1617335" y="387910"/>
                  </a:lnTo>
                  <a:lnTo>
                    <a:pt x="1617335" y="385898"/>
                  </a:lnTo>
                  <a:lnTo>
                    <a:pt x="123143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cfc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矩形 40"/>
            <p:cNvSpPr/>
            <p:nvPr/>
          </p:nvSpPr>
          <p:spPr>
            <a:xfrm flipH="1" flipV="1" rot="5406600">
              <a:off x="4792320" y="3962880"/>
              <a:ext cx="1225080" cy="1224360"/>
            </a:xfrm>
            <a:prstGeom prst="rect">
              <a:avLst/>
            </a:prstGeom>
            <a:noFill/>
            <a:ln w="12600">
              <a:solidFill>
                <a:srgbClr val="fcfcfc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41"/>
            <p:cNvSpPr/>
            <p:nvPr/>
          </p:nvSpPr>
          <p:spPr>
            <a:xfrm flipH="1" flipV="1" rot="5406600">
              <a:off x="5022720" y="4568400"/>
              <a:ext cx="389160" cy="1627200"/>
            </a:xfrm>
            <a:custGeom>
              <a:avLst/>
              <a:gdLst>
                <a:gd name="textAreaLeft" fmla="*/ -360 w 389160"/>
                <a:gd name="textAreaRight" fmla="*/ 389160 w 389160"/>
                <a:gd name="textAreaTop" fmla="*/ 360 h 1627200"/>
                <a:gd name="textAreaBottom" fmla="*/ 1627920 h 1627200"/>
              </a:gdLst>
              <a:ahLst/>
              <a:rect l="textAreaLeft" t="textAreaTop" r="textAreaRight" b="textAreaBottom"/>
              <a:pathLst>
                <a:path w="389043" h="1627020">
                  <a:moveTo>
                    <a:pt x="0" y="1241122"/>
                  </a:moveTo>
                  <a:lnTo>
                    <a:pt x="385898" y="1627020"/>
                  </a:lnTo>
                  <a:lnTo>
                    <a:pt x="387909" y="1627020"/>
                  </a:lnTo>
                  <a:lnTo>
                    <a:pt x="387909" y="387910"/>
                  </a:lnTo>
                  <a:lnTo>
                    <a:pt x="389043" y="387910"/>
                  </a:lnTo>
                  <a:lnTo>
                    <a:pt x="9685" y="0"/>
                  </a:lnTo>
                  <a:lnTo>
                    <a:pt x="0" y="0"/>
                  </a:lnTo>
                  <a:lnTo>
                    <a:pt x="0" y="1241122"/>
                  </a:lnTo>
                  <a:close/>
                </a:path>
              </a:pathLst>
            </a:custGeom>
            <a:solidFill>
              <a:srgbClr val="fcfcfc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42"/>
          <p:cNvSpPr/>
          <p:nvPr/>
        </p:nvSpPr>
        <p:spPr>
          <a:xfrm>
            <a:off x="1024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43"/>
          <p:cNvSpPr/>
          <p:nvPr/>
        </p:nvSpPr>
        <p:spPr>
          <a:xfrm>
            <a:off x="1081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4"/>
          <p:cNvSpPr/>
          <p:nvPr/>
        </p:nvSpPr>
        <p:spPr>
          <a:xfrm>
            <a:off x="8071200" y="21528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45"/>
          <p:cNvSpPr/>
          <p:nvPr/>
        </p:nvSpPr>
        <p:spPr>
          <a:xfrm>
            <a:off x="8128440" y="50338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任意多边形 1"/>
          <p:cNvSpPr/>
          <p:nvPr/>
        </p:nvSpPr>
        <p:spPr>
          <a:xfrm>
            <a:off x="2936880" y="3524400"/>
            <a:ext cx="1833480" cy="183492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2"/>
          <p:cNvSpPr/>
          <p:nvPr/>
        </p:nvSpPr>
        <p:spPr>
          <a:xfrm>
            <a:off x="3249720" y="38433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任意多边形 3"/>
          <p:cNvSpPr/>
          <p:nvPr/>
        </p:nvSpPr>
        <p:spPr>
          <a:xfrm>
            <a:off x="4325760" y="2438280"/>
            <a:ext cx="1833840" cy="1833840"/>
          </a:xfrm>
          <a:custGeom>
            <a:avLst/>
            <a:gdLst>
              <a:gd name="textAreaLeft" fmla="*/ 0 w 1833840"/>
              <a:gd name="textAreaRight" fmla="*/ 1834200 w 1833840"/>
              <a:gd name="textAreaTop" fmla="*/ 0 h 1833840"/>
              <a:gd name="textAreaBottom" fmla="*/ 1834200 h 183384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椭圆 4"/>
          <p:cNvSpPr/>
          <p:nvPr/>
        </p:nvSpPr>
        <p:spPr>
          <a:xfrm>
            <a:off x="4638600" y="275580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任意多边形 5"/>
          <p:cNvSpPr/>
          <p:nvPr/>
        </p:nvSpPr>
        <p:spPr>
          <a:xfrm>
            <a:off x="7139160" y="2451240"/>
            <a:ext cx="1834920" cy="18349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834920"/>
              <a:gd name="textAreaBottom" fmla="*/ 1835280 h 183492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7453440" y="2768760"/>
            <a:ext cx="1207800" cy="120960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7"/>
          <p:cNvSpPr/>
          <p:nvPr/>
        </p:nvSpPr>
        <p:spPr>
          <a:xfrm>
            <a:off x="5738760" y="3538440"/>
            <a:ext cx="1833480" cy="1835280"/>
          </a:xfrm>
          <a:custGeom>
            <a:avLst/>
            <a:gdLst>
              <a:gd name="textAreaLeft" fmla="*/ 0 w 1833480"/>
              <a:gd name="textAreaRight" fmla="*/ 1833840 w 1833480"/>
              <a:gd name="textAreaTop" fmla="*/ 0 h 1835280"/>
              <a:gd name="textAreaBottom" fmla="*/ 1835640 h 1835280"/>
            </a:gdLst>
            <a:ahLst/>
            <a:rect l="textAreaLeft" t="textAreaTop" r="textAreaRight" b="textAreaBottom"/>
            <a:pathLst>
              <a:path w="2204265" h="2204265">
                <a:moveTo>
                  <a:pt x="1102132" y="321083"/>
                </a:moveTo>
                <a:cubicBezTo>
                  <a:pt x="665509" y="321083"/>
                  <a:pt x="311557" y="675035"/>
                  <a:pt x="311557" y="1111658"/>
                </a:cubicBezTo>
                <a:cubicBezTo>
                  <a:pt x="311557" y="1548281"/>
                  <a:pt x="665509" y="1902233"/>
                  <a:pt x="1102132" y="1902233"/>
                </a:cubicBezTo>
                <a:cubicBezTo>
                  <a:pt x="1538755" y="1902233"/>
                  <a:pt x="1892707" y="1548281"/>
                  <a:pt x="1892707" y="1111658"/>
                </a:cubicBezTo>
                <a:cubicBezTo>
                  <a:pt x="1892707" y="675035"/>
                  <a:pt x="1538755" y="321083"/>
                  <a:pt x="1102132" y="321083"/>
                </a:cubicBezTo>
                <a:close/>
                <a:moveTo>
                  <a:pt x="977042" y="0"/>
                </a:moveTo>
                <a:lnTo>
                  <a:pt x="1227224" y="0"/>
                </a:lnTo>
                <a:lnTo>
                  <a:pt x="1276006" y="227584"/>
                </a:lnTo>
                <a:lnTo>
                  <a:pt x="1287791" y="229382"/>
                </a:lnTo>
                <a:lnTo>
                  <a:pt x="1387705" y="259057"/>
                </a:lnTo>
                <a:lnTo>
                  <a:pt x="1544868" y="85113"/>
                </a:lnTo>
                <a:lnTo>
                  <a:pt x="1761531" y="210203"/>
                </a:lnTo>
                <a:lnTo>
                  <a:pt x="1691902" y="425756"/>
                </a:lnTo>
                <a:lnTo>
                  <a:pt x="1705003" y="435309"/>
                </a:lnTo>
                <a:cubicBezTo>
                  <a:pt x="1729378" y="456423"/>
                  <a:pt x="1752634" y="478795"/>
                  <a:pt x="1774668" y="502325"/>
                </a:cubicBezTo>
                <a:lnTo>
                  <a:pt x="1782142" y="511190"/>
                </a:lnTo>
                <a:lnTo>
                  <a:pt x="1994063" y="442735"/>
                </a:lnTo>
                <a:lnTo>
                  <a:pt x="2119154" y="659399"/>
                </a:lnTo>
                <a:lnTo>
                  <a:pt x="1961265" y="802053"/>
                </a:lnTo>
                <a:lnTo>
                  <a:pt x="1974042" y="833752"/>
                </a:lnTo>
                <a:lnTo>
                  <a:pt x="1999140" y="933073"/>
                </a:lnTo>
                <a:lnTo>
                  <a:pt x="2204265" y="977042"/>
                </a:lnTo>
                <a:lnTo>
                  <a:pt x="2204265" y="1227224"/>
                </a:lnTo>
                <a:lnTo>
                  <a:pt x="2012137" y="1268406"/>
                </a:lnTo>
                <a:lnTo>
                  <a:pt x="2004638" y="1317545"/>
                </a:lnTo>
                <a:cubicBezTo>
                  <a:pt x="1999269" y="1343782"/>
                  <a:pt x="1992785" y="1369612"/>
                  <a:pt x="1985237" y="1394985"/>
                </a:cubicBezTo>
                <a:lnTo>
                  <a:pt x="1977636" y="1417004"/>
                </a:lnTo>
                <a:lnTo>
                  <a:pt x="2119154" y="1544868"/>
                </a:lnTo>
                <a:lnTo>
                  <a:pt x="1994063" y="1761531"/>
                </a:lnTo>
                <a:lnTo>
                  <a:pt x="1820151" y="1705353"/>
                </a:lnTo>
                <a:lnTo>
                  <a:pt x="1798711" y="1734758"/>
                </a:lnTo>
                <a:cubicBezTo>
                  <a:pt x="1777597" y="1759133"/>
                  <a:pt x="1755225" y="1782388"/>
                  <a:pt x="1731696" y="1804423"/>
                </a:cubicBezTo>
                <a:lnTo>
                  <a:pt x="1706998" y="1825242"/>
                </a:lnTo>
                <a:lnTo>
                  <a:pt x="1761531" y="1994062"/>
                </a:lnTo>
                <a:lnTo>
                  <a:pt x="1544868" y="2119153"/>
                </a:lnTo>
                <a:lnTo>
                  <a:pt x="1429863" y="1991868"/>
                </a:lnTo>
                <a:lnTo>
                  <a:pt x="1400268" y="2003797"/>
                </a:lnTo>
                <a:lnTo>
                  <a:pt x="1262745" y="2038549"/>
                </a:lnTo>
                <a:lnTo>
                  <a:pt x="1227224" y="2204265"/>
                </a:lnTo>
                <a:lnTo>
                  <a:pt x="977042" y="2204265"/>
                </a:lnTo>
                <a:lnTo>
                  <a:pt x="941447" y="2038203"/>
                </a:lnTo>
                <a:lnTo>
                  <a:pt x="916475" y="2034392"/>
                </a:lnTo>
                <a:lnTo>
                  <a:pt x="774169" y="1992127"/>
                </a:lnTo>
                <a:lnTo>
                  <a:pt x="659399" y="2119153"/>
                </a:lnTo>
                <a:lnTo>
                  <a:pt x="442735" y="1994062"/>
                </a:lnTo>
                <a:lnTo>
                  <a:pt x="496981" y="1826130"/>
                </a:lnTo>
                <a:lnTo>
                  <a:pt x="391274" y="1717869"/>
                </a:lnTo>
                <a:lnTo>
                  <a:pt x="382878" y="1705753"/>
                </a:lnTo>
                <a:lnTo>
                  <a:pt x="210204" y="1761531"/>
                </a:lnTo>
                <a:lnTo>
                  <a:pt x="85113" y="1544868"/>
                </a:lnTo>
                <a:lnTo>
                  <a:pt x="226733" y="1416912"/>
                </a:lnTo>
                <a:lnTo>
                  <a:pt x="212821" y="1373126"/>
                </a:lnTo>
                <a:lnTo>
                  <a:pt x="191748" y="1268325"/>
                </a:lnTo>
                <a:lnTo>
                  <a:pt x="0" y="1227224"/>
                </a:lnTo>
                <a:lnTo>
                  <a:pt x="0" y="977042"/>
                </a:lnTo>
                <a:lnTo>
                  <a:pt x="203220" y="933481"/>
                </a:lnTo>
                <a:lnTo>
                  <a:pt x="212821" y="890649"/>
                </a:lnTo>
                <a:lnTo>
                  <a:pt x="243470" y="802476"/>
                </a:lnTo>
                <a:lnTo>
                  <a:pt x="85113" y="659399"/>
                </a:lnTo>
                <a:lnTo>
                  <a:pt x="210204" y="442735"/>
                </a:lnTo>
                <a:lnTo>
                  <a:pt x="423776" y="511723"/>
                </a:lnTo>
                <a:lnTo>
                  <a:pt x="470557" y="461243"/>
                </a:lnTo>
                <a:lnTo>
                  <a:pt x="512656" y="426662"/>
                </a:lnTo>
                <a:lnTo>
                  <a:pt x="442735" y="210203"/>
                </a:lnTo>
                <a:lnTo>
                  <a:pt x="659399" y="85113"/>
                </a:lnTo>
                <a:lnTo>
                  <a:pt x="815299" y="257661"/>
                </a:lnTo>
                <a:lnTo>
                  <a:pt x="916475" y="229382"/>
                </a:lnTo>
                <a:lnTo>
                  <a:pt x="928259" y="227584"/>
                </a:lnTo>
                <a:lnTo>
                  <a:pt x="977042" y="0"/>
                </a:lnTo>
                <a:close/>
              </a:path>
            </a:pathLst>
          </a:custGeom>
          <a:solidFill>
            <a:srgbClr val="fcfcfc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6051600" y="3855960"/>
            <a:ext cx="1208160" cy="1208160"/>
          </a:xfrm>
          <a:prstGeom prst="ellipse">
            <a:avLst/>
          </a:prstGeom>
          <a:solidFill>
            <a:srgbClr val="fcfcf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9"/>
          <p:cNvGrpSpPr/>
          <p:nvPr/>
        </p:nvGrpSpPr>
        <p:grpSpPr>
          <a:xfrm>
            <a:off x="6458040" y="4211640"/>
            <a:ext cx="444240" cy="496800"/>
            <a:chOff x="6458040" y="4211640"/>
            <a:chExt cx="444240" cy="496800"/>
          </a:xfrm>
        </p:grpSpPr>
        <p:sp>
          <p:nvSpPr>
            <p:cNvPr id="143" name="Freeform 108"/>
            <p:cNvSpPr/>
            <p:nvPr/>
          </p:nvSpPr>
          <p:spPr>
            <a:xfrm>
              <a:off x="6534360" y="4395960"/>
              <a:ext cx="62640" cy="637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6" h="26">
                  <a:moveTo>
                    <a:pt x="13" y="0"/>
                  </a:moveTo>
                  <a:cubicBezTo>
                    <a:pt x="6" y="0"/>
                    <a:pt x="0" y="6"/>
                    <a:pt x="0" y="13"/>
                  </a:cubicBezTo>
                  <a:cubicBezTo>
                    <a:pt x="0" y="20"/>
                    <a:pt x="6" y="26"/>
                    <a:pt x="13" y="26"/>
                  </a:cubicBezTo>
                  <a:cubicBezTo>
                    <a:pt x="20" y="26"/>
                    <a:pt x="26" y="20"/>
                    <a:pt x="26" y="13"/>
                  </a:cubicBezTo>
                  <a:cubicBezTo>
                    <a:pt x="26" y="6"/>
                    <a:pt x="20" y="0"/>
                    <a:pt x="13" y="0"/>
                  </a:cubicBezTo>
                  <a:close/>
                  <a:moveTo>
                    <a:pt x="13" y="23"/>
                  </a:moveTo>
                  <a:cubicBezTo>
                    <a:pt x="8" y="23"/>
                    <a:pt x="3" y="18"/>
                    <a:pt x="3" y="13"/>
                  </a:cubicBezTo>
                  <a:cubicBezTo>
                    <a:pt x="3" y="7"/>
                    <a:pt x="8" y="3"/>
                    <a:pt x="13" y="3"/>
                  </a:cubicBezTo>
                  <a:cubicBezTo>
                    <a:pt x="19" y="3"/>
                    <a:pt x="23" y="7"/>
                    <a:pt x="23" y="13"/>
                  </a:cubicBezTo>
                  <a:cubicBezTo>
                    <a:pt x="23" y="18"/>
                    <a:pt x="19" y="23"/>
                    <a:pt x="13" y="2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09"/>
            <p:cNvSpPr/>
            <p:nvPr/>
          </p:nvSpPr>
          <p:spPr>
            <a:xfrm>
              <a:off x="6675480" y="4354920"/>
              <a:ext cx="53640" cy="532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11" y="0"/>
                  </a:moveTo>
                  <a:cubicBezTo>
                    <a:pt x="5" y="0"/>
                    <a:pt x="0" y="5"/>
                    <a:pt x="0" y="11"/>
                  </a:cubicBezTo>
                  <a:cubicBezTo>
                    <a:pt x="0" y="17"/>
                    <a:pt x="5" y="22"/>
                    <a:pt x="11" y="22"/>
                  </a:cubicBezTo>
                  <a:cubicBezTo>
                    <a:pt x="17" y="22"/>
                    <a:pt x="22" y="17"/>
                    <a:pt x="22" y="11"/>
                  </a:cubicBezTo>
                  <a:cubicBezTo>
                    <a:pt x="22" y="5"/>
                    <a:pt x="17" y="0"/>
                    <a:pt x="11" y="0"/>
                  </a:cubicBezTo>
                  <a:close/>
                  <a:moveTo>
                    <a:pt x="11" y="17"/>
                  </a:moveTo>
                  <a:cubicBezTo>
                    <a:pt x="8" y="17"/>
                    <a:pt x="5" y="14"/>
                    <a:pt x="5" y="11"/>
                  </a:cubicBezTo>
                  <a:cubicBezTo>
                    <a:pt x="5" y="8"/>
                    <a:pt x="8" y="5"/>
                    <a:pt x="11" y="5"/>
                  </a:cubicBezTo>
                  <a:cubicBezTo>
                    <a:pt x="14" y="5"/>
                    <a:pt x="17" y="8"/>
                    <a:pt x="17" y="11"/>
                  </a:cubicBezTo>
                  <a:cubicBezTo>
                    <a:pt x="17" y="14"/>
                    <a:pt x="14" y="17"/>
                    <a:pt x="11" y="17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10"/>
            <p:cNvSpPr/>
            <p:nvPr/>
          </p:nvSpPr>
          <p:spPr>
            <a:xfrm>
              <a:off x="6548760" y="441144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7" y="0"/>
                  </a:moveTo>
                  <a:cubicBezTo>
                    <a:pt x="3" y="0"/>
                    <a:pt x="0" y="3"/>
                    <a:pt x="0" y="7"/>
                  </a:cubicBezTo>
                  <a:cubicBezTo>
                    <a:pt x="0" y="11"/>
                    <a:pt x="3" y="14"/>
                    <a:pt x="7" y="14"/>
                  </a:cubicBezTo>
                  <a:cubicBezTo>
                    <a:pt x="11" y="14"/>
                    <a:pt x="14" y="11"/>
                    <a:pt x="14" y="7"/>
                  </a:cubicBezTo>
                  <a:cubicBezTo>
                    <a:pt x="14" y="3"/>
                    <a:pt x="11" y="0"/>
                    <a:pt x="7" y="0"/>
                  </a:cubicBezTo>
                  <a:close/>
                  <a:moveTo>
                    <a:pt x="7" y="10"/>
                  </a:moveTo>
                  <a:cubicBezTo>
                    <a:pt x="5" y="10"/>
                    <a:pt x="4" y="9"/>
                    <a:pt x="4" y="7"/>
                  </a:cubicBezTo>
                  <a:cubicBezTo>
                    <a:pt x="4" y="5"/>
                    <a:pt x="5" y="3"/>
                    <a:pt x="7" y="3"/>
                  </a:cubicBezTo>
                  <a:cubicBezTo>
                    <a:pt x="9" y="3"/>
                    <a:pt x="11" y="5"/>
                    <a:pt x="11" y="7"/>
                  </a:cubicBezTo>
                  <a:cubicBezTo>
                    <a:pt x="11" y="9"/>
                    <a:pt x="9" y="10"/>
                    <a:pt x="7" y="1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1"/>
            <p:cNvSpPr/>
            <p:nvPr/>
          </p:nvSpPr>
          <p:spPr>
            <a:xfrm>
              <a:off x="6648840" y="4327920"/>
              <a:ext cx="107280" cy="106920"/>
            </a:xfrm>
            <a:custGeom>
              <a:avLst/>
              <a:gdLst>
                <a:gd name="textAreaLeft" fmla="*/ 0 w 107280"/>
                <a:gd name="textAreaRight" fmla="*/ 107640 w 1072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" h="44">
                  <a:moveTo>
                    <a:pt x="22" y="0"/>
                  </a:moveTo>
                  <a:cubicBezTo>
                    <a:pt x="10" y="0"/>
                    <a:pt x="0" y="10"/>
                    <a:pt x="0" y="22"/>
                  </a:cubicBezTo>
                  <a:cubicBezTo>
                    <a:pt x="0" y="34"/>
                    <a:pt x="10" y="44"/>
                    <a:pt x="22" y="44"/>
                  </a:cubicBezTo>
                  <a:cubicBezTo>
                    <a:pt x="34" y="44"/>
                    <a:pt x="44" y="34"/>
                    <a:pt x="44" y="22"/>
                  </a:cubicBezTo>
                  <a:cubicBezTo>
                    <a:pt x="44" y="10"/>
                    <a:pt x="34" y="0"/>
                    <a:pt x="22" y="0"/>
                  </a:cubicBezTo>
                  <a:close/>
                  <a:moveTo>
                    <a:pt x="22" y="39"/>
                  </a:moveTo>
                  <a:cubicBezTo>
                    <a:pt x="13" y="39"/>
                    <a:pt x="5" y="31"/>
                    <a:pt x="5" y="22"/>
                  </a:cubicBezTo>
                  <a:cubicBezTo>
                    <a:pt x="5" y="13"/>
                    <a:pt x="13" y="6"/>
                    <a:pt x="22" y="6"/>
                  </a:cubicBezTo>
                  <a:cubicBezTo>
                    <a:pt x="31" y="6"/>
                    <a:pt x="39" y="13"/>
                    <a:pt x="39" y="22"/>
                  </a:cubicBezTo>
                  <a:cubicBezTo>
                    <a:pt x="39" y="31"/>
                    <a:pt x="31" y="39"/>
                    <a:pt x="22" y="3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12"/>
            <p:cNvSpPr/>
            <p:nvPr/>
          </p:nvSpPr>
          <p:spPr>
            <a:xfrm>
              <a:off x="6458040" y="4211640"/>
              <a:ext cx="444240" cy="49680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496800"/>
                <a:gd name="textAreaBottom" fmla="*/ 497160 h 496800"/>
              </a:gdLst>
              <a:ahLst/>
              <a:rect l="textAreaLeft" t="textAreaTop" r="textAreaRight" b="textAreaBottom"/>
              <a:pathLst>
                <a:path w="182" h="204">
                  <a:moveTo>
                    <a:pt x="170" y="111"/>
                  </a:moveTo>
                  <a:cubicBezTo>
                    <a:pt x="166" y="107"/>
                    <a:pt x="160" y="102"/>
                    <a:pt x="157" y="96"/>
                  </a:cubicBezTo>
                  <a:cubicBezTo>
                    <a:pt x="153" y="87"/>
                    <a:pt x="158" y="79"/>
                    <a:pt x="157" y="70"/>
                  </a:cubicBezTo>
                  <a:cubicBezTo>
                    <a:pt x="157" y="63"/>
                    <a:pt x="155" y="54"/>
                    <a:pt x="153" y="48"/>
                  </a:cubicBezTo>
                  <a:cubicBezTo>
                    <a:pt x="149" y="37"/>
                    <a:pt x="142" y="28"/>
                    <a:pt x="133" y="21"/>
                  </a:cubicBezTo>
                  <a:cubicBezTo>
                    <a:pt x="119" y="8"/>
                    <a:pt x="100" y="0"/>
                    <a:pt x="78" y="0"/>
                  </a:cubicBezTo>
                  <a:cubicBezTo>
                    <a:pt x="35" y="0"/>
                    <a:pt x="0" y="32"/>
                    <a:pt x="0" y="71"/>
                  </a:cubicBezTo>
                  <a:cubicBezTo>
                    <a:pt x="0" y="74"/>
                    <a:pt x="0" y="77"/>
                    <a:pt x="1" y="79"/>
                  </a:cubicBezTo>
                  <a:cubicBezTo>
                    <a:pt x="1" y="96"/>
                    <a:pt x="6" y="117"/>
                    <a:pt x="22" y="139"/>
                  </a:cubicBezTo>
                  <a:cubicBezTo>
                    <a:pt x="22" y="139"/>
                    <a:pt x="43" y="182"/>
                    <a:pt x="0" y="204"/>
                  </a:cubicBezTo>
                  <a:cubicBezTo>
                    <a:pt x="95" y="204"/>
                    <a:pt x="95" y="204"/>
                    <a:pt x="95" y="204"/>
                  </a:cubicBezTo>
                  <a:cubicBezTo>
                    <a:pt x="95" y="204"/>
                    <a:pt x="102" y="176"/>
                    <a:pt x="113" y="176"/>
                  </a:cubicBezTo>
                  <a:cubicBezTo>
                    <a:pt x="123" y="176"/>
                    <a:pt x="133" y="177"/>
                    <a:pt x="142" y="176"/>
                  </a:cubicBezTo>
                  <a:cubicBezTo>
                    <a:pt x="144" y="177"/>
                    <a:pt x="146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47" y="176"/>
                    <a:pt x="147" y="176"/>
                    <a:pt x="147" y="176"/>
                  </a:cubicBezTo>
                  <a:cubicBezTo>
                    <a:pt x="154" y="173"/>
                    <a:pt x="149" y="157"/>
                    <a:pt x="149" y="157"/>
                  </a:cubicBezTo>
                  <a:cubicBezTo>
                    <a:pt x="153" y="155"/>
                    <a:pt x="156" y="153"/>
                    <a:pt x="156" y="151"/>
                  </a:cubicBezTo>
                  <a:cubicBezTo>
                    <a:pt x="156" y="150"/>
                    <a:pt x="156" y="150"/>
                    <a:pt x="156" y="150"/>
                  </a:cubicBezTo>
                  <a:cubicBezTo>
                    <a:pt x="156" y="148"/>
                    <a:pt x="152" y="146"/>
                    <a:pt x="146" y="145"/>
                  </a:cubicBezTo>
                  <a:cubicBezTo>
                    <a:pt x="149" y="145"/>
                    <a:pt x="149" y="145"/>
                    <a:pt x="149" y="145"/>
                  </a:cubicBezTo>
                  <a:cubicBezTo>
                    <a:pt x="153" y="145"/>
                    <a:pt x="156" y="143"/>
                    <a:pt x="156" y="140"/>
                  </a:cubicBezTo>
                  <a:cubicBezTo>
                    <a:pt x="156" y="140"/>
                    <a:pt x="156" y="140"/>
                    <a:pt x="156" y="140"/>
                  </a:cubicBezTo>
                  <a:cubicBezTo>
                    <a:pt x="156" y="139"/>
                    <a:pt x="156" y="138"/>
                    <a:pt x="155" y="138"/>
                  </a:cubicBezTo>
                  <a:cubicBezTo>
                    <a:pt x="156" y="135"/>
                    <a:pt x="159" y="121"/>
                    <a:pt x="160" y="121"/>
                  </a:cubicBezTo>
                  <a:cubicBezTo>
                    <a:pt x="182" y="119"/>
                    <a:pt x="170" y="111"/>
                    <a:pt x="170" y="111"/>
                  </a:cubicBezTo>
                  <a:close/>
                  <a:moveTo>
                    <a:pt x="66" y="93"/>
                  </a:moveTo>
                  <a:cubicBezTo>
                    <a:pt x="62" y="93"/>
                    <a:pt x="62" y="93"/>
                    <a:pt x="62" y="93"/>
                  </a:cubicBezTo>
                  <a:cubicBezTo>
                    <a:pt x="62" y="95"/>
                    <a:pt x="61" y="97"/>
                    <a:pt x="60" y="99"/>
                  </a:cubicBezTo>
                  <a:cubicBezTo>
                    <a:pt x="62" y="102"/>
                    <a:pt x="62" y="102"/>
                    <a:pt x="62" y="102"/>
                  </a:cubicBezTo>
                  <a:cubicBezTo>
                    <a:pt x="57" y="107"/>
                    <a:pt x="57" y="107"/>
                    <a:pt x="57" y="107"/>
                  </a:cubicBezTo>
                  <a:cubicBezTo>
                    <a:pt x="54" y="105"/>
                    <a:pt x="54" y="105"/>
                    <a:pt x="54" y="105"/>
                  </a:cubicBezTo>
                  <a:cubicBezTo>
                    <a:pt x="52" y="106"/>
                    <a:pt x="50" y="107"/>
                    <a:pt x="48" y="107"/>
                  </a:cubicBezTo>
                  <a:cubicBezTo>
                    <a:pt x="48" y="110"/>
                    <a:pt x="48" y="110"/>
                    <a:pt x="48" y="110"/>
                  </a:cubicBezTo>
                  <a:cubicBezTo>
                    <a:pt x="40" y="110"/>
                    <a:pt x="40" y="110"/>
                    <a:pt x="40" y="110"/>
                  </a:cubicBezTo>
                  <a:cubicBezTo>
                    <a:pt x="40" y="107"/>
                    <a:pt x="40" y="107"/>
                    <a:pt x="40" y="107"/>
                  </a:cubicBezTo>
                  <a:cubicBezTo>
                    <a:pt x="38" y="107"/>
                    <a:pt x="36" y="106"/>
                    <a:pt x="34" y="105"/>
                  </a:cubicBezTo>
                  <a:cubicBezTo>
                    <a:pt x="32" y="107"/>
                    <a:pt x="32" y="107"/>
                    <a:pt x="32" y="107"/>
                  </a:cubicBezTo>
                  <a:cubicBezTo>
                    <a:pt x="26" y="102"/>
                    <a:pt x="26" y="102"/>
                    <a:pt x="26" y="102"/>
                  </a:cubicBezTo>
                  <a:cubicBezTo>
                    <a:pt x="28" y="99"/>
                    <a:pt x="28" y="99"/>
                    <a:pt x="28" y="99"/>
                  </a:cubicBezTo>
                  <a:cubicBezTo>
                    <a:pt x="27" y="97"/>
                    <a:pt x="26" y="95"/>
                    <a:pt x="26" y="93"/>
                  </a:cubicBezTo>
                  <a:cubicBezTo>
                    <a:pt x="22" y="93"/>
                    <a:pt x="22" y="93"/>
                    <a:pt x="22" y="93"/>
                  </a:cubicBezTo>
                  <a:cubicBezTo>
                    <a:pt x="22" y="85"/>
                    <a:pt x="22" y="85"/>
                    <a:pt x="22" y="85"/>
                  </a:cubicBezTo>
                  <a:cubicBezTo>
                    <a:pt x="26" y="85"/>
                    <a:pt x="26" y="85"/>
                    <a:pt x="26" y="85"/>
                  </a:cubicBezTo>
                  <a:cubicBezTo>
                    <a:pt x="26" y="83"/>
                    <a:pt x="27" y="81"/>
                    <a:pt x="28" y="79"/>
                  </a:cubicBezTo>
                  <a:cubicBezTo>
                    <a:pt x="26" y="76"/>
                    <a:pt x="26" y="76"/>
                    <a:pt x="26" y="76"/>
                  </a:cubicBezTo>
                  <a:cubicBezTo>
                    <a:pt x="31" y="71"/>
                    <a:pt x="31" y="71"/>
                    <a:pt x="31" y="71"/>
                  </a:cubicBezTo>
                  <a:cubicBezTo>
                    <a:pt x="34" y="73"/>
                    <a:pt x="34" y="73"/>
                    <a:pt x="34" y="73"/>
                  </a:cubicBezTo>
                  <a:cubicBezTo>
                    <a:pt x="36" y="72"/>
                    <a:pt x="38" y="71"/>
                    <a:pt x="40" y="71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8" y="68"/>
                    <a:pt x="48" y="68"/>
                    <a:pt x="48" y="68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50" y="71"/>
                    <a:pt x="52" y="72"/>
                    <a:pt x="54" y="73"/>
                  </a:cubicBezTo>
                  <a:cubicBezTo>
                    <a:pt x="57" y="71"/>
                    <a:pt x="57" y="71"/>
                    <a:pt x="57" y="71"/>
                  </a:cubicBezTo>
                  <a:cubicBezTo>
                    <a:pt x="63" y="76"/>
                    <a:pt x="63" y="76"/>
                    <a:pt x="63" y="76"/>
                  </a:cubicBezTo>
                  <a:cubicBezTo>
                    <a:pt x="60" y="79"/>
                    <a:pt x="60" y="79"/>
                    <a:pt x="60" y="79"/>
                  </a:cubicBezTo>
                  <a:cubicBezTo>
                    <a:pt x="61" y="81"/>
                    <a:pt x="62" y="83"/>
                    <a:pt x="63" y="85"/>
                  </a:cubicBezTo>
                  <a:cubicBezTo>
                    <a:pt x="66" y="85"/>
                    <a:pt x="66" y="85"/>
                    <a:pt x="66" y="85"/>
                  </a:cubicBezTo>
                  <a:lnTo>
                    <a:pt x="66" y="93"/>
                  </a:lnTo>
                  <a:close/>
                  <a:moveTo>
                    <a:pt x="136" y="77"/>
                  </a:moveTo>
                  <a:cubicBezTo>
                    <a:pt x="130" y="77"/>
                    <a:pt x="130" y="77"/>
                    <a:pt x="130" y="77"/>
                  </a:cubicBezTo>
                  <a:cubicBezTo>
                    <a:pt x="129" y="80"/>
                    <a:pt x="128" y="84"/>
                    <a:pt x="126" y="87"/>
                  </a:cubicBezTo>
                  <a:cubicBezTo>
                    <a:pt x="130" y="91"/>
                    <a:pt x="130" y="91"/>
                    <a:pt x="130" y="91"/>
                  </a:cubicBezTo>
                  <a:cubicBezTo>
                    <a:pt x="121" y="100"/>
                    <a:pt x="121" y="100"/>
                    <a:pt x="121" y="100"/>
                  </a:cubicBezTo>
                  <a:cubicBezTo>
                    <a:pt x="117" y="96"/>
                    <a:pt x="117" y="96"/>
                    <a:pt x="117" y="96"/>
                  </a:cubicBezTo>
                  <a:cubicBezTo>
                    <a:pt x="114" y="98"/>
                    <a:pt x="110" y="99"/>
                    <a:pt x="107" y="100"/>
                  </a:cubicBezTo>
                  <a:cubicBezTo>
                    <a:pt x="107" y="105"/>
                    <a:pt x="107" y="105"/>
                    <a:pt x="107" y="105"/>
                  </a:cubicBezTo>
                  <a:cubicBezTo>
                    <a:pt x="94" y="105"/>
                    <a:pt x="94" y="105"/>
                    <a:pt x="94" y="105"/>
                  </a:cubicBezTo>
                  <a:cubicBezTo>
                    <a:pt x="94" y="100"/>
                    <a:pt x="94" y="100"/>
                    <a:pt x="94" y="100"/>
                  </a:cubicBezTo>
                  <a:cubicBezTo>
                    <a:pt x="90" y="100"/>
                    <a:pt x="86" y="98"/>
                    <a:pt x="83" y="96"/>
                  </a:cubicBezTo>
                  <a:cubicBezTo>
                    <a:pt x="79" y="100"/>
                    <a:pt x="79" y="100"/>
                    <a:pt x="79" y="100"/>
                  </a:cubicBezTo>
                  <a:cubicBezTo>
                    <a:pt x="70" y="91"/>
                    <a:pt x="70" y="91"/>
                    <a:pt x="70" y="91"/>
                  </a:cubicBezTo>
                  <a:cubicBezTo>
                    <a:pt x="74" y="87"/>
                    <a:pt x="74" y="87"/>
                    <a:pt x="74" y="87"/>
                  </a:cubicBezTo>
                  <a:cubicBezTo>
                    <a:pt x="72" y="84"/>
                    <a:pt x="71" y="81"/>
                    <a:pt x="70" y="77"/>
                  </a:cubicBezTo>
                  <a:cubicBezTo>
                    <a:pt x="64" y="77"/>
                    <a:pt x="64" y="77"/>
                    <a:pt x="64" y="77"/>
                  </a:cubicBezTo>
                  <a:cubicBezTo>
                    <a:pt x="64" y="64"/>
                    <a:pt x="64" y="64"/>
                    <a:pt x="64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70" y="60"/>
                    <a:pt x="72" y="56"/>
                    <a:pt x="74" y="53"/>
                  </a:cubicBezTo>
                  <a:cubicBezTo>
                    <a:pt x="70" y="49"/>
                    <a:pt x="70" y="49"/>
                    <a:pt x="70" y="49"/>
                  </a:cubicBezTo>
                  <a:cubicBezTo>
                    <a:pt x="79" y="40"/>
                    <a:pt x="79" y="40"/>
                    <a:pt x="79" y="40"/>
                  </a:cubicBezTo>
                  <a:cubicBezTo>
                    <a:pt x="83" y="44"/>
                    <a:pt x="83" y="44"/>
                    <a:pt x="83" y="44"/>
                  </a:cubicBezTo>
                  <a:cubicBezTo>
                    <a:pt x="86" y="42"/>
                    <a:pt x="90" y="41"/>
                    <a:pt x="94" y="40"/>
                  </a:cubicBezTo>
                  <a:cubicBezTo>
                    <a:pt x="94" y="35"/>
                    <a:pt x="94" y="35"/>
                    <a:pt x="94" y="35"/>
                  </a:cubicBezTo>
                  <a:cubicBezTo>
                    <a:pt x="107" y="35"/>
                    <a:pt x="107" y="35"/>
                    <a:pt x="107" y="35"/>
                  </a:cubicBezTo>
                  <a:cubicBezTo>
                    <a:pt x="107" y="40"/>
                    <a:pt x="107" y="40"/>
                    <a:pt x="107" y="40"/>
                  </a:cubicBezTo>
                  <a:cubicBezTo>
                    <a:pt x="110" y="41"/>
                    <a:pt x="114" y="42"/>
                    <a:pt x="117" y="44"/>
                  </a:cubicBezTo>
                  <a:cubicBezTo>
                    <a:pt x="121" y="40"/>
                    <a:pt x="121" y="40"/>
                    <a:pt x="121" y="40"/>
                  </a:cubicBezTo>
                  <a:cubicBezTo>
                    <a:pt x="130" y="49"/>
                    <a:pt x="130" y="49"/>
                    <a:pt x="130" y="49"/>
                  </a:cubicBezTo>
                  <a:cubicBezTo>
                    <a:pt x="126" y="53"/>
                    <a:pt x="126" y="53"/>
                    <a:pt x="126" y="53"/>
                  </a:cubicBezTo>
                  <a:cubicBezTo>
                    <a:pt x="128" y="57"/>
                    <a:pt x="130" y="60"/>
                    <a:pt x="130" y="64"/>
                  </a:cubicBezTo>
                  <a:cubicBezTo>
                    <a:pt x="136" y="64"/>
                    <a:pt x="136" y="64"/>
                    <a:pt x="136" y="64"/>
                  </a:cubicBezTo>
                  <a:lnTo>
                    <a:pt x="136" y="77"/>
                  </a:ln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15"/>
          <p:cNvGrpSpPr/>
          <p:nvPr/>
        </p:nvGrpSpPr>
        <p:grpSpPr>
          <a:xfrm>
            <a:off x="5045040" y="3119400"/>
            <a:ext cx="406440" cy="405000"/>
            <a:chOff x="5045040" y="3119400"/>
            <a:chExt cx="406440" cy="405000"/>
          </a:xfrm>
        </p:grpSpPr>
        <p:sp>
          <p:nvSpPr>
            <p:cNvPr id="149" name="Freeform 136"/>
            <p:cNvSpPr/>
            <p:nvPr/>
          </p:nvSpPr>
          <p:spPr>
            <a:xfrm>
              <a:off x="5045040" y="3346560"/>
              <a:ext cx="406440" cy="1778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05" h="89">
                  <a:moveTo>
                    <a:pt x="103" y="19"/>
                  </a:moveTo>
                  <a:cubicBezTo>
                    <a:pt x="82" y="19"/>
                    <a:pt x="62" y="12"/>
                    <a:pt x="47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0" y="79"/>
                    <a:pt x="10" y="89"/>
                    <a:pt x="22" y="89"/>
                  </a:cubicBezTo>
                  <a:cubicBezTo>
                    <a:pt x="183" y="89"/>
                    <a:pt x="183" y="89"/>
                    <a:pt x="183" y="89"/>
                  </a:cubicBezTo>
                  <a:cubicBezTo>
                    <a:pt x="195" y="89"/>
                    <a:pt x="205" y="79"/>
                    <a:pt x="205" y="67"/>
                  </a:cubicBezTo>
                  <a:cubicBezTo>
                    <a:pt x="205" y="0"/>
                    <a:pt x="205" y="0"/>
                    <a:pt x="205" y="0"/>
                  </a:cubicBezTo>
                  <a:cubicBezTo>
                    <a:pt x="158" y="0"/>
                    <a:pt x="158" y="0"/>
                    <a:pt x="158" y="0"/>
                  </a:cubicBezTo>
                  <a:cubicBezTo>
                    <a:pt x="143" y="12"/>
                    <a:pt x="124" y="19"/>
                    <a:pt x="103" y="19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37"/>
            <p:cNvSpPr/>
            <p:nvPr/>
          </p:nvSpPr>
          <p:spPr>
            <a:xfrm>
              <a:off x="5045040" y="3119400"/>
              <a:ext cx="406440" cy="23544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35440"/>
                <a:gd name="textAreaBottom" fmla="*/ 235800 h 235440"/>
              </a:gdLst>
              <a:ahLst/>
              <a:rect l="textAreaLeft" t="textAreaTop" r="textAreaRight" b="textAreaBottom"/>
              <a:pathLst>
                <a:path w="205" h="118">
                  <a:moveTo>
                    <a:pt x="183" y="42"/>
                  </a:moveTo>
                  <a:cubicBezTo>
                    <a:pt x="180" y="42"/>
                    <a:pt x="180" y="42"/>
                    <a:pt x="180" y="42"/>
                  </a:cubicBezTo>
                  <a:cubicBezTo>
                    <a:pt x="154" y="42"/>
                    <a:pt x="154" y="42"/>
                    <a:pt x="154" y="42"/>
                  </a:cubicBezTo>
                  <a:cubicBezTo>
                    <a:pt x="154" y="22"/>
                    <a:pt x="154" y="22"/>
                    <a:pt x="154" y="22"/>
                  </a:cubicBezTo>
                  <a:cubicBezTo>
                    <a:pt x="154" y="10"/>
                    <a:pt x="144" y="0"/>
                    <a:pt x="132" y="0"/>
                  </a:cubicBezTo>
                  <a:cubicBezTo>
                    <a:pt x="73" y="0"/>
                    <a:pt x="73" y="0"/>
                    <a:pt x="73" y="0"/>
                  </a:cubicBezTo>
                  <a:cubicBezTo>
                    <a:pt x="61" y="0"/>
                    <a:pt x="51" y="10"/>
                    <a:pt x="51" y="22"/>
                  </a:cubicBezTo>
                  <a:cubicBezTo>
                    <a:pt x="51" y="42"/>
                    <a:pt x="51" y="42"/>
                    <a:pt x="51" y="42"/>
                  </a:cubicBezTo>
                  <a:cubicBezTo>
                    <a:pt x="25" y="42"/>
                    <a:pt x="25" y="42"/>
                    <a:pt x="25" y="42"/>
                  </a:cubicBezTo>
                  <a:cubicBezTo>
                    <a:pt x="22" y="42"/>
                    <a:pt x="22" y="42"/>
                    <a:pt x="22" y="42"/>
                  </a:cubicBezTo>
                  <a:cubicBezTo>
                    <a:pt x="10" y="42"/>
                    <a:pt x="0" y="52"/>
                    <a:pt x="0" y="64"/>
                  </a:cubicBezTo>
                  <a:cubicBezTo>
                    <a:pt x="0" y="101"/>
                    <a:pt x="0" y="101"/>
                    <a:pt x="0" y="101"/>
                  </a:cubicBezTo>
                  <a:cubicBezTo>
                    <a:pt x="54" y="101"/>
                    <a:pt x="54" y="101"/>
                    <a:pt x="54" y="101"/>
                  </a:cubicBezTo>
                  <a:cubicBezTo>
                    <a:pt x="67" y="112"/>
                    <a:pt x="84" y="118"/>
                    <a:pt x="103" y="118"/>
                  </a:cubicBezTo>
                  <a:cubicBezTo>
                    <a:pt x="121" y="118"/>
                    <a:pt x="138" y="112"/>
                    <a:pt x="151" y="101"/>
                  </a:cubicBezTo>
                  <a:cubicBezTo>
                    <a:pt x="205" y="101"/>
                    <a:pt x="205" y="101"/>
                    <a:pt x="205" y="101"/>
                  </a:cubicBezTo>
                  <a:cubicBezTo>
                    <a:pt x="205" y="64"/>
                    <a:pt x="205" y="64"/>
                    <a:pt x="205" y="64"/>
                  </a:cubicBezTo>
                  <a:cubicBezTo>
                    <a:pt x="205" y="52"/>
                    <a:pt x="195" y="42"/>
                    <a:pt x="183" y="42"/>
                  </a:cubicBezTo>
                  <a:close/>
                  <a:moveTo>
                    <a:pt x="67" y="26"/>
                  </a:moveTo>
                  <a:cubicBezTo>
                    <a:pt x="67" y="22"/>
                    <a:pt x="67" y="22"/>
                    <a:pt x="67" y="22"/>
                  </a:cubicBezTo>
                  <a:cubicBezTo>
                    <a:pt x="67" y="19"/>
                    <a:pt x="70" y="17"/>
                    <a:pt x="73" y="17"/>
                  </a:cubicBezTo>
                  <a:cubicBezTo>
                    <a:pt x="132" y="17"/>
                    <a:pt x="132" y="17"/>
                    <a:pt x="132" y="17"/>
                  </a:cubicBezTo>
                  <a:cubicBezTo>
                    <a:pt x="135" y="17"/>
                    <a:pt x="138" y="19"/>
                    <a:pt x="138" y="22"/>
                  </a:cubicBezTo>
                  <a:cubicBezTo>
                    <a:pt x="138" y="26"/>
                    <a:pt x="138" y="26"/>
                    <a:pt x="138" y="26"/>
                  </a:cubicBezTo>
                  <a:cubicBezTo>
                    <a:pt x="138" y="42"/>
                    <a:pt x="138" y="42"/>
                    <a:pt x="138" y="42"/>
                  </a:cubicBezTo>
                  <a:cubicBezTo>
                    <a:pt x="67" y="42"/>
                    <a:pt x="67" y="42"/>
                    <a:pt x="67" y="42"/>
                  </a:cubicBezTo>
                  <a:lnTo>
                    <a:pt x="67" y="26"/>
                  </a:lnTo>
                  <a:close/>
                  <a:moveTo>
                    <a:pt x="101" y="101"/>
                  </a:moveTo>
                  <a:cubicBezTo>
                    <a:pt x="92" y="101"/>
                    <a:pt x="85" y="94"/>
                    <a:pt x="85" y="86"/>
                  </a:cubicBezTo>
                  <a:cubicBezTo>
                    <a:pt x="85" y="77"/>
                    <a:pt x="92" y="70"/>
                    <a:pt x="101" y="70"/>
                  </a:cubicBezTo>
                  <a:cubicBezTo>
                    <a:pt x="110" y="70"/>
                    <a:pt x="117" y="77"/>
                    <a:pt x="117" y="86"/>
                  </a:cubicBezTo>
                  <a:cubicBezTo>
                    <a:pt x="117" y="94"/>
                    <a:pt x="110" y="101"/>
                    <a:pt x="101" y="10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18"/>
          <p:cNvGrpSpPr/>
          <p:nvPr/>
        </p:nvGrpSpPr>
        <p:grpSpPr>
          <a:xfrm>
            <a:off x="7880400" y="3139920"/>
            <a:ext cx="425520" cy="457200"/>
            <a:chOff x="7880400" y="3139920"/>
            <a:chExt cx="425520" cy="457200"/>
          </a:xfrm>
        </p:grpSpPr>
        <p:sp>
          <p:nvSpPr>
            <p:cNvPr id="152" name="Freeform 154"/>
            <p:cNvSpPr/>
            <p:nvPr/>
          </p:nvSpPr>
          <p:spPr>
            <a:xfrm>
              <a:off x="8008920" y="3528360"/>
              <a:ext cx="46080" cy="424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3" h="21">
                  <a:moveTo>
                    <a:pt x="16" y="0"/>
                  </a:moveTo>
                  <a:cubicBezTo>
                    <a:pt x="16" y="4"/>
                    <a:pt x="16" y="4"/>
                    <a:pt x="16" y="4"/>
                  </a:cubicBezTo>
                  <a:cubicBezTo>
                    <a:pt x="18" y="5"/>
                    <a:pt x="19" y="8"/>
                    <a:pt x="19" y="11"/>
                  </a:cubicBezTo>
                  <a:cubicBezTo>
                    <a:pt x="18" y="15"/>
                    <a:pt x="15" y="18"/>
                    <a:pt x="10" y="17"/>
                  </a:cubicBezTo>
                  <a:cubicBezTo>
                    <a:pt x="6" y="17"/>
                    <a:pt x="3" y="13"/>
                    <a:pt x="4" y="9"/>
                  </a:cubicBezTo>
                  <a:cubicBezTo>
                    <a:pt x="4" y="7"/>
                    <a:pt x="5" y="6"/>
                    <a:pt x="6" y="5"/>
                  </a:cubicBezTo>
                  <a:cubicBezTo>
                    <a:pt x="6" y="0"/>
                    <a:pt x="6" y="0"/>
                    <a:pt x="6" y="0"/>
                  </a:cubicBezTo>
                  <a:cubicBezTo>
                    <a:pt x="3" y="2"/>
                    <a:pt x="0" y="6"/>
                    <a:pt x="0" y="10"/>
                  </a:cubicBezTo>
                  <a:cubicBezTo>
                    <a:pt x="0" y="16"/>
                    <a:pt x="5" y="21"/>
                    <a:pt x="11" y="21"/>
                  </a:cubicBezTo>
                  <a:cubicBezTo>
                    <a:pt x="18" y="21"/>
                    <a:pt x="23" y="16"/>
                    <a:pt x="23" y="10"/>
                  </a:cubicBezTo>
                  <a:cubicBezTo>
                    <a:pt x="23" y="5"/>
                    <a:pt x="20" y="1"/>
                    <a:pt x="16" y="0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55"/>
            <p:cNvSpPr/>
            <p:nvPr/>
          </p:nvSpPr>
          <p:spPr>
            <a:xfrm>
              <a:off x="8026920" y="3522240"/>
              <a:ext cx="8280" cy="29520"/>
            </a:xfrm>
            <a:prstGeom prst="rect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7916040" y="3213720"/>
              <a:ext cx="237960" cy="23760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18" h="118">
                  <a:moveTo>
                    <a:pt x="24" y="19"/>
                  </a:moveTo>
                  <a:cubicBezTo>
                    <a:pt x="2" y="39"/>
                    <a:pt x="0" y="72"/>
                    <a:pt x="19" y="94"/>
                  </a:cubicBezTo>
                  <a:cubicBezTo>
                    <a:pt x="38" y="116"/>
                    <a:pt x="72" y="118"/>
                    <a:pt x="94" y="99"/>
                  </a:cubicBezTo>
                  <a:cubicBezTo>
                    <a:pt x="115" y="79"/>
                    <a:pt x="118" y="46"/>
                    <a:pt x="99" y="24"/>
                  </a:cubicBezTo>
                  <a:cubicBezTo>
                    <a:pt x="79" y="2"/>
                    <a:pt x="46" y="0"/>
                    <a:pt x="24" y="19"/>
                  </a:cubicBezTo>
                  <a:close/>
                  <a:moveTo>
                    <a:pt x="64" y="84"/>
                  </a:moveTo>
                  <a:cubicBezTo>
                    <a:pt x="64" y="93"/>
                    <a:pt x="64" y="93"/>
                    <a:pt x="64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6" y="85"/>
                    <a:pt x="56" y="85"/>
                    <a:pt x="56" y="85"/>
                  </a:cubicBezTo>
                  <a:cubicBezTo>
                    <a:pt x="50" y="85"/>
                    <a:pt x="44" y="83"/>
                    <a:pt x="41" y="8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7" y="73"/>
                    <a:pt x="52" y="75"/>
                    <a:pt x="58" y="75"/>
                  </a:cubicBezTo>
                  <a:cubicBezTo>
                    <a:pt x="63" y="75"/>
                    <a:pt x="66" y="73"/>
                    <a:pt x="66" y="70"/>
                  </a:cubicBezTo>
                  <a:cubicBezTo>
                    <a:pt x="66" y="66"/>
                    <a:pt x="63" y="64"/>
                    <a:pt x="57" y="62"/>
                  </a:cubicBezTo>
                  <a:cubicBezTo>
                    <a:pt x="48" y="59"/>
                    <a:pt x="41" y="55"/>
                    <a:pt x="41" y="46"/>
                  </a:cubicBezTo>
                  <a:cubicBezTo>
                    <a:pt x="41" y="39"/>
                    <a:pt x="47" y="33"/>
                    <a:pt x="56" y="31"/>
                  </a:cubicBezTo>
                  <a:cubicBezTo>
                    <a:pt x="56" y="23"/>
                    <a:pt x="56" y="23"/>
                    <a:pt x="56" y="23"/>
                  </a:cubicBezTo>
                  <a:cubicBezTo>
                    <a:pt x="64" y="23"/>
                    <a:pt x="64" y="23"/>
                    <a:pt x="64" y="23"/>
                  </a:cubicBezTo>
                  <a:cubicBezTo>
                    <a:pt x="64" y="30"/>
                    <a:pt x="64" y="30"/>
                    <a:pt x="64" y="30"/>
                  </a:cubicBezTo>
                  <a:cubicBezTo>
                    <a:pt x="70" y="30"/>
                    <a:pt x="74" y="32"/>
                    <a:pt x="77" y="3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2" y="42"/>
                    <a:pt x="68" y="40"/>
                    <a:pt x="62" y="40"/>
                  </a:cubicBezTo>
                  <a:cubicBezTo>
                    <a:pt x="56" y="40"/>
                    <a:pt x="55" y="42"/>
                    <a:pt x="55" y="45"/>
                  </a:cubicBezTo>
                  <a:cubicBezTo>
                    <a:pt x="55" y="48"/>
                    <a:pt x="58" y="50"/>
                    <a:pt x="65" y="52"/>
                  </a:cubicBezTo>
                  <a:cubicBezTo>
                    <a:pt x="75" y="56"/>
                    <a:pt x="79" y="61"/>
                    <a:pt x="79" y="69"/>
                  </a:cubicBezTo>
                  <a:cubicBezTo>
                    <a:pt x="79" y="76"/>
                    <a:pt x="74" y="83"/>
                    <a:pt x="64" y="84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7880400" y="3139920"/>
              <a:ext cx="308880" cy="457200"/>
            </a:xfrm>
            <a:custGeom>
              <a:avLst/>
              <a:gdLst>
                <a:gd name="textAreaLeft" fmla="*/ 0 w 308880"/>
                <a:gd name="textAreaRight" fmla="*/ 308880 w 30888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153" h="227">
                  <a:moveTo>
                    <a:pt x="138" y="177"/>
                  </a:moveTo>
                  <a:cubicBezTo>
                    <a:pt x="16" y="177"/>
                    <a:pt x="16" y="177"/>
                    <a:pt x="16" y="17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38" y="16"/>
                    <a:pt x="138" y="16"/>
                    <a:pt x="138" y="16"/>
                  </a:cubicBezTo>
                  <a:cubicBezTo>
                    <a:pt x="138" y="103"/>
                    <a:pt x="138" y="103"/>
                    <a:pt x="138" y="103"/>
                  </a:cubicBezTo>
                  <a:cubicBezTo>
                    <a:pt x="138" y="103"/>
                    <a:pt x="139" y="102"/>
                    <a:pt x="139" y="102"/>
                  </a:cubicBezTo>
                  <a:cubicBezTo>
                    <a:pt x="144" y="98"/>
                    <a:pt x="148" y="95"/>
                    <a:pt x="153" y="94"/>
                  </a:cubicBezTo>
                  <a:cubicBezTo>
                    <a:pt x="153" y="13"/>
                    <a:pt x="153" y="13"/>
                    <a:pt x="153" y="13"/>
                  </a:cubicBezTo>
                  <a:cubicBezTo>
                    <a:pt x="153" y="6"/>
                    <a:pt x="148" y="0"/>
                    <a:pt x="141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6" y="0"/>
                    <a:pt x="0" y="6"/>
                    <a:pt x="0" y="13"/>
                  </a:cubicBezTo>
                  <a:cubicBezTo>
                    <a:pt x="0" y="215"/>
                    <a:pt x="0" y="215"/>
                    <a:pt x="0" y="215"/>
                  </a:cubicBezTo>
                  <a:cubicBezTo>
                    <a:pt x="0" y="222"/>
                    <a:pt x="6" y="227"/>
                    <a:pt x="12" y="227"/>
                  </a:cubicBezTo>
                  <a:cubicBezTo>
                    <a:pt x="141" y="227"/>
                    <a:pt x="141" y="227"/>
                    <a:pt x="141" y="227"/>
                  </a:cubicBezTo>
                  <a:cubicBezTo>
                    <a:pt x="148" y="227"/>
                    <a:pt x="153" y="222"/>
                    <a:pt x="153" y="215"/>
                  </a:cubicBezTo>
                  <a:cubicBezTo>
                    <a:pt x="153" y="176"/>
                    <a:pt x="153" y="176"/>
                    <a:pt x="153" y="176"/>
                  </a:cubicBezTo>
                  <a:cubicBezTo>
                    <a:pt x="148" y="174"/>
                    <a:pt x="142" y="170"/>
                    <a:pt x="138" y="166"/>
                  </a:cubicBezTo>
                  <a:lnTo>
                    <a:pt x="138" y="177"/>
                  </a:lnTo>
                  <a:close/>
                  <a:moveTo>
                    <a:pt x="75" y="221"/>
                  </a:moveTo>
                  <a:cubicBezTo>
                    <a:pt x="65" y="221"/>
                    <a:pt x="56" y="212"/>
                    <a:pt x="56" y="201"/>
                  </a:cubicBezTo>
                  <a:cubicBezTo>
                    <a:pt x="56" y="191"/>
                    <a:pt x="65" y="182"/>
                    <a:pt x="75" y="182"/>
                  </a:cubicBezTo>
                  <a:cubicBezTo>
                    <a:pt x="86" y="182"/>
                    <a:pt x="95" y="191"/>
                    <a:pt x="95" y="201"/>
                  </a:cubicBezTo>
                  <a:cubicBezTo>
                    <a:pt x="95" y="212"/>
                    <a:pt x="86" y="221"/>
                    <a:pt x="75" y="221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8132040" y="3324600"/>
              <a:ext cx="173880" cy="173520"/>
            </a:xfrm>
            <a:custGeom>
              <a:avLst/>
              <a:gdLst>
                <a:gd name="textAreaLeft" fmla="*/ 0 w 173880"/>
                <a:gd name="textAreaRight" fmla="*/ 174240 w 173880"/>
                <a:gd name="textAreaTop" fmla="*/ 0 h 173520"/>
                <a:gd name="textAreaBottom" fmla="*/ 173880 h 173520"/>
              </a:gdLst>
              <a:ahLst/>
              <a:rect l="textAreaLeft" t="textAreaTop" r="textAreaRight" b="textAreaBottom"/>
              <a:pathLst>
                <a:path w="86" h="86">
                  <a:moveTo>
                    <a:pt x="72" y="17"/>
                  </a:moveTo>
                  <a:cubicBezTo>
                    <a:pt x="58" y="1"/>
                    <a:pt x="34" y="0"/>
                    <a:pt x="18" y="14"/>
                  </a:cubicBezTo>
                  <a:cubicBezTo>
                    <a:pt x="2" y="28"/>
                    <a:pt x="0" y="52"/>
                    <a:pt x="14" y="68"/>
                  </a:cubicBezTo>
                  <a:cubicBezTo>
                    <a:pt x="28" y="84"/>
                    <a:pt x="53" y="86"/>
                    <a:pt x="69" y="72"/>
                  </a:cubicBezTo>
                  <a:cubicBezTo>
                    <a:pt x="85" y="58"/>
                    <a:pt x="86" y="33"/>
                    <a:pt x="72" y="17"/>
                  </a:cubicBezTo>
                  <a:close/>
                  <a:moveTo>
                    <a:pt x="46" y="63"/>
                  </a:moveTo>
                  <a:cubicBezTo>
                    <a:pt x="46" y="70"/>
                    <a:pt x="46" y="70"/>
                    <a:pt x="46" y="70"/>
                  </a:cubicBezTo>
                  <a:cubicBezTo>
                    <a:pt x="40" y="70"/>
                    <a:pt x="40" y="70"/>
                    <a:pt x="40" y="70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5" y="64"/>
                    <a:pt x="31" y="62"/>
                    <a:pt x="28" y="61"/>
                  </a:cubicBezTo>
                  <a:cubicBezTo>
                    <a:pt x="30" y="53"/>
                    <a:pt x="30" y="53"/>
                    <a:pt x="30" y="53"/>
                  </a:cubicBezTo>
                  <a:cubicBezTo>
                    <a:pt x="33" y="55"/>
                    <a:pt x="37" y="56"/>
                    <a:pt x="41" y="56"/>
                  </a:cubicBezTo>
                  <a:cubicBezTo>
                    <a:pt x="45" y="56"/>
                    <a:pt x="48" y="54"/>
                    <a:pt x="48" y="52"/>
                  </a:cubicBezTo>
                  <a:cubicBezTo>
                    <a:pt x="48" y="49"/>
                    <a:pt x="46" y="48"/>
                    <a:pt x="41" y="46"/>
                  </a:cubicBezTo>
                  <a:cubicBezTo>
                    <a:pt x="34" y="44"/>
                    <a:pt x="29" y="40"/>
                    <a:pt x="29" y="34"/>
                  </a:cubicBezTo>
                  <a:cubicBezTo>
                    <a:pt x="29" y="28"/>
                    <a:pt x="33" y="23"/>
                    <a:pt x="40" y="22"/>
                  </a:cubicBezTo>
                  <a:cubicBezTo>
                    <a:pt x="40" y="15"/>
                    <a:pt x="40" y="15"/>
                    <a:pt x="40" y="15"/>
                  </a:cubicBezTo>
                  <a:cubicBezTo>
                    <a:pt x="47" y="15"/>
                    <a:pt x="47" y="15"/>
                    <a:pt x="47" y="15"/>
                  </a:cubicBezTo>
                  <a:cubicBezTo>
                    <a:pt x="47" y="21"/>
                    <a:pt x="47" y="21"/>
                    <a:pt x="47" y="21"/>
                  </a:cubicBezTo>
                  <a:cubicBezTo>
                    <a:pt x="51" y="21"/>
                    <a:pt x="54" y="22"/>
                    <a:pt x="56" y="23"/>
                  </a:cubicBezTo>
                  <a:cubicBezTo>
                    <a:pt x="54" y="31"/>
                    <a:pt x="54" y="31"/>
                    <a:pt x="54" y="31"/>
                  </a:cubicBezTo>
                  <a:cubicBezTo>
                    <a:pt x="53" y="30"/>
                    <a:pt x="50" y="29"/>
                    <a:pt x="45" y="29"/>
                  </a:cubicBezTo>
                  <a:cubicBezTo>
                    <a:pt x="40" y="29"/>
                    <a:pt x="39" y="31"/>
                    <a:pt x="39" y="32"/>
                  </a:cubicBezTo>
                  <a:cubicBezTo>
                    <a:pt x="39" y="35"/>
                    <a:pt x="41" y="36"/>
                    <a:pt x="47" y="38"/>
                  </a:cubicBezTo>
                  <a:cubicBezTo>
                    <a:pt x="55" y="41"/>
                    <a:pt x="58" y="45"/>
                    <a:pt x="58" y="51"/>
                  </a:cubicBezTo>
                  <a:cubicBezTo>
                    <a:pt x="58" y="57"/>
                    <a:pt x="54" y="62"/>
                    <a:pt x="46" y="6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24"/>
          <p:cNvGrpSpPr/>
          <p:nvPr/>
        </p:nvGrpSpPr>
        <p:grpSpPr>
          <a:xfrm>
            <a:off x="3616200" y="4187880"/>
            <a:ext cx="474840" cy="536400"/>
            <a:chOff x="3616200" y="4187880"/>
            <a:chExt cx="474840" cy="536400"/>
          </a:xfrm>
        </p:grpSpPr>
        <p:sp>
          <p:nvSpPr>
            <p:cNvPr id="158" name="Freeform 148"/>
            <p:cNvSpPr/>
            <p:nvPr/>
          </p:nvSpPr>
          <p:spPr>
            <a:xfrm>
              <a:off x="3680640" y="4187880"/>
              <a:ext cx="410400" cy="533160"/>
            </a:xfrm>
            <a:custGeom>
              <a:avLst/>
              <a:gdLst>
                <a:gd name="textAreaLeft" fmla="*/ 0 w 410400"/>
                <a:gd name="textAreaRight" fmla="*/ 410760 w 41040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159" h="207">
                  <a:moveTo>
                    <a:pt x="157" y="185"/>
                  </a:moveTo>
                  <a:cubicBezTo>
                    <a:pt x="89" y="79"/>
                    <a:pt x="89" y="79"/>
                    <a:pt x="89" y="79"/>
                  </a:cubicBezTo>
                  <a:cubicBezTo>
                    <a:pt x="101" y="63"/>
                    <a:pt x="103" y="42"/>
                    <a:pt x="92" y="24"/>
                  </a:cubicBezTo>
                  <a:cubicBezTo>
                    <a:pt x="81" y="8"/>
                    <a:pt x="61" y="0"/>
                    <a:pt x="42" y="4"/>
                  </a:cubicBezTo>
                  <a:cubicBezTo>
                    <a:pt x="70" y="48"/>
                    <a:pt x="70" y="48"/>
                    <a:pt x="70" y="48"/>
                  </a:cubicBezTo>
                  <a:cubicBezTo>
                    <a:pt x="37" y="69"/>
                    <a:pt x="37" y="69"/>
                    <a:pt x="37" y="6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" y="42"/>
                    <a:pt x="0" y="61"/>
                    <a:pt x="10" y="77"/>
                  </a:cubicBezTo>
                  <a:cubicBezTo>
                    <a:pt x="21" y="95"/>
                    <a:pt x="43" y="102"/>
                    <a:pt x="62" y="96"/>
                  </a:cubicBezTo>
                  <a:cubicBezTo>
                    <a:pt x="130" y="202"/>
                    <a:pt x="130" y="202"/>
                    <a:pt x="130" y="202"/>
                  </a:cubicBezTo>
                  <a:cubicBezTo>
                    <a:pt x="133" y="206"/>
                    <a:pt x="138" y="207"/>
                    <a:pt x="143" y="205"/>
                  </a:cubicBezTo>
                  <a:cubicBezTo>
                    <a:pt x="154" y="197"/>
                    <a:pt x="154" y="197"/>
                    <a:pt x="154" y="197"/>
                  </a:cubicBezTo>
                  <a:cubicBezTo>
                    <a:pt x="158" y="195"/>
                    <a:pt x="159" y="189"/>
                    <a:pt x="157" y="185"/>
                  </a:cubicBezTo>
                  <a:close/>
                  <a:moveTo>
                    <a:pt x="144" y="193"/>
                  </a:moveTo>
                  <a:cubicBezTo>
                    <a:pt x="141" y="195"/>
                    <a:pt x="136" y="195"/>
                    <a:pt x="134" y="191"/>
                  </a:cubicBezTo>
                  <a:cubicBezTo>
                    <a:pt x="132" y="188"/>
                    <a:pt x="133" y="184"/>
                    <a:pt x="137" y="182"/>
                  </a:cubicBezTo>
                  <a:cubicBezTo>
                    <a:pt x="140" y="180"/>
                    <a:pt x="144" y="181"/>
                    <a:pt x="146" y="184"/>
                  </a:cubicBezTo>
                  <a:cubicBezTo>
                    <a:pt x="148" y="187"/>
                    <a:pt x="147" y="191"/>
                    <a:pt x="144" y="19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49"/>
            <p:cNvSpPr/>
            <p:nvPr/>
          </p:nvSpPr>
          <p:spPr>
            <a:xfrm>
              <a:off x="3616200" y="4458240"/>
              <a:ext cx="270720" cy="266040"/>
            </a:xfrm>
            <a:custGeom>
              <a:avLst/>
              <a:gdLst>
                <a:gd name="textAreaLeft" fmla="*/ 0 w 270720"/>
                <a:gd name="textAreaRight" fmla="*/ 271080 w 270720"/>
                <a:gd name="textAreaTop" fmla="*/ 0 h 266040"/>
                <a:gd name="textAreaBottom" fmla="*/ 266400 h 266040"/>
              </a:gdLst>
              <a:ahLst/>
              <a:rect l="textAreaLeft" t="textAreaTop" r="textAreaRight" b="textAreaBottom"/>
              <a:pathLst>
                <a:path w="105" h="103">
                  <a:moveTo>
                    <a:pt x="91" y="26"/>
                  </a:moveTo>
                  <a:cubicBezTo>
                    <a:pt x="97" y="20"/>
                    <a:pt x="97" y="20"/>
                    <a:pt x="97" y="20"/>
                  </a:cubicBezTo>
                  <a:cubicBezTo>
                    <a:pt x="84" y="7"/>
                    <a:pt x="84" y="7"/>
                    <a:pt x="84" y="7"/>
                  </a:cubicBezTo>
                  <a:cubicBezTo>
                    <a:pt x="78" y="13"/>
                    <a:pt x="78" y="13"/>
                    <a:pt x="78" y="13"/>
                  </a:cubicBezTo>
                  <a:cubicBezTo>
                    <a:pt x="73" y="10"/>
                    <a:pt x="67" y="8"/>
                    <a:pt x="62" y="7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43" y="7"/>
                    <a:pt x="43" y="7"/>
                    <a:pt x="43" y="7"/>
                  </a:cubicBezTo>
                  <a:cubicBezTo>
                    <a:pt x="38" y="8"/>
                    <a:pt x="33" y="10"/>
                    <a:pt x="28" y="13"/>
                  </a:cubicBezTo>
                  <a:cubicBezTo>
                    <a:pt x="22" y="7"/>
                    <a:pt x="22" y="7"/>
                    <a:pt x="22" y="7"/>
                  </a:cubicBezTo>
                  <a:cubicBezTo>
                    <a:pt x="8" y="20"/>
                    <a:pt x="8" y="20"/>
                    <a:pt x="8" y="20"/>
                  </a:cubicBezTo>
                  <a:cubicBezTo>
                    <a:pt x="15" y="27"/>
                    <a:pt x="15" y="27"/>
                    <a:pt x="15" y="27"/>
                  </a:cubicBezTo>
                  <a:cubicBezTo>
                    <a:pt x="12" y="31"/>
                    <a:pt x="10" y="36"/>
                    <a:pt x="8" y="42"/>
                  </a:cubicBezTo>
                  <a:cubicBezTo>
                    <a:pt x="0" y="42"/>
                    <a:pt x="0" y="42"/>
                    <a:pt x="0" y="42"/>
                  </a:cubicBezTo>
                  <a:cubicBezTo>
                    <a:pt x="0" y="61"/>
                    <a:pt x="0" y="61"/>
                    <a:pt x="0" y="61"/>
                  </a:cubicBezTo>
                  <a:cubicBezTo>
                    <a:pt x="9" y="61"/>
                    <a:pt x="9" y="61"/>
                    <a:pt x="9" y="61"/>
                  </a:cubicBezTo>
                  <a:cubicBezTo>
                    <a:pt x="10" y="66"/>
                    <a:pt x="12" y="71"/>
                    <a:pt x="15" y="76"/>
                  </a:cubicBezTo>
                  <a:cubicBezTo>
                    <a:pt x="9" y="82"/>
                    <a:pt x="9" y="82"/>
                    <a:pt x="9" y="82"/>
                  </a:cubicBezTo>
                  <a:cubicBezTo>
                    <a:pt x="22" y="95"/>
                    <a:pt x="22" y="95"/>
                    <a:pt x="22" y="95"/>
                  </a:cubicBezTo>
                  <a:cubicBezTo>
                    <a:pt x="28" y="89"/>
                    <a:pt x="28" y="89"/>
                    <a:pt x="28" y="89"/>
                  </a:cubicBezTo>
                  <a:cubicBezTo>
                    <a:pt x="33" y="92"/>
                    <a:pt x="38" y="94"/>
                    <a:pt x="43" y="95"/>
                  </a:cubicBezTo>
                  <a:cubicBezTo>
                    <a:pt x="43" y="103"/>
                    <a:pt x="43" y="103"/>
                    <a:pt x="4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95"/>
                    <a:pt x="62" y="95"/>
                    <a:pt x="62" y="95"/>
                  </a:cubicBezTo>
                  <a:cubicBezTo>
                    <a:pt x="67" y="94"/>
                    <a:pt x="73" y="92"/>
                    <a:pt x="77" y="89"/>
                  </a:cubicBezTo>
                  <a:cubicBezTo>
                    <a:pt x="83" y="95"/>
                    <a:pt x="83" y="95"/>
                    <a:pt x="83" y="95"/>
                  </a:cubicBezTo>
                  <a:cubicBezTo>
                    <a:pt x="96" y="82"/>
                    <a:pt x="96" y="82"/>
                    <a:pt x="96" y="82"/>
                  </a:cubicBezTo>
                  <a:cubicBezTo>
                    <a:pt x="91" y="76"/>
                    <a:pt x="91" y="76"/>
                    <a:pt x="91" y="76"/>
                  </a:cubicBezTo>
                  <a:cubicBezTo>
                    <a:pt x="94" y="71"/>
                    <a:pt x="96" y="66"/>
                    <a:pt x="97" y="61"/>
                  </a:cubicBezTo>
                  <a:cubicBezTo>
                    <a:pt x="105" y="61"/>
                    <a:pt x="105" y="61"/>
                    <a:pt x="105" y="61"/>
                  </a:cubicBezTo>
                  <a:cubicBezTo>
                    <a:pt x="105" y="42"/>
                    <a:pt x="105" y="42"/>
                    <a:pt x="105" y="42"/>
                  </a:cubicBezTo>
                  <a:cubicBezTo>
                    <a:pt x="97" y="42"/>
                    <a:pt x="97" y="42"/>
                    <a:pt x="97" y="42"/>
                  </a:cubicBezTo>
                  <a:cubicBezTo>
                    <a:pt x="96" y="36"/>
                    <a:pt x="94" y="31"/>
                    <a:pt x="91" y="26"/>
                  </a:cubicBezTo>
                  <a:close/>
                  <a:moveTo>
                    <a:pt x="53" y="83"/>
                  </a:moveTo>
                  <a:cubicBezTo>
                    <a:pt x="35" y="83"/>
                    <a:pt x="21" y="69"/>
                    <a:pt x="21" y="51"/>
                  </a:cubicBezTo>
                  <a:cubicBezTo>
                    <a:pt x="21" y="33"/>
                    <a:pt x="35" y="19"/>
                    <a:pt x="53" y="19"/>
                  </a:cubicBezTo>
                  <a:cubicBezTo>
                    <a:pt x="71" y="19"/>
                    <a:pt x="85" y="33"/>
                    <a:pt x="85" y="51"/>
                  </a:cubicBezTo>
                  <a:cubicBezTo>
                    <a:pt x="85" y="69"/>
                    <a:pt x="71" y="83"/>
                    <a:pt x="53" y="83"/>
                  </a:cubicBezTo>
                  <a:close/>
                </a:path>
              </a:pathLst>
            </a:cu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50"/>
            <p:cNvSpPr/>
            <p:nvPr/>
          </p:nvSpPr>
          <p:spPr>
            <a:xfrm>
              <a:off x="3729600" y="4569480"/>
              <a:ext cx="43560" cy="43560"/>
            </a:xfrm>
            <a:prstGeom prst="ellipse">
              <a:avLst/>
            </a:prstGeom>
            <a:solidFill>
              <a:srgbClr val="fcf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文本框 28"/>
          <p:cNvSpPr/>
          <p:nvPr/>
        </p:nvSpPr>
        <p:spPr>
          <a:xfrm>
            <a:off x="1145160" y="252108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29"/>
          <p:cNvSpPr/>
          <p:nvPr/>
        </p:nvSpPr>
        <p:spPr>
          <a:xfrm>
            <a:off x="8930160" y="24289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0"/>
          <p:cNvSpPr/>
          <p:nvPr/>
        </p:nvSpPr>
        <p:spPr>
          <a:xfrm>
            <a:off x="270360" y="505152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1"/>
          <p:cNvSpPr/>
          <p:nvPr/>
        </p:nvSpPr>
        <p:spPr>
          <a:xfrm>
            <a:off x="7353720" y="4854600"/>
            <a:ext cx="324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方正姚体"/>
                <a:ea typeface="方正姚体"/>
              </a:rPr>
              <a:t>MORE  THA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Center of the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32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66" name="等腰三角形 33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等腰三角形 34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文本框 35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36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0" name="等腰三角形 37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等腰三角形 38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173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177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图片 8" descr=""/>
          <p:cNvPicPr/>
          <p:nvPr/>
        </p:nvPicPr>
        <p:blipFill>
          <a:blip r:embed="rId1"/>
          <a:stretch/>
        </p:blipFill>
        <p:spPr>
          <a:xfrm>
            <a:off x="878040" y="1828800"/>
            <a:ext cx="5414760" cy="460368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9" descr=""/>
          <p:cNvPicPr/>
          <p:nvPr/>
        </p:nvPicPr>
        <p:blipFill>
          <a:blip r:embed="rId2"/>
          <a:stretch/>
        </p:blipFill>
        <p:spPr>
          <a:xfrm>
            <a:off x="876240" y="1828800"/>
            <a:ext cx="5415120" cy="4603680"/>
          </a:xfrm>
          <a:prstGeom prst="rect">
            <a:avLst/>
          </a:prstGeom>
          <a:ln w="0">
            <a:noFill/>
          </a:ln>
        </p:spPr>
      </p:pic>
      <p:sp>
        <p:nvSpPr>
          <p:cNvPr id="181" name="矩形 10"/>
          <p:cNvSpPr/>
          <p:nvPr/>
        </p:nvSpPr>
        <p:spPr>
          <a:xfrm>
            <a:off x="1433520" y="2397240"/>
            <a:ext cx="4300560" cy="2705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圆角矩形 11"/>
          <p:cNvSpPr/>
          <p:nvPr/>
        </p:nvSpPr>
        <p:spPr>
          <a:xfrm>
            <a:off x="6289560" y="2244600"/>
            <a:ext cx="3461040" cy="617760"/>
          </a:xfrm>
          <a:prstGeom prst="roundRect">
            <a:avLst>
              <a:gd name="adj" fmla="val 22148"/>
            </a:avLst>
          </a:prstGeom>
          <a:solidFill>
            <a:srgbClr val="fcfcfc">
              <a:alpha val="5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圆角矩形 12"/>
          <p:cNvSpPr/>
          <p:nvPr/>
        </p:nvSpPr>
        <p:spPr>
          <a:xfrm>
            <a:off x="6307200" y="2970360"/>
            <a:ext cx="4465440" cy="617400"/>
          </a:xfrm>
          <a:prstGeom prst="roundRect">
            <a:avLst>
              <a:gd name="adj" fmla="val 22148"/>
            </a:avLst>
          </a:prstGeom>
          <a:solidFill>
            <a:srgbClr val="fcfcfc">
              <a:alpha val="4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3"/>
          <p:cNvSpPr/>
          <p:nvPr/>
        </p:nvSpPr>
        <p:spPr>
          <a:xfrm>
            <a:off x="6296040" y="3695760"/>
            <a:ext cx="499428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3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4"/>
          <p:cNvSpPr/>
          <p:nvPr/>
        </p:nvSpPr>
        <p:spPr>
          <a:xfrm>
            <a:off x="6289560" y="4421160"/>
            <a:ext cx="394344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2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15"/>
          <p:cNvSpPr/>
          <p:nvPr/>
        </p:nvSpPr>
        <p:spPr>
          <a:xfrm>
            <a:off x="6296040" y="5146560"/>
            <a:ext cx="3114720" cy="615960"/>
          </a:xfrm>
          <a:prstGeom prst="roundRect">
            <a:avLst>
              <a:gd name="adj" fmla="val 22148"/>
            </a:avLst>
          </a:prstGeom>
          <a:solidFill>
            <a:srgbClr val="fcfcfc">
              <a:alpha val="10000"/>
            </a:srgbClr>
          </a:solidFill>
          <a:ln w="6480">
            <a:solidFill>
              <a:srgbClr val="ffffff">
                <a:alpha val="4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6"/>
          <p:cNvSpPr/>
          <p:nvPr/>
        </p:nvSpPr>
        <p:spPr>
          <a:xfrm>
            <a:off x="5932080" y="2343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17"/>
          <p:cNvSpPr/>
          <p:nvPr/>
        </p:nvSpPr>
        <p:spPr>
          <a:xfrm>
            <a:off x="5963760" y="30812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"/>
          <p:cNvSpPr/>
          <p:nvPr/>
        </p:nvSpPr>
        <p:spPr>
          <a:xfrm>
            <a:off x="5963760" y="380844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19"/>
          <p:cNvSpPr/>
          <p:nvPr/>
        </p:nvSpPr>
        <p:spPr>
          <a:xfrm>
            <a:off x="5963760" y="453240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0"/>
          <p:cNvSpPr/>
          <p:nvPr/>
        </p:nvSpPr>
        <p:spPr>
          <a:xfrm>
            <a:off x="5963760" y="5264280"/>
            <a:ext cx="331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your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等腰三角形 16"/>
          <p:cNvSpPr/>
          <p:nvPr/>
        </p:nvSpPr>
        <p:spPr>
          <a:xfrm>
            <a:off x="1889280" y="4375080"/>
            <a:ext cx="2689200" cy="248292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9"/>
          <p:cNvSpPr/>
          <p:nvPr/>
        </p:nvSpPr>
        <p:spPr>
          <a:xfrm>
            <a:off x="4789440" y="3068640"/>
            <a:ext cx="68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MORE  </a:t>
            </a:r>
            <a:r>
              <a:rPr b="1" lang="en-US" sz="4400" spc="-1" strike="noStrike">
                <a:solidFill>
                  <a:srgbClr val="ffffff"/>
                </a:solidFill>
                <a:latin typeface="方正姚体"/>
              </a:rPr>
              <a:t>THEN  </a:t>
            </a:r>
            <a:r>
              <a:rPr b="0" lang="en-US" sz="4400" spc="-1" strike="noStrike">
                <a:solidFill>
                  <a:srgbClr val="ffffff"/>
                </a:solidFill>
                <a:latin typeface="方正姚体"/>
              </a:rPr>
              <a:t>TEMPL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0"/>
          <p:cNvSpPr/>
          <p:nvPr/>
        </p:nvSpPr>
        <p:spPr>
          <a:xfrm>
            <a:off x="5481360" y="3822840"/>
            <a:ext cx="583776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华文宋体"/>
                <a:ea typeface="华文宋体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Click here to add  you to the  center of the  narr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Thought  Click here to add   you to the  cente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narrative thou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21"/>
          <p:cNvSpPr/>
          <p:nvPr/>
        </p:nvSpPr>
        <p:spPr>
          <a:xfrm flipH="1">
            <a:off x="5257800" y="4052880"/>
            <a:ext cx="5904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等腰三角形 24"/>
          <p:cNvSpPr/>
          <p:nvPr/>
        </p:nvSpPr>
        <p:spPr>
          <a:xfrm>
            <a:off x="2155680" y="4867200"/>
            <a:ext cx="2156040" cy="199080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等腰三角形 26"/>
          <p:cNvSpPr/>
          <p:nvPr/>
        </p:nvSpPr>
        <p:spPr>
          <a:xfrm flipV="1">
            <a:off x="868320" y="-720"/>
            <a:ext cx="4738680" cy="4375080"/>
          </a:xfrm>
          <a:prstGeom prst="triangle">
            <a:avLst>
              <a:gd name="adj" fmla="val 5000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等腰三角形 28"/>
          <p:cNvSpPr/>
          <p:nvPr/>
        </p:nvSpPr>
        <p:spPr>
          <a:xfrm flipV="1">
            <a:off x="1177920" y="-19800"/>
            <a:ext cx="4140360" cy="3822840"/>
          </a:xfrm>
          <a:prstGeom prst="triangle">
            <a:avLst>
              <a:gd name="adj" fmla="val 50000"/>
            </a:avLst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29"/>
          <p:cNvSpPr/>
          <p:nvPr/>
        </p:nvSpPr>
        <p:spPr>
          <a:xfrm>
            <a:off x="2397240" y="428760"/>
            <a:ext cx="18511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e56af2"/>
                </a:solidFill>
                <a:latin typeface="Impact"/>
              </a:rPr>
              <a:t>0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组合 1"/>
          <p:cNvGrpSpPr/>
          <p:nvPr/>
        </p:nvGrpSpPr>
        <p:grpSpPr>
          <a:xfrm>
            <a:off x="8674200" y="91440"/>
            <a:ext cx="3630600" cy="920520"/>
            <a:chOff x="8674200" y="91440"/>
            <a:chExt cx="3630600" cy="920520"/>
          </a:xfrm>
        </p:grpSpPr>
        <p:sp>
          <p:nvSpPr>
            <p:cNvPr id="201" name="等腰三角形 2"/>
            <p:cNvSpPr/>
            <p:nvPr/>
          </p:nvSpPr>
          <p:spPr>
            <a:xfrm flipV="1" rot="5400000">
              <a:off x="10029240" y="-126396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3"/>
            <p:cNvSpPr/>
            <p:nvPr/>
          </p:nvSpPr>
          <p:spPr>
            <a:xfrm flipV="1" rot="5400000">
              <a:off x="10806480" y="-63612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文本框 4"/>
          <p:cNvSpPr/>
          <p:nvPr/>
        </p:nvSpPr>
        <p:spPr>
          <a:xfrm>
            <a:off x="3803040" y="247680"/>
            <a:ext cx="456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方正姚体"/>
              </a:rPr>
              <a:t>MORE  THEN  TEMP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5"/>
          <p:cNvGrpSpPr/>
          <p:nvPr/>
        </p:nvGrpSpPr>
        <p:grpSpPr>
          <a:xfrm>
            <a:off x="-12960" y="91440"/>
            <a:ext cx="3630600" cy="920520"/>
            <a:chOff x="-12960" y="91440"/>
            <a:chExt cx="3630600" cy="920520"/>
          </a:xfrm>
        </p:grpSpPr>
        <p:sp>
          <p:nvSpPr>
            <p:cNvPr id="205" name="等腰三角形 6"/>
            <p:cNvSpPr/>
            <p:nvPr/>
          </p:nvSpPr>
          <p:spPr>
            <a:xfrm flipH="1" flipV="1" rot="16200000">
              <a:off x="1341720" y="-1263600"/>
              <a:ext cx="920520" cy="36306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7"/>
            <p:cNvSpPr/>
            <p:nvPr/>
          </p:nvSpPr>
          <p:spPr>
            <a:xfrm flipH="1" flipV="1" rot="16200000">
              <a:off x="882720" y="-635760"/>
              <a:ext cx="602280" cy="237492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任意多边形 8"/>
          <p:cNvSpPr/>
          <p:nvPr/>
        </p:nvSpPr>
        <p:spPr>
          <a:xfrm>
            <a:off x="106380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任意多边形 9"/>
          <p:cNvSpPr/>
          <p:nvPr/>
        </p:nvSpPr>
        <p:spPr>
          <a:xfrm>
            <a:off x="459576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任意多边形 10"/>
          <p:cNvSpPr/>
          <p:nvPr/>
        </p:nvSpPr>
        <p:spPr>
          <a:xfrm>
            <a:off x="8128080" y="2259000"/>
            <a:ext cx="3006720" cy="2443320"/>
          </a:xfrm>
          <a:custGeom>
            <a:avLst/>
            <a:gdLst>
              <a:gd name="textAreaLeft" fmla="*/ 0 w 3006720"/>
              <a:gd name="textAreaRight" fmla="*/ 3007080 w 300672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任意多边形 11"/>
          <p:cNvSpPr/>
          <p:nvPr/>
        </p:nvSpPr>
        <p:spPr>
          <a:xfrm>
            <a:off x="124308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任意多边形 12"/>
          <p:cNvSpPr/>
          <p:nvPr/>
        </p:nvSpPr>
        <p:spPr>
          <a:xfrm>
            <a:off x="4773600" y="2259000"/>
            <a:ext cx="2639880" cy="2443320"/>
          </a:xfrm>
          <a:custGeom>
            <a:avLst/>
            <a:gdLst>
              <a:gd name="textAreaLeft" fmla="*/ 0 w 2639880"/>
              <a:gd name="textAreaRight" fmla="*/ 2640240 w 263988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任意多边形 13"/>
          <p:cNvSpPr/>
          <p:nvPr/>
        </p:nvSpPr>
        <p:spPr>
          <a:xfrm>
            <a:off x="8319960" y="2259000"/>
            <a:ext cx="2640240" cy="2443320"/>
          </a:xfrm>
          <a:custGeom>
            <a:avLst/>
            <a:gdLst>
              <a:gd name="textAreaLeft" fmla="*/ 0 w 2640240"/>
              <a:gd name="textAreaRight" fmla="*/ 2640600 w 2640240"/>
              <a:gd name="textAreaTop" fmla="*/ 0 h 2443320"/>
              <a:gd name="textAreaBottom" fmla="*/ 2443680 h 2443320"/>
            </a:gdLst>
            <a:ahLst/>
            <a:rect l="textAreaLeft" t="textAreaTop" r="textAreaRight" b="textAreaBottom"/>
            <a:pathLst>
              <a:path w="4506439" h="3710895">
                <a:moveTo>
                  <a:pt x="1812225" y="0"/>
                </a:moveTo>
                <a:lnTo>
                  <a:pt x="2650992" y="0"/>
                </a:lnTo>
                <a:lnTo>
                  <a:pt x="4506439" y="0"/>
                </a:lnTo>
                <a:lnTo>
                  <a:pt x="4506439" y="1855447"/>
                </a:lnTo>
                <a:lnTo>
                  <a:pt x="4506439" y="1921383"/>
                </a:lnTo>
                <a:lnTo>
                  <a:pt x="4503110" y="1921383"/>
                </a:lnTo>
                <a:lnTo>
                  <a:pt x="4496860" y="2045156"/>
                </a:lnTo>
                <a:cubicBezTo>
                  <a:pt x="4407781" y="2922300"/>
                  <a:pt x="3707736" y="3618827"/>
                  <a:pt x="2828995" y="3702466"/>
                </a:cubicBezTo>
                <a:lnTo>
                  <a:pt x="2800124" y="3703833"/>
                </a:lnTo>
                <a:lnTo>
                  <a:pt x="2800124" y="3710894"/>
                </a:lnTo>
                <a:lnTo>
                  <a:pt x="2650992" y="3710894"/>
                </a:lnTo>
                <a:lnTo>
                  <a:pt x="1855467" y="3710894"/>
                </a:lnTo>
                <a:lnTo>
                  <a:pt x="1855447" y="3710895"/>
                </a:lnTo>
                <a:lnTo>
                  <a:pt x="1855427" y="3710894"/>
                </a:lnTo>
                <a:lnTo>
                  <a:pt x="0" y="3710894"/>
                </a:lnTo>
                <a:lnTo>
                  <a:pt x="0" y="1921385"/>
                </a:lnTo>
                <a:lnTo>
                  <a:pt x="3330" y="1921385"/>
                </a:lnTo>
                <a:lnTo>
                  <a:pt x="0" y="1855448"/>
                </a:lnTo>
                <a:cubicBezTo>
                  <a:pt x="0" y="894759"/>
                  <a:pt x="730118" y="104598"/>
                  <a:pt x="1665738" y="9581"/>
                </a:cubicBezTo>
                <a:lnTo>
                  <a:pt x="1812225" y="2184"/>
                </a:lnTo>
                <a:lnTo>
                  <a:pt x="1812225" y="0"/>
                </a:lnTo>
                <a:close/>
              </a:path>
            </a:pathLst>
          </a:custGeom>
          <a:solidFill>
            <a:srgbClr val="fefef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14"/>
          <p:cNvSpPr/>
          <p:nvPr/>
        </p:nvSpPr>
        <p:spPr>
          <a:xfrm>
            <a:off x="1714680" y="2906640"/>
            <a:ext cx="182052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9"/>
          <p:cNvSpPr/>
          <p:nvPr/>
        </p:nvSpPr>
        <p:spPr>
          <a:xfrm>
            <a:off x="5227560" y="291132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0"/>
          <p:cNvSpPr/>
          <p:nvPr/>
        </p:nvSpPr>
        <p:spPr>
          <a:xfrm>
            <a:off x="8729640" y="2936880"/>
            <a:ext cx="1820880" cy="0"/>
          </a:xfrm>
          <a:prstGeom prst="line">
            <a:avLst/>
          </a:prstGeom>
          <a:ln w="22320">
            <a:solidFill>
              <a:srgbClr val="e56af2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1"/>
          <p:cNvSpPr/>
          <p:nvPr/>
        </p:nvSpPr>
        <p:spPr>
          <a:xfrm>
            <a:off x="1194480" y="315288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2"/>
          <p:cNvSpPr/>
          <p:nvPr/>
        </p:nvSpPr>
        <p:spPr>
          <a:xfrm>
            <a:off x="4704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3"/>
          <p:cNvSpPr/>
          <p:nvPr/>
        </p:nvSpPr>
        <p:spPr>
          <a:xfrm>
            <a:off x="8322480" y="3141720"/>
            <a:ext cx="27198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  <a:ea typeface="Calibri"/>
              </a:rPr>
              <a:t>  </a:t>
            </a:r>
            <a:r>
              <a:rPr b="1" lang="en-US" sz="1600" spc="-1" strike="noStrike">
                <a:solidFill>
                  <a:srgbClr val="0c0c0c"/>
                </a:solidFill>
                <a:latin typeface="方正姚体"/>
                <a:ea typeface="方正姚体"/>
              </a:rPr>
              <a:t>MORE  THEN  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Click here to add  you to the 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of the narrative thought  Click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to add  you to the  center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c0c0c"/>
                </a:solidFill>
                <a:latin typeface="方正姚体"/>
                <a:ea typeface="方正姚体"/>
              </a:rPr>
              <a:t>narrative thou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90"/>
          <p:cNvSpPr/>
          <p:nvPr/>
        </p:nvSpPr>
        <p:spPr>
          <a:xfrm>
            <a:off x="2427120" y="5708520"/>
            <a:ext cx="652680" cy="478080"/>
          </a:xfrm>
          <a:custGeom>
            <a:avLst/>
            <a:gdLst>
              <a:gd name="textAreaLeft" fmla="*/ 0 w 652680"/>
              <a:gd name="textAreaRight" fmla="*/ 653040 w 652680"/>
              <a:gd name="textAreaTop" fmla="*/ 0 h 478080"/>
              <a:gd name="textAreaBottom" fmla="*/ 478440 h 478080"/>
            </a:gdLst>
            <a:ahLst/>
            <a:rect l="textAreaLeft" t="textAreaTop" r="textAreaRight" b="textAreaBottom"/>
            <a:pathLst>
              <a:path w="256" h="186">
                <a:moveTo>
                  <a:pt x="248" y="22"/>
                </a:moveTo>
                <a:cubicBezTo>
                  <a:pt x="228" y="22"/>
                  <a:pt x="228" y="22"/>
                  <a:pt x="228" y="22"/>
                </a:cubicBezTo>
                <a:cubicBezTo>
                  <a:pt x="228" y="16"/>
                  <a:pt x="228" y="16"/>
                  <a:pt x="228" y="16"/>
                </a:cubicBezTo>
                <a:cubicBezTo>
                  <a:pt x="221" y="14"/>
                  <a:pt x="221" y="14"/>
                  <a:pt x="221" y="14"/>
                </a:cubicBezTo>
                <a:cubicBezTo>
                  <a:pt x="220" y="13"/>
                  <a:pt x="188" y="0"/>
                  <a:pt x="159" y="0"/>
                </a:cubicBezTo>
                <a:cubicBezTo>
                  <a:pt x="146" y="0"/>
                  <a:pt x="136" y="3"/>
                  <a:pt x="128" y="9"/>
                </a:cubicBezTo>
                <a:cubicBezTo>
                  <a:pt x="120" y="3"/>
                  <a:pt x="109" y="0"/>
                  <a:pt x="96" y="0"/>
                </a:cubicBezTo>
                <a:cubicBezTo>
                  <a:pt x="68" y="0"/>
                  <a:pt x="36" y="13"/>
                  <a:pt x="34" y="14"/>
                </a:cubicBezTo>
                <a:cubicBezTo>
                  <a:pt x="27" y="16"/>
                  <a:pt x="27" y="16"/>
                  <a:pt x="27" y="16"/>
                </a:cubicBezTo>
                <a:cubicBezTo>
                  <a:pt x="27" y="22"/>
                  <a:pt x="27" y="22"/>
                  <a:pt x="27" y="22"/>
                </a:cubicBezTo>
                <a:cubicBezTo>
                  <a:pt x="8" y="22"/>
                  <a:pt x="8" y="22"/>
                  <a:pt x="8" y="22"/>
                </a:cubicBezTo>
                <a:cubicBezTo>
                  <a:pt x="4" y="22"/>
                  <a:pt x="0" y="25"/>
                  <a:pt x="0" y="30"/>
                </a:cubicBezTo>
                <a:cubicBezTo>
                  <a:pt x="0" y="178"/>
                  <a:pt x="0" y="178"/>
                  <a:pt x="0" y="178"/>
                </a:cubicBezTo>
                <a:cubicBezTo>
                  <a:pt x="0" y="182"/>
                  <a:pt x="4" y="186"/>
                  <a:pt x="8" y="186"/>
                </a:cubicBezTo>
                <a:cubicBezTo>
                  <a:pt x="248" y="186"/>
                  <a:pt x="248" y="186"/>
                  <a:pt x="248" y="186"/>
                </a:cubicBezTo>
                <a:cubicBezTo>
                  <a:pt x="252" y="186"/>
                  <a:pt x="256" y="182"/>
                  <a:pt x="256" y="178"/>
                </a:cubicBezTo>
                <a:cubicBezTo>
                  <a:pt x="256" y="30"/>
                  <a:pt x="256" y="30"/>
                  <a:pt x="256" y="30"/>
                </a:cubicBezTo>
                <a:cubicBezTo>
                  <a:pt x="256" y="25"/>
                  <a:pt x="252" y="22"/>
                  <a:pt x="248" y="22"/>
                </a:cubicBezTo>
                <a:close/>
                <a:moveTo>
                  <a:pt x="217" y="23"/>
                </a:moveTo>
                <a:cubicBezTo>
                  <a:pt x="217" y="141"/>
                  <a:pt x="217" y="141"/>
                  <a:pt x="217" y="141"/>
                </a:cubicBezTo>
                <a:cubicBezTo>
                  <a:pt x="201" y="135"/>
                  <a:pt x="157" y="122"/>
                  <a:pt x="133" y="136"/>
                </a:cubicBezTo>
                <a:cubicBezTo>
                  <a:pt x="133" y="18"/>
                  <a:pt x="133" y="18"/>
                  <a:pt x="133" y="18"/>
                </a:cubicBezTo>
                <a:cubicBezTo>
                  <a:pt x="140" y="13"/>
                  <a:pt x="149" y="11"/>
                  <a:pt x="159" y="11"/>
                </a:cubicBezTo>
                <a:cubicBezTo>
                  <a:pt x="186" y="11"/>
                  <a:pt x="217" y="23"/>
                  <a:pt x="217" y="23"/>
                </a:cubicBezTo>
                <a:close/>
                <a:moveTo>
                  <a:pt x="205" y="148"/>
                </a:moveTo>
                <a:cubicBezTo>
                  <a:pt x="135" y="148"/>
                  <a:pt x="135" y="148"/>
                  <a:pt x="135" y="148"/>
                </a:cubicBezTo>
                <a:cubicBezTo>
                  <a:pt x="148" y="135"/>
                  <a:pt x="183" y="141"/>
                  <a:pt x="205" y="148"/>
                </a:cubicBezTo>
                <a:close/>
                <a:moveTo>
                  <a:pt x="96" y="11"/>
                </a:moveTo>
                <a:cubicBezTo>
                  <a:pt x="106" y="11"/>
                  <a:pt x="116" y="13"/>
                  <a:pt x="122" y="18"/>
                </a:cubicBezTo>
                <a:cubicBezTo>
                  <a:pt x="122" y="136"/>
                  <a:pt x="122" y="136"/>
                  <a:pt x="122" y="136"/>
                </a:cubicBezTo>
                <a:cubicBezTo>
                  <a:pt x="99" y="122"/>
                  <a:pt x="55" y="135"/>
                  <a:pt x="38" y="141"/>
                </a:cubicBezTo>
                <a:cubicBezTo>
                  <a:pt x="38" y="23"/>
                  <a:pt x="38" y="23"/>
                  <a:pt x="38" y="23"/>
                </a:cubicBezTo>
                <a:cubicBezTo>
                  <a:pt x="38" y="23"/>
                  <a:pt x="70" y="11"/>
                  <a:pt x="96" y="11"/>
                </a:cubicBezTo>
                <a:close/>
                <a:moveTo>
                  <a:pt x="121" y="148"/>
                </a:moveTo>
                <a:cubicBezTo>
                  <a:pt x="50" y="148"/>
                  <a:pt x="50" y="148"/>
                  <a:pt x="50" y="148"/>
                </a:cubicBezTo>
                <a:cubicBezTo>
                  <a:pt x="73" y="141"/>
                  <a:pt x="107" y="135"/>
                  <a:pt x="121" y="148"/>
                </a:cubicBezTo>
                <a:close/>
                <a:moveTo>
                  <a:pt x="240" y="170"/>
                </a:moveTo>
                <a:cubicBezTo>
                  <a:pt x="16" y="170"/>
                  <a:pt x="16" y="170"/>
                  <a:pt x="16" y="170"/>
                </a:cubicBezTo>
                <a:cubicBezTo>
                  <a:pt x="16" y="38"/>
                  <a:pt x="16" y="38"/>
                  <a:pt x="16" y="38"/>
                </a:cubicBezTo>
                <a:cubicBezTo>
                  <a:pt x="27" y="38"/>
                  <a:pt x="27" y="38"/>
                  <a:pt x="27" y="38"/>
                </a:cubicBezTo>
                <a:cubicBezTo>
                  <a:pt x="27" y="148"/>
                  <a:pt x="27" y="148"/>
                  <a:pt x="27" y="148"/>
                </a:cubicBezTo>
                <a:cubicBezTo>
                  <a:pt x="27" y="159"/>
                  <a:pt x="27" y="159"/>
                  <a:pt x="27" y="159"/>
                </a:cubicBezTo>
                <a:cubicBezTo>
                  <a:pt x="38" y="159"/>
                  <a:pt x="38" y="159"/>
                  <a:pt x="38" y="159"/>
                </a:cubicBezTo>
                <a:cubicBezTo>
                  <a:pt x="128" y="159"/>
                  <a:pt x="128" y="159"/>
                  <a:pt x="128" y="159"/>
                </a:cubicBezTo>
                <a:cubicBezTo>
                  <a:pt x="217" y="159"/>
                  <a:pt x="217" y="159"/>
                  <a:pt x="217" y="159"/>
                </a:cubicBezTo>
                <a:cubicBezTo>
                  <a:pt x="228" y="159"/>
                  <a:pt x="228" y="159"/>
                  <a:pt x="228" y="159"/>
                </a:cubicBezTo>
                <a:cubicBezTo>
                  <a:pt x="228" y="148"/>
                  <a:pt x="228" y="148"/>
                  <a:pt x="228" y="148"/>
                </a:cubicBezTo>
                <a:cubicBezTo>
                  <a:pt x="228" y="38"/>
                  <a:pt x="228" y="38"/>
                  <a:pt x="228" y="38"/>
                </a:cubicBezTo>
                <a:cubicBezTo>
                  <a:pt x="240" y="38"/>
                  <a:pt x="240" y="38"/>
                  <a:pt x="240" y="38"/>
                </a:cubicBezTo>
                <a:lnTo>
                  <a:pt x="240" y="170"/>
                </a:lnTo>
                <a:close/>
              </a:path>
            </a:pathLst>
          </a:custGeom>
          <a:solidFill>
            <a:srgbClr val="fef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5"/>
          <p:cNvSpPr/>
          <p:nvPr/>
        </p:nvSpPr>
        <p:spPr>
          <a:xfrm>
            <a:off x="2921040" y="5456160"/>
            <a:ext cx="7758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Click here to add  you to the  center of the  narrative Thought  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you to the   center of the narrative thought  Click here to add  you to the cen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 </a:t>
            </a:r>
            <a:r>
              <a:rPr b="0" lang="en-US" sz="1600" spc="-1" strike="noStrike">
                <a:solidFill>
                  <a:srgbClr val="fefefe"/>
                </a:solidFill>
                <a:latin typeface="方正姚体"/>
                <a:ea typeface="方正姚体"/>
              </a:rPr>
              <a:t>of the  narrative thou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组合 37" descr=""/>
          <p:cNvPicPr/>
          <p:nvPr/>
        </p:nvPicPr>
        <p:blipFill>
          <a:blip r:embed="rId1"/>
          <a:stretch/>
        </p:blipFill>
        <p:spPr>
          <a:xfrm>
            <a:off x="6004080" y="2395440"/>
            <a:ext cx="330120" cy="324000"/>
          </a:xfrm>
          <a:prstGeom prst="rect">
            <a:avLst/>
          </a:prstGeom>
          <a:ln w="0">
            <a:noFill/>
          </a:ln>
        </p:spPr>
      </p:pic>
      <p:pic>
        <p:nvPicPr>
          <p:cNvPr id="222" name="组合 40" descr=""/>
          <p:cNvPicPr/>
          <p:nvPr/>
        </p:nvPicPr>
        <p:blipFill>
          <a:blip r:embed="rId2"/>
          <a:stretch/>
        </p:blipFill>
        <p:spPr>
          <a:xfrm>
            <a:off x="2554200" y="2395440"/>
            <a:ext cx="328680" cy="366840"/>
          </a:xfrm>
          <a:prstGeom prst="rect">
            <a:avLst/>
          </a:prstGeom>
          <a:ln w="0">
            <a:noFill/>
          </a:ln>
        </p:spPr>
      </p:pic>
      <p:pic>
        <p:nvPicPr>
          <p:cNvPr id="223" name="组合 46" descr=""/>
          <p:cNvPicPr/>
          <p:nvPr/>
        </p:nvPicPr>
        <p:blipFill>
          <a:blip r:embed="rId3"/>
          <a:stretch/>
        </p:blipFill>
        <p:spPr>
          <a:xfrm>
            <a:off x="9620280" y="2371680"/>
            <a:ext cx="29844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8:47:00Z</dcterms:created>
  <dc:creator>SJ_one_LR</dc:creator>
  <dc:description/>
  <cp:keywords/>
  <dc:language>en-US</dc:language>
  <cp:lastModifiedBy>Administrator</cp:lastModifiedBy>
  <dcterms:modified xsi:type="dcterms:W3CDTF">2015-11-11T06:38:54Z</dcterms:modified>
  <cp:revision>7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9</vt:lpwstr>
  </property>
</Properties>
</file>